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75463" cy="10012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7CC9-EE5F-4DA6-B4E4-00F45545B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E4A3-6C2C-4F1A-BF56-D0826C5F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3589-43C3-4928-93FA-95FD236BF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39D4-82A3-4EE2-BD31-3D544BEB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52E44-9288-42EB-B12F-CBAA1D50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407A-32B9-4683-8611-E3AFD8971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18FA-B755-4914-B54D-9FB4AF67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9B0B-02D8-471F-AA27-09C743CFD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E63E8-4CEA-4EBC-A1CA-9DC69BC8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A671-CE8D-4016-A4E5-03D08BEF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95579-6B7D-48BB-BAC0-537D0703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4E7C-673C-4366-8939-1E1D2BC6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1351-4FA1-4DDE-9282-AE8272FB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733F-C225-4C63-96CF-364C8C4D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D3D5-67F6-4FA3-98F3-2F15CD9A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FAC57-D9CA-430F-85C5-A46F56466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2DEC-8D2D-416C-A522-BAE2E94C2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7E61-0D8A-49B3-A387-596A872F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0AB0-642A-4ADB-AE04-F9F87BA1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495-9F6A-4D75-BF74-8361F1BB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42F-AB23-48E7-A232-AB2A9AD6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F4B-FAD8-454C-81E1-20BC3EA2F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1AB-E9F4-4578-84BE-D6585647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803-3BD6-455B-A5C5-F561D5C8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018A-13E6-4468-A2B6-631B0106D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D5F3-6A6E-4EE0-AD2A-D90863F6F8C9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Routing Workshop (IPv4 &amp; IPv6)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50880" y="4114800"/>
            <a:ext cx="7959600" cy="103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ilip Smith, Randy Bush, Johnathan 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COT 2011, Hong Kong, 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- 19 Febr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u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s,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et Introduction”, “Routing Basics”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SIS”, “ISIS for ISP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Basic ISIS &amp;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BG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Wedne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IPv6”, “IPv6 Standards and Protocol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(finish IPv4 iB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Addressing &amp; Routing Protocols”, “ISIS &amp; BGP for IPv6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1 – IPv6 ISIS and iB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Scaling Techniqu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7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Thurs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8960" y="2017800"/>
            <a:ext cx="75438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Attributes and Policy Contro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3 – IPv6 Route Ref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 (IPv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6 – iBGP and eBGP (IPv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Best Practic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Fri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2017800"/>
            <a:ext cx="7848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GP Multihoming – Part 1 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1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– Rout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b Module 7 (co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SPF to ISIS Migration”, “BGP Multihoming – Part 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8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s for tea/coffee at 10:30 and 15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Agenda – Saturda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017800"/>
            <a:ext cx="78487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9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 and 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tion to the RPK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3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reak for l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Pv6 Deployment Case Stud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ra Top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figuring Dynamips, Out of band management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:3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 of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6: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shop Social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break for tea/coffee at 10: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29T05:34:34Z</dcterms:created>
  <dc:creator>Philip Smith</dc:creator>
  <dc:description/>
  <dc:language>en-US</dc:language>
  <cp:lastModifiedBy>Philip Smith</cp:lastModifiedBy>
  <cp:lastPrinted>2000-06-05T00:48:20Z</cp:lastPrinted>
  <dcterms:modified xsi:type="dcterms:W3CDTF">2011-02-19T02:52:20Z</dcterms:modified>
  <cp:revision>71</cp:revision>
  <dc:subject>ISP/IXP Workshops Asia Pacific</dc:subject>
  <dc:title>ISP/IXP Workshop Agenda</dc:title>
</cp:coreProperties>
</file>