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75463" cy="10012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1BAB-2E6D-4F02-83D6-2160511EB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9BC3-5D9F-4EBC-88FD-60123FC1D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555C-19A3-4C29-9DE0-F86C7825B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A5EF-9676-44FF-8418-509B12D2E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E40EC-0F0D-44C0-9CB8-3CEC76A36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35684-5A63-4EF3-BAF7-2D20DF9D0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BE57C-1163-4DC3-B57C-1ACBDFED2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26A38-7FD4-481F-A687-06D0171F5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BC9D4-C5F5-4B56-8AF4-952FBDFC5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26670-D482-41AD-8FC4-009181CE3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EF6E3-8B62-44D7-9C71-E457C41B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16B6-2CFA-43DD-8C78-0ACD6689C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8079A-01BB-4684-A529-66B2D89E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01EAB-628A-4336-9EEC-1802B39D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52167-7DB7-48A1-97BE-B14B9BD58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37427-0E78-402C-9979-A383B1900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CDADB-2D4C-4CD2-9B74-C74F6F073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1B06-0A89-4AC8-BCFA-3C14296EB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53C0-1FCF-4E57-9D1A-5B2092F43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2430-6AC4-4566-9FD9-B07D9956A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8247-FE36-47CC-BFAB-ECB0E62C2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F846-830E-429B-8C4E-CC165D48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E7EB-8E50-4CF8-B9DC-3412039B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C769-40ED-4B7B-8EDC-1F7A9CE5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0440" y="182844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50619-C11E-4B22-8694-B55D05885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49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2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F8640-A8BD-4A4F-BC72-F3E0DFF8C7CA}" type="slidenum">
              <a:rPr b="0" lang="en-US" sz="14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Routing Workshop (IPv4 &amp; IPv6)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50880" y="4114440"/>
            <a:ext cx="795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urtis Lindqvist, Mark Tinka, Gaurab Raj Upadha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COT 2011, Hong Kong, S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- 19 February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Agenda – Tuesda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9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roductions,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9:3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net Introduction”, “Routing Basic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tion to OSPF”, “OSPF for ISP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3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eak for Lu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4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 Module 1 – Basic OSPF &amp; iBG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6:3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tion to BGP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8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breaks for tea/coffee at 10:30 and 15: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Agenda – Wednesda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9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tion to IPv6”, “IPv6 Standards and Protocol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1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 Module 1 (finish IPv4 iBG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2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Pv6 Addressing &amp; Routing Protocol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3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eak for lu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4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SPF &amp; BGP for IPv6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5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 Module 1 – IPv6 OSPF and iBG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8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breaks for tea/coffee at 10:30 and 15: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Agenda – Thursda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9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GP Scaling Techniqu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1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 Module 3 – Route Refl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1:4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 Module 3 – IPv6 Route Refl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3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eak for lu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4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 Module 6 – iBGP and eBG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IPv4 and IPv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6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GP Attributes and Policy Contro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8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breaks for tea/coffee at 10:30 and 15: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Agenda – Frida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2017800"/>
            <a:ext cx="73915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9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GP Best Practic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 Module 6 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1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 Module 7 – Route Fil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3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eak for lu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4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GP Multihoming – Part 1 &amp; 2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7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 Module 8 – Multihom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8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breaks for tea/coffee at 10:30 and 15: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Agenda – Saturda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9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ation &amp; 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tion to the RPKI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1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 Module 8 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3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eak for Lu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4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Pv6 Deployment Case Stud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5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tra Topic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figuring Dynamips, Out of band management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5:3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d of work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6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shop Social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break for tea/coffee at 10: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9T05:34:34Z</dcterms:created>
  <dc:creator>Philip Smith</dc:creator>
  <dc:description/>
  <dc:language>en-US</dc:language>
  <cp:lastModifiedBy>Philip Smith</cp:lastModifiedBy>
  <cp:lastPrinted>2000-06-05T00:48:20Z</cp:lastPrinted>
  <dcterms:modified xsi:type="dcterms:W3CDTF">2011-02-14T04:38:17Z</dcterms:modified>
  <cp:revision>62</cp:revision>
  <dc:subject>ISP/IXP Workshops Asia Pacific</dc:subject>
  <dc:title>ISP/IXP Workshop Agenda</dc:title>
</cp:coreProperties>
</file>