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119DD9-74A0-4698-8116-5A583AF56406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3DB6231-0327-40FA-A8B7-91CF411F129C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5320" y="4539960"/>
            <a:ext cx="50068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Rectangle 34"/>
          <p:cNvSpPr/>
          <p:nvPr/>
        </p:nvSpPr>
        <p:spPr>
          <a:xfrm>
            <a:off x="419040" y="6502320"/>
            <a:ext cx="683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69EA-3D0B-4C1E-89CA-EB1CD4608D77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APRICOT 2011 Network Security Workshop | February 2011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Copyright © 2011 Alcatel-Lucent &amp; others. All rights reserved.</a:t>
            </a:r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1" r="0" b="19006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62" descr="logo AL"/>
          <p:cNvPicPr/>
          <p:nvPr/>
        </p:nvPicPr>
        <p:blipFill>
          <a:blip r:embed="rId2"/>
          <a:stretch/>
        </p:blipFill>
        <p:spPr>
          <a:xfrm>
            <a:off x="6002280" y="927000"/>
            <a:ext cx="228600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Picture 67" descr=""/>
          <p:cNvPicPr/>
          <p:nvPr/>
        </p:nvPicPr>
        <p:blipFill>
          <a:blip r:embed="rId3"/>
          <a:stretch/>
        </p:blipFill>
        <p:spPr>
          <a:xfrm>
            <a:off x="6858000" y="227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BB07A_Grille_blanche-degrade"/>
          <p:cNvPicPr/>
          <p:nvPr/>
        </p:nvPicPr>
        <p:blipFill>
          <a:blip r:embed="rId4"/>
          <a:stretch/>
        </p:blipFill>
        <p:spPr>
          <a:xfrm>
            <a:off x="-12600" y="2254320"/>
            <a:ext cx="914400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3403440" y="858960"/>
            <a:ext cx="146700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425520" y="942840"/>
            <a:ext cx="186840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241596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APRICOT 2011 Hong Kong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Network Security Workshop</a:t>
            </a:r>
            <a:br>
              <a:rPr sz="3200"/>
            </a:b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3488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 JOHNSO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.johnson@alcatel-lucent.co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 MARTI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@pch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 CHA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chan@juniper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3232"/>
                </a:solidFill>
                <a:latin typeface="Trebuchet MS"/>
              </a:rPr>
              <a:t>16 February 201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6760" y="914040"/>
            <a:ext cx="859464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1" marL="350640" indent="-204480">
              <a:lnSpc>
                <a:spcPct val="100000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Like Cisco AC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350640" indent="-204480">
              <a:lnSpc>
                <a:spcPct val="100000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pplicable to L2 (MAC) and L3 (IPv4/IPv6) - 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Courier New"/>
              </a:rPr>
              <a:t>65K filters available, identified by 1-65535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&gt;filter&gt;mac-filter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&gt;filter&gt;ip-filter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&gt;filter&gt;ipv6-filter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50640" indent="-204480">
              <a:lnSpc>
                <a:spcPct val="100000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  <a:ea typeface="Courier New"/>
              </a:rPr>
              <a:t>Apply filters to interfaces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ure router interface “to-INTERNET” ingress filter 10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ure service ies 1234 interface “to-CUSTOMER” egress filter 234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match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dst-ip, src-ip, ports, etc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action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forward [next-hop] or drop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3920" indent="-1414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  <a:ea typeface="Courier New"/>
              </a:rPr>
              <a:t>log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50640" indent="-20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lter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211640"/>
            <a:ext cx="4699080" cy="2604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ilte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p-filter 101 creat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 10 creat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"match evil bits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rc-ip 127.0.0.0/8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 drop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 20 create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"permit other traffic"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match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 forward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trol traffic to the CPM and should be configured to permit routing protocols and management traffic as a ‘fine tuning’ filtering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ftware based – use </a:t>
            </a: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cpm-filters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for hardware filtering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&gt;config&gt;system&gt;security# info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management-access-filter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fault-action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ny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action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erm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src-ip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10.10.99.104/32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2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action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erm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src-ip </a:t>
            </a:r>
            <a:r>
              <a:rPr b="1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10.10.89.1/32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anagement Access Filter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Hardware based CPM filter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&gt;config&gt;system&gt;sec&gt;cpm&gt;ip-filter# info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10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scription ”CPM-Filter 10.10.101.3 #101”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log 10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20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scription ”CPM-Filter 10.10.101.3 #201”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log 10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no shutdown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PM Filter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8000 queues available on the CPM for ingress CPM-destined traffic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Queue 1-8 default queues (can’t be changed, per standard FCs)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Queues 33-2000 can be allocated based on CPM ingress filters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Queues 2001-8000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per peer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queuing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1397"/>
              </a:lnSpc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ure system security per-peer-queu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Implements per peer queuing with a round-robin scheduler (BGP/LDP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Ensures that peers cannot starve or congest the CPM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nclassified traffic will match the standard queue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trol Plane Queu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#configure router system security cpm ip-filter 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&gt;config&gt;system&gt;security&gt;cpm-filter&gt;ip-filter# info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10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scription ”Match SSH traffic from NOC”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match src-ip 192.0.2.0/24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match dst-port 22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match protocol tcp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action queue 33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ntry 20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scription ”Match all ICMP traffic”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323232"/>
                </a:solidFill>
                <a:latin typeface="Courier New"/>
                <a:ea typeface="Courier New"/>
              </a:rPr>
              <a:t>match protocol icmp</a:t>
            </a:r>
            <a:endParaRPr b="0" lang="en-US" sz="12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323232"/>
                </a:solidFill>
                <a:latin typeface="Courier New"/>
                <a:ea typeface="Courier New"/>
              </a:rPr>
              <a:t>action queue 34</a:t>
            </a:r>
            <a:endParaRPr b="0" lang="en-US" sz="12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no shutdown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#configure router system cpm-queue 33 create rate 128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#configure router system cpm-queue 34 create rate 1024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PM Filters with Queu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66760" y="875880"/>
            <a:ext cx="859464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54600" indent="-20700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lows per protocol packet rate limits for traffic that is punted to the CP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OSPFv2/v3, IS-IS, RSVP-TE, LDP, RIP, PIM, MLD, IGMP, BGP, BFD, L2PT, PPP, DHCP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3 color marking QoS profile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54600" indent="-20700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Global configuration options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link-specific-rate – applies to link-level protocols and is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per link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port-overall-rate – applies to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all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control traffic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per port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. 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protocol-protection – blocks traffic for unconfigured protocols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54600" indent="-20700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PU Protection Polici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overall-rate – applies to all control traffic (all sources) received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per interface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per-source-rate – applies to all control traffic received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per source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(e.g. per MAC)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out-profile-rate – applies to all control traffic on an interface. Traffic above this rate will be marked discard eligible (DE).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1" marL="354600" indent="-20700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wo default polici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254 is the default for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access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interfaces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  <a:p>
            <a:pPr lvl="2" marL="499680" indent="-143280">
              <a:lnSpc>
                <a:spcPts val="1998"/>
              </a:lnSpc>
              <a:spcAft>
                <a:spcPts val="7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255 is the default for </a:t>
            </a:r>
            <a:r>
              <a:rPr b="1" lang="en-US" sz="1600" spc="-1" strike="noStrike">
                <a:solidFill>
                  <a:srgbClr val="323232"/>
                </a:solidFill>
                <a:latin typeface="Trebuchet MS"/>
              </a:rPr>
              <a:t>network</a:t>
            </a:r>
            <a:r>
              <a:rPr b="0" lang="en-US" sz="1600" spc="-1" strike="noStrike">
                <a:solidFill>
                  <a:srgbClr val="323232"/>
                </a:solidFill>
                <a:latin typeface="Trebuchet MS"/>
              </a:rPr>
              <a:t> interfaces</a:t>
            </a:r>
            <a:endParaRPr b="0" lang="en-US" sz="16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PU Protec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&gt;config&gt;sys&gt;security&gt;cpu-protection# info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link-specific-rate 4000 </a:t>
            </a:r>
            <a:r>
              <a:rPr b="0" lang="en-US" sz="1400" spc="-1" strike="noStrike">
                <a:solidFill>
                  <a:srgbClr val="323232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4000 pps max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olicy 4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no alarm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description "My new CPU Protection policy"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overall-rate 9000 </a:t>
            </a:r>
            <a:r>
              <a:rPr b="0" lang="en-US" sz="1400" spc="-1" strike="noStrike">
                <a:solidFill>
                  <a:srgbClr val="323232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9000 pps max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er-source-rate 2000 </a:t>
            </a:r>
            <a:r>
              <a:rPr b="0" lang="en-US" sz="1400" spc="-1" strike="noStrike">
                <a:solidFill>
                  <a:srgbClr val="323232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2000 pps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out-profile-rate 4000 </a:t>
            </a:r>
            <a:r>
              <a:rPr b="0" lang="en-US" sz="1400" spc="-1" strike="noStrike">
                <a:solidFill>
                  <a:srgbClr val="323232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above 4000 pps, packets are marked out-of-profil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olicy 254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olicy 255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ort-overall-rate 12000 </a:t>
            </a:r>
            <a:r>
              <a:rPr b="0" lang="en-US" sz="1400" spc="-1" strike="noStrike">
                <a:solidFill>
                  <a:srgbClr val="323232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 12000 pps for all traffic per por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protocol-protection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Router&gt;config&gt;service&gt;ies&gt;if# info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cpu-protection 4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sap 1/1/5 create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exit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  <a:p>
            <a:pPr marL="146160" indent="-146160">
              <a:lnSpc>
                <a:spcPct val="100000"/>
              </a:lnSpc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Courier New"/>
                <a:ea typeface="Courier New"/>
              </a:rPr>
              <a:t>----------------------------------------------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PU Protec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2220840"/>
            <a:ext cx="914400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" name="Picture 12" descr="BB07A_Grille_blanche-degrade"/>
          <p:cNvPicPr/>
          <p:nvPr/>
        </p:nvPicPr>
        <p:blipFill>
          <a:blip r:embed="rId1"/>
          <a:stretch/>
        </p:blipFill>
        <p:spPr>
          <a:xfrm>
            <a:off x="-12600" y="220356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Alastair Johnson</dc:creator>
  <dc:description/>
  <dc:language>en-US</dc:language>
  <cp:lastModifiedBy>Alastair JOHNSON</cp:lastModifiedBy>
  <cp:lastPrinted>2002-04-19T19:23:03Z</cp:lastPrinted>
  <dcterms:modified xsi:type="dcterms:W3CDTF">2011-02-16T04:21:44Z</dcterms:modified>
  <cp:revision>63</cp:revision>
  <dc:subject/>
  <dc:title>Title of Presentation Second Line of Title Subheadings (if needed)</dc:title>
</cp:coreProperties>
</file>