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0"/>
            <a:ext cx="7047000" cy="992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7000" y="740880"/>
            <a:ext cx="49435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5320" y="4695840"/>
            <a:ext cx="5006880" cy="444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3882960" y="939132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0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7A05EA-9B24-4744-B38A-49E9372D6F74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39168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7112C9-CFD7-4C61-8090-B697D03F81AB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95320" y="4539960"/>
            <a:ext cx="50068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Rectangle 34"/>
          <p:cNvSpPr/>
          <p:nvPr/>
        </p:nvSpPr>
        <p:spPr>
          <a:xfrm>
            <a:off x="419040" y="6502320"/>
            <a:ext cx="6832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3498-527F-402B-8482-8A20913A212E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APRICOT 2011 Network Security Workshop | February 2011 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Copyright © 2011 Alcatel-Lucent &amp; others. All rights reserved.</a:t>
            </a:r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" name="Picture 37" descr="AlcatelLucent_Hor_2col_lrg"/>
          <p:cNvPicPr/>
          <p:nvPr/>
        </p:nvPicPr>
        <p:blipFill>
          <a:blip r:embed="rId2"/>
          <a:srcRect l="0" t="21961" r="0" b="19006"/>
          <a:stretch/>
        </p:blipFill>
        <p:spPr>
          <a:xfrm>
            <a:off x="7467480" y="6469200"/>
            <a:ext cx="1538280" cy="315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" name="Picture 62" descr="logo AL"/>
          <p:cNvPicPr/>
          <p:nvPr/>
        </p:nvPicPr>
        <p:blipFill>
          <a:blip r:embed="rId2"/>
          <a:stretch/>
        </p:blipFill>
        <p:spPr>
          <a:xfrm>
            <a:off x="6002280" y="927000"/>
            <a:ext cx="2286000" cy="479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6"/>
          <p:cNvSpPr/>
          <p:nvPr/>
        </p:nvSpPr>
        <p:spPr>
          <a:xfrm>
            <a:off x="3240" y="2273400"/>
            <a:ext cx="9140760" cy="2286000"/>
          </a:xfrm>
          <a:prstGeom prst="rect">
            <a:avLst/>
          </a:prstGeom>
          <a:solidFill>
            <a:srgbClr val="00b5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" name="Picture 67" descr=""/>
          <p:cNvPicPr/>
          <p:nvPr/>
        </p:nvPicPr>
        <p:blipFill>
          <a:blip r:embed="rId3"/>
          <a:stretch/>
        </p:blipFill>
        <p:spPr>
          <a:xfrm>
            <a:off x="6858000" y="227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1" descr="BB07A_Grille_blanche-degrade"/>
          <p:cNvPicPr/>
          <p:nvPr/>
        </p:nvPicPr>
        <p:blipFill>
          <a:blip r:embed="rId4"/>
          <a:stretch/>
        </p:blipFill>
        <p:spPr>
          <a:xfrm>
            <a:off x="-12600" y="2254320"/>
            <a:ext cx="9144000" cy="229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5"/>
          <a:stretch/>
        </p:blipFill>
        <p:spPr>
          <a:xfrm>
            <a:off x="3403440" y="858960"/>
            <a:ext cx="1467000" cy="68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6"/>
          <a:stretch/>
        </p:blipFill>
        <p:spPr>
          <a:xfrm>
            <a:off x="425520" y="942840"/>
            <a:ext cx="1868400" cy="530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2415960"/>
            <a:ext cx="84823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APRICOT 2011 Hong Kong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Network Security Workshop</a:t>
            </a:r>
            <a:br>
              <a:rPr sz="3200"/>
            </a:br>
            <a:endParaRPr b="0" lang="en-US" sz="2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34880" y="4935240"/>
            <a:ext cx="6238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Alastair JOHNSO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alastair.johnson@alcatel-lucent.com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Jonny MARTI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jonny@pch.ne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Tony CHA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tonychan@juniper.ne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3232"/>
                </a:solidFill>
                <a:latin typeface="Trebuchet MS"/>
              </a:rPr>
              <a:t>17 February 2011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By the end of day two, you should have: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 feeling for how the different routers work and some understanding of the CLI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SH configured and working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Usernames and passwords configured: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Pro-tip: ensure that the default passwords like ‘admin’ are also changed!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YSLOG configured to log to 192.168.175.1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Pro-tip: no facility is required, but you can use one if you want to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ime zone, date and time, and NTP configured to 192.168.175.1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OSPF and iBGP up on the Trigger, Edge, and Server Farm routers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ummary of Day 2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We talked about ensuring that routing protocol sessions are authenticated (RIP, OSPF, BGP, IS-IS, etc)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lso ensure that you authenticate other sessions you might use, like VRRP/HSRP, RSVP-TE and LDP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edit protocols rsvp interface </a:t>
            </a:r>
            <a:r>
              <a:rPr b="0" i="1" lang="en-US" sz="1300" spc="-1" strike="noStrike" u="sng">
                <a:solidFill>
                  <a:srgbClr val="323232"/>
                </a:solidFill>
                <a:uFillTx/>
                <a:latin typeface="Courier New"/>
                <a:ea typeface="Courier New"/>
              </a:rPr>
              <a:t>interface-name</a:t>
            </a:r>
            <a:r>
              <a:rPr b="0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 authentication-key </a:t>
            </a:r>
            <a:r>
              <a:rPr b="1" i="1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supersecret123</a:t>
            </a:r>
            <a:endParaRPr b="0" lang="en-US" sz="13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configure router rsvp interface </a:t>
            </a:r>
            <a:r>
              <a:rPr b="0" i="1" lang="en-US" sz="1300" spc="-1" strike="noStrike" u="sng">
                <a:solidFill>
                  <a:srgbClr val="323232"/>
                </a:solidFill>
                <a:uFillTx/>
                <a:latin typeface="Courier New"/>
                <a:ea typeface="Courier New"/>
              </a:rPr>
              <a:t>interface-name</a:t>
            </a:r>
            <a:r>
              <a:rPr b="0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 authentication-key </a:t>
            </a:r>
            <a:r>
              <a:rPr b="1" i="1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supersecret123</a:t>
            </a:r>
            <a:endParaRPr b="0" lang="en-US" sz="13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interface </a:t>
            </a:r>
            <a:r>
              <a:rPr b="0" i="1" lang="en-US" sz="1300" spc="-1" strike="noStrike" u="sng">
                <a:solidFill>
                  <a:srgbClr val="323232"/>
                </a:solidFill>
                <a:uFillTx/>
                <a:latin typeface="Courier New"/>
                <a:ea typeface="Courier New"/>
              </a:rPr>
              <a:t>interface</a:t>
            </a:r>
            <a:endParaRPr b="0" lang="en-US" sz="13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ip rsvp authentication type md5</a:t>
            </a:r>
            <a:endParaRPr b="0" lang="en-US" sz="13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r>
              <a:rPr b="0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ip rsvp authentication key </a:t>
            </a:r>
            <a:r>
              <a:rPr b="1" i="1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supersecret123</a:t>
            </a:r>
            <a:endParaRPr b="0" lang="en-US" sz="13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23232"/>
                </a:solidFill>
                <a:latin typeface="Courier New"/>
                <a:ea typeface="Courier New"/>
              </a:rPr>
              <a:t> </a:t>
            </a:r>
            <a:endParaRPr b="0" lang="en-US" sz="13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 little more on protocol authentication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figure routing protocol authentication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figure an </a:t>
            </a:r>
            <a:r>
              <a:rPr b="1" lang="en-US" sz="1800" spc="-1" strike="noStrike">
                <a:solidFill>
                  <a:srgbClr val="323232"/>
                </a:solidFill>
                <a:latin typeface="Trebuchet MS"/>
              </a:rPr>
              <a:t>eBGP</a:t>
            </a: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 session between the remote router and edge router.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figure infrastructure AC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figure anti-spoofing ACL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figure SSH restrictions 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BGP Filtering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Prefix filtering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S filtering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Maximum prefix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uRPF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ay 3 (Thursday) agenda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3" name="Rectangle 40"/>
          <p:cNvSpPr/>
          <p:nvPr/>
        </p:nvSpPr>
        <p:spPr>
          <a:xfrm>
            <a:off x="449280" y="5703840"/>
            <a:ext cx="8356680" cy="6127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Remember! Treat the network as hostile – we will be testin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27208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rebuchet MS"/>
              </a:rPr>
              <a:t>www.alcatel-lucent.co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2220840"/>
            <a:ext cx="9144000" cy="2286000"/>
          </a:xfrm>
          <a:prstGeom prst="rect">
            <a:avLst/>
          </a:prstGeom>
          <a:solidFill>
            <a:srgbClr val="00b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www.alcatel-lucent.c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" name="Picture 12" descr="BB07A_Grille_blanche-degrade"/>
          <p:cNvPicPr/>
          <p:nvPr/>
        </p:nvPicPr>
        <p:blipFill>
          <a:blip r:embed="rId1"/>
          <a:stretch/>
        </p:blipFill>
        <p:spPr>
          <a:xfrm>
            <a:off x="-12600" y="2203560"/>
            <a:ext cx="9144000" cy="229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8:59:09Z</dcterms:created>
  <dc:creator>Alastair Johnson</dc:creator>
  <dc:description/>
  <dc:language>en-US</dc:language>
  <cp:lastModifiedBy>Alastair JOHNSON</cp:lastModifiedBy>
  <cp:lastPrinted>2002-04-19T19:23:03Z</cp:lastPrinted>
  <dcterms:modified xsi:type="dcterms:W3CDTF">2011-02-17T01:08:10Z</dcterms:modified>
  <cp:revision>66</cp:revision>
  <dc:subject/>
  <dc:title>Title of Presentation Second Line of Title Subheadings (if needed)</dc:title>
</cp:coreProperties>
</file>