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7047000" cy="992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7000" y="740880"/>
            <a:ext cx="49435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move the slide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95320" y="4695840"/>
            <a:ext cx="5006880" cy="4448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11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1"/>
          </p:nvPr>
        </p:nvSpPr>
        <p:spPr>
          <a:xfrm>
            <a:off x="3882960" y="9391320"/>
            <a:ext cx="2914560" cy="492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GB" sz="1000" spc="-1" strike="noStrike">
                <a:solidFill>
                  <a:srgbClr val="000000"/>
                </a:solidFill>
                <a:latin typeface="FuturaA Bk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CD27BE9-7D4F-4117-BD71-FC6A3653DADD}" type="slidenum">
              <a:rPr b="0" lang="en-GB" sz="10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2960" y="939168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9427200-7A25-4734-ABC4-CE9FA9F585B7}" type="slidenum">
              <a:rPr b="0" lang="en-GB" sz="10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7000" y="74124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95320" y="4539960"/>
            <a:ext cx="50068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Rectangle 34"/>
          <p:cNvSpPr/>
          <p:nvPr/>
        </p:nvSpPr>
        <p:spPr>
          <a:xfrm>
            <a:off x="419040" y="6502320"/>
            <a:ext cx="6832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7CFF-B6A0-4D10-B107-1D034ED488BD}" type="slidenum">
              <a:rPr b="0" lang="en-US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 | APRICOT 2011 Network Security Workshop | February 2011 </a:t>
            </a:r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Copyright © 2011 Alcatel-Lucent &amp; others. All rights reserved.</a:t>
            </a:r>
            <a:r>
              <a:rPr b="0" lang="en-GB" sz="7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Rectangle 36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6640" bIns="-2664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" name="Picture 37" descr="AlcatelLucent_Hor_2col_lrg"/>
          <p:cNvPicPr/>
          <p:nvPr/>
        </p:nvPicPr>
        <p:blipFill>
          <a:blip r:embed="rId2"/>
          <a:srcRect l="0" t="21961" r="0" b="19006"/>
          <a:stretch/>
        </p:blipFill>
        <p:spPr>
          <a:xfrm>
            <a:off x="7467480" y="6469200"/>
            <a:ext cx="1538280" cy="3157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23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6640" bIns="-2664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3"/>
          <a:stretch/>
        </p:blipFill>
        <p:spPr>
          <a:xfrm>
            <a:off x="7581960" y="6423120"/>
            <a:ext cx="1307880" cy="40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" name="Picture 62" descr="logo AL"/>
          <p:cNvPicPr/>
          <p:nvPr/>
        </p:nvPicPr>
        <p:blipFill>
          <a:blip r:embed="rId2"/>
          <a:stretch/>
        </p:blipFill>
        <p:spPr>
          <a:xfrm>
            <a:off x="6002280" y="927000"/>
            <a:ext cx="2286000" cy="4795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6"/>
          <p:cNvSpPr/>
          <p:nvPr/>
        </p:nvSpPr>
        <p:spPr>
          <a:xfrm>
            <a:off x="3240" y="2273400"/>
            <a:ext cx="9140760" cy="2286000"/>
          </a:xfrm>
          <a:prstGeom prst="rect">
            <a:avLst/>
          </a:prstGeom>
          <a:solidFill>
            <a:srgbClr val="00b5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9" name="Picture 67" descr=""/>
          <p:cNvPicPr/>
          <p:nvPr/>
        </p:nvPicPr>
        <p:blipFill>
          <a:blip r:embed="rId3"/>
          <a:stretch/>
        </p:blipFill>
        <p:spPr>
          <a:xfrm>
            <a:off x="6858000" y="2273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1" descr="BB07A_Grille_blanche-degrade"/>
          <p:cNvPicPr/>
          <p:nvPr/>
        </p:nvPicPr>
        <p:blipFill>
          <a:blip r:embed="rId4"/>
          <a:stretch/>
        </p:blipFill>
        <p:spPr>
          <a:xfrm>
            <a:off x="-12600" y="2254320"/>
            <a:ext cx="9144000" cy="2298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5"/>
          <a:stretch/>
        </p:blipFill>
        <p:spPr>
          <a:xfrm>
            <a:off x="3403440" y="858960"/>
            <a:ext cx="1467000" cy="68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6"/>
          <a:stretch/>
        </p:blipFill>
        <p:spPr>
          <a:xfrm>
            <a:off x="425520" y="942840"/>
            <a:ext cx="1868400" cy="530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ymru.org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1640" y="2415960"/>
            <a:ext cx="84823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APRICOT 2011 Hong Kong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Network Security Workshop</a:t>
            </a:r>
            <a:br>
              <a:rPr sz="3200"/>
            </a:br>
            <a:endParaRPr b="0" lang="en-US" sz="2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34880" y="4935240"/>
            <a:ext cx="62388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Alastair JOHNSON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alastair.johnson@alcatel-lucent.com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Jonny MARTIN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jonny@pch.ne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Tony CHAN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tonychan@juniper.ne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3232"/>
                </a:solidFill>
                <a:latin typeface="Trebuchet MS"/>
              </a:rPr>
              <a:t>19 February 2011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an we have your private SSH keys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35880" indent="-3358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Give an example of where you’d use a sink hole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35880" indent="-3358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Name three network telemetry tools or protocol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35880" indent="-3358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Explain what a flow i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35880" indent="-3358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at’s the difference between a hardware based and software based router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35880" indent="-3358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How is Control Plane Policing (CoPP) useful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35880" indent="-3358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at CoPP traffic should not be policed/rate-limited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35880" indent="-3358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Does MPLS secure customer traffic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35880" indent="-3358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at should the infrastructure ACL primarily protect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35880" indent="-3358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Is it a good idea to assign your loopback addresses from a simple aggregate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35880" indent="-3358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Quiz! (3/73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-31536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at basic security measures should be placed on every user-facing L2 port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15360" indent="-31536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at types of hat do attackers wear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15360" indent="-31536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at does ARP do? Bonus point: what replaces ARP in IPv6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15360" indent="-31536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at is ARP poisoning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15360" indent="-31536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at information does a switch use to protect against IP spoofing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15360" indent="-31536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Name a type of DHCP attack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15360" indent="-31536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Is spanning-tree a good idea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15360" indent="-31536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Is your lab pod secure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15360" indent="-31536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y would you use AAA to authenticate router logins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15360" indent="-31536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Name two AAA protocol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15360" indent="-31536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o has the better mustache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15360" indent="-31536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Quiz! (4/73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Quiz! (5/73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695600" y="1271520"/>
            <a:ext cx="5752800" cy="431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0" y="2720880"/>
            <a:ext cx="9144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rebuchet MS"/>
              </a:rPr>
              <a:t>www.alcatel-lucent.com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2220840"/>
            <a:ext cx="9144000" cy="2286000"/>
          </a:xfrm>
          <a:prstGeom prst="rect">
            <a:avLst/>
          </a:prstGeom>
          <a:solidFill>
            <a:srgbClr val="00b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www.apricot.ne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www.alcatel-lucent.co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3" name="Picture 12" descr="BB07A_Grille_blanche-degrade"/>
          <p:cNvPicPr/>
          <p:nvPr/>
        </p:nvPicPr>
        <p:blipFill>
          <a:blip r:embed="rId1"/>
          <a:stretch/>
        </p:blipFill>
        <p:spPr>
          <a:xfrm>
            <a:off x="0" y="2203560"/>
            <a:ext cx="9144000" cy="229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3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387360" indent="-22572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Always null route unused address space within your network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45760" indent="-15660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If you have prefixes you know are unused, route them towards null0 on your routers.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545760" indent="-15660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Prevents ARP cache exhaustion, broadcasts, and prevents address theft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1" marL="387360" indent="-22572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Enable port security and limit the number of MACs on customer port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387360" indent="-22572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Always filter ingress traffic from customers with uRPF or ACLs (source address validation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387360" indent="-22572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Authenticate</a:t>
            </a:r>
            <a:r>
              <a:rPr b="1" lang="en-US" sz="1800" spc="-1" strike="noStrike">
                <a:solidFill>
                  <a:srgbClr val="323232"/>
                </a:solidFill>
                <a:latin typeface="Trebuchet MS"/>
              </a:rPr>
              <a:t> all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 of your network protocol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387360" indent="-22572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lter BGP sessions ingress and egress 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45760" indent="-15660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Make sure you don’t accept prefixes you don’t want or shouldn’t carry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1" marL="387360" indent="-22572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t maximum-prefix/prefix-limit on BGP sessions (including customers, transits, and peers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387360" indent="-22572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Never use OSPF as a CE-PE protoco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387360" indent="-22572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ome Simple Best Practice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lvl="1" marL="379080" indent="-22104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Give high priority to network control traffic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379080" indent="-22104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Ideally, have an out-of-band management path to all POPs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379080" indent="-22104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Restrict DHCP and Router Advertisements on customer port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379080" indent="-22104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parate customers into separate VLANs if you can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379080" indent="-22104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Use local-proxy-arp and private VLANs to restrict device-to-device communication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379080" indent="-22104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Use an anomaly detection system – even if it’s just netflow and a suspicious eye!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379080" indent="-22104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Use RANCID or similar to monitor configuration changes on network elements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379080" indent="-22104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Ensure you are logging to central locations via syslog / SNMP traps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379080" indent="-22104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Monitor critical network element resources, e.g. memory, bandwidth utilisation, interface utilisation, RIB/FIB utilisation, CAM utilisation…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ome Simple Best Practice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lvl="1" marL="383400" indent="-2235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3232"/>
                </a:solidFill>
                <a:latin typeface="Trebuchet MS"/>
              </a:rPr>
              <a:t>ALWAYS ENCRYPT YOUR MANAGEMENT TRAFFIC!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40000" indent="-15480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Avoid the use of clear text as much as possible.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540000" indent="-15480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Limit clear text traffic to the shortest and most trusted path possible.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1" marL="383400" indent="-2235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Make use of jump or bastion hosts and ACLs to restrict management traffic to these hosts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383400" indent="-2235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3232"/>
                </a:solidFill>
                <a:latin typeface="Trebuchet MS"/>
              </a:rPr>
              <a:t>Have a security plan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 that includes incident management processe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40000" indent="-15480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Identify who, what, and how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540000" indent="-15480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Practice and test the plan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540000" indent="-15480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Make sure you know how to reach your peers and transit providers, and how their security plans work!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1" marL="383400" indent="-2235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Join security working groups such as NSP-SEC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383400" indent="-2235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Keep an eye on mailing lists like NANOG, PacNOG, APOPS, Bugtraq, Full-Disclosure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383400" indent="-2235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ome Simple Best Practice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ome Simple Best Practice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Use least-privileged mode where possible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If you’re logging in to check interface stats, you probably don’t need superuser mode.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Define profiles for staff that restrict them to the appropriate privilege level.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Keep on top of OS releases for your network elements, particularly if security patches are released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ACLs and Control Plane Policing can mitigate this, to an extent.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en implementing IPv6, be careful and ensure that your ACLs, filters, CoPP, etc incorporate the fact that all protocols will start listening on the IPv6 addresses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Don’t block all ICMP – there are some really important parts of it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Question: What can break when ICMP is blanket-blocked?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403560" indent="-23544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ITU X.805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3560" indent="-23544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ISO 15408 Common Criteria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3560" indent="-23544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ISO/IEC 27001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3560" indent="-23544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eam Cymru –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cymru.org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3560" indent="-23544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3560" indent="-23544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An interesting look at leaky ISPs at IXPs – Monkeying Around on the APE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68800" indent="-1630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http://www.apricot.net/apricot2010/__data/assets/pdf_file/0006/18915/IXPs_02_Monkeying-around-on-the-APE_Mike-Jager.pdf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1" marL="403560" indent="-23544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Grab anything you want to refer to from http://192.168.175.1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3560" indent="-23544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3560" indent="-23544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eel free to ask the instructors or contact us!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ome security reference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cpdump – http://www.tcpdump.org 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ireshark – http://www.wireshark.org 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acti – http://www.cacti.net 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crutinizer (Netflow tool) - http://www.plixer.com 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Perl Net::RawIP tools for generating attack traffic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Ettercap – http://ettercap.sourceforge.net 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Yersenia – http://yersinia.net 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nmap – http://nmap.org 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Good old </a:t>
            </a:r>
            <a:r>
              <a:rPr b="1" lang="en-US" sz="1800" spc="-1" strike="noStrike">
                <a:solidFill>
                  <a:srgbClr val="323232"/>
                </a:solidFill>
                <a:latin typeface="Trebuchet MS"/>
              </a:rPr>
              <a:t>ping 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 - on a unix host near you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Nessus – http://nessus.org 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ome tools we used this week…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en would you use telnet to manage devices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32640" indent="-33264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at’s the first thing you do to usernames and passwords on new equipment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32640" indent="-33264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at size is Jonny’s puku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32640" indent="-33264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y is it important to have NTP configured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32640" indent="-33264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Is SYSLOG traffic clear-text or encrypted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32640" indent="-33264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y must you authenticate routing protocols? (at least 3 reasons!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32640" indent="-33264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at filters should you include at a minimum on eBGP sessions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32640" indent="-33264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y should you use maximum-prefix / prefix-limit on BGP sessions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32640" indent="-33264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at interfaces should OSPF never be run on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32640" indent="-33264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at BCP should you be familiar with and implement? Why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32640" indent="-33264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Quiz! (1/73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at’s a bogon (or martian)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25800" indent="-32580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hould bogons be in your filtering list? Give an example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25800" indent="-32580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Give some example of filtering technique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25800" indent="-32580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at’s the advantages of RTBH over ACLs or filters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25800" indent="-32580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at is Tony’s middle name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25800" indent="-32580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at signalling protocol does RTBH use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25800" indent="-32580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at is the advantage of Source Based (S/RTBH) over Destination Based (D/RTBH)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25800" indent="-32580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y must you configure uRPF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25800" indent="-32580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here should you always configure uRPF?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25800" indent="-32580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Explain the difference between strict and loose uRPF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25800" indent="-32580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Quiz! (2/73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8:59:09Z</dcterms:created>
  <dc:creator>Alastair Johnson</dc:creator>
  <dc:description/>
  <dc:language>en-US</dc:language>
  <cp:lastModifiedBy>Alastair JOHNSON</cp:lastModifiedBy>
  <cp:lastPrinted>2002-04-19T19:23:03Z</cp:lastPrinted>
  <dcterms:modified xsi:type="dcterms:W3CDTF">2011-02-19T07:32:12Z</dcterms:modified>
  <cp:revision>146</cp:revision>
  <dc:subject/>
  <dc:title>Title of Presentation Second Line of Title Subheadings (if needed)</dc:title>
</cp:coreProperties>
</file>