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0"/>
            <a:ext cx="7047000" cy="992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7000" y="740880"/>
            <a:ext cx="49435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move the slid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5320" y="4695840"/>
            <a:ext cx="5006880" cy="444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3882960" y="9391320"/>
            <a:ext cx="2914560" cy="492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0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5A4930-86D2-47E4-BC12-27C80BCEE21B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2960" y="9391680"/>
            <a:ext cx="2914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BD3BFB-7BBE-44FD-8E78-A5C3904B4915}" type="slidenum">
              <a:rPr b="0" lang="en-GB" sz="10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3520" cy="37069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5320" y="4539960"/>
            <a:ext cx="500688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7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268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8960" y="118116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667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7268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8960" y="3545280"/>
            <a:ext cx="27673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9840" y="70920"/>
            <a:ext cx="825516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000" y="354528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181160"/>
            <a:ext cx="419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545280"/>
            <a:ext cx="8594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126360" y="6145200"/>
            <a:ext cx="648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" name="Rectangle 34"/>
          <p:cNvSpPr/>
          <p:nvPr/>
        </p:nvSpPr>
        <p:spPr>
          <a:xfrm>
            <a:off x="419040" y="6502320"/>
            <a:ext cx="6832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1407-7103-4852-A5B9-BCC37862B277}" type="slidenum">
              <a:rPr b="0" lang="en-US" sz="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 | APRICOT 2011 Network Security Workshop | February 2011 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rebuchet MS"/>
              </a:rPr>
              <a:t>Copyright © 2011 Alcatel-Lucent &amp; others. All rights reserved.</a:t>
            </a:r>
            <a:r>
              <a:rPr b="0" lang="en-GB" sz="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Rectangle 36"/>
          <p:cNvSpPr/>
          <p:nvPr/>
        </p:nvSpPr>
        <p:spPr>
          <a:xfrm>
            <a:off x="453960" y="89208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" name="Picture 37" descr="AlcatelLucent_Hor_2col_lrg"/>
          <p:cNvPicPr/>
          <p:nvPr/>
        </p:nvPicPr>
        <p:blipFill>
          <a:blip r:embed="rId2"/>
          <a:srcRect l="0" t="21961" r="0" b="19006"/>
          <a:stretch/>
        </p:blipFill>
        <p:spPr>
          <a:xfrm>
            <a:off x="7467480" y="6469200"/>
            <a:ext cx="1538280" cy="315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3"/>
          <p:cNvSpPr/>
          <p:nvPr/>
        </p:nvSpPr>
        <p:spPr>
          <a:xfrm>
            <a:off x="453960" y="6359400"/>
            <a:ext cx="8715600" cy="1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26640" bIns="-2664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" name="Picture 62" descr="logo AL"/>
          <p:cNvPicPr/>
          <p:nvPr/>
        </p:nvPicPr>
        <p:blipFill>
          <a:blip r:embed="rId2"/>
          <a:stretch/>
        </p:blipFill>
        <p:spPr>
          <a:xfrm>
            <a:off x="6002280" y="927000"/>
            <a:ext cx="2286000" cy="479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6"/>
          <p:cNvSpPr/>
          <p:nvPr/>
        </p:nvSpPr>
        <p:spPr>
          <a:xfrm>
            <a:off x="3240" y="2273400"/>
            <a:ext cx="9140760" cy="2286000"/>
          </a:xfrm>
          <a:prstGeom prst="rect">
            <a:avLst/>
          </a:prstGeom>
          <a:solidFill>
            <a:srgbClr val="00b5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" name="Picture 67" descr=""/>
          <p:cNvPicPr/>
          <p:nvPr/>
        </p:nvPicPr>
        <p:blipFill>
          <a:blip r:embed="rId3"/>
          <a:stretch/>
        </p:blipFill>
        <p:spPr>
          <a:xfrm>
            <a:off x="6858000" y="227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1" descr="BB07A_Grille_blanche-degrade"/>
          <p:cNvPicPr/>
          <p:nvPr/>
        </p:nvPicPr>
        <p:blipFill>
          <a:blip r:embed="rId4"/>
          <a:stretch/>
        </p:blipFill>
        <p:spPr>
          <a:xfrm>
            <a:off x="-12600" y="2254320"/>
            <a:ext cx="9144000" cy="229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5"/>
          <a:stretch/>
        </p:blipFill>
        <p:spPr>
          <a:xfrm>
            <a:off x="3403440" y="858960"/>
            <a:ext cx="1467000" cy="68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6"/>
          <a:stretch/>
        </p:blipFill>
        <p:spPr>
          <a:xfrm>
            <a:off x="425520" y="942840"/>
            <a:ext cx="1868400" cy="530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8120" indent="-16812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Futura Md B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407880" indent="-23796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2" marL="574560" indent="-16488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3" marL="150660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4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5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6" marL="1854360" indent="-168480">
              <a:lnSpc>
                <a:spcPts val="2398"/>
              </a:lnSpc>
              <a:spcAft>
                <a:spcPts val="1199"/>
              </a:spcAft>
              <a:buClr>
                <a:srgbClr val="00000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2415960"/>
            <a:ext cx="84823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APRICOT 2011 Hong Kong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Network Security Workshop</a:t>
            </a:r>
            <a:br>
              <a:rPr sz="3200"/>
            </a:br>
            <a:endParaRPr b="0" lang="en-US" sz="2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34880" y="4935240"/>
            <a:ext cx="6238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Alastair JOHNSO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alastair.johnson@alcatel-lucent.com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Jonny MARTI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jonny@pch.ne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Tony CHAN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Trebuchet MS"/>
              </a:rPr>
              <a:t>tonychan@juniper.net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indent="0">
              <a:lnSpc>
                <a:spcPts val="2398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3232"/>
                </a:solidFill>
                <a:latin typeface="Trebuchet MS"/>
              </a:rPr>
              <a:t>19 February 2011</a:t>
            </a:r>
            <a:endParaRPr b="0" lang="en-US" sz="1400" spc="-1" strike="noStrike">
              <a:solidFill>
                <a:srgbClr val="323232"/>
              </a:solidFill>
              <a:latin typeface="Trebuchet MS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Remote Triggered Blackholing (RTBH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estination based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82480" indent="-342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ource based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3080" indent="-3430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trol Plane Policing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ummary of Day 4 (Friday)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99" name="Rectangle 40"/>
          <p:cNvSpPr/>
          <p:nvPr/>
        </p:nvSpPr>
        <p:spPr>
          <a:xfrm>
            <a:off x="449280" y="5232240"/>
            <a:ext cx="8356680" cy="10843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Remember! Check the state of your routers to ensure that your config from yesterday  is still ther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rebuchet MS"/>
              </a:rPr>
              <a:t>The network is hostile – we will be testing you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66760" y="1181160"/>
            <a:ext cx="85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Review of L3VPN security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1280" indent="-3412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Layer 2 attack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12640" indent="-342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AM exhaustion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lvl="1" marL="512640" indent="-342720">
              <a:lnSpc>
                <a:spcPts val="2398"/>
              </a:lnSpc>
              <a:spcAft>
                <a:spcPts val="1199"/>
              </a:spcAft>
              <a:buClr>
                <a:srgbClr val="969696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ARP Man-in-the-Middle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1280" indent="-3412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Lab ‘play-time’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1280" indent="-3412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Theory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1280" indent="-3412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Conclusion and certificates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1280" indent="-3412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Social function!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  <a:p>
            <a:pPr marL="341280" indent="-341280">
              <a:lnSpc>
                <a:spcPts val="2398"/>
              </a:lnSpc>
              <a:spcAft>
                <a:spcPts val="1199"/>
              </a:spcAft>
              <a:buClr>
                <a:srgbClr val="ffcc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9840" y="70920"/>
            <a:ext cx="825516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232"/>
                </a:solidFill>
                <a:latin typeface="Trebuchet MS"/>
              </a:rPr>
              <a:t>Day 5 (Saturday) Agenda</a:t>
            </a:r>
            <a:endParaRPr b="0" lang="en-US" sz="1800" spc="-1" strike="noStrike">
              <a:solidFill>
                <a:srgbClr val="323232"/>
              </a:solidFill>
              <a:latin typeface="Trebuchet MS"/>
            </a:endParaRPr>
          </a:p>
        </p:txBody>
      </p:sp>
      <p:sp>
        <p:nvSpPr>
          <p:cNvPr id="102" name="Rectangle 40"/>
          <p:cNvSpPr/>
          <p:nvPr/>
        </p:nvSpPr>
        <p:spPr>
          <a:xfrm>
            <a:off x="449280" y="5232240"/>
            <a:ext cx="8356680" cy="10843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3:30pm finish toda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rebuchet MS"/>
              </a:rPr>
              <a:t>The network is hostile – we will be testing you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2720880"/>
            <a:ext cx="9144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rebuchet MS"/>
              </a:rPr>
              <a:t>www.alcatel-lucent.co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2220840"/>
            <a:ext cx="9144000" cy="2286000"/>
          </a:xfrm>
          <a:prstGeom prst="rect">
            <a:avLst/>
          </a:prstGeom>
          <a:solidFill>
            <a:srgbClr val="00b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www.alcatel-lucent.c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6" name="Picture 12" descr="BB07A_Grille_blanche-degrade"/>
          <p:cNvPicPr/>
          <p:nvPr/>
        </p:nvPicPr>
        <p:blipFill>
          <a:blip r:embed="rId1"/>
          <a:stretch/>
        </p:blipFill>
        <p:spPr>
          <a:xfrm>
            <a:off x="-12600" y="2203560"/>
            <a:ext cx="9144000" cy="229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8:59:09Z</dcterms:created>
  <dc:creator>Alastair Johnson</dc:creator>
  <dc:description/>
  <dc:language>en-US</dc:language>
  <cp:lastModifiedBy>Alastair JOHNSON</cp:lastModifiedBy>
  <cp:lastPrinted>2002-04-19T19:23:03Z</cp:lastPrinted>
  <dcterms:modified xsi:type="dcterms:W3CDTF">2011-02-19T01:17:33Z</dcterms:modified>
  <cp:revision>132</cp:revision>
  <dc:subject/>
  <dc:title>Title of Presentation Second Line of Title Subheadings (if needed)</dc:title>
</cp:coreProperties>
</file>