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0"/>
            <a:ext cx="7047000" cy="992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7000" y="74088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5320" y="4695840"/>
            <a:ext cx="5006880" cy="444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3882960" y="939132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E549EE-690C-44D2-9102-54B255488CCD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2960" y="939168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AF63F27-14B7-4148-AB50-A24D9BF7C644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5320" y="4539960"/>
            <a:ext cx="50068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Rectangle 34"/>
          <p:cNvSpPr/>
          <p:nvPr/>
        </p:nvSpPr>
        <p:spPr>
          <a:xfrm>
            <a:off x="419040" y="6502320"/>
            <a:ext cx="6832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9EC6-6372-4470-8408-1EA283998DB3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APRICOT 2011 Network Security Workshop | February 2011 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Copyright © 2011 Alcatel-Lucent &amp; others. All rights reserved.</a:t>
            </a:r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" name="Picture 37" descr="AlcatelLucent_Hor_2col_lrg"/>
          <p:cNvPicPr/>
          <p:nvPr/>
        </p:nvPicPr>
        <p:blipFill>
          <a:blip r:embed="rId2"/>
          <a:srcRect l="0" t="21961" r="0" b="19006"/>
          <a:stretch/>
        </p:blipFill>
        <p:spPr>
          <a:xfrm>
            <a:off x="7467480" y="6469200"/>
            <a:ext cx="1538280" cy="315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" name="Picture 62" descr="logo AL"/>
          <p:cNvPicPr/>
          <p:nvPr/>
        </p:nvPicPr>
        <p:blipFill>
          <a:blip r:embed="rId2"/>
          <a:stretch/>
        </p:blipFill>
        <p:spPr>
          <a:xfrm>
            <a:off x="6002280" y="927000"/>
            <a:ext cx="2286000" cy="479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6"/>
          <p:cNvSpPr/>
          <p:nvPr/>
        </p:nvSpPr>
        <p:spPr>
          <a:xfrm>
            <a:off x="3240" y="2273400"/>
            <a:ext cx="9140760" cy="2286000"/>
          </a:xfrm>
          <a:prstGeom prst="rect">
            <a:avLst/>
          </a:prstGeom>
          <a:solidFill>
            <a:srgbClr val="00b5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Picture 67" descr=""/>
          <p:cNvPicPr/>
          <p:nvPr/>
        </p:nvPicPr>
        <p:blipFill>
          <a:blip r:embed="rId3"/>
          <a:stretch/>
        </p:blipFill>
        <p:spPr>
          <a:xfrm>
            <a:off x="6858000" y="227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1" descr="BB07A_Grille_blanche-degrade"/>
          <p:cNvPicPr/>
          <p:nvPr/>
        </p:nvPicPr>
        <p:blipFill>
          <a:blip r:embed="rId4"/>
          <a:stretch/>
        </p:blipFill>
        <p:spPr>
          <a:xfrm>
            <a:off x="-12600" y="2254320"/>
            <a:ext cx="9144000" cy="229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5"/>
          <a:stretch/>
        </p:blipFill>
        <p:spPr>
          <a:xfrm>
            <a:off x="3403440" y="858960"/>
            <a:ext cx="146700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6"/>
          <a:stretch/>
        </p:blipFill>
        <p:spPr>
          <a:xfrm>
            <a:off x="425520" y="942840"/>
            <a:ext cx="1868400" cy="530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2415960"/>
            <a:ext cx="84823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APRICOT 2011 Hong Kong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Network Security Workshop</a:t>
            </a:r>
            <a:br>
              <a:rPr sz="3200"/>
            </a:br>
            <a:endParaRPr b="0" lang="en-US" sz="2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34880" y="4935240"/>
            <a:ext cx="6238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 JOHNSO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.johnson@alcatel-lucent.com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 MARTI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@pch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 CHA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chan@juniper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3232"/>
                </a:solidFill>
                <a:latin typeface="Trebuchet MS"/>
              </a:rPr>
              <a:t>18 February 2011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routing protocol authentication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an </a:t>
            </a: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eBGP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 session between the remote router and edge router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se the interface addresses and advertise Remote loopback to Edge; Edge advertises an aggregate address (/22) to Remote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infrastructure AC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anti-spoofing AC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SSH restrictions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BGP Filtering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refix filtering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S filtering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ct val="100000"/>
              </a:lnSpc>
              <a:spcAft>
                <a:spcPts val="601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Maximum prefix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RPF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ummary of Day 3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mote Triggered Blackholing (RTBH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stination based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urce based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trol Plane Policing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ay 4 (Friday) Agenda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1" name="Rectangle 40"/>
          <p:cNvSpPr/>
          <p:nvPr/>
        </p:nvSpPr>
        <p:spPr>
          <a:xfrm>
            <a:off x="449280" y="5232240"/>
            <a:ext cx="8356680" cy="10843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emember! Check the state of your routers to ensure that your config from yesterday  is still ther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rebuchet MS"/>
              </a:rPr>
              <a:t>The network is hostile – we will be testing you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27208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2220840"/>
            <a:ext cx="9144000" cy="2286000"/>
          </a:xfrm>
          <a:prstGeom prst="rect">
            <a:avLst/>
          </a:prstGeom>
          <a:solidFill>
            <a:srgbClr val="00b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" name="Picture 12" descr="BB07A_Grille_blanche-degrade"/>
          <p:cNvPicPr/>
          <p:nvPr/>
        </p:nvPicPr>
        <p:blipFill>
          <a:blip r:embed="rId1"/>
          <a:stretch/>
        </p:blipFill>
        <p:spPr>
          <a:xfrm>
            <a:off x="-12600" y="220356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8:59:09Z</dcterms:created>
  <dc:creator>Alastair Johnson</dc:creator>
  <dc:description/>
  <dc:language>en-US</dc:language>
  <cp:lastModifiedBy>Alastair JOHNSON</cp:lastModifiedBy>
  <cp:lastPrinted>2002-04-19T19:23:03Z</cp:lastPrinted>
  <dcterms:modified xsi:type="dcterms:W3CDTF">2011-02-18T00:58:12Z</dcterms:modified>
  <cp:revision>130</cp:revision>
  <dc:subject/>
  <dc:title>Title of Presentation Second Line of Title Subheadings (if needed)</dc:title>
</cp:coreProperties>
</file>