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E8D-388F-4B7D-834E-56C4449C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64C-3364-4A76-85C1-D1E2D55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94B-06A0-4E73-8791-5D097F63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D9B-BFD3-4F13-B39E-DFDC17CF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6C8-2A4C-4782-B66F-1E14ED9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EF4-139C-45CB-B19A-8750BC5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A48-6F8B-4F4E-A567-C344CF1E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82D-F4F1-41AC-9FED-3B11245E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CF2-1944-49E3-ADA8-F1BFD1D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2DA-59A2-4757-92AF-932FE50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F2E-7AA8-4EA9-ADE1-1B227BC9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756-522E-48D1-8AD8-52F9C6A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90A8-31D8-4FD2-AD7F-6E34E213E23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A308-B6D5-4AF1-A050-02295F3993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more powerful too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670960" y="6400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4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B33-AD31-4DC4-ABE3-01721BA893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D245A-B1F3-4F79-AF62-DF523BAA1A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ity officials perspective on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371600" y="40384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371600" y="3276720"/>
            <a:ext cx="2770200" cy="757080"/>
          </a:xfrm>
          <a:custGeom>
            <a:avLst/>
            <a:gdLst/>
            <a:ahLst/>
            <a:rect l="l" t="t" r="r" b="b"/>
            <a:pathLst>
              <a:path w="1745" h="477">
                <a:moveTo>
                  <a:pt x="0" y="477"/>
                </a:moveTo>
                <a:cubicBezTo>
                  <a:pt x="45" y="410"/>
                  <a:pt x="98" y="340"/>
                  <a:pt x="165" y="296"/>
                </a:cubicBezTo>
                <a:cubicBezTo>
                  <a:pt x="241" y="181"/>
                  <a:pt x="197" y="220"/>
                  <a:pt x="280" y="165"/>
                </a:cubicBezTo>
                <a:cubicBezTo>
                  <a:pt x="344" y="68"/>
                  <a:pt x="435" y="22"/>
                  <a:pt x="543" y="0"/>
                </a:cubicBezTo>
                <a:cubicBezTo>
                  <a:pt x="560" y="1"/>
                  <a:pt x="745" y="7"/>
                  <a:pt x="806" y="33"/>
                </a:cubicBezTo>
                <a:cubicBezTo>
                  <a:pt x="824" y="41"/>
                  <a:pt x="838" y="58"/>
                  <a:pt x="856" y="66"/>
                </a:cubicBezTo>
                <a:cubicBezTo>
                  <a:pt x="1030" y="143"/>
                  <a:pt x="894" y="58"/>
                  <a:pt x="1004" y="132"/>
                </a:cubicBezTo>
                <a:cubicBezTo>
                  <a:pt x="1077" y="240"/>
                  <a:pt x="992" y="135"/>
                  <a:pt x="1086" y="198"/>
                </a:cubicBezTo>
                <a:cubicBezTo>
                  <a:pt x="1143" y="236"/>
                  <a:pt x="1154" y="300"/>
                  <a:pt x="1218" y="329"/>
                </a:cubicBezTo>
                <a:cubicBezTo>
                  <a:pt x="1404" y="412"/>
                  <a:pt x="1534" y="411"/>
                  <a:pt x="1745" y="4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743200" y="2895480"/>
            <a:ext cx="2900520" cy="946440"/>
          </a:xfrm>
          <a:custGeom>
            <a:avLst/>
            <a:gdLst/>
            <a:ahLst/>
            <a:rect l="l" t="t" r="r" b="b"/>
            <a:pathLst>
              <a:path w="1827" h="596">
                <a:moveTo>
                  <a:pt x="0" y="317"/>
                </a:moveTo>
                <a:cubicBezTo>
                  <a:pt x="11" y="300"/>
                  <a:pt x="20" y="282"/>
                  <a:pt x="33" y="267"/>
                </a:cubicBezTo>
                <a:cubicBezTo>
                  <a:pt x="48" y="249"/>
                  <a:pt x="69" y="237"/>
                  <a:pt x="82" y="218"/>
                </a:cubicBezTo>
                <a:cubicBezTo>
                  <a:pt x="146" y="122"/>
                  <a:pt x="39" y="208"/>
                  <a:pt x="148" y="135"/>
                </a:cubicBezTo>
                <a:cubicBezTo>
                  <a:pt x="194" y="66"/>
                  <a:pt x="252" y="29"/>
                  <a:pt x="329" y="4"/>
                </a:cubicBezTo>
                <a:cubicBezTo>
                  <a:pt x="586" y="15"/>
                  <a:pt x="639" y="0"/>
                  <a:pt x="823" y="53"/>
                </a:cubicBezTo>
                <a:cubicBezTo>
                  <a:pt x="895" y="74"/>
                  <a:pt x="891" y="82"/>
                  <a:pt x="971" y="135"/>
                </a:cubicBezTo>
                <a:cubicBezTo>
                  <a:pt x="987" y="146"/>
                  <a:pt x="1020" y="168"/>
                  <a:pt x="1020" y="168"/>
                </a:cubicBezTo>
                <a:cubicBezTo>
                  <a:pt x="1043" y="235"/>
                  <a:pt x="1078" y="261"/>
                  <a:pt x="1136" y="300"/>
                </a:cubicBezTo>
                <a:cubicBezTo>
                  <a:pt x="1166" y="393"/>
                  <a:pt x="1140" y="337"/>
                  <a:pt x="1251" y="448"/>
                </a:cubicBezTo>
                <a:cubicBezTo>
                  <a:pt x="1265" y="462"/>
                  <a:pt x="1268" y="485"/>
                  <a:pt x="1284" y="498"/>
                </a:cubicBezTo>
                <a:cubicBezTo>
                  <a:pt x="1297" y="509"/>
                  <a:pt x="1316" y="510"/>
                  <a:pt x="1333" y="514"/>
                </a:cubicBezTo>
                <a:cubicBezTo>
                  <a:pt x="1377" y="526"/>
                  <a:pt x="1421" y="536"/>
                  <a:pt x="1465" y="547"/>
                </a:cubicBezTo>
                <a:cubicBezTo>
                  <a:pt x="1592" y="579"/>
                  <a:pt x="1687" y="596"/>
                  <a:pt x="1827" y="5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114800" y="2438280"/>
            <a:ext cx="3500280" cy="1073160"/>
          </a:xfrm>
          <a:custGeom>
            <a:avLst/>
            <a:gdLst/>
            <a:ahLst/>
            <a:rect l="l" t="t" r="r" b="b"/>
            <a:pathLst>
              <a:path w="2205" h="676">
                <a:moveTo>
                  <a:pt x="0" y="378"/>
                </a:moveTo>
                <a:cubicBezTo>
                  <a:pt x="65" y="346"/>
                  <a:pt x="105" y="302"/>
                  <a:pt x="165" y="263"/>
                </a:cubicBezTo>
                <a:cubicBezTo>
                  <a:pt x="220" y="180"/>
                  <a:pt x="252" y="142"/>
                  <a:pt x="329" y="82"/>
                </a:cubicBezTo>
                <a:cubicBezTo>
                  <a:pt x="360" y="58"/>
                  <a:pt x="389" y="21"/>
                  <a:pt x="428" y="16"/>
                </a:cubicBezTo>
                <a:cubicBezTo>
                  <a:pt x="466" y="11"/>
                  <a:pt x="505" y="5"/>
                  <a:pt x="543" y="0"/>
                </a:cubicBezTo>
                <a:cubicBezTo>
                  <a:pt x="614" y="5"/>
                  <a:pt x="686" y="7"/>
                  <a:pt x="757" y="16"/>
                </a:cubicBezTo>
                <a:cubicBezTo>
                  <a:pt x="808" y="22"/>
                  <a:pt x="932" y="98"/>
                  <a:pt x="971" y="131"/>
                </a:cubicBezTo>
                <a:cubicBezTo>
                  <a:pt x="989" y="146"/>
                  <a:pt x="1001" y="168"/>
                  <a:pt x="1021" y="181"/>
                </a:cubicBezTo>
                <a:cubicBezTo>
                  <a:pt x="1218" y="313"/>
                  <a:pt x="876" y="35"/>
                  <a:pt x="1136" y="230"/>
                </a:cubicBezTo>
                <a:cubicBezTo>
                  <a:pt x="1161" y="249"/>
                  <a:pt x="1178" y="276"/>
                  <a:pt x="1202" y="296"/>
                </a:cubicBezTo>
                <a:cubicBezTo>
                  <a:pt x="1217" y="309"/>
                  <a:pt x="1235" y="318"/>
                  <a:pt x="1251" y="329"/>
                </a:cubicBezTo>
                <a:cubicBezTo>
                  <a:pt x="1315" y="424"/>
                  <a:pt x="1388" y="481"/>
                  <a:pt x="1481" y="543"/>
                </a:cubicBezTo>
                <a:cubicBezTo>
                  <a:pt x="1514" y="565"/>
                  <a:pt x="1542" y="596"/>
                  <a:pt x="1580" y="609"/>
                </a:cubicBezTo>
                <a:cubicBezTo>
                  <a:pt x="1782" y="676"/>
                  <a:pt x="1994" y="674"/>
                  <a:pt x="2205" y="6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679400" y="1447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ent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373040" y="42670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n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203280" y="4267080"/>
            <a:ext cx="13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258880" y="4267080"/>
            <a:ext cx="126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241400" y="42670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8003160" y="3503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1371600" y="16761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5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2436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8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2439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2440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2441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41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7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8" name=""/>
          <p:cNvSpPr/>
          <p:nvPr/>
        </p:nvSpPr>
        <p:spPr>
          <a:xfrm>
            <a:off x="5799240" y="2090880"/>
            <a:ext cx="2195280" cy="599760"/>
          </a:xfrm>
          <a:custGeom>
            <a:avLst/>
            <a:gdLst/>
            <a:ahLst/>
            <a:rect l="l" t="t" r="r" b="b"/>
            <a:pathLst>
              <a:path w="1383" h="378">
                <a:moveTo>
                  <a:pt x="0" y="378"/>
                </a:moveTo>
                <a:cubicBezTo>
                  <a:pt x="58" y="292"/>
                  <a:pt x="145" y="222"/>
                  <a:pt x="231" y="164"/>
                </a:cubicBezTo>
                <a:cubicBezTo>
                  <a:pt x="340" y="2"/>
                  <a:pt x="550" y="24"/>
                  <a:pt x="725" y="0"/>
                </a:cubicBezTo>
                <a:cubicBezTo>
                  <a:pt x="851" y="5"/>
                  <a:pt x="978" y="3"/>
                  <a:pt x="1103" y="16"/>
                </a:cubicBezTo>
                <a:cubicBezTo>
                  <a:pt x="1199" y="26"/>
                  <a:pt x="1285" y="98"/>
                  <a:pt x="1383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1905120" y="3657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3657600" y="3429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flipV="1">
            <a:off x="5715000" y="327636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H="1" flipV="1">
            <a:off x="7391160" y="2971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FCE-8348-44F9-82E1-C75EDC305E6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EC83A-927B-4183-B8CB-BF6398C54D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976320" y="5985000"/>
            <a:ext cx="3330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4" name=""/>
          <p:cNvGrpSpPr/>
          <p:nvPr/>
        </p:nvGrpSpPr>
        <p:grpSpPr>
          <a:xfrm>
            <a:off x="1219320" y="533520"/>
            <a:ext cx="6476760" cy="4914720"/>
            <a:chOff x="1219320" y="533520"/>
            <a:chExt cx="6476760" cy="4914720"/>
          </a:xfrm>
        </p:grpSpPr>
        <p:pic>
          <p:nvPicPr>
            <p:cNvPr id="2705" name="" descr=""/>
            <p:cNvPicPr/>
            <p:nvPr/>
          </p:nvPicPr>
          <p:blipFill>
            <a:blip r:embed="rId1"/>
            <a:stretch/>
          </p:blipFill>
          <p:spPr>
            <a:xfrm>
              <a:off x="1219320" y="1828800"/>
              <a:ext cx="5081400" cy="36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6" name=""/>
            <p:cNvSpPr/>
            <p:nvPr/>
          </p:nvSpPr>
          <p:spPr>
            <a:xfrm>
              <a:off x="3733920" y="2895480"/>
              <a:ext cx="15228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>
              <a:off x="3886200" y="281916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5257800" y="1447920"/>
              <a:ext cx="2438280" cy="2590560"/>
              <a:chOff x="5257800" y="1447920"/>
              <a:chExt cx="2438280" cy="2590560"/>
            </a:xfrm>
          </p:grpSpPr>
          <p:sp>
            <p:nvSpPr>
              <p:cNvPr id="2709" name=""/>
              <p:cNvSpPr/>
              <p:nvPr/>
            </p:nvSpPr>
            <p:spPr>
              <a:xfrm>
                <a:off x="5257800" y="1447920"/>
                <a:ext cx="2438280" cy="259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710" name=""/>
              <p:cNvGraphicFramePr/>
              <p:nvPr/>
            </p:nvGraphicFramePr>
            <p:xfrm>
              <a:off x="5486400" y="1600200"/>
              <a:ext cx="1876320" cy="2362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71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486400" y="1600200"/>
                        <a:ext cx="1876320" cy="236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712" name=""/>
            <p:cNvSpPr/>
            <p:nvPr/>
          </p:nvSpPr>
          <p:spPr>
            <a:xfrm>
              <a:off x="5486400" y="312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135160" y="533520"/>
              <a:ext cx="49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Arial"/>
                </a:rPr>
                <a:t>Stockholm reg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4" name=""/>
          <p:cNvGrpSpPr/>
          <p:nvPr/>
        </p:nvGrpSpPr>
        <p:grpSpPr>
          <a:xfrm>
            <a:off x="287280" y="6384960"/>
            <a:ext cx="8647200" cy="304920"/>
            <a:chOff x="287280" y="6384960"/>
            <a:chExt cx="8647200" cy="304920"/>
          </a:xfrm>
        </p:grpSpPr>
        <p:grpSp>
          <p:nvGrpSpPr>
            <p:cNvPr id="2715" name=""/>
            <p:cNvGrpSpPr/>
            <p:nvPr/>
          </p:nvGrpSpPr>
          <p:grpSpPr>
            <a:xfrm>
              <a:off x="287280" y="6537240"/>
              <a:ext cx="8341920" cy="75960"/>
              <a:chOff x="287280" y="6537240"/>
              <a:chExt cx="8341920" cy="75960"/>
            </a:xfrm>
          </p:grpSpPr>
          <p:grpSp>
            <p:nvGrpSpPr>
              <p:cNvPr id="2716" name=""/>
              <p:cNvGrpSpPr/>
              <p:nvPr/>
            </p:nvGrpSpPr>
            <p:grpSpPr>
              <a:xfrm>
                <a:off x="287280" y="6537240"/>
                <a:ext cx="7260480" cy="75600"/>
                <a:chOff x="287280" y="6537240"/>
                <a:chExt cx="7260480" cy="7560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287280" y="6537240"/>
                  <a:ext cx="58680" cy="75600"/>
                </a:xfrm>
                <a:prstGeom prst="rect">
                  <a:avLst/>
                </a:prstGeom>
                <a:solidFill>
                  <a:srgbClr val="4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345960" y="6537240"/>
                  <a:ext cx="59040" cy="75600"/>
                </a:xfrm>
                <a:prstGeom prst="rect">
                  <a:avLst/>
                </a:prstGeom>
                <a:solidFill>
                  <a:srgbClr val="53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405360" y="6537240"/>
                  <a:ext cx="56880" cy="75600"/>
                </a:xfrm>
                <a:prstGeom prst="rect">
                  <a:avLst/>
                </a:prstGeom>
                <a:solidFill>
                  <a:srgbClr val="57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462600" y="6537240"/>
                  <a:ext cx="58680" cy="75600"/>
                </a:xfrm>
                <a:prstGeom prst="rect">
                  <a:avLst/>
                </a:prstGeom>
                <a:solidFill>
                  <a:srgbClr val="5b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521640" y="6537240"/>
                  <a:ext cx="56880" cy="75600"/>
                </a:xfrm>
                <a:prstGeom prst="rect">
                  <a:avLst/>
                </a:prstGeom>
                <a:solidFill>
                  <a:srgbClr val="5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578880" y="6537240"/>
                  <a:ext cx="58680" cy="75600"/>
                </a:xfrm>
                <a:prstGeom prst="rect">
                  <a:avLst/>
                </a:prstGeom>
                <a:solidFill>
                  <a:srgbClr val="63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37560" y="6537240"/>
                  <a:ext cx="58680" cy="75600"/>
                </a:xfrm>
                <a:prstGeom prst="rect">
                  <a:avLst/>
                </a:prstGeom>
                <a:solidFill>
                  <a:srgbClr val="68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96600" y="6537240"/>
                  <a:ext cx="59040" cy="75600"/>
                </a:xfrm>
                <a:prstGeom prst="rect">
                  <a:avLst/>
                </a:prstGeom>
                <a:solidFill>
                  <a:srgbClr val="6c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756000" y="6537240"/>
                  <a:ext cx="58680" cy="75600"/>
                </a:xfrm>
                <a:prstGeom prst="rect">
                  <a:avLst/>
                </a:prstGeom>
                <a:solidFill>
                  <a:srgbClr val="70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815040" y="6537240"/>
                  <a:ext cx="58680" cy="75600"/>
                </a:xfrm>
                <a:prstGeom prst="rect">
                  <a:avLst/>
                </a:prstGeom>
                <a:solidFill>
                  <a:srgbClr val="74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873720" y="6537240"/>
                  <a:ext cx="59040" cy="75600"/>
                </a:xfrm>
                <a:prstGeom prst="rect">
                  <a:avLst/>
                </a:prstGeom>
                <a:solidFill>
                  <a:srgbClr val="78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933120" y="6537240"/>
                  <a:ext cx="56520" cy="75600"/>
                </a:xfrm>
                <a:prstGeom prst="rect">
                  <a:avLst/>
                </a:prstGeom>
                <a:solidFill>
                  <a:srgbClr val="7c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990000" y="6537240"/>
                  <a:ext cx="59040" cy="75600"/>
                </a:xfrm>
                <a:prstGeom prst="rect">
                  <a:avLst/>
                </a:prstGeom>
                <a:solidFill>
                  <a:srgbClr val="81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1049400" y="6537240"/>
                  <a:ext cx="58680" cy="75600"/>
                </a:xfrm>
                <a:prstGeom prst="rect">
                  <a:avLst/>
                </a:prstGeom>
                <a:solidFill>
                  <a:srgbClr val="85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1108440" y="6537240"/>
                  <a:ext cx="58680" cy="75600"/>
                </a:xfrm>
                <a:prstGeom prst="rect">
                  <a:avLst/>
                </a:prstGeom>
                <a:solidFill>
                  <a:srgbClr val="89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1167120" y="6537240"/>
                  <a:ext cx="59040" cy="75600"/>
                </a:xfrm>
                <a:prstGeom prst="rect">
                  <a:avLst/>
                </a:prstGeom>
                <a:solidFill>
                  <a:srgbClr val="8d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1226520" y="6537240"/>
                  <a:ext cx="56520" cy="75600"/>
                </a:xfrm>
                <a:prstGeom prst="rect">
                  <a:avLst/>
                </a:prstGeom>
                <a:solidFill>
                  <a:srgbClr val="9106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1283400" y="6537240"/>
                  <a:ext cx="59040" cy="75600"/>
                </a:xfrm>
                <a:prstGeom prst="rect">
                  <a:avLst/>
                </a:prstGeom>
                <a:solidFill>
                  <a:srgbClr val="96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1342800" y="6537240"/>
                  <a:ext cx="56880" cy="75600"/>
                </a:xfrm>
                <a:prstGeom prst="rect">
                  <a:avLst/>
                </a:prstGeom>
                <a:solidFill>
                  <a:srgbClr val="9a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1400040" y="6537240"/>
                  <a:ext cx="58680" cy="75600"/>
                </a:xfrm>
                <a:prstGeom prst="rect">
                  <a:avLst/>
                </a:prstGeom>
                <a:solidFill>
                  <a:srgbClr val="9e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1458720" y="6537240"/>
                  <a:ext cx="58680" cy="75600"/>
                </a:xfrm>
                <a:prstGeom prst="rect">
                  <a:avLst/>
                </a:prstGeom>
                <a:solidFill>
                  <a:srgbClr val="a2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1517760" y="6537240"/>
                  <a:ext cx="59040" cy="75600"/>
                </a:xfrm>
                <a:prstGeom prst="rect">
                  <a:avLst/>
                </a:prstGeom>
                <a:solidFill>
                  <a:srgbClr val="a6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1577160" y="6537240"/>
                  <a:ext cx="58680" cy="75600"/>
                </a:xfrm>
                <a:prstGeom prst="rect">
                  <a:avLst/>
                </a:prstGeom>
                <a:solidFill>
                  <a:srgbClr val="aa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1636200" y="6537240"/>
                  <a:ext cx="58680" cy="75600"/>
                </a:xfrm>
                <a:prstGeom prst="rect">
                  <a:avLst/>
                </a:prstGeom>
                <a:solidFill>
                  <a:srgbClr val="af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1695240" y="6537240"/>
                  <a:ext cx="58680" cy="75600"/>
                </a:xfrm>
                <a:prstGeom prst="rect">
                  <a:avLst/>
                </a:prstGeom>
                <a:solidFill>
                  <a:srgbClr val="b3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1753920" y="6537240"/>
                  <a:ext cx="59040" cy="75600"/>
                </a:xfrm>
                <a:prstGeom prst="rect">
                  <a:avLst/>
                </a:prstGeom>
                <a:solidFill>
                  <a:srgbClr val="b7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1813320" y="6537240"/>
                  <a:ext cx="56880" cy="75600"/>
                </a:xfrm>
                <a:prstGeom prst="rect">
                  <a:avLst/>
                </a:prstGeom>
                <a:solidFill>
                  <a:srgbClr val="bb04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1870560" y="6537240"/>
                  <a:ext cx="58680" cy="75600"/>
                </a:xfrm>
                <a:prstGeom prst="rect">
                  <a:avLst/>
                </a:prstGeom>
                <a:solidFill>
                  <a:srgbClr val="bf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1929600" y="6537240"/>
                  <a:ext cx="58680" cy="75600"/>
                </a:xfrm>
                <a:prstGeom prst="rect">
                  <a:avLst/>
                </a:prstGeom>
                <a:solidFill>
                  <a:srgbClr val="c3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1988640" y="6537240"/>
                  <a:ext cx="58680" cy="75600"/>
                </a:xfrm>
                <a:prstGeom prst="rect">
                  <a:avLst/>
                </a:prstGeom>
                <a:solidFill>
                  <a:srgbClr val="c8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2047320" y="6537240"/>
                  <a:ext cx="56880" cy="75600"/>
                </a:xfrm>
                <a:prstGeom prst="rect">
                  <a:avLst/>
                </a:prstGeom>
                <a:solidFill>
                  <a:srgbClr val="cc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2104560" y="6537240"/>
                  <a:ext cx="59040" cy="75600"/>
                </a:xfrm>
                <a:prstGeom prst="rect">
                  <a:avLst/>
                </a:prstGeom>
                <a:solidFill>
                  <a:srgbClr val="d0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2163960" y="6537240"/>
                  <a:ext cx="58680" cy="75600"/>
                </a:xfrm>
                <a:prstGeom prst="rect">
                  <a:avLst/>
                </a:prstGeom>
                <a:solidFill>
                  <a:srgbClr val="d4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2223000" y="6537240"/>
                  <a:ext cx="58680" cy="75600"/>
                </a:xfrm>
                <a:prstGeom prst="rect">
                  <a:avLst/>
                </a:prstGeom>
                <a:solidFill>
                  <a:srgbClr val="d8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2282040" y="6537240"/>
                  <a:ext cx="56880" cy="75600"/>
                </a:xfrm>
                <a:prstGeom prst="rect">
                  <a:avLst/>
                </a:prstGeom>
                <a:solidFill>
                  <a:srgbClr val="dc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2338920" y="6537240"/>
                  <a:ext cx="58680" cy="75600"/>
                </a:xfrm>
                <a:prstGeom prst="rect">
                  <a:avLst/>
                </a:prstGeom>
                <a:solidFill>
                  <a:srgbClr val="e1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2397960" y="6537240"/>
                  <a:ext cx="59040" cy="75600"/>
                </a:xfrm>
                <a:prstGeom prst="rect">
                  <a:avLst/>
                </a:prstGeom>
                <a:solidFill>
                  <a:srgbClr val="e5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2457360" y="6537240"/>
                  <a:ext cx="58680" cy="75600"/>
                </a:xfrm>
                <a:prstGeom prst="rect">
                  <a:avLst/>
                </a:prstGeom>
                <a:solidFill>
                  <a:srgbClr val="e9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2516400" y="6537240"/>
                  <a:ext cx="58680" cy="75600"/>
                </a:xfrm>
                <a:prstGeom prst="rect">
                  <a:avLst/>
                </a:prstGeom>
                <a:solidFill>
                  <a:srgbClr val="ed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2575440" y="6537240"/>
                  <a:ext cx="59040" cy="75600"/>
                </a:xfrm>
                <a:prstGeom prst="rect">
                  <a:avLst/>
                </a:prstGeom>
                <a:solidFill>
                  <a:srgbClr val="f1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2634840" y="6537240"/>
                  <a:ext cx="58680" cy="75600"/>
                </a:xfrm>
                <a:prstGeom prst="rect">
                  <a:avLst/>
                </a:prstGeom>
                <a:solidFill>
                  <a:srgbClr val="f6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2693520" y="6537240"/>
                  <a:ext cx="56880" cy="75600"/>
                </a:xfrm>
                <a:prstGeom prst="rect">
                  <a:avLst/>
                </a:prstGeom>
                <a:solidFill>
                  <a:srgbClr val="fa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2750760" y="6537240"/>
                  <a:ext cx="58680" cy="75600"/>
                </a:xfrm>
                <a:prstGeom prst="rect">
                  <a:avLst/>
                </a:prstGeom>
                <a:solidFill>
                  <a:srgbClr val="fe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2809800" y="6537240"/>
                  <a:ext cx="56880" cy="75600"/>
                </a:xfrm>
                <a:prstGeom prst="rect">
                  <a:avLst/>
                </a:prstGeom>
                <a:solidFill>
                  <a:srgbClr val="ff0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2867040" y="6537240"/>
                  <a:ext cx="58680" cy="75600"/>
                </a:xfrm>
                <a:prstGeom prst="rect">
                  <a:avLst/>
                </a:prstGeom>
                <a:solidFill>
                  <a:srgbClr val="ff0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2925720" y="6537240"/>
                  <a:ext cx="58680" cy="75600"/>
                </a:xfrm>
                <a:prstGeom prst="rect">
                  <a:avLst/>
                </a:prstGeom>
                <a:solidFill>
                  <a:srgbClr val="ff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2984760" y="6537240"/>
                  <a:ext cx="59040" cy="75600"/>
                </a:xfrm>
                <a:prstGeom prst="rect">
                  <a:avLst/>
                </a:prstGeom>
                <a:solidFill>
                  <a:srgbClr val="f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3044160" y="6537240"/>
                  <a:ext cx="58680" cy="75600"/>
                </a:xfrm>
                <a:prstGeom prst="rect">
                  <a:avLst/>
                </a:prstGeom>
                <a:solidFill>
                  <a:srgbClr val="ff1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3103200" y="6537240"/>
                  <a:ext cx="58680" cy="75600"/>
                </a:xfrm>
                <a:prstGeom prst="rect">
                  <a:avLst/>
                </a:prstGeom>
                <a:solidFill>
                  <a:srgbClr val="ff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3162240" y="6537240"/>
                  <a:ext cx="56880" cy="75600"/>
                </a:xfrm>
                <a:prstGeom prst="rect">
                  <a:avLst/>
                </a:pr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3219120" y="6537240"/>
                  <a:ext cx="59040" cy="75600"/>
                </a:xfrm>
                <a:prstGeom prst="rect">
                  <a:avLst/>
                </a:prstGeom>
                <a:solidFill>
                  <a:srgbClr val="ff1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3278520" y="6537240"/>
                  <a:ext cx="58680" cy="75600"/>
                </a:xfrm>
                <a:prstGeom prst="rect">
                  <a:avLst/>
                </a:prstGeom>
                <a:solidFill>
                  <a:srgbClr val="ff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3337560" y="6537240"/>
                  <a:ext cx="58680" cy="75600"/>
                </a:xfrm>
                <a:prstGeom prst="rect">
                  <a:avLst/>
                </a:prstGeom>
                <a:solidFill>
                  <a:srgbClr val="ff2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396600" y="6537240"/>
                  <a:ext cx="58680" cy="75600"/>
                </a:xfrm>
                <a:prstGeom prst="rect">
                  <a:avLst/>
                </a:prstGeom>
                <a:solidFill>
                  <a:srgbClr val="ff2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3455640" y="6537240"/>
                  <a:ext cx="59040" cy="75600"/>
                </a:xfrm>
                <a:prstGeom prst="rect">
                  <a:avLst/>
                </a:prstGeom>
                <a:solidFill>
                  <a:srgbClr val="ff2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3515040" y="6537240"/>
                  <a:ext cx="58680" cy="75600"/>
                </a:xfrm>
                <a:prstGeom prst="rect">
                  <a:avLst/>
                </a:prstGeom>
                <a:solidFill>
                  <a:srgbClr val="ff2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3573720" y="6537240"/>
                  <a:ext cx="56880" cy="75600"/>
                </a:xfrm>
                <a:prstGeom prst="rect">
                  <a:avLst/>
                </a:prstGeom>
                <a:solidFill>
                  <a:srgbClr val="ff3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3630960" y="6537240"/>
                  <a:ext cx="56880" cy="75600"/>
                </a:xfrm>
                <a:prstGeom prst="rect">
                  <a:avLst/>
                </a:prstGeom>
                <a:solidFill>
                  <a:srgbClr val="ff3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3688200" y="6537240"/>
                  <a:ext cx="58680" cy="75600"/>
                </a:xfrm>
                <a:prstGeom prst="rect">
                  <a:avLst/>
                </a:prstGeom>
                <a:solidFill>
                  <a:srgbClr val="ff3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3747240" y="6537240"/>
                  <a:ext cx="58680" cy="75600"/>
                </a:xfrm>
                <a:prstGeom prst="rect">
                  <a:avLst/>
                </a:prstGeom>
                <a:solidFill>
                  <a:srgbClr val="ff3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3805920" y="6537240"/>
                  <a:ext cx="59040" cy="75600"/>
                </a:xfrm>
                <a:prstGeom prst="rect">
                  <a:avLst/>
                </a:prstGeom>
                <a:solidFill>
                  <a:srgbClr val="ff3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3865320" y="6537240"/>
                  <a:ext cx="58680" cy="75600"/>
                </a:xfrm>
                <a:prstGeom prst="rect">
                  <a:avLst/>
                </a:prstGeom>
                <a:solidFill>
                  <a:srgbClr val="f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3924360" y="6537240"/>
                  <a:ext cx="58680" cy="75600"/>
                </a:xfrm>
                <a:prstGeom prst="rect">
                  <a:avLst/>
                </a:prstGeom>
                <a:solidFill>
                  <a:srgbClr val="ff4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3983400" y="6537240"/>
                  <a:ext cx="58680" cy="75600"/>
                </a:xfrm>
                <a:prstGeom prst="rect">
                  <a:avLst/>
                </a:prstGeo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4042440" y="6537240"/>
                  <a:ext cx="31680" cy="75600"/>
                </a:xfrm>
                <a:prstGeom prst="rect">
                  <a:avLst/>
                </a:prstGeom>
                <a:solidFill>
                  <a:srgbClr val="ff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4074120" y="6537240"/>
                  <a:ext cx="31680" cy="75600"/>
                </a:xfrm>
                <a:prstGeom prst="rect">
                  <a:avLst/>
                </a:prstGeom>
                <a:solidFill>
                  <a:srgbClr val="ff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4105800" y="6537240"/>
                  <a:ext cx="33480" cy="75600"/>
                </a:xfrm>
                <a:prstGeom prst="rect">
                  <a:avLst/>
                </a:prstGeom>
                <a:solidFill>
                  <a:srgbClr val="ff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4139280" y="6537240"/>
                  <a:ext cx="33480" cy="75600"/>
                </a:xfrm>
                <a:prstGeom prst="rect">
                  <a:avLst/>
                </a:prstGeom>
                <a:solidFill>
                  <a:srgbClr val="ff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4172760" y="6537240"/>
                  <a:ext cx="33480" cy="75600"/>
                </a:xfrm>
                <a:prstGeom prst="rect">
                  <a:avLst/>
                </a:prstGeom>
                <a:solidFill>
                  <a:srgbClr val="f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4206240" y="6537240"/>
                  <a:ext cx="29160" cy="75600"/>
                </a:xfrm>
                <a:prstGeom prst="rect">
                  <a:avLst/>
                </a:prstGeom>
                <a:solidFill>
                  <a:srgbClr val="ff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4235760" y="6537240"/>
                  <a:ext cx="33480" cy="75600"/>
                </a:xfrm>
                <a:prstGeom prst="rect">
                  <a:avLst/>
                </a:prstGeom>
                <a:solidFill>
                  <a:srgbClr val="ff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4269240" y="6537240"/>
                  <a:ext cx="33480" cy="75600"/>
                </a:xfrm>
                <a:prstGeom prst="rect">
                  <a:avLst/>
                </a:prstGeom>
                <a:solidFill>
                  <a:srgbClr val="ff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4302720" y="6537240"/>
                  <a:ext cx="33480" cy="75600"/>
                </a:xfrm>
                <a:prstGeom prst="rect">
                  <a:avLst/>
                </a:prstGeom>
                <a:solidFill>
                  <a:srgbClr val="ff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4336200" y="6537240"/>
                  <a:ext cx="30960" cy="75600"/>
                </a:xfrm>
                <a:prstGeom prst="rect">
                  <a:avLst/>
                </a:prstGeom>
                <a:solidFill>
                  <a:srgbClr val="ff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4367520" y="6537240"/>
                  <a:ext cx="31680" cy="75600"/>
                </a:xfrm>
                <a:prstGeom prst="rect">
                  <a:avLst/>
                </a:prstGeom>
                <a:solidFill>
                  <a:srgbClr val="ff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4399200" y="6537240"/>
                  <a:ext cx="33480" cy="75600"/>
                </a:xfrm>
                <a:prstGeom prst="rect">
                  <a:avLst/>
                </a:pr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4432680" y="6537240"/>
                  <a:ext cx="33480" cy="75600"/>
                </a:xfrm>
                <a:prstGeom prst="rect">
                  <a:avLst/>
                </a:prstGeom>
                <a:solidFill>
                  <a:srgbClr val="ff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4466160" y="6537240"/>
                  <a:ext cx="30960" cy="75600"/>
                </a:xfrm>
                <a:prstGeom prst="rect">
                  <a:avLst/>
                </a:prstGeom>
                <a:solidFill>
                  <a:srgbClr val="ff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497480" y="6537240"/>
                  <a:ext cx="33480" cy="75600"/>
                </a:xfrm>
                <a:prstGeom prst="rect">
                  <a:avLst/>
                </a:prstGeom>
                <a:solidFill>
                  <a:srgbClr val="ff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4530960" y="6537240"/>
                  <a:ext cx="31680" cy="75600"/>
                </a:xfrm>
                <a:prstGeom prst="rect">
                  <a:avLst/>
                </a:prstGeom>
                <a:solidFill>
                  <a:srgbClr val="ff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4562640" y="6537240"/>
                  <a:ext cx="33480" cy="75600"/>
                </a:xfrm>
                <a:prstGeom prst="rect">
                  <a:avLst/>
                </a:prstGeom>
                <a:solidFill>
                  <a:srgbClr val="ff6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596120" y="6537240"/>
                  <a:ext cx="30960" cy="75600"/>
                </a:xfrm>
                <a:prstGeom prst="rect">
                  <a:avLst/>
                </a:prstGeom>
                <a:solidFill>
                  <a:srgbClr val="ff6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4627440" y="6537240"/>
                  <a:ext cx="33480" cy="75600"/>
                </a:xfrm>
                <a:prstGeom prst="rect">
                  <a:avLst/>
                </a:prstGeom>
                <a:solidFill>
                  <a:srgbClr val="ff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4660920" y="6537240"/>
                  <a:ext cx="33480" cy="75600"/>
                </a:xfrm>
                <a:prstGeom prst="rect">
                  <a:avLst/>
                </a:prstGeo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4694400" y="6537240"/>
                  <a:ext cx="31680" cy="75600"/>
                </a:xfrm>
                <a:prstGeom prst="rect">
                  <a:avLst/>
                </a:prstGeom>
                <a:solidFill>
                  <a:srgbClr val="ff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4726080" y="6537240"/>
                  <a:ext cx="30960" cy="75600"/>
                </a:xfrm>
                <a:prstGeom prst="rect">
                  <a:avLst/>
                </a:prstGeom>
                <a:solidFill>
                  <a:srgbClr val="ff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4757400" y="6537240"/>
                  <a:ext cx="33480" cy="75600"/>
                </a:xfrm>
                <a:prstGeom prst="rect">
                  <a:avLst/>
                </a:prstGeom>
                <a:solidFill>
                  <a:srgbClr val="ff7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4790880" y="6537240"/>
                  <a:ext cx="33480" cy="75600"/>
                </a:xfrm>
                <a:prstGeom prst="rect">
                  <a:avLst/>
                </a:prstGeom>
                <a:solidFill>
                  <a:srgbClr val="ff7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4824360" y="6537240"/>
                  <a:ext cx="31680" cy="75600"/>
                </a:xfrm>
                <a:prstGeom prst="rect">
                  <a:avLst/>
                </a:prstGeom>
                <a:solidFill>
                  <a:srgbClr val="f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4856040" y="6537240"/>
                  <a:ext cx="33480" cy="75600"/>
                </a:xfrm>
                <a:prstGeom prst="rect">
                  <a:avLst/>
                </a:prstGeom>
                <a:solidFill>
                  <a:srgbClr val="ff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4889520" y="6537240"/>
                  <a:ext cx="30960" cy="75600"/>
                </a:xfrm>
                <a:prstGeom prst="rect">
                  <a:avLst/>
                </a:prstGeom>
                <a:solidFill>
                  <a:srgbClr val="ff7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4920840" y="6537240"/>
                  <a:ext cx="33480" cy="75600"/>
                </a:xfrm>
                <a:prstGeom prst="rect">
                  <a:avLst/>
                </a:prstGeom>
                <a:solidFill>
                  <a:srgbClr val="ff7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4954320" y="6537240"/>
                  <a:ext cx="31680" cy="75600"/>
                </a:xfrm>
                <a:prstGeom prst="rect">
                  <a:avLst/>
                </a:prstGeom>
                <a:solidFill>
                  <a:srgbClr val="ff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4986000" y="6537240"/>
                  <a:ext cx="33480" cy="75600"/>
                </a:xfrm>
                <a:prstGeom prst="rect">
                  <a:avLst/>
                </a:prstGeom>
                <a:solidFill>
                  <a:srgbClr val="ff7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5019480" y="6537240"/>
                  <a:ext cx="33480" cy="75600"/>
                </a:xfrm>
                <a:prstGeom prst="rect">
                  <a:avLst/>
                </a:pr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5052960" y="6537240"/>
                  <a:ext cx="30960" cy="7560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5084280" y="6537240"/>
                  <a:ext cx="31680" cy="75600"/>
                </a:xfrm>
                <a:prstGeom prst="rect">
                  <a:avLst/>
                </a:prstGeom>
                <a:solidFill>
                  <a:srgbClr val="ff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5115960" y="6537240"/>
                  <a:ext cx="33480" cy="75600"/>
                </a:xfrm>
                <a:prstGeom prst="rect">
                  <a:avLst/>
                </a:prstGeom>
                <a:solidFill>
                  <a:srgbClr val="ff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5149440" y="6537240"/>
                  <a:ext cx="33480" cy="75600"/>
                </a:xfrm>
                <a:prstGeom prst="rect">
                  <a:avLst/>
                </a:prstGeom>
                <a:solidFill>
                  <a:srgbClr val="ff8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5182920" y="6537240"/>
                  <a:ext cx="30960" cy="75600"/>
                </a:xfrm>
                <a:prstGeom prst="rect">
                  <a:avLst/>
                </a:prstGeom>
                <a:solidFill>
                  <a:srgbClr val="ff8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5214240" y="6537240"/>
                  <a:ext cx="31680" cy="75600"/>
                </a:xfrm>
                <a:prstGeom prst="rect">
                  <a:avLst/>
                </a:prstGeom>
                <a:solidFill>
                  <a:srgbClr val="ff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5245920" y="6537240"/>
                  <a:ext cx="33480" cy="75600"/>
                </a:xfrm>
                <a:prstGeom prst="rect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5279400" y="6537240"/>
                  <a:ext cx="33480" cy="75600"/>
                </a:xfrm>
                <a:prstGeom prst="rect">
                  <a:avLst/>
                </a:prstGeom>
                <a:solidFill>
                  <a:srgbClr val="ff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5312880" y="6537240"/>
                  <a:ext cx="30960" cy="75600"/>
                </a:xfrm>
                <a:prstGeom prst="rect">
                  <a:avLst/>
                </a:prstGeom>
                <a:solidFill>
                  <a:srgbClr val="ff8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5344200" y="6537240"/>
                  <a:ext cx="33480" cy="75600"/>
                </a:xfrm>
                <a:prstGeom prst="rect">
                  <a:avLst/>
                </a:prstGeom>
                <a:solidFill>
                  <a:srgbClr val="ff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5377680" y="6537240"/>
                  <a:ext cx="33480" cy="75600"/>
                </a:xfrm>
                <a:prstGeom prst="rect">
                  <a:avLst/>
                </a:prstGeom>
                <a:solidFill>
                  <a:srgbClr val="ff8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5411160" y="6537240"/>
                  <a:ext cx="31680" cy="75600"/>
                </a:xfrm>
                <a:prstGeom prst="rect">
                  <a:avLst/>
                </a:prstGeom>
                <a:solidFill>
                  <a:srgbClr val="ff8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5442840" y="6537240"/>
                  <a:ext cx="30960" cy="7560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5474160" y="6537240"/>
                  <a:ext cx="33480" cy="75600"/>
                </a:xfrm>
                <a:prstGeom prst="rect">
                  <a:avLst/>
                </a:prstGeom>
                <a:solidFill>
                  <a:srgbClr val="ff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5507640" y="6537240"/>
                  <a:ext cx="33480" cy="75600"/>
                </a:xfrm>
                <a:prstGeom prst="rect">
                  <a:avLst/>
                </a:prstGeom>
                <a:solidFill>
                  <a:srgbClr val="ff8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5541120" y="6537240"/>
                  <a:ext cx="33480" cy="75600"/>
                </a:xfrm>
                <a:prstGeom prst="rect">
                  <a:avLst/>
                </a:prstGeom>
                <a:solidFill>
                  <a:srgbClr val="ff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5574600" y="6537240"/>
                  <a:ext cx="29160" cy="75600"/>
                </a:xfrm>
                <a:prstGeom prst="rect">
                  <a:avLst/>
                </a:prstGeom>
                <a:solidFill>
                  <a:srgbClr val="ff9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5604120" y="6537240"/>
                  <a:ext cx="33480" cy="75600"/>
                </a:xfrm>
                <a:prstGeom prst="rect">
                  <a:avLst/>
                </a:prstGeom>
                <a:solidFill>
                  <a:srgbClr val="ff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5637600" y="6537240"/>
                  <a:ext cx="33480" cy="75600"/>
                </a:xfrm>
                <a:prstGeom prst="rect">
                  <a:avLst/>
                </a:prstGeom>
                <a:solidFill>
                  <a:srgbClr val="ff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5671080" y="6537240"/>
                  <a:ext cx="33480" cy="75600"/>
                </a:xfrm>
                <a:prstGeom prst="rect">
                  <a:avLst/>
                </a:prstGeom>
                <a:solidFill>
                  <a:srgbClr val="ff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5704560" y="6537240"/>
                  <a:ext cx="31680" cy="75600"/>
                </a:xfrm>
                <a:prstGeom prst="rect">
                  <a:avLst/>
                </a:prstGeo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5736240" y="6537240"/>
                  <a:ext cx="30960" cy="75600"/>
                </a:xfrm>
                <a:prstGeom prst="rect">
                  <a:avLst/>
                </a:prstGeom>
                <a:solidFill>
                  <a:srgbClr val="ff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5767560" y="6537240"/>
                  <a:ext cx="33480" cy="75600"/>
                </a:xfrm>
                <a:prstGeom prst="rect">
                  <a:avLst/>
                </a:prstGeom>
                <a:solidFill>
                  <a:srgbClr val="ff9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5801040" y="6537240"/>
                  <a:ext cx="31680" cy="75600"/>
                </a:xfrm>
                <a:prstGeom prst="rect">
                  <a:avLst/>
                </a:prstGeom>
                <a:solidFill>
                  <a:srgbClr val="ff9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5832720" y="6537240"/>
                  <a:ext cx="33480" cy="75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5866200" y="6537240"/>
                  <a:ext cx="33480" cy="75600"/>
                </a:xfrm>
                <a:prstGeom prst="rect">
                  <a:avLst/>
                </a:prstGeom>
                <a:solidFill>
                  <a:srgbClr val="ff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5899680" y="6537240"/>
                  <a:ext cx="30960" cy="75600"/>
                </a:xfrm>
                <a:prstGeom prst="rect">
                  <a:avLst/>
                </a:prstGeom>
                <a:solidFill>
                  <a:srgbClr val="ff9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5931000" y="6537240"/>
                  <a:ext cx="31680" cy="75600"/>
                </a:xfrm>
                <a:prstGeom prst="rect">
                  <a:avLst/>
                </a:prstGeom>
                <a:solidFill>
                  <a:srgbClr val="ff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5962680" y="6537240"/>
                  <a:ext cx="33480" cy="75600"/>
                </a:xfrm>
                <a:prstGeom prst="rect">
                  <a:avLst/>
                </a:prstGeom>
                <a:solidFill>
                  <a:srgbClr val="ff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5996160" y="6537240"/>
                  <a:ext cx="33480" cy="75600"/>
                </a:xfrm>
                <a:prstGeom prst="rect">
                  <a:avLst/>
                </a:prstGeom>
                <a:solidFill>
                  <a:srgbClr val="ff9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029640" y="6537240"/>
                  <a:ext cx="33480" cy="75600"/>
                </a:xfrm>
                <a:prstGeom prst="rect">
                  <a:avLst/>
                </a:pr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063120" y="6537240"/>
                  <a:ext cx="29160" cy="75600"/>
                </a:xfrm>
                <a:prstGeom prst="rect">
                  <a:avLst/>
                </a:prstGeom>
                <a:solidFill>
                  <a:srgbClr val="ff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092640" y="6537240"/>
                  <a:ext cx="33480" cy="75600"/>
                </a:xfrm>
                <a:prstGeom prst="rect">
                  <a:avLst/>
                </a:prstGeom>
                <a:solidFill>
                  <a:srgbClr val="ff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6126120" y="6537240"/>
                  <a:ext cx="33480" cy="75600"/>
                </a:xfrm>
                <a:prstGeom prst="rect">
                  <a:avLst/>
                </a:prstGeom>
                <a:solidFill>
                  <a:srgbClr val="ff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615960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617904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6198840" y="6537240"/>
                  <a:ext cx="19440" cy="75600"/>
                </a:xfrm>
                <a:prstGeom prst="rect">
                  <a:avLst/>
                </a:prstGeom>
                <a:solidFill>
                  <a:srgbClr val="ff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6218280" y="6537240"/>
                  <a:ext cx="176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6236280" y="6537240"/>
                  <a:ext cx="212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6257880" y="6537240"/>
                  <a:ext cx="19800" cy="75600"/>
                </a:xfrm>
                <a:prstGeom prst="rect">
                  <a:avLst/>
                </a:prstGeo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6277680" y="6537240"/>
                  <a:ext cx="1728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6295320" y="6537240"/>
                  <a:ext cx="1944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6314760" y="6537240"/>
                  <a:ext cx="2160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6336720" y="6537240"/>
                  <a:ext cx="1764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6354720" y="6537240"/>
                  <a:ext cx="19440" cy="75600"/>
                </a:xfrm>
                <a:prstGeom prst="rect">
                  <a:avLst/>
                </a:prstGeom>
                <a:solidFill>
                  <a:srgbClr val="ff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6374160" y="6537240"/>
                  <a:ext cx="212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6395760" y="6537240"/>
                  <a:ext cx="176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6413400" y="6537240"/>
                  <a:ext cx="19440" cy="75600"/>
                </a:xfrm>
                <a:prstGeom prst="rect">
                  <a:avLst/>
                </a:prstGeom>
                <a:solidFill>
                  <a:srgbClr val="ffa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64332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64530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6472440" y="6537240"/>
                  <a:ext cx="194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6492240" y="6537240"/>
                  <a:ext cx="176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6509880" y="6537240"/>
                  <a:ext cx="21240" cy="75600"/>
                </a:xfrm>
                <a:prstGeom prst="rect">
                  <a:avLst/>
                </a:prstGeom>
                <a:solidFill>
                  <a:srgbClr val="ff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6531480" y="6537240"/>
                  <a:ext cx="194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6551280" y="6537240"/>
                  <a:ext cx="176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6568920" y="6537240"/>
                  <a:ext cx="19440" cy="75600"/>
                </a:xfrm>
                <a:prstGeom prst="rect">
                  <a:avLst/>
                </a:prstGeom>
                <a:solidFill>
                  <a:srgbClr val="ff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6588720" y="6537240"/>
                  <a:ext cx="2160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6610680" y="6537240"/>
                  <a:ext cx="1728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6627960" y="6537240"/>
                  <a:ext cx="1980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6648120" y="6537240"/>
                  <a:ext cx="2124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6669360" y="6537240"/>
                  <a:ext cx="17640" cy="75600"/>
                </a:xfrm>
                <a:prstGeom prst="rect">
                  <a:avLst/>
                </a:pr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668736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670680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6726600" y="6537240"/>
                  <a:ext cx="19440" cy="75600"/>
                </a:xfrm>
                <a:prstGeom prst="rect">
                  <a:avLst/>
                </a:prstGeom>
                <a:solidFill>
                  <a:srgbClr val="ff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6746400" y="6537240"/>
                  <a:ext cx="194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6765840" y="6537240"/>
                  <a:ext cx="176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6783840" y="6537240"/>
                  <a:ext cx="212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6805080" y="6537240"/>
                  <a:ext cx="194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6824880" y="6537240"/>
                  <a:ext cx="17640" cy="75600"/>
                </a:xfrm>
                <a:prstGeom prst="rect">
                  <a:avLst/>
                </a:prstGeom>
                <a:solidFill>
                  <a:srgbClr val="ffb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6842880" y="6537240"/>
                  <a:ext cx="1944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6862320" y="6537240"/>
                  <a:ext cx="2160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6884280" y="6537240"/>
                  <a:ext cx="17280" cy="75600"/>
                </a:xfrm>
                <a:prstGeom prst="rect">
                  <a:avLst/>
                </a:pr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6901560" y="6537240"/>
                  <a:ext cx="1980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6921720" y="6537240"/>
                  <a:ext cx="1944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694152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696096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6980760" y="6537240"/>
                  <a:ext cx="19440" cy="75600"/>
                </a:xfrm>
                <a:prstGeom prst="rect">
                  <a:avLst/>
                </a:prstGeom>
                <a:solidFill>
                  <a:srgbClr val="ff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0002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0200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039800" y="6537240"/>
                  <a:ext cx="17640" cy="75600"/>
                </a:xfrm>
                <a:prstGeom prst="rect">
                  <a:avLst/>
                </a:prstGeom>
                <a:solidFill>
                  <a:srgbClr val="f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057440" y="6537240"/>
                  <a:ext cx="212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079040" y="6537240"/>
                  <a:ext cx="194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098480" y="6537240"/>
                  <a:ext cx="176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116480" y="6537240"/>
                  <a:ext cx="194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136280" y="6537240"/>
                  <a:ext cx="21600" cy="75600"/>
                </a:xfrm>
                <a:prstGeom prst="rect">
                  <a:avLst/>
                </a:prstGeom>
                <a:solidFill>
                  <a:srgbClr val="ffc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157880" y="6537240"/>
                  <a:ext cx="1728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175520" y="6537240"/>
                  <a:ext cx="1944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194960" y="6537240"/>
                  <a:ext cx="19800" cy="75600"/>
                </a:xfrm>
                <a:prstGeom prst="rect">
                  <a:avLst/>
                </a:prstGeom>
                <a:solidFill>
                  <a:srgbClr val="ff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151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49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543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2741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293600" y="6537240"/>
                  <a:ext cx="19440" cy="75600"/>
                </a:xfrm>
                <a:prstGeom prst="rect">
                  <a:avLst/>
                </a:prstGeom>
                <a:solidFill>
                  <a:srgbClr val="ffc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13400" y="6537240"/>
                  <a:ext cx="176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31400" y="6537240"/>
                  <a:ext cx="212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52640" y="6537240"/>
                  <a:ext cx="19440" cy="75600"/>
                </a:xfrm>
                <a:prstGeom prst="rect">
                  <a:avLst/>
                </a:pr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72440" y="6537240"/>
                  <a:ext cx="176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7390080" y="6537240"/>
                  <a:ext cx="194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7409880" y="6537240"/>
                  <a:ext cx="2160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431840" y="6537240"/>
                  <a:ext cx="1728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449120" y="6537240"/>
                  <a:ext cx="19440" cy="756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468920" y="6537240"/>
                  <a:ext cx="1980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489080" y="6537240"/>
                  <a:ext cx="1944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508520" y="6537240"/>
                  <a:ext cx="19440" cy="75600"/>
                </a:xfrm>
                <a:prstGeom prst="rect">
                  <a:avLst/>
                </a:prstGeom>
                <a:solidFill>
                  <a:srgbClr val="ffc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528320" y="6537240"/>
                  <a:ext cx="19440" cy="7560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7" name=""/>
              <p:cNvSpPr/>
              <p:nvPr/>
            </p:nvSpPr>
            <p:spPr>
              <a:xfrm>
                <a:off x="7548120" y="6537240"/>
                <a:ext cx="19440" cy="75960"/>
              </a:xfrm>
              <a:prstGeom prst="rect">
                <a:avLst/>
              </a:pr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567920" y="6537240"/>
                <a:ext cx="194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587360" y="6537240"/>
                <a:ext cx="176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605360" y="6537240"/>
                <a:ext cx="21240" cy="75960"/>
              </a:xfrm>
              <a:prstGeom prst="rect">
                <a:avLst/>
              </a:pr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626600" y="6537240"/>
                <a:ext cx="194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646400" y="6537240"/>
                <a:ext cx="176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664400" y="6537240"/>
                <a:ext cx="19440" cy="7596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683840" y="6537240"/>
                <a:ext cx="2160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705800" y="6537240"/>
                <a:ext cx="1728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7230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7428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762320" y="6537240"/>
                <a:ext cx="19800" cy="75960"/>
              </a:xfrm>
              <a:prstGeom prst="rect">
                <a:avLst/>
              </a:prstGeom>
              <a:solidFill>
                <a:srgbClr val="ff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782480" y="6537240"/>
                <a:ext cx="1944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802280" y="6537240"/>
                <a:ext cx="1728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819560" y="6537240"/>
                <a:ext cx="21600" cy="75960"/>
              </a:xfrm>
              <a:prstGeom prst="rect">
                <a:avLst/>
              </a:prstGeom>
              <a:solidFill>
                <a:srgbClr val="ff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841520" y="6537240"/>
                <a:ext cx="194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61320" y="6537240"/>
                <a:ext cx="176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878960" y="6537240"/>
                <a:ext cx="212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00560" y="6537240"/>
                <a:ext cx="194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0000" y="6537240"/>
                <a:ext cx="17640" cy="75960"/>
              </a:xfrm>
              <a:prstGeom prst="rect">
                <a:avLst/>
              </a:pr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38000" y="6537240"/>
                <a:ext cx="1944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57800" y="6537240"/>
                <a:ext cx="2160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79400" y="6537240"/>
                <a:ext cx="17280" cy="75960"/>
              </a:xfrm>
              <a:prstGeom prst="rect">
                <a:avLst/>
              </a:prstGeom>
              <a:solidFill>
                <a:srgbClr val="ff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9704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01648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036280" y="6537240"/>
                <a:ext cx="1980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056440" y="6537240"/>
                <a:ext cx="1944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5880" y="6537240"/>
                <a:ext cx="17280" cy="75960"/>
              </a:xfrm>
              <a:prstGeom prst="rect">
                <a:avLst/>
              </a:pr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093520" y="6537240"/>
                <a:ext cx="2160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115120" y="6537240"/>
                <a:ext cx="1944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8134920" y="6537240"/>
                <a:ext cx="17640" cy="75960"/>
              </a:xfrm>
              <a:prstGeom prst="rect">
                <a:avLst/>
              </a:prstGeom>
              <a:solidFill>
                <a:srgbClr val="ff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152920" y="6537240"/>
                <a:ext cx="212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174160" y="6537240"/>
                <a:ext cx="194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193960" y="6537240"/>
                <a:ext cx="176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8211600" y="6537240"/>
                <a:ext cx="194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231400" y="6537240"/>
                <a:ext cx="21240" cy="75960"/>
              </a:xfrm>
              <a:prstGeom prst="rect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8253000" y="6537240"/>
                <a:ext cx="176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8270640" y="6537240"/>
                <a:ext cx="194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8290440" y="6537240"/>
                <a:ext cx="19440" cy="75960"/>
              </a:xfrm>
              <a:prstGeom prst="rect">
                <a:avLst/>
              </a:pr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309880" y="6537240"/>
                <a:ext cx="1944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329680" y="6537240"/>
                <a:ext cx="1980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349840" y="6537240"/>
                <a:ext cx="19440" cy="75960"/>
              </a:xfrm>
              <a:prstGeom prst="rect">
                <a:avLst/>
              </a:prstGeom>
              <a:solidFill>
                <a:srgbClr val="ff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3692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3890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408520" y="6537240"/>
                <a:ext cx="176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8426520" y="6537240"/>
                <a:ext cx="212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8448120" y="6537240"/>
                <a:ext cx="19440" cy="75960"/>
              </a:xfrm>
              <a:prstGeom prst="rect">
                <a:avLst/>
              </a:prstGeom>
              <a:solidFill>
                <a:srgbClr val="ffe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467560" y="6537240"/>
                <a:ext cx="176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485560" y="6537240"/>
                <a:ext cx="212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506800" y="6537240"/>
                <a:ext cx="194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526600" y="6537240"/>
                <a:ext cx="176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544600" y="6537240"/>
                <a:ext cx="19440" cy="75960"/>
              </a:xfrm>
              <a:prstGeom prst="rect">
                <a:avLst/>
              </a:pr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5640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5838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603280" y="6537240"/>
                <a:ext cx="1980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623440" y="6537240"/>
                <a:ext cx="576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3" name=""/>
            <p:cNvSpPr/>
            <p:nvPr/>
          </p:nvSpPr>
          <p:spPr>
            <a:xfrm>
              <a:off x="8526600" y="6384960"/>
              <a:ext cx="407880" cy="304920"/>
            </a:xfrm>
            <a:custGeom>
              <a:avLst/>
              <a:gdLst/>
              <a:ahLst/>
              <a:rect l="l" t="t" r="r" b="b"/>
              <a:pathLst>
                <a:path w="413" h="338">
                  <a:moveTo>
                    <a:pt x="220" y="69"/>
                  </a:moveTo>
                  <a:lnTo>
                    <a:pt x="186" y="30"/>
                  </a:lnTo>
                  <a:lnTo>
                    <a:pt x="163" y="100"/>
                  </a:lnTo>
                  <a:lnTo>
                    <a:pt x="86" y="56"/>
                  </a:lnTo>
                  <a:lnTo>
                    <a:pt x="102" y="121"/>
                  </a:lnTo>
                  <a:lnTo>
                    <a:pt x="23" y="130"/>
                  </a:lnTo>
                  <a:lnTo>
                    <a:pt x="75" y="181"/>
                  </a:lnTo>
                  <a:lnTo>
                    <a:pt x="0" y="201"/>
                  </a:lnTo>
                  <a:lnTo>
                    <a:pt x="63" y="241"/>
                  </a:lnTo>
                  <a:lnTo>
                    <a:pt x="24" y="278"/>
                  </a:lnTo>
                  <a:lnTo>
                    <a:pt x="91" y="285"/>
                  </a:lnTo>
                  <a:lnTo>
                    <a:pt x="93" y="338"/>
                  </a:lnTo>
                  <a:lnTo>
                    <a:pt x="144" y="283"/>
                  </a:lnTo>
                  <a:lnTo>
                    <a:pt x="167" y="308"/>
                  </a:lnTo>
                  <a:lnTo>
                    <a:pt x="188" y="271"/>
                  </a:lnTo>
                  <a:lnTo>
                    <a:pt x="221" y="294"/>
                  </a:lnTo>
                  <a:lnTo>
                    <a:pt x="234" y="250"/>
                  </a:lnTo>
                  <a:lnTo>
                    <a:pt x="287" y="271"/>
                  </a:lnTo>
                  <a:lnTo>
                    <a:pt x="280" y="225"/>
                  </a:lnTo>
                  <a:lnTo>
                    <a:pt x="360" y="245"/>
                  </a:lnTo>
                  <a:lnTo>
                    <a:pt x="313" y="192"/>
                  </a:lnTo>
                  <a:lnTo>
                    <a:pt x="350" y="176"/>
                  </a:lnTo>
                  <a:lnTo>
                    <a:pt x="325" y="148"/>
                  </a:lnTo>
                  <a:lnTo>
                    <a:pt x="413" y="104"/>
                  </a:lnTo>
                  <a:lnTo>
                    <a:pt x="313" y="102"/>
                  </a:lnTo>
                  <a:lnTo>
                    <a:pt x="345" y="49"/>
                  </a:lnTo>
                  <a:lnTo>
                    <a:pt x="278" y="90"/>
                  </a:lnTo>
                  <a:lnTo>
                    <a:pt x="283" y="0"/>
                  </a:lnTo>
                  <a:lnTo>
                    <a:pt x="220" y="69"/>
                  </a:lnTo>
                  <a:close/>
                </a:path>
              </a:pathLst>
            </a:custGeom>
            <a:solidFill>
              <a:srgbClr val="ffff99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7372080" y="6172200"/>
            <a:ext cx="1105560" cy="624240"/>
            <a:chOff x="7372080" y="6172200"/>
            <a:chExt cx="1105560" cy="624240"/>
          </a:xfrm>
        </p:grpSpPr>
        <p:sp>
          <p:nvSpPr>
            <p:cNvPr id="2975" name=""/>
            <p:cNvSpPr/>
            <p:nvPr/>
          </p:nvSpPr>
          <p:spPr>
            <a:xfrm>
              <a:off x="7417440" y="617220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72080" y="6613560"/>
              <a:ext cx="11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38A-ADC2-4CC3-8872-6324976DC3F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882CB-4CA2-4937-B6A6-6E6199D8A529}" type="datetime1">
              <a:rPr lang="en-US"/>
              <a:t>07/30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7" name=""/>
          <p:cNvGraphicFramePr/>
          <p:nvPr/>
        </p:nvGraphicFramePr>
        <p:xfrm>
          <a:off x="3841920" y="517680"/>
          <a:ext cx="47815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920" y="517680"/>
                    <a:ext cx="47815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d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1096920" y="20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8545680" y="571680"/>
            <a:ext cx="0" cy="5813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63560" y="5335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kabs trunk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8371800" y="2350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529120" y="60246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7372080" y="6172200"/>
            <a:ext cx="1105560" cy="624240"/>
            <a:chOff x="7372080" y="6172200"/>
            <a:chExt cx="1105560" cy="624240"/>
          </a:xfrm>
        </p:grpSpPr>
        <p:sp>
          <p:nvSpPr>
            <p:cNvPr id="2986" name=""/>
            <p:cNvSpPr/>
            <p:nvPr/>
          </p:nvSpPr>
          <p:spPr>
            <a:xfrm>
              <a:off x="7417440" y="617220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372080" y="6613560"/>
              <a:ext cx="11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8" name=""/>
          <p:cNvGrpSpPr/>
          <p:nvPr/>
        </p:nvGrpSpPr>
        <p:grpSpPr>
          <a:xfrm>
            <a:off x="287280" y="6384960"/>
            <a:ext cx="8647200" cy="304920"/>
            <a:chOff x="287280" y="6384960"/>
            <a:chExt cx="8647200" cy="304920"/>
          </a:xfrm>
        </p:grpSpPr>
        <p:grpSp>
          <p:nvGrpSpPr>
            <p:cNvPr id="2989" name=""/>
            <p:cNvGrpSpPr/>
            <p:nvPr/>
          </p:nvGrpSpPr>
          <p:grpSpPr>
            <a:xfrm>
              <a:off x="287280" y="6537240"/>
              <a:ext cx="8341920" cy="75960"/>
              <a:chOff x="287280" y="6537240"/>
              <a:chExt cx="8341920" cy="75960"/>
            </a:xfrm>
          </p:grpSpPr>
          <p:grpSp>
            <p:nvGrpSpPr>
              <p:cNvPr id="2990" name=""/>
              <p:cNvGrpSpPr/>
              <p:nvPr/>
            </p:nvGrpSpPr>
            <p:grpSpPr>
              <a:xfrm>
                <a:off x="287280" y="6537240"/>
                <a:ext cx="7260480" cy="75600"/>
                <a:chOff x="287280" y="6537240"/>
                <a:chExt cx="7260480" cy="7560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287280" y="6537240"/>
                  <a:ext cx="58680" cy="75600"/>
                </a:xfrm>
                <a:prstGeom prst="rect">
                  <a:avLst/>
                </a:prstGeom>
                <a:solidFill>
                  <a:srgbClr val="4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345960" y="6537240"/>
                  <a:ext cx="59040" cy="75600"/>
                </a:xfrm>
                <a:prstGeom prst="rect">
                  <a:avLst/>
                </a:prstGeom>
                <a:solidFill>
                  <a:srgbClr val="53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405360" y="6537240"/>
                  <a:ext cx="56880" cy="75600"/>
                </a:xfrm>
                <a:prstGeom prst="rect">
                  <a:avLst/>
                </a:prstGeom>
                <a:solidFill>
                  <a:srgbClr val="57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462600" y="6537240"/>
                  <a:ext cx="58680" cy="75600"/>
                </a:xfrm>
                <a:prstGeom prst="rect">
                  <a:avLst/>
                </a:prstGeom>
                <a:solidFill>
                  <a:srgbClr val="5b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521640" y="6537240"/>
                  <a:ext cx="56880" cy="75600"/>
                </a:xfrm>
                <a:prstGeom prst="rect">
                  <a:avLst/>
                </a:prstGeom>
                <a:solidFill>
                  <a:srgbClr val="5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578880" y="6537240"/>
                  <a:ext cx="58680" cy="75600"/>
                </a:xfrm>
                <a:prstGeom prst="rect">
                  <a:avLst/>
                </a:prstGeom>
                <a:solidFill>
                  <a:srgbClr val="63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637560" y="6537240"/>
                  <a:ext cx="58680" cy="75600"/>
                </a:xfrm>
                <a:prstGeom prst="rect">
                  <a:avLst/>
                </a:prstGeom>
                <a:solidFill>
                  <a:srgbClr val="68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696600" y="6537240"/>
                  <a:ext cx="59040" cy="75600"/>
                </a:xfrm>
                <a:prstGeom prst="rect">
                  <a:avLst/>
                </a:prstGeom>
                <a:solidFill>
                  <a:srgbClr val="6c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56000" y="6537240"/>
                  <a:ext cx="58680" cy="75600"/>
                </a:xfrm>
                <a:prstGeom prst="rect">
                  <a:avLst/>
                </a:prstGeom>
                <a:solidFill>
                  <a:srgbClr val="70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815040" y="6537240"/>
                  <a:ext cx="58680" cy="75600"/>
                </a:xfrm>
                <a:prstGeom prst="rect">
                  <a:avLst/>
                </a:prstGeom>
                <a:solidFill>
                  <a:srgbClr val="74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873720" y="6537240"/>
                  <a:ext cx="59040" cy="75600"/>
                </a:xfrm>
                <a:prstGeom prst="rect">
                  <a:avLst/>
                </a:prstGeom>
                <a:solidFill>
                  <a:srgbClr val="78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933120" y="6537240"/>
                  <a:ext cx="56520" cy="75600"/>
                </a:xfrm>
                <a:prstGeom prst="rect">
                  <a:avLst/>
                </a:prstGeom>
                <a:solidFill>
                  <a:srgbClr val="7c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990000" y="6537240"/>
                  <a:ext cx="59040" cy="75600"/>
                </a:xfrm>
                <a:prstGeom prst="rect">
                  <a:avLst/>
                </a:prstGeom>
                <a:solidFill>
                  <a:srgbClr val="81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1049400" y="6537240"/>
                  <a:ext cx="58680" cy="75600"/>
                </a:xfrm>
                <a:prstGeom prst="rect">
                  <a:avLst/>
                </a:prstGeom>
                <a:solidFill>
                  <a:srgbClr val="85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1108440" y="6537240"/>
                  <a:ext cx="58680" cy="75600"/>
                </a:xfrm>
                <a:prstGeom prst="rect">
                  <a:avLst/>
                </a:prstGeom>
                <a:solidFill>
                  <a:srgbClr val="89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1167120" y="6537240"/>
                  <a:ext cx="59040" cy="75600"/>
                </a:xfrm>
                <a:prstGeom prst="rect">
                  <a:avLst/>
                </a:prstGeom>
                <a:solidFill>
                  <a:srgbClr val="8d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1226520" y="6537240"/>
                  <a:ext cx="56520" cy="75600"/>
                </a:xfrm>
                <a:prstGeom prst="rect">
                  <a:avLst/>
                </a:prstGeom>
                <a:solidFill>
                  <a:srgbClr val="9106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1283400" y="6537240"/>
                  <a:ext cx="59040" cy="75600"/>
                </a:xfrm>
                <a:prstGeom prst="rect">
                  <a:avLst/>
                </a:prstGeom>
                <a:solidFill>
                  <a:srgbClr val="96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1342800" y="6537240"/>
                  <a:ext cx="56880" cy="75600"/>
                </a:xfrm>
                <a:prstGeom prst="rect">
                  <a:avLst/>
                </a:prstGeom>
                <a:solidFill>
                  <a:srgbClr val="9a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1400040" y="6537240"/>
                  <a:ext cx="58680" cy="75600"/>
                </a:xfrm>
                <a:prstGeom prst="rect">
                  <a:avLst/>
                </a:prstGeom>
                <a:solidFill>
                  <a:srgbClr val="9e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1458720" y="6537240"/>
                  <a:ext cx="58680" cy="75600"/>
                </a:xfrm>
                <a:prstGeom prst="rect">
                  <a:avLst/>
                </a:prstGeom>
                <a:solidFill>
                  <a:srgbClr val="a2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1517760" y="6537240"/>
                  <a:ext cx="59040" cy="75600"/>
                </a:xfrm>
                <a:prstGeom prst="rect">
                  <a:avLst/>
                </a:prstGeom>
                <a:solidFill>
                  <a:srgbClr val="a6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1577160" y="6537240"/>
                  <a:ext cx="58680" cy="75600"/>
                </a:xfrm>
                <a:prstGeom prst="rect">
                  <a:avLst/>
                </a:prstGeom>
                <a:solidFill>
                  <a:srgbClr val="aa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1636200" y="6537240"/>
                  <a:ext cx="58680" cy="75600"/>
                </a:xfrm>
                <a:prstGeom prst="rect">
                  <a:avLst/>
                </a:prstGeom>
                <a:solidFill>
                  <a:srgbClr val="af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1695240" y="6537240"/>
                  <a:ext cx="58680" cy="75600"/>
                </a:xfrm>
                <a:prstGeom prst="rect">
                  <a:avLst/>
                </a:prstGeom>
                <a:solidFill>
                  <a:srgbClr val="b3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1753920" y="6537240"/>
                  <a:ext cx="59040" cy="75600"/>
                </a:xfrm>
                <a:prstGeom prst="rect">
                  <a:avLst/>
                </a:prstGeom>
                <a:solidFill>
                  <a:srgbClr val="b7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1813320" y="6537240"/>
                  <a:ext cx="56880" cy="75600"/>
                </a:xfrm>
                <a:prstGeom prst="rect">
                  <a:avLst/>
                </a:prstGeom>
                <a:solidFill>
                  <a:srgbClr val="bb04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1870560" y="6537240"/>
                  <a:ext cx="58680" cy="75600"/>
                </a:xfrm>
                <a:prstGeom prst="rect">
                  <a:avLst/>
                </a:prstGeom>
                <a:solidFill>
                  <a:srgbClr val="bf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1929600" y="6537240"/>
                  <a:ext cx="58680" cy="75600"/>
                </a:xfrm>
                <a:prstGeom prst="rect">
                  <a:avLst/>
                </a:prstGeom>
                <a:solidFill>
                  <a:srgbClr val="c3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1988640" y="6537240"/>
                  <a:ext cx="58680" cy="75600"/>
                </a:xfrm>
                <a:prstGeom prst="rect">
                  <a:avLst/>
                </a:prstGeom>
                <a:solidFill>
                  <a:srgbClr val="c8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047320" y="6537240"/>
                  <a:ext cx="56880" cy="75600"/>
                </a:xfrm>
                <a:prstGeom prst="rect">
                  <a:avLst/>
                </a:prstGeom>
                <a:solidFill>
                  <a:srgbClr val="cc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104560" y="6537240"/>
                  <a:ext cx="59040" cy="75600"/>
                </a:xfrm>
                <a:prstGeom prst="rect">
                  <a:avLst/>
                </a:prstGeom>
                <a:solidFill>
                  <a:srgbClr val="d0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2163960" y="6537240"/>
                  <a:ext cx="58680" cy="75600"/>
                </a:xfrm>
                <a:prstGeom prst="rect">
                  <a:avLst/>
                </a:prstGeom>
                <a:solidFill>
                  <a:srgbClr val="d4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2223000" y="6537240"/>
                  <a:ext cx="58680" cy="75600"/>
                </a:xfrm>
                <a:prstGeom prst="rect">
                  <a:avLst/>
                </a:prstGeom>
                <a:solidFill>
                  <a:srgbClr val="d8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2282040" y="6537240"/>
                  <a:ext cx="56880" cy="75600"/>
                </a:xfrm>
                <a:prstGeom prst="rect">
                  <a:avLst/>
                </a:prstGeom>
                <a:solidFill>
                  <a:srgbClr val="dc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2338920" y="6537240"/>
                  <a:ext cx="58680" cy="75600"/>
                </a:xfrm>
                <a:prstGeom prst="rect">
                  <a:avLst/>
                </a:prstGeom>
                <a:solidFill>
                  <a:srgbClr val="e1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2397960" y="6537240"/>
                  <a:ext cx="59040" cy="75600"/>
                </a:xfrm>
                <a:prstGeom prst="rect">
                  <a:avLst/>
                </a:prstGeom>
                <a:solidFill>
                  <a:srgbClr val="e5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2457360" y="6537240"/>
                  <a:ext cx="58680" cy="75600"/>
                </a:xfrm>
                <a:prstGeom prst="rect">
                  <a:avLst/>
                </a:prstGeom>
                <a:solidFill>
                  <a:srgbClr val="e9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2516400" y="6537240"/>
                  <a:ext cx="58680" cy="75600"/>
                </a:xfrm>
                <a:prstGeom prst="rect">
                  <a:avLst/>
                </a:prstGeom>
                <a:solidFill>
                  <a:srgbClr val="ed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2575440" y="6537240"/>
                  <a:ext cx="59040" cy="75600"/>
                </a:xfrm>
                <a:prstGeom prst="rect">
                  <a:avLst/>
                </a:prstGeom>
                <a:solidFill>
                  <a:srgbClr val="f1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2634840" y="6537240"/>
                  <a:ext cx="58680" cy="75600"/>
                </a:xfrm>
                <a:prstGeom prst="rect">
                  <a:avLst/>
                </a:prstGeom>
                <a:solidFill>
                  <a:srgbClr val="f6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2693520" y="6537240"/>
                  <a:ext cx="56880" cy="75600"/>
                </a:xfrm>
                <a:prstGeom prst="rect">
                  <a:avLst/>
                </a:prstGeom>
                <a:solidFill>
                  <a:srgbClr val="fa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2750760" y="6537240"/>
                  <a:ext cx="58680" cy="75600"/>
                </a:xfrm>
                <a:prstGeom prst="rect">
                  <a:avLst/>
                </a:prstGeom>
                <a:solidFill>
                  <a:srgbClr val="fe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2809800" y="6537240"/>
                  <a:ext cx="56880" cy="75600"/>
                </a:xfrm>
                <a:prstGeom prst="rect">
                  <a:avLst/>
                </a:prstGeom>
                <a:solidFill>
                  <a:srgbClr val="ff0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2867040" y="6537240"/>
                  <a:ext cx="58680" cy="75600"/>
                </a:xfrm>
                <a:prstGeom prst="rect">
                  <a:avLst/>
                </a:prstGeom>
                <a:solidFill>
                  <a:srgbClr val="ff0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2925720" y="6537240"/>
                  <a:ext cx="58680" cy="75600"/>
                </a:xfrm>
                <a:prstGeom prst="rect">
                  <a:avLst/>
                </a:prstGeom>
                <a:solidFill>
                  <a:srgbClr val="ff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2984760" y="6537240"/>
                  <a:ext cx="59040" cy="75600"/>
                </a:xfrm>
                <a:prstGeom prst="rect">
                  <a:avLst/>
                </a:prstGeom>
                <a:solidFill>
                  <a:srgbClr val="f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3044160" y="6537240"/>
                  <a:ext cx="58680" cy="75600"/>
                </a:xfrm>
                <a:prstGeom prst="rect">
                  <a:avLst/>
                </a:prstGeom>
                <a:solidFill>
                  <a:srgbClr val="ff1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3103200" y="6537240"/>
                  <a:ext cx="58680" cy="75600"/>
                </a:xfrm>
                <a:prstGeom prst="rect">
                  <a:avLst/>
                </a:prstGeom>
                <a:solidFill>
                  <a:srgbClr val="ff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3162240" y="6537240"/>
                  <a:ext cx="56880" cy="75600"/>
                </a:xfrm>
                <a:prstGeom prst="rect">
                  <a:avLst/>
                </a:pr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3219120" y="6537240"/>
                  <a:ext cx="59040" cy="75600"/>
                </a:xfrm>
                <a:prstGeom prst="rect">
                  <a:avLst/>
                </a:prstGeom>
                <a:solidFill>
                  <a:srgbClr val="ff1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3278520" y="6537240"/>
                  <a:ext cx="58680" cy="75600"/>
                </a:xfrm>
                <a:prstGeom prst="rect">
                  <a:avLst/>
                </a:prstGeom>
                <a:solidFill>
                  <a:srgbClr val="ff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3337560" y="6537240"/>
                  <a:ext cx="58680" cy="75600"/>
                </a:xfrm>
                <a:prstGeom prst="rect">
                  <a:avLst/>
                </a:prstGeom>
                <a:solidFill>
                  <a:srgbClr val="ff2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3396600" y="6537240"/>
                  <a:ext cx="58680" cy="75600"/>
                </a:xfrm>
                <a:prstGeom prst="rect">
                  <a:avLst/>
                </a:prstGeom>
                <a:solidFill>
                  <a:srgbClr val="ff2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3455640" y="6537240"/>
                  <a:ext cx="59040" cy="75600"/>
                </a:xfrm>
                <a:prstGeom prst="rect">
                  <a:avLst/>
                </a:prstGeom>
                <a:solidFill>
                  <a:srgbClr val="ff2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3515040" y="6537240"/>
                  <a:ext cx="58680" cy="75600"/>
                </a:xfrm>
                <a:prstGeom prst="rect">
                  <a:avLst/>
                </a:prstGeom>
                <a:solidFill>
                  <a:srgbClr val="ff2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3573720" y="6537240"/>
                  <a:ext cx="56880" cy="75600"/>
                </a:xfrm>
                <a:prstGeom prst="rect">
                  <a:avLst/>
                </a:prstGeom>
                <a:solidFill>
                  <a:srgbClr val="ff3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3630960" y="6537240"/>
                  <a:ext cx="56880" cy="75600"/>
                </a:xfrm>
                <a:prstGeom prst="rect">
                  <a:avLst/>
                </a:prstGeom>
                <a:solidFill>
                  <a:srgbClr val="ff3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3688200" y="6537240"/>
                  <a:ext cx="58680" cy="75600"/>
                </a:xfrm>
                <a:prstGeom prst="rect">
                  <a:avLst/>
                </a:prstGeom>
                <a:solidFill>
                  <a:srgbClr val="ff3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3747240" y="6537240"/>
                  <a:ext cx="58680" cy="75600"/>
                </a:xfrm>
                <a:prstGeom prst="rect">
                  <a:avLst/>
                </a:prstGeom>
                <a:solidFill>
                  <a:srgbClr val="ff3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3805920" y="6537240"/>
                  <a:ext cx="59040" cy="75600"/>
                </a:xfrm>
                <a:prstGeom prst="rect">
                  <a:avLst/>
                </a:prstGeom>
                <a:solidFill>
                  <a:srgbClr val="ff3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3865320" y="6537240"/>
                  <a:ext cx="58680" cy="75600"/>
                </a:xfrm>
                <a:prstGeom prst="rect">
                  <a:avLst/>
                </a:prstGeom>
                <a:solidFill>
                  <a:srgbClr val="f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3924360" y="6537240"/>
                  <a:ext cx="58680" cy="75600"/>
                </a:xfrm>
                <a:prstGeom prst="rect">
                  <a:avLst/>
                </a:prstGeom>
                <a:solidFill>
                  <a:srgbClr val="ff4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3983400" y="6537240"/>
                  <a:ext cx="58680" cy="75600"/>
                </a:xfrm>
                <a:prstGeom prst="rect">
                  <a:avLst/>
                </a:prstGeo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4042440" y="6537240"/>
                  <a:ext cx="31680" cy="75600"/>
                </a:xfrm>
                <a:prstGeom prst="rect">
                  <a:avLst/>
                </a:prstGeom>
                <a:solidFill>
                  <a:srgbClr val="ff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4074120" y="6537240"/>
                  <a:ext cx="31680" cy="75600"/>
                </a:xfrm>
                <a:prstGeom prst="rect">
                  <a:avLst/>
                </a:prstGeom>
                <a:solidFill>
                  <a:srgbClr val="ff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4105800" y="6537240"/>
                  <a:ext cx="33480" cy="75600"/>
                </a:xfrm>
                <a:prstGeom prst="rect">
                  <a:avLst/>
                </a:prstGeom>
                <a:solidFill>
                  <a:srgbClr val="ff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4139280" y="6537240"/>
                  <a:ext cx="33480" cy="75600"/>
                </a:xfrm>
                <a:prstGeom prst="rect">
                  <a:avLst/>
                </a:prstGeom>
                <a:solidFill>
                  <a:srgbClr val="ff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4172760" y="6537240"/>
                  <a:ext cx="33480" cy="75600"/>
                </a:xfrm>
                <a:prstGeom prst="rect">
                  <a:avLst/>
                </a:prstGeom>
                <a:solidFill>
                  <a:srgbClr val="f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4206240" y="6537240"/>
                  <a:ext cx="29160" cy="75600"/>
                </a:xfrm>
                <a:prstGeom prst="rect">
                  <a:avLst/>
                </a:prstGeom>
                <a:solidFill>
                  <a:srgbClr val="ff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4235760" y="6537240"/>
                  <a:ext cx="33480" cy="75600"/>
                </a:xfrm>
                <a:prstGeom prst="rect">
                  <a:avLst/>
                </a:prstGeom>
                <a:solidFill>
                  <a:srgbClr val="ff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4269240" y="6537240"/>
                  <a:ext cx="33480" cy="75600"/>
                </a:xfrm>
                <a:prstGeom prst="rect">
                  <a:avLst/>
                </a:prstGeom>
                <a:solidFill>
                  <a:srgbClr val="ff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4302720" y="6537240"/>
                  <a:ext cx="33480" cy="75600"/>
                </a:xfrm>
                <a:prstGeom prst="rect">
                  <a:avLst/>
                </a:prstGeom>
                <a:solidFill>
                  <a:srgbClr val="ff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4336200" y="6537240"/>
                  <a:ext cx="30960" cy="75600"/>
                </a:xfrm>
                <a:prstGeom prst="rect">
                  <a:avLst/>
                </a:prstGeom>
                <a:solidFill>
                  <a:srgbClr val="ff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4367520" y="6537240"/>
                  <a:ext cx="31680" cy="75600"/>
                </a:xfrm>
                <a:prstGeom prst="rect">
                  <a:avLst/>
                </a:prstGeom>
                <a:solidFill>
                  <a:srgbClr val="ff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4399200" y="6537240"/>
                  <a:ext cx="33480" cy="75600"/>
                </a:xfrm>
                <a:prstGeom prst="rect">
                  <a:avLst/>
                </a:pr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4432680" y="6537240"/>
                  <a:ext cx="33480" cy="75600"/>
                </a:xfrm>
                <a:prstGeom prst="rect">
                  <a:avLst/>
                </a:prstGeom>
                <a:solidFill>
                  <a:srgbClr val="ff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4466160" y="6537240"/>
                  <a:ext cx="30960" cy="75600"/>
                </a:xfrm>
                <a:prstGeom prst="rect">
                  <a:avLst/>
                </a:prstGeom>
                <a:solidFill>
                  <a:srgbClr val="ff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4497480" y="6537240"/>
                  <a:ext cx="33480" cy="75600"/>
                </a:xfrm>
                <a:prstGeom prst="rect">
                  <a:avLst/>
                </a:prstGeom>
                <a:solidFill>
                  <a:srgbClr val="ff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4530960" y="6537240"/>
                  <a:ext cx="31680" cy="75600"/>
                </a:xfrm>
                <a:prstGeom prst="rect">
                  <a:avLst/>
                </a:prstGeom>
                <a:solidFill>
                  <a:srgbClr val="ff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4562640" y="6537240"/>
                  <a:ext cx="33480" cy="75600"/>
                </a:xfrm>
                <a:prstGeom prst="rect">
                  <a:avLst/>
                </a:prstGeom>
                <a:solidFill>
                  <a:srgbClr val="ff6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4596120" y="6537240"/>
                  <a:ext cx="30960" cy="75600"/>
                </a:xfrm>
                <a:prstGeom prst="rect">
                  <a:avLst/>
                </a:prstGeom>
                <a:solidFill>
                  <a:srgbClr val="ff6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4627440" y="6537240"/>
                  <a:ext cx="33480" cy="75600"/>
                </a:xfrm>
                <a:prstGeom prst="rect">
                  <a:avLst/>
                </a:prstGeom>
                <a:solidFill>
                  <a:srgbClr val="ff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4660920" y="6537240"/>
                  <a:ext cx="33480" cy="75600"/>
                </a:xfrm>
                <a:prstGeom prst="rect">
                  <a:avLst/>
                </a:prstGeo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4694400" y="6537240"/>
                  <a:ext cx="31680" cy="75600"/>
                </a:xfrm>
                <a:prstGeom prst="rect">
                  <a:avLst/>
                </a:prstGeom>
                <a:solidFill>
                  <a:srgbClr val="ff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4726080" y="6537240"/>
                  <a:ext cx="30960" cy="75600"/>
                </a:xfrm>
                <a:prstGeom prst="rect">
                  <a:avLst/>
                </a:prstGeom>
                <a:solidFill>
                  <a:srgbClr val="ff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4757400" y="6537240"/>
                  <a:ext cx="33480" cy="75600"/>
                </a:xfrm>
                <a:prstGeom prst="rect">
                  <a:avLst/>
                </a:prstGeom>
                <a:solidFill>
                  <a:srgbClr val="ff7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4790880" y="6537240"/>
                  <a:ext cx="33480" cy="75600"/>
                </a:xfrm>
                <a:prstGeom prst="rect">
                  <a:avLst/>
                </a:prstGeom>
                <a:solidFill>
                  <a:srgbClr val="ff7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824360" y="6537240"/>
                  <a:ext cx="31680" cy="75600"/>
                </a:xfrm>
                <a:prstGeom prst="rect">
                  <a:avLst/>
                </a:prstGeom>
                <a:solidFill>
                  <a:srgbClr val="f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4856040" y="6537240"/>
                  <a:ext cx="33480" cy="75600"/>
                </a:xfrm>
                <a:prstGeom prst="rect">
                  <a:avLst/>
                </a:prstGeom>
                <a:solidFill>
                  <a:srgbClr val="ff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4889520" y="6537240"/>
                  <a:ext cx="30960" cy="75600"/>
                </a:xfrm>
                <a:prstGeom prst="rect">
                  <a:avLst/>
                </a:prstGeom>
                <a:solidFill>
                  <a:srgbClr val="ff7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4920840" y="6537240"/>
                  <a:ext cx="33480" cy="75600"/>
                </a:xfrm>
                <a:prstGeom prst="rect">
                  <a:avLst/>
                </a:prstGeom>
                <a:solidFill>
                  <a:srgbClr val="ff7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954320" y="6537240"/>
                  <a:ext cx="31680" cy="75600"/>
                </a:xfrm>
                <a:prstGeom prst="rect">
                  <a:avLst/>
                </a:prstGeom>
                <a:solidFill>
                  <a:srgbClr val="ff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986000" y="6537240"/>
                  <a:ext cx="33480" cy="75600"/>
                </a:xfrm>
                <a:prstGeom prst="rect">
                  <a:avLst/>
                </a:prstGeom>
                <a:solidFill>
                  <a:srgbClr val="ff7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019480" y="6537240"/>
                  <a:ext cx="33480" cy="75600"/>
                </a:xfrm>
                <a:prstGeom prst="rect">
                  <a:avLst/>
                </a:pr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052960" y="6537240"/>
                  <a:ext cx="30960" cy="7560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084280" y="6537240"/>
                  <a:ext cx="31680" cy="75600"/>
                </a:xfrm>
                <a:prstGeom prst="rect">
                  <a:avLst/>
                </a:prstGeom>
                <a:solidFill>
                  <a:srgbClr val="ff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115960" y="6537240"/>
                  <a:ext cx="33480" cy="75600"/>
                </a:xfrm>
                <a:prstGeom prst="rect">
                  <a:avLst/>
                </a:prstGeom>
                <a:solidFill>
                  <a:srgbClr val="ff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149440" y="6537240"/>
                  <a:ext cx="33480" cy="75600"/>
                </a:xfrm>
                <a:prstGeom prst="rect">
                  <a:avLst/>
                </a:prstGeom>
                <a:solidFill>
                  <a:srgbClr val="ff8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182920" y="6537240"/>
                  <a:ext cx="30960" cy="75600"/>
                </a:xfrm>
                <a:prstGeom prst="rect">
                  <a:avLst/>
                </a:prstGeom>
                <a:solidFill>
                  <a:srgbClr val="ff8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214240" y="6537240"/>
                  <a:ext cx="31680" cy="75600"/>
                </a:xfrm>
                <a:prstGeom prst="rect">
                  <a:avLst/>
                </a:prstGeom>
                <a:solidFill>
                  <a:srgbClr val="ff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245920" y="6537240"/>
                  <a:ext cx="33480" cy="75600"/>
                </a:xfrm>
                <a:prstGeom prst="rect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279400" y="6537240"/>
                  <a:ext cx="33480" cy="75600"/>
                </a:xfrm>
                <a:prstGeom prst="rect">
                  <a:avLst/>
                </a:prstGeom>
                <a:solidFill>
                  <a:srgbClr val="ff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312880" y="6537240"/>
                  <a:ext cx="30960" cy="75600"/>
                </a:xfrm>
                <a:prstGeom prst="rect">
                  <a:avLst/>
                </a:prstGeom>
                <a:solidFill>
                  <a:srgbClr val="ff8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344200" y="6537240"/>
                  <a:ext cx="33480" cy="75600"/>
                </a:xfrm>
                <a:prstGeom prst="rect">
                  <a:avLst/>
                </a:prstGeom>
                <a:solidFill>
                  <a:srgbClr val="ff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377680" y="6537240"/>
                  <a:ext cx="33480" cy="75600"/>
                </a:xfrm>
                <a:prstGeom prst="rect">
                  <a:avLst/>
                </a:prstGeom>
                <a:solidFill>
                  <a:srgbClr val="ff8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411160" y="6537240"/>
                  <a:ext cx="31680" cy="75600"/>
                </a:xfrm>
                <a:prstGeom prst="rect">
                  <a:avLst/>
                </a:prstGeom>
                <a:solidFill>
                  <a:srgbClr val="ff8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442840" y="6537240"/>
                  <a:ext cx="30960" cy="7560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474160" y="6537240"/>
                  <a:ext cx="33480" cy="75600"/>
                </a:xfrm>
                <a:prstGeom prst="rect">
                  <a:avLst/>
                </a:prstGeom>
                <a:solidFill>
                  <a:srgbClr val="ff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507640" y="6537240"/>
                  <a:ext cx="33480" cy="75600"/>
                </a:xfrm>
                <a:prstGeom prst="rect">
                  <a:avLst/>
                </a:prstGeom>
                <a:solidFill>
                  <a:srgbClr val="ff8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541120" y="6537240"/>
                  <a:ext cx="33480" cy="75600"/>
                </a:xfrm>
                <a:prstGeom prst="rect">
                  <a:avLst/>
                </a:prstGeom>
                <a:solidFill>
                  <a:srgbClr val="ff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574600" y="6537240"/>
                  <a:ext cx="29160" cy="75600"/>
                </a:xfrm>
                <a:prstGeom prst="rect">
                  <a:avLst/>
                </a:prstGeom>
                <a:solidFill>
                  <a:srgbClr val="ff9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604120" y="6537240"/>
                  <a:ext cx="33480" cy="75600"/>
                </a:xfrm>
                <a:prstGeom prst="rect">
                  <a:avLst/>
                </a:prstGeom>
                <a:solidFill>
                  <a:srgbClr val="ff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637600" y="6537240"/>
                  <a:ext cx="33480" cy="75600"/>
                </a:xfrm>
                <a:prstGeom prst="rect">
                  <a:avLst/>
                </a:prstGeom>
                <a:solidFill>
                  <a:srgbClr val="ff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671080" y="6537240"/>
                  <a:ext cx="33480" cy="75600"/>
                </a:xfrm>
                <a:prstGeom prst="rect">
                  <a:avLst/>
                </a:prstGeom>
                <a:solidFill>
                  <a:srgbClr val="ff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704560" y="6537240"/>
                  <a:ext cx="31680" cy="75600"/>
                </a:xfrm>
                <a:prstGeom prst="rect">
                  <a:avLst/>
                </a:prstGeo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736240" y="6537240"/>
                  <a:ext cx="30960" cy="75600"/>
                </a:xfrm>
                <a:prstGeom prst="rect">
                  <a:avLst/>
                </a:prstGeom>
                <a:solidFill>
                  <a:srgbClr val="ff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767560" y="6537240"/>
                  <a:ext cx="33480" cy="75600"/>
                </a:xfrm>
                <a:prstGeom prst="rect">
                  <a:avLst/>
                </a:prstGeom>
                <a:solidFill>
                  <a:srgbClr val="ff9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801040" y="6537240"/>
                  <a:ext cx="31680" cy="75600"/>
                </a:xfrm>
                <a:prstGeom prst="rect">
                  <a:avLst/>
                </a:prstGeom>
                <a:solidFill>
                  <a:srgbClr val="ff9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832720" y="6537240"/>
                  <a:ext cx="33480" cy="75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866200" y="6537240"/>
                  <a:ext cx="33480" cy="75600"/>
                </a:xfrm>
                <a:prstGeom prst="rect">
                  <a:avLst/>
                </a:prstGeom>
                <a:solidFill>
                  <a:srgbClr val="ff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899680" y="6537240"/>
                  <a:ext cx="30960" cy="75600"/>
                </a:xfrm>
                <a:prstGeom prst="rect">
                  <a:avLst/>
                </a:prstGeom>
                <a:solidFill>
                  <a:srgbClr val="ff9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931000" y="6537240"/>
                  <a:ext cx="31680" cy="75600"/>
                </a:xfrm>
                <a:prstGeom prst="rect">
                  <a:avLst/>
                </a:prstGeom>
                <a:solidFill>
                  <a:srgbClr val="ff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962680" y="6537240"/>
                  <a:ext cx="33480" cy="75600"/>
                </a:xfrm>
                <a:prstGeom prst="rect">
                  <a:avLst/>
                </a:prstGeom>
                <a:solidFill>
                  <a:srgbClr val="ff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996160" y="6537240"/>
                  <a:ext cx="33480" cy="75600"/>
                </a:xfrm>
                <a:prstGeom prst="rect">
                  <a:avLst/>
                </a:prstGeom>
                <a:solidFill>
                  <a:srgbClr val="ff9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029640" y="6537240"/>
                  <a:ext cx="33480" cy="75600"/>
                </a:xfrm>
                <a:prstGeom prst="rect">
                  <a:avLst/>
                </a:pr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063120" y="6537240"/>
                  <a:ext cx="29160" cy="75600"/>
                </a:xfrm>
                <a:prstGeom prst="rect">
                  <a:avLst/>
                </a:prstGeom>
                <a:solidFill>
                  <a:srgbClr val="ff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092640" y="6537240"/>
                  <a:ext cx="33480" cy="75600"/>
                </a:xfrm>
                <a:prstGeom prst="rect">
                  <a:avLst/>
                </a:prstGeom>
                <a:solidFill>
                  <a:srgbClr val="ff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126120" y="6537240"/>
                  <a:ext cx="33480" cy="75600"/>
                </a:xfrm>
                <a:prstGeom prst="rect">
                  <a:avLst/>
                </a:prstGeom>
                <a:solidFill>
                  <a:srgbClr val="ff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15960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17904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198840" y="6537240"/>
                  <a:ext cx="19440" cy="75600"/>
                </a:xfrm>
                <a:prstGeom prst="rect">
                  <a:avLst/>
                </a:prstGeom>
                <a:solidFill>
                  <a:srgbClr val="ff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218280" y="6537240"/>
                  <a:ext cx="176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236280" y="6537240"/>
                  <a:ext cx="212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6257880" y="6537240"/>
                  <a:ext cx="19800" cy="75600"/>
                </a:xfrm>
                <a:prstGeom prst="rect">
                  <a:avLst/>
                </a:prstGeo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6277680" y="6537240"/>
                  <a:ext cx="1728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6295320" y="6537240"/>
                  <a:ext cx="1944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314760" y="6537240"/>
                  <a:ext cx="2160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336720" y="6537240"/>
                  <a:ext cx="1764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6354720" y="6537240"/>
                  <a:ext cx="19440" cy="75600"/>
                </a:xfrm>
                <a:prstGeom prst="rect">
                  <a:avLst/>
                </a:prstGeom>
                <a:solidFill>
                  <a:srgbClr val="ff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374160" y="6537240"/>
                  <a:ext cx="212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395760" y="6537240"/>
                  <a:ext cx="176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413400" y="6537240"/>
                  <a:ext cx="19440" cy="75600"/>
                </a:xfrm>
                <a:prstGeom prst="rect">
                  <a:avLst/>
                </a:prstGeom>
                <a:solidFill>
                  <a:srgbClr val="ffa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4332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4530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472440" y="6537240"/>
                  <a:ext cx="194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492240" y="6537240"/>
                  <a:ext cx="176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509880" y="6537240"/>
                  <a:ext cx="21240" cy="75600"/>
                </a:xfrm>
                <a:prstGeom prst="rect">
                  <a:avLst/>
                </a:prstGeom>
                <a:solidFill>
                  <a:srgbClr val="ff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531480" y="6537240"/>
                  <a:ext cx="194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551280" y="6537240"/>
                  <a:ext cx="176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568920" y="6537240"/>
                  <a:ext cx="19440" cy="75600"/>
                </a:xfrm>
                <a:prstGeom prst="rect">
                  <a:avLst/>
                </a:prstGeom>
                <a:solidFill>
                  <a:srgbClr val="ff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588720" y="6537240"/>
                  <a:ext cx="2160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610680" y="6537240"/>
                  <a:ext cx="1728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627960" y="6537240"/>
                  <a:ext cx="1980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648120" y="6537240"/>
                  <a:ext cx="2124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669360" y="6537240"/>
                  <a:ext cx="17640" cy="75600"/>
                </a:xfrm>
                <a:prstGeom prst="rect">
                  <a:avLst/>
                </a:pr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68736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70680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726600" y="6537240"/>
                  <a:ext cx="19440" cy="75600"/>
                </a:xfrm>
                <a:prstGeom prst="rect">
                  <a:avLst/>
                </a:prstGeom>
                <a:solidFill>
                  <a:srgbClr val="ff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746400" y="6537240"/>
                  <a:ext cx="194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765840" y="6537240"/>
                  <a:ext cx="176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783840" y="6537240"/>
                  <a:ext cx="212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805080" y="6537240"/>
                  <a:ext cx="194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824880" y="6537240"/>
                  <a:ext cx="17640" cy="75600"/>
                </a:xfrm>
                <a:prstGeom prst="rect">
                  <a:avLst/>
                </a:prstGeom>
                <a:solidFill>
                  <a:srgbClr val="ffb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842880" y="6537240"/>
                  <a:ext cx="1944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862320" y="6537240"/>
                  <a:ext cx="2160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884280" y="6537240"/>
                  <a:ext cx="17280" cy="75600"/>
                </a:xfrm>
                <a:prstGeom prst="rect">
                  <a:avLst/>
                </a:pr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901560" y="6537240"/>
                  <a:ext cx="1980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921720" y="6537240"/>
                  <a:ext cx="1944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694152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696096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6980760" y="6537240"/>
                  <a:ext cx="19440" cy="75600"/>
                </a:xfrm>
                <a:prstGeom prst="rect">
                  <a:avLst/>
                </a:prstGeom>
                <a:solidFill>
                  <a:srgbClr val="ff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70002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70200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7039800" y="6537240"/>
                  <a:ext cx="17640" cy="75600"/>
                </a:xfrm>
                <a:prstGeom prst="rect">
                  <a:avLst/>
                </a:prstGeom>
                <a:solidFill>
                  <a:srgbClr val="f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7057440" y="6537240"/>
                  <a:ext cx="212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7079040" y="6537240"/>
                  <a:ext cx="194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7098480" y="6537240"/>
                  <a:ext cx="176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7116480" y="6537240"/>
                  <a:ext cx="194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7136280" y="6537240"/>
                  <a:ext cx="21600" cy="75600"/>
                </a:xfrm>
                <a:prstGeom prst="rect">
                  <a:avLst/>
                </a:prstGeom>
                <a:solidFill>
                  <a:srgbClr val="ffc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7157880" y="6537240"/>
                  <a:ext cx="1728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7175520" y="6537240"/>
                  <a:ext cx="1944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7194960" y="6537240"/>
                  <a:ext cx="19800" cy="75600"/>
                </a:xfrm>
                <a:prstGeom prst="rect">
                  <a:avLst/>
                </a:prstGeom>
                <a:solidFill>
                  <a:srgbClr val="ff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72151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72349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72543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72741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7293600" y="6537240"/>
                  <a:ext cx="19440" cy="75600"/>
                </a:xfrm>
                <a:prstGeom prst="rect">
                  <a:avLst/>
                </a:prstGeom>
                <a:solidFill>
                  <a:srgbClr val="ffc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7313400" y="6537240"/>
                  <a:ext cx="176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7331400" y="6537240"/>
                  <a:ext cx="212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7352640" y="6537240"/>
                  <a:ext cx="19440" cy="75600"/>
                </a:xfrm>
                <a:prstGeom prst="rect">
                  <a:avLst/>
                </a:pr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7372440" y="6537240"/>
                  <a:ext cx="176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7390080" y="6537240"/>
                  <a:ext cx="194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7409880" y="6537240"/>
                  <a:ext cx="2160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7431840" y="6537240"/>
                  <a:ext cx="1728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7449120" y="6537240"/>
                  <a:ext cx="19440" cy="756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7468920" y="6537240"/>
                  <a:ext cx="1980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7489080" y="6537240"/>
                  <a:ext cx="1944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7508520" y="6537240"/>
                  <a:ext cx="19440" cy="75600"/>
                </a:xfrm>
                <a:prstGeom prst="rect">
                  <a:avLst/>
                </a:prstGeom>
                <a:solidFill>
                  <a:srgbClr val="ffc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7528320" y="6537240"/>
                  <a:ext cx="19440" cy="7560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1" name=""/>
              <p:cNvSpPr/>
              <p:nvPr/>
            </p:nvSpPr>
            <p:spPr>
              <a:xfrm>
                <a:off x="7548120" y="6537240"/>
                <a:ext cx="19440" cy="75960"/>
              </a:xfrm>
              <a:prstGeom prst="rect">
                <a:avLst/>
              </a:pr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567920" y="6537240"/>
                <a:ext cx="194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587360" y="6537240"/>
                <a:ext cx="176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605360" y="6537240"/>
                <a:ext cx="21240" cy="75960"/>
              </a:xfrm>
              <a:prstGeom prst="rect">
                <a:avLst/>
              </a:pr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626600" y="6537240"/>
                <a:ext cx="194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646400" y="6537240"/>
                <a:ext cx="176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664400" y="6537240"/>
                <a:ext cx="19440" cy="7596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683840" y="6537240"/>
                <a:ext cx="2160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705800" y="6537240"/>
                <a:ext cx="1728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7230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7428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762320" y="6537240"/>
                <a:ext cx="19800" cy="75960"/>
              </a:xfrm>
              <a:prstGeom prst="rect">
                <a:avLst/>
              </a:prstGeom>
              <a:solidFill>
                <a:srgbClr val="ff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782480" y="6537240"/>
                <a:ext cx="1944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802280" y="6537240"/>
                <a:ext cx="1728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819560" y="6537240"/>
                <a:ext cx="21600" cy="75960"/>
              </a:xfrm>
              <a:prstGeom prst="rect">
                <a:avLst/>
              </a:prstGeom>
              <a:solidFill>
                <a:srgbClr val="ff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841520" y="6537240"/>
                <a:ext cx="194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861320" y="6537240"/>
                <a:ext cx="176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878960" y="6537240"/>
                <a:ext cx="212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00560" y="6537240"/>
                <a:ext cx="194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0000" y="6537240"/>
                <a:ext cx="17640" cy="75960"/>
              </a:xfrm>
              <a:prstGeom prst="rect">
                <a:avLst/>
              </a:pr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38000" y="6537240"/>
                <a:ext cx="1944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57800" y="6537240"/>
                <a:ext cx="2160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79400" y="6537240"/>
                <a:ext cx="17280" cy="75960"/>
              </a:xfrm>
              <a:prstGeom prst="rect">
                <a:avLst/>
              </a:prstGeom>
              <a:solidFill>
                <a:srgbClr val="ff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9704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01648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036280" y="6537240"/>
                <a:ext cx="1980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8056440" y="6537240"/>
                <a:ext cx="1944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8075880" y="6537240"/>
                <a:ext cx="17280" cy="75960"/>
              </a:xfrm>
              <a:prstGeom prst="rect">
                <a:avLst/>
              </a:pr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8093520" y="6537240"/>
                <a:ext cx="2160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8115120" y="6537240"/>
                <a:ext cx="1944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134920" y="6537240"/>
                <a:ext cx="17640" cy="75960"/>
              </a:xfrm>
              <a:prstGeom prst="rect">
                <a:avLst/>
              </a:prstGeom>
              <a:solidFill>
                <a:srgbClr val="ff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152920" y="6537240"/>
                <a:ext cx="212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174160" y="6537240"/>
                <a:ext cx="194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193960" y="6537240"/>
                <a:ext cx="176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211600" y="6537240"/>
                <a:ext cx="194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231400" y="6537240"/>
                <a:ext cx="21240" cy="75960"/>
              </a:xfrm>
              <a:prstGeom prst="rect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8253000" y="6537240"/>
                <a:ext cx="176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270640" y="6537240"/>
                <a:ext cx="194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8290440" y="6537240"/>
                <a:ext cx="19440" cy="75960"/>
              </a:xfrm>
              <a:prstGeom prst="rect">
                <a:avLst/>
              </a:pr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8309880" y="6537240"/>
                <a:ext cx="1944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8329680" y="6537240"/>
                <a:ext cx="1980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8349840" y="6537240"/>
                <a:ext cx="19440" cy="75960"/>
              </a:xfrm>
              <a:prstGeom prst="rect">
                <a:avLst/>
              </a:prstGeom>
              <a:solidFill>
                <a:srgbClr val="ff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83692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83890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8408520" y="6537240"/>
                <a:ext cx="176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8426520" y="6537240"/>
                <a:ext cx="212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8448120" y="6537240"/>
                <a:ext cx="19440" cy="75960"/>
              </a:xfrm>
              <a:prstGeom prst="rect">
                <a:avLst/>
              </a:prstGeom>
              <a:solidFill>
                <a:srgbClr val="ffe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8467560" y="6537240"/>
                <a:ext cx="176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8485560" y="6537240"/>
                <a:ext cx="212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8506800" y="6537240"/>
                <a:ext cx="194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526600" y="6537240"/>
                <a:ext cx="176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544600" y="6537240"/>
                <a:ext cx="19440" cy="75960"/>
              </a:xfrm>
              <a:prstGeom prst="rect">
                <a:avLst/>
              </a:pr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5640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5838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603280" y="6537240"/>
                <a:ext cx="1980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623440" y="6537240"/>
                <a:ext cx="576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7" name=""/>
            <p:cNvSpPr/>
            <p:nvPr/>
          </p:nvSpPr>
          <p:spPr>
            <a:xfrm>
              <a:off x="8526600" y="6384960"/>
              <a:ext cx="407880" cy="304920"/>
            </a:xfrm>
            <a:custGeom>
              <a:avLst/>
              <a:gdLst/>
              <a:ahLst/>
              <a:rect l="l" t="t" r="r" b="b"/>
              <a:pathLst>
                <a:path w="413" h="338">
                  <a:moveTo>
                    <a:pt x="220" y="69"/>
                  </a:moveTo>
                  <a:lnTo>
                    <a:pt x="186" y="30"/>
                  </a:lnTo>
                  <a:lnTo>
                    <a:pt x="163" y="100"/>
                  </a:lnTo>
                  <a:lnTo>
                    <a:pt x="86" y="56"/>
                  </a:lnTo>
                  <a:lnTo>
                    <a:pt x="102" y="121"/>
                  </a:lnTo>
                  <a:lnTo>
                    <a:pt x="23" y="130"/>
                  </a:lnTo>
                  <a:lnTo>
                    <a:pt x="75" y="181"/>
                  </a:lnTo>
                  <a:lnTo>
                    <a:pt x="0" y="201"/>
                  </a:lnTo>
                  <a:lnTo>
                    <a:pt x="63" y="241"/>
                  </a:lnTo>
                  <a:lnTo>
                    <a:pt x="24" y="278"/>
                  </a:lnTo>
                  <a:lnTo>
                    <a:pt x="91" y="285"/>
                  </a:lnTo>
                  <a:lnTo>
                    <a:pt x="93" y="338"/>
                  </a:lnTo>
                  <a:lnTo>
                    <a:pt x="144" y="283"/>
                  </a:lnTo>
                  <a:lnTo>
                    <a:pt x="167" y="308"/>
                  </a:lnTo>
                  <a:lnTo>
                    <a:pt x="188" y="271"/>
                  </a:lnTo>
                  <a:lnTo>
                    <a:pt x="221" y="294"/>
                  </a:lnTo>
                  <a:lnTo>
                    <a:pt x="234" y="250"/>
                  </a:lnTo>
                  <a:lnTo>
                    <a:pt x="287" y="271"/>
                  </a:lnTo>
                  <a:lnTo>
                    <a:pt x="280" y="225"/>
                  </a:lnTo>
                  <a:lnTo>
                    <a:pt x="360" y="245"/>
                  </a:lnTo>
                  <a:lnTo>
                    <a:pt x="313" y="192"/>
                  </a:lnTo>
                  <a:lnTo>
                    <a:pt x="350" y="176"/>
                  </a:lnTo>
                  <a:lnTo>
                    <a:pt x="325" y="148"/>
                  </a:lnTo>
                  <a:lnTo>
                    <a:pt x="413" y="104"/>
                  </a:lnTo>
                  <a:lnTo>
                    <a:pt x="313" y="102"/>
                  </a:lnTo>
                  <a:lnTo>
                    <a:pt x="345" y="49"/>
                  </a:lnTo>
                  <a:lnTo>
                    <a:pt x="278" y="90"/>
                  </a:lnTo>
                  <a:lnTo>
                    <a:pt x="283" y="0"/>
                  </a:lnTo>
                  <a:lnTo>
                    <a:pt x="220" y="69"/>
                  </a:lnTo>
                  <a:close/>
                </a:path>
              </a:pathLst>
            </a:custGeom>
            <a:solidFill>
              <a:srgbClr val="ffff99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8" name=""/>
          <p:cNvSpPr/>
          <p:nvPr/>
        </p:nvSpPr>
        <p:spPr>
          <a:xfrm>
            <a:off x="108000" y="1515960"/>
            <a:ext cx="37018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000 km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 000 km of f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ill growing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ing all 25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Stockholm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3841920" y="441612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DE6-36D9-4AA2-9452-391BCD42FC32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20CCF-5F01-4F02-BF4B-A278AB55D788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0" name=""/>
          <p:cNvGraphicFramePr/>
          <p:nvPr/>
        </p:nvGraphicFramePr>
        <p:xfrm>
          <a:off x="874800" y="1397160"/>
          <a:ext cx="778968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397160"/>
                    <a:ext cx="778968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2" name=""/>
          <p:cNvGrpSpPr/>
          <p:nvPr/>
        </p:nvGrpSpPr>
        <p:grpSpPr>
          <a:xfrm>
            <a:off x="287280" y="6111720"/>
            <a:ext cx="8647200" cy="624240"/>
            <a:chOff x="287280" y="6111720"/>
            <a:chExt cx="8647200" cy="624240"/>
          </a:xfrm>
        </p:grpSpPr>
        <p:sp>
          <p:nvSpPr>
            <p:cNvPr id="3253" name=""/>
            <p:cNvSpPr/>
            <p:nvPr/>
          </p:nvSpPr>
          <p:spPr>
            <a:xfrm>
              <a:off x="7241400" y="611172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29160" y="6553080"/>
              <a:ext cx="11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5" name=""/>
            <p:cNvGrpSpPr/>
            <p:nvPr/>
          </p:nvGrpSpPr>
          <p:grpSpPr>
            <a:xfrm>
              <a:off x="287280" y="6477120"/>
              <a:ext cx="8341920" cy="75600"/>
              <a:chOff x="287280" y="6477120"/>
              <a:chExt cx="8341920" cy="75600"/>
            </a:xfrm>
          </p:grpSpPr>
          <p:grpSp>
            <p:nvGrpSpPr>
              <p:cNvPr id="3256" name=""/>
              <p:cNvGrpSpPr/>
              <p:nvPr/>
            </p:nvGrpSpPr>
            <p:grpSpPr>
              <a:xfrm>
                <a:off x="287280" y="6477120"/>
                <a:ext cx="7260480" cy="75240"/>
                <a:chOff x="287280" y="6477120"/>
                <a:chExt cx="7260480" cy="7524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287280" y="6477120"/>
                  <a:ext cx="58680" cy="75240"/>
                </a:xfrm>
                <a:prstGeom prst="rect">
                  <a:avLst/>
                </a:prstGeom>
                <a:solidFill>
                  <a:srgbClr val="4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345960" y="6477120"/>
                  <a:ext cx="59040" cy="75240"/>
                </a:xfrm>
                <a:prstGeom prst="rect">
                  <a:avLst/>
                </a:prstGeom>
                <a:solidFill>
                  <a:srgbClr val="53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405360" y="6477120"/>
                  <a:ext cx="56880" cy="75240"/>
                </a:xfrm>
                <a:prstGeom prst="rect">
                  <a:avLst/>
                </a:prstGeom>
                <a:solidFill>
                  <a:srgbClr val="57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462600" y="6477120"/>
                  <a:ext cx="58680" cy="75240"/>
                </a:xfrm>
                <a:prstGeom prst="rect">
                  <a:avLst/>
                </a:prstGeom>
                <a:solidFill>
                  <a:srgbClr val="5b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521640" y="6477120"/>
                  <a:ext cx="56880" cy="75240"/>
                </a:xfrm>
                <a:prstGeom prst="rect">
                  <a:avLst/>
                </a:prstGeom>
                <a:solidFill>
                  <a:srgbClr val="5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578880" y="6477120"/>
                  <a:ext cx="58680" cy="75240"/>
                </a:xfrm>
                <a:prstGeom prst="rect">
                  <a:avLst/>
                </a:prstGeom>
                <a:solidFill>
                  <a:srgbClr val="63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637560" y="6477120"/>
                  <a:ext cx="58680" cy="75240"/>
                </a:xfrm>
                <a:prstGeom prst="rect">
                  <a:avLst/>
                </a:prstGeom>
                <a:solidFill>
                  <a:srgbClr val="68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696600" y="6477120"/>
                  <a:ext cx="59040" cy="75240"/>
                </a:xfrm>
                <a:prstGeom prst="rect">
                  <a:avLst/>
                </a:prstGeom>
                <a:solidFill>
                  <a:srgbClr val="6c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756000" y="6477120"/>
                  <a:ext cx="58680" cy="75240"/>
                </a:xfrm>
                <a:prstGeom prst="rect">
                  <a:avLst/>
                </a:prstGeom>
                <a:solidFill>
                  <a:srgbClr val="70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815040" y="6477120"/>
                  <a:ext cx="58680" cy="75240"/>
                </a:xfrm>
                <a:prstGeom prst="rect">
                  <a:avLst/>
                </a:prstGeom>
                <a:solidFill>
                  <a:srgbClr val="74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873720" y="6477120"/>
                  <a:ext cx="59040" cy="75240"/>
                </a:xfrm>
                <a:prstGeom prst="rect">
                  <a:avLst/>
                </a:prstGeom>
                <a:solidFill>
                  <a:srgbClr val="78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933120" y="6477120"/>
                  <a:ext cx="56520" cy="75240"/>
                </a:xfrm>
                <a:prstGeom prst="rect">
                  <a:avLst/>
                </a:prstGeom>
                <a:solidFill>
                  <a:srgbClr val="7c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990000" y="6477120"/>
                  <a:ext cx="59040" cy="75240"/>
                </a:xfrm>
                <a:prstGeom prst="rect">
                  <a:avLst/>
                </a:prstGeom>
                <a:solidFill>
                  <a:srgbClr val="81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1049400" y="6477120"/>
                  <a:ext cx="58680" cy="75240"/>
                </a:xfrm>
                <a:prstGeom prst="rect">
                  <a:avLst/>
                </a:prstGeom>
                <a:solidFill>
                  <a:srgbClr val="85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1108440" y="6477120"/>
                  <a:ext cx="58680" cy="75240"/>
                </a:xfrm>
                <a:prstGeom prst="rect">
                  <a:avLst/>
                </a:prstGeom>
                <a:solidFill>
                  <a:srgbClr val="89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1167120" y="6477120"/>
                  <a:ext cx="59040" cy="75240"/>
                </a:xfrm>
                <a:prstGeom prst="rect">
                  <a:avLst/>
                </a:prstGeom>
                <a:solidFill>
                  <a:srgbClr val="8d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1226520" y="6477120"/>
                  <a:ext cx="56520" cy="75240"/>
                </a:xfrm>
                <a:prstGeom prst="rect">
                  <a:avLst/>
                </a:prstGeom>
                <a:solidFill>
                  <a:srgbClr val="9106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1283400" y="6477120"/>
                  <a:ext cx="59040" cy="75240"/>
                </a:xfrm>
                <a:prstGeom prst="rect">
                  <a:avLst/>
                </a:prstGeom>
                <a:solidFill>
                  <a:srgbClr val="96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1342800" y="6477120"/>
                  <a:ext cx="56880" cy="75240"/>
                </a:xfrm>
                <a:prstGeom prst="rect">
                  <a:avLst/>
                </a:prstGeom>
                <a:solidFill>
                  <a:srgbClr val="9a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1400040" y="6477120"/>
                  <a:ext cx="58680" cy="75240"/>
                </a:xfrm>
                <a:prstGeom prst="rect">
                  <a:avLst/>
                </a:prstGeom>
                <a:solidFill>
                  <a:srgbClr val="9e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1458720" y="6477120"/>
                  <a:ext cx="58680" cy="75240"/>
                </a:xfrm>
                <a:prstGeom prst="rect">
                  <a:avLst/>
                </a:prstGeom>
                <a:solidFill>
                  <a:srgbClr val="a2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1517760" y="6477120"/>
                  <a:ext cx="59040" cy="75240"/>
                </a:xfrm>
                <a:prstGeom prst="rect">
                  <a:avLst/>
                </a:prstGeom>
                <a:solidFill>
                  <a:srgbClr val="a6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1577160" y="6477120"/>
                  <a:ext cx="58680" cy="75240"/>
                </a:xfrm>
                <a:prstGeom prst="rect">
                  <a:avLst/>
                </a:prstGeom>
                <a:solidFill>
                  <a:srgbClr val="aa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1636200" y="6477120"/>
                  <a:ext cx="58680" cy="75240"/>
                </a:xfrm>
                <a:prstGeom prst="rect">
                  <a:avLst/>
                </a:prstGeom>
                <a:solidFill>
                  <a:srgbClr val="af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1695240" y="6477120"/>
                  <a:ext cx="58680" cy="75240"/>
                </a:xfrm>
                <a:prstGeom prst="rect">
                  <a:avLst/>
                </a:prstGeom>
                <a:solidFill>
                  <a:srgbClr val="b3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1753920" y="6477120"/>
                  <a:ext cx="59040" cy="75240"/>
                </a:xfrm>
                <a:prstGeom prst="rect">
                  <a:avLst/>
                </a:prstGeom>
                <a:solidFill>
                  <a:srgbClr val="b7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1813320" y="6477120"/>
                  <a:ext cx="56880" cy="75240"/>
                </a:xfrm>
                <a:prstGeom prst="rect">
                  <a:avLst/>
                </a:prstGeom>
                <a:solidFill>
                  <a:srgbClr val="bb04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1870560" y="6477120"/>
                  <a:ext cx="58680" cy="75240"/>
                </a:xfrm>
                <a:prstGeom prst="rect">
                  <a:avLst/>
                </a:prstGeom>
                <a:solidFill>
                  <a:srgbClr val="bf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1929600" y="6477120"/>
                  <a:ext cx="58680" cy="75240"/>
                </a:xfrm>
                <a:prstGeom prst="rect">
                  <a:avLst/>
                </a:prstGeom>
                <a:solidFill>
                  <a:srgbClr val="c3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1988640" y="6477120"/>
                  <a:ext cx="58680" cy="75240"/>
                </a:xfrm>
                <a:prstGeom prst="rect">
                  <a:avLst/>
                </a:prstGeom>
                <a:solidFill>
                  <a:srgbClr val="c8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2047320" y="6477120"/>
                  <a:ext cx="56880" cy="75240"/>
                </a:xfrm>
                <a:prstGeom prst="rect">
                  <a:avLst/>
                </a:prstGeom>
                <a:solidFill>
                  <a:srgbClr val="cc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2104560" y="6477120"/>
                  <a:ext cx="59040" cy="75240"/>
                </a:xfrm>
                <a:prstGeom prst="rect">
                  <a:avLst/>
                </a:prstGeom>
                <a:solidFill>
                  <a:srgbClr val="d0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2163960" y="6477120"/>
                  <a:ext cx="58680" cy="75240"/>
                </a:xfrm>
                <a:prstGeom prst="rect">
                  <a:avLst/>
                </a:prstGeom>
                <a:solidFill>
                  <a:srgbClr val="d4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2223000" y="6477120"/>
                  <a:ext cx="58680" cy="75240"/>
                </a:xfrm>
                <a:prstGeom prst="rect">
                  <a:avLst/>
                </a:prstGeom>
                <a:solidFill>
                  <a:srgbClr val="d8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2282040" y="6477120"/>
                  <a:ext cx="56880" cy="75240"/>
                </a:xfrm>
                <a:prstGeom prst="rect">
                  <a:avLst/>
                </a:prstGeom>
                <a:solidFill>
                  <a:srgbClr val="dc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2338920" y="6477120"/>
                  <a:ext cx="58680" cy="75240"/>
                </a:xfrm>
                <a:prstGeom prst="rect">
                  <a:avLst/>
                </a:prstGeom>
                <a:solidFill>
                  <a:srgbClr val="e1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2397960" y="6477120"/>
                  <a:ext cx="59040" cy="75240"/>
                </a:xfrm>
                <a:prstGeom prst="rect">
                  <a:avLst/>
                </a:prstGeom>
                <a:solidFill>
                  <a:srgbClr val="e5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2457360" y="6477120"/>
                  <a:ext cx="58680" cy="75240"/>
                </a:xfrm>
                <a:prstGeom prst="rect">
                  <a:avLst/>
                </a:prstGeom>
                <a:solidFill>
                  <a:srgbClr val="e9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2516400" y="6477120"/>
                  <a:ext cx="58680" cy="75240"/>
                </a:xfrm>
                <a:prstGeom prst="rect">
                  <a:avLst/>
                </a:prstGeom>
                <a:solidFill>
                  <a:srgbClr val="ed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2575440" y="6477120"/>
                  <a:ext cx="59040" cy="75240"/>
                </a:xfrm>
                <a:prstGeom prst="rect">
                  <a:avLst/>
                </a:prstGeom>
                <a:solidFill>
                  <a:srgbClr val="f1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2634840" y="6477120"/>
                  <a:ext cx="58680" cy="75240"/>
                </a:xfrm>
                <a:prstGeom prst="rect">
                  <a:avLst/>
                </a:prstGeom>
                <a:solidFill>
                  <a:srgbClr val="f6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2693520" y="6477120"/>
                  <a:ext cx="56880" cy="75240"/>
                </a:xfrm>
                <a:prstGeom prst="rect">
                  <a:avLst/>
                </a:prstGeom>
                <a:solidFill>
                  <a:srgbClr val="fa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2750760" y="6477120"/>
                  <a:ext cx="58680" cy="75240"/>
                </a:xfrm>
                <a:prstGeom prst="rect">
                  <a:avLst/>
                </a:prstGeom>
                <a:solidFill>
                  <a:srgbClr val="fe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2809800" y="6477120"/>
                  <a:ext cx="56880" cy="75240"/>
                </a:xfrm>
                <a:prstGeom prst="rect">
                  <a:avLst/>
                </a:prstGeom>
                <a:solidFill>
                  <a:srgbClr val="ff0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2867040" y="6477120"/>
                  <a:ext cx="58680" cy="75240"/>
                </a:xfrm>
                <a:prstGeom prst="rect">
                  <a:avLst/>
                </a:prstGeom>
                <a:solidFill>
                  <a:srgbClr val="ff0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2925720" y="6477120"/>
                  <a:ext cx="58680" cy="75240"/>
                </a:xfrm>
                <a:prstGeom prst="rect">
                  <a:avLst/>
                </a:prstGeom>
                <a:solidFill>
                  <a:srgbClr val="ff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2984760" y="6477120"/>
                  <a:ext cx="59040" cy="75240"/>
                </a:xfrm>
                <a:prstGeom prst="rect">
                  <a:avLst/>
                </a:prstGeom>
                <a:solidFill>
                  <a:srgbClr val="f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3044160" y="6477120"/>
                  <a:ext cx="58680" cy="75240"/>
                </a:xfrm>
                <a:prstGeom prst="rect">
                  <a:avLst/>
                </a:prstGeom>
                <a:solidFill>
                  <a:srgbClr val="ff1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3103200" y="6477120"/>
                  <a:ext cx="58680" cy="75240"/>
                </a:xfrm>
                <a:prstGeom prst="rect">
                  <a:avLst/>
                </a:prstGeom>
                <a:solidFill>
                  <a:srgbClr val="ff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3162240" y="6477120"/>
                  <a:ext cx="56880" cy="75240"/>
                </a:xfrm>
                <a:prstGeom prst="rect">
                  <a:avLst/>
                </a:pr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3219120" y="6477120"/>
                  <a:ext cx="59040" cy="75240"/>
                </a:xfrm>
                <a:prstGeom prst="rect">
                  <a:avLst/>
                </a:prstGeom>
                <a:solidFill>
                  <a:srgbClr val="ff1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3278520" y="6477120"/>
                  <a:ext cx="58680" cy="75240"/>
                </a:xfrm>
                <a:prstGeom prst="rect">
                  <a:avLst/>
                </a:prstGeom>
                <a:solidFill>
                  <a:srgbClr val="ff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3337560" y="6477120"/>
                  <a:ext cx="58680" cy="75240"/>
                </a:xfrm>
                <a:prstGeom prst="rect">
                  <a:avLst/>
                </a:prstGeom>
                <a:solidFill>
                  <a:srgbClr val="ff2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3396600" y="6477120"/>
                  <a:ext cx="58680" cy="75240"/>
                </a:xfrm>
                <a:prstGeom prst="rect">
                  <a:avLst/>
                </a:prstGeom>
                <a:solidFill>
                  <a:srgbClr val="ff2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3455640" y="6477120"/>
                  <a:ext cx="59040" cy="75240"/>
                </a:xfrm>
                <a:prstGeom prst="rect">
                  <a:avLst/>
                </a:prstGeom>
                <a:solidFill>
                  <a:srgbClr val="ff2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3515040" y="6477120"/>
                  <a:ext cx="58680" cy="75240"/>
                </a:xfrm>
                <a:prstGeom prst="rect">
                  <a:avLst/>
                </a:prstGeom>
                <a:solidFill>
                  <a:srgbClr val="ff2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3573720" y="6477120"/>
                  <a:ext cx="56880" cy="75240"/>
                </a:xfrm>
                <a:prstGeom prst="rect">
                  <a:avLst/>
                </a:prstGeom>
                <a:solidFill>
                  <a:srgbClr val="ff3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3630960" y="6477120"/>
                  <a:ext cx="56880" cy="75240"/>
                </a:xfrm>
                <a:prstGeom prst="rect">
                  <a:avLst/>
                </a:prstGeom>
                <a:solidFill>
                  <a:srgbClr val="ff3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3688200" y="6477120"/>
                  <a:ext cx="58680" cy="75240"/>
                </a:xfrm>
                <a:prstGeom prst="rect">
                  <a:avLst/>
                </a:prstGeom>
                <a:solidFill>
                  <a:srgbClr val="ff3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3747240" y="6477120"/>
                  <a:ext cx="58680" cy="75240"/>
                </a:xfrm>
                <a:prstGeom prst="rect">
                  <a:avLst/>
                </a:prstGeom>
                <a:solidFill>
                  <a:srgbClr val="ff3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3805920" y="6477120"/>
                  <a:ext cx="59040" cy="75240"/>
                </a:xfrm>
                <a:prstGeom prst="rect">
                  <a:avLst/>
                </a:prstGeom>
                <a:solidFill>
                  <a:srgbClr val="ff3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3865320" y="6477120"/>
                  <a:ext cx="58680" cy="75240"/>
                </a:xfrm>
                <a:prstGeom prst="rect">
                  <a:avLst/>
                </a:prstGeom>
                <a:solidFill>
                  <a:srgbClr val="f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3924360" y="6477120"/>
                  <a:ext cx="58680" cy="75240"/>
                </a:xfrm>
                <a:prstGeom prst="rect">
                  <a:avLst/>
                </a:prstGeom>
                <a:solidFill>
                  <a:srgbClr val="ff4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3983400" y="6477120"/>
                  <a:ext cx="58680" cy="75240"/>
                </a:xfrm>
                <a:prstGeom prst="rect">
                  <a:avLst/>
                </a:prstGeo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042440" y="6477120"/>
                  <a:ext cx="31680" cy="75240"/>
                </a:xfrm>
                <a:prstGeom prst="rect">
                  <a:avLst/>
                </a:prstGeom>
                <a:solidFill>
                  <a:srgbClr val="ff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4074120" y="6477120"/>
                  <a:ext cx="31680" cy="75240"/>
                </a:xfrm>
                <a:prstGeom prst="rect">
                  <a:avLst/>
                </a:prstGeom>
                <a:solidFill>
                  <a:srgbClr val="ff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4105800" y="6477120"/>
                  <a:ext cx="33480" cy="75240"/>
                </a:xfrm>
                <a:prstGeom prst="rect">
                  <a:avLst/>
                </a:prstGeom>
                <a:solidFill>
                  <a:srgbClr val="ff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4139280" y="6477120"/>
                  <a:ext cx="33480" cy="75240"/>
                </a:xfrm>
                <a:prstGeom prst="rect">
                  <a:avLst/>
                </a:prstGeom>
                <a:solidFill>
                  <a:srgbClr val="ff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4172760" y="6477120"/>
                  <a:ext cx="33480" cy="75240"/>
                </a:xfrm>
                <a:prstGeom prst="rect">
                  <a:avLst/>
                </a:prstGeom>
                <a:solidFill>
                  <a:srgbClr val="f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4206240" y="6477120"/>
                  <a:ext cx="29160" cy="75240"/>
                </a:xfrm>
                <a:prstGeom prst="rect">
                  <a:avLst/>
                </a:prstGeom>
                <a:solidFill>
                  <a:srgbClr val="ff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4235760" y="6477120"/>
                  <a:ext cx="33480" cy="75240"/>
                </a:xfrm>
                <a:prstGeom prst="rect">
                  <a:avLst/>
                </a:prstGeom>
                <a:solidFill>
                  <a:srgbClr val="ff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4269240" y="6477120"/>
                  <a:ext cx="33480" cy="75240"/>
                </a:xfrm>
                <a:prstGeom prst="rect">
                  <a:avLst/>
                </a:prstGeom>
                <a:solidFill>
                  <a:srgbClr val="ff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4302720" y="6477120"/>
                  <a:ext cx="33480" cy="75240"/>
                </a:xfrm>
                <a:prstGeom prst="rect">
                  <a:avLst/>
                </a:prstGeom>
                <a:solidFill>
                  <a:srgbClr val="ff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4336200" y="6477120"/>
                  <a:ext cx="30960" cy="75240"/>
                </a:xfrm>
                <a:prstGeom prst="rect">
                  <a:avLst/>
                </a:prstGeom>
                <a:solidFill>
                  <a:srgbClr val="ff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4367520" y="6477120"/>
                  <a:ext cx="31680" cy="75240"/>
                </a:xfrm>
                <a:prstGeom prst="rect">
                  <a:avLst/>
                </a:prstGeom>
                <a:solidFill>
                  <a:srgbClr val="ff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4399200" y="6477120"/>
                  <a:ext cx="33480" cy="75240"/>
                </a:xfrm>
                <a:prstGeom prst="rect">
                  <a:avLst/>
                </a:pr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4432680" y="6477120"/>
                  <a:ext cx="33480" cy="75240"/>
                </a:xfrm>
                <a:prstGeom prst="rect">
                  <a:avLst/>
                </a:prstGeom>
                <a:solidFill>
                  <a:srgbClr val="ff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4466160" y="6477120"/>
                  <a:ext cx="30960" cy="75240"/>
                </a:xfrm>
                <a:prstGeom prst="rect">
                  <a:avLst/>
                </a:prstGeom>
                <a:solidFill>
                  <a:srgbClr val="ff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4497480" y="6477120"/>
                  <a:ext cx="33480" cy="75240"/>
                </a:xfrm>
                <a:prstGeom prst="rect">
                  <a:avLst/>
                </a:prstGeom>
                <a:solidFill>
                  <a:srgbClr val="ff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4530960" y="6477120"/>
                  <a:ext cx="31680" cy="75240"/>
                </a:xfrm>
                <a:prstGeom prst="rect">
                  <a:avLst/>
                </a:prstGeom>
                <a:solidFill>
                  <a:srgbClr val="ff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4562640" y="6477120"/>
                  <a:ext cx="33480" cy="75240"/>
                </a:xfrm>
                <a:prstGeom prst="rect">
                  <a:avLst/>
                </a:prstGeom>
                <a:solidFill>
                  <a:srgbClr val="ff6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4596120" y="6477120"/>
                  <a:ext cx="30960" cy="75240"/>
                </a:xfrm>
                <a:prstGeom prst="rect">
                  <a:avLst/>
                </a:prstGeom>
                <a:solidFill>
                  <a:srgbClr val="ff6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4627440" y="6477120"/>
                  <a:ext cx="33480" cy="75240"/>
                </a:xfrm>
                <a:prstGeom prst="rect">
                  <a:avLst/>
                </a:prstGeom>
                <a:solidFill>
                  <a:srgbClr val="ff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4660920" y="6477120"/>
                  <a:ext cx="33480" cy="75240"/>
                </a:xfrm>
                <a:prstGeom prst="rect">
                  <a:avLst/>
                </a:prstGeo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4694400" y="6477120"/>
                  <a:ext cx="31680" cy="75240"/>
                </a:xfrm>
                <a:prstGeom prst="rect">
                  <a:avLst/>
                </a:prstGeom>
                <a:solidFill>
                  <a:srgbClr val="ff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726080" y="6477120"/>
                  <a:ext cx="30960" cy="75240"/>
                </a:xfrm>
                <a:prstGeom prst="rect">
                  <a:avLst/>
                </a:prstGeom>
                <a:solidFill>
                  <a:srgbClr val="ff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4757400" y="6477120"/>
                  <a:ext cx="33480" cy="75240"/>
                </a:xfrm>
                <a:prstGeom prst="rect">
                  <a:avLst/>
                </a:prstGeom>
                <a:solidFill>
                  <a:srgbClr val="ff7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4790880" y="6477120"/>
                  <a:ext cx="33480" cy="75240"/>
                </a:xfrm>
                <a:prstGeom prst="rect">
                  <a:avLst/>
                </a:prstGeom>
                <a:solidFill>
                  <a:srgbClr val="ff7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4824360" y="6477120"/>
                  <a:ext cx="31680" cy="75240"/>
                </a:xfrm>
                <a:prstGeom prst="rect">
                  <a:avLst/>
                </a:prstGeom>
                <a:solidFill>
                  <a:srgbClr val="f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4856040" y="6477120"/>
                  <a:ext cx="33480" cy="75240"/>
                </a:xfrm>
                <a:prstGeom prst="rect">
                  <a:avLst/>
                </a:prstGeom>
                <a:solidFill>
                  <a:srgbClr val="ff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889520" y="6477120"/>
                  <a:ext cx="30960" cy="75240"/>
                </a:xfrm>
                <a:prstGeom prst="rect">
                  <a:avLst/>
                </a:prstGeom>
                <a:solidFill>
                  <a:srgbClr val="ff7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4920840" y="6477120"/>
                  <a:ext cx="33480" cy="75240"/>
                </a:xfrm>
                <a:prstGeom prst="rect">
                  <a:avLst/>
                </a:prstGeom>
                <a:solidFill>
                  <a:srgbClr val="ff7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954320" y="6477120"/>
                  <a:ext cx="31680" cy="75240"/>
                </a:xfrm>
                <a:prstGeom prst="rect">
                  <a:avLst/>
                </a:prstGeom>
                <a:solidFill>
                  <a:srgbClr val="ff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4986000" y="6477120"/>
                  <a:ext cx="33480" cy="75240"/>
                </a:xfrm>
                <a:prstGeom prst="rect">
                  <a:avLst/>
                </a:prstGeom>
                <a:solidFill>
                  <a:srgbClr val="ff7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5019480" y="6477120"/>
                  <a:ext cx="33480" cy="75240"/>
                </a:xfrm>
                <a:prstGeom prst="rect">
                  <a:avLst/>
                </a:pr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5052960" y="6477120"/>
                  <a:ext cx="30960" cy="7524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5084280" y="6477120"/>
                  <a:ext cx="31680" cy="75240"/>
                </a:xfrm>
                <a:prstGeom prst="rect">
                  <a:avLst/>
                </a:prstGeom>
                <a:solidFill>
                  <a:srgbClr val="ff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5115960" y="6477120"/>
                  <a:ext cx="33480" cy="75240"/>
                </a:xfrm>
                <a:prstGeom prst="rect">
                  <a:avLst/>
                </a:prstGeom>
                <a:solidFill>
                  <a:srgbClr val="ff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5149440" y="6477120"/>
                  <a:ext cx="33480" cy="75240"/>
                </a:xfrm>
                <a:prstGeom prst="rect">
                  <a:avLst/>
                </a:prstGeom>
                <a:solidFill>
                  <a:srgbClr val="ff8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5182920" y="6477120"/>
                  <a:ext cx="30960" cy="75240"/>
                </a:xfrm>
                <a:prstGeom prst="rect">
                  <a:avLst/>
                </a:prstGeom>
                <a:solidFill>
                  <a:srgbClr val="ff8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5214240" y="6477120"/>
                  <a:ext cx="31680" cy="75240"/>
                </a:xfrm>
                <a:prstGeom prst="rect">
                  <a:avLst/>
                </a:prstGeom>
                <a:solidFill>
                  <a:srgbClr val="ff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5245920" y="6477120"/>
                  <a:ext cx="33480" cy="75240"/>
                </a:xfrm>
                <a:prstGeom prst="rect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5279400" y="6477120"/>
                  <a:ext cx="33480" cy="75240"/>
                </a:xfrm>
                <a:prstGeom prst="rect">
                  <a:avLst/>
                </a:prstGeom>
                <a:solidFill>
                  <a:srgbClr val="ff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5312880" y="6477120"/>
                  <a:ext cx="30960" cy="75240"/>
                </a:xfrm>
                <a:prstGeom prst="rect">
                  <a:avLst/>
                </a:prstGeom>
                <a:solidFill>
                  <a:srgbClr val="ff8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5344200" y="6477120"/>
                  <a:ext cx="33480" cy="75240"/>
                </a:xfrm>
                <a:prstGeom prst="rect">
                  <a:avLst/>
                </a:prstGeom>
                <a:solidFill>
                  <a:srgbClr val="ff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5377680" y="6477120"/>
                  <a:ext cx="33480" cy="75240"/>
                </a:xfrm>
                <a:prstGeom prst="rect">
                  <a:avLst/>
                </a:prstGeom>
                <a:solidFill>
                  <a:srgbClr val="ff8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5411160" y="6477120"/>
                  <a:ext cx="31680" cy="75240"/>
                </a:xfrm>
                <a:prstGeom prst="rect">
                  <a:avLst/>
                </a:prstGeom>
                <a:solidFill>
                  <a:srgbClr val="ff8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5442840" y="6477120"/>
                  <a:ext cx="30960" cy="7524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5474160" y="6477120"/>
                  <a:ext cx="33480" cy="75240"/>
                </a:xfrm>
                <a:prstGeom prst="rect">
                  <a:avLst/>
                </a:prstGeom>
                <a:solidFill>
                  <a:srgbClr val="ff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5507640" y="6477120"/>
                  <a:ext cx="33480" cy="75240"/>
                </a:xfrm>
                <a:prstGeom prst="rect">
                  <a:avLst/>
                </a:prstGeom>
                <a:solidFill>
                  <a:srgbClr val="ff8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5541120" y="6477120"/>
                  <a:ext cx="33480" cy="75240"/>
                </a:xfrm>
                <a:prstGeom prst="rect">
                  <a:avLst/>
                </a:prstGeom>
                <a:solidFill>
                  <a:srgbClr val="ff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5574600" y="6477120"/>
                  <a:ext cx="29160" cy="75240"/>
                </a:xfrm>
                <a:prstGeom prst="rect">
                  <a:avLst/>
                </a:prstGeom>
                <a:solidFill>
                  <a:srgbClr val="ff9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5604120" y="6477120"/>
                  <a:ext cx="33480" cy="75240"/>
                </a:xfrm>
                <a:prstGeom prst="rect">
                  <a:avLst/>
                </a:prstGeom>
                <a:solidFill>
                  <a:srgbClr val="ff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5637600" y="6477120"/>
                  <a:ext cx="33480" cy="75240"/>
                </a:xfrm>
                <a:prstGeom prst="rect">
                  <a:avLst/>
                </a:prstGeom>
                <a:solidFill>
                  <a:srgbClr val="ff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5671080" y="6477120"/>
                  <a:ext cx="33480" cy="75240"/>
                </a:xfrm>
                <a:prstGeom prst="rect">
                  <a:avLst/>
                </a:prstGeom>
                <a:solidFill>
                  <a:srgbClr val="ff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5704560" y="6477120"/>
                  <a:ext cx="31680" cy="75240"/>
                </a:xfrm>
                <a:prstGeom prst="rect">
                  <a:avLst/>
                </a:prstGeo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5736240" y="6477120"/>
                  <a:ext cx="30960" cy="75240"/>
                </a:xfrm>
                <a:prstGeom prst="rect">
                  <a:avLst/>
                </a:prstGeom>
                <a:solidFill>
                  <a:srgbClr val="ff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5767560" y="6477120"/>
                  <a:ext cx="33480" cy="75240"/>
                </a:xfrm>
                <a:prstGeom prst="rect">
                  <a:avLst/>
                </a:prstGeom>
                <a:solidFill>
                  <a:srgbClr val="ff9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5801040" y="6477120"/>
                  <a:ext cx="31680" cy="75240"/>
                </a:xfrm>
                <a:prstGeom prst="rect">
                  <a:avLst/>
                </a:prstGeom>
                <a:solidFill>
                  <a:srgbClr val="ff9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5832720" y="6477120"/>
                  <a:ext cx="33480" cy="752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5866200" y="6477120"/>
                  <a:ext cx="33480" cy="75240"/>
                </a:xfrm>
                <a:prstGeom prst="rect">
                  <a:avLst/>
                </a:prstGeom>
                <a:solidFill>
                  <a:srgbClr val="ff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5899680" y="6477120"/>
                  <a:ext cx="30960" cy="75240"/>
                </a:xfrm>
                <a:prstGeom prst="rect">
                  <a:avLst/>
                </a:prstGeom>
                <a:solidFill>
                  <a:srgbClr val="ff9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5931000" y="6477120"/>
                  <a:ext cx="31680" cy="75240"/>
                </a:xfrm>
                <a:prstGeom prst="rect">
                  <a:avLst/>
                </a:prstGeom>
                <a:solidFill>
                  <a:srgbClr val="ff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5962680" y="6477120"/>
                  <a:ext cx="33480" cy="75240"/>
                </a:xfrm>
                <a:prstGeom prst="rect">
                  <a:avLst/>
                </a:prstGeom>
                <a:solidFill>
                  <a:srgbClr val="ff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5996160" y="6477120"/>
                  <a:ext cx="33480" cy="75240"/>
                </a:xfrm>
                <a:prstGeom prst="rect">
                  <a:avLst/>
                </a:prstGeom>
                <a:solidFill>
                  <a:srgbClr val="ff9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6029640" y="6477120"/>
                  <a:ext cx="33480" cy="75240"/>
                </a:xfrm>
                <a:prstGeom prst="rect">
                  <a:avLst/>
                </a:pr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6063120" y="6477120"/>
                  <a:ext cx="29160" cy="75240"/>
                </a:xfrm>
                <a:prstGeom prst="rect">
                  <a:avLst/>
                </a:prstGeom>
                <a:solidFill>
                  <a:srgbClr val="ff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6092640" y="6477120"/>
                  <a:ext cx="33480" cy="75240"/>
                </a:xfrm>
                <a:prstGeom prst="rect">
                  <a:avLst/>
                </a:prstGeom>
                <a:solidFill>
                  <a:srgbClr val="ff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6126120" y="6477120"/>
                  <a:ext cx="33480" cy="75240"/>
                </a:xfrm>
                <a:prstGeom prst="rect">
                  <a:avLst/>
                </a:prstGeom>
                <a:solidFill>
                  <a:srgbClr val="ff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6159600" y="6477120"/>
                  <a:ext cx="19440" cy="7524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179040" y="6477120"/>
                  <a:ext cx="19440" cy="7524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6198840" y="6477120"/>
                  <a:ext cx="19440" cy="75240"/>
                </a:xfrm>
                <a:prstGeom prst="rect">
                  <a:avLst/>
                </a:prstGeom>
                <a:solidFill>
                  <a:srgbClr val="ff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6218280" y="6477120"/>
                  <a:ext cx="17640" cy="7524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6236280" y="6477120"/>
                  <a:ext cx="21240" cy="7524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257880" y="6477120"/>
                  <a:ext cx="19800" cy="75240"/>
                </a:xfrm>
                <a:prstGeom prst="rect">
                  <a:avLst/>
                </a:prstGeo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6277680" y="6477120"/>
                  <a:ext cx="17280" cy="7524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6295320" y="6477120"/>
                  <a:ext cx="19440" cy="7524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6314760" y="6477120"/>
                  <a:ext cx="21600" cy="752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6336720" y="6477120"/>
                  <a:ext cx="17640" cy="752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6354720" y="6477120"/>
                  <a:ext cx="19440" cy="75240"/>
                </a:xfrm>
                <a:prstGeom prst="rect">
                  <a:avLst/>
                </a:prstGeom>
                <a:solidFill>
                  <a:srgbClr val="ff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6374160" y="6477120"/>
                  <a:ext cx="21240" cy="7524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6395760" y="6477120"/>
                  <a:ext cx="17640" cy="7524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6413400" y="6477120"/>
                  <a:ext cx="19440" cy="75240"/>
                </a:xfrm>
                <a:prstGeom prst="rect">
                  <a:avLst/>
                </a:prstGeom>
                <a:solidFill>
                  <a:srgbClr val="ffa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6433200" y="6477120"/>
                  <a:ext cx="19440" cy="7524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6453000" y="6477120"/>
                  <a:ext cx="19440" cy="7524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6472440" y="6477120"/>
                  <a:ext cx="19440" cy="7524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6492240" y="6477120"/>
                  <a:ext cx="17640" cy="7524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6509880" y="6477120"/>
                  <a:ext cx="21240" cy="75240"/>
                </a:xfrm>
                <a:prstGeom prst="rect">
                  <a:avLst/>
                </a:prstGeom>
                <a:solidFill>
                  <a:srgbClr val="ff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6531480" y="6477120"/>
                  <a:ext cx="19440" cy="7524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6551280" y="6477120"/>
                  <a:ext cx="17640" cy="7524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6568920" y="6477120"/>
                  <a:ext cx="19440" cy="75240"/>
                </a:xfrm>
                <a:prstGeom prst="rect">
                  <a:avLst/>
                </a:prstGeom>
                <a:solidFill>
                  <a:srgbClr val="ff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6588720" y="6477120"/>
                  <a:ext cx="21600" cy="7524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6610680" y="6477120"/>
                  <a:ext cx="17280" cy="7524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6627960" y="6477120"/>
                  <a:ext cx="19800" cy="7524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6648120" y="6477120"/>
                  <a:ext cx="21240" cy="7524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6669360" y="6477120"/>
                  <a:ext cx="17640" cy="75240"/>
                </a:xfrm>
                <a:prstGeom prst="rect">
                  <a:avLst/>
                </a:pr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6687360" y="6477120"/>
                  <a:ext cx="19440" cy="7524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6706800" y="6477120"/>
                  <a:ext cx="19440" cy="7524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6726600" y="6477120"/>
                  <a:ext cx="19440" cy="75240"/>
                </a:xfrm>
                <a:prstGeom prst="rect">
                  <a:avLst/>
                </a:prstGeom>
                <a:solidFill>
                  <a:srgbClr val="ff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6746400" y="6477120"/>
                  <a:ext cx="19440" cy="7524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6765840" y="6477120"/>
                  <a:ext cx="17640" cy="7524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6783840" y="6477120"/>
                  <a:ext cx="21240" cy="7524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6805080" y="6477120"/>
                  <a:ext cx="19440" cy="7524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6824880" y="6477120"/>
                  <a:ext cx="17640" cy="75240"/>
                </a:xfrm>
                <a:prstGeom prst="rect">
                  <a:avLst/>
                </a:prstGeom>
                <a:solidFill>
                  <a:srgbClr val="ffb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6842880" y="6477120"/>
                  <a:ext cx="19440" cy="7524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6862320" y="6477120"/>
                  <a:ext cx="21600" cy="7524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6884280" y="6477120"/>
                  <a:ext cx="17280" cy="75240"/>
                </a:xfrm>
                <a:prstGeom prst="rect">
                  <a:avLst/>
                </a:pr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6901560" y="6477120"/>
                  <a:ext cx="19800" cy="7524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6921720" y="6477120"/>
                  <a:ext cx="19440" cy="7524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6941520" y="6477120"/>
                  <a:ext cx="19440" cy="7524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6960960" y="6477120"/>
                  <a:ext cx="19440" cy="7524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6980760" y="6477120"/>
                  <a:ext cx="19440" cy="75240"/>
                </a:xfrm>
                <a:prstGeom prst="rect">
                  <a:avLst/>
                </a:prstGeom>
                <a:solidFill>
                  <a:srgbClr val="ff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7000200" y="6477120"/>
                  <a:ext cx="19440" cy="7524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7020000" y="6477120"/>
                  <a:ext cx="19440" cy="7524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7039800" y="6477120"/>
                  <a:ext cx="17640" cy="75240"/>
                </a:xfrm>
                <a:prstGeom prst="rect">
                  <a:avLst/>
                </a:prstGeom>
                <a:solidFill>
                  <a:srgbClr val="f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57440" y="6477120"/>
                  <a:ext cx="21240" cy="7524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7079040" y="6477120"/>
                  <a:ext cx="19440" cy="7524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098480" y="6477120"/>
                  <a:ext cx="17640" cy="7524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116480" y="6477120"/>
                  <a:ext cx="19440" cy="7524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7136280" y="6477120"/>
                  <a:ext cx="21600" cy="75240"/>
                </a:xfrm>
                <a:prstGeom prst="rect">
                  <a:avLst/>
                </a:prstGeom>
                <a:solidFill>
                  <a:srgbClr val="ffc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7157880" y="6477120"/>
                  <a:ext cx="17280" cy="7524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175520" y="6477120"/>
                  <a:ext cx="19440" cy="7524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194960" y="6477120"/>
                  <a:ext cx="19800" cy="75240"/>
                </a:xfrm>
                <a:prstGeom prst="rect">
                  <a:avLst/>
                </a:prstGeom>
                <a:solidFill>
                  <a:srgbClr val="ff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7215120" y="6477120"/>
                  <a:ext cx="19440" cy="7524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7234920" y="6477120"/>
                  <a:ext cx="19440" cy="7524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7254360" y="6477120"/>
                  <a:ext cx="19440" cy="7524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7274160" y="6477120"/>
                  <a:ext cx="19440" cy="7524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7293600" y="6477120"/>
                  <a:ext cx="19440" cy="75240"/>
                </a:xfrm>
                <a:prstGeom prst="rect">
                  <a:avLst/>
                </a:prstGeom>
                <a:solidFill>
                  <a:srgbClr val="ffc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7313400" y="6477120"/>
                  <a:ext cx="17640" cy="7524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7331400" y="6477120"/>
                  <a:ext cx="21240" cy="7524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7352640" y="6477120"/>
                  <a:ext cx="19440" cy="75240"/>
                </a:xfrm>
                <a:prstGeom prst="rect">
                  <a:avLst/>
                </a:pr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7372440" y="6477120"/>
                  <a:ext cx="17640" cy="7524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390080" y="6477120"/>
                  <a:ext cx="19440" cy="7524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7409880" y="6477120"/>
                  <a:ext cx="21600" cy="7524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7431840" y="6477120"/>
                  <a:ext cx="17280" cy="7524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7449120" y="6477120"/>
                  <a:ext cx="19440" cy="7524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468920" y="6477120"/>
                  <a:ext cx="19800" cy="7524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489080" y="6477120"/>
                  <a:ext cx="19440" cy="7524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508520" y="6477120"/>
                  <a:ext cx="19440" cy="75240"/>
                </a:xfrm>
                <a:prstGeom prst="rect">
                  <a:avLst/>
                </a:prstGeom>
                <a:solidFill>
                  <a:srgbClr val="ffc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528320" y="6477120"/>
                  <a:ext cx="19440" cy="7524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7" name=""/>
              <p:cNvSpPr/>
              <p:nvPr/>
            </p:nvSpPr>
            <p:spPr>
              <a:xfrm>
                <a:off x="7548120" y="6477120"/>
                <a:ext cx="19440" cy="75600"/>
              </a:xfrm>
              <a:prstGeom prst="rect">
                <a:avLst/>
              </a:pr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567920" y="6477120"/>
                <a:ext cx="19440" cy="7560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587360" y="6477120"/>
                <a:ext cx="17640" cy="7560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605360" y="6477120"/>
                <a:ext cx="21240" cy="75600"/>
              </a:xfrm>
              <a:prstGeom prst="rect">
                <a:avLst/>
              </a:pr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626600" y="6477120"/>
                <a:ext cx="19440" cy="7560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646400" y="6477120"/>
                <a:ext cx="17640" cy="7560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664400" y="6477120"/>
                <a:ext cx="19440" cy="7560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683840" y="6477120"/>
                <a:ext cx="21600" cy="7560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705800" y="6477120"/>
                <a:ext cx="17280" cy="7560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723080" y="6477120"/>
                <a:ext cx="19440" cy="7560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742880" y="6477120"/>
                <a:ext cx="19440" cy="7560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762320" y="6477120"/>
                <a:ext cx="19800" cy="75600"/>
              </a:xfrm>
              <a:prstGeom prst="rect">
                <a:avLst/>
              </a:prstGeom>
              <a:solidFill>
                <a:srgbClr val="ff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782480" y="6477120"/>
                <a:ext cx="19440" cy="7560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802280" y="6477120"/>
                <a:ext cx="17280" cy="7560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819560" y="6477120"/>
                <a:ext cx="21600" cy="75600"/>
              </a:xfrm>
              <a:prstGeom prst="rect">
                <a:avLst/>
              </a:prstGeom>
              <a:solidFill>
                <a:srgbClr val="ff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841520" y="6477120"/>
                <a:ext cx="19440" cy="7560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861320" y="6477120"/>
                <a:ext cx="17640" cy="7560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878960" y="6477120"/>
                <a:ext cx="21240" cy="7560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00560" y="6477120"/>
                <a:ext cx="19440" cy="7560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0000" y="6477120"/>
                <a:ext cx="17640" cy="75600"/>
              </a:xfrm>
              <a:prstGeom prst="rect">
                <a:avLst/>
              </a:pr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38000" y="6477120"/>
                <a:ext cx="19440" cy="7560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57800" y="6477120"/>
                <a:ext cx="21600" cy="7560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79400" y="6477120"/>
                <a:ext cx="17280" cy="75600"/>
              </a:xfrm>
              <a:prstGeom prst="rect">
                <a:avLst/>
              </a:prstGeom>
              <a:solidFill>
                <a:srgbClr val="ff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97040" y="6477120"/>
                <a:ext cx="19440" cy="7560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8016480" y="6477120"/>
                <a:ext cx="19440" cy="7560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8036280" y="6477120"/>
                <a:ext cx="19800" cy="7560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056440" y="6477120"/>
                <a:ext cx="19440" cy="7560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8075880" y="6477120"/>
                <a:ext cx="17280" cy="75600"/>
              </a:xfrm>
              <a:prstGeom prst="rect">
                <a:avLst/>
              </a:pr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8093520" y="6477120"/>
                <a:ext cx="21600" cy="7560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8115120" y="6477120"/>
                <a:ext cx="19440" cy="7560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8134920" y="6477120"/>
                <a:ext cx="17640" cy="75600"/>
              </a:xfrm>
              <a:prstGeom prst="rect">
                <a:avLst/>
              </a:prstGeom>
              <a:solidFill>
                <a:srgbClr val="ff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8152920" y="6477120"/>
                <a:ext cx="21240" cy="7560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8174160" y="6477120"/>
                <a:ext cx="19440" cy="7560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8193960" y="6477120"/>
                <a:ext cx="17640" cy="7560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8211600" y="6477120"/>
                <a:ext cx="19440" cy="7560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8231400" y="6477120"/>
                <a:ext cx="21240" cy="75600"/>
              </a:xfrm>
              <a:prstGeom prst="rect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8253000" y="6477120"/>
                <a:ext cx="17640" cy="7560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8270640" y="6477120"/>
                <a:ext cx="19440" cy="7560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8290440" y="6477120"/>
                <a:ext cx="19440" cy="75600"/>
              </a:xfrm>
              <a:prstGeom prst="rect">
                <a:avLst/>
              </a:pr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8309880" y="6477120"/>
                <a:ext cx="19440" cy="7560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8329680" y="6477120"/>
                <a:ext cx="19800" cy="7560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8349840" y="6477120"/>
                <a:ext cx="19440" cy="75600"/>
              </a:xfrm>
              <a:prstGeom prst="rect">
                <a:avLst/>
              </a:prstGeom>
              <a:solidFill>
                <a:srgbClr val="ff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8369280" y="6477120"/>
                <a:ext cx="19440" cy="7560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8389080" y="6477120"/>
                <a:ext cx="19440" cy="7560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8408520" y="6477120"/>
                <a:ext cx="17640" cy="7560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8426520" y="6477120"/>
                <a:ext cx="21240" cy="7560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8448120" y="6477120"/>
                <a:ext cx="19440" cy="75600"/>
              </a:xfrm>
              <a:prstGeom prst="rect">
                <a:avLst/>
              </a:prstGeom>
              <a:solidFill>
                <a:srgbClr val="ffe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8467560" y="6477120"/>
                <a:ext cx="17640" cy="7560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8485560" y="6477120"/>
                <a:ext cx="21240" cy="7560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8506800" y="6477120"/>
                <a:ext cx="19440" cy="7560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8526600" y="6477120"/>
                <a:ext cx="17640" cy="7560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8544600" y="6477120"/>
                <a:ext cx="19440" cy="75600"/>
              </a:xfrm>
              <a:prstGeom prst="rect">
                <a:avLst/>
              </a:pr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8564040" y="6477120"/>
                <a:ext cx="19440" cy="7560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583840" y="6477120"/>
                <a:ext cx="19440" cy="7560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8603280" y="6477120"/>
                <a:ext cx="19800" cy="7560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8623440" y="6477120"/>
                <a:ext cx="5760" cy="7560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8526240" y="6324480"/>
              <a:ext cx="408240" cy="304920"/>
            </a:xfrm>
            <a:custGeom>
              <a:avLst/>
              <a:gdLst/>
              <a:ahLst/>
              <a:rect l="l" t="t" r="r" b="b"/>
              <a:pathLst>
                <a:path w="413" h="338">
                  <a:moveTo>
                    <a:pt x="220" y="69"/>
                  </a:moveTo>
                  <a:lnTo>
                    <a:pt x="186" y="30"/>
                  </a:lnTo>
                  <a:lnTo>
                    <a:pt x="163" y="100"/>
                  </a:lnTo>
                  <a:lnTo>
                    <a:pt x="86" y="56"/>
                  </a:lnTo>
                  <a:lnTo>
                    <a:pt x="102" y="121"/>
                  </a:lnTo>
                  <a:lnTo>
                    <a:pt x="23" y="130"/>
                  </a:lnTo>
                  <a:lnTo>
                    <a:pt x="75" y="181"/>
                  </a:lnTo>
                  <a:lnTo>
                    <a:pt x="0" y="201"/>
                  </a:lnTo>
                  <a:lnTo>
                    <a:pt x="63" y="241"/>
                  </a:lnTo>
                  <a:lnTo>
                    <a:pt x="24" y="278"/>
                  </a:lnTo>
                  <a:lnTo>
                    <a:pt x="91" y="285"/>
                  </a:lnTo>
                  <a:lnTo>
                    <a:pt x="93" y="338"/>
                  </a:lnTo>
                  <a:lnTo>
                    <a:pt x="144" y="283"/>
                  </a:lnTo>
                  <a:lnTo>
                    <a:pt x="167" y="308"/>
                  </a:lnTo>
                  <a:lnTo>
                    <a:pt x="188" y="271"/>
                  </a:lnTo>
                  <a:lnTo>
                    <a:pt x="221" y="294"/>
                  </a:lnTo>
                  <a:lnTo>
                    <a:pt x="234" y="250"/>
                  </a:lnTo>
                  <a:lnTo>
                    <a:pt x="287" y="271"/>
                  </a:lnTo>
                  <a:lnTo>
                    <a:pt x="280" y="225"/>
                  </a:lnTo>
                  <a:lnTo>
                    <a:pt x="360" y="245"/>
                  </a:lnTo>
                  <a:lnTo>
                    <a:pt x="313" y="192"/>
                  </a:lnTo>
                  <a:lnTo>
                    <a:pt x="350" y="176"/>
                  </a:lnTo>
                  <a:lnTo>
                    <a:pt x="325" y="148"/>
                  </a:lnTo>
                  <a:lnTo>
                    <a:pt x="413" y="104"/>
                  </a:lnTo>
                  <a:lnTo>
                    <a:pt x="313" y="102"/>
                  </a:lnTo>
                  <a:lnTo>
                    <a:pt x="345" y="49"/>
                  </a:lnTo>
                  <a:lnTo>
                    <a:pt x="278" y="90"/>
                  </a:lnTo>
                  <a:lnTo>
                    <a:pt x="283" y="0"/>
                  </a:lnTo>
                  <a:lnTo>
                    <a:pt x="220" y="69"/>
                  </a:lnTo>
                  <a:close/>
                </a:path>
              </a:pathLst>
            </a:custGeom>
            <a:solidFill>
              <a:srgbClr val="ffff99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4" name=""/>
          <p:cNvSpPr/>
          <p:nvPr/>
        </p:nvSpPr>
        <p:spPr>
          <a:xfrm>
            <a:off x="0" y="0"/>
            <a:ext cx="96822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ibre to the blo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 the entire metro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F75-50DE-4146-84C8-753880C18DC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6269F-E65D-42A1-B653-EB84EEA815AA}" type="datetime1">
              <a:rPr lang="en-US"/>
              <a:t>07/30/26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An open fiberstructure as a basis for competition on services over separate fiber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351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352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352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352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78D-BF96-4E2D-BAE1-1FD1B98BF25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70D05-CD80-4130-904E-DB946FA562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Fiber as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common denomin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the neighbourhood (FTT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a &lt;100-person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1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3782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4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3785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3786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3787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8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9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0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7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8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9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2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3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5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6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0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1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2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3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4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5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9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0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3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4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5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5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8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2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5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8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2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3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4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5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7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9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0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8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9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3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4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7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9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0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1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2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7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8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6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9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7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8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3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4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5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7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8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7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2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3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7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3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D52-ACDB-46D5-A74E-427A94B96E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2757E-592F-40CF-A1DB-1F8BCA430F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A big under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500 000 fiber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110 000 000 USD 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6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elation with +100 other p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04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05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05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05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5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E7E-E8C4-4132-865E-6F128E303F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FF030-296D-40D9-B33F-AD457CAEDB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9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310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2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313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314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315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9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9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1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2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3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4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5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6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7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9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0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1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6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7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1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2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3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6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7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4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5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9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7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2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9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2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4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5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0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1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4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9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9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4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7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1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2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7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8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9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4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2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6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1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2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4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5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9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1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4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7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8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2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3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5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9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0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2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3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4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8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9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1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1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572" name=""/>
          <p:cNvGraphicFramePr/>
          <p:nvPr/>
        </p:nvGraphicFramePr>
        <p:xfrm>
          <a:off x="762120" y="304920"/>
          <a:ext cx="7423200" cy="53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423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88B-BA98-430B-AAA8-DEE0288F39F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4C66A-D017-4E2B-91AB-2E09043494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ity officials perspective on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371600" y="40384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1371600" y="3276720"/>
            <a:ext cx="2770200" cy="757080"/>
          </a:xfrm>
          <a:custGeom>
            <a:avLst/>
            <a:gdLst/>
            <a:ahLst/>
            <a:rect l="l" t="t" r="r" b="b"/>
            <a:pathLst>
              <a:path w="1745" h="477">
                <a:moveTo>
                  <a:pt x="0" y="477"/>
                </a:moveTo>
                <a:cubicBezTo>
                  <a:pt x="45" y="410"/>
                  <a:pt x="98" y="340"/>
                  <a:pt x="165" y="296"/>
                </a:cubicBezTo>
                <a:cubicBezTo>
                  <a:pt x="241" y="181"/>
                  <a:pt x="197" y="220"/>
                  <a:pt x="280" y="165"/>
                </a:cubicBezTo>
                <a:cubicBezTo>
                  <a:pt x="344" y="68"/>
                  <a:pt x="435" y="22"/>
                  <a:pt x="543" y="0"/>
                </a:cubicBezTo>
                <a:cubicBezTo>
                  <a:pt x="560" y="1"/>
                  <a:pt x="745" y="7"/>
                  <a:pt x="806" y="33"/>
                </a:cubicBezTo>
                <a:cubicBezTo>
                  <a:pt x="824" y="41"/>
                  <a:pt x="838" y="58"/>
                  <a:pt x="856" y="66"/>
                </a:cubicBezTo>
                <a:cubicBezTo>
                  <a:pt x="1030" y="143"/>
                  <a:pt x="894" y="58"/>
                  <a:pt x="1004" y="132"/>
                </a:cubicBezTo>
                <a:cubicBezTo>
                  <a:pt x="1077" y="240"/>
                  <a:pt x="992" y="135"/>
                  <a:pt x="1086" y="198"/>
                </a:cubicBezTo>
                <a:cubicBezTo>
                  <a:pt x="1143" y="236"/>
                  <a:pt x="1154" y="300"/>
                  <a:pt x="1218" y="329"/>
                </a:cubicBezTo>
                <a:cubicBezTo>
                  <a:pt x="1404" y="412"/>
                  <a:pt x="1534" y="411"/>
                  <a:pt x="1745" y="4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743200" y="2895480"/>
            <a:ext cx="2900520" cy="946440"/>
          </a:xfrm>
          <a:custGeom>
            <a:avLst/>
            <a:gdLst/>
            <a:ahLst/>
            <a:rect l="l" t="t" r="r" b="b"/>
            <a:pathLst>
              <a:path w="1827" h="596">
                <a:moveTo>
                  <a:pt x="0" y="317"/>
                </a:moveTo>
                <a:cubicBezTo>
                  <a:pt x="11" y="300"/>
                  <a:pt x="20" y="282"/>
                  <a:pt x="33" y="267"/>
                </a:cubicBezTo>
                <a:cubicBezTo>
                  <a:pt x="48" y="249"/>
                  <a:pt x="69" y="237"/>
                  <a:pt x="82" y="218"/>
                </a:cubicBezTo>
                <a:cubicBezTo>
                  <a:pt x="146" y="122"/>
                  <a:pt x="39" y="208"/>
                  <a:pt x="148" y="135"/>
                </a:cubicBezTo>
                <a:cubicBezTo>
                  <a:pt x="194" y="66"/>
                  <a:pt x="252" y="29"/>
                  <a:pt x="329" y="4"/>
                </a:cubicBezTo>
                <a:cubicBezTo>
                  <a:pt x="586" y="15"/>
                  <a:pt x="639" y="0"/>
                  <a:pt x="823" y="53"/>
                </a:cubicBezTo>
                <a:cubicBezTo>
                  <a:pt x="895" y="74"/>
                  <a:pt x="891" y="82"/>
                  <a:pt x="971" y="135"/>
                </a:cubicBezTo>
                <a:cubicBezTo>
                  <a:pt x="987" y="146"/>
                  <a:pt x="1020" y="168"/>
                  <a:pt x="1020" y="168"/>
                </a:cubicBezTo>
                <a:cubicBezTo>
                  <a:pt x="1043" y="235"/>
                  <a:pt x="1078" y="261"/>
                  <a:pt x="1136" y="300"/>
                </a:cubicBezTo>
                <a:cubicBezTo>
                  <a:pt x="1166" y="393"/>
                  <a:pt x="1140" y="337"/>
                  <a:pt x="1251" y="448"/>
                </a:cubicBezTo>
                <a:cubicBezTo>
                  <a:pt x="1265" y="462"/>
                  <a:pt x="1268" y="485"/>
                  <a:pt x="1284" y="498"/>
                </a:cubicBezTo>
                <a:cubicBezTo>
                  <a:pt x="1297" y="509"/>
                  <a:pt x="1316" y="510"/>
                  <a:pt x="1333" y="514"/>
                </a:cubicBezTo>
                <a:cubicBezTo>
                  <a:pt x="1377" y="526"/>
                  <a:pt x="1421" y="536"/>
                  <a:pt x="1465" y="547"/>
                </a:cubicBezTo>
                <a:cubicBezTo>
                  <a:pt x="1592" y="579"/>
                  <a:pt x="1687" y="596"/>
                  <a:pt x="1827" y="5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4114800" y="2438280"/>
            <a:ext cx="3500280" cy="1073160"/>
          </a:xfrm>
          <a:custGeom>
            <a:avLst/>
            <a:gdLst/>
            <a:ahLst/>
            <a:rect l="l" t="t" r="r" b="b"/>
            <a:pathLst>
              <a:path w="2205" h="676">
                <a:moveTo>
                  <a:pt x="0" y="378"/>
                </a:moveTo>
                <a:cubicBezTo>
                  <a:pt x="65" y="346"/>
                  <a:pt x="105" y="302"/>
                  <a:pt x="165" y="263"/>
                </a:cubicBezTo>
                <a:cubicBezTo>
                  <a:pt x="220" y="180"/>
                  <a:pt x="252" y="142"/>
                  <a:pt x="329" y="82"/>
                </a:cubicBezTo>
                <a:cubicBezTo>
                  <a:pt x="360" y="58"/>
                  <a:pt x="389" y="21"/>
                  <a:pt x="428" y="16"/>
                </a:cubicBezTo>
                <a:cubicBezTo>
                  <a:pt x="466" y="11"/>
                  <a:pt x="505" y="5"/>
                  <a:pt x="543" y="0"/>
                </a:cubicBezTo>
                <a:cubicBezTo>
                  <a:pt x="614" y="5"/>
                  <a:pt x="686" y="7"/>
                  <a:pt x="757" y="16"/>
                </a:cubicBezTo>
                <a:cubicBezTo>
                  <a:pt x="808" y="22"/>
                  <a:pt x="932" y="98"/>
                  <a:pt x="971" y="131"/>
                </a:cubicBezTo>
                <a:cubicBezTo>
                  <a:pt x="989" y="146"/>
                  <a:pt x="1001" y="168"/>
                  <a:pt x="1021" y="181"/>
                </a:cubicBezTo>
                <a:cubicBezTo>
                  <a:pt x="1218" y="313"/>
                  <a:pt x="876" y="35"/>
                  <a:pt x="1136" y="230"/>
                </a:cubicBezTo>
                <a:cubicBezTo>
                  <a:pt x="1161" y="249"/>
                  <a:pt x="1178" y="276"/>
                  <a:pt x="1202" y="296"/>
                </a:cubicBezTo>
                <a:cubicBezTo>
                  <a:pt x="1217" y="309"/>
                  <a:pt x="1235" y="318"/>
                  <a:pt x="1251" y="329"/>
                </a:cubicBezTo>
                <a:cubicBezTo>
                  <a:pt x="1315" y="424"/>
                  <a:pt x="1388" y="481"/>
                  <a:pt x="1481" y="543"/>
                </a:cubicBezTo>
                <a:cubicBezTo>
                  <a:pt x="1514" y="565"/>
                  <a:pt x="1542" y="596"/>
                  <a:pt x="1580" y="609"/>
                </a:cubicBezTo>
                <a:cubicBezTo>
                  <a:pt x="1782" y="676"/>
                  <a:pt x="1994" y="674"/>
                  <a:pt x="2205" y="6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1679400" y="1447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ent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1373040" y="42670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n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3203280" y="4267080"/>
            <a:ext cx="13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5258880" y="4267080"/>
            <a:ext cx="126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7241400" y="42670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8003160" y="3503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 flipV="1">
            <a:off x="1371600" y="16761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58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59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59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49" name=""/>
          <p:cNvSpPr/>
          <p:nvPr/>
        </p:nvSpPr>
        <p:spPr>
          <a:xfrm>
            <a:off x="5799240" y="2090880"/>
            <a:ext cx="2195280" cy="599760"/>
          </a:xfrm>
          <a:custGeom>
            <a:avLst/>
            <a:gdLst/>
            <a:ahLst/>
            <a:rect l="l" t="t" r="r" b="b"/>
            <a:pathLst>
              <a:path w="1383" h="378">
                <a:moveTo>
                  <a:pt x="0" y="378"/>
                </a:moveTo>
                <a:cubicBezTo>
                  <a:pt x="58" y="292"/>
                  <a:pt x="145" y="222"/>
                  <a:pt x="231" y="164"/>
                </a:cubicBezTo>
                <a:cubicBezTo>
                  <a:pt x="340" y="2"/>
                  <a:pt x="550" y="24"/>
                  <a:pt x="725" y="0"/>
                </a:cubicBezTo>
                <a:cubicBezTo>
                  <a:pt x="851" y="5"/>
                  <a:pt x="978" y="3"/>
                  <a:pt x="1103" y="16"/>
                </a:cubicBezTo>
                <a:cubicBezTo>
                  <a:pt x="1199" y="26"/>
                  <a:pt x="1285" y="98"/>
                  <a:pt x="1383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 flipV="1">
            <a:off x="1905120" y="3657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 flipV="1">
            <a:off x="3657600" y="3429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 flipV="1">
            <a:off x="5715000" y="327636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 flipH="1" flipV="1">
            <a:off x="7391160" y="2971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1CF-87AD-4974-A25F-464E42F5AB7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A9A7D-0165-4539-B798-72A532941D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more powerful t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70960" y="6400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309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FAA-CB8B-44BA-A621-B7B8473A78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0CFDA-535A-4223-8059-32612CA40722}" type="datetime1">
              <a:rPr lang="en-US"/>
              <a:t>07/30/26</a:t>
            </a:fld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er informed individuals able to communicate and make more well founded decisions f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573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577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8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430-EB3F-475A-A345-5460F1221EF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B44EF-25ED-4D76-AFA6-4027949C02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ties ne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46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ce what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 g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46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ter out what's b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83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84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7D6-E2F0-437E-8773-19B326A32B5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C4A2A-62D9-4201-9A06-7C6FCD1EAF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it on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e City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elation to other 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elation to the citi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102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106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7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600-BCB0-4BE9-94B3-EB541CEE92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023C-7A9A-4D9F-953B-B70AAE99E9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com is a corner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366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370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1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7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CCD-FDAE-4413-9D2B-65539A46B74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D1601-84CD-4C8C-AE53-06C9147D368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com is a corner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pid transformation and development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- technically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- leg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631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3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634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635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6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2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4D1-9DED-4BB1-AB29-59B3E5687A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4F5D2-DDD6-4F1D-84DF-3AD526C384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oundation for today's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de expansion of broadband services, fixed and wireless, with the Internet as a key driving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 new legal environment supporting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896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899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900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901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1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7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CDD-2AEF-4287-BBC0-EA5C1C7857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32ADB-F222-458A-AEB0-F2EAFE2CE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of the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9339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les (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addition 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ational, E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the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ing information to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common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2161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3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2164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2165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6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2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9F8-4328-4ECE-9EEF-710FC95451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EE989-6292-4DD3-9D92-B5E40DCE4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12:49:04Z</dcterms:created>
  <dc:creator>Stokab</dc:creator>
  <dc:description/>
  <dc:language>en-US</dc:language>
  <cp:lastModifiedBy>hongtheng</cp:lastModifiedBy>
  <cp:lastPrinted>1999-04-19T08:41:51Z</cp:lastPrinted>
  <dcterms:modified xsi:type="dcterms:W3CDTF">2001-03-06T05:56:47Z</dcterms:modified>
  <cp:revision>36</cp:revision>
  <dc:subject/>
  <dc:title>PowerPoint-presentation</dc:title>
</cp:coreProperties>
</file>