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8928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6000480" y="8928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040" y="5881680"/>
            <a:ext cx="18543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C72-E8D2-45F1-A146-E475ADB8A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"/>
          <p:cNvSpPr txBox="1"/>
          <p:nvPr/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357-FE00-4DC4-BBCD-22507C562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 txBox="1"/>
          <p:nvPr/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 txBox="1"/>
          <p:nvPr/>
        </p:nvSpPr>
        <p:spPr>
          <a:xfrm>
            <a:off x="-360" y="8928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 txBox="1"/>
          <p:nvPr/>
        </p:nvSpPr>
        <p:spPr>
          <a:xfrm>
            <a:off x="6000480" y="8928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1"/>
          <p:cNvSpPr>
            <a:spLocks noGrp="1"/>
          </p:cNvSpPr>
          <p:nvPr>
            <p:ph type="sldImg"/>
          </p:nvPr>
        </p:nvSpPr>
        <p:spPr>
          <a:xfrm>
            <a:off x="3403440" y="2389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5196" name="PlaceHolder 2"/>
          <p:cNvSpPr>
            <a:spLocks noGrp="1"/>
          </p:cNvSpPr>
          <p:nvPr>
            <p:ph type="body"/>
          </p:nvPr>
        </p:nvSpPr>
        <p:spPr>
          <a:xfrm>
            <a:off x="896760" y="4357440"/>
            <a:ext cx="50133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412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520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0304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412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520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3040" y="254160"/>
            <a:ext cx="87868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412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520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304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412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520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3040" y="254160"/>
            <a:ext cx="87868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2556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UNINET%20logo%20(280)" descr=""/>
          <p:cNvPicPr/>
          <p:nvPr/>
        </p:nvPicPr>
        <p:blipFill>
          <a:blip r:embed="rId2"/>
          <a:stretch/>
        </p:blipFill>
        <p:spPr>
          <a:xfrm>
            <a:off x="7020000" y="6048360"/>
            <a:ext cx="2038320" cy="598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-76320" y="-76320"/>
            <a:ext cx="9259920" cy="6967800"/>
          </a:xfrm>
          <a:custGeom>
            <a:avLst/>
            <a:gdLst/>
            <a:ahLst/>
            <a:rect l="l" t="t" r="r" b="b"/>
            <a:pathLst>
              <a:path w="5775" h="4349">
                <a:moveTo>
                  <a:pt x="5770" y="3355"/>
                </a:moveTo>
                <a:lnTo>
                  <a:pt x="5775" y="0"/>
                </a:lnTo>
                <a:lnTo>
                  <a:pt x="7" y="16"/>
                </a:lnTo>
                <a:cubicBezTo>
                  <a:pt x="7" y="16"/>
                  <a:pt x="26" y="4337"/>
                  <a:pt x="7" y="4344"/>
                </a:cubicBezTo>
                <a:cubicBezTo>
                  <a:pt x="0" y="4349"/>
                  <a:pt x="2716" y="4336"/>
                  <a:pt x="4388" y="4336"/>
                </a:cubicBezTo>
                <a:cubicBezTo>
                  <a:pt x="3516" y="3846"/>
                  <a:pt x="5770" y="3355"/>
                  <a:pt x="5770" y="3355"/>
                </a:cubicBezTo>
                <a:close/>
              </a:path>
            </a:pathLst>
          </a:custGeom>
          <a:solidFill>
            <a:srgbClr val="ffe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8600" y="216000"/>
            <a:ext cx="8686440" cy="6107040"/>
            <a:chOff x="228600" y="216000"/>
            <a:chExt cx="8686440" cy="6107040"/>
          </a:xfrm>
        </p:grpSpPr>
        <p:sp>
          <p:nvSpPr>
            <p:cNvPr id="4" name=""/>
            <p:cNvSpPr/>
            <p:nvPr/>
          </p:nvSpPr>
          <p:spPr>
            <a:xfrm>
              <a:off x="228600" y="1126800"/>
              <a:ext cx="4341600" cy="3782160"/>
            </a:xfrm>
            <a:custGeom>
              <a:avLst/>
              <a:gdLst/>
              <a:ahLst/>
              <a:rect l="l" t="t" r="r" b="b"/>
              <a:pathLst>
                <a:path w="1587" h="1382">
                  <a:moveTo>
                    <a:pt x="1191" y="1077"/>
                  </a:moveTo>
                  <a:lnTo>
                    <a:pt x="1169" y="1084"/>
                  </a:lnTo>
                  <a:lnTo>
                    <a:pt x="1077" y="1112"/>
                  </a:lnTo>
                  <a:lnTo>
                    <a:pt x="992" y="1141"/>
                  </a:lnTo>
                  <a:lnTo>
                    <a:pt x="914" y="1162"/>
                  </a:lnTo>
                  <a:lnTo>
                    <a:pt x="843" y="1176"/>
                  </a:lnTo>
                  <a:lnTo>
                    <a:pt x="780" y="1183"/>
                  </a:lnTo>
                  <a:lnTo>
                    <a:pt x="730" y="1190"/>
                  </a:lnTo>
                  <a:lnTo>
                    <a:pt x="638" y="1190"/>
                  </a:lnTo>
                  <a:lnTo>
                    <a:pt x="574" y="1176"/>
                  </a:lnTo>
                  <a:lnTo>
                    <a:pt x="524" y="1155"/>
                  </a:lnTo>
                  <a:lnTo>
                    <a:pt x="496" y="1127"/>
                  </a:lnTo>
                  <a:lnTo>
                    <a:pt x="475" y="1098"/>
                  </a:lnTo>
                  <a:lnTo>
                    <a:pt x="468" y="1056"/>
                  </a:lnTo>
                  <a:lnTo>
                    <a:pt x="475" y="1006"/>
                  </a:lnTo>
                  <a:lnTo>
                    <a:pt x="510" y="949"/>
                  </a:lnTo>
                  <a:lnTo>
                    <a:pt x="539" y="914"/>
                  </a:lnTo>
                  <a:lnTo>
                    <a:pt x="574" y="879"/>
                  </a:lnTo>
                  <a:lnTo>
                    <a:pt x="617" y="836"/>
                  </a:lnTo>
                  <a:lnTo>
                    <a:pt x="666" y="794"/>
                  </a:lnTo>
                  <a:lnTo>
                    <a:pt x="730" y="751"/>
                  </a:lnTo>
                  <a:lnTo>
                    <a:pt x="801" y="701"/>
                  </a:lnTo>
                  <a:lnTo>
                    <a:pt x="879" y="652"/>
                  </a:lnTo>
                  <a:lnTo>
                    <a:pt x="971" y="595"/>
                  </a:lnTo>
                  <a:lnTo>
                    <a:pt x="1077" y="539"/>
                  </a:lnTo>
                  <a:lnTo>
                    <a:pt x="1191" y="475"/>
                  </a:lnTo>
                  <a:lnTo>
                    <a:pt x="1191" y="1077"/>
                  </a:lnTo>
                  <a:lnTo>
                    <a:pt x="1382" y="1013"/>
                  </a:lnTo>
                  <a:lnTo>
                    <a:pt x="1474" y="978"/>
                  </a:lnTo>
                  <a:lnTo>
                    <a:pt x="1552" y="942"/>
                  </a:lnTo>
                  <a:lnTo>
                    <a:pt x="1587" y="921"/>
                  </a:lnTo>
                  <a:lnTo>
                    <a:pt x="1587" y="0"/>
                  </a:lnTo>
                  <a:lnTo>
                    <a:pt x="1580" y="0"/>
                  </a:lnTo>
                  <a:lnTo>
                    <a:pt x="1573" y="7"/>
                  </a:lnTo>
                  <a:lnTo>
                    <a:pt x="1545" y="21"/>
                  </a:lnTo>
                  <a:lnTo>
                    <a:pt x="1510" y="35"/>
                  </a:lnTo>
                  <a:lnTo>
                    <a:pt x="1502" y="43"/>
                  </a:lnTo>
                  <a:lnTo>
                    <a:pt x="1495" y="43"/>
                  </a:lnTo>
                  <a:lnTo>
                    <a:pt x="1325" y="120"/>
                  </a:lnTo>
                  <a:lnTo>
                    <a:pt x="1169" y="198"/>
                  </a:lnTo>
                  <a:lnTo>
                    <a:pt x="1021" y="269"/>
                  </a:lnTo>
                  <a:lnTo>
                    <a:pt x="886" y="347"/>
                  </a:lnTo>
                  <a:lnTo>
                    <a:pt x="765" y="418"/>
                  </a:lnTo>
                  <a:lnTo>
                    <a:pt x="645" y="489"/>
                  </a:lnTo>
                  <a:lnTo>
                    <a:pt x="539" y="560"/>
                  </a:lnTo>
                  <a:lnTo>
                    <a:pt x="446" y="631"/>
                  </a:lnTo>
                  <a:lnTo>
                    <a:pt x="361" y="694"/>
                  </a:lnTo>
                  <a:lnTo>
                    <a:pt x="283" y="758"/>
                  </a:lnTo>
                  <a:lnTo>
                    <a:pt x="220" y="822"/>
                  </a:lnTo>
                  <a:lnTo>
                    <a:pt x="163" y="886"/>
                  </a:lnTo>
                  <a:lnTo>
                    <a:pt x="113" y="942"/>
                  </a:lnTo>
                  <a:lnTo>
                    <a:pt x="71" y="999"/>
                  </a:lnTo>
                  <a:lnTo>
                    <a:pt x="35" y="1056"/>
                  </a:lnTo>
                  <a:lnTo>
                    <a:pt x="14" y="1112"/>
                  </a:lnTo>
                  <a:lnTo>
                    <a:pt x="0" y="1183"/>
                  </a:lnTo>
                  <a:lnTo>
                    <a:pt x="7" y="1240"/>
                  </a:lnTo>
                  <a:lnTo>
                    <a:pt x="35" y="1290"/>
                  </a:lnTo>
                  <a:lnTo>
                    <a:pt x="85" y="1325"/>
                  </a:lnTo>
                  <a:lnTo>
                    <a:pt x="135" y="1346"/>
                  </a:lnTo>
                  <a:lnTo>
                    <a:pt x="198" y="1368"/>
                  </a:lnTo>
                  <a:lnTo>
                    <a:pt x="276" y="1375"/>
                  </a:lnTo>
                  <a:lnTo>
                    <a:pt x="354" y="1382"/>
                  </a:lnTo>
                  <a:lnTo>
                    <a:pt x="524" y="1368"/>
                  </a:lnTo>
                  <a:lnTo>
                    <a:pt x="709" y="1332"/>
                  </a:lnTo>
                  <a:lnTo>
                    <a:pt x="886" y="1297"/>
                  </a:lnTo>
                  <a:lnTo>
                    <a:pt x="1049" y="1247"/>
                  </a:lnTo>
                  <a:lnTo>
                    <a:pt x="1120" y="1226"/>
                  </a:lnTo>
                  <a:lnTo>
                    <a:pt x="1184" y="1205"/>
                  </a:lnTo>
                  <a:lnTo>
                    <a:pt x="1184" y="1205"/>
                  </a:lnTo>
                  <a:lnTo>
                    <a:pt x="1191" y="1197"/>
                  </a:lnTo>
                  <a:lnTo>
                    <a:pt x="1191" y="1077"/>
                  </a:lnTo>
                  <a:lnTo>
                    <a:pt x="1191" y="1077"/>
                  </a:lnTo>
                  <a:close/>
                </a:path>
              </a:pathLst>
            </a:custGeom>
            <a:solidFill>
              <a:srgbClr val="ff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487320" y="216000"/>
              <a:ext cx="5427720" cy="6107040"/>
            </a:xfrm>
            <a:custGeom>
              <a:avLst/>
              <a:gdLst/>
              <a:ahLst/>
              <a:rect l="l" t="t" r="r" b="b"/>
              <a:pathLst>
                <a:path w="1984" h="2232">
                  <a:moveTo>
                    <a:pt x="1970" y="135"/>
                  </a:moveTo>
                  <a:lnTo>
                    <a:pt x="1941" y="92"/>
                  </a:lnTo>
                  <a:lnTo>
                    <a:pt x="1899" y="57"/>
                  </a:lnTo>
                  <a:lnTo>
                    <a:pt x="1842" y="28"/>
                  </a:lnTo>
                  <a:lnTo>
                    <a:pt x="1778" y="14"/>
                  </a:lnTo>
                  <a:lnTo>
                    <a:pt x="1708" y="0"/>
                  </a:lnTo>
                  <a:lnTo>
                    <a:pt x="1630" y="0"/>
                  </a:lnTo>
                  <a:lnTo>
                    <a:pt x="1452" y="14"/>
                  </a:lnTo>
                  <a:lnTo>
                    <a:pt x="1275" y="43"/>
                  </a:lnTo>
                  <a:lnTo>
                    <a:pt x="1098" y="85"/>
                  </a:lnTo>
                  <a:lnTo>
                    <a:pt x="935" y="128"/>
                  </a:lnTo>
                  <a:lnTo>
                    <a:pt x="864" y="149"/>
                  </a:lnTo>
                  <a:lnTo>
                    <a:pt x="800" y="170"/>
                  </a:lnTo>
                  <a:lnTo>
                    <a:pt x="793" y="170"/>
                  </a:lnTo>
                  <a:lnTo>
                    <a:pt x="786" y="177"/>
                  </a:lnTo>
                  <a:lnTo>
                    <a:pt x="751" y="191"/>
                  </a:lnTo>
                  <a:lnTo>
                    <a:pt x="715" y="205"/>
                  </a:lnTo>
                  <a:lnTo>
                    <a:pt x="708" y="213"/>
                  </a:lnTo>
                  <a:lnTo>
                    <a:pt x="701" y="213"/>
                  </a:lnTo>
                  <a:lnTo>
                    <a:pt x="666" y="227"/>
                  </a:lnTo>
                  <a:lnTo>
                    <a:pt x="630" y="241"/>
                  </a:lnTo>
                  <a:lnTo>
                    <a:pt x="630" y="361"/>
                  </a:lnTo>
                  <a:lnTo>
                    <a:pt x="666" y="347"/>
                  </a:lnTo>
                  <a:lnTo>
                    <a:pt x="694" y="333"/>
                  </a:lnTo>
                  <a:lnTo>
                    <a:pt x="701" y="333"/>
                  </a:lnTo>
                  <a:lnTo>
                    <a:pt x="708" y="326"/>
                  </a:lnTo>
                  <a:lnTo>
                    <a:pt x="744" y="319"/>
                  </a:lnTo>
                  <a:lnTo>
                    <a:pt x="779" y="305"/>
                  </a:lnTo>
                  <a:lnTo>
                    <a:pt x="786" y="298"/>
                  </a:lnTo>
                  <a:lnTo>
                    <a:pt x="793" y="298"/>
                  </a:lnTo>
                  <a:lnTo>
                    <a:pt x="822" y="291"/>
                  </a:lnTo>
                  <a:lnTo>
                    <a:pt x="914" y="262"/>
                  </a:lnTo>
                  <a:lnTo>
                    <a:pt x="999" y="234"/>
                  </a:lnTo>
                  <a:lnTo>
                    <a:pt x="1077" y="220"/>
                  </a:lnTo>
                  <a:lnTo>
                    <a:pt x="1148" y="205"/>
                  </a:lnTo>
                  <a:lnTo>
                    <a:pt x="1204" y="191"/>
                  </a:lnTo>
                  <a:lnTo>
                    <a:pt x="1261" y="191"/>
                  </a:lnTo>
                  <a:lnTo>
                    <a:pt x="1346" y="191"/>
                  </a:lnTo>
                  <a:lnTo>
                    <a:pt x="1410" y="198"/>
                  </a:lnTo>
                  <a:lnTo>
                    <a:pt x="1452" y="227"/>
                  </a:lnTo>
                  <a:lnTo>
                    <a:pt x="1481" y="255"/>
                  </a:lnTo>
                  <a:lnTo>
                    <a:pt x="1502" y="283"/>
                  </a:lnTo>
                  <a:lnTo>
                    <a:pt x="1509" y="319"/>
                  </a:lnTo>
                  <a:lnTo>
                    <a:pt x="1502" y="368"/>
                  </a:lnTo>
                  <a:lnTo>
                    <a:pt x="1474" y="418"/>
                  </a:lnTo>
                  <a:lnTo>
                    <a:pt x="1445" y="453"/>
                  </a:lnTo>
                  <a:lnTo>
                    <a:pt x="1417" y="489"/>
                  </a:lnTo>
                  <a:lnTo>
                    <a:pt x="1382" y="524"/>
                  </a:lnTo>
                  <a:lnTo>
                    <a:pt x="1339" y="560"/>
                  </a:lnTo>
                  <a:lnTo>
                    <a:pt x="1282" y="602"/>
                  </a:lnTo>
                  <a:lnTo>
                    <a:pt x="1226" y="652"/>
                  </a:lnTo>
                  <a:lnTo>
                    <a:pt x="1155" y="694"/>
                  </a:lnTo>
                  <a:lnTo>
                    <a:pt x="1070" y="744"/>
                  </a:lnTo>
                  <a:lnTo>
                    <a:pt x="978" y="801"/>
                  </a:lnTo>
                  <a:lnTo>
                    <a:pt x="878" y="857"/>
                  </a:lnTo>
                  <a:lnTo>
                    <a:pt x="758" y="921"/>
                  </a:lnTo>
                  <a:lnTo>
                    <a:pt x="630" y="985"/>
                  </a:lnTo>
                  <a:lnTo>
                    <a:pt x="630" y="1750"/>
                  </a:lnTo>
                  <a:lnTo>
                    <a:pt x="630" y="1807"/>
                  </a:lnTo>
                  <a:lnTo>
                    <a:pt x="616" y="1849"/>
                  </a:lnTo>
                  <a:lnTo>
                    <a:pt x="602" y="1878"/>
                  </a:lnTo>
                  <a:lnTo>
                    <a:pt x="581" y="1899"/>
                  </a:lnTo>
                  <a:lnTo>
                    <a:pt x="567" y="1913"/>
                  </a:lnTo>
                  <a:lnTo>
                    <a:pt x="545" y="1920"/>
                  </a:lnTo>
                  <a:lnTo>
                    <a:pt x="510" y="1920"/>
                  </a:lnTo>
                  <a:lnTo>
                    <a:pt x="474" y="1920"/>
                  </a:lnTo>
                  <a:lnTo>
                    <a:pt x="460" y="1913"/>
                  </a:lnTo>
                  <a:lnTo>
                    <a:pt x="439" y="1899"/>
                  </a:lnTo>
                  <a:lnTo>
                    <a:pt x="425" y="1878"/>
                  </a:lnTo>
                  <a:lnTo>
                    <a:pt x="411" y="1849"/>
                  </a:lnTo>
                  <a:lnTo>
                    <a:pt x="404" y="1807"/>
                  </a:lnTo>
                  <a:lnTo>
                    <a:pt x="396" y="1750"/>
                  </a:lnTo>
                  <a:lnTo>
                    <a:pt x="396" y="1375"/>
                  </a:lnTo>
                  <a:lnTo>
                    <a:pt x="382" y="1382"/>
                  </a:lnTo>
                  <a:lnTo>
                    <a:pt x="297" y="1417"/>
                  </a:lnTo>
                  <a:lnTo>
                    <a:pt x="205" y="1460"/>
                  </a:lnTo>
                  <a:lnTo>
                    <a:pt x="99" y="1495"/>
                  </a:lnTo>
                  <a:lnTo>
                    <a:pt x="0" y="1530"/>
                  </a:lnTo>
                  <a:lnTo>
                    <a:pt x="0" y="1771"/>
                  </a:lnTo>
                  <a:lnTo>
                    <a:pt x="7" y="1878"/>
                  </a:lnTo>
                  <a:lnTo>
                    <a:pt x="35" y="1963"/>
                  </a:lnTo>
                  <a:lnTo>
                    <a:pt x="78" y="2048"/>
                  </a:lnTo>
                  <a:lnTo>
                    <a:pt x="134" y="2111"/>
                  </a:lnTo>
                  <a:lnTo>
                    <a:pt x="205" y="2161"/>
                  </a:lnTo>
                  <a:lnTo>
                    <a:pt x="290" y="2204"/>
                  </a:lnTo>
                  <a:lnTo>
                    <a:pt x="396" y="2225"/>
                  </a:lnTo>
                  <a:lnTo>
                    <a:pt x="510" y="2232"/>
                  </a:lnTo>
                  <a:lnTo>
                    <a:pt x="644" y="2225"/>
                  </a:lnTo>
                  <a:lnTo>
                    <a:pt x="751" y="2189"/>
                  </a:lnTo>
                  <a:lnTo>
                    <a:pt x="843" y="2147"/>
                  </a:lnTo>
                  <a:lnTo>
                    <a:pt x="914" y="2083"/>
                  </a:lnTo>
                  <a:lnTo>
                    <a:pt x="963" y="2012"/>
                  </a:lnTo>
                  <a:lnTo>
                    <a:pt x="999" y="1934"/>
                  </a:lnTo>
                  <a:lnTo>
                    <a:pt x="1020" y="1856"/>
                  </a:lnTo>
                  <a:lnTo>
                    <a:pt x="1027" y="1771"/>
                  </a:lnTo>
                  <a:lnTo>
                    <a:pt x="1027" y="1070"/>
                  </a:lnTo>
                  <a:lnTo>
                    <a:pt x="1226" y="957"/>
                  </a:lnTo>
                  <a:lnTo>
                    <a:pt x="1403" y="843"/>
                  </a:lnTo>
                  <a:lnTo>
                    <a:pt x="1552" y="737"/>
                  </a:lnTo>
                  <a:lnTo>
                    <a:pt x="1679" y="638"/>
                  </a:lnTo>
                  <a:lnTo>
                    <a:pt x="1785" y="538"/>
                  </a:lnTo>
                  <a:lnTo>
                    <a:pt x="1863" y="439"/>
                  </a:lnTo>
                  <a:lnTo>
                    <a:pt x="1927" y="347"/>
                  </a:lnTo>
                  <a:lnTo>
                    <a:pt x="1970" y="262"/>
                  </a:lnTo>
                  <a:lnTo>
                    <a:pt x="1984" y="191"/>
                  </a:lnTo>
                  <a:lnTo>
                    <a:pt x="1970" y="135"/>
                  </a:lnTo>
                  <a:lnTo>
                    <a:pt x="1970" y="135"/>
                  </a:lnTo>
                  <a:close/>
                </a:path>
              </a:pathLst>
            </a:custGeom>
            <a:solidFill>
              <a:srgbClr val="ff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114120" y="6337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esentation Name - Date - </a:t>
            </a:r>
            <a:fld id="{D89EA597-FFE7-4696-A141-AE817077E37A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124080" y="6337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 indent="-22392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 indent="-290520"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9640" indent="-225360">
              <a:spcBef>
                <a:spcPts val="601"/>
              </a:spcBef>
              <a:buClr>
                <a:srgbClr val="ff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96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96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600" y="126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UNINET%20logo%20(280)" descr=""/>
          <p:cNvPicPr/>
          <p:nvPr/>
        </p:nvPicPr>
        <p:blipFill>
          <a:blip r:embed="rId2"/>
          <a:stretch/>
        </p:blipFill>
        <p:spPr>
          <a:xfrm>
            <a:off x="5394240" y="5389560"/>
            <a:ext cx="364968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0" y="-23760"/>
            <a:ext cx="9156960" cy="6896160"/>
          </a:xfrm>
          <a:custGeom>
            <a:avLst/>
            <a:gdLst/>
            <a:ahLst/>
            <a:rect l="l" t="t" r="r" b="b"/>
            <a:pathLst>
              <a:path w="5768" h="4344">
                <a:moveTo>
                  <a:pt x="5768" y="2168"/>
                </a:moveTo>
                <a:lnTo>
                  <a:pt x="5768" y="0"/>
                </a:lnTo>
                <a:lnTo>
                  <a:pt x="0" y="16"/>
                </a:lnTo>
                <a:cubicBezTo>
                  <a:pt x="0" y="16"/>
                  <a:pt x="0" y="4344"/>
                  <a:pt x="0" y="4344"/>
                </a:cubicBezTo>
                <a:cubicBezTo>
                  <a:pt x="0" y="4336"/>
                  <a:pt x="1673" y="4344"/>
                  <a:pt x="3345" y="4344"/>
                </a:cubicBezTo>
                <a:cubicBezTo>
                  <a:pt x="2479" y="3339"/>
                  <a:pt x="5768" y="2168"/>
                  <a:pt x="5768" y="2168"/>
                </a:cubicBezTo>
                <a:close/>
              </a:path>
            </a:pathLst>
          </a:custGeom>
          <a:solidFill>
            <a:srgbClr val="fd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75960" y="6305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esentation Name - Date - </a:t>
            </a:r>
            <a:fld id="{8CC01F93-4D47-4ADB-A817-7FD809250200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7684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 algn="ctr"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9640" algn="ctr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4280" algn="ctr">
              <a:spcBef>
                <a:spcPts val="499"/>
              </a:spcBef>
              <a:buClr>
                <a:srgbClr val="ff66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4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4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llenge on Multicast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2895480"/>
            <a:ext cx="723924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uis Ch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Consultant - Asia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ail: lchan@unispherenetwork.c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Streaming Requi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multicast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tter cause instantaneous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requirement at client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2286000" y="3733920"/>
            <a:ext cx="609120" cy="380520"/>
            <a:chOff x="2286000" y="3733920"/>
            <a:chExt cx="609120" cy="380520"/>
          </a:xfrm>
        </p:grpSpPr>
        <p:grpSp>
          <p:nvGrpSpPr>
            <p:cNvPr id="1771" name=""/>
            <p:cNvGrpSpPr/>
            <p:nvPr/>
          </p:nvGrpSpPr>
          <p:grpSpPr>
            <a:xfrm>
              <a:off x="2297520" y="3751920"/>
              <a:ext cx="597600" cy="362520"/>
              <a:chOff x="2297520" y="3751920"/>
              <a:chExt cx="597600" cy="362520"/>
            </a:xfrm>
          </p:grpSpPr>
          <p:sp>
            <p:nvSpPr>
              <p:cNvPr id="1772" name=""/>
              <p:cNvSpPr/>
              <p:nvPr/>
            </p:nvSpPr>
            <p:spPr>
              <a:xfrm>
                <a:off x="2297520" y="386856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302920" y="388152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302920" y="375192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2286000" y="385020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91760" y="386244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91760" y="373392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2401560" y="3763800"/>
              <a:ext cx="372240" cy="173160"/>
              <a:chOff x="2401560" y="3763800"/>
              <a:chExt cx="372240" cy="17316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2401560" y="3763800"/>
                <a:ext cx="372240" cy="173160"/>
                <a:chOff x="2401560" y="3763800"/>
                <a:chExt cx="372240" cy="1731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240156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240156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259884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59884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2413080" y="3763800"/>
                <a:ext cx="349560" cy="173160"/>
                <a:chOff x="2413080" y="3763800"/>
                <a:chExt cx="349560" cy="17316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258696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258696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241308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41308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9" name=""/>
          <p:cNvGrpSpPr/>
          <p:nvPr/>
        </p:nvGrpSpPr>
        <p:grpSpPr>
          <a:xfrm>
            <a:off x="7010280" y="3124080"/>
            <a:ext cx="533520" cy="380880"/>
            <a:chOff x="7010280" y="3124080"/>
            <a:chExt cx="533520" cy="380880"/>
          </a:xfrm>
        </p:grpSpPr>
        <p:grpSp>
          <p:nvGrpSpPr>
            <p:cNvPr id="1790" name=""/>
            <p:cNvGrpSpPr/>
            <p:nvPr/>
          </p:nvGrpSpPr>
          <p:grpSpPr>
            <a:xfrm>
              <a:off x="7113240" y="3327120"/>
              <a:ext cx="340200" cy="118080"/>
              <a:chOff x="7113240" y="3327120"/>
              <a:chExt cx="340200" cy="118080"/>
            </a:xfrm>
          </p:grpSpPr>
          <p:grpSp>
            <p:nvGrpSpPr>
              <p:cNvPr id="1791" name=""/>
              <p:cNvGrpSpPr/>
              <p:nvPr/>
            </p:nvGrpSpPr>
            <p:grpSpPr>
              <a:xfrm>
                <a:off x="7113240" y="3327120"/>
                <a:ext cx="340200" cy="118080"/>
                <a:chOff x="7113240" y="3327120"/>
                <a:chExt cx="340200" cy="118080"/>
              </a:xfrm>
            </p:grpSpPr>
            <p:grpSp>
              <p:nvGrpSpPr>
                <p:cNvPr id="1792" name=""/>
                <p:cNvGrpSpPr/>
                <p:nvPr/>
              </p:nvGrpSpPr>
              <p:grpSpPr>
                <a:xfrm>
                  <a:off x="7113240" y="3327120"/>
                  <a:ext cx="340200" cy="118080"/>
                  <a:chOff x="7113240" y="3327120"/>
                  <a:chExt cx="340200" cy="118080"/>
                </a:xfrm>
              </p:grpSpPr>
              <p:grpSp>
                <p:nvGrpSpPr>
                  <p:cNvPr id="1793" name=""/>
                  <p:cNvGrpSpPr/>
                  <p:nvPr/>
                </p:nvGrpSpPr>
                <p:grpSpPr>
                  <a:xfrm>
                    <a:off x="7113240" y="3327120"/>
                    <a:ext cx="339120" cy="118080"/>
                    <a:chOff x="7113240" y="3327120"/>
                    <a:chExt cx="339120" cy="118080"/>
                  </a:xfrm>
                </p:grpSpPr>
                <p:grpSp>
                  <p:nvGrpSpPr>
                    <p:cNvPr id="1794" name=""/>
                    <p:cNvGrpSpPr/>
                    <p:nvPr/>
                  </p:nvGrpSpPr>
                  <p:grpSpPr>
                    <a:xfrm>
                      <a:off x="7113240" y="3327120"/>
                      <a:ext cx="339120" cy="118080"/>
                      <a:chOff x="7113240" y="3327120"/>
                      <a:chExt cx="339120" cy="118080"/>
                    </a:xfrm>
                  </p:grpSpPr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7114320" y="33577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7113240" y="33271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7122240" y="33508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8" name=""/>
                  <p:cNvGrpSpPr/>
                  <p:nvPr/>
                </p:nvGrpSpPr>
                <p:grpSpPr>
                  <a:xfrm>
                    <a:off x="7126920" y="3425040"/>
                    <a:ext cx="326520" cy="17640"/>
                    <a:chOff x="7126920" y="3425040"/>
                    <a:chExt cx="326520" cy="17640"/>
                  </a:xfrm>
                </p:grpSpPr>
                <p:grpSp>
                  <p:nvGrpSpPr>
                    <p:cNvPr id="1799" name=""/>
                    <p:cNvGrpSpPr/>
                    <p:nvPr/>
                  </p:nvGrpSpPr>
                  <p:grpSpPr>
                    <a:xfrm>
                      <a:off x="7126920" y="3425040"/>
                      <a:ext cx="160560" cy="17640"/>
                      <a:chOff x="7126920" y="3425040"/>
                      <a:chExt cx="160560" cy="17640"/>
                    </a:xfrm>
                  </p:grpSpPr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126920" y="3425040"/>
                        <a:ext cx="76320" cy="17640"/>
                        <a:chOff x="7126920" y="3425040"/>
                        <a:chExt cx="76320" cy="17640"/>
                      </a:xfrm>
                    </p:grpSpPr>
                    <p:grpSp>
                      <p:nvGrpSpPr>
                        <p:cNvPr id="1801" name=""/>
                        <p:cNvGrpSpPr/>
                        <p:nvPr/>
                      </p:nvGrpSpPr>
                      <p:grpSpPr>
                        <a:xfrm>
                          <a:off x="7126920" y="3425040"/>
                          <a:ext cx="35640" cy="17640"/>
                          <a:chOff x="7126920" y="3425040"/>
                          <a:chExt cx="35640" cy="17640"/>
                        </a:xfrm>
                      </p:grpSpPr>
                      <p:grpSp>
                        <p:nvGrpSpPr>
                          <p:cNvPr id="1802" name=""/>
                          <p:cNvGrpSpPr/>
                          <p:nvPr/>
                        </p:nvGrpSpPr>
                        <p:grpSpPr>
                          <a:xfrm>
                            <a:off x="7126920" y="3425040"/>
                            <a:ext cx="20880" cy="17640"/>
                            <a:chOff x="7126920" y="3425040"/>
                            <a:chExt cx="20880" cy="17640"/>
                          </a:xfrm>
                        </p:grpSpPr>
                        <p:grpSp>
                          <p:nvGrpSpPr>
                            <p:cNvPr id="1803" name=""/>
                            <p:cNvGrpSpPr/>
                            <p:nvPr/>
                          </p:nvGrpSpPr>
                          <p:grpSpPr>
                            <a:xfrm>
                              <a:off x="7126920" y="3425040"/>
                              <a:ext cx="5040" cy="17640"/>
                              <a:chOff x="7126920" y="3425040"/>
                              <a:chExt cx="5040" cy="17640"/>
                            </a:xfrm>
                          </p:grpSpPr>
                          <p:sp>
                            <p:nvSpPr>
                              <p:cNvPr id="1804" name=""/>
                              <p:cNvSpPr/>
                              <p:nvPr/>
                            </p:nvSpPr>
                            <p:spPr>
                              <a:xfrm>
                                <a:off x="7126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5" name=""/>
                              <p:cNvSpPr/>
                              <p:nvPr/>
                            </p:nvSpPr>
                            <p:spPr>
                              <a:xfrm>
                                <a:off x="71316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06" name=""/>
                            <p:cNvGrpSpPr/>
                            <p:nvPr/>
                          </p:nvGrpSpPr>
                          <p:grpSpPr>
                            <a:xfrm>
                              <a:off x="7136280" y="3425040"/>
                              <a:ext cx="11520" cy="17640"/>
                              <a:chOff x="7136280" y="3425040"/>
                              <a:chExt cx="11520" cy="17640"/>
                            </a:xfrm>
                          </p:grpSpPr>
                          <p:sp>
                            <p:nvSpPr>
                              <p:cNvPr id="1807" name=""/>
                              <p:cNvSpPr/>
                              <p:nvPr/>
                            </p:nvSpPr>
                            <p:spPr>
                              <a:xfrm>
                                <a:off x="71362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8" name=""/>
                              <p:cNvSpPr/>
                              <p:nvPr/>
                            </p:nvSpPr>
                            <p:spPr>
                              <a:xfrm>
                                <a:off x="7141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09" name=""/>
                          <p:cNvGrpSpPr/>
                          <p:nvPr/>
                        </p:nvGrpSpPr>
                        <p:grpSpPr>
                          <a:xfrm>
                            <a:off x="7147080" y="3425040"/>
                            <a:ext cx="15480" cy="17640"/>
                            <a:chOff x="7147080" y="3425040"/>
                            <a:chExt cx="15480" cy="17640"/>
                          </a:xfrm>
                        </p:grpSpPr>
                        <p:grpSp>
                          <p:nvGrpSpPr>
                            <p:cNvPr id="1810" name=""/>
                            <p:cNvGrpSpPr/>
                            <p:nvPr/>
                          </p:nvGrpSpPr>
                          <p:grpSpPr>
                            <a:xfrm>
                              <a:off x="7147080" y="3425040"/>
                              <a:ext cx="11520" cy="17640"/>
                              <a:chOff x="7147080" y="3425040"/>
                              <a:chExt cx="11520" cy="17640"/>
                            </a:xfrm>
                          </p:grpSpPr>
                          <p:sp>
                            <p:nvSpPr>
                              <p:cNvPr id="1811" name=""/>
                              <p:cNvSpPr/>
                              <p:nvPr/>
                            </p:nvSpPr>
                            <p:spPr>
                              <a:xfrm>
                                <a:off x="71470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2" name=""/>
                              <p:cNvSpPr/>
                              <p:nvPr/>
                            </p:nvSpPr>
                            <p:spPr>
                              <a:xfrm>
                                <a:off x="715176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13" name=""/>
                            <p:cNvGrpSpPr/>
                            <p:nvPr/>
                          </p:nvGrpSpPr>
                          <p:grpSpPr>
                            <a:xfrm>
                              <a:off x="7157520" y="3425040"/>
                              <a:ext cx="5040" cy="17640"/>
                              <a:chOff x="7157520" y="3425040"/>
                              <a:chExt cx="5040" cy="17640"/>
                            </a:xfrm>
                          </p:grpSpPr>
                          <p:sp>
                            <p:nvSpPr>
                              <p:cNvPr id="1814" name=""/>
                              <p:cNvSpPr/>
                              <p:nvPr/>
                            </p:nvSpPr>
                            <p:spPr>
                              <a:xfrm>
                                <a:off x="71575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5" name=""/>
                              <p:cNvSpPr/>
                              <p:nvPr/>
                            </p:nvSpPr>
                            <p:spPr>
                              <a:xfrm>
                                <a:off x="71622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816" name=""/>
                        <p:cNvGrpSpPr/>
                        <p:nvPr/>
                      </p:nvGrpSpPr>
                      <p:grpSpPr>
                        <a:xfrm>
                          <a:off x="7166880" y="3425040"/>
                          <a:ext cx="36360" cy="17640"/>
                          <a:chOff x="7166880" y="3425040"/>
                          <a:chExt cx="36360" cy="17640"/>
                        </a:xfrm>
                      </p:grpSpPr>
                      <p:grpSp>
                        <p:nvGrpSpPr>
                          <p:cNvPr id="1817" name=""/>
                          <p:cNvGrpSpPr/>
                          <p:nvPr/>
                        </p:nvGrpSpPr>
                        <p:grpSpPr>
                          <a:xfrm>
                            <a:off x="7166880" y="3425040"/>
                            <a:ext cx="21600" cy="17640"/>
                            <a:chOff x="7166880" y="3425040"/>
                            <a:chExt cx="21600" cy="17640"/>
                          </a:xfrm>
                        </p:grpSpPr>
                        <p:grpSp>
                          <p:nvGrpSpPr>
                            <p:cNvPr id="1818" name=""/>
                            <p:cNvGrpSpPr/>
                            <p:nvPr/>
                          </p:nvGrpSpPr>
                          <p:grpSpPr>
                            <a:xfrm>
                              <a:off x="7166880" y="3425040"/>
                              <a:ext cx="16200" cy="17640"/>
                              <a:chOff x="7166880" y="3425040"/>
                              <a:chExt cx="16200" cy="17640"/>
                            </a:xfrm>
                          </p:grpSpPr>
                          <p:sp>
                            <p:nvSpPr>
                              <p:cNvPr id="1819" name=""/>
                              <p:cNvSpPr/>
                              <p:nvPr/>
                            </p:nvSpPr>
                            <p:spPr>
                              <a:xfrm>
                                <a:off x="71668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0" name=""/>
                              <p:cNvSpPr/>
                              <p:nvPr/>
                            </p:nvSpPr>
                            <p:spPr>
                              <a:xfrm>
                                <a:off x="71715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21" name=""/>
                            <p:cNvGrpSpPr/>
                            <p:nvPr/>
                          </p:nvGrpSpPr>
                          <p:grpSpPr>
                            <a:xfrm>
                              <a:off x="7176600" y="3425040"/>
                              <a:ext cx="11880" cy="17640"/>
                              <a:chOff x="7176600" y="3425040"/>
                              <a:chExt cx="11880" cy="17640"/>
                            </a:xfrm>
                          </p:grpSpPr>
                          <p:sp>
                            <p:nvSpPr>
                              <p:cNvPr id="1822" name=""/>
                              <p:cNvSpPr/>
                              <p:nvPr/>
                            </p:nvSpPr>
                            <p:spPr>
                              <a:xfrm>
                                <a:off x="7176600" y="34250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3" name=""/>
                              <p:cNvSpPr/>
                              <p:nvPr/>
                            </p:nvSpPr>
                            <p:spPr>
                              <a:xfrm>
                                <a:off x="71820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24" name=""/>
                          <p:cNvGrpSpPr/>
                          <p:nvPr/>
                        </p:nvGrpSpPr>
                        <p:grpSpPr>
                          <a:xfrm>
                            <a:off x="7187040" y="3425040"/>
                            <a:ext cx="16200" cy="17640"/>
                            <a:chOff x="7187040" y="3425040"/>
                            <a:chExt cx="16200" cy="17640"/>
                          </a:xfrm>
                        </p:grpSpPr>
                        <p:grpSp>
                          <p:nvGrpSpPr>
                            <p:cNvPr id="1825" name=""/>
                            <p:cNvGrpSpPr/>
                            <p:nvPr/>
                          </p:nvGrpSpPr>
                          <p:grpSpPr>
                            <a:xfrm>
                              <a:off x="7187040" y="3425040"/>
                              <a:ext cx="16200" cy="17640"/>
                              <a:chOff x="7187040" y="3425040"/>
                              <a:chExt cx="16200" cy="17640"/>
                            </a:xfrm>
                          </p:grpSpPr>
                          <p:sp>
                            <p:nvSpPr>
                              <p:cNvPr id="1826" name=""/>
                              <p:cNvSpPr/>
                              <p:nvPr/>
                            </p:nvSpPr>
                            <p:spPr>
                              <a:xfrm>
                                <a:off x="71870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7" name=""/>
                              <p:cNvSpPr/>
                              <p:nvPr/>
                            </p:nvSpPr>
                            <p:spPr>
                              <a:xfrm>
                                <a:off x="71917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28" name=""/>
                            <p:cNvGrpSpPr/>
                            <p:nvPr/>
                          </p:nvGrpSpPr>
                          <p:grpSpPr>
                            <a:xfrm>
                              <a:off x="7197120" y="3425040"/>
                              <a:ext cx="5400" cy="17640"/>
                              <a:chOff x="7197120" y="3425040"/>
                              <a:chExt cx="5400" cy="17640"/>
                            </a:xfrm>
                          </p:grpSpPr>
                          <p:sp>
                            <p:nvSpPr>
                              <p:cNvPr id="1829" name=""/>
                              <p:cNvSpPr/>
                              <p:nvPr/>
                            </p:nvSpPr>
                            <p:spPr>
                              <a:xfrm>
                                <a:off x="71971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0" name=""/>
                              <p:cNvSpPr/>
                              <p:nvPr/>
                            </p:nvSpPr>
                            <p:spPr>
                              <a:xfrm>
                                <a:off x="72018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7206840" y="3425040"/>
                        <a:ext cx="80640" cy="17640"/>
                        <a:chOff x="7206840" y="3425040"/>
                        <a:chExt cx="80640" cy="17640"/>
                      </a:xfrm>
                    </p:grpSpPr>
                    <p:grpSp>
                      <p:nvGrpSpPr>
                        <p:cNvPr id="1832" name=""/>
                        <p:cNvGrpSpPr/>
                        <p:nvPr/>
                      </p:nvGrpSpPr>
                      <p:grpSpPr>
                        <a:xfrm>
                          <a:off x="7206840" y="3425040"/>
                          <a:ext cx="45720" cy="17640"/>
                          <a:chOff x="7206840" y="3425040"/>
                          <a:chExt cx="45720" cy="17640"/>
                        </a:xfrm>
                      </p:grpSpPr>
                      <p:grpSp>
                        <p:nvGrpSpPr>
                          <p:cNvPr id="1833" name=""/>
                          <p:cNvGrpSpPr/>
                          <p:nvPr/>
                        </p:nvGrpSpPr>
                        <p:grpSpPr>
                          <a:xfrm>
                            <a:off x="7206840" y="3425040"/>
                            <a:ext cx="16200" cy="17640"/>
                            <a:chOff x="7206840" y="3425040"/>
                            <a:chExt cx="16200" cy="17640"/>
                          </a:xfrm>
                        </p:grpSpPr>
                        <p:grpSp>
                          <p:nvGrpSpPr>
                            <p:cNvPr id="1834" name=""/>
                            <p:cNvGrpSpPr/>
                            <p:nvPr/>
                          </p:nvGrpSpPr>
                          <p:grpSpPr>
                            <a:xfrm>
                              <a:off x="7206840" y="3425040"/>
                              <a:ext cx="16200" cy="17640"/>
                              <a:chOff x="7206840" y="3425040"/>
                              <a:chExt cx="16200" cy="17640"/>
                            </a:xfrm>
                          </p:grpSpPr>
                          <p:sp>
                            <p:nvSpPr>
                              <p:cNvPr id="1835" name=""/>
                              <p:cNvSpPr/>
                              <p:nvPr/>
                            </p:nvSpPr>
                            <p:spPr>
                              <a:xfrm>
                                <a:off x="7206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6" name=""/>
                              <p:cNvSpPr/>
                              <p:nvPr/>
                            </p:nvSpPr>
                            <p:spPr>
                              <a:xfrm>
                                <a:off x="72115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37" name=""/>
                            <p:cNvGrpSpPr/>
                            <p:nvPr/>
                          </p:nvGrpSpPr>
                          <p:grpSpPr>
                            <a:xfrm>
                              <a:off x="7216920" y="3425040"/>
                              <a:ext cx="4320" cy="17640"/>
                              <a:chOff x="7216920" y="3425040"/>
                              <a:chExt cx="4320" cy="17640"/>
                            </a:xfrm>
                          </p:grpSpPr>
                          <p:sp>
                            <p:nvSpPr>
                              <p:cNvPr id="1838" name=""/>
                              <p:cNvSpPr/>
                              <p:nvPr/>
                            </p:nvSpPr>
                            <p:spPr>
                              <a:xfrm>
                                <a:off x="7216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9" name=""/>
                              <p:cNvSpPr/>
                              <p:nvPr/>
                            </p:nvSpPr>
                            <p:spPr>
                              <a:xfrm>
                                <a:off x="7220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40" name=""/>
                          <p:cNvGrpSpPr/>
                          <p:nvPr/>
                        </p:nvGrpSpPr>
                        <p:grpSpPr>
                          <a:xfrm>
                            <a:off x="7227360" y="3425040"/>
                            <a:ext cx="25200" cy="17640"/>
                            <a:chOff x="7227360" y="3425040"/>
                            <a:chExt cx="25200" cy="17640"/>
                          </a:xfrm>
                        </p:grpSpPr>
                        <p:grpSp>
                          <p:nvGrpSpPr>
                            <p:cNvPr id="1841" name=""/>
                            <p:cNvGrpSpPr/>
                            <p:nvPr/>
                          </p:nvGrpSpPr>
                          <p:grpSpPr>
                            <a:xfrm>
                              <a:off x="7227360" y="3425040"/>
                              <a:ext cx="4320" cy="17640"/>
                              <a:chOff x="7227360" y="3425040"/>
                              <a:chExt cx="4320" cy="17640"/>
                            </a:xfrm>
                          </p:grpSpPr>
                          <p:sp>
                            <p:nvSpPr>
                              <p:cNvPr id="1842" name=""/>
                              <p:cNvSpPr/>
                              <p:nvPr/>
                            </p:nvSpPr>
                            <p:spPr>
                              <a:xfrm>
                                <a:off x="722736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3" name=""/>
                              <p:cNvSpPr/>
                              <p:nvPr/>
                            </p:nvSpPr>
                            <p:spPr>
                              <a:xfrm>
                                <a:off x="72313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44" name=""/>
                            <p:cNvGrpSpPr/>
                            <p:nvPr/>
                          </p:nvGrpSpPr>
                          <p:grpSpPr>
                            <a:xfrm>
                              <a:off x="7237080" y="3425040"/>
                              <a:ext cx="15480" cy="17640"/>
                              <a:chOff x="7237080" y="3425040"/>
                              <a:chExt cx="15480" cy="17640"/>
                            </a:xfrm>
                          </p:grpSpPr>
                          <p:sp>
                            <p:nvSpPr>
                              <p:cNvPr id="1845" name=""/>
                              <p:cNvSpPr/>
                              <p:nvPr/>
                            </p:nvSpPr>
                            <p:spPr>
                              <a:xfrm>
                                <a:off x="72370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6" name=""/>
                              <p:cNvSpPr/>
                              <p:nvPr/>
                            </p:nvSpPr>
                            <p:spPr>
                              <a:xfrm>
                                <a:off x="72410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847" name=""/>
                        <p:cNvGrpSpPr/>
                        <p:nvPr/>
                      </p:nvGrpSpPr>
                      <p:grpSpPr>
                        <a:xfrm>
                          <a:off x="7246800" y="3425040"/>
                          <a:ext cx="40680" cy="17640"/>
                          <a:chOff x="7246800" y="3425040"/>
                          <a:chExt cx="40680" cy="17640"/>
                        </a:xfrm>
                      </p:grpSpPr>
                      <p:grpSp>
                        <p:nvGrpSpPr>
                          <p:cNvPr id="1848" name=""/>
                          <p:cNvGrpSpPr/>
                          <p:nvPr/>
                        </p:nvGrpSpPr>
                        <p:grpSpPr>
                          <a:xfrm>
                            <a:off x="7246800" y="3425040"/>
                            <a:ext cx="15480" cy="17640"/>
                            <a:chOff x="7246800" y="3425040"/>
                            <a:chExt cx="15480" cy="17640"/>
                          </a:xfrm>
                        </p:grpSpPr>
                        <p:grpSp>
                          <p:nvGrpSpPr>
                            <p:cNvPr id="1849" name=""/>
                            <p:cNvGrpSpPr/>
                            <p:nvPr/>
                          </p:nvGrpSpPr>
                          <p:grpSpPr>
                            <a:xfrm>
                              <a:off x="7246800" y="3425040"/>
                              <a:ext cx="5040" cy="17640"/>
                              <a:chOff x="7246800" y="3425040"/>
                              <a:chExt cx="5040" cy="17640"/>
                            </a:xfrm>
                          </p:grpSpPr>
                          <p:sp>
                            <p:nvSpPr>
                              <p:cNvPr id="1850" name=""/>
                              <p:cNvSpPr/>
                              <p:nvPr/>
                            </p:nvSpPr>
                            <p:spPr>
                              <a:xfrm>
                                <a:off x="72468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1" name=""/>
                              <p:cNvSpPr/>
                              <p:nvPr/>
                            </p:nvSpPr>
                            <p:spPr>
                              <a:xfrm>
                                <a:off x="72514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52" name=""/>
                            <p:cNvGrpSpPr/>
                            <p:nvPr/>
                          </p:nvGrpSpPr>
                          <p:grpSpPr>
                            <a:xfrm>
                              <a:off x="7257240" y="3425040"/>
                              <a:ext cx="5040" cy="17640"/>
                              <a:chOff x="7257240" y="3425040"/>
                              <a:chExt cx="5040" cy="17640"/>
                            </a:xfrm>
                          </p:grpSpPr>
                          <p:sp>
                            <p:nvSpPr>
                              <p:cNvPr id="1853" name=""/>
                              <p:cNvSpPr/>
                              <p:nvPr/>
                            </p:nvSpPr>
                            <p:spPr>
                              <a:xfrm>
                                <a:off x="72572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4" name=""/>
                              <p:cNvSpPr/>
                              <p:nvPr/>
                            </p:nvSpPr>
                            <p:spPr>
                              <a:xfrm>
                                <a:off x="7261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55" name=""/>
                          <p:cNvGrpSpPr/>
                          <p:nvPr/>
                        </p:nvGrpSpPr>
                        <p:grpSpPr>
                          <a:xfrm>
                            <a:off x="7266600" y="3425040"/>
                            <a:ext cx="20880" cy="17640"/>
                            <a:chOff x="7266600" y="3425040"/>
                            <a:chExt cx="20880" cy="17640"/>
                          </a:xfrm>
                        </p:grpSpPr>
                        <p:grpSp>
                          <p:nvGrpSpPr>
                            <p:cNvPr id="1856" name=""/>
                            <p:cNvGrpSpPr/>
                            <p:nvPr/>
                          </p:nvGrpSpPr>
                          <p:grpSpPr>
                            <a:xfrm>
                              <a:off x="7266600" y="3425040"/>
                              <a:ext cx="16920" cy="17640"/>
                              <a:chOff x="7266600" y="3425040"/>
                              <a:chExt cx="16920" cy="17640"/>
                            </a:xfrm>
                          </p:grpSpPr>
                          <p:sp>
                            <p:nvSpPr>
                              <p:cNvPr id="1857" name=""/>
                              <p:cNvSpPr/>
                              <p:nvPr/>
                            </p:nvSpPr>
                            <p:spPr>
                              <a:xfrm>
                                <a:off x="72666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8" name=""/>
                              <p:cNvSpPr/>
                              <p:nvPr/>
                            </p:nvSpPr>
                            <p:spPr>
                              <a:xfrm>
                                <a:off x="72720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59" name=""/>
                            <p:cNvGrpSpPr/>
                            <p:nvPr/>
                          </p:nvGrpSpPr>
                          <p:grpSpPr>
                            <a:xfrm>
                              <a:off x="7275960" y="3425040"/>
                              <a:ext cx="11520" cy="17640"/>
                              <a:chOff x="7275960" y="3425040"/>
                              <a:chExt cx="11520" cy="17640"/>
                            </a:xfrm>
                          </p:grpSpPr>
                          <p:sp>
                            <p:nvSpPr>
                              <p:cNvPr id="1860" name=""/>
                              <p:cNvSpPr/>
                              <p:nvPr/>
                            </p:nvSpPr>
                            <p:spPr>
                              <a:xfrm>
                                <a:off x="72759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1" name=""/>
                              <p:cNvSpPr/>
                              <p:nvPr/>
                            </p:nvSpPr>
                            <p:spPr>
                              <a:xfrm>
                                <a:off x="72813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862" name=""/>
                    <p:cNvGrpSpPr/>
                    <p:nvPr/>
                  </p:nvGrpSpPr>
                  <p:grpSpPr>
                    <a:xfrm>
                      <a:off x="7287120" y="3425040"/>
                      <a:ext cx="166320" cy="17640"/>
                      <a:chOff x="7287120" y="3425040"/>
                      <a:chExt cx="166320" cy="17640"/>
                    </a:xfrm>
                  </p:grpSpPr>
                  <p:grpSp>
                    <p:nvGrpSpPr>
                      <p:cNvPr id="1863" name=""/>
                      <p:cNvGrpSpPr/>
                      <p:nvPr/>
                    </p:nvGrpSpPr>
                    <p:grpSpPr>
                      <a:xfrm>
                        <a:off x="7287120" y="3425040"/>
                        <a:ext cx="85680" cy="17640"/>
                        <a:chOff x="7287120" y="3425040"/>
                        <a:chExt cx="85680" cy="17640"/>
                      </a:xfrm>
                    </p:grpSpPr>
                    <p:grpSp>
                      <p:nvGrpSpPr>
                        <p:cNvPr id="1864" name=""/>
                        <p:cNvGrpSpPr/>
                        <p:nvPr/>
                      </p:nvGrpSpPr>
                      <p:grpSpPr>
                        <a:xfrm>
                          <a:off x="7287120" y="3425040"/>
                          <a:ext cx="36000" cy="17640"/>
                          <a:chOff x="7287120" y="3425040"/>
                          <a:chExt cx="36000" cy="17640"/>
                        </a:xfrm>
                      </p:grpSpPr>
                      <p:grpSp>
                        <p:nvGrpSpPr>
                          <p:cNvPr id="1865" name=""/>
                          <p:cNvGrpSpPr/>
                          <p:nvPr/>
                        </p:nvGrpSpPr>
                        <p:grpSpPr>
                          <a:xfrm>
                            <a:off x="7287120" y="3425040"/>
                            <a:ext cx="15480" cy="17640"/>
                            <a:chOff x="7287120" y="3425040"/>
                            <a:chExt cx="15480" cy="17640"/>
                          </a:xfrm>
                        </p:grpSpPr>
                        <p:grpSp>
                          <p:nvGrpSpPr>
                            <p:cNvPr id="1866" name=""/>
                            <p:cNvGrpSpPr/>
                            <p:nvPr/>
                          </p:nvGrpSpPr>
                          <p:grpSpPr>
                            <a:xfrm>
                              <a:off x="7287120" y="3425040"/>
                              <a:ext cx="5040" cy="17640"/>
                              <a:chOff x="7287120" y="3425040"/>
                              <a:chExt cx="5040" cy="17640"/>
                            </a:xfrm>
                          </p:grpSpPr>
                          <p:sp>
                            <p:nvSpPr>
                              <p:cNvPr id="1867" name=""/>
                              <p:cNvSpPr/>
                              <p:nvPr/>
                            </p:nvSpPr>
                            <p:spPr>
                              <a:xfrm>
                                <a:off x="72871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8" name=""/>
                              <p:cNvSpPr/>
                              <p:nvPr/>
                            </p:nvSpPr>
                            <p:spPr>
                              <a:xfrm>
                                <a:off x="72918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69" name=""/>
                            <p:cNvGrpSpPr/>
                            <p:nvPr/>
                          </p:nvGrpSpPr>
                          <p:grpSpPr>
                            <a:xfrm>
                              <a:off x="7297560" y="3425040"/>
                              <a:ext cx="5040" cy="17640"/>
                              <a:chOff x="7297560" y="3425040"/>
                              <a:chExt cx="5040" cy="17640"/>
                            </a:xfrm>
                          </p:grpSpPr>
                          <p:sp>
                            <p:nvSpPr>
                              <p:cNvPr id="1870" name=""/>
                              <p:cNvSpPr/>
                              <p:nvPr/>
                            </p:nvSpPr>
                            <p:spPr>
                              <a:xfrm>
                                <a:off x="72975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1" name=""/>
                              <p:cNvSpPr/>
                              <p:nvPr/>
                            </p:nvSpPr>
                            <p:spPr>
                              <a:xfrm>
                                <a:off x="73022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72" name=""/>
                          <p:cNvGrpSpPr/>
                          <p:nvPr/>
                        </p:nvGrpSpPr>
                        <p:grpSpPr>
                          <a:xfrm>
                            <a:off x="7306920" y="3425040"/>
                            <a:ext cx="16200" cy="17640"/>
                            <a:chOff x="7306920" y="3425040"/>
                            <a:chExt cx="16200" cy="17640"/>
                          </a:xfrm>
                        </p:grpSpPr>
                        <p:grpSp>
                          <p:nvGrpSpPr>
                            <p:cNvPr id="1873" name=""/>
                            <p:cNvGrpSpPr/>
                            <p:nvPr/>
                          </p:nvGrpSpPr>
                          <p:grpSpPr>
                            <a:xfrm>
                              <a:off x="7306920" y="3425040"/>
                              <a:ext cx="16200" cy="17640"/>
                              <a:chOff x="7306920" y="3425040"/>
                              <a:chExt cx="16200" cy="17640"/>
                            </a:xfrm>
                          </p:grpSpPr>
                          <p:sp>
                            <p:nvSpPr>
                              <p:cNvPr id="1874" name=""/>
                              <p:cNvSpPr/>
                              <p:nvPr/>
                            </p:nvSpPr>
                            <p:spPr>
                              <a:xfrm>
                                <a:off x="7306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5" name=""/>
                              <p:cNvSpPr/>
                              <p:nvPr/>
                            </p:nvSpPr>
                            <p:spPr>
                              <a:xfrm>
                                <a:off x="7311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76" name=""/>
                            <p:cNvGrpSpPr/>
                            <p:nvPr/>
                          </p:nvGrpSpPr>
                          <p:grpSpPr>
                            <a:xfrm>
                              <a:off x="7317000" y="3425040"/>
                              <a:ext cx="5040" cy="17640"/>
                              <a:chOff x="7317000" y="3425040"/>
                              <a:chExt cx="5040" cy="17640"/>
                            </a:xfrm>
                          </p:grpSpPr>
                          <p:sp>
                            <p:nvSpPr>
                              <p:cNvPr id="1877" name=""/>
                              <p:cNvSpPr/>
                              <p:nvPr/>
                            </p:nvSpPr>
                            <p:spPr>
                              <a:xfrm>
                                <a:off x="7317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8" name=""/>
                              <p:cNvSpPr/>
                              <p:nvPr/>
                            </p:nvSpPr>
                            <p:spPr>
                              <a:xfrm>
                                <a:off x="7321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879" name=""/>
                        <p:cNvGrpSpPr/>
                        <p:nvPr/>
                      </p:nvGrpSpPr>
                      <p:grpSpPr>
                        <a:xfrm>
                          <a:off x="7326720" y="3425040"/>
                          <a:ext cx="46080" cy="17640"/>
                          <a:chOff x="7326720" y="3425040"/>
                          <a:chExt cx="46080" cy="17640"/>
                        </a:xfrm>
                      </p:grpSpPr>
                      <p:grpSp>
                        <p:nvGrpSpPr>
                          <p:cNvPr id="1880" name=""/>
                          <p:cNvGrpSpPr/>
                          <p:nvPr/>
                        </p:nvGrpSpPr>
                        <p:grpSpPr>
                          <a:xfrm>
                            <a:off x="7326720" y="3425040"/>
                            <a:ext cx="16200" cy="17640"/>
                            <a:chOff x="7326720" y="3425040"/>
                            <a:chExt cx="16200" cy="17640"/>
                          </a:xfrm>
                        </p:grpSpPr>
                        <p:grpSp>
                          <p:nvGrpSpPr>
                            <p:cNvPr id="1881" name=""/>
                            <p:cNvGrpSpPr/>
                            <p:nvPr/>
                          </p:nvGrpSpPr>
                          <p:grpSpPr>
                            <a:xfrm>
                              <a:off x="7326720" y="3425040"/>
                              <a:ext cx="16200" cy="17640"/>
                              <a:chOff x="7326720" y="3425040"/>
                              <a:chExt cx="16200" cy="17640"/>
                            </a:xfrm>
                          </p:grpSpPr>
                          <p:sp>
                            <p:nvSpPr>
                              <p:cNvPr id="1882" name=""/>
                              <p:cNvSpPr/>
                              <p:nvPr/>
                            </p:nvSpPr>
                            <p:spPr>
                              <a:xfrm>
                                <a:off x="73267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3" name=""/>
                              <p:cNvSpPr/>
                              <p:nvPr/>
                            </p:nvSpPr>
                            <p:spPr>
                              <a:xfrm>
                                <a:off x="73314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84" name=""/>
                            <p:cNvGrpSpPr/>
                            <p:nvPr/>
                          </p:nvGrpSpPr>
                          <p:grpSpPr>
                            <a:xfrm>
                              <a:off x="7337160" y="3425040"/>
                              <a:ext cx="5400" cy="17640"/>
                              <a:chOff x="7337160" y="3425040"/>
                              <a:chExt cx="5400" cy="17640"/>
                            </a:xfrm>
                          </p:grpSpPr>
                          <p:sp>
                            <p:nvSpPr>
                              <p:cNvPr id="1885" name=""/>
                              <p:cNvSpPr/>
                              <p:nvPr/>
                            </p:nvSpPr>
                            <p:spPr>
                              <a:xfrm>
                                <a:off x="73371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6" name=""/>
                              <p:cNvSpPr/>
                              <p:nvPr/>
                            </p:nvSpPr>
                            <p:spPr>
                              <a:xfrm>
                                <a:off x="7341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87" name=""/>
                          <p:cNvGrpSpPr/>
                          <p:nvPr/>
                        </p:nvGrpSpPr>
                        <p:grpSpPr>
                          <a:xfrm>
                            <a:off x="7346520" y="3425040"/>
                            <a:ext cx="26280" cy="17640"/>
                            <a:chOff x="7346520" y="3425040"/>
                            <a:chExt cx="26280" cy="17640"/>
                          </a:xfrm>
                        </p:grpSpPr>
                        <p:grpSp>
                          <p:nvGrpSpPr>
                            <p:cNvPr id="1888" name=""/>
                            <p:cNvGrpSpPr/>
                            <p:nvPr/>
                          </p:nvGrpSpPr>
                          <p:grpSpPr>
                            <a:xfrm>
                              <a:off x="7346520" y="3425040"/>
                              <a:ext cx="11520" cy="17640"/>
                              <a:chOff x="7346520" y="3425040"/>
                              <a:chExt cx="11520" cy="17640"/>
                            </a:xfrm>
                          </p:grpSpPr>
                          <p:sp>
                            <p:nvSpPr>
                              <p:cNvPr id="1889" name=""/>
                              <p:cNvSpPr/>
                              <p:nvPr/>
                            </p:nvSpPr>
                            <p:spPr>
                              <a:xfrm>
                                <a:off x="73465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0" name=""/>
                              <p:cNvSpPr/>
                              <p:nvPr/>
                            </p:nvSpPr>
                            <p:spPr>
                              <a:xfrm>
                                <a:off x="7351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91" name=""/>
                            <p:cNvGrpSpPr/>
                            <p:nvPr/>
                          </p:nvGrpSpPr>
                          <p:grpSpPr>
                            <a:xfrm>
                              <a:off x="7355880" y="3425040"/>
                              <a:ext cx="16920" cy="17640"/>
                              <a:chOff x="7355880" y="3425040"/>
                              <a:chExt cx="16920" cy="17640"/>
                            </a:xfrm>
                          </p:grpSpPr>
                          <p:sp>
                            <p:nvSpPr>
                              <p:cNvPr id="1892" name=""/>
                              <p:cNvSpPr/>
                              <p:nvPr/>
                            </p:nvSpPr>
                            <p:spPr>
                              <a:xfrm>
                                <a:off x="7355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3" name=""/>
                              <p:cNvSpPr/>
                              <p:nvPr/>
                            </p:nvSpPr>
                            <p:spPr>
                              <a:xfrm>
                                <a:off x="73612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894" name=""/>
                      <p:cNvGrpSpPr/>
                      <p:nvPr/>
                    </p:nvGrpSpPr>
                    <p:grpSpPr>
                      <a:xfrm>
                        <a:off x="7367040" y="3425040"/>
                        <a:ext cx="86400" cy="17640"/>
                        <a:chOff x="7367040" y="3425040"/>
                        <a:chExt cx="86400" cy="17640"/>
                      </a:xfrm>
                    </p:grpSpPr>
                    <p:grpSp>
                      <p:nvGrpSpPr>
                        <p:cNvPr id="1895" name=""/>
                        <p:cNvGrpSpPr/>
                        <p:nvPr/>
                      </p:nvGrpSpPr>
                      <p:grpSpPr>
                        <a:xfrm>
                          <a:off x="7367040" y="3425040"/>
                          <a:ext cx="41400" cy="17640"/>
                          <a:chOff x="7367040" y="3425040"/>
                          <a:chExt cx="41400" cy="17640"/>
                        </a:xfrm>
                      </p:grpSpPr>
                      <p:grpSp>
                        <p:nvGrpSpPr>
                          <p:cNvPr id="1896" name=""/>
                          <p:cNvGrpSpPr/>
                          <p:nvPr/>
                        </p:nvGrpSpPr>
                        <p:grpSpPr>
                          <a:xfrm>
                            <a:off x="7367040" y="3425040"/>
                            <a:ext cx="21600" cy="17640"/>
                            <a:chOff x="7367040" y="3425040"/>
                            <a:chExt cx="21600" cy="17640"/>
                          </a:xfrm>
                        </p:grpSpPr>
                        <p:grpSp>
                          <p:nvGrpSpPr>
                            <p:cNvPr id="1897" name=""/>
                            <p:cNvGrpSpPr/>
                            <p:nvPr/>
                          </p:nvGrpSpPr>
                          <p:grpSpPr>
                            <a:xfrm>
                              <a:off x="7367040" y="3425040"/>
                              <a:ext cx="16200" cy="17640"/>
                              <a:chOff x="7367040" y="3425040"/>
                              <a:chExt cx="16200" cy="17640"/>
                            </a:xfrm>
                          </p:grpSpPr>
                          <p:sp>
                            <p:nvSpPr>
                              <p:cNvPr id="1898" name=""/>
                              <p:cNvSpPr/>
                              <p:nvPr/>
                            </p:nvSpPr>
                            <p:spPr>
                              <a:xfrm>
                                <a:off x="73670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9" name=""/>
                              <p:cNvSpPr/>
                              <p:nvPr/>
                            </p:nvSpPr>
                            <p:spPr>
                              <a:xfrm>
                                <a:off x="73717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00" name=""/>
                            <p:cNvGrpSpPr/>
                            <p:nvPr/>
                          </p:nvGrpSpPr>
                          <p:grpSpPr>
                            <a:xfrm>
                              <a:off x="7377120" y="3425040"/>
                              <a:ext cx="11520" cy="17640"/>
                              <a:chOff x="7377120" y="3425040"/>
                              <a:chExt cx="11520" cy="17640"/>
                            </a:xfrm>
                          </p:grpSpPr>
                          <p:sp>
                            <p:nvSpPr>
                              <p:cNvPr id="1901" name=""/>
                              <p:cNvSpPr/>
                              <p:nvPr/>
                            </p:nvSpPr>
                            <p:spPr>
                              <a:xfrm>
                                <a:off x="73771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2" name=""/>
                              <p:cNvSpPr/>
                              <p:nvPr/>
                            </p:nvSpPr>
                            <p:spPr>
                              <a:xfrm>
                                <a:off x="73818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903" name=""/>
                          <p:cNvGrpSpPr/>
                          <p:nvPr/>
                        </p:nvGrpSpPr>
                        <p:grpSpPr>
                          <a:xfrm>
                            <a:off x="7386840" y="3425040"/>
                            <a:ext cx="21600" cy="17640"/>
                            <a:chOff x="7386840" y="3425040"/>
                            <a:chExt cx="21600" cy="17640"/>
                          </a:xfrm>
                        </p:grpSpPr>
                        <p:grpSp>
                          <p:nvGrpSpPr>
                            <p:cNvPr id="1904" name=""/>
                            <p:cNvGrpSpPr/>
                            <p:nvPr/>
                          </p:nvGrpSpPr>
                          <p:grpSpPr>
                            <a:xfrm>
                              <a:off x="7386840" y="3425040"/>
                              <a:ext cx="16200" cy="17640"/>
                              <a:chOff x="7386840" y="3425040"/>
                              <a:chExt cx="16200" cy="17640"/>
                            </a:xfrm>
                          </p:grpSpPr>
                          <p:sp>
                            <p:nvSpPr>
                              <p:cNvPr id="1905" name=""/>
                              <p:cNvSpPr/>
                              <p:nvPr/>
                            </p:nvSpPr>
                            <p:spPr>
                              <a:xfrm>
                                <a:off x="7386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6" name=""/>
                              <p:cNvSpPr/>
                              <p:nvPr/>
                            </p:nvSpPr>
                            <p:spPr>
                              <a:xfrm>
                                <a:off x="73915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07" name=""/>
                            <p:cNvGrpSpPr/>
                            <p:nvPr/>
                          </p:nvGrpSpPr>
                          <p:grpSpPr>
                            <a:xfrm>
                              <a:off x="7396920" y="3425040"/>
                              <a:ext cx="11520" cy="17640"/>
                              <a:chOff x="7396920" y="3425040"/>
                              <a:chExt cx="11520" cy="17640"/>
                            </a:xfrm>
                          </p:grpSpPr>
                          <p:sp>
                            <p:nvSpPr>
                              <p:cNvPr id="1908" name=""/>
                              <p:cNvSpPr/>
                              <p:nvPr/>
                            </p:nvSpPr>
                            <p:spPr>
                              <a:xfrm>
                                <a:off x="73969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9" name=""/>
                              <p:cNvSpPr/>
                              <p:nvPr/>
                            </p:nvSpPr>
                            <p:spPr>
                              <a:xfrm>
                                <a:off x="74016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910" name=""/>
                        <p:cNvGrpSpPr/>
                        <p:nvPr/>
                      </p:nvGrpSpPr>
                      <p:grpSpPr>
                        <a:xfrm>
                          <a:off x="7407720" y="3425040"/>
                          <a:ext cx="45720" cy="17640"/>
                          <a:chOff x="7407720" y="3425040"/>
                          <a:chExt cx="45720" cy="17640"/>
                        </a:xfrm>
                      </p:grpSpPr>
                      <p:grpSp>
                        <p:nvGrpSpPr>
                          <p:cNvPr id="1911" name=""/>
                          <p:cNvGrpSpPr/>
                          <p:nvPr/>
                        </p:nvGrpSpPr>
                        <p:grpSpPr>
                          <a:xfrm>
                            <a:off x="7407720" y="3425040"/>
                            <a:ext cx="14760" cy="17640"/>
                            <a:chOff x="7407720" y="3425040"/>
                            <a:chExt cx="14760" cy="17640"/>
                          </a:xfrm>
                        </p:grpSpPr>
                        <p:grpSp>
                          <p:nvGrpSpPr>
                            <p:cNvPr id="1912" name=""/>
                            <p:cNvGrpSpPr/>
                            <p:nvPr/>
                          </p:nvGrpSpPr>
                          <p:grpSpPr>
                            <a:xfrm>
                              <a:off x="7407720" y="3425040"/>
                              <a:ext cx="4320" cy="17640"/>
                              <a:chOff x="7407720" y="3425040"/>
                              <a:chExt cx="4320" cy="17640"/>
                            </a:xfrm>
                          </p:grpSpPr>
                          <p:sp>
                            <p:nvSpPr>
                              <p:cNvPr id="1913" name=""/>
                              <p:cNvSpPr/>
                              <p:nvPr/>
                            </p:nvSpPr>
                            <p:spPr>
                              <a:xfrm>
                                <a:off x="74077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4" name=""/>
                              <p:cNvSpPr/>
                              <p:nvPr/>
                            </p:nvSpPr>
                            <p:spPr>
                              <a:xfrm>
                                <a:off x="7411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15" name=""/>
                            <p:cNvGrpSpPr/>
                            <p:nvPr/>
                          </p:nvGrpSpPr>
                          <p:grpSpPr>
                            <a:xfrm>
                              <a:off x="7417440" y="3425040"/>
                              <a:ext cx="5040" cy="17640"/>
                              <a:chOff x="7417440" y="3425040"/>
                              <a:chExt cx="5040" cy="17640"/>
                            </a:xfrm>
                          </p:grpSpPr>
                          <p:sp>
                            <p:nvSpPr>
                              <p:cNvPr id="1916" name=""/>
                              <p:cNvSpPr/>
                              <p:nvPr/>
                            </p:nvSpPr>
                            <p:spPr>
                              <a:xfrm>
                                <a:off x="74174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7" name=""/>
                              <p:cNvSpPr/>
                              <p:nvPr/>
                            </p:nvSpPr>
                            <p:spPr>
                              <a:xfrm>
                                <a:off x="74221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918" name=""/>
                          <p:cNvGrpSpPr/>
                          <p:nvPr/>
                        </p:nvGrpSpPr>
                        <p:grpSpPr>
                          <a:xfrm>
                            <a:off x="7427160" y="3425040"/>
                            <a:ext cx="26280" cy="17640"/>
                            <a:chOff x="7427160" y="3425040"/>
                            <a:chExt cx="26280" cy="17640"/>
                          </a:xfrm>
                        </p:grpSpPr>
                        <p:grpSp>
                          <p:nvGrpSpPr>
                            <p:cNvPr id="1919" name=""/>
                            <p:cNvGrpSpPr/>
                            <p:nvPr/>
                          </p:nvGrpSpPr>
                          <p:grpSpPr>
                            <a:xfrm>
                              <a:off x="7427160" y="3425040"/>
                              <a:ext cx="11520" cy="17640"/>
                              <a:chOff x="7427160" y="3425040"/>
                              <a:chExt cx="11520" cy="17640"/>
                            </a:xfrm>
                          </p:grpSpPr>
                          <p:sp>
                            <p:nvSpPr>
                              <p:cNvPr id="1920" name=""/>
                              <p:cNvSpPr/>
                              <p:nvPr/>
                            </p:nvSpPr>
                            <p:spPr>
                              <a:xfrm>
                                <a:off x="74271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1" name=""/>
                              <p:cNvSpPr/>
                              <p:nvPr/>
                            </p:nvSpPr>
                            <p:spPr>
                              <a:xfrm>
                                <a:off x="743256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22" name=""/>
                            <p:cNvGrpSpPr/>
                            <p:nvPr/>
                          </p:nvGrpSpPr>
                          <p:grpSpPr>
                            <a:xfrm>
                              <a:off x="7437240" y="3425040"/>
                              <a:ext cx="16200" cy="17640"/>
                              <a:chOff x="7437240" y="3425040"/>
                              <a:chExt cx="16200" cy="17640"/>
                            </a:xfrm>
                          </p:grpSpPr>
                          <p:sp>
                            <p:nvSpPr>
                              <p:cNvPr id="1923" name=""/>
                              <p:cNvSpPr/>
                              <p:nvPr/>
                            </p:nvSpPr>
                            <p:spPr>
                              <a:xfrm>
                                <a:off x="74372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4" name=""/>
                              <p:cNvSpPr/>
                              <p:nvPr/>
                            </p:nvSpPr>
                            <p:spPr>
                              <a:xfrm>
                                <a:off x="74419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925" name=""/>
                <p:cNvGrpSpPr/>
                <p:nvPr/>
              </p:nvGrpSpPr>
              <p:grpSpPr>
                <a:xfrm>
                  <a:off x="7124040" y="3364920"/>
                  <a:ext cx="315000" cy="41760"/>
                  <a:chOff x="7124040" y="3364920"/>
                  <a:chExt cx="315000" cy="41760"/>
                </a:xfrm>
              </p:grpSpPr>
              <p:sp>
                <p:nvSpPr>
                  <p:cNvPr id="1926" name=""/>
                  <p:cNvSpPr/>
                  <p:nvPr/>
                </p:nvSpPr>
                <p:spPr>
                  <a:xfrm>
                    <a:off x="7124040" y="33649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7193520" y="33649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7291800" y="33649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7399080" y="33649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0" name=""/>
              <p:cNvGrpSpPr/>
              <p:nvPr/>
            </p:nvGrpSpPr>
            <p:grpSpPr>
              <a:xfrm>
                <a:off x="7404120" y="3369960"/>
                <a:ext cx="25200" cy="19440"/>
                <a:chOff x="7404120" y="3369960"/>
                <a:chExt cx="25200" cy="1944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7418520" y="33699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420320" y="33771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3" name=""/>
                <p:cNvGrpSpPr/>
                <p:nvPr/>
              </p:nvGrpSpPr>
              <p:grpSpPr>
                <a:xfrm>
                  <a:off x="7404120" y="3372480"/>
                  <a:ext cx="5400" cy="16920"/>
                  <a:chOff x="7404120" y="3372480"/>
                  <a:chExt cx="5400" cy="1692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>
                    <a:off x="7404120" y="33724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7404120" y="33850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6" name=""/>
              <p:cNvGrpSpPr/>
              <p:nvPr/>
            </p:nvGrpSpPr>
            <p:grpSpPr>
              <a:xfrm>
                <a:off x="7197480" y="3371040"/>
                <a:ext cx="85680" cy="27720"/>
                <a:chOff x="7197480" y="3371040"/>
                <a:chExt cx="85680" cy="27720"/>
              </a:xfrm>
            </p:grpSpPr>
            <p:grpSp>
              <p:nvGrpSpPr>
                <p:cNvPr id="1937" name=""/>
                <p:cNvGrpSpPr/>
                <p:nvPr/>
              </p:nvGrpSpPr>
              <p:grpSpPr>
                <a:xfrm>
                  <a:off x="7198200" y="3371040"/>
                  <a:ext cx="84960" cy="15480"/>
                  <a:chOff x="7198200" y="3371040"/>
                  <a:chExt cx="84960" cy="15480"/>
                </a:xfrm>
              </p:grpSpPr>
              <p:sp>
                <p:nvSpPr>
                  <p:cNvPr id="1938" name=""/>
                  <p:cNvSpPr/>
                  <p:nvPr/>
                </p:nvSpPr>
                <p:spPr>
                  <a:xfrm>
                    <a:off x="7226640" y="33710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7226640" y="33786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7198200" y="33775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1" name=""/>
                <p:cNvSpPr/>
                <p:nvPr/>
              </p:nvSpPr>
              <p:spPr>
                <a:xfrm>
                  <a:off x="7197480" y="33724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270920" y="33944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7127640" y="3397680"/>
                <a:ext cx="67320" cy="9360"/>
                <a:chOff x="7127640" y="3397680"/>
                <a:chExt cx="67320" cy="9360"/>
              </a:xfrm>
            </p:grpSpPr>
            <p:grpSp>
              <p:nvGrpSpPr>
                <p:cNvPr id="1944" name=""/>
                <p:cNvGrpSpPr/>
                <p:nvPr/>
              </p:nvGrpSpPr>
              <p:grpSpPr>
                <a:xfrm>
                  <a:off x="7127640" y="3397680"/>
                  <a:ext cx="37080" cy="9360"/>
                  <a:chOff x="7127640" y="3397680"/>
                  <a:chExt cx="37080" cy="9360"/>
                </a:xfrm>
              </p:grpSpPr>
              <p:grpSp>
                <p:nvGrpSpPr>
                  <p:cNvPr id="1945" name=""/>
                  <p:cNvGrpSpPr/>
                  <p:nvPr/>
                </p:nvGrpSpPr>
                <p:grpSpPr>
                  <a:xfrm>
                    <a:off x="7127640" y="3397680"/>
                    <a:ext cx="23040" cy="9360"/>
                    <a:chOff x="7127640" y="3397680"/>
                    <a:chExt cx="23040" cy="9360"/>
                  </a:xfrm>
                </p:grpSpPr>
                <p:grpSp>
                  <p:nvGrpSpPr>
                    <p:cNvPr id="1946" name=""/>
                    <p:cNvGrpSpPr/>
                    <p:nvPr/>
                  </p:nvGrpSpPr>
                  <p:grpSpPr>
                    <a:xfrm>
                      <a:off x="7127640" y="3397680"/>
                      <a:ext cx="14760" cy="9360"/>
                      <a:chOff x="7127640" y="3397680"/>
                      <a:chExt cx="14760" cy="9360"/>
                    </a:xfrm>
                  </p:grpSpPr>
                  <p:sp>
                    <p:nvSpPr>
                      <p:cNvPr id="1947" name=""/>
                      <p:cNvSpPr/>
                      <p:nvPr/>
                    </p:nvSpPr>
                    <p:spPr>
                      <a:xfrm>
                        <a:off x="71276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8" name=""/>
                      <p:cNvSpPr/>
                      <p:nvPr/>
                    </p:nvSpPr>
                    <p:spPr>
                      <a:xfrm>
                        <a:off x="71308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9" name=""/>
                    <p:cNvGrpSpPr/>
                    <p:nvPr/>
                  </p:nvGrpSpPr>
                  <p:grpSpPr>
                    <a:xfrm>
                      <a:off x="7134480" y="3397680"/>
                      <a:ext cx="16200" cy="9360"/>
                      <a:chOff x="7134480" y="3397680"/>
                      <a:chExt cx="16200" cy="9360"/>
                    </a:xfrm>
                  </p:grpSpPr>
                  <p:sp>
                    <p:nvSpPr>
                      <p:cNvPr id="1950" name=""/>
                      <p:cNvSpPr/>
                      <p:nvPr/>
                    </p:nvSpPr>
                    <p:spPr>
                      <a:xfrm>
                        <a:off x="71344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1" name=""/>
                      <p:cNvSpPr/>
                      <p:nvPr/>
                    </p:nvSpPr>
                    <p:spPr>
                      <a:xfrm>
                        <a:off x="713880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7142040" y="3397680"/>
                    <a:ext cx="22680" cy="9360"/>
                    <a:chOff x="7142040" y="3397680"/>
                    <a:chExt cx="22680" cy="9360"/>
                  </a:xfrm>
                </p:grpSpPr>
                <p:grpSp>
                  <p:nvGrpSpPr>
                    <p:cNvPr id="1953" name=""/>
                    <p:cNvGrpSpPr/>
                    <p:nvPr/>
                  </p:nvGrpSpPr>
                  <p:grpSpPr>
                    <a:xfrm>
                      <a:off x="7142040" y="3397680"/>
                      <a:ext cx="14760" cy="9360"/>
                      <a:chOff x="7142040" y="3397680"/>
                      <a:chExt cx="14760" cy="9360"/>
                    </a:xfrm>
                  </p:grpSpPr>
                  <p:sp>
                    <p:nvSpPr>
                      <p:cNvPr id="1954" name=""/>
                      <p:cNvSpPr/>
                      <p:nvPr/>
                    </p:nvSpPr>
                    <p:spPr>
                      <a:xfrm>
                        <a:off x="71420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5" name=""/>
                      <p:cNvSpPr/>
                      <p:nvPr/>
                    </p:nvSpPr>
                    <p:spPr>
                      <a:xfrm>
                        <a:off x="71452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6" name=""/>
                    <p:cNvGrpSpPr/>
                    <p:nvPr/>
                  </p:nvGrpSpPr>
                  <p:grpSpPr>
                    <a:xfrm>
                      <a:off x="7149240" y="3397680"/>
                      <a:ext cx="15480" cy="9360"/>
                      <a:chOff x="7149240" y="3397680"/>
                      <a:chExt cx="15480" cy="9360"/>
                    </a:xfrm>
                  </p:grpSpPr>
                  <p:sp>
                    <p:nvSpPr>
                      <p:cNvPr id="1957" name=""/>
                      <p:cNvSpPr/>
                      <p:nvPr/>
                    </p:nvSpPr>
                    <p:spPr>
                      <a:xfrm>
                        <a:off x="71492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8" name=""/>
                      <p:cNvSpPr/>
                      <p:nvPr/>
                    </p:nvSpPr>
                    <p:spPr>
                      <a:xfrm>
                        <a:off x="715320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7157160" y="3397680"/>
                  <a:ext cx="37800" cy="9360"/>
                  <a:chOff x="7157160" y="3397680"/>
                  <a:chExt cx="37800" cy="9360"/>
                </a:xfrm>
              </p:grpSpPr>
              <p:grpSp>
                <p:nvGrpSpPr>
                  <p:cNvPr id="1960" name=""/>
                  <p:cNvGrpSpPr/>
                  <p:nvPr/>
                </p:nvGrpSpPr>
                <p:grpSpPr>
                  <a:xfrm>
                    <a:off x="7157160" y="3397680"/>
                    <a:ext cx="23040" cy="9360"/>
                    <a:chOff x="7157160" y="3397680"/>
                    <a:chExt cx="23040" cy="9360"/>
                  </a:xfrm>
                </p:grpSpPr>
                <p:grpSp>
                  <p:nvGrpSpPr>
                    <p:cNvPr id="1961" name=""/>
                    <p:cNvGrpSpPr/>
                    <p:nvPr/>
                  </p:nvGrpSpPr>
                  <p:grpSpPr>
                    <a:xfrm>
                      <a:off x="7157160" y="3397680"/>
                      <a:ext cx="15840" cy="9360"/>
                      <a:chOff x="7157160" y="3397680"/>
                      <a:chExt cx="15840" cy="9360"/>
                    </a:xfrm>
                  </p:grpSpPr>
                  <p:sp>
                    <p:nvSpPr>
                      <p:cNvPr id="1962" name=""/>
                      <p:cNvSpPr/>
                      <p:nvPr/>
                    </p:nvSpPr>
                    <p:spPr>
                      <a:xfrm>
                        <a:off x="71571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3" name=""/>
                      <p:cNvSpPr/>
                      <p:nvPr/>
                    </p:nvSpPr>
                    <p:spPr>
                      <a:xfrm>
                        <a:off x="716112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64" name=""/>
                    <p:cNvGrpSpPr/>
                    <p:nvPr/>
                  </p:nvGrpSpPr>
                  <p:grpSpPr>
                    <a:xfrm>
                      <a:off x="7165440" y="3397680"/>
                      <a:ext cx="14760" cy="9360"/>
                      <a:chOff x="7165440" y="3397680"/>
                      <a:chExt cx="14760" cy="9360"/>
                    </a:xfrm>
                  </p:grpSpPr>
                  <p:sp>
                    <p:nvSpPr>
                      <p:cNvPr id="1965" name=""/>
                      <p:cNvSpPr/>
                      <p:nvPr/>
                    </p:nvSpPr>
                    <p:spPr>
                      <a:xfrm>
                        <a:off x="71654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6" name=""/>
                      <p:cNvSpPr/>
                      <p:nvPr/>
                    </p:nvSpPr>
                    <p:spPr>
                      <a:xfrm>
                        <a:off x="71686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67" name=""/>
                  <p:cNvGrpSpPr/>
                  <p:nvPr/>
                </p:nvGrpSpPr>
                <p:grpSpPr>
                  <a:xfrm>
                    <a:off x="7172280" y="3397680"/>
                    <a:ext cx="22680" cy="9360"/>
                    <a:chOff x="7172280" y="3397680"/>
                    <a:chExt cx="22680" cy="9360"/>
                  </a:xfrm>
                </p:grpSpPr>
                <p:grpSp>
                  <p:nvGrpSpPr>
                    <p:cNvPr id="1968" name=""/>
                    <p:cNvGrpSpPr/>
                    <p:nvPr/>
                  </p:nvGrpSpPr>
                  <p:grpSpPr>
                    <a:xfrm>
                      <a:off x="7172280" y="3397680"/>
                      <a:ext cx="15840" cy="9360"/>
                      <a:chOff x="7172280" y="3397680"/>
                      <a:chExt cx="15840" cy="9360"/>
                    </a:xfrm>
                  </p:grpSpPr>
                  <p:sp>
                    <p:nvSpPr>
                      <p:cNvPr id="1969" name=""/>
                      <p:cNvSpPr/>
                      <p:nvPr/>
                    </p:nvSpPr>
                    <p:spPr>
                      <a:xfrm>
                        <a:off x="71722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0" name=""/>
                      <p:cNvSpPr/>
                      <p:nvPr/>
                    </p:nvSpPr>
                    <p:spPr>
                      <a:xfrm>
                        <a:off x="717624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71" name=""/>
                    <p:cNvGrpSpPr/>
                    <p:nvPr/>
                  </p:nvGrpSpPr>
                  <p:grpSpPr>
                    <a:xfrm>
                      <a:off x="7180560" y="3397680"/>
                      <a:ext cx="14400" cy="9360"/>
                      <a:chOff x="7180560" y="3397680"/>
                      <a:chExt cx="14400" cy="9360"/>
                    </a:xfrm>
                  </p:grpSpPr>
                  <p:sp>
                    <p:nvSpPr>
                      <p:cNvPr id="1972" name=""/>
                      <p:cNvSpPr/>
                      <p:nvPr/>
                    </p:nvSpPr>
                    <p:spPr>
                      <a:xfrm>
                        <a:off x="71805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3" name=""/>
                      <p:cNvSpPr/>
                      <p:nvPr/>
                    </p:nvSpPr>
                    <p:spPr>
                      <a:xfrm>
                        <a:off x="71830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974" name=""/>
              <p:cNvSpPr/>
              <p:nvPr/>
            </p:nvSpPr>
            <p:spPr>
              <a:xfrm>
                <a:off x="7122240" y="33894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7010280" y="3442320"/>
              <a:ext cx="533520" cy="62640"/>
              <a:chOff x="7010280" y="3442320"/>
              <a:chExt cx="533520" cy="62640"/>
            </a:xfrm>
          </p:grpSpPr>
          <p:grpSp>
            <p:nvGrpSpPr>
              <p:cNvPr id="1976" name=""/>
              <p:cNvGrpSpPr/>
              <p:nvPr/>
            </p:nvGrpSpPr>
            <p:grpSpPr>
              <a:xfrm>
                <a:off x="7010280" y="3442320"/>
                <a:ext cx="533520" cy="62640"/>
                <a:chOff x="7010280" y="3442320"/>
                <a:chExt cx="533520" cy="6264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7012800" y="349740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7010280" y="344232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7026120" y="344808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7068960" y="3447000"/>
                <a:ext cx="420120" cy="14400"/>
                <a:chOff x="7068960" y="3447000"/>
                <a:chExt cx="420120" cy="1440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7068960" y="34470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7108920" y="34470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194600" y="34470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270560" y="34470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348680" y="34470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418880" y="34520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7055640" y="3461040"/>
                <a:ext cx="435240" cy="21960"/>
                <a:chOff x="7055640" y="3461040"/>
                <a:chExt cx="435240" cy="21960"/>
              </a:xfrm>
            </p:grpSpPr>
            <p:grpSp>
              <p:nvGrpSpPr>
                <p:cNvPr id="1988" name=""/>
                <p:cNvGrpSpPr/>
                <p:nvPr/>
              </p:nvGrpSpPr>
              <p:grpSpPr>
                <a:xfrm>
                  <a:off x="7093440" y="3461760"/>
                  <a:ext cx="212760" cy="19080"/>
                  <a:chOff x="7093440" y="3461760"/>
                  <a:chExt cx="212760" cy="1908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7093440" y="34617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7101720" y="34678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7104240" y="34740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7108560" y="34808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7055640" y="3464640"/>
                  <a:ext cx="30960" cy="12240"/>
                  <a:chOff x="7055640" y="3464640"/>
                  <a:chExt cx="30960" cy="1224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7064640" y="34646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7061040" y="34711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7055640" y="34768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7" name=""/>
                <p:cNvGrpSpPr/>
                <p:nvPr/>
              </p:nvGrpSpPr>
              <p:grpSpPr>
                <a:xfrm>
                  <a:off x="7139880" y="3461040"/>
                  <a:ext cx="194760" cy="20880"/>
                  <a:chOff x="7139880" y="3461040"/>
                  <a:chExt cx="194760" cy="20880"/>
                </a:xfrm>
              </p:grpSpPr>
              <p:sp>
                <p:nvSpPr>
                  <p:cNvPr id="1998" name=""/>
                  <p:cNvSpPr/>
                  <p:nvPr/>
                </p:nvSpPr>
                <p:spPr>
                  <a:xfrm>
                    <a:off x="7139880" y="34812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7309800" y="34610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7317360" y="34682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7301520" y="34750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7269480" y="34812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7295400" y="34819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7349760" y="3464640"/>
                  <a:ext cx="56160" cy="17280"/>
                  <a:chOff x="7349760" y="3464640"/>
                  <a:chExt cx="56160" cy="1728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7349760" y="34646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358040" y="34725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7358400" y="34819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"/>
                <p:cNvGrpSpPr/>
                <p:nvPr/>
              </p:nvGrpSpPr>
              <p:grpSpPr>
                <a:xfrm>
                  <a:off x="7423200" y="3464640"/>
                  <a:ext cx="67680" cy="18360"/>
                  <a:chOff x="7423200" y="3464640"/>
                  <a:chExt cx="67680" cy="1836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>
                    <a:off x="7427880" y="34646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7423200" y="34711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7427880" y="34768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7426440" y="34830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477560" y="34718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7482600" y="34797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5" name=""/>
            <p:cNvGrpSpPr/>
            <p:nvPr/>
          </p:nvGrpSpPr>
          <p:grpSpPr>
            <a:xfrm>
              <a:off x="7166880" y="3305880"/>
              <a:ext cx="232200" cy="38160"/>
              <a:chOff x="7166880" y="3305880"/>
              <a:chExt cx="232200" cy="38160"/>
            </a:xfrm>
          </p:grpSpPr>
          <p:grpSp>
            <p:nvGrpSpPr>
              <p:cNvPr id="2016" name=""/>
              <p:cNvGrpSpPr/>
              <p:nvPr/>
            </p:nvGrpSpPr>
            <p:grpSpPr>
              <a:xfrm>
                <a:off x="7166880" y="3318480"/>
                <a:ext cx="232200" cy="25560"/>
                <a:chOff x="7166880" y="3318480"/>
                <a:chExt cx="232200" cy="2556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7166880" y="331848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7169040" y="333576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7220160" y="33058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0" name=""/>
            <p:cNvSpPr/>
            <p:nvPr/>
          </p:nvSpPr>
          <p:spPr>
            <a:xfrm>
              <a:off x="7140960" y="31240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172640" y="31446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182360" y="315000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7010280" y="3809880"/>
            <a:ext cx="533520" cy="380880"/>
            <a:chOff x="7010280" y="3809880"/>
            <a:chExt cx="533520" cy="380880"/>
          </a:xfrm>
        </p:grpSpPr>
        <p:grpSp>
          <p:nvGrpSpPr>
            <p:cNvPr id="2024" name=""/>
            <p:cNvGrpSpPr/>
            <p:nvPr/>
          </p:nvGrpSpPr>
          <p:grpSpPr>
            <a:xfrm>
              <a:off x="7113240" y="4012920"/>
              <a:ext cx="340200" cy="118080"/>
              <a:chOff x="7113240" y="4012920"/>
              <a:chExt cx="340200" cy="11808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7113240" y="4012920"/>
                <a:ext cx="340200" cy="118080"/>
                <a:chOff x="7113240" y="4012920"/>
                <a:chExt cx="340200" cy="118080"/>
              </a:xfrm>
            </p:grpSpPr>
            <p:grpSp>
              <p:nvGrpSpPr>
                <p:cNvPr id="2026" name=""/>
                <p:cNvGrpSpPr/>
                <p:nvPr/>
              </p:nvGrpSpPr>
              <p:grpSpPr>
                <a:xfrm>
                  <a:off x="7113240" y="4012920"/>
                  <a:ext cx="340200" cy="118080"/>
                  <a:chOff x="7113240" y="4012920"/>
                  <a:chExt cx="340200" cy="118080"/>
                </a:xfrm>
              </p:grpSpPr>
              <p:grpSp>
                <p:nvGrpSpPr>
                  <p:cNvPr id="2027" name=""/>
                  <p:cNvGrpSpPr/>
                  <p:nvPr/>
                </p:nvGrpSpPr>
                <p:grpSpPr>
                  <a:xfrm>
                    <a:off x="7113240" y="4012920"/>
                    <a:ext cx="339120" cy="118080"/>
                    <a:chOff x="7113240" y="4012920"/>
                    <a:chExt cx="339120" cy="118080"/>
                  </a:xfrm>
                </p:grpSpPr>
                <p:grpSp>
                  <p:nvGrpSpPr>
                    <p:cNvPr id="2028" name=""/>
                    <p:cNvGrpSpPr/>
                    <p:nvPr/>
                  </p:nvGrpSpPr>
                  <p:grpSpPr>
                    <a:xfrm>
                      <a:off x="7113240" y="4012920"/>
                      <a:ext cx="339120" cy="118080"/>
                      <a:chOff x="7113240" y="4012920"/>
                      <a:chExt cx="339120" cy="118080"/>
                    </a:xfrm>
                  </p:grpSpPr>
                  <p:sp>
                    <p:nvSpPr>
                      <p:cNvPr id="2029" name=""/>
                      <p:cNvSpPr/>
                      <p:nvPr/>
                    </p:nvSpPr>
                    <p:spPr>
                      <a:xfrm>
                        <a:off x="7114320" y="40435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0" name=""/>
                      <p:cNvSpPr/>
                      <p:nvPr/>
                    </p:nvSpPr>
                    <p:spPr>
                      <a:xfrm>
                        <a:off x="7113240" y="40129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7122240" y="40366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2" name=""/>
                  <p:cNvGrpSpPr/>
                  <p:nvPr/>
                </p:nvGrpSpPr>
                <p:grpSpPr>
                  <a:xfrm>
                    <a:off x="7126920" y="4110840"/>
                    <a:ext cx="326520" cy="17640"/>
                    <a:chOff x="7126920" y="4110840"/>
                    <a:chExt cx="326520" cy="17640"/>
                  </a:xfrm>
                </p:grpSpPr>
                <p:grpSp>
                  <p:nvGrpSpPr>
                    <p:cNvPr id="2033" name=""/>
                    <p:cNvGrpSpPr/>
                    <p:nvPr/>
                  </p:nvGrpSpPr>
                  <p:grpSpPr>
                    <a:xfrm>
                      <a:off x="7126920" y="4110840"/>
                      <a:ext cx="160560" cy="17640"/>
                      <a:chOff x="7126920" y="4110840"/>
                      <a:chExt cx="160560" cy="17640"/>
                    </a:xfrm>
                  </p:grpSpPr>
                  <p:grpSp>
                    <p:nvGrpSpPr>
                      <p:cNvPr id="2034" name=""/>
                      <p:cNvGrpSpPr/>
                      <p:nvPr/>
                    </p:nvGrpSpPr>
                    <p:grpSpPr>
                      <a:xfrm>
                        <a:off x="7126920" y="4110840"/>
                        <a:ext cx="76320" cy="17640"/>
                        <a:chOff x="7126920" y="4110840"/>
                        <a:chExt cx="76320" cy="17640"/>
                      </a:xfrm>
                    </p:grpSpPr>
                    <p:grpSp>
                      <p:nvGrpSpPr>
                        <p:cNvPr id="2035" name=""/>
                        <p:cNvGrpSpPr/>
                        <p:nvPr/>
                      </p:nvGrpSpPr>
                      <p:grpSpPr>
                        <a:xfrm>
                          <a:off x="7126920" y="4110840"/>
                          <a:ext cx="35640" cy="17640"/>
                          <a:chOff x="7126920" y="4110840"/>
                          <a:chExt cx="35640" cy="17640"/>
                        </a:xfrm>
                      </p:grpSpPr>
                      <p:grpSp>
                        <p:nvGrpSpPr>
                          <p:cNvPr id="2036" name=""/>
                          <p:cNvGrpSpPr/>
                          <p:nvPr/>
                        </p:nvGrpSpPr>
                        <p:grpSpPr>
                          <a:xfrm>
                            <a:off x="7126920" y="4110840"/>
                            <a:ext cx="20880" cy="17640"/>
                            <a:chOff x="7126920" y="4110840"/>
                            <a:chExt cx="20880" cy="17640"/>
                          </a:xfrm>
                        </p:grpSpPr>
                        <p:grpSp>
                          <p:nvGrpSpPr>
                            <p:cNvPr id="2037" name=""/>
                            <p:cNvGrpSpPr/>
                            <p:nvPr/>
                          </p:nvGrpSpPr>
                          <p:grpSpPr>
                            <a:xfrm>
                              <a:off x="7126920" y="4110840"/>
                              <a:ext cx="5040" cy="17640"/>
                              <a:chOff x="7126920" y="4110840"/>
                              <a:chExt cx="5040" cy="17640"/>
                            </a:xfrm>
                          </p:grpSpPr>
                          <p:sp>
                            <p:nvSpPr>
                              <p:cNvPr id="2038" name=""/>
                              <p:cNvSpPr/>
                              <p:nvPr/>
                            </p:nvSpPr>
                            <p:spPr>
                              <a:xfrm>
                                <a:off x="7126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39" name=""/>
                              <p:cNvSpPr/>
                              <p:nvPr/>
                            </p:nvSpPr>
                            <p:spPr>
                              <a:xfrm>
                                <a:off x="71316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40" name=""/>
                            <p:cNvGrpSpPr/>
                            <p:nvPr/>
                          </p:nvGrpSpPr>
                          <p:grpSpPr>
                            <a:xfrm>
                              <a:off x="7136280" y="4110840"/>
                              <a:ext cx="11520" cy="17640"/>
                              <a:chOff x="7136280" y="4110840"/>
                              <a:chExt cx="11520" cy="17640"/>
                            </a:xfrm>
                          </p:grpSpPr>
                          <p:sp>
                            <p:nvSpPr>
                              <p:cNvPr id="2041" name=""/>
                              <p:cNvSpPr/>
                              <p:nvPr/>
                            </p:nvSpPr>
                            <p:spPr>
                              <a:xfrm>
                                <a:off x="71362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2" name=""/>
                              <p:cNvSpPr/>
                              <p:nvPr/>
                            </p:nvSpPr>
                            <p:spPr>
                              <a:xfrm>
                                <a:off x="71416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43" name=""/>
                          <p:cNvGrpSpPr/>
                          <p:nvPr/>
                        </p:nvGrpSpPr>
                        <p:grpSpPr>
                          <a:xfrm>
                            <a:off x="7147080" y="4110840"/>
                            <a:ext cx="15480" cy="17640"/>
                            <a:chOff x="7147080" y="4110840"/>
                            <a:chExt cx="15480" cy="17640"/>
                          </a:xfrm>
                        </p:grpSpPr>
                        <p:grpSp>
                          <p:nvGrpSpPr>
                            <p:cNvPr id="2044" name=""/>
                            <p:cNvGrpSpPr/>
                            <p:nvPr/>
                          </p:nvGrpSpPr>
                          <p:grpSpPr>
                            <a:xfrm>
                              <a:off x="7147080" y="4110840"/>
                              <a:ext cx="11520" cy="17640"/>
                              <a:chOff x="7147080" y="4110840"/>
                              <a:chExt cx="11520" cy="17640"/>
                            </a:xfrm>
                          </p:grpSpPr>
                          <p:sp>
                            <p:nvSpPr>
                              <p:cNvPr id="2045" name=""/>
                              <p:cNvSpPr/>
                              <p:nvPr/>
                            </p:nvSpPr>
                            <p:spPr>
                              <a:xfrm>
                                <a:off x="71470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6" name=""/>
                              <p:cNvSpPr/>
                              <p:nvPr/>
                            </p:nvSpPr>
                            <p:spPr>
                              <a:xfrm>
                                <a:off x="715176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47" name=""/>
                            <p:cNvGrpSpPr/>
                            <p:nvPr/>
                          </p:nvGrpSpPr>
                          <p:grpSpPr>
                            <a:xfrm>
                              <a:off x="7157520" y="4110840"/>
                              <a:ext cx="5040" cy="17640"/>
                              <a:chOff x="7157520" y="4110840"/>
                              <a:chExt cx="5040" cy="17640"/>
                            </a:xfrm>
                          </p:grpSpPr>
                          <p:sp>
                            <p:nvSpPr>
                              <p:cNvPr id="2048" name=""/>
                              <p:cNvSpPr/>
                              <p:nvPr/>
                            </p:nvSpPr>
                            <p:spPr>
                              <a:xfrm>
                                <a:off x="71575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9" name=""/>
                              <p:cNvSpPr/>
                              <p:nvPr/>
                            </p:nvSpPr>
                            <p:spPr>
                              <a:xfrm>
                                <a:off x="71622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050" name=""/>
                        <p:cNvGrpSpPr/>
                        <p:nvPr/>
                      </p:nvGrpSpPr>
                      <p:grpSpPr>
                        <a:xfrm>
                          <a:off x="7166880" y="4110840"/>
                          <a:ext cx="36360" cy="17640"/>
                          <a:chOff x="7166880" y="4110840"/>
                          <a:chExt cx="36360" cy="17640"/>
                        </a:xfrm>
                      </p:grpSpPr>
                      <p:grpSp>
                        <p:nvGrpSpPr>
                          <p:cNvPr id="2051" name=""/>
                          <p:cNvGrpSpPr/>
                          <p:nvPr/>
                        </p:nvGrpSpPr>
                        <p:grpSpPr>
                          <a:xfrm>
                            <a:off x="7166880" y="4110840"/>
                            <a:ext cx="21600" cy="17640"/>
                            <a:chOff x="7166880" y="4110840"/>
                            <a:chExt cx="21600" cy="17640"/>
                          </a:xfrm>
                        </p:grpSpPr>
                        <p:grpSp>
                          <p:nvGrpSpPr>
                            <p:cNvPr id="2052" name=""/>
                            <p:cNvGrpSpPr/>
                            <p:nvPr/>
                          </p:nvGrpSpPr>
                          <p:grpSpPr>
                            <a:xfrm>
                              <a:off x="7166880" y="4110840"/>
                              <a:ext cx="16200" cy="17640"/>
                              <a:chOff x="7166880" y="4110840"/>
                              <a:chExt cx="16200" cy="17640"/>
                            </a:xfrm>
                          </p:grpSpPr>
                          <p:sp>
                            <p:nvSpPr>
                              <p:cNvPr id="2053" name=""/>
                              <p:cNvSpPr/>
                              <p:nvPr/>
                            </p:nvSpPr>
                            <p:spPr>
                              <a:xfrm>
                                <a:off x="71668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4" name=""/>
                              <p:cNvSpPr/>
                              <p:nvPr/>
                            </p:nvSpPr>
                            <p:spPr>
                              <a:xfrm>
                                <a:off x="717156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55" name=""/>
                            <p:cNvGrpSpPr/>
                            <p:nvPr/>
                          </p:nvGrpSpPr>
                          <p:grpSpPr>
                            <a:xfrm>
                              <a:off x="7176600" y="4110840"/>
                              <a:ext cx="11880" cy="17640"/>
                              <a:chOff x="7176600" y="4110840"/>
                              <a:chExt cx="11880" cy="17640"/>
                            </a:xfrm>
                          </p:grpSpPr>
                          <p:sp>
                            <p:nvSpPr>
                              <p:cNvPr id="2056" name=""/>
                              <p:cNvSpPr/>
                              <p:nvPr/>
                            </p:nvSpPr>
                            <p:spPr>
                              <a:xfrm>
                                <a:off x="7176600" y="41108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7" name=""/>
                              <p:cNvSpPr/>
                              <p:nvPr/>
                            </p:nvSpPr>
                            <p:spPr>
                              <a:xfrm>
                                <a:off x="71820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58" name=""/>
                          <p:cNvGrpSpPr/>
                          <p:nvPr/>
                        </p:nvGrpSpPr>
                        <p:grpSpPr>
                          <a:xfrm>
                            <a:off x="7187040" y="4110840"/>
                            <a:ext cx="16200" cy="17640"/>
                            <a:chOff x="7187040" y="4110840"/>
                            <a:chExt cx="16200" cy="17640"/>
                          </a:xfrm>
                        </p:grpSpPr>
                        <p:grpSp>
                          <p:nvGrpSpPr>
                            <p:cNvPr id="2059" name=""/>
                            <p:cNvGrpSpPr/>
                            <p:nvPr/>
                          </p:nvGrpSpPr>
                          <p:grpSpPr>
                            <a:xfrm>
                              <a:off x="7187040" y="4110840"/>
                              <a:ext cx="16200" cy="17640"/>
                              <a:chOff x="7187040" y="4110840"/>
                              <a:chExt cx="16200" cy="17640"/>
                            </a:xfrm>
                          </p:grpSpPr>
                          <p:sp>
                            <p:nvSpPr>
                              <p:cNvPr id="2060" name=""/>
                              <p:cNvSpPr/>
                              <p:nvPr/>
                            </p:nvSpPr>
                            <p:spPr>
                              <a:xfrm>
                                <a:off x="71870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1" name=""/>
                              <p:cNvSpPr/>
                              <p:nvPr/>
                            </p:nvSpPr>
                            <p:spPr>
                              <a:xfrm>
                                <a:off x="71917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62" name=""/>
                            <p:cNvGrpSpPr/>
                            <p:nvPr/>
                          </p:nvGrpSpPr>
                          <p:grpSpPr>
                            <a:xfrm>
                              <a:off x="7197120" y="4110840"/>
                              <a:ext cx="5400" cy="17640"/>
                              <a:chOff x="7197120" y="4110840"/>
                              <a:chExt cx="5400" cy="17640"/>
                            </a:xfrm>
                          </p:grpSpPr>
                          <p:sp>
                            <p:nvSpPr>
                              <p:cNvPr id="2063" name=""/>
                              <p:cNvSpPr/>
                              <p:nvPr/>
                            </p:nvSpPr>
                            <p:spPr>
                              <a:xfrm>
                                <a:off x="719712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4" name=""/>
                              <p:cNvSpPr/>
                              <p:nvPr/>
                            </p:nvSpPr>
                            <p:spPr>
                              <a:xfrm>
                                <a:off x="72018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065" name=""/>
                      <p:cNvGrpSpPr/>
                      <p:nvPr/>
                    </p:nvGrpSpPr>
                    <p:grpSpPr>
                      <a:xfrm>
                        <a:off x="7206840" y="4110840"/>
                        <a:ext cx="80640" cy="17640"/>
                        <a:chOff x="7206840" y="4110840"/>
                        <a:chExt cx="80640" cy="17640"/>
                      </a:xfrm>
                    </p:grpSpPr>
                    <p:grpSp>
                      <p:nvGrpSpPr>
                        <p:cNvPr id="2066" name=""/>
                        <p:cNvGrpSpPr/>
                        <p:nvPr/>
                      </p:nvGrpSpPr>
                      <p:grpSpPr>
                        <a:xfrm>
                          <a:off x="7206840" y="4110840"/>
                          <a:ext cx="45720" cy="17640"/>
                          <a:chOff x="7206840" y="4110840"/>
                          <a:chExt cx="45720" cy="17640"/>
                        </a:xfrm>
                      </p:grpSpPr>
                      <p:grpSp>
                        <p:nvGrpSpPr>
                          <p:cNvPr id="2067" name=""/>
                          <p:cNvGrpSpPr/>
                          <p:nvPr/>
                        </p:nvGrpSpPr>
                        <p:grpSpPr>
                          <a:xfrm>
                            <a:off x="7206840" y="4110840"/>
                            <a:ext cx="16200" cy="17640"/>
                            <a:chOff x="7206840" y="4110840"/>
                            <a:chExt cx="16200" cy="17640"/>
                          </a:xfrm>
                        </p:grpSpPr>
                        <p:grpSp>
                          <p:nvGrpSpPr>
                            <p:cNvPr id="2068" name=""/>
                            <p:cNvGrpSpPr/>
                            <p:nvPr/>
                          </p:nvGrpSpPr>
                          <p:grpSpPr>
                            <a:xfrm>
                              <a:off x="7206840" y="4110840"/>
                              <a:ext cx="16200" cy="17640"/>
                              <a:chOff x="7206840" y="4110840"/>
                              <a:chExt cx="16200" cy="17640"/>
                            </a:xfrm>
                          </p:grpSpPr>
                          <p:sp>
                            <p:nvSpPr>
                              <p:cNvPr id="2069" name=""/>
                              <p:cNvSpPr/>
                              <p:nvPr/>
                            </p:nvSpPr>
                            <p:spPr>
                              <a:xfrm>
                                <a:off x="72068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0" name=""/>
                              <p:cNvSpPr/>
                              <p:nvPr/>
                            </p:nvSpPr>
                            <p:spPr>
                              <a:xfrm>
                                <a:off x="72115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71" name=""/>
                            <p:cNvGrpSpPr/>
                            <p:nvPr/>
                          </p:nvGrpSpPr>
                          <p:grpSpPr>
                            <a:xfrm>
                              <a:off x="7216920" y="4110840"/>
                              <a:ext cx="4320" cy="17640"/>
                              <a:chOff x="7216920" y="4110840"/>
                              <a:chExt cx="4320" cy="17640"/>
                            </a:xfrm>
                          </p:grpSpPr>
                          <p:sp>
                            <p:nvSpPr>
                              <p:cNvPr id="2072" name=""/>
                              <p:cNvSpPr/>
                              <p:nvPr/>
                            </p:nvSpPr>
                            <p:spPr>
                              <a:xfrm>
                                <a:off x="721692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3" name=""/>
                              <p:cNvSpPr/>
                              <p:nvPr/>
                            </p:nvSpPr>
                            <p:spPr>
                              <a:xfrm>
                                <a:off x="72208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74" name=""/>
                          <p:cNvGrpSpPr/>
                          <p:nvPr/>
                        </p:nvGrpSpPr>
                        <p:grpSpPr>
                          <a:xfrm>
                            <a:off x="7227360" y="4110840"/>
                            <a:ext cx="25200" cy="17640"/>
                            <a:chOff x="7227360" y="4110840"/>
                            <a:chExt cx="25200" cy="17640"/>
                          </a:xfrm>
                        </p:grpSpPr>
                        <p:grpSp>
                          <p:nvGrpSpPr>
                            <p:cNvPr id="2075" name=""/>
                            <p:cNvGrpSpPr/>
                            <p:nvPr/>
                          </p:nvGrpSpPr>
                          <p:grpSpPr>
                            <a:xfrm>
                              <a:off x="7227360" y="4110840"/>
                              <a:ext cx="4320" cy="17640"/>
                              <a:chOff x="7227360" y="4110840"/>
                              <a:chExt cx="4320" cy="17640"/>
                            </a:xfrm>
                          </p:grpSpPr>
                          <p:sp>
                            <p:nvSpPr>
                              <p:cNvPr id="2076" name=""/>
                              <p:cNvSpPr/>
                              <p:nvPr/>
                            </p:nvSpPr>
                            <p:spPr>
                              <a:xfrm>
                                <a:off x="722736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7" name=""/>
                              <p:cNvSpPr/>
                              <p:nvPr/>
                            </p:nvSpPr>
                            <p:spPr>
                              <a:xfrm>
                                <a:off x="72313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78" name=""/>
                            <p:cNvGrpSpPr/>
                            <p:nvPr/>
                          </p:nvGrpSpPr>
                          <p:grpSpPr>
                            <a:xfrm>
                              <a:off x="7237080" y="4110840"/>
                              <a:ext cx="15480" cy="17640"/>
                              <a:chOff x="7237080" y="4110840"/>
                              <a:chExt cx="15480" cy="17640"/>
                            </a:xfrm>
                          </p:grpSpPr>
                          <p:sp>
                            <p:nvSpPr>
                              <p:cNvPr id="2079" name=""/>
                              <p:cNvSpPr/>
                              <p:nvPr/>
                            </p:nvSpPr>
                            <p:spPr>
                              <a:xfrm>
                                <a:off x="72370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0" name=""/>
                              <p:cNvSpPr/>
                              <p:nvPr/>
                            </p:nvSpPr>
                            <p:spPr>
                              <a:xfrm>
                                <a:off x="724104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081" name=""/>
                        <p:cNvGrpSpPr/>
                        <p:nvPr/>
                      </p:nvGrpSpPr>
                      <p:grpSpPr>
                        <a:xfrm>
                          <a:off x="7246800" y="4110840"/>
                          <a:ext cx="40680" cy="17640"/>
                          <a:chOff x="7246800" y="4110840"/>
                          <a:chExt cx="40680" cy="17640"/>
                        </a:xfrm>
                      </p:grpSpPr>
                      <p:grpSp>
                        <p:nvGrpSpPr>
                          <p:cNvPr id="2082" name=""/>
                          <p:cNvGrpSpPr/>
                          <p:nvPr/>
                        </p:nvGrpSpPr>
                        <p:grpSpPr>
                          <a:xfrm>
                            <a:off x="7246800" y="4110840"/>
                            <a:ext cx="15480" cy="17640"/>
                            <a:chOff x="7246800" y="4110840"/>
                            <a:chExt cx="15480" cy="17640"/>
                          </a:xfrm>
                        </p:grpSpPr>
                        <p:grpSp>
                          <p:nvGrpSpPr>
                            <p:cNvPr id="2083" name=""/>
                            <p:cNvGrpSpPr/>
                            <p:nvPr/>
                          </p:nvGrpSpPr>
                          <p:grpSpPr>
                            <a:xfrm>
                              <a:off x="7246800" y="4110840"/>
                              <a:ext cx="5040" cy="17640"/>
                              <a:chOff x="7246800" y="4110840"/>
                              <a:chExt cx="5040" cy="17640"/>
                            </a:xfrm>
                          </p:grpSpPr>
                          <p:sp>
                            <p:nvSpPr>
                              <p:cNvPr id="2084" name=""/>
                              <p:cNvSpPr/>
                              <p:nvPr/>
                            </p:nvSpPr>
                            <p:spPr>
                              <a:xfrm>
                                <a:off x="72468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5" name=""/>
                              <p:cNvSpPr/>
                              <p:nvPr/>
                            </p:nvSpPr>
                            <p:spPr>
                              <a:xfrm>
                                <a:off x="72514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86" name=""/>
                            <p:cNvGrpSpPr/>
                            <p:nvPr/>
                          </p:nvGrpSpPr>
                          <p:grpSpPr>
                            <a:xfrm>
                              <a:off x="7257240" y="4110840"/>
                              <a:ext cx="5040" cy="17640"/>
                              <a:chOff x="7257240" y="4110840"/>
                              <a:chExt cx="5040" cy="17640"/>
                            </a:xfrm>
                          </p:grpSpPr>
                          <p:sp>
                            <p:nvSpPr>
                              <p:cNvPr id="2087" name=""/>
                              <p:cNvSpPr/>
                              <p:nvPr/>
                            </p:nvSpPr>
                            <p:spPr>
                              <a:xfrm>
                                <a:off x="725724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8" name=""/>
                              <p:cNvSpPr/>
                              <p:nvPr/>
                            </p:nvSpPr>
                            <p:spPr>
                              <a:xfrm>
                                <a:off x="7261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89" name=""/>
                          <p:cNvGrpSpPr/>
                          <p:nvPr/>
                        </p:nvGrpSpPr>
                        <p:grpSpPr>
                          <a:xfrm>
                            <a:off x="7266600" y="4110840"/>
                            <a:ext cx="20880" cy="17640"/>
                            <a:chOff x="7266600" y="4110840"/>
                            <a:chExt cx="20880" cy="17640"/>
                          </a:xfrm>
                        </p:grpSpPr>
                        <p:grpSp>
                          <p:nvGrpSpPr>
                            <p:cNvPr id="2090" name=""/>
                            <p:cNvGrpSpPr/>
                            <p:nvPr/>
                          </p:nvGrpSpPr>
                          <p:grpSpPr>
                            <a:xfrm>
                              <a:off x="7266600" y="4110840"/>
                              <a:ext cx="16920" cy="17640"/>
                              <a:chOff x="7266600" y="4110840"/>
                              <a:chExt cx="16920" cy="17640"/>
                            </a:xfrm>
                          </p:grpSpPr>
                          <p:sp>
                            <p:nvSpPr>
                              <p:cNvPr id="2091" name=""/>
                              <p:cNvSpPr/>
                              <p:nvPr/>
                            </p:nvSpPr>
                            <p:spPr>
                              <a:xfrm>
                                <a:off x="72666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92" name=""/>
                              <p:cNvSpPr/>
                              <p:nvPr/>
                            </p:nvSpPr>
                            <p:spPr>
                              <a:xfrm>
                                <a:off x="727200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93" name=""/>
                            <p:cNvGrpSpPr/>
                            <p:nvPr/>
                          </p:nvGrpSpPr>
                          <p:grpSpPr>
                            <a:xfrm>
                              <a:off x="7275960" y="4110840"/>
                              <a:ext cx="11520" cy="17640"/>
                              <a:chOff x="7275960" y="4110840"/>
                              <a:chExt cx="11520" cy="17640"/>
                            </a:xfrm>
                          </p:grpSpPr>
                          <p:sp>
                            <p:nvSpPr>
                              <p:cNvPr id="2094" name=""/>
                              <p:cNvSpPr/>
                              <p:nvPr/>
                            </p:nvSpPr>
                            <p:spPr>
                              <a:xfrm>
                                <a:off x="727596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95" name=""/>
                              <p:cNvSpPr/>
                              <p:nvPr/>
                            </p:nvSpPr>
                            <p:spPr>
                              <a:xfrm>
                                <a:off x="728136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096" name=""/>
                    <p:cNvGrpSpPr/>
                    <p:nvPr/>
                  </p:nvGrpSpPr>
                  <p:grpSpPr>
                    <a:xfrm>
                      <a:off x="7287120" y="4110840"/>
                      <a:ext cx="166320" cy="17640"/>
                      <a:chOff x="7287120" y="4110840"/>
                      <a:chExt cx="166320" cy="17640"/>
                    </a:xfrm>
                  </p:grpSpPr>
                  <p:grpSp>
                    <p:nvGrpSpPr>
                      <p:cNvPr id="2097" name=""/>
                      <p:cNvGrpSpPr/>
                      <p:nvPr/>
                    </p:nvGrpSpPr>
                    <p:grpSpPr>
                      <a:xfrm>
                        <a:off x="7287120" y="4110840"/>
                        <a:ext cx="85680" cy="17640"/>
                        <a:chOff x="7287120" y="4110840"/>
                        <a:chExt cx="85680" cy="17640"/>
                      </a:xfrm>
                    </p:grpSpPr>
                    <p:grpSp>
                      <p:nvGrpSpPr>
                        <p:cNvPr id="2098" name=""/>
                        <p:cNvGrpSpPr/>
                        <p:nvPr/>
                      </p:nvGrpSpPr>
                      <p:grpSpPr>
                        <a:xfrm>
                          <a:off x="7287120" y="4110840"/>
                          <a:ext cx="36000" cy="17640"/>
                          <a:chOff x="7287120" y="4110840"/>
                          <a:chExt cx="36000" cy="17640"/>
                        </a:xfrm>
                      </p:grpSpPr>
                      <p:grpSp>
                        <p:nvGrpSpPr>
                          <p:cNvPr id="2099" name=""/>
                          <p:cNvGrpSpPr/>
                          <p:nvPr/>
                        </p:nvGrpSpPr>
                        <p:grpSpPr>
                          <a:xfrm>
                            <a:off x="7287120" y="4110840"/>
                            <a:ext cx="15480" cy="17640"/>
                            <a:chOff x="7287120" y="4110840"/>
                            <a:chExt cx="15480" cy="17640"/>
                          </a:xfrm>
                        </p:grpSpPr>
                        <p:grpSp>
                          <p:nvGrpSpPr>
                            <p:cNvPr id="2100" name=""/>
                            <p:cNvGrpSpPr/>
                            <p:nvPr/>
                          </p:nvGrpSpPr>
                          <p:grpSpPr>
                            <a:xfrm>
                              <a:off x="7287120" y="4110840"/>
                              <a:ext cx="5040" cy="17640"/>
                              <a:chOff x="7287120" y="4110840"/>
                              <a:chExt cx="5040" cy="17640"/>
                            </a:xfrm>
                          </p:grpSpPr>
                          <p:sp>
                            <p:nvSpPr>
                              <p:cNvPr id="2101" name=""/>
                              <p:cNvSpPr/>
                              <p:nvPr/>
                            </p:nvSpPr>
                            <p:spPr>
                              <a:xfrm>
                                <a:off x="72871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2" name=""/>
                              <p:cNvSpPr/>
                              <p:nvPr/>
                            </p:nvSpPr>
                            <p:spPr>
                              <a:xfrm>
                                <a:off x="72918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03" name=""/>
                            <p:cNvGrpSpPr/>
                            <p:nvPr/>
                          </p:nvGrpSpPr>
                          <p:grpSpPr>
                            <a:xfrm>
                              <a:off x="7297560" y="4110840"/>
                              <a:ext cx="5040" cy="17640"/>
                              <a:chOff x="7297560" y="4110840"/>
                              <a:chExt cx="5040" cy="17640"/>
                            </a:xfrm>
                          </p:grpSpPr>
                          <p:sp>
                            <p:nvSpPr>
                              <p:cNvPr id="2104" name=""/>
                              <p:cNvSpPr/>
                              <p:nvPr/>
                            </p:nvSpPr>
                            <p:spPr>
                              <a:xfrm>
                                <a:off x="729756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5" name=""/>
                              <p:cNvSpPr/>
                              <p:nvPr/>
                            </p:nvSpPr>
                            <p:spPr>
                              <a:xfrm>
                                <a:off x="730224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06" name=""/>
                          <p:cNvGrpSpPr/>
                          <p:nvPr/>
                        </p:nvGrpSpPr>
                        <p:grpSpPr>
                          <a:xfrm>
                            <a:off x="7306920" y="4110840"/>
                            <a:ext cx="16200" cy="17640"/>
                            <a:chOff x="7306920" y="4110840"/>
                            <a:chExt cx="16200" cy="17640"/>
                          </a:xfrm>
                        </p:grpSpPr>
                        <p:grpSp>
                          <p:nvGrpSpPr>
                            <p:cNvPr id="2107" name=""/>
                            <p:cNvGrpSpPr/>
                            <p:nvPr/>
                          </p:nvGrpSpPr>
                          <p:grpSpPr>
                            <a:xfrm>
                              <a:off x="7306920" y="4110840"/>
                              <a:ext cx="16200" cy="17640"/>
                              <a:chOff x="7306920" y="4110840"/>
                              <a:chExt cx="16200" cy="17640"/>
                            </a:xfrm>
                          </p:grpSpPr>
                          <p:sp>
                            <p:nvSpPr>
                              <p:cNvPr id="2108" name=""/>
                              <p:cNvSpPr/>
                              <p:nvPr/>
                            </p:nvSpPr>
                            <p:spPr>
                              <a:xfrm>
                                <a:off x="7306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9" name=""/>
                              <p:cNvSpPr/>
                              <p:nvPr/>
                            </p:nvSpPr>
                            <p:spPr>
                              <a:xfrm>
                                <a:off x="731160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10" name=""/>
                            <p:cNvGrpSpPr/>
                            <p:nvPr/>
                          </p:nvGrpSpPr>
                          <p:grpSpPr>
                            <a:xfrm>
                              <a:off x="7317000" y="4110840"/>
                              <a:ext cx="5040" cy="17640"/>
                              <a:chOff x="7317000" y="4110840"/>
                              <a:chExt cx="5040" cy="17640"/>
                            </a:xfrm>
                          </p:grpSpPr>
                          <p:sp>
                            <p:nvSpPr>
                              <p:cNvPr id="2111" name=""/>
                              <p:cNvSpPr/>
                              <p:nvPr/>
                            </p:nvSpPr>
                            <p:spPr>
                              <a:xfrm>
                                <a:off x="73170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2" name=""/>
                              <p:cNvSpPr/>
                              <p:nvPr/>
                            </p:nvSpPr>
                            <p:spPr>
                              <a:xfrm>
                                <a:off x="73216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113" name=""/>
                        <p:cNvGrpSpPr/>
                        <p:nvPr/>
                      </p:nvGrpSpPr>
                      <p:grpSpPr>
                        <a:xfrm>
                          <a:off x="7326720" y="4110840"/>
                          <a:ext cx="46080" cy="17640"/>
                          <a:chOff x="7326720" y="4110840"/>
                          <a:chExt cx="46080" cy="17640"/>
                        </a:xfrm>
                      </p:grpSpPr>
                      <p:grpSp>
                        <p:nvGrpSpPr>
                          <p:cNvPr id="2114" name=""/>
                          <p:cNvGrpSpPr/>
                          <p:nvPr/>
                        </p:nvGrpSpPr>
                        <p:grpSpPr>
                          <a:xfrm>
                            <a:off x="7326720" y="4110840"/>
                            <a:ext cx="16200" cy="17640"/>
                            <a:chOff x="7326720" y="4110840"/>
                            <a:chExt cx="16200" cy="17640"/>
                          </a:xfrm>
                        </p:grpSpPr>
                        <p:grpSp>
                          <p:nvGrpSpPr>
                            <p:cNvPr id="2115" name=""/>
                            <p:cNvGrpSpPr/>
                            <p:nvPr/>
                          </p:nvGrpSpPr>
                          <p:grpSpPr>
                            <a:xfrm>
                              <a:off x="7326720" y="4110840"/>
                              <a:ext cx="16200" cy="17640"/>
                              <a:chOff x="7326720" y="4110840"/>
                              <a:chExt cx="16200" cy="17640"/>
                            </a:xfrm>
                          </p:grpSpPr>
                          <p:sp>
                            <p:nvSpPr>
                              <p:cNvPr id="2116" name=""/>
                              <p:cNvSpPr/>
                              <p:nvPr/>
                            </p:nvSpPr>
                            <p:spPr>
                              <a:xfrm>
                                <a:off x="73267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7" name=""/>
                              <p:cNvSpPr/>
                              <p:nvPr/>
                            </p:nvSpPr>
                            <p:spPr>
                              <a:xfrm>
                                <a:off x="733140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18" name=""/>
                            <p:cNvGrpSpPr/>
                            <p:nvPr/>
                          </p:nvGrpSpPr>
                          <p:grpSpPr>
                            <a:xfrm>
                              <a:off x="7337160" y="4110840"/>
                              <a:ext cx="5400" cy="17640"/>
                              <a:chOff x="7337160" y="4110840"/>
                              <a:chExt cx="5400" cy="17640"/>
                            </a:xfrm>
                          </p:grpSpPr>
                          <p:sp>
                            <p:nvSpPr>
                              <p:cNvPr id="2119" name=""/>
                              <p:cNvSpPr/>
                              <p:nvPr/>
                            </p:nvSpPr>
                            <p:spPr>
                              <a:xfrm>
                                <a:off x="733716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0" name=""/>
                              <p:cNvSpPr/>
                              <p:nvPr/>
                            </p:nvSpPr>
                            <p:spPr>
                              <a:xfrm>
                                <a:off x="73418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21" name=""/>
                          <p:cNvGrpSpPr/>
                          <p:nvPr/>
                        </p:nvGrpSpPr>
                        <p:grpSpPr>
                          <a:xfrm>
                            <a:off x="7346520" y="4110840"/>
                            <a:ext cx="26280" cy="17640"/>
                            <a:chOff x="7346520" y="4110840"/>
                            <a:chExt cx="26280" cy="17640"/>
                          </a:xfrm>
                        </p:grpSpPr>
                        <p:grpSp>
                          <p:nvGrpSpPr>
                            <p:cNvPr id="2122" name=""/>
                            <p:cNvGrpSpPr/>
                            <p:nvPr/>
                          </p:nvGrpSpPr>
                          <p:grpSpPr>
                            <a:xfrm>
                              <a:off x="7346520" y="4110840"/>
                              <a:ext cx="11520" cy="17640"/>
                              <a:chOff x="7346520" y="4110840"/>
                              <a:chExt cx="11520" cy="17640"/>
                            </a:xfrm>
                          </p:grpSpPr>
                          <p:sp>
                            <p:nvSpPr>
                              <p:cNvPr id="2123" name=""/>
                              <p:cNvSpPr/>
                              <p:nvPr/>
                            </p:nvSpPr>
                            <p:spPr>
                              <a:xfrm>
                                <a:off x="73465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4" name=""/>
                              <p:cNvSpPr/>
                              <p:nvPr/>
                            </p:nvSpPr>
                            <p:spPr>
                              <a:xfrm>
                                <a:off x="7351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25" name=""/>
                            <p:cNvGrpSpPr/>
                            <p:nvPr/>
                          </p:nvGrpSpPr>
                          <p:grpSpPr>
                            <a:xfrm>
                              <a:off x="7355880" y="4110840"/>
                              <a:ext cx="16920" cy="17640"/>
                              <a:chOff x="7355880" y="4110840"/>
                              <a:chExt cx="16920" cy="17640"/>
                            </a:xfrm>
                          </p:grpSpPr>
                          <p:sp>
                            <p:nvSpPr>
                              <p:cNvPr id="2126" name=""/>
                              <p:cNvSpPr/>
                              <p:nvPr/>
                            </p:nvSpPr>
                            <p:spPr>
                              <a:xfrm>
                                <a:off x="73558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7" name=""/>
                              <p:cNvSpPr/>
                              <p:nvPr/>
                            </p:nvSpPr>
                            <p:spPr>
                              <a:xfrm>
                                <a:off x="73612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128" name=""/>
                      <p:cNvGrpSpPr/>
                      <p:nvPr/>
                    </p:nvGrpSpPr>
                    <p:grpSpPr>
                      <a:xfrm>
                        <a:off x="7367040" y="4110840"/>
                        <a:ext cx="86400" cy="17640"/>
                        <a:chOff x="7367040" y="4110840"/>
                        <a:chExt cx="86400" cy="17640"/>
                      </a:xfrm>
                    </p:grpSpPr>
                    <p:grpSp>
                      <p:nvGrpSpPr>
                        <p:cNvPr id="2129" name=""/>
                        <p:cNvGrpSpPr/>
                        <p:nvPr/>
                      </p:nvGrpSpPr>
                      <p:grpSpPr>
                        <a:xfrm>
                          <a:off x="7367040" y="4110840"/>
                          <a:ext cx="41400" cy="17640"/>
                          <a:chOff x="7367040" y="4110840"/>
                          <a:chExt cx="41400" cy="17640"/>
                        </a:xfrm>
                      </p:grpSpPr>
                      <p:grpSp>
                        <p:nvGrpSpPr>
                          <p:cNvPr id="2130" name=""/>
                          <p:cNvGrpSpPr/>
                          <p:nvPr/>
                        </p:nvGrpSpPr>
                        <p:grpSpPr>
                          <a:xfrm>
                            <a:off x="7367040" y="4110840"/>
                            <a:ext cx="21600" cy="17640"/>
                            <a:chOff x="7367040" y="4110840"/>
                            <a:chExt cx="21600" cy="17640"/>
                          </a:xfrm>
                        </p:grpSpPr>
                        <p:grpSp>
                          <p:nvGrpSpPr>
                            <p:cNvPr id="2131" name=""/>
                            <p:cNvGrpSpPr/>
                            <p:nvPr/>
                          </p:nvGrpSpPr>
                          <p:grpSpPr>
                            <a:xfrm>
                              <a:off x="7367040" y="4110840"/>
                              <a:ext cx="16200" cy="17640"/>
                              <a:chOff x="7367040" y="4110840"/>
                              <a:chExt cx="16200" cy="17640"/>
                            </a:xfrm>
                          </p:grpSpPr>
                          <p:sp>
                            <p:nvSpPr>
                              <p:cNvPr id="2132" name=""/>
                              <p:cNvSpPr/>
                              <p:nvPr/>
                            </p:nvSpPr>
                            <p:spPr>
                              <a:xfrm>
                                <a:off x="736704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3" name=""/>
                              <p:cNvSpPr/>
                              <p:nvPr/>
                            </p:nvSpPr>
                            <p:spPr>
                              <a:xfrm>
                                <a:off x="73717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34" name=""/>
                            <p:cNvGrpSpPr/>
                            <p:nvPr/>
                          </p:nvGrpSpPr>
                          <p:grpSpPr>
                            <a:xfrm>
                              <a:off x="7377120" y="4110840"/>
                              <a:ext cx="11520" cy="17640"/>
                              <a:chOff x="7377120" y="4110840"/>
                              <a:chExt cx="11520" cy="17640"/>
                            </a:xfrm>
                          </p:grpSpPr>
                          <p:sp>
                            <p:nvSpPr>
                              <p:cNvPr id="2135" name=""/>
                              <p:cNvSpPr/>
                              <p:nvPr/>
                            </p:nvSpPr>
                            <p:spPr>
                              <a:xfrm>
                                <a:off x="73771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6" name=""/>
                              <p:cNvSpPr/>
                              <p:nvPr/>
                            </p:nvSpPr>
                            <p:spPr>
                              <a:xfrm>
                                <a:off x="73818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37" name=""/>
                          <p:cNvGrpSpPr/>
                          <p:nvPr/>
                        </p:nvGrpSpPr>
                        <p:grpSpPr>
                          <a:xfrm>
                            <a:off x="7386840" y="4110840"/>
                            <a:ext cx="21600" cy="17640"/>
                            <a:chOff x="7386840" y="4110840"/>
                            <a:chExt cx="21600" cy="17640"/>
                          </a:xfrm>
                        </p:grpSpPr>
                        <p:grpSp>
                          <p:nvGrpSpPr>
                            <p:cNvPr id="2138" name=""/>
                            <p:cNvGrpSpPr/>
                            <p:nvPr/>
                          </p:nvGrpSpPr>
                          <p:grpSpPr>
                            <a:xfrm>
                              <a:off x="7386840" y="4110840"/>
                              <a:ext cx="16200" cy="17640"/>
                              <a:chOff x="7386840" y="4110840"/>
                              <a:chExt cx="16200" cy="17640"/>
                            </a:xfrm>
                          </p:grpSpPr>
                          <p:sp>
                            <p:nvSpPr>
                              <p:cNvPr id="2139" name=""/>
                              <p:cNvSpPr/>
                              <p:nvPr/>
                            </p:nvSpPr>
                            <p:spPr>
                              <a:xfrm>
                                <a:off x="73868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0" name=""/>
                              <p:cNvSpPr/>
                              <p:nvPr/>
                            </p:nvSpPr>
                            <p:spPr>
                              <a:xfrm>
                                <a:off x="73915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41" name=""/>
                            <p:cNvGrpSpPr/>
                            <p:nvPr/>
                          </p:nvGrpSpPr>
                          <p:grpSpPr>
                            <a:xfrm>
                              <a:off x="7396920" y="4110840"/>
                              <a:ext cx="11520" cy="17640"/>
                              <a:chOff x="7396920" y="4110840"/>
                              <a:chExt cx="11520" cy="17640"/>
                            </a:xfrm>
                          </p:grpSpPr>
                          <p:sp>
                            <p:nvSpPr>
                              <p:cNvPr id="2142" name=""/>
                              <p:cNvSpPr/>
                              <p:nvPr/>
                            </p:nvSpPr>
                            <p:spPr>
                              <a:xfrm>
                                <a:off x="73969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3" name=""/>
                              <p:cNvSpPr/>
                              <p:nvPr/>
                            </p:nvSpPr>
                            <p:spPr>
                              <a:xfrm>
                                <a:off x="74016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144" name=""/>
                        <p:cNvGrpSpPr/>
                        <p:nvPr/>
                      </p:nvGrpSpPr>
                      <p:grpSpPr>
                        <a:xfrm>
                          <a:off x="7407720" y="4110840"/>
                          <a:ext cx="45720" cy="17640"/>
                          <a:chOff x="7407720" y="4110840"/>
                          <a:chExt cx="45720" cy="17640"/>
                        </a:xfrm>
                      </p:grpSpPr>
                      <p:grpSp>
                        <p:nvGrpSpPr>
                          <p:cNvPr id="2145" name=""/>
                          <p:cNvGrpSpPr/>
                          <p:nvPr/>
                        </p:nvGrpSpPr>
                        <p:grpSpPr>
                          <a:xfrm>
                            <a:off x="7407720" y="4110840"/>
                            <a:ext cx="14760" cy="17640"/>
                            <a:chOff x="7407720" y="4110840"/>
                            <a:chExt cx="14760" cy="17640"/>
                          </a:xfrm>
                        </p:grpSpPr>
                        <p:grpSp>
                          <p:nvGrpSpPr>
                            <p:cNvPr id="2146" name=""/>
                            <p:cNvGrpSpPr/>
                            <p:nvPr/>
                          </p:nvGrpSpPr>
                          <p:grpSpPr>
                            <a:xfrm>
                              <a:off x="7407720" y="4110840"/>
                              <a:ext cx="4320" cy="17640"/>
                              <a:chOff x="7407720" y="4110840"/>
                              <a:chExt cx="4320" cy="17640"/>
                            </a:xfrm>
                          </p:grpSpPr>
                          <p:sp>
                            <p:nvSpPr>
                              <p:cNvPr id="2147" name=""/>
                              <p:cNvSpPr/>
                              <p:nvPr/>
                            </p:nvSpPr>
                            <p:spPr>
                              <a:xfrm>
                                <a:off x="740772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8" name=""/>
                              <p:cNvSpPr/>
                              <p:nvPr/>
                            </p:nvSpPr>
                            <p:spPr>
                              <a:xfrm>
                                <a:off x="74116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49" name=""/>
                            <p:cNvGrpSpPr/>
                            <p:nvPr/>
                          </p:nvGrpSpPr>
                          <p:grpSpPr>
                            <a:xfrm>
                              <a:off x="7417440" y="4110840"/>
                              <a:ext cx="5040" cy="17640"/>
                              <a:chOff x="7417440" y="4110840"/>
                              <a:chExt cx="5040" cy="17640"/>
                            </a:xfrm>
                          </p:grpSpPr>
                          <p:sp>
                            <p:nvSpPr>
                              <p:cNvPr id="2150" name=""/>
                              <p:cNvSpPr/>
                              <p:nvPr/>
                            </p:nvSpPr>
                            <p:spPr>
                              <a:xfrm>
                                <a:off x="74174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1" name=""/>
                              <p:cNvSpPr/>
                              <p:nvPr/>
                            </p:nvSpPr>
                            <p:spPr>
                              <a:xfrm>
                                <a:off x="74221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52" name=""/>
                          <p:cNvGrpSpPr/>
                          <p:nvPr/>
                        </p:nvGrpSpPr>
                        <p:grpSpPr>
                          <a:xfrm>
                            <a:off x="7427160" y="4110840"/>
                            <a:ext cx="26280" cy="17640"/>
                            <a:chOff x="7427160" y="4110840"/>
                            <a:chExt cx="26280" cy="17640"/>
                          </a:xfrm>
                        </p:grpSpPr>
                        <p:grpSp>
                          <p:nvGrpSpPr>
                            <p:cNvPr id="2153" name=""/>
                            <p:cNvGrpSpPr/>
                            <p:nvPr/>
                          </p:nvGrpSpPr>
                          <p:grpSpPr>
                            <a:xfrm>
                              <a:off x="7427160" y="4110840"/>
                              <a:ext cx="11520" cy="17640"/>
                              <a:chOff x="7427160" y="4110840"/>
                              <a:chExt cx="11520" cy="17640"/>
                            </a:xfrm>
                          </p:grpSpPr>
                          <p:sp>
                            <p:nvSpPr>
                              <p:cNvPr id="2154" name=""/>
                              <p:cNvSpPr/>
                              <p:nvPr/>
                            </p:nvSpPr>
                            <p:spPr>
                              <a:xfrm>
                                <a:off x="742716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5" name=""/>
                              <p:cNvSpPr/>
                              <p:nvPr/>
                            </p:nvSpPr>
                            <p:spPr>
                              <a:xfrm>
                                <a:off x="743256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56" name=""/>
                            <p:cNvGrpSpPr/>
                            <p:nvPr/>
                          </p:nvGrpSpPr>
                          <p:grpSpPr>
                            <a:xfrm>
                              <a:off x="7437240" y="4110840"/>
                              <a:ext cx="16200" cy="17640"/>
                              <a:chOff x="7437240" y="4110840"/>
                              <a:chExt cx="16200" cy="17640"/>
                            </a:xfrm>
                          </p:grpSpPr>
                          <p:sp>
                            <p:nvSpPr>
                              <p:cNvPr id="2157" name=""/>
                              <p:cNvSpPr/>
                              <p:nvPr/>
                            </p:nvSpPr>
                            <p:spPr>
                              <a:xfrm>
                                <a:off x="743724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8" name=""/>
                              <p:cNvSpPr/>
                              <p:nvPr/>
                            </p:nvSpPr>
                            <p:spPr>
                              <a:xfrm>
                                <a:off x="74419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7124040" y="4050720"/>
                  <a:ext cx="315000" cy="41760"/>
                  <a:chOff x="7124040" y="4050720"/>
                  <a:chExt cx="315000" cy="4176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>
                    <a:off x="7124040" y="40507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7193520" y="40507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7291800" y="40507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399080" y="40507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4" name=""/>
              <p:cNvGrpSpPr/>
              <p:nvPr/>
            </p:nvGrpSpPr>
            <p:grpSpPr>
              <a:xfrm>
                <a:off x="7404120" y="4055760"/>
                <a:ext cx="25200" cy="19440"/>
                <a:chOff x="7404120" y="4055760"/>
                <a:chExt cx="25200" cy="19440"/>
              </a:xfrm>
            </p:grpSpPr>
            <p:sp>
              <p:nvSpPr>
                <p:cNvPr id="2165" name=""/>
                <p:cNvSpPr/>
                <p:nvPr/>
              </p:nvSpPr>
              <p:spPr>
                <a:xfrm>
                  <a:off x="7418520" y="40557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7420320" y="40629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7" name=""/>
                <p:cNvGrpSpPr/>
                <p:nvPr/>
              </p:nvGrpSpPr>
              <p:grpSpPr>
                <a:xfrm>
                  <a:off x="7404120" y="4058280"/>
                  <a:ext cx="5400" cy="16920"/>
                  <a:chOff x="7404120" y="4058280"/>
                  <a:chExt cx="5400" cy="1692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>
                    <a:off x="7404120" y="40582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7404120" y="40708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0" name=""/>
              <p:cNvGrpSpPr/>
              <p:nvPr/>
            </p:nvGrpSpPr>
            <p:grpSpPr>
              <a:xfrm>
                <a:off x="7197480" y="4056840"/>
                <a:ext cx="85680" cy="27720"/>
                <a:chOff x="7197480" y="4056840"/>
                <a:chExt cx="85680" cy="27720"/>
              </a:xfrm>
            </p:grpSpPr>
            <p:grpSp>
              <p:nvGrpSpPr>
                <p:cNvPr id="2171" name=""/>
                <p:cNvGrpSpPr/>
                <p:nvPr/>
              </p:nvGrpSpPr>
              <p:grpSpPr>
                <a:xfrm>
                  <a:off x="7198200" y="4056840"/>
                  <a:ext cx="84960" cy="15480"/>
                  <a:chOff x="7198200" y="4056840"/>
                  <a:chExt cx="84960" cy="1548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>
                    <a:off x="7226640" y="40568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7226640" y="40644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7198200" y="40633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5" name=""/>
                <p:cNvSpPr/>
                <p:nvPr/>
              </p:nvSpPr>
              <p:spPr>
                <a:xfrm>
                  <a:off x="7197480" y="40582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270920" y="40802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7127640" y="4083480"/>
                <a:ext cx="67320" cy="9360"/>
                <a:chOff x="7127640" y="4083480"/>
                <a:chExt cx="67320" cy="9360"/>
              </a:xfrm>
            </p:grpSpPr>
            <p:grpSp>
              <p:nvGrpSpPr>
                <p:cNvPr id="2178" name=""/>
                <p:cNvGrpSpPr/>
                <p:nvPr/>
              </p:nvGrpSpPr>
              <p:grpSpPr>
                <a:xfrm>
                  <a:off x="7127640" y="4083480"/>
                  <a:ext cx="37080" cy="9360"/>
                  <a:chOff x="7127640" y="4083480"/>
                  <a:chExt cx="37080" cy="9360"/>
                </a:xfrm>
              </p:grpSpPr>
              <p:grpSp>
                <p:nvGrpSpPr>
                  <p:cNvPr id="2179" name=""/>
                  <p:cNvGrpSpPr/>
                  <p:nvPr/>
                </p:nvGrpSpPr>
                <p:grpSpPr>
                  <a:xfrm>
                    <a:off x="7127640" y="4083480"/>
                    <a:ext cx="23040" cy="9360"/>
                    <a:chOff x="7127640" y="4083480"/>
                    <a:chExt cx="23040" cy="9360"/>
                  </a:xfrm>
                </p:grpSpPr>
                <p:grpSp>
                  <p:nvGrpSpPr>
                    <p:cNvPr id="2180" name=""/>
                    <p:cNvGrpSpPr/>
                    <p:nvPr/>
                  </p:nvGrpSpPr>
                  <p:grpSpPr>
                    <a:xfrm>
                      <a:off x="7127640" y="4083480"/>
                      <a:ext cx="14760" cy="9360"/>
                      <a:chOff x="7127640" y="4083480"/>
                      <a:chExt cx="14760" cy="9360"/>
                    </a:xfrm>
                  </p:grpSpPr>
                  <p:sp>
                    <p:nvSpPr>
                      <p:cNvPr id="2181" name=""/>
                      <p:cNvSpPr/>
                      <p:nvPr/>
                    </p:nvSpPr>
                    <p:spPr>
                      <a:xfrm>
                        <a:off x="71276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2" name=""/>
                      <p:cNvSpPr/>
                      <p:nvPr/>
                    </p:nvSpPr>
                    <p:spPr>
                      <a:xfrm>
                        <a:off x="713088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83" name=""/>
                    <p:cNvGrpSpPr/>
                    <p:nvPr/>
                  </p:nvGrpSpPr>
                  <p:grpSpPr>
                    <a:xfrm>
                      <a:off x="7134480" y="4083480"/>
                      <a:ext cx="16200" cy="9360"/>
                      <a:chOff x="7134480" y="4083480"/>
                      <a:chExt cx="16200" cy="9360"/>
                    </a:xfrm>
                  </p:grpSpPr>
                  <p:sp>
                    <p:nvSpPr>
                      <p:cNvPr id="2184" name=""/>
                      <p:cNvSpPr/>
                      <p:nvPr/>
                    </p:nvSpPr>
                    <p:spPr>
                      <a:xfrm>
                        <a:off x="713448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5" name=""/>
                      <p:cNvSpPr/>
                      <p:nvPr/>
                    </p:nvSpPr>
                    <p:spPr>
                      <a:xfrm>
                        <a:off x="713880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7142040" y="4083480"/>
                    <a:ext cx="22680" cy="9360"/>
                    <a:chOff x="7142040" y="4083480"/>
                    <a:chExt cx="22680" cy="9360"/>
                  </a:xfrm>
                </p:grpSpPr>
                <p:grpSp>
                  <p:nvGrpSpPr>
                    <p:cNvPr id="2187" name=""/>
                    <p:cNvGrpSpPr/>
                    <p:nvPr/>
                  </p:nvGrpSpPr>
                  <p:grpSpPr>
                    <a:xfrm>
                      <a:off x="7142040" y="4083480"/>
                      <a:ext cx="14760" cy="9360"/>
                      <a:chOff x="7142040" y="4083480"/>
                      <a:chExt cx="14760" cy="9360"/>
                    </a:xfrm>
                  </p:grpSpPr>
                  <p:sp>
                    <p:nvSpPr>
                      <p:cNvPr id="2188" name=""/>
                      <p:cNvSpPr/>
                      <p:nvPr/>
                    </p:nvSpPr>
                    <p:spPr>
                      <a:xfrm>
                        <a:off x="71420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9" name=""/>
                      <p:cNvSpPr/>
                      <p:nvPr/>
                    </p:nvSpPr>
                    <p:spPr>
                      <a:xfrm>
                        <a:off x="714528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0" name=""/>
                    <p:cNvGrpSpPr/>
                    <p:nvPr/>
                  </p:nvGrpSpPr>
                  <p:grpSpPr>
                    <a:xfrm>
                      <a:off x="7149240" y="4083480"/>
                      <a:ext cx="15480" cy="9360"/>
                      <a:chOff x="7149240" y="4083480"/>
                      <a:chExt cx="15480" cy="9360"/>
                    </a:xfrm>
                  </p:grpSpPr>
                  <p:sp>
                    <p:nvSpPr>
                      <p:cNvPr id="2191" name=""/>
                      <p:cNvSpPr/>
                      <p:nvPr/>
                    </p:nvSpPr>
                    <p:spPr>
                      <a:xfrm>
                        <a:off x="71492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2" name=""/>
                      <p:cNvSpPr/>
                      <p:nvPr/>
                    </p:nvSpPr>
                    <p:spPr>
                      <a:xfrm>
                        <a:off x="715320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93" name=""/>
                <p:cNvGrpSpPr/>
                <p:nvPr/>
              </p:nvGrpSpPr>
              <p:grpSpPr>
                <a:xfrm>
                  <a:off x="7157160" y="4083480"/>
                  <a:ext cx="37800" cy="9360"/>
                  <a:chOff x="7157160" y="4083480"/>
                  <a:chExt cx="37800" cy="9360"/>
                </a:xfrm>
              </p:grpSpPr>
              <p:grpSp>
                <p:nvGrpSpPr>
                  <p:cNvPr id="2194" name=""/>
                  <p:cNvGrpSpPr/>
                  <p:nvPr/>
                </p:nvGrpSpPr>
                <p:grpSpPr>
                  <a:xfrm>
                    <a:off x="7157160" y="4083480"/>
                    <a:ext cx="23040" cy="9360"/>
                    <a:chOff x="7157160" y="4083480"/>
                    <a:chExt cx="23040" cy="9360"/>
                  </a:xfrm>
                </p:grpSpPr>
                <p:grpSp>
                  <p:nvGrpSpPr>
                    <p:cNvPr id="2195" name=""/>
                    <p:cNvGrpSpPr/>
                    <p:nvPr/>
                  </p:nvGrpSpPr>
                  <p:grpSpPr>
                    <a:xfrm>
                      <a:off x="7157160" y="4083480"/>
                      <a:ext cx="15840" cy="9360"/>
                      <a:chOff x="7157160" y="4083480"/>
                      <a:chExt cx="15840" cy="9360"/>
                    </a:xfrm>
                  </p:grpSpPr>
                  <p:sp>
                    <p:nvSpPr>
                      <p:cNvPr id="2196" name=""/>
                      <p:cNvSpPr/>
                      <p:nvPr/>
                    </p:nvSpPr>
                    <p:spPr>
                      <a:xfrm>
                        <a:off x="715716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7" name=""/>
                      <p:cNvSpPr/>
                      <p:nvPr/>
                    </p:nvSpPr>
                    <p:spPr>
                      <a:xfrm>
                        <a:off x="716112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8" name=""/>
                    <p:cNvGrpSpPr/>
                    <p:nvPr/>
                  </p:nvGrpSpPr>
                  <p:grpSpPr>
                    <a:xfrm>
                      <a:off x="7165440" y="4083480"/>
                      <a:ext cx="14760" cy="9360"/>
                      <a:chOff x="7165440" y="4083480"/>
                      <a:chExt cx="14760" cy="9360"/>
                    </a:xfrm>
                  </p:grpSpPr>
                  <p:sp>
                    <p:nvSpPr>
                      <p:cNvPr id="2199" name=""/>
                      <p:cNvSpPr/>
                      <p:nvPr/>
                    </p:nvSpPr>
                    <p:spPr>
                      <a:xfrm>
                        <a:off x="71654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0" name=""/>
                      <p:cNvSpPr/>
                      <p:nvPr/>
                    </p:nvSpPr>
                    <p:spPr>
                      <a:xfrm>
                        <a:off x="716868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01" name=""/>
                  <p:cNvGrpSpPr/>
                  <p:nvPr/>
                </p:nvGrpSpPr>
                <p:grpSpPr>
                  <a:xfrm>
                    <a:off x="7172280" y="4083480"/>
                    <a:ext cx="22680" cy="9360"/>
                    <a:chOff x="7172280" y="4083480"/>
                    <a:chExt cx="22680" cy="9360"/>
                  </a:xfrm>
                </p:grpSpPr>
                <p:grpSp>
                  <p:nvGrpSpPr>
                    <p:cNvPr id="2202" name=""/>
                    <p:cNvGrpSpPr/>
                    <p:nvPr/>
                  </p:nvGrpSpPr>
                  <p:grpSpPr>
                    <a:xfrm>
                      <a:off x="7172280" y="4083480"/>
                      <a:ext cx="15840" cy="9360"/>
                      <a:chOff x="7172280" y="4083480"/>
                      <a:chExt cx="15840" cy="9360"/>
                    </a:xfrm>
                  </p:grpSpPr>
                  <p:sp>
                    <p:nvSpPr>
                      <p:cNvPr id="2203" name=""/>
                      <p:cNvSpPr/>
                      <p:nvPr/>
                    </p:nvSpPr>
                    <p:spPr>
                      <a:xfrm>
                        <a:off x="717228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4" name=""/>
                      <p:cNvSpPr/>
                      <p:nvPr/>
                    </p:nvSpPr>
                    <p:spPr>
                      <a:xfrm>
                        <a:off x="717624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5" name=""/>
                    <p:cNvGrpSpPr/>
                    <p:nvPr/>
                  </p:nvGrpSpPr>
                  <p:grpSpPr>
                    <a:xfrm>
                      <a:off x="7180560" y="4083480"/>
                      <a:ext cx="14400" cy="9360"/>
                      <a:chOff x="7180560" y="4083480"/>
                      <a:chExt cx="14400" cy="9360"/>
                    </a:xfrm>
                  </p:grpSpPr>
                  <p:sp>
                    <p:nvSpPr>
                      <p:cNvPr id="2206" name=""/>
                      <p:cNvSpPr/>
                      <p:nvPr/>
                    </p:nvSpPr>
                    <p:spPr>
                      <a:xfrm>
                        <a:off x="718056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7" name=""/>
                      <p:cNvSpPr/>
                      <p:nvPr/>
                    </p:nvSpPr>
                    <p:spPr>
                      <a:xfrm>
                        <a:off x="718308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208" name=""/>
              <p:cNvSpPr/>
              <p:nvPr/>
            </p:nvSpPr>
            <p:spPr>
              <a:xfrm>
                <a:off x="7122240" y="40752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7010280" y="4128120"/>
              <a:ext cx="533520" cy="62640"/>
              <a:chOff x="7010280" y="4128120"/>
              <a:chExt cx="533520" cy="62640"/>
            </a:xfrm>
          </p:grpSpPr>
          <p:grpSp>
            <p:nvGrpSpPr>
              <p:cNvPr id="2210" name=""/>
              <p:cNvGrpSpPr/>
              <p:nvPr/>
            </p:nvGrpSpPr>
            <p:grpSpPr>
              <a:xfrm>
                <a:off x="7010280" y="4128120"/>
                <a:ext cx="533520" cy="62640"/>
                <a:chOff x="7010280" y="4128120"/>
                <a:chExt cx="533520" cy="6264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7012800" y="418320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7010280" y="412812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7026120" y="413388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7068960" y="4132800"/>
                <a:ext cx="420120" cy="14400"/>
                <a:chOff x="7068960" y="4132800"/>
                <a:chExt cx="420120" cy="1440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7068960" y="41328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7108920" y="41328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7194600" y="41328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7270560" y="41328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7348680" y="41328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7418880" y="41378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7055640" y="4146840"/>
                <a:ext cx="435240" cy="21960"/>
                <a:chOff x="7055640" y="4146840"/>
                <a:chExt cx="435240" cy="21960"/>
              </a:xfrm>
            </p:grpSpPr>
            <p:grpSp>
              <p:nvGrpSpPr>
                <p:cNvPr id="2222" name=""/>
                <p:cNvGrpSpPr/>
                <p:nvPr/>
              </p:nvGrpSpPr>
              <p:grpSpPr>
                <a:xfrm>
                  <a:off x="7093440" y="4147560"/>
                  <a:ext cx="212760" cy="19080"/>
                  <a:chOff x="7093440" y="4147560"/>
                  <a:chExt cx="212760" cy="1908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7093440" y="41475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101720" y="41536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7104240" y="41598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7108560" y="41666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7" name=""/>
                <p:cNvGrpSpPr/>
                <p:nvPr/>
              </p:nvGrpSpPr>
              <p:grpSpPr>
                <a:xfrm>
                  <a:off x="7055640" y="4150440"/>
                  <a:ext cx="30960" cy="12240"/>
                  <a:chOff x="7055640" y="4150440"/>
                  <a:chExt cx="30960" cy="12240"/>
                </a:xfrm>
              </p:grpSpPr>
              <p:sp>
                <p:nvSpPr>
                  <p:cNvPr id="2228" name=""/>
                  <p:cNvSpPr/>
                  <p:nvPr/>
                </p:nvSpPr>
                <p:spPr>
                  <a:xfrm>
                    <a:off x="7064640" y="41504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7061040" y="41569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7055640" y="41626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1" name=""/>
                <p:cNvGrpSpPr/>
                <p:nvPr/>
              </p:nvGrpSpPr>
              <p:grpSpPr>
                <a:xfrm>
                  <a:off x="7139880" y="4146840"/>
                  <a:ext cx="194760" cy="20880"/>
                  <a:chOff x="7139880" y="4146840"/>
                  <a:chExt cx="194760" cy="20880"/>
                </a:xfrm>
              </p:grpSpPr>
              <p:sp>
                <p:nvSpPr>
                  <p:cNvPr id="2232" name=""/>
                  <p:cNvSpPr/>
                  <p:nvPr/>
                </p:nvSpPr>
                <p:spPr>
                  <a:xfrm>
                    <a:off x="7139880" y="4167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7309800" y="41468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7317360" y="41540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301520" y="41608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269480" y="41670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7295400" y="41677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8" name=""/>
                <p:cNvGrpSpPr/>
                <p:nvPr/>
              </p:nvGrpSpPr>
              <p:grpSpPr>
                <a:xfrm>
                  <a:off x="7349760" y="4150440"/>
                  <a:ext cx="56160" cy="17280"/>
                  <a:chOff x="7349760" y="4150440"/>
                  <a:chExt cx="56160" cy="1728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7349760" y="41504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7358040" y="41583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7358400" y="41677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2" name=""/>
                <p:cNvGrpSpPr/>
                <p:nvPr/>
              </p:nvGrpSpPr>
              <p:grpSpPr>
                <a:xfrm>
                  <a:off x="7423200" y="4150440"/>
                  <a:ext cx="67680" cy="18360"/>
                  <a:chOff x="7423200" y="4150440"/>
                  <a:chExt cx="67680" cy="1836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>
                    <a:off x="7427880" y="41504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7423200" y="41569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7427880" y="41626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7426440" y="41688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7477560" y="4157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7482600" y="41655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9" name=""/>
            <p:cNvGrpSpPr/>
            <p:nvPr/>
          </p:nvGrpSpPr>
          <p:grpSpPr>
            <a:xfrm>
              <a:off x="7166880" y="3991680"/>
              <a:ext cx="232200" cy="38160"/>
              <a:chOff x="7166880" y="3991680"/>
              <a:chExt cx="232200" cy="38160"/>
            </a:xfrm>
          </p:grpSpPr>
          <p:grpSp>
            <p:nvGrpSpPr>
              <p:cNvPr id="2250" name=""/>
              <p:cNvGrpSpPr/>
              <p:nvPr/>
            </p:nvGrpSpPr>
            <p:grpSpPr>
              <a:xfrm>
                <a:off x="7166880" y="4004280"/>
                <a:ext cx="232200" cy="25560"/>
                <a:chOff x="7166880" y="4004280"/>
                <a:chExt cx="232200" cy="2556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7166880" y="400428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7169040" y="402156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7220160" y="39916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7140960" y="38098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172640" y="38304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182360" y="383580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7010280" y="4419720"/>
            <a:ext cx="533520" cy="380520"/>
            <a:chOff x="7010280" y="4419720"/>
            <a:chExt cx="533520" cy="380520"/>
          </a:xfrm>
        </p:grpSpPr>
        <p:grpSp>
          <p:nvGrpSpPr>
            <p:cNvPr id="2258" name=""/>
            <p:cNvGrpSpPr/>
            <p:nvPr/>
          </p:nvGrpSpPr>
          <p:grpSpPr>
            <a:xfrm>
              <a:off x="7113240" y="4622760"/>
              <a:ext cx="340200" cy="118080"/>
              <a:chOff x="7113240" y="4622760"/>
              <a:chExt cx="340200" cy="11808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7113240" y="4622760"/>
                <a:ext cx="340200" cy="118080"/>
                <a:chOff x="7113240" y="4622760"/>
                <a:chExt cx="340200" cy="118080"/>
              </a:xfrm>
            </p:grpSpPr>
            <p:grpSp>
              <p:nvGrpSpPr>
                <p:cNvPr id="2260" name=""/>
                <p:cNvGrpSpPr/>
                <p:nvPr/>
              </p:nvGrpSpPr>
              <p:grpSpPr>
                <a:xfrm>
                  <a:off x="7113240" y="4622760"/>
                  <a:ext cx="340200" cy="118080"/>
                  <a:chOff x="7113240" y="4622760"/>
                  <a:chExt cx="340200" cy="118080"/>
                </a:xfrm>
              </p:grpSpPr>
              <p:grpSp>
                <p:nvGrpSpPr>
                  <p:cNvPr id="2261" name=""/>
                  <p:cNvGrpSpPr/>
                  <p:nvPr/>
                </p:nvGrpSpPr>
                <p:grpSpPr>
                  <a:xfrm>
                    <a:off x="7113240" y="4622760"/>
                    <a:ext cx="339120" cy="118080"/>
                    <a:chOff x="7113240" y="4622760"/>
                    <a:chExt cx="339120" cy="118080"/>
                  </a:xfrm>
                </p:grpSpPr>
                <p:grpSp>
                  <p:nvGrpSpPr>
                    <p:cNvPr id="2262" name=""/>
                    <p:cNvGrpSpPr/>
                    <p:nvPr/>
                  </p:nvGrpSpPr>
                  <p:grpSpPr>
                    <a:xfrm>
                      <a:off x="7113240" y="4622760"/>
                      <a:ext cx="339120" cy="118080"/>
                      <a:chOff x="7113240" y="4622760"/>
                      <a:chExt cx="339120" cy="118080"/>
                    </a:xfrm>
                  </p:grpSpPr>
                  <p:sp>
                    <p:nvSpPr>
                      <p:cNvPr id="2263" name=""/>
                      <p:cNvSpPr/>
                      <p:nvPr/>
                    </p:nvSpPr>
                    <p:spPr>
                      <a:xfrm>
                        <a:off x="7114320" y="46533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"/>
                      <p:cNvSpPr/>
                      <p:nvPr/>
                    </p:nvSpPr>
                    <p:spPr>
                      <a:xfrm>
                        <a:off x="7113240" y="46227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65" name=""/>
                    <p:cNvSpPr/>
                    <p:nvPr/>
                  </p:nvSpPr>
                  <p:spPr>
                    <a:xfrm>
                      <a:off x="7122240" y="46465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6" name=""/>
                  <p:cNvGrpSpPr/>
                  <p:nvPr/>
                </p:nvGrpSpPr>
                <p:grpSpPr>
                  <a:xfrm>
                    <a:off x="7126920" y="4720680"/>
                    <a:ext cx="326520" cy="17640"/>
                    <a:chOff x="7126920" y="4720680"/>
                    <a:chExt cx="326520" cy="17640"/>
                  </a:xfrm>
                </p:grpSpPr>
                <p:grpSp>
                  <p:nvGrpSpPr>
                    <p:cNvPr id="2267" name=""/>
                    <p:cNvGrpSpPr/>
                    <p:nvPr/>
                  </p:nvGrpSpPr>
                  <p:grpSpPr>
                    <a:xfrm>
                      <a:off x="7126920" y="4720680"/>
                      <a:ext cx="160560" cy="17640"/>
                      <a:chOff x="7126920" y="4720680"/>
                      <a:chExt cx="160560" cy="17640"/>
                    </a:xfrm>
                  </p:grpSpPr>
                  <p:grpSp>
                    <p:nvGrpSpPr>
                      <p:cNvPr id="2268" name=""/>
                      <p:cNvGrpSpPr/>
                      <p:nvPr/>
                    </p:nvGrpSpPr>
                    <p:grpSpPr>
                      <a:xfrm>
                        <a:off x="7126920" y="4720680"/>
                        <a:ext cx="76320" cy="17640"/>
                        <a:chOff x="7126920" y="4720680"/>
                        <a:chExt cx="76320" cy="17640"/>
                      </a:xfrm>
                    </p:grpSpPr>
                    <p:grpSp>
                      <p:nvGrpSpPr>
                        <p:cNvPr id="2269" name=""/>
                        <p:cNvGrpSpPr/>
                        <p:nvPr/>
                      </p:nvGrpSpPr>
                      <p:grpSpPr>
                        <a:xfrm>
                          <a:off x="7126920" y="4720680"/>
                          <a:ext cx="35640" cy="17640"/>
                          <a:chOff x="7126920" y="4720680"/>
                          <a:chExt cx="35640" cy="17640"/>
                        </a:xfrm>
                      </p:grpSpPr>
                      <p:grpSp>
                        <p:nvGrpSpPr>
                          <p:cNvPr id="2270" name=""/>
                          <p:cNvGrpSpPr/>
                          <p:nvPr/>
                        </p:nvGrpSpPr>
                        <p:grpSpPr>
                          <a:xfrm>
                            <a:off x="7126920" y="4720680"/>
                            <a:ext cx="20880" cy="17640"/>
                            <a:chOff x="7126920" y="4720680"/>
                            <a:chExt cx="20880" cy="17640"/>
                          </a:xfrm>
                        </p:grpSpPr>
                        <p:grpSp>
                          <p:nvGrpSpPr>
                            <p:cNvPr id="2271" name=""/>
                            <p:cNvGrpSpPr/>
                            <p:nvPr/>
                          </p:nvGrpSpPr>
                          <p:grpSpPr>
                            <a:xfrm>
                              <a:off x="7126920" y="4720680"/>
                              <a:ext cx="5040" cy="17640"/>
                              <a:chOff x="7126920" y="4720680"/>
                              <a:chExt cx="5040" cy="17640"/>
                            </a:xfrm>
                          </p:grpSpPr>
                          <p:sp>
                            <p:nvSpPr>
                              <p:cNvPr id="2272" name=""/>
                              <p:cNvSpPr/>
                              <p:nvPr/>
                            </p:nvSpPr>
                            <p:spPr>
                              <a:xfrm>
                                <a:off x="7126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3" name=""/>
                              <p:cNvSpPr/>
                              <p:nvPr/>
                            </p:nvSpPr>
                            <p:spPr>
                              <a:xfrm>
                                <a:off x="71316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74" name=""/>
                            <p:cNvGrpSpPr/>
                            <p:nvPr/>
                          </p:nvGrpSpPr>
                          <p:grpSpPr>
                            <a:xfrm>
                              <a:off x="7136280" y="4720680"/>
                              <a:ext cx="11520" cy="17640"/>
                              <a:chOff x="7136280" y="4720680"/>
                              <a:chExt cx="11520" cy="17640"/>
                            </a:xfrm>
                          </p:grpSpPr>
                          <p:sp>
                            <p:nvSpPr>
                              <p:cNvPr id="2275" name=""/>
                              <p:cNvSpPr/>
                              <p:nvPr/>
                            </p:nvSpPr>
                            <p:spPr>
                              <a:xfrm>
                                <a:off x="71362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6" name=""/>
                              <p:cNvSpPr/>
                              <p:nvPr/>
                            </p:nvSpPr>
                            <p:spPr>
                              <a:xfrm>
                                <a:off x="71416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277" name=""/>
                          <p:cNvGrpSpPr/>
                          <p:nvPr/>
                        </p:nvGrpSpPr>
                        <p:grpSpPr>
                          <a:xfrm>
                            <a:off x="7147080" y="4720680"/>
                            <a:ext cx="15480" cy="17640"/>
                            <a:chOff x="7147080" y="4720680"/>
                            <a:chExt cx="15480" cy="17640"/>
                          </a:xfrm>
                        </p:grpSpPr>
                        <p:grpSp>
                          <p:nvGrpSpPr>
                            <p:cNvPr id="2278" name=""/>
                            <p:cNvGrpSpPr/>
                            <p:nvPr/>
                          </p:nvGrpSpPr>
                          <p:grpSpPr>
                            <a:xfrm>
                              <a:off x="7147080" y="4720680"/>
                              <a:ext cx="11520" cy="17640"/>
                              <a:chOff x="7147080" y="4720680"/>
                              <a:chExt cx="11520" cy="17640"/>
                            </a:xfrm>
                          </p:grpSpPr>
                          <p:sp>
                            <p:nvSpPr>
                              <p:cNvPr id="2279" name=""/>
                              <p:cNvSpPr/>
                              <p:nvPr/>
                            </p:nvSpPr>
                            <p:spPr>
                              <a:xfrm>
                                <a:off x="71470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0" name=""/>
                              <p:cNvSpPr/>
                              <p:nvPr/>
                            </p:nvSpPr>
                            <p:spPr>
                              <a:xfrm>
                                <a:off x="71517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81" name=""/>
                            <p:cNvGrpSpPr/>
                            <p:nvPr/>
                          </p:nvGrpSpPr>
                          <p:grpSpPr>
                            <a:xfrm>
                              <a:off x="7157520" y="4720680"/>
                              <a:ext cx="5040" cy="17640"/>
                              <a:chOff x="7157520" y="4720680"/>
                              <a:chExt cx="5040" cy="17640"/>
                            </a:xfrm>
                          </p:grpSpPr>
                          <p:sp>
                            <p:nvSpPr>
                              <p:cNvPr id="2282" name=""/>
                              <p:cNvSpPr/>
                              <p:nvPr/>
                            </p:nvSpPr>
                            <p:spPr>
                              <a:xfrm>
                                <a:off x="7157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3" name=""/>
                              <p:cNvSpPr/>
                              <p:nvPr/>
                            </p:nvSpPr>
                            <p:spPr>
                              <a:xfrm>
                                <a:off x="71622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284" name=""/>
                        <p:cNvGrpSpPr/>
                        <p:nvPr/>
                      </p:nvGrpSpPr>
                      <p:grpSpPr>
                        <a:xfrm>
                          <a:off x="7166880" y="4720680"/>
                          <a:ext cx="36360" cy="17640"/>
                          <a:chOff x="7166880" y="4720680"/>
                          <a:chExt cx="36360" cy="17640"/>
                        </a:xfrm>
                      </p:grpSpPr>
                      <p:grpSp>
                        <p:nvGrpSpPr>
                          <p:cNvPr id="2285" name=""/>
                          <p:cNvGrpSpPr/>
                          <p:nvPr/>
                        </p:nvGrpSpPr>
                        <p:grpSpPr>
                          <a:xfrm>
                            <a:off x="7166880" y="4720680"/>
                            <a:ext cx="21600" cy="17640"/>
                            <a:chOff x="7166880" y="4720680"/>
                            <a:chExt cx="21600" cy="17640"/>
                          </a:xfrm>
                        </p:grpSpPr>
                        <p:grpSp>
                          <p:nvGrpSpPr>
                            <p:cNvPr id="2286" name=""/>
                            <p:cNvGrpSpPr/>
                            <p:nvPr/>
                          </p:nvGrpSpPr>
                          <p:grpSpPr>
                            <a:xfrm>
                              <a:off x="7166880" y="4720680"/>
                              <a:ext cx="16200" cy="17640"/>
                              <a:chOff x="7166880" y="4720680"/>
                              <a:chExt cx="16200" cy="17640"/>
                            </a:xfrm>
                          </p:grpSpPr>
                          <p:sp>
                            <p:nvSpPr>
                              <p:cNvPr id="2287" name=""/>
                              <p:cNvSpPr/>
                              <p:nvPr/>
                            </p:nvSpPr>
                            <p:spPr>
                              <a:xfrm>
                                <a:off x="71668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8" name=""/>
                              <p:cNvSpPr/>
                              <p:nvPr/>
                            </p:nvSpPr>
                            <p:spPr>
                              <a:xfrm>
                                <a:off x="71715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89" name=""/>
                            <p:cNvGrpSpPr/>
                            <p:nvPr/>
                          </p:nvGrpSpPr>
                          <p:grpSpPr>
                            <a:xfrm>
                              <a:off x="7176600" y="4720680"/>
                              <a:ext cx="11880" cy="17640"/>
                              <a:chOff x="7176600" y="4720680"/>
                              <a:chExt cx="11880" cy="17640"/>
                            </a:xfrm>
                          </p:grpSpPr>
                          <p:sp>
                            <p:nvSpPr>
                              <p:cNvPr id="2290" name=""/>
                              <p:cNvSpPr/>
                              <p:nvPr/>
                            </p:nvSpPr>
                            <p:spPr>
                              <a:xfrm>
                                <a:off x="7176600" y="47206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1" name=""/>
                              <p:cNvSpPr/>
                              <p:nvPr/>
                            </p:nvSpPr>
                            <p:spPr>
                              <a:xfrm>
                                <a:off x="71820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292" name=""/>
                          <p:cNvGrpSpPr/>
                          <p:nvPr/>
                        </p:nvGrpSpPr>
                        <p:grpSpPr>
                          <a:xfrm>
                            <a:off x="7187040" y="4720680"/>
                            <a:ext cx="16200" cy="17640"/>
                            <a:chOff x="7187040" y="4720680"/>
                            <a:chExt cx="16200" cy="17640"/>
                          </a:xfrm>
                        </p:grpSpPr>
                        <p:grpSp>
                          <p:nvGrpSpPr>
                            <p:cNvPr id="2293" name=""/>
                            <p:cNvGrpSpPr/>
                            <p:nvPr/>
                          </p:nvGrpSpPr>
                          <p:grpSpPr>
                            <a:xfrm>
                              <a:off x="7187040" y="4720680"/>
                              <a:ext cx="16200" cy="17640"/>
                              <a:chOff x="7187040" y="4720680"/>
                              <a:chExt cx="16200" cy="17640"/>
                            </a:xfrm>
                          </p:grpSpPr>
                          <p:sp>
                            <p:nvSpPr>
                              <p:cNvPr id="2294" name=""/>
                              <p:cNvSpPr/>
                              <p:nvPr/>
                            </p:nvSpPr>
                            <p:spPr>
                              <a:xfrm>
                                <a:off x="71870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5" name=""/>
                              <p:cNvSpPr/>
                              <p:nvPr/>
                            </p:nvSpPr>
                            <p:spPr>
                              <a:xfrm>
                                <a:off x="7191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96" name=""/>
                            <p:cNvGrpSpPr/>
                            <p:nvPr/>
                          </p:nvGrpSpPr>
                          <p:grpSpPr>
                            <a:xfrm>
                              <a:off x="7197120" y="4720680"/>
                              <a:ext cx="5400" cy="17640"/>
                              <a:chOff x="7197120" y="4720680"/>
                              <a:chExt cx="5400" cy="17640"/>
                            </a:xfrm>
                          </p:grpSpPr>
                          <p:sp>
                            <p:nvSpPr>
                              <p:cNvPr id="2297" name=""/>
                              <p:cNvSpPr/>
                              <p:nvPr/>
                            </p:nvSpPr>
                            <p:spPr>
                              <a:xfrm>
                                <a:off x="71971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8" name=""/>
                              <p:cNvSpPr/>
                              <p:nvPr/>
                            </p:nvSpPr>
                            <p:spPr>
                              <a:xfrm>
                                <a:off x="72018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299" name=""/>
                      <p:cNvGrpSpPr/>
                      <p:nvPr/>
                    </p:nvGrpSpPr>
                    <p:grpSpPr>
                      <a:xfrm>
                        <a:off x="7206840" y="4720680"/>
                        <a:ext cx="80640" cy="17640"/>
                        <a:chOff x="7206840" y="4720680"/>
                        <a:chExt cx="80640" cy="17640"/>
                      </a:xfrm>
                    </p:grpSpPr>
                    <p:grpSp>
                      <p:nvGrpSpPr>
                        <p:cNvPr id="2300" name=""/>
                        <p:cNvGrpSpPr/>
                        <p:nvPr/>
                      </p:nvGrpSpPr>
                      <p:grpSpPr>
                        <a:xfrm>
                          <a:off x="7206840" y="4720680"/>
                          <a:ext cx="45720" cy="17640"/>
                          <a:chOff x="7206840" y="4720680"/>
                          <a:chExt cx="45720" cy="17640"/>
                        </a:xfrm>
                      </p:grpSpPr>
                      <p:grpSp>
                        <p:nvGrpSpPr>
                          <p:cNvPr id="2301" name=""/>
                          <p:cNvGrpSpPr/>
                          <p:nvPr/>
                        </p:nvGrpSpPr>
                        <p:grpSpPr>
                          <a:xfrm>
                            <a:off x="7206840" y="4720680"/>
                            <a:ext cx="16200" cy="17640"/>
                            <a:chOff x="7206840" y="4720680"/>
                            <a:chExt cx="16200" cy="17640"/>
                          </a:xfrm>
                        </p:grpSpPr>
                        <p:grpSp>
                          <p:nvGrpSpPr>
                            <p:cNvPr id="2302" name=""/>
                            <p:cNvGrpSpPr/>
                            <p:nvPr/>
                          </p:nvGrpSpPr>
                          <p:grpSpPr>
                            <a:xfrm>
                              <a:off x="7206840" y="4720680"/>
                              <a:ext cx="16200" cy="17640"/>
                              <a:chOff x="7206840" y="4720680"/>
                              <a:chExt cx="16200" cy="17640"/>
                            </a:xfrm>
                          </p:grpSpPr>
                          <p:sp>
                            <p:nvSpPr>
                              <p:cNvPr id="2303" name=""/>
                              <p:cNvSpPr/>
                              <p:nvPr/>
                            </p:nvSpPr>
                            <p:spPr>
                              <a:xfrm>
                                <a:off x="72068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4" name=""/>
                              <p:cNvSpPr/>
                              <p:nvPr/>
                            </p:nvSpPr>
                            <p:spPr>
                              <a:xfrm>
                                <a:off x="7211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05" name=""/>
                            <p:cNvGrpSpPr/>
                            <p:nvPr/>
                          </p:nvGrpSpPr>
                          <p:grpSpPr>
                            <a:xfrm>
                              <a:off x="7216920" y="4720680"/>
                              <a:ext cx="4320" cy="17640"/>
                              <a:chOff x="7216920" y="4720680"/>
                              <a:chExt cx="4320" cy="17640"/>
                            </a:xfrm>
                          </p:grpSpPr>
                          <p:sp>
                            <p:nvSpPr>
                              <p:cNvPr id="2306" name=""/>
                              <p:cNvSpPr/>
                              <p:nvPr/>
                            </p:nvSpPr>
                            <p:spPr>
                              <a:xfrm>
                                <a:off x="72169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7" name=""/>
                              <p:cNvSpPr/>
                              <p:nvPr/>
                            </p:nvSpPr>
                            <p:spPr>
                              <a:xfrm>
                                <a:off x="72208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08" name=""/>
                          <p:cNvGrpSpPr/>
                          <p:nvPr/>
                        </p:nvGrpSpPr>
                        <p:grpSpPr>
                          <a:xfrm>
                            <a:off x="7227360" y="4720680"/>
                            <a:ext cx="25200" cy="17640"/>
                            <a:chOff x="7227360" y="4720680"/>
                            <a:chExt cx="25200" cy="17640"/>
                          </a:xfrm>
                        </p:grpSpPr>
                        <p:grpSp>
                          <p:nvGrpSpPr>
                            <p:cNvPr id="2309" name=""/>
                            <p:cNvGrpSpPr/>
                            <p:nvPr/>
                          </p:nvGrpSpPr>
                          <p:grpSpPr>
                            <a:xfrm>
                              <a:off x="7227360" y="4720680"/>
                              <a:ext cx="4320" cy="17640"/>
                              <a:chOff x="7227360" y="4720680"/>
                              <a:chExt cx="4320" cy="17640"/>
                            </a:xfrm>
                          </p:grpSpPr>
                          <p:sp>
                            <p:nvSpPr>
                              <p:cNvPr id="2310" name=""/>
                              <p:cNvSpPr/>
                              <p:nvPr/>
                            </p:nvSpPr>
                            <p:spPr>
                              <a:xfrm>
                                <a:off x="72273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1" name=""/>
                              <p:cNvSpPr/>
                              <p:nvPr/>
                            </p:nvSpPr>
                            <p:spPr>
                              <a:xfrm>
                                <a:off x="72313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12" name=""/>
                            <p:cNvGrpSpPr/>
                            <p:nvPr/>
                          </p:nvGrpSpPr>
                          <p:grpSpPr>
                            <a:xfrm>
                              <a:off x="7237080" y="4720680"/>
                              <a:ext cx="15480" cy="17640"/>
                              <a:chOff x="7237080" y="4720680"/>
                              <a:chExt cx="15480" cy="17640"/>
                            </a:xfrm>
                          </p:grpSpPr>
                          <p:sp>
                            <p:nvSpPr>
                              <p:cNvPr id="2313" name=""/>
                              <p:cNvSpPr/>
                              <p:nvPr/>
                            </p:nvSpPr>
                            <p:spPr>
                              <a:xfrm>
                                <a:off x="72370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4" name=""/>
                              <p:cNvSpPr/>
                              <p:nvPr/>
                            </p:nvSpPr>
                            <p:spPr>
                              <a:xfrm>
                                <a:off x="72410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315" name=""/>
                        <p:cNvGrpSpPr/>
                        <p:nvPr/>
                      </p:nvGrpSpPr>
                      <p:grpSpPr>
                        <a:xfrm>
                          <a:off x="7246800" y="4720680"/>
                          <a:ext cx="40680" cy="17640"/>
                          <a:chOff x="7246800" y="4720680"/>
                          <a:chExt cx="40680" cy="17640"/>
                        </a:xfrm>
                      </p:grpSpPr>
                      <p:grpSp>
                        <p:nvGrpSpPr>
                          <p:cNvPr id="2316" name=""/>
                          <p:cNvGrpSpPr/>
                          <p:nvPr/>
                        </p:nvGrpSpPr>
                        <p:grpSpPr>
                          <a:xfrm>
                            <a:off x="7246800" y="4720680"/>
                            <a:ext cx="15480" cy="17640"/>
                            <a:chOff x="7246800" y="4720680"/>
                            <a:chExt cx="15480" cy="17640"/>
                          </a:xfrm>
                        </p:grpSpPr>
                        <p:grpSp>
                          <p:nvGrpSpPr>
                            <p:cNvPr id="2317" name=""/>
                            <p:cNvGrpSpPr/>
                            <p:nvPr/>
                          </p:nvGrpSpPr>
                          <p:grpSpPr>
                            <a:xfrm>
                              <a:off x="7246800" y="4720680"/>
                              <a:ext cx="5040" cy="17640"/>
                              <a:chOff x="7246800" y="4720680"/>
                              <a:chExt cx="5040" cy="17640"/>
                            </a:xfrm>
                          </p:grpSpPr>
                          <p:sp>
                            <p:nvSpPr>
                              <p:cNvPr id="2318" name=""/>
                              <p:cNvSpPr/>
                              <p:nvPr/>
                            </p:nvSpPr>
                            <p:spPr>
                              <a:xfrm>
                                <a:off x="72468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9" name=""/>
                              <p:cNvSpPr/>
                              <p:nvPr/>
                            </p:nvSpPr>
                            <p:spPr>
                              <a:xfrm>
                                <a:off x="72514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20" name=""/>
                            <p:cNvGrpSpPr/>
                            <p:nvPr/>
                          </p:nvGrpSpPr>
                          <p:grpSpPr>
                            <a:xfrm>
                              <a:off x="7257240" y="4720680"/>
                              <a:ext cx="5040" cy="17640"/>
                              <a:chOff x="7257240" y="4720680"/>
                              <a:chExt cx="5040" cy="17640"/>
                            </a:xfrm>
                          </p:grpSpPr>
                          <p:sp>
                            <p:nvSpPr>
                              <p:cNvPr id="2321" name=""/>
                              <p:cNvSpPr/>
                              <p:nvPr/>
                            </p:nvSpPr>
                            <p:spPr>
                              <a:xfrm>
                                <a:off x="72572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2" name=""/>
                              <p:cNvSpPr/>
                              <p:nvPr/>
                            </p:nvSpPr>
                            <p:spPr>
                              <a:xfrm>
                                <a:off x="7261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23" name=""/>
                          <p:cNvGrpSpPr/>
                          <p:nvPr/>
                        </p:nvGrpSpPr>
                        <p:grpSpPr>
                          <a:xfrm>
                            <a:off x="7266600" y="4720680"/>
                            <a:ext cx="20880" cy="17640"/>
                            <a:chOff x="7266600" y="4720680"/>
                            <a:chExt cx="20880" cy="17640"/>
                          </a:xfrm>
                        </p:grpSpPr>
                        <p:grpSp>
                          <p:nvGrpSpPr>
                            <p:cNvPr id="2324" name=""/>
                            <p:cNvGrpSpPr/>
                            <p:nvPr/>
                          </p:nvGrpSpPr>
                          <p:grpSpPr>
                            <a:xfrm>
                              <a:off x="7266600" y="4720680"/>
                              <a:ext cx="16920" cy="17640"/>
                              <a:chOff x="7266600" y="4720680"/>
                              <a:chExt cx="16920" cy="17640"/>
                            </a:xfrm>
                          </p:grpSpPr>
                          <p:sp>
                            <p:nvSpPr>
                              <p:cNvPr id="2325" name=""/>
                              <p:cNvSpPr/>
                              <p:nvPr/>
                            </p:nvSpPr>
                            <p:spPr>
                              <a:xfrm>
                                <a:off x="72666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6" name=""/>
                              <p:cNvSpPr/>
                              <p:nvPr/>
                            </p:nvSpPr>
                            <p:spPr>
                              <a:xfrm>
                                <a:off x="72720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27" name=""/>
                            <p:cNvGrpSpPr/>
                            <p:nvPr/>
                          </p:nvGrpSpPr>
                          <p:grpSpPr>
                            <a:xfrm>
                              <a:off x="7275960" y="4720680"/>
                              <a:ext cx="11520" cy="17640"/>
                              <a:chOff x="7275960" y="4720680"/>
                              <a:chExt cx="11520" cy="17640"/>
                            </a:xfrm>
                          </p:grpSpPr>
                          <p:sp>
                            <p:nvSpPr>
                              <p:cNvPr id="2328" name=""/>
                              <p:cNvSpPr/>
                              <p:nvPr/>
                            </p:nvSpPr>
                            <p:spPr>
                              <a:xfrm>
                                <a:off x="72759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9" name=""/>
                              <p:cNvSpPr/>
                              <p:nvPr/>
                            </p:nvSpPr>
                            <p:spPr>
                              <a:xfrm>
                                <a:off x="72813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330" name=""/>
                    <p:cNvGrpSpPr/>
                    <p:nvPr/>
                  </p:nvGrpSpPr>
                  <p:grpSpPr>
                    <a:xfrm>
                      <a:off x="7287120" y="4720680"/>
                      <a:ext cx="166320" cy="17640"/>
                      <a:chOff x="7287120" y="4720680"/>
                      <a:chExt cx="166320" cy="17640"/>
                    </a:xfrm>
                  </p:grpSpPr>
                  <p:grpSp>
                    <p:nvGrpSpPr>
                      <p:cNvPr id="2331" name=""/>
                      <p:cNvGrpSpPr/>
                      <p:nvPr/>
                    </p:nvGrpSpPr>
                    <p:grpSpPr>
                      <a:xfrm>
                        <a:off x="7287120" y="4720680"/>
                        <a:ext cx="85680" cy="17640"/>
                        <a:chOff x="7287120" y="4720680"/>
                        <a:chExt cx="85680" cy="17640"/>
                      </a:xfrm>
                    </p:grpSpPr>
                    <p:grpSp>
                      <p:nvGrpSpPr>
                        <p:cNvPr id="2332" name=""/>
                        <p:cNvGrpSpPr/>
                        <p:nvPr/>
                      </p:nvGrpSpPr>
                      <p:grpSpPr>
                        <a:xfrm>
                          <a:off x="7287120" y="4720680"/>
                          <a:ext cx="36000" cy="17640"/>
                          <a:chOff x="7287120" y="4720680"/>
                          <a:chExt cx="36000" cy="17640"/>
                        </a:xfrm>
                      </p:grpSpPr>
                      <p:grpSp>
                        <p:nvGrpSpPr>
                          <p:cNvPr id="2333" name=""/>
                          <p:cNvGrpSpPr/>
                          <p:nvPr/>
                        </p:nvGrpSpPr>
                        <p:grpSpPr>
                          <a:xfrm>
                            <a:off x="7287120" y="4720680"/>
                            <a:ext cx="15480" cy="17640"/>
                            <a:chOff x="7287120" y="4720680"/>
                            <a:chExt cx="15480" cy="17640"/>
                          </a:xfrm>
                        </p:grpSpPr>
                        <p:grpSp>
                          <p:nvGrpSpPr>
                            <p:cNvPr id="2334" name=""/>
                            <p:cNvGrpSpPr/>
                            <p:nvPr/>
                          </p:nvGrpSpPr>
                          <p:grpSpPr>
                            <a:xfrm>
                              <a:off x="7287120" y="4720680"/>
                              <a:ext cx="5040" cy="17640"/>
                              <a:chOff x="7287120" y="4720680"/>
                              <a:chExt cx="5040" cy="17640"/>
                            </a:xfrm>
                          </p:grpSpPr>
                          <p:sp>
                            <p:nvSpPr>
                              <p:cNvPr id="2335" name=""/>
                              <p:cNvSpPr/>
                              <p:nvPr/>
                            </p:nvSpPr>
                            <p:spPr>
                              <a:xfrm>
                                <a:off x="72871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36" name=""/>
                              <p:cNvSpPr/>
                              <p:nvPr/>
                            </p:nvSpPr>
                            <p:spPr>
                              <a:xfrm>
                                <a:off x="72918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37" name=""/>
                            <p:cNvGrpSpPr/>
                            <p:nvPr/>
                          </p:nvGrpSpPr>
                          <p:grpSpPr>
                            <a:xfrm>
                              <a:off x="7297560" y="4720680"/>
                              <a:ext cx="5040" cy="17640"/>
                              <a:chOff x="7297560" y="4720680"/>
                              <a:chExt cx="5040" cy="17640"/>
                            </a:xfrm>
                          </p:grpSpPr>
                          <p:sp>
                            <p:nvSpPr>
                              <p:cNvPr id="2338" name=""/>
                              <p:cNvSpPr/>
                              <p:nvPr/>
                            </p:nvSpPr>
                            <p:spPr>
                              <a:xfrm>
                                <a:off x="72975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39" name=""/>
                              <p:cNvSpPr/>
                              <p:nvPr/>
                            </p:nvSpPr>
                            <p:spPr>
                              <a:xfrm>
                                <a:off x="73022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40" name=""/>
                          <p:cNvGrpSpPr/>
                          <p:nvPr/>
                        </p:nvGrpSpPr>
                        <p:grpSpPr>
                          <a:xfrm>
                            <a:off x="7306920" y="4720680"/>
                            <a:ext cx="16200" cy="17640"/>
                            <a:chOff x="7306920" y="4720680"/>
                            <a:chExt cx="16200" cy="17640"/>
                          </a:xfrm>
                        </p:grpSpPr>
                        <p:grpSp>
                          <p:nvGrpSpPr>
                            <p:cNvPr id="2341" name=""/>
                            <p:cNvGrpSpPr/>
                            <p:nvPr/>
                          </p:nvGrpSpPr>
                          <p:grpSpPr>
                            <a:xfrm>
                              <a:off x="7306920" y="4720680"/>
                              <a:ext cx="16200" cy="17640"/>
                              <a:chOff x="7306920" y="4720680"/>
                              <a:chExt cx="16200" cy="17640"/>
                            </a:xfrm>
                          </p:grpSpPr>
                          <p:sp>
                            <p:nvSpPr>
                              <p:cNvPr id="2342" name=""/>
                              <p:cNvSpPr/>
                              <p:nvPr/>
                            </p:nvSpPr>
                            <p:spPr>
                              <a:xfrm>
                                <a:off x="7306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43" name=""/>
                              <p:cNvSpPr/>
                              <p:nvPr/>
                            </p:nvSpPr>
                            <p:spPr>
                              <a:xfrm>
                                <a:off x="73116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44" name=""/>
                            <p:cNvGrpSpPr/>
                            <p:nvPr/>
                          </p:nvGrpSpPr>
                          <p:grpSpPr>
                            <a:xfrm>
                              <a:off x="7317000" y="4720680"/>
                              <a:ext cx="5040" cy="17640"/>
                              <a:chOff x="7317000" y="4720680"/>
                              <a:chExt cx="5040" cy="17640"/>
                            </a:xfrm>
                          </p:grpSpPr>
                          <p:sp>
                            <p:nvSpPr>
                              <p:cNvPr id="2345" name=""/>
                              <p:cNvSpPr/>
                              <p:nvPr/>
                            </p:nvSpPr>
                            <p:spPr>
                              <a:xfrm>
                                <a:off x="73170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46" name=""/>
                              <p:cNvSpPr/>
                              <p:nvPr/>
                            </p:nvSpPr>
                            <p:spPr>
                              <a:xfrm>
                                <a:off x="73216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347" name=""/>
                        <p:cNvGrpSpPr/>
                        <p:nvPr/>
                      </p:nvGrpSpPr>
                      <p:grpSpPr>
                        <a:xfrm>
                          <a:off x="7326720" y="4720680"/>
                          <a:ext cx="46080" cy="17640"/>
                          <a:chOff x="7326720" y="4720680"/>
                          <a:chExt cx="46080" cy="17640"/>
                        </a:xfrm>
                      </p:grpSpPr>
                      <p:grpSp>
                        <p:nvGrpSpPr>
                          <p:cNvPr id="2348" name=""/>
                          <p:cNvGrpSpPr/>
                          <p:nvPr/>
                        </p:nvGrpSpPr>
                        <p:grpSpPr>
                          <a:xfrm>
                            <a:off x="7326720" y="4720680"/>
                            <a:ext cx="16200" cy="17640"/>
                            <a:chOff x="7326720" y="4720680"/>
                            <a:chExt cx="16200" cy="17640"/>
                          </a:xfrm>
                        </p:grpSpPr>
                        <p:grpSp>
                          <p:nvGrpSpPr>
                            <p:cNvPr id="2349" name=""/>
                            <p:cNvGrpSpPr/>
                            <p:nvPr/>
                          </p:nvGrpSpPr>
                          <p:grpSpPr>
                            <a:xfrm>
                              <a:off x="7326720" y="4720680"/>
                              <a:ext cx="16200" cy="17640"/>
                              <a:chOff x="7326720" y="4720680"/>
                              <a:chExt cx="16200" cy="17640"/>
                            </a:xfrm>
                          </p:grpSpPr>
                          <p:sp>
                            <p:nvSpPr>
                              <p:cNvPr id="2350" name=""/>
                              <p:cNvSpPr/>
                              <p:nvPr/>
                            </p:nvSpPr>
                            <p:spPr>
                              <a:xfrm>
                                <a:off x="7326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1" name=""/>
                              <p:cNvSpPr/>
                              <p:nvPr/>
                            </p:nvSpPr>
                            <p:spPr>
                              <a:xfrm>
                                <a:off x="73314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2" name=""/>
                            <p:cNvGrpSpPr/>
                            <p:nvPr/>
                          </p:nvGrpSpPr>
                          <p:grpSpPr>
                            <a:xfrm>
                              <a:off x="7337160" y="4720680"/>
                              <a:ext cx="5400" cy="17640"/>
                              <a:chOff x="7337160" y="4720680"/>
                              <a:chExt cx="5400" cy="17640"/>
                            </a:xfrm>
                          </p:grpSpPr>
                          <p:sp>
                            <p:nvSpPr>
                              <p:cNvPr id="2353" name=""/>
                              <p:cNvSpPr/>
                              <p:nvPr/>
                            </p:nvSpPr>
                            <p:spPr>
                              <a:xfrm>
                                <a:off x="73371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4" name=""/>
                              <p:cNvSpPr/>
                              <p:nvPr/>
                            </p:nvSpPr>
                            <p:spPr>
                              <a:xfrm>
                                <a:off x="73418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55" name=""/>
                          <p:cNvGrpSpPr/>
                          <p:nvPr/>
                        </p:nvGrpSpPr>
                        <p:grpSpPr>
                          <a:xfrm>
                            <a:off x="7346520" y="4720680"/>
                            <a:ext cx="26280" cy="17640"/>
                            <a:chOff x="7346520" y="4720680"/>
                            <a:chExt cx="26280" cy="17640"/>
                          </a:xfrm>
                        </p:grpSpPr>
                        <p:grpSp>
                          <p:nvGrpSpPr>
                            <p:cNvPr id="2356" name=""/>
                            <p:cNvGrpSpPr/>
                            <p:nvPr/>
                          </p:nvGrpSpPr>
                          <p:grpSpPr>
                            <a:xfrm>
                              <a:off x="7346520" y="4720680"/>
                              <a:ext cx="11520" cy="17640"/>
                              <a:chOff x="7346520" y="4720680"/>
                              <a:chExt cx="11520" cy="17640"/>
                            </a:xfrm>
                          </p:grpSpPr>
                          <p:sp>
                            <p:nvSpPr>
                              <p:cNvPr id="2357" name=""/>
                              <p:cNvSpPr/>
                              <p:nvPr/>
                            </p:nvSpPr>
                            <p:spPr>
                              <a:xfrm>
                                <a:off x="7346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8" name=""/>
                              <p:cNvSpPr/>
                              <p:nvPr/>
                            </p:nvSpPr>
                            <p:spPr>
                              <a:xfrm>
                                <a:off x="7351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9" name=""/>
                            <p:cNvGrpSpPr/>
                            <p:nvPr/>
                          </p:nvGrpSpPr>
                          <p:grpSpPr>
                            <a:xfrm>
                              <a:off x="7355880" y="4720680"/>
                              <a:ext cx="16920" cy="17640"/>
                              <a:chOff x="7355880" y="4720680"/>
                              <a:chExt cx="16920" cy="17640"/>
                            </a:xfrm>
                          </p:grpSpPr>
                          <p:sp>
                            <p:nvSpPr>
                              <p:cNvPr id="2360" name=""/>
                              <p:cNvSpPr/>
                              <p:nvPr/>
                            </p:nvSpPr>
                            <p:spPr>
                              <a:xfrm>
                                <a:off x="73558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1" name=""/>
                              <p:cNvSpPr/>
                              <p:nvPr/>
                            </p:nvSpPr>
                            <p:spPr>
                              <a:xfrm>
                                <a:off x="73612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362" name=""/>
                      <p:cNvGrpSpPr/>
                      <p:nvPr/>
                    </p:nvGrpSpPr>
                    <p:grpSpPr>
                      <a:xfrm>
                        <a:off x="7367040" y="4720680"/>
                        <a:ext cx="86400" cy="17640"/>
                        <a:chOff x="7367040" y="4720680"/>
                        <a:chExt cx="86400" cy="17640"/>
                      </a:xfrm>
                    </p:grpSpPr>
                    <p:grpSp>
                      <p:nvGrpSpPr>
                        <p:cNvPr id="2363" name=""/>
                        <p:cNvGrpSpPr/>
                        <p:nvPr/>
                      </p:nvGrpSpPr>
                      <p:grpSpPr>
                        <a:xfrm>
                          <a:off x="7367040" y="4720680"/>
                          <a:ext cx="41400" cy="17640"/>
                          <a:chOff x="7367040" y="4720680"/>
                          <a:chExt cx="41400" cy="17640"/>
                        </a:xfrm>
                      </p:grpSpPr>
                      <p:grpSp>
                        <p:nvGrpSpPr>
                          <p:cNvPr id="2364" name=""/>
                          <p:cNvGrpSpPr/>
                          <p:nvPr/>
                        </p:nvGrpSpPr>
                        <p:grpSpPr>
                          <a:xfrm>
                            <a:off x="7367040" y="4720680"/>
                            <a:ext cx="21600" cy="17640"/>
                            <a:chOff x="7367040" y="4720680"/>
                            <a:chExt cx="21600" cy="17640"/>
                          </a:xfrm>
                        </p:grpSpPr>
                        <p:grpSp>
                          <p:nvGrpSpPr>
                            <p:cNvPr id="2365" name=""/>
                            <p:cNvGrpSpPr/>
                            <p:nvPr/>
                          </p:nvGrpSpPr>
                          <p:grpSpPr>
                            <a:xfrm>
                              <a:off x="7367040" y="4720680"/>
                              <a:ext cx="16200" cy="17640"/>
                              <a:chOff x="7367040" y="4720680"/>
                              <a:chExt cx="16200" cy="17640"/>
                            </a:xfrm>
                          </p:grpSpPr>
                          <p:sp>
                            <p:nvSpPr>
                              <p:cNvPr id="2366" name=""/>
                              <p:cNvSpPr/>
                              <p:nvPr/>
                            </p:nvSpPr>
                            <p:spPr>
                              <a:xfrm>
                                <a:off x="73670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7" name=""/>
                              <p:cNvSpPr/>
                              <p:nvPr/>
                            </p:nvSpPr>
                            <p:spPr>
                              <a:xfrm>
                                <a:off x="7371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68" name=""/>
                            <p:cNvGrpSpPr/>
                            <p:nvPr/>
                          </p:nvGrpSpPr>
                          <p:grpSpPr>
                            <a:xfrm>
                              <a:off x="7377120" y="4720680"/>
                              <a:ext cx="11520" cy="17640"/>
                              <a:chOff x="7377120" y="4720680"/>
                              <a:chExt cx="11520" cy="17640"/>
                            </a:xfrm>
                          </p:grpSpPr>
                          <p:sp>
                            <p:nvSpPr>
                              <p:cNvPr id="2369" name=""/>
                              <p:cNvSpPr/>
                              <p:nvPr/>
                            </p:nvSpPr>
                            <p:spPr>
                              <a:xfrm>
                                <a:off x="7377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0" name=""/>
                              <p:cNvSpPr/>
                              <p:nvPr/>
                            </p:nvSpPr>
                            <p:spPr>
                              <a:xfrm>
                                <a:off x="73818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71" name=""/>
                          <p:cNvGrpSpPr/>
                          <p:nvPr/>
                        </p:nvGrpSpPr>
                        <p:grpSpPr>
                          <a:xfrm>
                            <a:off x="7386840" y="4720680"/>
                            <a:ext cx="21600" cy="17640"/>
                            <a:chOff x="7386840" y="4720680"/>
                            <a:chExt cx="21600" cy="17640"/>
                          </a:xfrm>
                        </p:grpSpPr>
                        <p:grpSp>
                          <p:nvGrpSpPr>
                            <p:cNvPr id="2372" name=""/>
                            <p:cNvGrpSpPr/>
                            <p:nvPr/>
                          </p:nvGrpSpPr>
                          <p:grpSpPr>
                            <a:xfrm>
                              <a:off x="7386840" y="4720680"/>
                              <a:ext cx="16200" cy="17640"/>
                              <a:chOff x="7386840" y="4720680"/>
                              <a:chExt cx="16200" cy="17640"/>
                            </a:xfrm>
                          </p:grpSpPr>
                          <p:sp>
                            <p:nvSpPr>
                              <p:cNvPr id="2373" name=""/>
                              <p:cNvSpPr/>
                              <p:nvPr/>
                            </p:nvSpPr>
                            <p:spPr>
                              <a:xfrm>
                                <a:off x="73868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4" name=""/>
                              <p:cNvSpPr/>
                              <p:nvPr/>
                            </p:nvSpPr>
                            <p:spPr>
                              <a:xfrm>
                                <a:off x="7391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75" name=""/>
                            <p:cNvGrpSpPr/>
                            <p:nvPr/>
                          </p:nvGrpSpPr>
                          <p:grpSpPr>
                            <a:xfrm>
                              <a:off x="7396920" y="4720680"/>
                              <a:ext cx="11520" cy="17640"/>
                              <a:chOff x="7396920" y="4720680"/>
                              <a:chExt cx="11520" cy="17640"/>
                            </a:xfrm>
                          </p:grpSpPr>
                          <p:sp>
                            <p:nvSpPr>
                              <p:cNvPr id="2376" name=""/>
                              <p:cNvSpPr/>
                              <p:nvPr/>
                            </p:nvSpPr>
                            <p:spPr>
                              <a:xfrm>
                                <a:off x="73969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7" name=""/>
                              <p:cNvSpPr/>
                              <p:nvPr/>
                            </p:nvSpPr>
                            <p:spPr>
                              <a:xfrm>
                                <a:off x="74016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378" name=""/>
                        <p:cNvGrpSpPr/>
                        <p:nvPr/>
                      </p:nvGrpSpPr>
                      <p:grpSpPr>
                        <a:xfrm>
                          <a:off x="7407720" y="4720680"/>
                          <a:ext cx="45720" cy="17640"/>
                          <a:chOff x="7407720" y="4720680"/>
                          <a:chExt cx="45720" cy="17640"/>
                        </a:xfrm>
                      </p:grpSpPr>
                      <p:grpSp>
                        <p:nvGrpSpPr>
                          <p:cNvPr id="2379" name=""/>
                          <p:cNvGrpSpPr/>
                          <p:nvPr/>
                        </p:nvGrpSpPr>
                        <p:grpSpPr>
                          <a:xfrm>
                            <a:off x="7407720" y="4720680"/>
                            <a:ext cx="14760" cy="17640"/>
                            <a:chOff x="7407720" y="4720680"/>
                            <a:chExt cx="14760" cy="17640"/>
                          </a:xfrm>
                        </p:grpSpPr>
                        <p:grpSp>
                          <p:nvGrpSpPr>
                            <p:cNvPr id="2380" name=""/>
                            <p:cNvGrpSpPr/>
                            <p:nvPr/>
                          </p:nvGrpSpPr>
                          <p:grpSpPr>
                            <a:xfrm>
                              <a:off x="7407720" y="4720680"/>
                              <a:ext cx="4320" cy="17640"/>
                              <a:chOff x="7407720" y="4720680"/>
                              <a:chExt cx="4320" cy="17640"/>
                            </a:xfrm>
                          </p:grpSpPr>
                          <p:sp>
                            <p:nvSpPr>
                              <p:cNvPr id="2381" name=""/>
                              <p:cNvSpPr/>
                              <p:nvPr/>
                            </p:nvSpPr>
                            <p:spPr>
                              <a:xfrm>
                                <a:off x="74077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2" name=""/>
                              <p:cNvSpPr/>
                              <p:nvPr/>
                            </p:nvSpPr>
                            <p:spPr>
                              <a:xfrm>
                                <a:off x="74116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83" name=""/>
                            <p:cNvGrpSpPr/>
                            <p:nvPr/>
                          </p:nvGrpSpPr>
                          <p:grpSpPr>
                            <a:xfrm>
                              <a:off x="7417440" y="4720680"/>
                              <a:ext cx="5040" cy="17640"/>
                              <a:chOff x="7417440" y="4720680"/>
                              <a:chExt cx="5040" cy="17640"/>
                            </a:xfrm>
                          </p:grpSpPr>
                          <p:sp>
                            <p:nvSpPr>
                              <p:cNvPr id="2384" name=""/>
                              <p:cNvSpPr/>
                              <p:nvPr/>
                            </p:nvSpPr>
                            <p:spPr>
                              <a:xfrm>
                                <a:off x="7417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5" name=""/>
                              <p:cNvSpPr/>
                              <p:nvPr/>
                            </p:nvSpPr>
                            <p:spPr>
                              <a:xfrm>
                                <a:off x="74221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86" name=""/>
                          <p:cNvGrpSpPr/>
                          <p:nvPr/>
                        </p:nvGrpSpPr>
                        <p:grpSpPr>
                          <a:xfrm>
                            <a:off x="7427160" y="4720680"/>
                            <a:ext cx="26280" cy="17640"/>
                            <a:chOff x="7427160" y="4720680"/>
                            <a:chExt cx="26280" cy="17640"/>
                          </a:xfrm>
                        </p:grpSpPr>
                        <p:grpSp>
                          <p:nvGrpSpPr>
                            <p:cNvPr id="2387" name=""/>
                            <p:cNvGrpSpPr/>
                            <p:nvPr/>
                          </p:nvGrpSpPr>
                          <p:grpSpPr>
                            <a:xfrm>
                              <a:off x="7427160" y="4720680"/>
                              <a:ext cx="11520" cy="17640"/>
                              <a:chOff x="7427160" y="4720680"/>
                              <a:chExt cx="11520" cy="17640"/>
                            </a:xfrm>
                          </p:grpSpPr>
                          <p:sp>
                            <p:nvSpPr>
                              <p:cNvPr id="2388" name=""/>
                              <p:cNvSpPr/>
                              <p:nvPr/>
                            </p:nvSpPr>
                            <p:spPr>
                              <a:xfrm>
                                <a:off x="74271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9" name=""/>
                              <p:cNvSpPr/>
                              <p:nvPr/>
                            </p:nvSpPr>
                            <p:spPr>
                              <a:xfrm>
                                <a:off x="74325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90" name=""/>
                            <p:cNvGrpSpPr/>
                            <p:nvPr/>
                          </p:nvGrpSpPr>
                          <p:grpSpPr>
                            <a:xfrm>
                              <a:off x="7437240" y="4720680"/>
                              <a:ext cx="16200" cy="17640"/>
                              <a:chOff x="7437240" y="4720680"/>
                              <a:chExt cx="16200" cy="17640"/>
                            </a:xfrm>
                          </p:grpSpPr>
                          <p:sp>
                            <p:nvSpPr>
                              <p:cNvPr id="2391" name=""/>
                              <p:cNvSpPr/>
                              <p:nvPr/>
                            </p:nvSpPr>
                            <p:spPr>
                              <a:xfrm>
                                <a:off x="74372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2" name=""/>
                              <p:cNvSpPr/>
                              <p:nvPr/>
                            </p:nvSpPr>
                            <p:spPr>
                              <a:xfrm>
                                <a:off x="74419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2393" name=""/>
                <p:cNvGrpSpPr/>
                <p:nvPr/>
              </p:nvGrpSpPr>
              <p:grpSpPr>
                <a:xfrm>
                  <a:off x="7124040" y="4660560"/>
                  <a:ext cx="315000" cy="41760"/>
                  <a:chOff x="7124040" y="4660560"/>
                  <a:chExt cx="315000" cy="4176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>
                    <a:off x="7124040" y="46605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7193520" y="46605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7291800" y="46605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7399080" y="46605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8" name=""/>
              <p:cNvGrpSpPr/>
              <p:nvPr/>
            </p:nvGrpSpPr>
            <p:grpSpPr>
              <a:xfrm>
                <a:off x="7404120" y="4665600"/>
                <a:ext cx="25200" cy="19440"/>
                <a:chOff x="7404120" y="4665600"/>
                <a:chExt cx="25200" cy="1944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7418520" y="46656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20320" y="46728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1" name=""/>
                <p:cNvGrpSpPr/>
                <p:nvPr/>
              </p:nvGrpSpPr>
              <p:grpSpPr>
                <a:xfrm>
                  <a:off x="7404120" y="4668120"/>
                  <a:ext cx="5400" cy="16920"/>
                  <a:chOff x="7404120" y="4668120"/>
                  <a:chExt cx="5400" cy="16920"/>
                </a:xfrm>
              </p:grpSpPr>
              <p:sp>
                <p:nvSpPr>
                  <p:cNvPr id="2402" name=""/>
                  <p:cNvSpPr/>
                  <p:nvPr/>
                </p:nvSpPr>
                <p:spPr>
                  <a:xfrm>
                    <a:off x="7404120" y="4668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7404120" y="46807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4" name=""/>
              <p:cNvGrpSpPr/>
              <p:nvPr/>
            </p:nvGrpSpPr>
            <p:grpSpPr>
              <a:xfrm>
                <a:off x="7197480" y="4666680"/>
                <a:ext cx="85680" cy="27720"/>
                <a:chOff x="7197480" y="4666680"/>
                <a:chExt cx="85680" cy="27720"/>
              </a:xfrm>
            </p:grpSpPr>
            <p:grpSp>
              <p:nvGrpSpPr>
                <p:cNvPr id="2405" name=""/>
                <p:cNvGrpSpPr/>
                <p:nvPr/>
              </p:nvGrpSpPr>
              <p:grpSpPr>
                <a:xfrm>
                  <a:off x="7198200" y="4666680"/>
                  <a:ext cx="84960" cy="15480"/>
                  <a:chOff x="7198200" y="4666680"/>
                  <a:chExt cx="84960" cy="15480"/>
                </a:xfrm>
              </p:grpSpPr>
              <p:sp>
                <p:nvSpPr>
                  <p:cNvPr id="2406" name=""/>
                  <p:cNvSpPr/>
                  <p:nvPr/>
                </p:nvSpPr>
                <p:spPr>
                  <a:xfrm>
                    <a:off x="7226640" y="46666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7226640" y="46742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7198200" y="46731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9" name=""/>
                <p:cNvSpPr/>
                <p:nvPr/>
              </p:nvSpPr>
              <p:spPr>
                <a:xfrm>
                  <a:off x="7197480" y="46681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270920" y="46900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7127640" y="4693320"/>
                <a:ext cx="67320" cy="9360"/>
                <a:chOff x="7127640" y="4693320"/>
                <a:chExt cx="67320" cy="9360"/>
              </a:xfrm>
            </p:grpSpPr>
            <p:grpSp>
              <p:nvGrpSpPr>
                <p:cNvPr id="2412" name=""/>
                <p:cNvGrpSpPr/>
                <p:nvPr/>
              </p:nvGrpSpPr>
              <p:grpSpPr>
                <a:xfrm>
                  <a:off x="7127640" y="4693320"/>
                  <a:ext cx="37080" cy="9360"/>
                  <a:chOff x="7127640" y="4693320"/>
                  <a:chExt cx="37080" cy="9360"/>
                </a:xfrm>
              </p:grpSpPr>
              <p:grpSp>
                <p:nvGrpSpPr>
                  <p:cNvPr id="2413" name=""/>
                  <p:cNvGrpSpPr/>
                  <p:nvPr/>
                </p:nvGrpSpPr>
                <p:grpSpPr>
                  <a:xfrm>
                    <a:off x="7127640" y="4693320"/>
                    <a:ext cx="23040" cy="9360"/>
                    <a:chOff x="7127640" y="4693320"/>
                    <a:chExt cx="23040" cy="9360"/>
                  </a:xfrm>
                </p:grpSpPr>
                <p:grpSp>
                  <p:nvGrpSpPr>
                    <p:cNvPr id="2414" name=""/>
                    <p:cNvGrpSpPr/>
                    <p:nvPr/>
                  </p:nvGrpSpPr>
                  <p:grpSpPr>
                    <a:xfrm>
                      <a:off x="7127640" y="4693320"/>
                      <a:ext cx="14760" cy="9360"/>
                      <a:chOff x="7127640" y="4693320"/>
                      <a:chExt cx="14760" cy="9360"/>
                    </a:xfrm>
                  </p:grpSpPr>
                  <p:sp>
                    <p:nvSpPr>
                      <p:cNvPr id="2415" name=""/>
                      <p:cNvSpPr/>
                      <p:nvPr/>
                    </p:nvSpPr>
                    <p:spPr>
                      <a:xfrm>
                        <a:off x="71276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6" name=""/>
                      <p:cNvSpPr/>
                      <p:nvPr/>
                    </p:nvSpPr>
                    <p:spPr>
                      <a:xfrm>
                        <a:off x="71308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17" name=""/>
                    <p:cNvGrpSpPr/>
                    <p:nvPr/>
                  </p:nvGrpSpPr>
                  <p:grpSpPr>
                    <a:xfrm>
                      <a:off x="7134480" y="4693320"/>
                      <a:ext cx="16200" cy="9360"/>
                      <a:chOff x="7134480" y="4693320"/>
                      <a:chExt cx="16200" cy="9360"/>
                    </a:xfrm>
                  </p:grpSpPr>
                  <p:sp>
                    <p:nvSpPr>
                      <p:cNvPr id="2418" name=""/>
                      <p:cNvSpPr/>
                      <p:nvPr/>
                    </p:nvSpPr>
                    <p:spPr>
                      <a:xfrm>
                        <a:off x="71344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9" name=""/>
                      <p:cNvSpPr/>
                      <p:nvPr/>
                    </p:nvSpPr>
                    <p:spPr>
                      <a:xfrm>
                        <a:off x="713880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20" name=""/>
                  <p:cNvGrpSpPr/>
                  <p:nvPr/>
                </p:nvGrpSpPr>
                <p:grpSpPr>
                  <a:xfrm>
                    <a:off x="7142040" y="4693320"/>
                    <a:ext cx="22680" cy="9360"/>
                    <a:chOff x="7142040" y="4693320"/>
                    <a:chExt cx="22680" cy="9360"/>
                  </a:xfrm>
                </p:grpSpPr>
                <p:grpSp>
                  <p:nvGrpSpPr>
                    <p:cNvPr id="2421" name=""/>
                    <p:cNvGrpSpPr/>
                    <p:nvPr/>
                  </p:nvGrpSpPr>
                  <p:grpSpPr>
                    <a:xfrm>
                      <a:off x="7142040" y="4693320"/>
                      <a:ext cx="14760" cy="9360"/>
                      <a:chOff x="7142040" y="4693320"/>
                      <a:chExt cx="14760" cy="9360"/>
                    </a:xfrm>
                  </p:grpSpPr>
                  <p:sp>
                    <p:nvSpPr>
                      <p:cNvPr id="2422" name=""/>
                      <p:cNvSpPr/>
                      <p:nvPr/>
                    </p:nvSpPr>
                    <p:spPr>
                      <a:xfrm>
                        <a:off x="71420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3" name=""/>
                      <p:cNvSpPr/>
                      <p:nvPr/>
                    </p:nvSpPr>
                    <p:spPr>
                      <a:xfrm>
                        <a:off x="71452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4" name=""/>
                    <p:cNvGrpSpPr/>
                    <p:nvPr/>
                  </p:nvGrpSpPr>
                  <p:grpSpPr>
                    <a:xfrm>
                      <a:off x="7149240" y="4693320"/>
                      <a:ext cx="15480" cy="9360"/>
                      <a:chOff x="7149240" y="4693320"/>
                      <a:chExt cx="15480" cy="9360"/>
                    </a:xfrm>
                  </p:grpSpPr>
                  <p:sp>
                    <p:nvSpPr>
                      <p:cNvPr id="2425" name=""/>
                      <p:cNvSpPr/>
                      <p:nvPr/>
                    </p:nvSpPr>
                    <p:spPr>
                      <a:xfrm>
                        <a:off x="71492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6" name=""/>
                      <p:cNvSpPr/>
                      <p:nvPr/>
                    </p:nvSpPr>
                    <p:spPr>
                      <a:xfrm>
                        <a:off x="715320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7157160" y="4693320"/>
                  <a:ext cx="37800" cy="9360"/>
                  <a:chOff x="7157160" y="4693320"/>
                  <a:chExt cx="37800" cy="9360"/>
                </a:xfrm>
              </p:grpSpPr>
              <p:grpSp>
                <p:nvGrpSpPr>
                  <p:cNvPr id="2428" name=""/>
                  <p:cNvGrpSpPr/>
                  <p:nvPr/>
                </p:nvGrpSpPr>
                <p:grpSpPr>
                  <a:xfrm>
                    <a:off x="7157160" y="4693320"/>
                    <a:ext cx="23040" cy="9360"/>
                    <a:chOff x="7157160" y="4693320"/>
                    <a:chExt cx="23040" cy="9360"/>
                  </a:xfrm>
                </p:grpSpPr>
                <p:grpSp>
                  <p:nvGrpSpPr>
                    <p:cNvPr id="2429" name=""/>
                    <p:cNvGrpSpPr/>
                    <p:nvPr/>
                  </p:nvGrpSpPr>
                  <p:grpSpPr>
                    <a:xfrm>
                      <a:off x="7157160" y="4693320"/>
                      <a:ext cx="15840" cy="9360"/>
                      <a:chOff x="7157160" y="4693320"/>
                      <a:chExt cx="15840" cy="9360"/>
                    </a:xfrm>
                  </p:grpSpPr>
                  <p:sp>
                    <p:nvSpPr>
                      <p:cNvPr id="2430" name=""/>
                      <p:cNvSpPr/>
                      <p:nvPr/>
                    </p:nvSpPr>
                    <p:spPr>
                      <a:xfrm>
                        <a:off x="71571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1" name=""/>
                      <p:cNvSpPr/>
                      <p:nvPr/>
                    </p:nvSpPr>
                    <p:spPr>
                      <a:xfrm>
                        <a:off x="716112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2" name=""/>
                    <p:cNvGrpSpPr/>
                    <p:nvPr/>
                  </p:nvGrpSpPr>
                  <p:grpSpPr>
                    <a:xfrm>
                      <a:off x="7165440" y="4693320"/>
                      <a:ext cx="14760" cy="9360"/>
                      <a:chOff x="7165440" y="4693320"/>
                      <a:chExt cx="14760" cy="9360"/>
                    </a:xfrm>
                  </p:grpSpPr>
                  <p:sp>
                    <p:nvSpPr>
                      <p:cNvPr id="2433" name=""/>
                      <p:cNvSpPr/>
                      <p:nvPr/>
                    </p:nvSpPr>
                    <p:spPr>
                      <a:xfrm>
                        <a:off x="71654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4" name=""/>
                      <p:cNvSpPr/>
                      <p:nvPr/>
                    </p:nvSpPr>
                    <p:spPr>
                      <a:xfrm>
                        <a:off x="71686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35" name=""/>
                  <p:cNvGrpSpPr/>
                  <p:nvPr/>
                </p:nvGrpSpPr>
                <p:grpSpPr>
                  <a:xfrm>
                    <a:off x="7172280" y="4693320"/>
                    <a:ext cx="22680" cy="9360"/>
                    <a:chOff x="7172280" y="4693320"/>
                    <a:chExt cx="22680" cy="9360"/>
                  </a:xfrm>
                </p:grpSpPr>
                <p:grpSp>
                  <p:nvGrpSpPr>
                    <p:cNvPr id="2436" name=""/>
                    <p:cNvGrpSpPr/>
                    <p:nvPr/>
                  </p:nvGrpSpPr>
                  <p:grpSpPr>
                    <a:xfrm>
                      <a:off x="7172280" y="4693320"/>
                      <a:ext cx="15840" cy="9360"/>
                      <a:chOff x="7172280" y="4693320"/>
                      <a:chExt cx="15840" cy="9360"/>
                    </a:xfrm>
                  </p:grpSpPr>
                  <p:sp>
                    <p:nvSpPr>
                      <p:cNvPr id="2437" name=""/>
                      <p:cNvSpPr/>
                      <p:nvPr/>
                    </p:nvSpPr>
                    <p:spPr>
                      <a:xfrm>
                        <a:off x="71722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8" name=""/>
                      <p:cNvSpPr/>
                      <p:nvPr/>
                    </p:nvSpPr>
                    <p:spPr>
                      <a:xfrm>
                        <a:off x="717624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9" name=""/>
                    <p:cNvGrpSpPr/>
                    <p:nvPr/>
                  </p:nvGrpSpPr>
                  <p:grpSpPr>
                    <a:xfrm>
                      <a:off x="7180560" y="4693320"/>
                      <a:ext cx="14400" cy="9360"/>
                      <a:chOff x="7180560" y="4693320"/>
                      <a:chExt cx="14400" cy="9360"/>
                    </a:xfrm>
                  </p:grpSpPr>
                  <p:sp>
                    <p:nvSpPr>
                      <p:cNvPr id="2440" name=""/>
                      <p:cNvSpPr/>
                      <p:nvPr/>
                    </p:nvSpPr>
                    <p:spPr>
                      <a:xfrm>
                        <a:off x="71805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1" name=""/>
                      <p:cNvSpPr/>
                      <p:nvPr/>
                    </p:nvSpPr>
                    <p:spPr>
                      <a:xfrm>
                        <a:off x="71830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442" name=""/>
              <p:cNvSpPr/>
              <p:nvPr/>
            </p:nvSpPr>
            <p:spPr>
              <a:xfrm>
                <a:off x="7122240" y="46850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3" name=""/>
            <p:cNvGrpSpPr/>
            <p:nvPr/>
          </p:nvGrpSpPr>
          <p:grpSpPr>
            <a:xfrm>
              <a:off x="7010280" y="4737600"/>
              <a:ext cx="533520" cy="62640"/>
              <a:chOff x="7010280" y="4737600"/>
              <a:chExt cx="533520" cy="62640"/>
            </a:xfrm>
          </p:grpSpPr>
          <p:grpSp>
            <p:nvGrpSpPr>
              <p:cNvPr id="2444" name=""/>
              <p:cNvGrpSpPr/>
              <p:nvPr/>
            </p:nvGrpSpPr>
            <p:grpSpPr>
              <a:xfrm>
                <a:off x="7010280" y="4737600"/>
                <a:ext cx="533520" cy="62640"/>
                <a:chOff x="7010280" y="4737600"/>
                <a:chExt cx="533520" cy="6264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7012800" y="479268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7010280" y="473760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7026120" y="474336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7068960" y="4742280"/>
                <a:ext cx="420120" cy="14400"/>
                <a:chOff x="7068960" y="4742280"/>
                <a:chExt cx="420120" cy="1440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7068960" y="47422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108920" y="47422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194600" y="47422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7270560" y="47422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348680" y="47422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7418880" y="47473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7055640" y="4756320"/>
                <a:ext cx="435240" cy="21960"/>
                <a:chOff x="7055640" y="4756320"/>
                <a:chExt cx="435240" cy="21960"/>
              </a:xfrm>
            </p:grpSpPr>
            <p:grpSp>
              <p:nvGrpSpPr>
                <p:cNvPr id="2456" name=""/>
                <p:cNvGrpSpPr/>
                <p:nvPr/>
              </p:nvGrpSpPr>
              <p:grpSpPr>
                <a:xfrm>
                  <a:off x="7093440" y="4757040"/>
                  <a:ext cx="212760" cy="19080"/>
                  <a:chOff x="7093440" y="4757040"/>
                  <a:chExt cx="212760" cy="1908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>
                    <a:off x="7093440" y="47570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7101720" y="47631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7104240" y="47692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7108560" y="47761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1" name=""/>
                <p:cNvGrpSpPr/>
                <p:nvPr/>
              </p:nvGrpSpPr>
              <p:grpSpPr>
                <a:xfrm>
                  <a:off x="7055640" y="4759920"/>
                  <a:ext cx="30960" cy="12240"/>
                  <a:chOff x="7055640" y="4759920"/>
                  <a:chExt cx="30960" cy="12240"/>
                </a:xfrm>
              </p:grpSpPr>
              <p:sp>
                <p:nvSpPr>
                  <p:cNvPr id="2462" name=""/>
                  <p:cNvSpPr/>
                  <p:nvPr/>
                </p:nvSpPr>
                <p:spPr>
                  <a:xfrm>
                    <a:off x="7064640" y="47599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7061040" y="4766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7055640" y="47721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139880" y="4756320"/>
                  <a:ext cx="194760" cy="20880"/>
                  <a:chOff x="7139880" y="4756320"/>
                  <a:chExt cx="194760" cy="208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7139880" y="47764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7309800" y="47563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7317360" y="47635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7301520" y="47703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7269480" y="47764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7295400" y="47772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2" name=""/>
                <p:cNvGrpSpPr/>
                <p:nvPr/>
              </p:nvGrpSpPr>
              <p:grpSpPr>
                <a:xfrm>
                  <a:off x="7349760" y="4759920"/>
                  <a:ext cx="56160" cy="17280"/>
                  <a:chOff x="7349760" y="4759920"/>
                  <a:chExt cx="56160" cy="17280"/>
                </a:xfrm>
              </p:grpSpPr>
              <p:sp>
                <p:nvSpPr>
                  <p:cNvPr id="2473" name=""/>
                  <p:cNvSpPr/>
                  <p:nvPr/>
                </p:nvSpPr>
                <p:spPr>
                  <a:xfrm>
                    <a:off x="7349760" y="47599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7358040" y="47678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7358400" y="47772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6" name=""/>
                <p:cNvGrpSpPr/>
                <p:nvPr/>
              </p:nvGrpSpPr>
              <p:grpSpPr>
                <a:xfrm>
                  <a:off x="7423200" y="4759920"/>
                  <a:ext cx="67680" cy="18360"/>
                  <a:chOff x="7423200" y="4759920"/>
                  <a:chExt cx="67680" cy="18360"/>
                </a:xfrm>
              </p:grpSpPr>
              <p:sp>
                <p:nvSpPr>
                  <p:cNvPr id="2477" name=""/>
                  <p:cNvSpPr/>
                  <p:nvPr/>
                </p:nvSpPr>
                <p:spPr>
                  <a:xfrm>
                    <a:off x="7427880" y="47599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7423200" y="47664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7427880" y="47721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7426440" y="47782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7477560" y="47671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7482600" y="47750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83" name=""/>
            <p:cNvGrpSpPr/>
            <p:nvPr/>
          </p:nvGrpSpPr>
          <p:grpSpPr>
            <a:xfrm>
              <a:off x="7166880" y="4601520"/>
              <a:ext cx="232200" cy="38160"/>
              <a:chOff x="7166880" y="4601520"/>
              <a:chExt cx="232200" cy="38160"/>
            </a:xfrm>
          </p:grpSpPr>
          <p:grpSp>
            <p:nvGrpSpPr>
              <p:cNvPr id="2484" name=""/>
              <p:cNvGrpSpPr/>
              <p:nvPr/>
            </p:nvGrpSpPr>
            <p:grpSpPr>
              <a:xfrm>
                <a:off x="7166880" y="4614120"/>
                <a:ext cx="232200" cy="25560"/>
                <a:chOff x="7166880" y="4614120"/>
                <a:chExt cx="232200" cy="2556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7166880" y="461412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169040" y="463140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7" name=""/>
              <p:cNvSpPr/>
              <p:nvPr/>
            </p:nvSpPr>
            <p:spPr>
              <a:xfrm>
                <a:off x="7220160" y="46015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8" name=""/>
            <p:cNvSpPr/>
            <p:nvPr/>
          </p:nvSpPr>
          <p:spPr>
            <a:xfrm>
              <a:off x="7140960" y="44197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172640" y="44402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182360" y="444564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91" name=""/>
          <p:cNvGraphicFramePr/>
          <p:nvPr/>
        </p:nvGraphicFramePr>
        <p:xfrm>
          <a:off x="914400" y="3505320"/>
          <a:ext cx="6555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05320"/>
                    <a:ext cx="655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3" name=""/>
          <p:cNvSpPr/>
          <p:nvPr/>
        </p:nvSpPr>
        <p:spPr>
          <a:xfrm>
            <a:off x="160020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4" name=""/>
          <p:cNvCxnSpPr>
            <a:stCxn id="2495" idx="0"/>
            <a:endCxn id="1926" idx="1"/>
          </p:cNvCxnSpPr>
          <p:nvPr/>
        </p:nvCxnSpPr>
        <p:spPr>
          <a:xfrm flipV="1">
            <a:off x="6084360" y="3385800"/>
            <a:ext cx="1040760" cy="49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6" name=""/>
          <p:cNvCxnSpPr>
            <a:stCxn id="2497" idx="0"/>
            <a:endCxn id="2255" idx="1"/>
          </p:cNvCxnSpPr>
          <p:nvPr/>
        </p:nvCxnSpPr>
        <p:spPr>
          <a:xfrm>
            <a:off x="6084360" y="3882600"/>
            <a:ext cx="10882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8" name=""/>
          <p:cNvCxnSpPr>
            <a:stCxn id="2495" idx="1"/>
            <a:endCxn id="2490" idx="1"/>
          </p:cNvCxnSpPr>
          <p:nvPr/>
        </p:nvCxnSpPr>
        <p:spPr>
          <a:xfrm>
            <a:off x="6084720" y="3887280"/>
            <a:ext cx="109800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499" name=""/>
          <p:cNvGrpSpPr/>
          <p:nvPr/>
        </p:nvGrpSpPr>
        <p:grpSpPr>
          <a:xfrm>
            <a:off x="3581280" y="3733920"/>
            <a:ext cx="609480" cy="380520"/>
            <a:chOff x="3581280" y="3733920"/>
            <a:chExt cx="609480" cy="380520"/>
          </a:xfrm>
        </p:grpSpPr>
        <p:grpSp>
          <p:nvGrpSpPr>
            <p:cNvPr id="2500" name=""/>
            <p:cNvGrpSpPr/>
            <p:nvPr/>
          </p:nvGrpSpPr>
          <p:grpSpPr>
            <a:xfrm>
              <a:off x="3592800" y="3751920"/>
              <a:ext cx="597960" cy="362520"/>
              <a:chOff x="3592800" y="3751920"/>
              <a:chExt cx="597960" cy="362520"/>
            </a:xfrm>
          </p:grpSpPr>
          <p:sp>
            <p:nvSpPr>
              <p:cNvPr id="2501" name=""/>
              <p:cNvSpPr/>
              <p:nvPr/>
            </p:nvSpPr>
            <p:spPr>
              <a:xfrm>
                <a:off x="3592800" y="38685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598200" y="38815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598200" y="37519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4" name=""/>
            <p:cNvSpPr/>
            <p:nvPr/>
          </p:nvSpPr>
          <p:spPr>
            <a:xfrm>
              <a:off x="3581280" y="38502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587040" y="38624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587040" y="37339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7" name=""/>
            <p:cNvGrpSpPr/>
            <p:nvPr/>
          </p:nvGrpSpPr>
          <p:grpSpPr>
            <a:xfrm>
              <a:off x="3696840" y="3763800"/>
              <a:ext cx="372240" cy="173160"/>
              <a:chOff x="3696840" y="3763800"/>
              <a:chExt cx="372240" cy="173160"/>
            </a:xfrm>
          </p:grpSpPr>
          <p:grpSp>
            <p:nvGrpSpPr>
              <p:cNvPr id="2508" name=""/>
              <p:cNvGrpSpPr/>
              <p:nvPr/>
            </p:nvGrpSpPr>
            <p:grpSpPr>
              <a:xfrm>
                <a:off x="3696840" y="3763800"/>
                <a:ext cx="372240" cy="173160"/>
                <a:chOff x="3696840" y="3763800"/>
                <a:chExt cx="372240" cy="17316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6968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6968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38941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38941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3708360" y="3763800"/>
                <a:ext cx="349560" cy="173160"/>
                <a:chOff x="3708360" y="3763800"/>
                <a:chExt cx="349560" cy="17316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38822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38822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37083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7083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8" name=""/>
          <p:cNvGrpSpPr/>
          <p:nvPr/>
        </p:nvGrpSpPr>
        <p:grpSpPr>
          <a:xfrm>
            <a:off x="4952880" y="3733920"/>
            <a:ext cx="609480" cy="380520"/>
            <a:chOff x="4952880" y="3733920"/>
            <a:chExt cx="609480" cy="380520"/>
          </a:xfrm>
        </p:grpSpPr>
        <p:grpSp>
          <p:nvGrpSpPr>
            <p:cNvPr id="2519" name=""/>
            <p:cNvGrpSpPr/>
            <p:nvPr/>
          </p:nvGrpSpPr>
          <p:grpSpPr>
            <a:xfrm>
              <a:off x="4964400" y="3751920"/>
              <a:ext cx="597960" cy="362520"/>
              <a:chOff x="4964400" y="3751920"/>
              <a:chExt cx="597960" cy="362520"/>
            </a:xfrm>
          </p:grpSpPr>
          <p:sp>
            <p:nvSpPr>
              <p:cNvPr id="2520" name=""/>
              <p:cNvSpPr/>
              <p:nvPr/>
            </p:nvSpPr>
            <p:spPr>
              <a:xfrm>
                <a:off x="4964400" y="38685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969800" y="38815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969800" y="37519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3" name=""/>
            <p:cNvSpPr/>
            <p:nvPr/>
          </p:nvSpPr>
          <p:spPr>
            <a:xfrm>
              <a:off x="4952880" y="38502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958640" y="38624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958640" y="37339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6" name=""/>
            <p:cNvGrpSpPr/>
            <p:nvPr/>
          </p:nvGrpSpPr>
          <p:grpSpPr>
            <a:xfrm>
              <a:off x="5068440" y="3763800"/>
              <a:ext cx="372240" cy="173160"/>
              <a:chOff x="5068440" y="3763800"/>
              <a:chExt cx="372240" cy="173160"/>
            </a:xfrm>
          </p:grpSpPr>
          <p:grpSp>
            <p:nvGrpSpPr>
              <p:cNvPr id="2527" name=""/>
              <p:cNvGrpSpPr/>
              <p:nvPr/>
            </p:nvGrpSpPr>
            <p:grpSpPr>
              <a:xfrm>
                <a:off x="5068440" y="3763800"/>
                <a:ext cx="372240" cy="173160"/>
                <a:chOff x="5068440" y="3763800"/>
                <a:chExt cx="372240" cy="173160"/>
              </a:xfrm>
            </p:grpSpPr>
            <p:sp>
              <p:nvSpPr>
                <p:cNvPr id="2528" name=""/>
                <p:cNvSpPr/>
                <p:nvPr/>
              </p:nvSpPr>
              <p:spPr>
                <a:xfrm>
                  <a:off x="50684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50684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52657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52657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5079960" y="3763800"/>
                <a:ext cx="349560" cy="173160"/>
                <a:chOff x="5079960" y="3763800"/>
                <a:chExt cx="349560" cy="17316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52538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52538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50799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50799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37" name=""/>
          <p:cNvSpPr/>
          <p:nvPr/>
        </p:nvSpPr>
        <p:spPr>
          <a:xfrm>
            <a:off x="2895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911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600200" y="449568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752480" y="449568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05120" y="4495680"/>
            <a:ext cx="7596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057400" y="449568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8954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7180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0040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3526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2670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34340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419720" y="4460760"/>
            <a:ext cx="7596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7242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5562720" y="3851280"/>
            <a:ext cx="532800" cy="152280"/>
            <a:chOff x="5562720" y="3851280"/>
            <a:chExt cx="532800" cy="152280"/>
          </a:xfrm>
        </p:grpSpPr>
        <p:grpSp>
          <p:nvGrpSpPr>
            <p:cNvPr id="2552" name=""/>
            <p:cNvGrpSpPr/>
            <p:nvPr/>
          </p:nvGrpSpPr>
          <p:grpSpPr>
            <a:xfrm>
              <a:off x="5568480" y="3890160"/>
              <a:ext cx="396360" cy="11160"/>
              <a:chOff x="5568480" y="3890160"/>
              <a:chExt cx="396360" cy="11160"/>
            </a:xfrm>
          </p:grpSpPr>
          <p:sp>
            <p:nvSpPr>
              <p:cNvPr id="2553" name=""/>
              <p:cNvSpPr/>
              <p:nvPr/>
            </p:nvSpPr>
            <p:spPr>
              <a:xfrm>
                <a:off x="5574240" y="3890160"/>
                <a:ext cx="385560" cy="9360"/>
              </a:xfrm>
              <a:custGeom>
                <a:avLst/>
                <a:gdLst/>
                <a:ahLst/>
                <a:rect l="l" t="t" r="r" b="b"/>
                <a:pathLst>
                  <a:path w="1395" h="34">
                    <a:moveTo>
                      <a:pt x="0" y="0"/>
                    </a:moveTo>
                    <a:lnTo>
                      <a:pt x="1332" y="0"/>
                    </a:lnTo>
                    <a:lnTo>
                      <a:pt x="1374" y="0"/>
                    </a:lnTo>
                    <a:lnTo>
                      <a:pt x="1395" y="11"/>
                    </a:lnTo>
                    <a:lnTo>
                      <a:pt x="1395" y="24"/>
                    </a:lnTo>
                    <a:lnTo>
                      <a:pt x="1374" y="34"/>
                    </a:lnTo>
                    <a:lnTo>
                      <a:pt x="1332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4" name=""/>
              <p:cNvGrpSpPr/>
              <p:nvPr/>
            </p:nvGrpSpPr>
            <p:grpSpPr>
              <a:xfrm>
                <a:off x="5574240" y="3890160"/>
                <a:ext cx="390600" cy="11160"/>
                <a:chOff x="5574240" y="3890160"/>
                <a:chExt cx="390600" cy="11160"/>
              </a:xfrm>
            </p:grpSpPr>
            <p:sp>
              <p:nvSpPr>
                <p:cNvPr id="2555" name=""/>
                <p:cNvSpPr/>
                <p:nvPr/>
              </p:nvSpPr>
              <p:spPr>
                <a:xfrm>
                  <a:off x="5574240" y="3890160"/>
                  <a:ext cx="390600" cy="1116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5574240" y="3890160"/>
                  <a:ext cx="390600" cy="1116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7" name=""/>
              <p:cNvGrpSpPr/>
              <p:nvPr/>
            </p:nvGrpSpPr>
            <p:grpSpPr>
              <a:xfrm>
                <a:off x="5568480" y="3890160"/>
                <a:ext cx="17640" cy="11160"/>
                <a:chOff x="5568480" y="3890160"/>
                <a:chExt cx="17640" cy="1116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5568480" y="38901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5568480" y="38901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0" name=""/>
            <p:cNvGrpSpPr/>
            <p:nvPr/>
          </p:nvGrpSpPr>
          <p:grpSpPr>
            <a:xfrm>
              <a:off x="5562720" y="3902040"/>
              <a:ext cx="396360" cy="11880"/>
              <a:chOff x="5562720" y="3902040"/>
              <a:chExt cx="396360" cy="11880"/>
            </a:xfrm>
          </p:grpSpPr>
          <p:sp>
            <p:nvSpPr>
              <p:cNvPr id="2561" name=""/>
              <p:cNvSpPr/>
              <p:nvPr/>
            </p:nvSpPr>
            <p:spPr>
              <a:xfrm>
                <a:off x="5568480" y="3902040"/>
                <a:ext cx="386640" cy="1044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6" y="37"/>
                    </a:lnTo>
                    <a:lnTo>
                      <a:pt x="133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2" name=""/>
              <p:cNvGrpSpPr/>
              <p:nvPr/>
            </p:nvGrpSpPr>
            <p:grpSpPr>
              <a:xfrm>
                <a:off x="5568480" y="3902040"/>
                <a:ext cx="390600" cy="11880"/>
                <a:chOff x="5568480" y="3902040"/>
                <a:chExt cx="390600" cy="1188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5568480" y="3902040"/>
                  <a:ext cx="390600" cy="1188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5568480" y="3902040"/>
                  <a:ext cx="390600" cy="1188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562720" y="3902040"/>
                <a:ext cx="17280" cy="11880"/>
                <a:chOff x="5562720" y="3902040"/>
                <a:chExt cx="17280" cy="1188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56272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556272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8" name=""/>
            <p:cNvGrpSpPr/>
            <p:nvPr/>
          </p:nvGrpSpPr>
          <p:grpSpPr>
            <a:xfrm>
              <a:off x="5563440" y="3914280"/>
              <a:ext cx="397440" cy="11520"/>
              <a:chOff x="5563440" y="3914280"/>
              <a:chExt cx="397440" cy="11520"/>
            </a:xfrm>
          </p:grpSpPr>
          <p:sp>
            <p:nvSpPr>
              <p:cNvPr id="2569" name=""/>
              <p:cNvSpPr/>
              <p:nvPr/>
            </p:nvSpPr>
            <p:spPr>
              <a:xfrm>
                <a:off x="5569200" y="3914280"/>
                <a:ext cx="387000" cy="9720"/>
              </a:xfrm>
              <a:custGeom>
                <a:avLst/>
                <a:gdLst/>
                <a:ahLst/>
                <a:rect l="l" t="t" r="r" b="b"/>
                <a:pathLst>
                  <a:path w="1399" h="35">
                    <a:moveTo>
                      <a:pt x="0" y="0"/>
                    </a:moveTo>
                    <a:lnTo>
                      <a:pt x="1335" y="0"/>
                    </a:lnTo>
                    <a:lnTo>
                      <a:pt x="1377" y="0"/>
                    </a:lnTo>
                    <a:lnTo>
                      <a:pt x="1399" y="12"/>
                    </a:lnTo>
                    <a:lnTo>
                      <a:pt x="1399" y="23"/>
                    </a:lnTo>
                    <a:lnTo>
                      <a:pt x="1377" y="35"/>
                    </a:lnTo>
                    <a:lnTo>
                      <a:pt x="133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0" name=""/>
              <p:cNvGrpSpPr/>
              <p:nvPr/>
            </p:nvGrpSpPr>
            <p:grpSpPr>
              <a:xfrm>
                <a:off x="5569200" y="3914280"/>
                <a:ext cx="391680" cy="11520"/>
                <a:chOff x="5569200" y="3914280"/>
                <a:chExt cx="391680" cy="1152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5569200" y="3914280"/>
                  <a:ext cx="391680" cy="1152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5569200" y="3914280"/>
                  <a:ext cx="391680" cy="1152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5563440" y="3914280"/>
                <a:ext cx="18000" cy="11520"/>
                <a:chOff x="5563440" y="3914280"/>
                <a:chExt cx="18000" cy="1152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56344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556344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6" name=""/>
            <p:cNvGrpSpPr/>
            <p:nvPr/>
          </p:nvGrpSpPr>
          <p:grpSpPr>
            <a:xfrm>
              <a:off x="5569920" y="3926160"/>
              <a:ext cx="396000" cy="11520"/>
              <a:chOff x="5569920" y="3926160"/>
              <a:chExt cx="396000" cy="11520"/>
            </a:xfrm>
          </p:grpSpPr>
          <p:sp>
            <p:nvSpPr>
              <p:cNvPr id="2577" name=""/>
              <p:cNvSpPr/>
              <p:nvPr/>
            </p:nvSpPr>
            <p:spPr>
              <a:xfrm>
                <a:off x="5575680" y="3926160"/>
                <a:ext cx="385560" cy="936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3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3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8" name=""/>
              <p:cNvGrpSpPr/>
              <p:nvPr/>
            </p:nvGrpSpPr>
            <p:grpSpPr>
              <a:xfrm>
                <a:off x="5575680" y="3926160"/>
                <a:ext cx="390240" cy="11520"/>
                <a:chOff x="5575680" y="3926160"/>
                <a:chExt cx="390240" cy="115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5575680" y="392616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5575680" y="392616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5569920" y="3926160"/>
                <a:ext cx="16200" cy="11520"/>
                <a:chOff x="5569920" y="3926160"/>
                <a:chExt cx="16200" cy="115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5569920" y="392616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5569920" y="392616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4" name=""/>
            <p:cNvGrpSpPr/>
            <p:nvPr/>
          </p:nvGrpSpPr>
          <p:grpSpPr>
            <a:xfrm>
              <a:off x="5580000" y="3878280"/>
              <a:ext cx="397440" cy="11520"/>
              <a:chOff x="5580000" y="3878280"/>
              <a:chExt cx="397440" cy="11520"/>
            </a:xfrm>
          </p:grpSpPr>
          <p:sp>
            <p:nvSpPr>
              <p:cNvPr id="2585" name=""/>
              <p:cNvSpPr/>
              <p:nvPr/>
            </p:nvSpPr>
            <p:spPr>
              <a:xfrm>
                <a:off x="5586480" y="3878280"/>
                <a:ext cx="386280" cy="9720"/>
              </a:xfrm>
              <a:custGeom>
                <a:avLst/>
                <a:gdLst/>
                <a:ahLst/>
                <a:rect l="l" t="t" r="r" b="b"/>
                <a:pathLst>
                  <a:path w="1396" h="35">
                    <a:moveTo>
                      <a:pt x="0" y="0"/>
                    </a:moveTo>
                    <a:lnTo>
                      <a:pt x="1333" y="0"/>
                    </a:lnTo>
                    <a:lnTo>
                      <a:pt x="1374" y="0"/>
                    </a:lnTo>
                    <a:lnTo>
                      <a:pt x="1396" y="12"/>
                    </a:lnTo>
                    <a:lnTo>
                      <a:pt x="1396" y="25"/>
                    </a:lnTo>
                    <a:lnTo>
                      <a:pt x="1374" y="35"/>
                    </a:lnTo>
                    <a:lnTo>
                      <a:pt x="13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6" name=""/>
              <p:cNvGrpSpPr/>
              <p:nvPr/>
            </p:nvGrpSpPr>
            <p:grpSpPr>
              <a:xfrm>
                <a:off x="5586480" y="3878280"/>
                <a:ext cx="390960" cy="11520"/>
                <a:chOff x="5586480" y="3878280"/>
                <a:chExt cx="390960" cy="1152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5586480" y="3878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5586480" y="3878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5580000" y="3878280"/>
                <a:ext cx="18000" cy="11520"/>
                <a:chOff x="5580000" y="3878280"/>
                <a:chExt cx="18000" cy="1152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5580000" y="3878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5580000" y="3878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2" name=""/>
            <p:cNvGrpSpPr/>
            <p:nvPr/>
          </p:nvGrpSpPr>
          <p:grpSpPr>
            <a:xfrm>
              <a:off x="5597280" y="3870000"/>
              <a:ext cx="395640" cy="10800"/>
              <a:chOff x="5597280" y="3870000"/>
              <a:chExt cx="395640" cy="10800"/>
            </a:xfrm>
          </p:grpSpPr>
          <p:sp>
            <p:nvSpPr>
              <p:cNvPr id="2593" name=""/>
              <p:cNvSpPr/>
              <p:nvPr/>
            </p:nvSpPr>
            <p:spPr>
              <a:xfrm>
                <a:off x="5602320" y="3870000"/>
                <a:ext cx="385920" cy="9000"/>
              </a:xfrm>
              <a:custGeom>
                <a:avLst/>
                <a:gdLst/>
                <a:ahLst/>
                <a:rect l="l" t="t" r="r" b="b"/>
                <a:pathLst>
                  <a:path w="1394" h="33">
                    <a:moveTo>
                      <a:pt x="0" y="0"/>
                    </a:moveTo>
                    <a:lnTo>
                      <a:pt x="1331" y="0"/>
                    </a:lnTo>
                    <a:lnTo>
                      <a:pt x="1374" y="0"/>
                    </a:lnTo>
                    <a:lnTo>
                      <a:pt x="1394" y="10"/>
                    </a:lnTo>
                    <a:lnTo>
                      <a:pt x="1394" y="23"/>
                    </a:lnTo>
                    <a:lnTo>
                      <a:pt x="1374" y="33"/>
                    </a:lnTo>
                    <a:lnTo>
                      <a:pt x="133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4" name=""/>
              <p:cNvGrpSpPr/>
              <p:nvPr/>
            </p:nvGrpSpPr>
            <p:grpSpPr>
              <a:xfrm>
                <a:off x="5602320" y="3870000"/>
                <a:ext cx="390600" cy="10800"/>
                <a:chOff x="5602320" y="3870000"/>
                <a:chExt cx="390600" cy="1080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5602320" y="387000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5602320" y="387000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5597280" y="3870000"/>
                <a:ext cx="17280" cy="10800"/>
                <a:chOff x="5597280" y="3870000"/>
                <a:chExt cx="17280" cy="108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5597280" y="387000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5597280" y="387000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0" name=""/>
            <p:cNvGrpSpPr/>
            <p:nvPr/>
          </p:nvGrpSpPr>
          <p:grpSpPr>
            <a:xfrm>
              <a:off x="5586480" y="3902040"/>
              <a:ext cx="396720" cy="11880"/>
              <a:chOff x="5586480" y="3902040"/>
              <a:chExt cx="396720" cy="11880"/>
            </a:xfrm>
          </p:grpSpPr>
          <p:sp>
            <p:nvSpPr>
              <p:cNvPr id="2601" name=""/>
              <p:cNvSpPr/>
              <p:nvPr/>
            </p:nvSpPr>
            <p:spPr>
              <a:xfrm>
                <a:off x="5592240" y="3902040"/>
                <a:ext cx="386280" cy="1044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5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2" name=""/>
              <p:cNvGrpSpPr/>
              <p:nvPr/>
            </p:nvGrpSpPr>
            <p:grpSpPr>
              <a:xfrm>
                <a:off x="5592240" y="3902040"/>
                <a:ext cx="390960" cy="11880"/>
                <a:chOff x="5592240" y="3902040"/>
                <a:chExt cx="390960" cy="11880"/>
              </a:xfrm>
            </p:grpSpPr>
            <p:sp>
              <p:nvSpPr>
                <p:cNvPr id="2603" name=""/>
                <p:cNvSpPr/>
                <p:nvPr/>
              </p:nvSpPr>
              <p:spPr>
                <a:xfrm>
                  <a:off x="55922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55922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5586480" y="3902040"/>
                <a:ext cx="17280" cy="11880"/>
                <a:chOff x="5586480" y="3902040"/>
                <a:chExt cx="17280" cy="1188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558648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558648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8" name=""/>
            <p:cNvGrpSpPr/>
            <p:nvPr/>
          </p:nvGrpSpPr>
          <p:grpSpPr>
            <a:xfrm>
              <a:off x="5595840" y="3890160"/>
              <a:ext cx="397080" cy="11160"/>
              <a:chOff x="5595840" y="3890160"/>
              <a:chExt cx="397080" cy="11160"/>
            </a:xfrm>
          </p:grpSpPr>
          <p:sp>
            <p:nvSpPr>
              <p:cNvPr id="2609" name=""/>
              <p:cNvSpPr/>
              <p:nvPr/>
            </p:nvSpPr>
            <p:spPr>
              <a:xfrm>
                <a:off x="5602680" y="3890160"/>
                <a:ext cx="385560" cy="936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4" y="11"/>
                    </a:lnTo>
                    <a:lnTo>
                      <a:pt x="1394" y="24"/>
                    </a:lnTo>
                    <a:lnTo>
                      <a:pt x="1375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0" name=""/>
              <p:cNvGrpSpPr/>
              <p:nvPr/>
            </p:nvGrpSpPr>
            <p:grpSpPr>
              <a:xfrm>
                <a:off x="5602680" y="3890160"/>
                <a:ext cx="390240" cy="11160"/>
                <a:chOff x="5602680" y="3890160"/>
                <a:chExt cx="390240" cy="1116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560268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560268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5595840" y="3890160"/>
                <a:ext cx="18360" cy="11160"/>
                <a:chOff x="5595840" y="3890160"/>
                <a:chExt cx="18360" cy="1116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5595840" y="3890160"/>
                  <a:ext cx="18360" cy="1116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5595840" y="3890160"/>
                  <a:ext cx="18360" cy="1116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6" name=""/>
            <p:cNvGrpSpPr/>
            <p:nvPr/>
          </p:nvGrpSpPr>
          <p:grpSpPr>
            <a:xfrm>
              <a:off x="5705640" y="3851280"/>
              <a:ext cx="174240" cy="152280"/>
              <a:chOff x="5705640" y="3851280"/>
              <a:chExt cx="174240" cy="152280"/>
            </a:xfrm>
          </p:grpSpPr>
          <p:sp>
            <p:nvSpPr>
              <p:cNvPr id="2617" name=""/>
              <p:cNvSpPr/>
              <p:nvPr/>
            </p:nvSpPr>
            <p:spPr>
              <a:xfrm>
                <a:off x="5705640" y="38512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705640" y="38512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9" name=""/>
            <p:cNvGrpSpPr/>
            <p:nvPr/>
          </p:nvGrpSpPr>
          <p:grpSpPr>
            <a:xfrm>
              <a:off x="5616360" y="3878280"/>
              <a:ext cx="396360" cy="10800"/>
              <a:chOff x="5616360" y="3878280"/>
              <a:chExt cx="396360" cy="10800"/>
            </a:xfrm>
          </p:grpSpPr>
          <p:sp>
            <p:nvSpPr>
              <p:cNvPr id="2620" name=""/>
              <p:cNvSpPr/>
              <p:nvPr/>
            </p:nvSpPr>
            <p:spPr>
              <a:xfrm>
                <a:off x="5622120" y="3878280"/>
                <a:ext cx="385920" cy="936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28" y="0"/>
                    </a:lnTo>
                    <a:lnTo>
                      <a:pt x="1374" y="0"/>
                    </a:lnTo>
                    <a:lnTo>
                      <a:pt x="1394" y="12"/>
                    </a:lnTo>
                    <a:lnTo>
                      <a:pt x="1394" y="25"/>
                    </a:lnTo>
                    <a:lnTo>
                      <a:pt x="1374" y="35"/>
                    </a:lnTo>
                    <a:lnTo>
                      <a:pt x="132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5622120" y="3878280"/>
                <a:ext cx="390600" cy="10800"/>
                <a:chOff x="5622120" y="3878280"/>
                <a:chExt cx="390600" cy="1080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622120" y="387828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5622120" y="387828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16360" y="3878280"/>
                <a:ext cx="16200" cy="10800"/>
                <a:chOff x="5616360" y="3878280"/>
                <a:chExt cx="16200" cy="1080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16360" y="387828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5616360" y="387828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10960" y="3948480"/>
              <a:ext cx="446400" cy="11520"/>
              <a:chOff x="5610960" y="3948480"/>
              <a:chExt cx="446400" cy="11520"/>
            </a:xfrm>
          </p:grpSpPr>
          <p:sp>
            <p:nvSpPr>
              <p:cNvPr id="2628" name=""/>
              <p:cNvSpPr/>
              <p:nvPr/>
            </p:nvSpPr>
            <p:spPr>
              <a:xfrm>
                <a:off x="5618160" y="3948480"/>
                <a:ext cx="434520" cy="10080"/>
              </a:xfrm>
              <a:custGeom>
                <a:avLst/>
                <a:gdLst/>
                <a:ahLst/>
                <a:rect l="l" t="t" r="r" b="b"/>
                <a:pathLst>
                  <a:path w="1571" h="36">
                    <a:moveTo>
                      <a:pt x="0" y="0"/>
                    </a:moveTo>
                    <a:lnTo>
                      <a:pt x="1500" y="0"/>
                    </a:lnTo>
                    <a:lnTo>
                      <a:pt x="1548" y="0"/>
                    </a:lnTo>
                    <a:lnTo>
                      <a:pt x="1571" y="12"/>
                    </a:lnTo>
                    <a:lnTo>
                      <a:pt x="1571" y="26"/>
                    </a:lnTo>
                    <a:lnTo>
                      <a:pt x="1548" y="36"/>
                    </a:lnTo>
                    <a:lnTo>
                      <a:pt x="1500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9" name=""/>
              <p:cNvGrpSpPr/>
              <p:nvPr/>
            </p:nvGrpSpPr>
            <p:grpSpPr>
              <a:xfrm>
                <a:off x="5618160" y="3948480"/>
                <a:ext cx="439200" cy="11520"/>
                <a:chOff x="5618160" y="3948480"/>
                <a:chExt cx="439200" cy="1152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5618160" y="3948480"/>
                  <a:ext cx="439200" cy="1152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5618160" y="3948480"/>
                  <a:ext cx="439200" cy="1152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5610960" y="3948480"/>
                <a:ext cx="20160" cy="11520"/>
                <a:chOff x="5610960" y="3948480"/>
                <a:chExt cx="20160" cy="11520"/>
              </a:xfrm>
            </p:grpSpPr>
            <p:sp>
              <p:nvSpPr>
                <p:cNvPr id="2633" name=""/>
                <p:cNvSpPr/>
                <p:nvPr/>
              </p:nvSpPr>
              <p:spPr>
                <a:xfrm>
                  <a:off x="5610960" y="39484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5610960" y="39484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5" name=""/>
            <p:cNvGrpSpPr/>
            <p:nvPr/>
          </p:nvGrpSpPr>
          <p:grpSpPr>
            <a:xfrm>
              <a:off x="5630040" y="3890160"/>
              <a:ext cx="397440" cy="11160"/>
              <a:chOff x="5630040" y="3890160"/>
              <a:chExt cx="397440" cy="11160"/>
            </a:xfrm>
          </p:grpSpPr>
          <p:sp>
            <p:nvSpPr>
              <p:cNvPr id="2636" name=""/>
              <p:cNvSpPr/>
              <p:nvPr/>
            </p:nvSpPr>
            <p:spPr>
              <a:xfrm>
                <a:off x="5637240" y="3890160"/>
                <a:ext cx="386280" cy="9360"/>
              </a:xfrm>
              <a:custGeom>
                <a:avLst/>
                <a:gdLst/>
                <a:ahLst/>
                <a:rect l="l" t="t" r="r" b="b"/>
                <a:pathLst>
                  <a:path w="1397" h="34">
                    <a:moveTo>
                      <a:pt x="0" y="0"/>
                    </a:moveTo>
                    <a:lnTo>
                      <a:pt x="1334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4"/>
                    </a:lnTo>
                    <a:lnTo>
                      <a:pt x="1375" y="34"/>
                    </a:lnTo>
                    <a:lnTo>
                      <a:pt x="133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7" name=""/>
              <p:cNvGrpSpPr/>
              <p:nvPr/>
            </p:nvGrpSpPr>
            <p:grpSpPr>
              <a:xfrm>
                <a:off x="5637240" y="3890160"/>
                <a:ext cx="390240" cy="11160"/>
                <a:chOff x="5637240" y="3890160"/>
                <a:chExt cx="390240" cy="1116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563724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563724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630040" y="3890160"/>
                <a:ext cx="18000" cy="11160"/>
                <a:chOff x="5630040" y="3890160"/>
                <a:chExt cx="18000" cy="1116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630040" y="3890160"/>
                  <a:ext cx="18000" cy="1116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5630040" y="3890160"/>
                  <a:ext cx="18000" cy="1116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3" name=""/>
            <p:cNvGrpSpPr/>
            <p:nvPr/>
          </p:nvGrpSpPr>
          <p:grpSpPr>
            <a:xfrm>
              <a:off x="5590800" y="3914280"/>
              <a:ext cx="396720" cy="11520"/>
              <a:chOff x="5590800" y="3914280"/>
              <a:chExt cx="396720" cy="11520"/>
            </a:xfrm>
          </p:grpSpPr>
          <p:sp>
            <p:nvSpPr>
              <p:cNvPr id="2644" name=""/>
              <p:cNvSpPr/>
              <p:nvPr/>
            </p:nvSpPr>
            <p:spPr>
              <a:xfrm>
                <a:off x="5597280" y="3914280"/>
                <a:ext cx="385560" cy="972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5" name=""/>
              <p:cNvGrpSpPr/>
              <p:nvPr/>
            </p:nvGrpSpPr>
            <p:grpSpPr>
              <a:xfrm>
                <a:off x="5597280" y="3914280"/>
                <a:ext cx="390240" cy="11520"/>
                <a:chOff x="5597280" y="3914280"/>
                <a:chExt cx="390240" cy="1152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5597280" y="391428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5597280" y="391428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5590800" y="3914280"/>
                <a:ext cx="18000" cy="11520"/>
                <a:chOff x="5590800" y="3914280"/>
                <a:chExt cx="18000" cy="1152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559080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559080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1" name=""/>
            <p:cNvGrpSpPr/>
            <p:nvPr/>
          </p:nvGrpSpPr>
          <p:grpSpPr>
            <a:xfrm>
              <a:off x="5661000" y="3890160"/>
              <a:ext cx="430560" cy="11160"/>
              <a:chOff x="5661000" y="3890160"/>
              <a:chExt cx="430560" cy="11160"/>
            </a:xfrm>
          </p:grpSpPr>
          <p:sp>
            <p:nvSpPr>
              <p:cNvPr id="2652" name=""/>
              <p:cNvSpPr/>
              <p:nvPr/>
            </p:nvSpPr>
            <p:spPr>
              <a:xfrm>
                <a:off x="5667840" y="3890160"/>
                <a:ext cx="418680" cy="9360"/>
              </a:xfrm>
              <a:custGeom>
                <a:avLst/>
                <a:gdLst/>
                <a:ahLst/>
                <a:rect l="l" t="t" r="r" b="b"/>
                <a:pathLst>
                  <a:path w="1514" h="34">
                    <a:moveTo>
                      <a:pt x="0" y="0"/>
                    </a:moveTo>
                    <a:lnTo>
                      <a:pt x="1445" y="0"/>
                    </a:lnTo>
                    <a:lnTo>
                      <a:pt x="1491" y="0"/>
                    </a:lnTo>
                    <a:lnTo>
                      <a:pt x="1514" y="11"/>
                    </a:lnTo>
                    <a:lnTo>
                      <a:pt x="1514" y="24"/>
                    </a:lnTo>
                    <a:lnTo>
                      <a:pt x="1491" y="34"/>
                    </a:lnTo>
                    <a:lnTo>
                      <a:pt x="144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3" name=""/>
              <p:cNvGrpSpPr/>
              <p:nvPr/>
            </p:nvGrpSpPr>
            <p:grpSpPr>
              <a:xfrm>
                <a:off x="5667840" y="3890160"/>
                <a:ext cx="423720" cy="11160"/>
                <a:chOff x="5667840" y="3890160"/>
                <a:chExt cx="423720" cy="1116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5667840" y="3890160"/>
                  <a:ext cx="423720" cy="1116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667840" y="3890160"/>
                  <a:ext cx="423720" cy="1116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5661000" y="3890160"/>
                <a:ext cx="19440" cy="11160"/>
                <a:chOff x="5661000" y="3890160"/>
                <a:chExt cx="19440" cy="1116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5661000" y="3890160"/>
                  <a:ext cx="19440" cy="1116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5661000" y="3890160"/>
                  <a:ext cx="19440" cy="1116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9" name=""/>
            <p:cNvGrpSpPr/>
            <p:nvPr/>
          </p:nvGrpSpPr>
          <p:grpSpPr>
            <a:xfrm>
              <a:off x="5617080" y="3914280"/>
              <a:ext cx="396720" cy="11520"/>
              <a:chOff x="5617080" y="3914280"/>
              <a:chExt cx="396720" cy="11520"/>
            </a:xfrm>
          </p:grpSpPr>
          <p:sp>
            <p:nvSpPr>
              <p:cNvPr id="2660" name=""/>
              <p:cNvSpPr/>
              <p:nvPr/>
            </p:nvSpPr>
            <p:spPr>
              <a:xfrm>
                <a:off x="5622840" y="3914280"/>
                <a:ext cx="386280" cy="972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5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1" name=""/>
              <p:cNvGrpSpPr/>
              <p:nvPr/>
            </p:nvGrpSpPr>
            <p:grpSpPr>
              <a:xfrm>
                <a:off x="5622840" y="3914280"/>
                <a:ext cx="390960" cy="11520"/>
                <a:chOff x="5622840" y="3914280"/>
                <a:chExt cx="390960" cy="1152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5622840" y="3914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5622840" y="3914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5617080" y="3914280"/>
                <a:ext cx="16200" cy="11520"/>
                <a:chOff x="5617080" y="3914280"/>
                <a:chExt cx="16200" cy="1152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5617080" y="391428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5617080" y="391428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7" name=""/>
            <p:cNvGrpSpPr/>
            <p:nvPr/>
          </p:nvGrpSpPr>
          <p:grpSpPr>
            <a:xfrm>
              <a:off x="5610960" y="3902040"/>
              <a:ext cx="395640" cy="11880"/>
              <a:chOff x="5610960" y="3902040"/>
              <a:chExt cx="395640" cy="11880"/>
            </a:xfrm>
          </p:grpSpPr>
          <p:sp>
            <p:nvSpPr>
              <p:cNvPr id="2668" name=""/>
              <p:cNvSpPr/>
              <p:nvPr/>
            </p:nvSpPr>
            <p:spPr>
              <a:xfrm>
                <a:off x="5615640" y="3902040"/>
                <a:ext cx="386280" cy="1044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6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6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9" name=""/>
              <p:cNvGrpSpPr/>
              <p:nvPr/>
            </p:nvGrpSpPr>
            <p:grpSpPr>
              <a:xfrm>
                <a:off x="5615640" y="3902040"/>
                <a:ext cx="390960" cy="11880"/>
                <a:chOff x="5615640" y="3902040"/>
                <a:chExt cx="390960" cy="11880"/>
              </a:xfrm>
            </p:grpSpPr>
            <p:sp>
              <p:nvSpPr>
                <p:cNvPr id="2670" name=""/>
                <p:cNvSpPr/>
                <p:nvPr/>
              </p:nvSpPr>
              <p:spPr>
                <a:xfrm>
                  <a:off x="56156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56156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2" name=""/>
              <p:cNvGrpSpPr/>
              <p:nvPr/>
            </p:nvGrpSpPr>
            <p:grpSpPr>
              <a:xfrm>
                <a:off x="5610960" y="3902040"/>
                <a:ext cx="16200" cy="11880"/>
                <a:chOff x="5610960" y="3902040"/>
                <a:chExt cx="16200" cy="11880"/>
              </a:xfrm>
            </p:grpSpPr>
            <p:sp>
              <p:nvSpPr>
                <p:cNvPr id="2673" name=""/>
                <p:cNvSpPr/>
                <p:nvPr/>
              </p:nvSpPr>
              <p:spPr>
                <a:xfrm>
                  <a:off x="5610960" y="3902040"/>
                  <a:ext cx="16200" cy="1188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5610960" y="3902040"/>
                  <a:ext cx="16200" cy="1188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5" name=""/>
            <p:cNvGrpSpPr/>
            <p:nvPr/>
          </p:nvGrpSpPr>
          <p:grpSpPr>
            <a:xfrm>
              <a:off x="5636520" y="3902040"/>
              <a:ext cx="396360" cy="11880"/>
              <a:chOff x="5636520" y="3902040"/>
              <a:chExt cx="396360" cy="11880"/>
            </a:xfrm>
          </p:grpSpPr>
          <p:sp>
            <p:nvSpPr>
              <p:cNvPr id="2676" name=""/>
              <p:cNvSpPr/>
              <p:nvPr/>
            </p:nvSpPr>
            <p:spPr>
              <a:xfrm>
                <a:off x="5641560" y="3902040"/>
                <a:ext cx="386640" cy="1044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5" y="37"/>
                    </a:lnTo>
                    <a:lnTo>
                      <a:pt x="133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7" name=""/>
              <p:cNvGrpSpPr/>
              <p:nvPr/>
            </p:nvGrpSpPr>
            <p:grpSpPr>
              <a:xfrm>
                <a:off x="5641560" y="3902040"/>
                <a:ext cx="391320" cy="11880"/>
                <a:chOff x="5641560" y="3902040"/>
                <a:chExt cx="391320" cy="11880"/>
              </a:xfrm>
            </p:grpSpPr>
            <p:sp>
              <p:nvSpPr>
                <p:cNvPr id="2678" name=""/>
                <p:cNvSpPr/>
                <p:nvPr/>
              </p:nvSpPr>
              <p:spPr>
                <a:xfrm>
                  <a:off x="5641560" y="3902040"/>
                  <a:ext cx="39132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5641560" y="3902040"/>
                  <a:ext cx="39132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0" name=""/>
              <p:cNvGrpSpPr/>
              <p:nvPr/>
            </p:nvGrpSpPr>
            <p:grpSpPr>
              <a:xfrm>
                <a:off x="5636520" y="3902040"/>
                <a:ext cx="16920" cy="11880"/>
                <a:chOff x="5636520" y="3902040"/>
                <a:chExt cx="16920" cy="11880"/>
              </a:xfrm>
            </p:grpSpPr>
            <p:sp>
              <p:nvSpPr>
                <p:cNvPr id="2681" name=""/>
                <p:cNvSpPr/>
                <p:nvPr/>
              </p:nvSpPr>
              <p:spPr>
                <a:xfrm>
                  <a:off x="5636520" y="39020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636520" y="39020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3" name=""/>
            <p:cNvGrpSpPr/>
            <p:nvPr/>
          </p:nvGrpSpPr>
          <p:grpSpPr>
            <a:xfrm>
              <a:off x="5643000" y="3914280"/>
              <a:ext cx="397440" cy="11520"/>
              <a:chOff x="5643000" y="3914280"/>
              <a:chExt cx="397440" cy="11520"/>
            </a:xfrm>
          </p:grpSpPr>
          <p:sp>
            <p:nvSpPr>
              <p:cNvPr id="2684" name=""/>
              <p:cNvSpPr/>
              <p:nvPr/>
            </p:nvSpPr>
            <p:spPr>
              <a:xfrm>
                <a:off x="5649840" y="3914280"/>
                <a:ext cx="386640" cy="972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3"/>
                    </a:lnTo>
                    <a:lnTo>
                      <a:pt x="1376" y="35"/>
                    </a:lnTo>
                    <a:lnTo>
                      <a:pt x="133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5" name=""/>
              <p:cNvGrpSpPr/>
              <p:nvPr/>
            </p:nvGrpSpPr>
            <p:grpSpPr>
              <a:xfrm>
                <a:off x="5649840" y="3914280"/>
                <a:ext cx="390600" cy="11520"/>
                <a:chOff x="5649840" y="3914280"/>
                <a:chExt cx="390600" cy="115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5649840" y="3914280"/>
                  <a:ext cx="390600" cy="1152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649840" y="3914280"/>
                  <a:ext cx="390600" cy="1152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5643000" y="3914280"/>
                <a:ext cx="18360" cy="11520"/>
                <a:chOff x="5643000" y="3914280"/>
                <a:chExt cx="18360" cy="1152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5643000" y="39142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643000" y="39142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1" name=""/>
            <p:cNvGrpSpPr/>
            <p:nvPr/>
          </p:nvGrpSpPr>
          <p:grpSpPr>
            <a:xfrm>
              <a:off x="5667840" y="3914280"/>
              <a:ext cx="426600" cy="11520"/>
              <a:chOff x="5667840" y="3914280"/>
              <a:chExt cx="426600" cy="11520"/>
            </a:xfrm>
          </p:grpSpPr>
          <p:sp>
            <p:nvSpPr>
              <p:cNvPr id="2692" name=""/>
              <p:cNvSpPr/>
              <p:nvPr/>
            </p:nvSpPr>
            <p:spPr>
              <a:xfrm>
                <a:off x="5674320" y="3914280"/>
                <a:ext cx="415080" cy="9720"/>
              </a:xfrm>
              <a:custGeom>
                <a:avLst/>
                <a:gdLst/>
                <a:ahLst/>
                <a:rect l="l" t="t" r="r" b="b"/>
                <a:pathLst>
                  <a:path w="1500" h="35">
                    <a:moveTo>
                      <a:pt x="0" y="0"/>
                    </a:moveTo>
                    <a:lnTo>
                      <a:pt x="1433" y="0"/>
                    </a:lnTo>
                    <a:lnTo>
                      <a:pt x="1477" y="0"/>
                    </a:lnTo>
                    <a:lnTo>
                      <a:pt x="1500" y="12"/>
                    </a:lnTo>
                    <a:lnTo>
                      <a:pt x="1500" y="23"/>
                    </a:lnTo>
                    <a:lnTo>
                      <a:pt x="1477" y="35"/>
                    </a:lnTo>
                    <a:lnTo>
                      <a:pt x="14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5674320" y="3914280"/>
                <a:ext cx="420120" cy="11520"/>
                <a:chOff x="5674320" y="3914280"/>
                <a:chExt cx="420120" cy="115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5674320" y="3914280"/>
                  <a:ext cx="420120" cy="1152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5674320" y="3914280"/>
                  <a:ext cx="420120" cy="1152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667840" y="3914280"/>
                <a:ext cx="19080" cy="11520"/>
                <a:chOff x="5667840" y="3914280"/>
                <a:chExt cx="19080" cy="115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667840" y="391428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5667840" y="391428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9" name=""/>
            <p:cNvGrpSpPr/>
            <p:nvPr/>
          </p:nvGrpSpPr>
          <p:grpSpPr>
            <a:xfrm>
              <a:off x="5583600" y="3938040"/>
              <a:ext cx="396360" cy="10800"/>
              <a:chOff x="5583600" y="3938040"/>
              <a:chExt cx="396360" cy="10800"/>
            </a:xfrm>
          </p:grpSpPr>
          <p:sp>
            <p:nvSpPr>
              <p:cNvPr id="2700" name=""/>
              <p:cNvSpPr/>
              <p:nvPr/>
            </p:nvSpPr>
            <p:spPr>
              <a:xfrm>
                <a:off x="5588640" y="3938040"/>
                <a:ext cx="386640" cy="9000"/>
              </a:xfrm>
              <a:custGeom>
                <a:avLst/>
                <a:gdLst/>
                <a:ahLst/>
                <a:rect l="l" t="t" r="r" b="b"/>
                <a:pathLst>
                  <a:path w="1397" h="33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3"/>
                    </a:lnTo>
                    <a:lnTo>
                      <a:pt x="1375" y="33"/>
                    </a:lnTo>
                    <a:lnTo>
                      <a:pt x="1333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1" name=""/>
              <p:cNvGrpSpPr/>
              <p:nvPr/>
            </p:nvGrpSpPr>
            <p:grpSpPr>
              <a:xfrm>
                <a:off x="5588640" y="3938040"/>
                <a:ext cx="391320" cy="10800"/>
                <a:chOff x="5588640" y="3938040"/>
                <a:chExt cx="391320" cy="10800"/>
              </a:xfrm>
            </p:grpSpPr>
            <p:sp>
              <p:nvSpPr>
                <p:cNvPr id="2702" name=""/>
                <p:cNvSpPr/>
                <p:nvPr/>
              </p:nvSpPr>
              <p:spPr>
                <a:xfrm>
                  <a:off x="5588640" y="3938040"/>
                  <a:ext cx="391320" cy="1080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5588640" y="3938040"/>
                  <a:ext cx="391320" cy="1080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4" name=""/>
              <p:cNvGrpSpPr/>
              <p:nvPr/>
            </p:nvGrpSpPr>
            <p:grpSpPr>
              <a:xfrm>
                <a:off x="5583600" y="3938040"/>
                <a:ext cx="17280" cy="10800"/>
                <a:chOff x="5583600" y="3938040"/>
                <a:chExt cx="17280" cy="1080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5583600" y="393804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5583600" y="393804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7" name=""/>
            <p:cNvGrpSpPr/>
            <p:nvPr/>
          </p:nvGrpSpPr>
          <p:grpSpPr>
            <a:xfrm>
              <a:off x="5597280" y="3927240"/>
              <a:ext cx="396720" cy="11520"/>
              <a:chOff x="5597280" y="3927240"/>
              <a:chExt cx="396720" cy="11520"/>
            </a:xfrm>
          </p:grpSpPr>
          <p:sp>
            <p:nvSpPr>
              <p:cNvPr id="2708" name=""/>
              <p:cNvSpPr/>
              <p:nvPr/>
            </p:nvSpPr>
            <p:spPr>
              <a:xfrm>
                <a:off x="5604120" y="3927240"/>
                <a:ext cx="385200" cy="10080"/>
              </a:xfrm>
              <a:custGeom>
                <a:avLst/>
                <a:gdLst/>
                <a:ahLst/>
                <a:rect l="l" t="t" r="r" b="b"/>
                <a:pathLst>
                  <a:path w="1392" h="36">
                    <a:moveTo>
                      <a:pt x="0" y="0"/>
                    </a:moveTo>
                    <a:lnTo>
                      <a:pt x="1329" y="0"/>
                    </a:lnTo>
                    <a:lnTo>
                      <a:pt x="1371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1" y="36"/>
                    </a:lnTo>
                    <a:lnTo>
                      <a:pt x="132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9" name=""/>
              <p:cNvGrpSpPr/>
              <p:nvPr/>
            </p:nvGrpSpPr>
            <p:grpSpPr>
              <a:xfrm>
                <a:off x="5604120" y="3927240"/>
                <a:ext cx="389880" cy="11520"/>
                <a:chOff x="5604120" y="3927240"/>
                <a:chExt cx="389880" cy="115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5604120" y="3927240"/>
                  <a:ext cx="389880" cy="1152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5604120" y="3927240"/>
                  <a:ext cx="389880" cy="1152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5597280" y="3927240"/>
                <a:ext cx="17280" cy="11520"/>
                <a:chOff x="5597280" y="3927240"/>
                <a:chExt cx="17280" cy="115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5597280" y="3927240"/>
                  <a:ext cx="17280" cy="1152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597280" y="3927240"/>
                  <a:ext cx="17280" cy="1152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5" name=""/>
            <p:cNvGrpSpPr/>
            <p:nvPr/>
          </p:nvGrpSpPr>
          <p:grpSpPr>
            <a:xfrm>
              <a:off x="5613480" y="3858840"/>
              <a:ext cx="443520" cy="11520"/>
              <a:chOff x="5613480" y="3858840"/>
              <a:chExt cx="443520" cy="11520"/>
            </a:xfrm>
          </p:grpSpPr>
          <p:sp>
            <p:nvSpPr>
              <p:cNvPr id="2716" name=""/>
              <p:cNvSpPr/>
              <p:nvPr/>
            </p:nvSpPr>
            <p:spPr>
              <a:xfrm>
                <a:off x="5620320" y="3858840"/>
                <a:ext cx="432000" cy="10080"/>
              </a:xfrm>
              <a:custGeom>
                <a:avLst/>
                <a:gdLst/>
                <a:ahLst/>
                <a:rect l="l" t="t" r="r" b="b"/>
                <a:pathLst>
                  <a:path w="1562" h="36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2"/>
                    </a:lnTo>
                    <a:lnTo>
                      <a:pt x="1562" y="26"/>
                    </a:lnTo>
                    <a:lnTo>
                      <a:pt x="1539" y="36"/>
                    </a:lnTo>
                    <a:lnTo>
                      <a:pt x="149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7" name=""/>
              <p:cNvGrpSpPr/>
              <p:nvPr/>
            </p:nvGrpSpPr>
            <p:grpSpPr>
              <a:xfrm>
                <a:off x="5620320" y="3858840"/>
                <a:ext cx="436680" cy="11520"/>
                <a:chOff x="5620320" y="3858840"/>
                <a:chExt cx="436680" cy="1152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620320" y="3858840"/>
                  <a:ext cx="436680" cy="1152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620320" y="3858840"/>
                  <a:ext cx="436680" cy="1152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5613480" y="3858840"/>
                <a:ext cx="19080" cy="11520"/>
                <a:chOff x="5613480" y="3858840"/>
                <a:chExt cx="19080" cy="1152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5613480" y="385884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5613480" y="385884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3" name=""/>
            <p:cNvGrpSpPr/>
            <p:nvPr/>
          </p:nvGrpSpPr>
          <p:grpSpPr>
            <a:xfrm>
              <a:off x="5627520" y="3927240"/>
              <a:ext cx="443160" cy="11880"/>
              <a:chOff x="5627520" y="3927240"/>
              <a:chExt cx="443160" cy="11880"/>
            </a:xfrm>
          </p:grpSpPr>
          <p:sp>
            <p:nvSpPr>
              <p:cNvPr id="2724" name=""/>
              <p:cNvSpPr/>
              <p:nvPr/>
            </p:nvSpPr>
            <p:spPr>
              <a:xfrm>
                <a:off x="5634360" y="3927240"/>
                <a:ext cx="431640" cy="10440"/>
              </a:xfrm>
              <a:custGeom>
                <a:avLst/>
                <a:gdLst/>
                <a:ahLst/>
                <a:rect l="l" t="t" r="r" b="b"/>
                <a:pathLst>
                  <a:path w="1561" h="38">
                    <a:moveTo>
                      <a:pt x="0" y="0"/>
                    </a:moveTo>
                    <a:lnTo>
                      <a:pt x="1491" y="0"/>
                    </a:lnTo>
                    <a:lnTo>
                      <a:pt x="1538" y="0"/>
                    </a:lnTo>
                    <a:lnTo>
                      <a:pt x="1561" y="13"/>
                    </a:lnTo>
                    <a:lnTo>
                      <a:pt x="1561" y="26"/>
                    </a:lnTo>
                    <a:lnTo>
                      <a:pt x="1538" y="38"/>
                    </a:lnTo>
                    <a:lnTo>
                      <a:pt x="149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5" name=""/>
              <p:cNvGrpSpPr/>
              <p:nvPr/>
            </p:nvGrpSpPr>
            <p:grpSpPr>
              <a:xfrm>
                <a:off x="5634360" y="3927240"/>
                <a:ext cx="436320" cy="11880"/>
                <a:chOff x="5634360" y="3927240"/>
                <a:chExt cx="436320" cy="11880"/>
              </a:xfrm>
            </p:grpSpPr>
            <p:sp>
              <p:nvSpPr>
                <p:cNvPr id="2726" name=""/>
                <p:cNvSpPr/>
                <p:nvPr/>
              </p:nvSpPr>
              <p:spPr>
                <a:xfrm>
                  <a:off x="5634360" y="3927240"/>
                  <a:ext cx="436320" cy="1188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5634360" y="3927240"/>
                  <a:ext cx="436320" cy="1188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8" name=""/>
              <p:cNvGrpSpPr/>
              <p:nvPr/>
            </p:nvGrpSpPr>
            <p:grpSpPr>
              <a:xfrm>
                <a:off x="5627520" y="3927240"/>
                <a:ext cx="19440" cy="11880"/>
                <a:chOff x="5627520" y="3927240"/>
                <a:chExt cx="19440" cy="1188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5627520" y="3927240"/>
                  <a:ext cx="19440" cy="1188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5627520" y="3927240"/>
                  <a:ext cx="19440" cy="1188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1" name=""/>
            <p:cNvGrpSpPr/>
            <p:nvPr/>
          </p:nvGrpSpPr>
          <p:grpSpPr>
            <a:xfrm>
              <a:off x="5664240" y="3902040"/>
              <a:ext cx="431280" cy="11880"/>
              <a:chOff x="5664240" y="3902040"/>
              <a:chExt cx="431280" cy="11880"/>
            </a:xfrm>
          </p:grpSpPr>
          <p:sp>
            <p:nvSpPr>
              <p:cNvPr id="2732" name=""/>
              <p:cNvSpPr/>
              <p:nvPr/>
            </p:nvSpPr>
            <p:spPr>
              <a:xfrm>
                <a:off x="5671440" y="3902040"/>
                <a:ext cx="419400" cy="10440"/>
              </a:xfrm>
              <a:custGeom>
                <a:avLst/>
                <a:gdLst/>
                <a:ahLst/>
                <a:rect l="l" t="t" r="r" b="b"/>
                <a:pathLst>
                  <a:path w="1517" h="37">
                    <a:moveTo>
                      <a:pt x="0" y="0"/>
                    </a:moveTo>
                    <a:lnTo>
                      <a:pt x="1451" y="0"/>
                    </a:lnTo>
                    <a:lnTo>
                      <a:pt x="1494" y="0"/>
                    </a:lnTo>
                    <a:lnTo>
                      <a:pt x="1517" y="13"/>
                    </a:lnTo>
                    <a:lnTo>
                      <a:pt x="1517" y="26"/>
                    </a:lnTo>
                    <a:lnTo>
                      <a:pt x="1494" y="37"/>
                    </a:lnTo>
                    <a:lnTo>
                      <a:pt x="145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3" name=""/>
              <p:cNvGrpSpPr/>
              <p:nvPr/>
            </p:nvGrpSpPr>
            <p:grpSpPr>
              <a:xfrm>
                <a:off x="5671440" y="3902040"/>
                <a:ext cx="424080" cy="11880"/>
                <a:chOff x="5671440" y="3902040"/>
                <a:chExt cx="424080" cy="1188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5671440" y="3902040"/>
                  <a:ext cx="424080" cy="1188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5671440" y="3902040"/>
                  <a:ext cx="424080" cy="1188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5664240" y="3902040"/>
                <a:ext cx="18720" cy="11880"/>
                <a:chOff x="5664240" y="3902040"/>
                <a:chExt cx="18720" cy="1188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5664240" y="3902040"/>
                  <a:ext cx="18720" cy="1188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5664240" y="3902040"/>
                  <a:ext cx="18720" cy="1188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9" name=""/>
            <p:cNvGrpSpPr/>
            <p:nvPr/>
          </p:nvGrpSpPr>
          <p:grpSpPr>
            <a:xfrm>
              <a:off x="5657400" y="3926160"/>
              <a:ext cx="432360" cy="12240"/>
              <a:chOff x="5657400" y="3926160"/>
              <a:chExt cx="432360" cy="12240"/>
            </a:xfrm>
          </p:grpSpPr>
          <p:sp>
            <p:nvSpPr>
              <p:cNvPr id="2740" name=""/>
              <p:cNvSpPr/>
              <p:nvPr/>
            </p:nvSpPr>
            <p:spPr>
              <a:xfrm>
                <a:off x="5664240" y="3926160"/>
                <a:ext cx="420840" cy="10080"/>
              </a:xfrm>
              <a:custGeom>
                <a:avLst/>
                <a:gdLst/>
                <a:ahLst/>
                <a:rect l="l" t="t" r="r" b="b"/>
                <a:pathLst>
                  <a:path w="1521" h="37">
                    <a:moveTo>
                      <a:pt x="0" y="0"/>
                    </a:moveTo>
                    <a:lnTo>
                      <a:pt x="1454" y="0"/>
                    </a:lnTo>
                    <a:lnTo>
                      <a:pt x="1498" y="0"/>
                    </a:lnTo>
                    <a:lnTo>
                      <a:pt x="1521" y="13"/>
                    </a:lnTo>
                    <a:lnTo>
                      <a:pt x="1521" y="26"/>
                    </a:lnTo>
                    <a:lnTo>
                      <a:pt x="1498" y="37"/>
                    </a:lnTo>
                    <a:lnTo>
                      <a:pt x="145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1" name=""/>
              <p:cNvGrpSpPr/>
              <p:nvPr/>
            </p:nvGrpSpPr>
            <p:grpSpPr>
              <a:xfrm>
                <a:off x="5664240" y="3926160"/>
                <a:ext cx="425520" cy="12240"/>
                <a:chOff x="5664240" y="3926160"/>
                <a:chExt cx="425520" cy="1224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5664240" y="3926160"/>
                  <a:ext cx="425520" cy="1224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664240" y="3926160"/>
                  <a:ext cx="425520" cy="1224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5657400" y="3926160"/>
                <a:ext cx="19080" cy="12240"/>
                <a:chOff x="5657400" y="3926160"/>
                <a:chExt cx="19080" cy="1224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5657400" y="3926160"/>
                  <a:ext cx="19080" cy="1224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5657400" y="3926160"/>
                  <a:ext cx="19080" cy="1224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7" name=""/>
            <p:cNvGrpSpPr/>
            <p:nvPr/>
          </p:nvGrpSpPr>
          <p:grpSpPr>
            <a:xfrm>
              <a:off x="5612760" y="3937320"/>
              <a:ext cx="396360" cy="10800"/>
              <a:chOff x="5612760" y="3937320"/>
              <a:chExt cx="396360" cy="10800"/>
            </a:xfrm>
          </p:grpSpPr>
          <p:sp>
            <p:nvSpPr>
              <p:cNvPr id="2748" name=""/>
              <p:cNvSpPr/>
              <p:nvPr/>
            </p:nvSpPr>
            <p:spPr>
              <a:xfrm>
                <a:off x="5618880" y="3937320"/>
                <a:ext cx="385200" cy="9360"/>
              </a:xfrm>
              <a:custGeom>
                <a:avLst/>
                <a:gdLst/>
                <a:ahLst/>
                <a:rect l="l" t="t" r="r" b="b"/>
                <a:pathLst>
                  <a:path w="1392" h="35">
                    <a:moveTo>
                      <a:pt x="0" y="0"/>
                    </a:moveTo>
                    <a:lnTo>
                      <a:pt x="1329" y="0"/>
                    </a:lnTo>
                    <a:lnTo>
                      <a:pt x="1372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2" y="35"/>
                    </a:lnTo>
                    <a:lnTo>
                      <a:pt x="132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9" name=""/>
              <p:cNvGrpSpPr/>
              <p:nvPr/>
            </p:nvGrpSpPr>
            <p:grpSpPr>
              <a:xfrm>
                <a:off x="5618880" y="3937320"/>
                <a:ext cx="390240" cy="10800"/>
                <a:chOff x="5618880" y="3937320"/>
                <a:chExt cx="390240" cy="1080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18880" y="3937320"/>
                  <a:ext cx="390240" cy="1080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5618880" y="3937320"/>
                  <a:ext cx="390240" cy="1080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5612760" y="3937320"/>
                <a:ext cx="18000" cy="10800"/>
                <a:chOff x="5612760" y="3937320"/>
                <a:chExt cx="18000" cy="10800"/>
              </a:xfrm>
            </p:grpSpPr>
            <p:sp>
              <p:nvSpPr>
                <p:cNvPr id="2753" name=""/>
                <p:cNvSpPr/>
                <p:nvPr/>
              </p:nvSpPr>
              <p:spPr>
                <a:xfrm>
                  <a:off x="5612760" y="3937320"/>
                  <a:ext cx="18000" cy="108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5612760" y="3937320"/>
                  <a:ext cx="18000" cy="108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5" name=""/>
            <p:cNvGrpSpPr/>
            <p:nvPr/>
          </p:nvGrpSpPr>
          <p:grpSpPr>
            <a:xfrm>
              <a:off x="5644440" y="3938400"/>
              <a:ext cx="432000" cy="10800"/>
              <a:chOff x="5644440" y="3938400"/>
              <a:chExt cx="432000" cy="10800"/>
            </a:xfrm>
          </p:grpSpPr>
          <p:sp>
            <p:nvSpPr>
              <p:cNvPr id="2756" name=""/>
              <p:cNvSpPr/>
              <p:nvPr/>
            </p:nvSpPr>
            <p:spPr>
              <a:xfrm>
                <a:off x="5649120" y="3938400"/>
                <a:ext cx="422280" cy="9000"/>
              </a:xfrm>
              <a:custGeom>
                <a:avLst/>
                <a:gdLst/>
                <a:ahLst/>
                <a:rect l="l" t="t" r="r" b="b"/>
                <a:pathLst>
                  <a:path w="1527" h="33">
                    <a:moveTo>
                      <a:pt x="0" y="0"/>
                    </a:moveTo>
                    <a:lnTo>
                      <a:pt x="1458" y="0"/>
                    </a:lnTo>
                    <a:lnTo>
                      <a:pt x="1504" y="0"/>
                    </a:lnTo>
                    <a:lnTo>
                      <a:pt x="1527" y="12"/>
                    </a:lnTo>
                    <a:lnTo>
                      <a:pt x="1527" y="23"/>
                    </a:lnTo>
                    <a:lnTo>
                      <a:pt x="1504" y="33"/>
                    </a:lnTo>
                    <a:lnTo>
                      <a:pt x="145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7" name=""/>
              <p:cNvGrpSpPr/>
              <p:nvPr/>
            </p:nvGrpSpPr>
            <p:grpSpPr>
              <a:xfrm>
                <a:off x="5649120" y="3938400"/>
                <a:ext cx="427320" cy="10800"/>
                <a:chOff x="5649120" y="3938400"/>
                <a:chExt cx="427320" cy="10800"/>
              </a:xfrm>
            </p:grpSpPr>
            <p:sp>
              <p:nvSpPr>
                <p:cNvPr id="2758" name=""/>
                <p:cNvSpPr/>
                <p:nvPr/>
              </p:nvSpPr>
              <p:spPr>
                <a:xfrm>
                  <a:off x="5649120" y="3938400"/>
                  <a:ext cx="427320" cy="1080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5649120" y="3938400"/>
                  <a:ext cx="427320" cy="1080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0" name=""/>
              <p:cNvGrpSpPr/>
              <p:nvPr/>
            </p:nvGrpSpPr>
            <p:grpSpPr>
              <a:xfrm>
                <a:off x="5644440" y="3938400"/>
                <a:ext cx="18720" cy="10800"/>
                <a:chOff x="5644440" y="3938400"/>
                <a:chExt cx="18720" cy="10800"/>
              </a:xfrm>
            </p:grpSpPr>
            <p:sp>
              <p:nvSpPr>
                <p:cNvPr id="2761" name=""/>
                <p:cNvSpPr/>
                <p:nvPr/>
              </p:nvSpPr>
              <p:spPr>
                <a:xfrm>
                  <a:off x="5644440" y="393840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5644440" y="393840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3" name=""/>
            <p:cNvGrpSpPr/>
            <p:nvPr/>
          </p:nvGrpSpPr>
          <p:grpSpPr>
            <a:xfrm>
              <a:off x="5633640" y="3870000"/>
              <a:ext cx="442080" cy="10800"/>
              <a:chOff x="5633640" y="3870000"/>
              <a:chExt cx="442080" cy="10800"/>
            </a:xfrm>
          </p:grpSpPr>
          <p:sp>
            <p:nvSpPr>
              <p:cNvPr id="2764" name=""/>
              <p:cNvSpPr/>
              <p:nvPr/>
            </p:nvSpPr>
            <p:spPr>
              <a:xfrm>
                <a:off x="5638680" y="3870000"/>
                <a:ext cx="432360" cy="9000"/>
              </a:xfrm>
              <a:custGeom>
                <a:avLst/>
                <a:gdLst/>
                <a:ahLst/>
                <a:rect l="l" t="t" r="r" b="b"/>
                <a:pathLst>
                  <a:path w="1562" h="33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0"/>
                    </a:lnTo>
                    <a:lnTo>
                      <a:pt x="1562" y="23"/>
                    </a:lnTo>
                    <a:lnTo>
                      <a:pt x="1539" y="33"/>
                    </a:lnTo>
                    <a:lnTo>
                      <a:pt x="149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5" name=""/>
              <p:cNvGrpSpPr/>
              <p:nvPr/>
            </p:nvGrpSpPr>
            <p:grpSpPr>
              <a:xfrm>
                <a:off x="5638680" y="3870000"/>
                <a:ext cx="437040" cy="10800"/>
                <a:chOff x="5638680" y="3870000"/>
                <a:chExt cx="437040" cy="1080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5638680" y="3870000"/>
                  <a:ext cx="437040" cy="1080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5638680" y="3870000"/>
                  <a:ext cx="437040" cy="1080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5633640" y="3870000"/>
                <a:ext cx="19080" cy="10800"/>
                <a:chOff x="5633640" y="3870000"/>
                <a:chExt cx="19080" cy="1080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5633640" y="3870000"/>
                  <a:ext cx="19080" cy="1080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5633640" y="3870000"/>
                  <a:ext cx="19080" cy="1080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1" name=""/>
            <p:cNvGrpSpPr/>
            <p:nvPr/>
          </p:nvGrpSpPr>
          <p:grpSpPr>
            <a:xfrm>
              <a:off x="5648760" y="3878280"/>
              <a:ext cx="436320" cy="11520"/>
              <a:chOff x="5648760" y="3878280"/>
              <a:chExt cx="436320" cy="11520"/>
            </a:xfrm>
          </p:grpSpPr>
          <p:sp>
            <p:nvSpPr>
              <p:cNvPr id="2772" name=""/>
              <p:cNvSpPr/>
              <p:nvPr/>
            </p:nvSpPr>
            <p:spPr>
              <a:xfrm>
                <a:off x="5655600" y="3878280"/>
                <a:ext cx="424440" cy="9720"/>
              </a:xfrm>
              <a:custGeom>
                <a:avLst/>
                <a:gdLst/>
                <a:ahLst/>
                <a:rect l="l" t="t" r="r" b="b"/>
                <a:pathLst>
                  <a:path w="1535" h="35">
                    <a:moveTo>
                      <a:pt x="0" y="0"/>
                    </a:moveTo>
                    <a:lnTo>
                      <a:pt x="1468" y="0"/>
                    </a:lnTo>
                    <a:lnTo>
                      <a:pt x="1512" y="0"/>
                    </a:lnTo>
                    <a:lnTo>
                      <a:pt x="1535" y="12"/>
                    </a:lnTo>
                    <a:lnTo>
                      <a:pt x="1535" y="25"/>
                    </a:lnTo>
                    <a:lnTo>
                      <a:pt x="1512" y="35"/>
                    </a:lnTo>
                    <a:lnTo>
                      <a:pt x="146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3" name=""/>
              <p:cNvGrpSpPr/>
              <p:nvPr/>
            </p:nvGrpSpPr>
            <p:grpSpPr>
              <a:xfrm>
                <a:off x="5655600" y="3878280"/>
                <a:ext cx="429480" cy="11520"/>
                <a:chOff x="5655600" y="3878280"/>
                <a:chExt cx="429480" cy="1152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5655600" y="3878280"/>
                  <a:ext cx="429480" cy="1152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655600" y="3878280"/>
                  <a:ext cx="429480" cy="1152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5648760" y="3878280"/>
                <a:ext cx="20160" cy="11520"/>
                <a:chOff x="5648760" y="3878280"/>
                <a:chExt cx="20160" cy="1152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5648760" y="38782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5648760" y="38782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7" name=""/>
            <p:cNvGrpSpPr/>
            <p:nvPr/>
          </p:nvGrpSpPr>
          <p:grpSpPr>
            <a:xfrm>
              <a:off x="5789160" y="3851280"/>
              <a:ext cx="195840" cy="109800"/>
              <a:chOff x="5789160" y="3851280"/>
              <a:chExt cx="195840" cy="109800"/>
            </a:xfrm>
          </p:grpSpPr>
          <p:sp>
            <p:nvSpPr>
              <p:cNvPr id="2778" name=""/>
              <p:cNvSpPr/>
              <p:nvPr/>
            </p:nvSpPr>
            <p:spPr>
              <a:xfrm>
                <a:off x="5789160" y="3851280"/>
                <a:ext cx="195840" cy="10980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789160" y="3851280"/>
                <a:ext cx="195840" cy="10980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Implementation issu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does not support authe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uthenication in IGMP. IGMP V3 only allow you to select source to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method - key distribu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ther method for the CAC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engineering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ndancy &amp; load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 only accept one ingres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3886200" y="4648320"/>
            <a:ext cx="1523160" cy="1065600"/>
            <a:chOff x="3886200" y="4648320"/>
            <a:chExt cx="1523160" cy="1065600"/>
          </a:xfrm>
        </p:grpSpPr>
        <p:grpSp>
          <p:nvGrpSpPr>
            <p:cNvPr id="2783" name=""/>
            <p:cNvGrpSpPr/>
            <p:nvPr/>
          </p:nvGrpSpPr>
          <p:grpSpPr>
            <a:xfrm>
              <a:off x="3915360" y="4698720"/>
              <a:ext cx="1494000" cy="1015200"/>
              <a:chOff x="3915360" y="4698720"/>
              <a:chExt cx="1494000" cy="1015200"/>
            </a:xfrm>
          </p:grpSpPr>
          <p:sp>
            <p:nvSpPr>
              <p:cNvPr id="2784" name=""/>
              <p:cNvSpPr/>
              <p:nvPr/>
            </p:nvSpPr>
            <p:spPr>
              <a:xfrm>
                <a:off x="3915360" y="5025240"/>
                <a:ext cx="1494000" cy="36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929400" y="5061600"/>
                <a:ext cx="1479960" cy="652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29400" y="4698720"/>
                <a:ext cx="1479960" cy="653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3886200" y="4974480"/>
              <a:ext cx="1494360" cy="36036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900600" y="5008680"/>
              <a:ext cx="1479600" cy="6555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900600" y="4648320"/>
              <a:ext cx="1479600" cy="65268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0" name=""/>
            <p:cNvGrpSpPr/>
            <p:nvPr/>
          </p:nvGrpSpPr>
          <p:grpSpPr>
            <a:xfrm>
              <a:off x="4175280" y="4732560"/>
              <a:ext cx="929520" cy="484920"/>
              <a:chOff x="4175280" y="4732560"/>
              <a:chExt cx="929520" cy="484920"/>
            </a:xfrm>
          </p:grpSpPr>
          <p:grpSp>
            <p:nvGrpSpPr>
              <p:cNvPr id="2791" name=""/>
              <p:cNvGrpSpPr/>
              <p:nvPr/>
            </p:nvGrpSpPr>
            <p:grpSpPr>
              <a:xfrm>
                <a:off x="4175280" y="4732560"/>
                <a:ext cx="929520" cy="484920"/>
                <a:chOff x="4175280" y="4732560"/>
                <a:chExt cx="929520" cy="48492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4175280" y="4732560"/>
                  <a:ext cx="421920" cy="19116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4175280" y="4732560"/>
                  <a:ext cx="421920" cy="19116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4668120" y="5041800"/>
                  <a:ext cx="436680" cy="17568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668120" y="5041800"/>
                  <a:ext cx="436680" cy="17568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4203720" y="4732560"/>
                <a:ext cx="874080" cy="484920"/>
                <a:chOff x="4203720" y="4732560"/>
                <a:chExt cx="874080" cy="484920"/>
              </a:xfrm>
            </p:grpSpPr>
            <p:sp>
              <p:nvSpPr>
                <p:cNvPr id="2797" name=""/>
                <p:cNvSpPr/>
                <p:nvPr/>
              </p:nvSpPr>
              <p:spPr>
                <a:xfrm>
                  <a:off x="4638600" y="4732560"/>
                  <a:ext cx="439200" cy="19116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638600" y="4732560"/>
                  <a:ext cx="439200" cy="19116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203720" y="5007960"/>
                  <a:ext cx="422640" cy="20952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203720" y="5007960"/>
                  <a:ext cx="422640" cy="20952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01" name=""/>
          <p:cNvSpPr/>
          <p:nvPr/>
        </p:nvSpPr>
        <p:spPr>
          <a:xfrm>
            <a:off x="2209680" y="47242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209680" y="54100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514600" y="5334120"/>
            <a:ext cx="380880" cy="380880"/>
          </a:xfrm>
          <a:prstGeom prst="noSmoking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Servic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intain Q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6" name=""/>
          <p:cNvGrpSpPr/>
          <p:nvPr/>
        </p:nvGrpSpPr>
        <p:grpSpPr>
          <a:xfrm>
            <a:off x="1981080" y="3235320"/>
            <a:ext cx="609480" cy="380520"/>
            <a:chOff x="1981080" y="3235320"/>
            <a:chExt cx="609480" cy="380520"/>
          </a:xfrm>
        </p:grpSpPr>
        <p:grpSp>
          <p:nvGrpSpPr>
            <p:cNvPr id="2807" name=""/>
            <p:cNvGrpSpPr/>
            <p:nvPr/>
          </p:nvGrpSpPr>
          <p:grpSpPr>
            <a:xfrm>
              <a:off x="1992600" y="3253320"/>
              <a:ext cx="597960" cy="362520"/>
              <a:chOff x="1992600" y="3253320"/>
              <a:chExt cx="597960" cy="362520"/>
            </a:xfrm>
          </p:grpSpPr>
          <p:sp>
            <p:nvSpPr>
              <p:cNvPr id="2808" name=""/>
              <p:cNvSpPr/>
              <p:nvPr/>
            </p:nvSpPr>
            <p:spPr>
              <a:xfrm>
                <a:off x="1992600" y="33699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998000" y="33829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1998000" y="32533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1" name=""/>
            <p:cNvSpPr/>
            <p:nvPr/>
          </p:nvSpPr>
          <p:spPr>
            <a:xfrm>
              <a:off x="1981080" y="33516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986840" y="33638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86840" y="32353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4" name=""/>
            <p:cNvGrpSpPr/>
            <p:nvPr/>
          </p:nvGrpSpPr>
          <p:grpSpPr>
            <a:xfrm>
              <a:off x="2096640" y="3265200"/>
              <a:ext cx="372240" cy="173160"/>
              <a:chOff x="2096640" y="3265200"/>
              <a:chExt cx="372240" cy="173160"/>
            </a:xfrm>
          </p:grpSpPr>
          <p:grpSp>
            <p:nvGrpSpPr>
              <p:cNvPr id="2815" name=""/>
              <p:cNvGrpSpPr/>
              <p:nvPr/>
            </p:nvGrpSpPr>
            <p:grpSpPr>
              <a:xfrm>
                <a:off x="2096640" y="3265200"/>
                <a:ext cx="372240" cy="173160"/>
                <a:chOff x="2096640" y="3265200"/>
                <a:chExt cx="372240" cy="173160"/>
              </a:xfrm>
            </p:grpSpPr>
            <p:sp>
              <p:nvSpPr>
                <p:cNvPr id="2816" name=""/>
                <p:cNvSpPr/>
                <p:nvPr/>
              </p:nvSpPr>
              <p:spPr>
                <a:xfrm>
                  <a:off x="2096640" y="3265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2096640" y="3265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2293920" y="3375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2293920" y="3375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0" name=""/>
              <p:cNvGrpSpPr/>
              <p:nvPr/>
            </p:nvGrpSpPr>
            <p:grpSpPr>
              <a:xfrm>
                <a:off x="2108160" y="3265200"/>
                <a:ext cx="349560" cy="173160"/>
                <a:chOff x="2108160" y="3265200"/>
                <a:chExt cx="349560" cy="173160"/>
              </a:xfrm>
            </p:grpSpPr>
            <p:sp>
              <p:nvSpPr>
                <p:cNvPr id="2821" name=""/>
                <p:cNvSpPr/>
                <p:nvPr/>
              </p:nvSpPr>
              <p:spPr>
                <a:xfrm>
                  <a:off x="2282040" y="3265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2282040" y="3265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2108160" y="3363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2108160" y="3363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25" name=""/>
          <p:cNvGrpSpPr/>
          <p:nvPr/>
        </p:nvGrpSpPr>
        <p:grpSpPr>
          <a:xfrm>
            <a:off x="6705720" y="2625840"/>
            <a:ext cx="533160" cy="380520"/>
            <a:chOff x="6705720" y="2625840"/>
            <a:chExt cx="533160" cy="380520"/>
          </a:xfrm>
        </p:grpSpPr>
        <p:grpSp>
          <p:nvGrpSpPr>
            <p:cNvPr id="2826" name=""/>
            <p:cNvGrpSpPr/>
            <p:nvPr/>
          </p:nvGrpSpPr>
          <p:grpSpPr>
            <a:xfrm>
              <a:off x="6808320" y="2828880"/>
              <a:ext cx="340200" cy="118080"/>
              <a:chOff x="6808320" y="2828880"/>
              <a:chExt cx="340200" cy="11808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6808320" y="2828880"/>
                <a:ext cx="340200" cy="118080"/>
                <a:chOff x="6808320" y="2828880"/>
                <a:chExt cx="340200" cy="118080"/>
              </a:xfrm>
            </p:grpSpPr>
            <p:grpSp>
              <p:nvGrpSpPr>
                <p:cNvPr id="2828" name=""/>
                <p:cNvGrpSpPr/>
                <p:nvPr/>
              </p:nvGrpSpPr>
              <p:grpSpPr>
                <a:xfrm>
                  <a:off x="6808320" y="2828880"/>
                  <a:ext cx="340200" cy="118080"/>
                  <a:chOff x="6808320" y="2828880"/>
                  <a:chExt cx="340200" cy="118080"/>
                </a:xfrm>
              </p:grpSpPr>
              <p:grpSp>
                <p:nvGrpSpPr>
                  <p:cNvPr id="2829" name=""/>
                  <p:cNvGrpSpPr/>
                  <p:nvPr/>
                </p:nvGrpSpPr>
                <p:grpSpPr>
                  <a:xfrm>
                    <a:off x="6808320" y="2828880"/>
                    <a:ext cx="339120" cy="118080"/>
                    <a:chOff x="6808320" y="2828880"/>
                    <a:chExt cx="339120" cy="118080"/>
                  </a:xfrm>
                </p:grpSpPr>
                <p:grpSp>
                  <p:nvGrpSpPr>
                    <p:cNvPr id="2830" name=""/>
                    <p:cNvGrpSpPr/>
                    <p:nvPr/>
                  </p:nvGrpSpPr>
                  <p:grpSpPr>
                    <a:xfrm>
                      <a:off x="6808320" y="2828880"/>
                      <a:ext cx="339120" cy="118080"/>
                      <a:chOff x="6808320" y="2828880"/>
                      <a:chExt cx="339120" cy="118080"/>
                    </a:xfrm>
                  </p:grpSpPr>
                  <p:sp>
                    <p:nvSpPr>
                      <p:cNvPr id="2831" name=""/>
                      <p:cNvSpPr/>
                      <p:nvPr/>
                    </p:nvSpPr>
                    <p:spPr>
                      <a:xfrm>
                        <a:off x="6809400" y="285948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2" name=""/>
                      <p:cNvSpPr/>
                      <p:nvPr/>
                    </p:nvSpPr>
                    <p:spPr>
                      <a:xfrm>
                        <a:off x="6808320" y="282888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6817320" y="285264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4" name=""/>
                  <p:cNvGrpSpPr/>
                  <p:nvPr/>
                </p:nvGrpSpPr>
                <p:grpSpPr>
                  <a:xfrm>
                    <a:off x="6822000" y="2926800"/>
                    <a:ext cx="326520" cy="17640"/>
                    <a:chOff x="6822000" y="2926800"/>
                    <a:chExt cx="326520" cy="17640"/>
                  </a:xfrm>
                </p:grpSpPr>
                <p:grpSp>
                  <p:nvGrpSpPr>
                    <p:cNvPr id="2835" name=""/>
                    <p:cNvGrpSpPr/>
                    <p:nvPr/>
                  </p:nvGrpSpPr>
                  <p:grpSpPr>
                    <a:xfrm>
                      <a:off x="6822000" y="2926800"/>
                      <a:ext cx="160560" cy="17640"/>
                      <a:chOff x="6822000" y="2926800"/>
                      <a:chExt cx="160560" cy="17640"/>
                    </a:xfrm>
                  </p:grpSpPr>
                  <p:grpSp>
                    <p:nvGrpSpPr>
                      <p:cNvPr id="2836" name=""/>
                      <p:cNvGrpSpPr/>
                      <p:nvPr/>
                    </p:nvGrpSpPr>
                    <p:grpSpPr>
                      <a:xfrm>
                        <a:off x="6822000" y="2926800"/>
                        <a:ext cx="76320" cy="17640"/>
                        <a:chOff x="6822000" y="2926800"/>
                        <a:chExt cx="76320" cy="17640"/>
                      </a:xfrm>
                    </p:grpSpPr>
                    <p:grpSp>
                      <p:nvGrpSpPr>
                        <p:cNvPr id="2837" name=""/>
                        <p:cNvGrpSpPr/>
                        <p:nvPr/>
                      </p:nvGrpSpPr>
                      <p:grpSpPr>
                        <a:xfrm>
                          <a:off x="6822000" y="2926800"/>
                          <a:ext cx="35640" cy="17640"/>
                          <a:chOff x="6822000" y="2926800"/>
                          <a:chExt cx="35640" cy="17640"/>
                        </a:xfrm>
                      </p:grpSpPr>
                      <p:grpSp>
                        <p:nvGrpSpPr>
                          <p:cNvPr id="2838" name=""/>
                          <p:cNvGrpSpPr/>
                          <p:nvPr/>
                        </p:nvGrpSpPr>
                        <p:grpSpPr>
                          <a:xfrm>
                            <a:off x="6822000" y="2926800"/>
                            <a:ext cx="20880" cy="17640"/>
                            <a:chOff x="6822000" y="2926800"/>
                            <a:chExt cx="20880" cy="17640"/>
                          </a:xfrm>
                        </p:grpSpPr>
                        <p:grpSp>
                          <p:nvGrpSpPr>
                            <p:cNvPr id="2839" name=""/>
                            <p:cNvGrpSpPr/>
                            <p:nvPr/>
                          </p:nvGrpSpPr>
                          <p:grpSpPr>
                            <a:xfrm>
                              <a:off x="6822000" y="2926800"/>
                              <a:ext cx="5040" cy="17640"/>
                              <a:chOff x="6822000" y="2926800"/>
                              <a:chExt cx="5040" cy="17640"/>
                            </a:xfrm>
                          </p:grpSpPr>
                          <p:sp>
                            <p:nvSpPr>
                              <p:cNvPr id="2840" name=""/>
                              <p:cNvSpPr/>
                              <p:nvPr/>
                            </p:nvSpPr>
                            <p:spPr>
                              <a:xfrm>
                                <a:off x="6822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1" name=""/>
                              <p:cNvSpPr/>
                              <p:nvPr/>
                            </p:nvSpPr>
                            <p:spPr>
                              <a:xfrm>
                                <a:off x="68266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42" name=""/>
                            <p:cNvGrpSpPr/>
                            <p:nvPr/>
                          </p:nvGrpSpPr>
                          <p:grpSpPr>
                            <a:xfrm>
                              <a:off x="6831360" y="2926800"/>
                              <a:ext cx="11520" cy="17640"/>
                              <a:chOff x="6831360" y="2926800"/>
                              <a:chExt cx="11520" cy="17640"/>
                            </a:xfrm>
                          </p:grpSpPr>
                          <p:sp>
                            <p:nvSpPr>
                              <p:cNvPr id="2843" name=""/>
                              <p:cNvSpPr/>
                              <p:nvPr/>
                            </p:nvSpPr>
                            <p:spPr>
                              <a:xfrm>
                                <a:off x="68313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4" name=""/>
                              <p:cNvSpPr/>
                              <p:nvPr/>
                            </p:nvSpPr>
                            <p:spPr>
                              <a:xfrm>
                                <a:off x="68367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45" name=""/>
                          <p:cNvGrpSpPr/>
                          <p:nvPr/>
                        </p:nvGrpSpPr>
                        <p:grpSpPr>
                          <a:xfrm>
                            <a:off x="6842160" y="2926800"/>
                            <a:ext cx="15480" cy="17640"/>
                            <a:chOff x="6842160" y="2926800"/>
                            <a:chExt cx="15480" cy="17640"/>
                          </a:xfrm>
                        </p:grpSpPr>
                        <p:grpSp>
                          <p:nvGrpSpPr>
                            <p:cNvPr id="2846" name=""/>
                            <p:cNvGrpSpPr/>
                            <p:nvPr/>
                          </p:nvGrpSpPr>
                          <p:grpSpPr>
                            <a:xfrm>
                              <a:off x="6842160" y="2926800"/>
                              <a:ext cx="11520" cy="17640"/>
                              <a:chOff x="6842160" y="2926800"/>
                              <a:chExt cx="11520" cy="17640"/>
                            </a:xfrm>
                          </p:grpSpPr>
                          <p:sp>
                            <p:nvSpPr>
                              <p:cNvPr id="2847" name=""/>
                              <p:cNvSpPr/>
                              <p:nvPr/>
                            </p:nvSpPr>
                            <p:spPr>
                              <a:xfrm>
                                <a:off x="68421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8" name=""/>
                              <p:cNvSpPr/>
                              <p:nvPr/>
                            </p:nvSpPr>
                            <p:spPr>
                              <a:xfrm>
                                <a:off x="684684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49" name=""/>
                            <p:cNvGrpSpPr/>
                            <p:nvPr/>
                          </p:nvGrpSpPr>
                          <p:grpSpPr>
                            <a:xfrm>
                              <a:off x="6852600" y="2926800"/>
                              <a:ext cx="5040" cy="17640"/>
                              <a:chOff x="6852600" y="2926800"/>
                              <a:chExt cx="5040" cy="17640"/>
                            </a:xfrm>
                          </p:grpSpPr>
                          <p:sp>
                            <p:nvSpPr>
                              <p:cNvPr id="2850" name=""/>
                              <p:cNvSpPr/>
                              <p:nvPr/>
                            </p:nvSpPr>
                            <p:spPr>
                              <a:xfrm>
                                <a:off x="68526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1" name=""/>
                              <p:cNvSpPr/>
                              <p:nvPr/>
                            </p:nvSpPr>
                            <p:spPr>
                              <a:xfrm>
                                <a:off x="68572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852" name=""/>
                        <p:cNvGrpSpPr/>
                        <p:nvPr/>
                      </p:nvGrpSpPr>
                      <p:grpSpPr>
                        <a:xfrm>
                          <a:off x="6861960" y="2926800"/>
                          <a:ext cx="36360" cy="17640"/>
                          <a:chOff x="6861960" y="2926800"/>
                          <a:chExt cx="36360" cy="17640"/>
                        </a:xfrm>
                      </p:grpSpPr>
                      <p:grpSp>
                        <p:nvGrpSpPr>
                          <p:cNvPr id="2853" name=""/>
                          <p:cNvGrpSpPr/>
                          <p:nvPr/>
                        </p:nvGrpSpPr>
                        <p:grpSpPr>
                          <a:xfrm>
                            <a:off x="6861960" y="2926800"/>
                            <a:ext cx="21600" cy="17640"/>
                            <a:chOff x="6861960" y="2926800"/>
                            <a:chExt cx="21600" cy="17640"/>
                          </a:xfrm>
                        </p:grpSpPr>
                        <p:grpSp>
                          <p:nvGrpSpPr>
                            <p:cNvPr id="2854" name=""/>
                            <p:cNvGrpSpPr/>
                            <p:nvPr/>
                          </p:nvGrpSpPr>
                          <p:grpSpPr>
                            <a:xfrm>
                              <a:off x="6861960" y="2926800"/>
                              <a:ext cx="16200" cy="17640"/>
                              <a:chOff x="6861960" y="2926800"/>
                              <a:chExt cx="16200" cy="17640"/>
                            </a:xfrm>
                          </p:grpSpPr>
                          <p:sp>
                            <p:nvSpPr>
                              <p:cNvPr id="2855" name=""/>
                              <p:cNvSpPr/>
                              <p:nvPr/>
                            </p:nvSpPr>
                            <p:spPr>
                              <a:xfrm>
                                <a:off x="68619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6" name=""/>
                              <p:cNvSpPr/>
                              <p:nvPr/>
                            </p:nvSpPr>
                            <p:spPr>
                              <a:xfrm>
                                <a:off x="686664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57" name=""/>
                            <p:cNvGrpSpPr/>
                            <p:nvPr/>
                          </p:nvGrpSpPr>
                          <p:grpSpPr>
                            <a:xfrm>
                              <a:off x="6871680" y="2926800"/>
                              <a:ext cx="11880" cy="17640"/>
                              <a:chOff x="6871680" y="2926800"/>
                              <a:chExt cx="11880" cy="17640"/>
                            </a:xfrm>
                          </p:grpSpPr>
                          <p:sp>
                            <p:nvSpPr>
                              <p:cNvPr id="2858" name=""/>
                              <p:cNvSpPr/>
                              <p:nvPr/>
                            </p:nvSpPr>
                            <p:spPr>
                              <a:xfrm>
                                <a:off x="6871680" y="292680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9" name=""/>
                              <p:cNvSpPr/>
                              <p:nvPr/>
                            </p:nvSpPr>
                            <p:spPr>
                              <a:xfrm>
                                <a:off x="68770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60" name=""/>
                          <p:cNvGrpSpPr/>
                          <p:nvPr/>
                        </p:nvGrpSpPr>
                        <p:grpSpPr>
                          <a:xfrm>
                            <a:off x="6882120" y="2926800"/>
                            <a:ext cx="16200" cy="17640"/>
                            <a:chOff x="6882120" y="2926800"/>
                            <a:chExt cx="16200" cy="17640"/>
                          </a:xfrm>
                        </p:grpSpPr>
                        <p:grpSp>
                          <p:nvGrpSpPr>
                            <p:cNvPr id="2861" name=""/>
                            <p:cNvGrpSpPr/>
                            <p:nvPr/>
                          </p:nvGrpSpPr>
                          <p:grpSpPr>
                            <a:xfrm>
                              <a:off x="6882120" y="2926800"/>
                              <a:ext cx="16200" cy="17640"/>
                              <a:chOff x="6882120" y="2926800"/>
                              <a:chExt cx="16200" cy="17640"/>
                            </a:xfrm>
                          </p:grpSpPr>
                          <p:sp>
                            <p:nvSpPr>
                              <p:cNvPr id="2862" name=""/>
                              <p:cNvSpPr/>
                              <p:nvPr/>
                            </p:nvSpPr>
                            <p:spPr>
                              <a:xfrm>
                                <a:off x="68821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3" name=""/>
                              <p:cNvSpPr/>
                              <p:nvPr/>
                            </p:nvSpPr>
                            <p:spPr>
                              <a:xfrm>
                                <a:off x="68868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64" name=""/>
                            <p:cNvGrpSpPr/>
                            <p:nvPr/>
                          </p:nvGrpSpPr>
                          <p:grpSpPr>
                            <a:xfrm>
                              <a:off x="6892200" y="2926800"/>
                              <a:ext cx="5400" cy="17640"/>
                              <a:chOff x="6892200" y="2926800"/>
                              <a:chExt cx="5400" cy="17640"/>
                            </a:xfrm>
                          </p:grpSpPr>
                          <p:sp>
                            <p:nvSpPr>
                              <p:cNvPr id="2865" name=""/>
                              <p:cNvSpPr/>
                              <p:nvPr/>
                            </p:nvSpPr>
                            <p:spPr>
                              <a:xfrm>
                                <a:off x="689220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6" name=""/>
                              <p:cNvSpPr/>
                              <p:nvPr/>
                            </p:nvSpPr>
                            <p:spPr>
                              <a:xfrm>
                                <a:off x="68968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867" name=""/>
                      <p:cNvGrpSpPr/>
                      <p:nvPr/>
                    </p:nvGrpSpPr>
                    <p:grpSpPr>
                      <a:xfrm>
                        <a:off x="6901920" y="2926800"/>
                        <a:ext cx="80640" cy="17640"/>
                        <a:chOff x="6901920" y="2926800"/>
                        <a:chExt cx="80640" cy="17640"/>
                      </a:xfrm>
                    </p:grpSpPr>
                    <p:grpSp>
                      <p:nvGrpSpPr>
                        <p:cNvPr id="2868" name=""/>
                        <p:cNvGrpSpPr/>
                        <p:nvPr/>
                      </p:nvGrpSpPr>
                      <p:grpSpPr>
                        <a:xfrm>
                          <a:off x="6901920" y="2926800"/>
                          <a:ext cx="45720" cy="17640"/>
                          <a:chOff x="6901920" y="2926800"/>
                          <a:chExt cx="45720" cy="17640"/>
                        </a:xfrm>
                      </p:grpSpPr>
                      <p:grpSp>
                        <p:nvGrpSpPr>
                          <p:cNvPr id="2869" name=""/>
                          <p:cNvGrpSpPr/>
                          <p:nvPr/>
                        </p:nvGrpSpPr>
                        <p:grpSpPr>
                          <a:xfrm>
                            <a:off x="6901920" y="2926800"/>
                            <a:ext cx="16200" cy="17640"/>
                            <a:chOff x="6901920" y="2926800"/>
                            <a:chExt cx="16200" cy="17640"/>
                          </a:xfrm>
                        </p:grpSpPr>
                        <p:grpSp>
                          <p:nvGrpSpPr>
                            <p:cNvPr id="2870" name=""/>
                            <p:cNvGrpSpPr/>
                            <p:nvPr/>
                          </p:nvGrpSpPr>
                          <p:grpSpPr>
                            <a:xfrm>
                              <a:off x="6901920" y="2926800"/>
                              <a:ext cx="16200" cy="17640"/>
                              <a:chOff x="6901920" y="2926800"/>
                              <a:chExt cx="16200" cy="17640"/>
                            </a:xfrm>
                          </p:grpSpPr>
                          <p:sp>
                            <p:nvSpPr>
                              <p:cNvPr id="2871" name=""/>
                              <p:cNvSpPr/>
                              <p:nvPr/>
                            </p:nvSpPr>
                            <p:spPr>
                              <a:xfrm>
                                <a:off x="69019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2" name=""/>
                              <p:cNvSpPr/>
                              <p:nvPr/>
                            </p:nvSpPr>
                            <p:spPr>
                              <a:xfrm>
                                <a:off x="69066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73" name=""/>
                            <p:cNvGrpSpPr/>
                            <p:nvPr/>
                          </p:nvGrpSpPr>
                          <p:grpSpPr>
                            <a:xfrm>
                              <a:off x="6912000" y="2926800"/>
                              <a:ext cx="4320" cy="17640"/>
                              <a:chOff x="6912000" y="2926800"/>
                              <a:chExt cx="4320" cy="17640"/>
                            </a:xfrm>
                          </p:grpSpPr>
                          <p:sp>
                            <p:nvSpPr>
                              <p:cNvPr id="2874" name=""/>
                              <p:cNvSpPr/>
                              <p:nvPr/>
                            </p:nvSpPr>
                            <p:spPr>
                              <a:xfrm>
                                <a:off x="691200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5" name=""/>
                              <p:cNvSpPr/>
                              <p:nvPr/>
                            </p:nvSpPr>
                            <p:spPr>
                              <a:xfrm>
                                <a:off x="69159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76" name=""/>
                          <p:cNvGrpSpPr/>
                          <p:nvPr/>
                        </p:nvGrpSpPr>
                        <p:grpSpPr>
                          <a:xfrm>
                            <a:off x="6922440" y="2926800"/>
                            <a:ext cx="25200" cy="17640"/>
                            <a:chOff x="6922440" y="2926800"/>
                            <a:chExt cx="25200" cy="17640"/>
                          </a:xfrm>
                        </p:grpSpPr>
                        <p:grpSp>
                          <p:nvGrpSpPr>
                            <p:cNvPr id="2877" name=""/>
                            <p:cNvGrpSpPr/>
                            <p:nvPr/>
                          </p:nvGrpSpPr>
                          <p:grpSpPr>
                            <a:xfrm>
                              <a:off x="6922440" y="2926800"/>
                              <a:ext cx="4320" cy="17640"/>
                              <a:chOff x="6922440" y="2926800"/>
                              <a:chExt cx="4320" cy="17640"/>
                            </a:xfrm>
                          </p:grpSpPr>
                          <p:sp>
                            <p:nvSpPr>
                              <p:cNvPr id="2878" name=""/>
                              <p:cNvSpPr/>
                              <p:nvPr/>
                            </p:nvSpPr>
                            <p:spPr>
                              <a:xfrm>
                                <a:off x="692244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9" name=""/>
                              <p:cNvSpPr/>
                              <p:nvPr/>
                            </p:nvSpPr>
                            <p:spPr>
                              <a:xfrm>
                                <a:off x="69264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0" name=""/>
                            <p:cNvGrpSpPr/>
                            <p:nvPr/>
                          </p:nvGrpSpPr>
                          <p:grpSpPr>
                            <a:xfrm>
                              <a:off x="6932160" y="2926800"/>
                              <a:ext cx="15480" cy="17640"/>
                              <a:chOff x="6932160" y="2926800"/>
                              <a:chExt cx="15480" cy="17640"/>
                            </a:xfrm>
                          </p:grpSpPr>
                          <p:sp>
                            <p:nvSpPr>
                              <p:cNvPr id="2881" name=""/>
                              <p:cNvSpPr/>
                              <p:nvPr/>
                            </p:nvSpPr>
                            <p:spPr>
                              <a:xfrm>
                                <a:off x="69321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2" name=""/>
                              <p:cNvSpPr/>
                              <p:nvPr/>
                            </p:nvSpPr>
                            <p:spPr>
                              <a:xfrm>
                                <a:off x="693612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883" name=""/>
                        <p:cNvGrpSpPr/>
                        <p:nvPr/>
                      </p:nvGrpSpPr>
                      <p:grpSpPr>
                        <a:xfrm>
                          <a:off x="6941880" y="2926800"/>
                          <a:ext cx="40680" cy="17640"/>
                          <a:chOff x="6941880" y="2926800"/>
                          <a:chExt cx="40680" cy="17640"/>
                        </a:xfrm>
                      </p:grpSpPr>
                      <p:grpSp>
                        <p:nvGrpSpPr>
                          <p:cNvPr id="2884" name=""/>
                          <p:cNvGrpSpPr/>
                          <p:nvPr/>
                        </p:nvGrpSpPr>
                        <p:grpSpPr>
                          <a:xfrm>
                            <a:off x="6941880" y="2926800"/>
                            <a:ext cx="15480" cy="17640"/>
                            <a:chOff x="6941880" y="2926800"/>
                            <a:chExt cx="15480" cy="17640"/>
                          </a:xfrm>
                        </p:grpSpPr>
                        <p:grpSp>
                          <p:nvGrpSpPr>
                            <p:cNvPr id="2885" name=""/>
                            <p:cNvGrpSpPr/>
                            <p:nvPr/>
                          </p:nvGrpSpPr>
                          <p:grpSpPr>
                            <a:xfrm>
                              <a:off x="6941880" y="2926800"/>
                              <a:ext cx="5040" cy="17640"/>
                              <a:chOff x="6941880" y="2926800"/>
                              <a:chExt cx="5040" cy="17640"/>
                            </a:xfrm>
                          </p:grpSpPr>
                          <p:sp>
                            <p:nvSpPr>
                              <p:cNvPr id="2886" name=""/>
                              <p:cNvSpPr/>
                              <p:nvPr/>
                            </p:nvSpPr>
                            <p:spPr>
                              <a:xfrm>
                                <a:off x="69418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7" name=""/>
                              <p:cNvSpPr/>
                              <p:nvPr/>
                            </p:nvSpPr>
                            <p:spPr>
                              <a:xfrm>
                                <a:off x="69465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8" name=""/>
                            <p:cNvGrpSpPr/>
                            <p:nvPr/>
                          </p:nvGrpSpPr>
                          <p:grpSpPr>
                            <a:xfrm>
                              <a:off x="6952320" y="2926800"/>
                              <a:ext cx="5040" cy="17640"/>
                              <a:chOff x="6952320" y="2926800"/>
                              <a:chExt cx="5040" cy="17640"/>
                            </a:xfrm>
                          </p:grpSpPr>
                          <p:sp>
                            <p:nvSpPr>
                              <p:cNvPr id="2889" name=""/>
                              <p:cNvSpPr/>
                              <p:nvPr/>
                            </p:nvSpPr>
                            <p:spPr>
                              <a:xfrm>
                                <a:off x="695232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0" name=""/>
                              <p:cNvSpPr/>
                              <p:nvPr/>
                            </p:nvSpPr>
                            <p:spPr>
                              <a:xfrm>
                                <a:off x="6957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91" name=""/>
                          <p:cNvGrpSpPr/>
                          <p:nvPr/>
                        </p:nvGrpSpPr>
                        <p:grpSpPr>
                          <a:xfrm>
                            <a:off x="6961680" y="2926800"/>
                            <a:ext cx="20880" cy="17640"/>
                            <a:chOff x="6961680" y="2926800"/>
                            <a:chExt cx="20880" cy="17640"/>
                          </a:xfrm>
                        </p:grpSpPr>
                        <p:grpSp>
                          <p:nvGrpSpPr>
                            <p:cNvPr id="2892" name=""/>
                            <p:cNvGrpSpPr/>
                            <p:nvPr/>
                          </p:nvGrpSpPr>
                          <p:grpSpPr>
                            <a:xfrm>
                              <a:off x="6961680" y="2926800"/>
                              <a:ext cx="16920" cy="17640"/>
                              <a:chOff x="6961680" y="2926800"/>
                              <a:chExt cx="16920" cy="17640"/>
                            </a:xfrm>
                          </p:grpSpPr>
                          <p:sp>
                            <p:nvSpPr>
                              <p:cNvPr id="2893" name=""/>
                              <p:cNvSpPr/>
                              <p:nvPr/>
                            </p:nvSpPr>
                            <p:spPr>
                              <a:xfrm>
                                <a:off x="69616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4" name=""/>
                              <p:cNvSpPr/>
                              <p:nvPr/>
                            </p:nvSpPr>
                            <p:spPr>
                              <a:xfrm>
                                <a:off x="696708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95" name=""/>
                            <p:cNvGrpSpPr/>
                            <p:nvPr/>
                          </p:nvGrpSpPr>
                          <p:grpSpPr>
                            <a:xfrm>
                              <a:off x="6971040" y="2926800"/>
                              <a:ext cx="11520" cy="17640"/>
                              <a:chOff x="6971040" y="2926800"/>
                              <a:chExt cx="11520" cy="17640"/>
                            </a:xfrm>
                          </p:grpSpPr>
                          <p:sp>
                            <p:nvSpPr>
                              <p:cNvPr id="2896" name=""/>
                              <p:cNvSpPr/>
                              <p:nvPr/>
                            </p:nvSpPr>
                            <p:spPr>
                              <a:xfrm>
                                <a:off x="697104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7" name=""/>
                              <p:cNvSpPr/>
                              <p:nvPr/>
                            </p:nvSpPr>
                            <p:spPr>
                              <a:xfrm>
                                <a:off x="697644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898" name=""/>
                    <p:cNvGrpSpPr/>
                    <p:nvPr/>
                  </p:nvGrpSpPr>
                  <p:grpSpPr>
                    <a:xfrm>
                      <a:off x="6982200" y="2926800"/>
                      <a:ext cx="166320" cy="17640"/>
                      <a:chOff x="6982200" y="2926800"/>
                      <a:chExt cx="166320" cy="17640"/>
                    </a:xfrm>
                  </p:grpSpPr>
                  <p:grpSp>
                    <p:nvGrpSpPr>
                      <p:cNvPr id="2899" name=""/>
                      <p:cNvGrpSpPr/>
                      <p:nvPr/>
                    </p:nvGrpSpPr>
                    <p:grpSpPr>
                      <a:xfrm>
                        <a:off x="6982200" y="2926800"/>
                        <a:ext cx="85680" cy="17640"/>
                        <a:chOff x="6982200" y="2926800"/>
                        <a:chExt cx="85680" cy="17640"/>
                      </a:xfrm>
                    </p:grpSpPr>
                    <p:grpSp>
                      <p:nvGrpSpPr>
                        <p:cNvPr id="2900" name=""/>
                        <p:cNvGrpSpPr/>
                        <p:nvPr/>
                      </p:nvGrpSpPr>
                      <p:grpSpPr>
                        <a:xfrm>
                          <a:off x="6982200" y="2926800"/>
                          <a:ext cx="36000" cy="17640"/>
                          <a:chOff x="6982200" y="2926800"/>
                          <a:chExt cx="36000" cy="17640"/>
                        </a:xfrm>
                      </p:grpSpPr>
                      <p:grpSp>
                        <p:nvGrpSpPr>
                          <p:cNvPr id="2901" name=""/>
                          <p:cNvGrpSpPr/>
                          <p:nvPr/>
                        </p:nvGrpSpPr>
                        <p:grpSpPr>
                          <a:xfrm>
                            <a:off x="6982200" y="2926800"/>
                            <a:ext cx="15480" cy="17640"/>
                            <a:chOff x="6982200" y="2926800"/>
                            <a:chExt cx="15480" cy="17640"/>
                          </a:xfrm>
                        </p:grpSpPr>
                        <p:grpSp>
                          <p:nvGrpSpPr>
                            <p:cNvPr id="2902" name=""/>
                            <p:cNvGrpSpPr/>
                            <p:nvPr/>
                          </p:nvGrpSpPr>
                          <p:grpSpPr>
                            <a:xfrm>
                              <a:off x="6982200" y="2926800"/>
                              <a:ext cx="5040" cy="17640"/>
                              <a:chOff x="6982200" y="2926800"/>
                              <a:chExt cx="5040" cy="17640"/>
                            </a:xfrm>
                          </p:grpSpPr>
                          <p:sp>
                            <p:nvSpPr>
                              <p:cNvPr id="2903" name=""/>
                              <p:cNvSpPr/>
                              <p:nvPr/>
                            </p:nvSpPr>
                            <p:spPr>
                              <a:xfrm>
                                <a:off x="69822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4" name=""/>
                              <p:cNvSpPr/>
                              <p:nvPr/>
                            </p:nvSpPr>
                            <p:spPr>
                              <a:xfrm>
                                <a:off x="69868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05" name=""/>
                            <p:cNvGrpSpPr/>
                            <p:nvPr/>
                          </p:nvGrpSpPr>
                          <p:grpSpPr>
                            <a:xfrm>
                              <a:off x="6992640" y="2926800"/>
                              <a:ext cx="5040" cy="17640"/>
                              <a:chOff x="6992640" y="2926800"/>
                              <a:chExt cx="5040" cy="17640"/>
                            </a:xfrm>
                          </p:grpSpPr>
                          <p:sp>
                            <p:nvSpPr>
                              <p:cNvPr id="2906" name=""/>
                              <p:cNvSpPr/>
                              <p:nvPr/>
                            </p:nvSpPr>
                            <p:spPr>
                              <a:xfrm>
                                <a:off x="699264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7" name=""/>
                              <p:cNvSpPr/>
                              <p:nvPr/>
                            </p:nvSpPr>
                            <p:spPr>
                              <a:xfrm>
                                <a:off x="699732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08" name=""/>
                          <p:cNvGrpSpPr/>
                          <p:nvPr/>
                        </p:nvGrpSpPr>
                        <p:grpSpPr>
                          <a:xfrm>
                            <a:off x="7002000" y="2926800"/>
                            <a:ext cx="16200" cy="17640"/>
                            <a:chOff x="7002000" y="2926800"/>
                            <a:chExt cx="16200" cy="17640"/>
                          </a:xfrm>
                        </p:grpSpPr>
                        <p:grpSp>
                          <p:nvGrpSpPr>
                            <p:cNvPr id="2909" name=""/>
                            <p:cNvGrpSpPr/>
                            <p:nvPr/>
                          </p:nvGrpSpPr>
                          <p:grpSpPr>
                            <a:xfrm>
                              <a:off x="7002000" y="2926800"/>
                              <a:ext cx="16200" cy="17640"/>
                              <a:chOff x="7002000" y="2926800"/>
                              <a:chExt cx="16200" cy="17640"/>
                            </a:xfrm>
                          </p:grpSpPr>
                          <p:sp>
                            <p:nvSpPr>
                              <p:cNvPr id="2910" name=""/>
                              <p:cNvSpPr/>
                              <p:nvPr/>
                            </p:nvSpPr>
                            <p:spPr>
                              <a:xfrm>
                                <a:off x="7002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1" name=""/>
                              <p:cNvSpPr/>
                              <p:nvPr/>
                            </p:nvSpPr>
                            <p:spPr>
                              <a:xfrm>
                                <a:off x="700668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12" name=""/>
                            <p:cNvGrpSpPr/>
                            <p:nvPr/>
                          </p:nvGrpSpPr>
                          <p:grpSpPr>
                            <a:xfrm>
                              <a:off x="7012080" y="2926800"/>
                              <a:ext cx="5040" cy="17640"/>
                              <a:chOff x="7012080" y="2926800"/>
                              <a:chExt cx="5040" cy="17640"/>
                            </a:xfrm>
                          </p:grpSpPr>
                          <p:sp>
                            <p:nvSpPr>
                              <p:cNvPr id="2913" name=""/>
                              <p:cNvSpPr/>
                              <p:nvPr/>
                            </p:nvSpPr>
                            <p:spPr>
                              <a:xfrm>
                                <a:off x="70120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4" name=""/>
                              <p:cNvSpPr/>
                              <p:nvPr/>
                            </p:nvSpPr>
                            <p:spPr>
                              <a:xfrm>
                                <a:off x="70167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915" name=""/>
                        <p:cNvGrpSpPr/>
                        <p:nvPr/>
                      </p:nvGrpSpPr>
                      <p:grpSpPr>
                        <a:xfrm>
                          <a:off x="7021800" y="2926800"/>
                          <a:ext cx="46080" cy="17640"/>
                          <a:chOff x="7021800" y="2926800"/>
                          <a:chExt cx="46080" cy="17640"/>
                        </a:xfrm>
                      </p:grpSpPr>
                      <p:grpSp>
                        <p:nvGrpSpPr>
                          <p:cNvPr id="2916" name=""/>
                          <p:cNvGrpSpPr/>
                          <p:nvPr/>
                        </p:nvGrpSpPr>
                        <p:grpSpPr>
                          <a:xfrm>
                            <a:off x="7021800" y="2926800"/>
                            <a:ext cx="16200" cy="17640"/>
                            <a:chOff x="7021800" y="2926800"/>
                            <a:chExt cx="16200" cy="17640"/>
                          </a:xfrm>
                        </p:grpSpPr>
                        <p:grpSp>
                          <p:nvGrpSpPr>
                            <p:cNvPr id="2917" name=""/>
                            <p:cNvGrpSpPr/>
                            <p:nvPr/>
                          </p:nvGrpSpPr>
                          <p:grpSpPr>
                            <a:xfrm>
                              <a:off x="7021800" y="2926800"/>
                              <a:ext cx="16200" cy="17640"/>
                              <a:chOff x="7021800" y="2926800"/>
                              <a:chExt cx="16200" cy="17640"/>
                            </a:xfrm>
                          </p:grpSpPr>
                          <p:sp>
                            <p:nvSpPr>
                              <p:cNvPr id="2918" name=""/>
                              <p:cNvSpPr/>
                              <p:nvPr/>
                            </p:nvSpPr>
                            <p:spPr>
                              <a:xfrm>
                                <a:off x="70218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9" name=""/>
                              <p:cNvSpPr/>
                              <p:nvPr/>
                            </p:nvSpPr>
                            <p:spPr>
                              <a:xfrm>
                                <a:off x="702648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20" name=""/>
                            <p:cNvGrpSpPr/>
                            <p:nvPr/>
                          </p:nvGrpSpPr>
                          <p:grpSpPr>
                            <a:xfrm>
                              <a:off x="7032240" y="2926800"/>
                              <a:ext cx="5400" cy="17640"/>
                              <a:chOff x="7032240" y="2926800"/>
                              <a:chExt cx="5400" cy="17640"/>
                            </a:xfrm>
                          </p:grpSpPr>
                          <p:sp>
                            <p:nvSpPr>
                              <p:cNvPr id="2921" name=""/>
                              <p:cNvSpPr/>
                              <p:nvPr/>
                            </p:nvSpPr>
                            <p:spPr>
                              <a:xfrm>
                                <a:off x="703224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2" name=""/>
                              <p:cNvSpPr/>
                              <p:nvPr/>
                            </p:nvSpPr>
                            <p:spPr>
                              <a:xfrm>
                                <a:off x="70369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23" name=""/>
                          <p:cNvGrpSpPr/>
                          <p:nvPr/>
                        </p:nvGrpSpPr>
                        <p:grpSpPr>
                          <a:xfrm>
                            <a:off x="7041600" y="2926800"/>
                            <a:ext cx="26280" cy="17640"/>
                            <a:chOff x="7041600" y="2926800"/>
                            <a:chExt cx="26280" cy="17640"/>
                          </a:xfrm>
                        </p:grpSpPr>
                        <p:grpSp>
                          <p:nvGrpSpPr>
                            <p:cNvPr id="2924" name=""/>
                            <p:cNvGrpSpPr/>
                            <p:nvPr/>
                          </p:nvGrpSpPr>
                          <p:grpSpPr>
                            <a:xfrm>
                              <a:off x="7041600" y="2926800"/>
                              <a:ext cx="11520" cy="17640"/>
                              <a:chOff x="7041600" y="2926800"/>
                              <a:chExt cx="11520" cy="17640"/>
                            </a:xfrm>
                          </p:grpSpPr>
                          <p:sp>
                            <p:nvSpPr>
                              <p:cNvPr id="2925" name=""/>
                              <p:cNvSpPr/>
                              <p:nvPr/>
                            </p:nvSpPr>
                            <p:spPr>
                              <a:xfrm>
                                <a:off x="70416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6" name=""/>
                              <p:cNvSpPr/>
                              <p:nvPr/>
                            </p:nvSpPr>
                            <p:spPr>
                              <a:xfrm>
                                <a:off x="7047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27" name=""/>
                            <p:cNvGrpSpPr/>
                            <p:nvPr/>
                          </p:nvGrpSpPr>
                          <p:grpSpPr>
                            <a:xfrm>
                              <a:off x="7050960" y="2926800"/>
                              <a:ext cx="16920" cy="17640"/>
                              <a:chOff x="7050960" y="2926800"/>
                              <a:chExt cx="16920" cy="17640"/>
                            </a:xfrm>
                          </p:grpSpPr>
                          <p:sp>
                            <p:nvSpPr>
                              <p:cNvPr id="2928" name=""/>
                              <p:cNvSpPr/>
                              <p:nvPr/>
                            </p:nvSpPr>
                            <p:spPr>
                              <a:xfrm>
                                <a:off x="70509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9" name=""/>
                              <p:cNvSpPr/>
                              <p:nvPr/>
                            </p:nvSpPr>
                            <p:spPr>
                              <a:xfrm>
                                <a:off x="70563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930" name=""/>
                      <p:cNvGrpSpPr/>
                      <p:nvPr/>
                    </p:nvGrpSpPr>
                    <p:grpSpPr>
                      <a:xfrm>
                        <a:off x="7062120" y="2926800"/>
                        <a:ext cx="86400" cy="17640"/>
                        <a:chOff x="7062120" y="2926800"/>
                        <a:chExt cx="86400" cy="17640"/>
                      </a:xfrm>
                    </p:grpSpPr>
                    <p:grpSp>
                      <p:nvGrpSpPr>
                        <p:cNvPr id="2931" name=""/>
                        <p:cNvGrpSpPr/>
                        <p:nvPr/>
                      </p:nvGrpSpPr>
                      <p:grpSpPr>
                        <a:xfrm>
                          <a:off x="7062120" y="2926800"/>
                          <a:ext cx="41400" cy="17640"/>
                          <a:chOff x="7062120" y="2926800"/>
                          <a:chExt cx="41400" cy="17640"/>
                        </a:xfrm>
                      </p:grpSpPr>
                      <p:grpSp>
                        <p:nvGrpSpPr>
                          <p:cNvPr id="2932" name=""/>
                          <p:cNvGrpSpPr/>
                          <p:nvPr/>
                        </p:nvGrpSpPr>
                        <p:grpSpPr>
                          <a:xfrm>
                            <a:off x="7062120" y="2926800"/>
                            <a:ext cx="21600" cy="17640"/>
                            <a:chOff x="7062120" y="2926800"/>
                            <a:chExt cx="21600" cy="17640"/>
                          </a:xfrm>
                        </p:grpSpPr>
                        <p:grpSp>
                          <p:nvGrpSpPr>
                            <p:cNvPr id="2933" name=""/>
                            <p:cNvGrpSpPr/>
                            <p:nvPr/>
                          </p:nvGrpSpPr>
                          <p:grpSpPr>
                            <a:xfrm>
                              <a:off x="7062120" y="2926800"/>
                              <a:ext cx="16200" cy="17640"/>
                              <a:chOff x="7062120" y="2926800"/>
                              <a:chExt cx="16200" cy="17640"/>
                            </a:xfrm>
                          </p:grpSpPr>
                          <p:sp>
                            <p:nvSpPr>
                              <p:cNvPr id="2934" name=""/>
                              <p:cNvSpPr/>
                              <p:nvPr/>
                            </p:nvSpPr>
                            <p:spPr>
                              <a:xfrm>
                                <a:off x="706212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5" name=""/>
                              <p:cNvSpPr/>
                              <p:nvPr/>
                            </p:nvSpPr>
                            <p:spPr>
                              <a:xfrm>
                                <a:off x="70668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36" name=""/>
                            <p:cNvGrpSpPr/>
                            <p:nvPr/>
                          </p:nvGrpSpPr>
                          <p:grpSpPr>
                            <a:xfrm>
                              <a:off x="7072200" y="2926800"/>
                              <a:ext cx="11520" cy="17640"/>
                              <a:chOff x="7072200" y="2926800"/>
                              <a:chExt cx="11520" cy="17640"/>
                            </a:xfrm>
                          </p:grpSpPr>
                          <p:sp>
                            <p:nvSpPr>
                              <p:cNvPr id="2937" name=""/>
                              <p:cNvSpPr/>
                              <p:nvPr/>
                            </p:nvSpPr>
                            <p:spPr>
                              <a:xfrm>
                                <a:off x="70722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8" name=""/>
                              <p:cNvSpPr/>
                              <p:nvPr/>
                            </p:nvSpPr>
                            <p:spPr>
                              <a:xfrm>
                                <a:off x="70768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39" name=""/>
                          <p:cNvGrpSpPr/>
                          <p:nvPr/>
                        </p:nvGrpSpPr>
                        <p:grpSpPr>
                          <a:xfrm>
                            <a:off x="7081920" y="2926800"/>
                            <a:ext cx="21600" cy="17640"/>
                            <a:chOff x="7081920" y="2926800"/>
                            <a:chExt cx="21600" cy="17640"/>
                          </a:xfrm>
                        </p:grpSpPr>
                        <p:grpSp>
                          <p:nvGrpSpPr>
                            <p:cNvPr id="2940" name=""/>
                            <p:cNvGrpSpPr/>
                            <p:nvPr/>
                          </p:nvGrpSpPr>
                          <p:grpSpPr>
                            <a:xfrm>
                              <a:off x="7081920" y="2926800"/>
                              <a:ext cx="16200" cy="17640"/>
                              <a:chOff x="7081920" y="2926800"/>
                              <a:chExt cx="16200" cy="17640"/>
                            </a:xfrm>
                          </p:grpSpPr>
                          <p:sp>
                            <p:nvSpPr>
                              <p:cNvPr id="2941" name=""/>
                              <p:cNvSpPr/>
                              <p:nvPr/>
                            </p:nvSpPr>
                            <p:spPr>
                              <a:xfrm>
                                <a:off x="70819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2" name=""/>
                              <p:cNvSpPr/>
                              <p:nvPr/>
                            </p:nvSpPr>
                            <p:spPr>
                              <a:xfrm>
                                <a:off x="70866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43" name=""/>
                            <p:cNvGrpSpPr/>
                            <p:nvPr/>
                          </p:nvGrpSpPr>
                          <p:grpSpPr>
                            <a:xfrm>
                              <a:off x="7092000" y="2926800"/>
                              <a:ext cx="11520" cy="17640"/>
                              <a:chOff x="7092000" y="2926800"/>
                              <a:chExt cx="11520" cy="17640"/>
                            </a:xfrm>
                          </p:grpSpPr>
                          <p:sp>
                            <p:nvSpPr>
                              <p:cNvPr id="2944" name=""/>
                              <p:cNvSpPr/>
                              <p:nvPr/>
                            </p:nvSpPr>
                            <p:spPr>
                              <a:xfrm>
                                <a:off x="70920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5" name=""/>
                              <p:cNvSpPr/>
                              <p:nvPr/>
                            </p:nvSpPr>
                            <p:spPr>
                              <a:xfrm>
                                <a:off x="70966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946" name=""/>
                        <p:cNvGrpSpPr/>
                        <p:nvPr/>
                      </p:nvGrpSpPr>
                      <p:grpSpPr>
                        <a:xfrm>
                          <a:off x="7102800" y="2926800"/>
                          <a:ext cx="45720" cy="17640"/>
                          <a:chOff x="7102800" y="2926800"/>
                          <a:chExt cx="45720" cy="17640"/>
                        </a:xfrm>
                      </p:grpSpPr>
                      <p:grpSp>
                        <p:nvGrpSpPr>
                          <p:cNvPr id="2947" name=""/>
                          <p:cNvGrpSpPr/>
                          <p:nvPr/>
                        </p:nvGrpSpPr>
                        <p:grpSpPr>
                          <a:xfrm>
                            <a:off x="7102800" y="2926800"/>
                            <a:ext cx="14760" cy="17640"/>
                            <a:chOff x="7102800" y="2926800"/>
                            <a:chExt cx="14760" cy="17640"/>
                          </a:xfrm>
                        </p:grpSpPr>
                        <p:grpSp>
                          <p:nvGrpSpPr>
                            <p:cNvPr id="2948" name=""/>
                            <p:cNvGrpSpPr/>
                            <p:nvPr/>
                          </p:nvGrpSpPr>
                          <p:grpSpPr>
                            <a:xfrm>
                              <a:off x="7102800" y="2926800"/>
                              <a:ext cx="4320" cy="17640"/>
                              <a:chOff x="7102800" y="2926800"/>
                              <a:chExt cx="4320" cy="17640"/>
                            </a:xfrm>
                          </p:grpSpPr>
                          <p:sp>
                            <p:nvSpPr>
                              <p:cNvPr id="2949" name=""/>
                              <p:cNvSpPr/>
                              <p:nvPr/>
                            </p:nvSpPr>
                            <p:spPr>
                              <a:xfrm>
                                <a:off x="710280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0" name=""/>
                              <p:cNvSpPr/>
                              <p:nvPr/>
                            </p:nvSpPr>
                            <p:spPr>
                              <a:xfrm>
                                <a:off x="71067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51" name=""/>
                            <p:cNvGrpSpPr/>
                            <p:nvPr/>
                          </p:nvGrpSpPr>
                          <p:grpSpPr>
                            <a:xfrm>
                              <a:off x="7112520" y="2926800"/>
                              <a:ext cx="5040" cy="17640"/>
                              <a:chOff x="7112520" y="2926800"/>
                              <a:chExt cx="5040" cy="17640"/>
                            </a:xfrm>
                          </p:grpSpPr>
                          <p:sp>
                            <p:nvSpPr>
                              <p:cNvPr id="2952" name=""/>
                              <p:cNvSpPr/>
                              <p:nvPr/>
                            </p:nvSpPr>
                            <p:spPr>
                              <a:xfrm>
                                <a:off x="71125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3" name=""/>
                              <p:cNvSpPr/>
                              <p:nvPr/>
                            </p:nvSpPr>
                            <p:spPr>
                              <a:xfrm>
                                <a:off x="71172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54" name=""/>
                          <p:cNvGrpSpPr/>
                          <p:nvPr/>
                        </p:nvGrpSpPr>
                        <p:grpSpPr>
                          <a:xfrm>
                            <a:off x="7122240" y="2926800"/>
                            <a:ext cx="26280" cy="17640"/>
                            <a:chOff x="7122240" y="2926800"/>
                            <a:chExt cx="26280" cy="17640"/>
                          </a:xfrm>
                        </p:grpSpPr>
                        <p:grpSp>
                          <p:nvGrpSpPr>
                            <p:cNvPr id="2955" name=""/>
                            <p:cNvGrpSpPr/>
                            <p:nvPr/>
                          </p:nvGrpSpPr>
                          <p:grpSpPr>
                            <a:xfrm>
                              <a:off x="7122240" y="2926800"/>
                              <a:ext cx="11520" cy="17640"/>
                              <a:chOff x="7122240" y="2926800"/>
                              <a:chExt cx="11520" cy="17640"/>
                            </a:xfrm>
                          </p:grpSpPr>
                          <p:sp>
                            <p:nvSpPr>
                              <p:cNvPr id="2956" name=""/>
                              <p:cNvSpPr/>
                              <p:nvPr/>
                            </p:nvSpPr>
                            <p:spPr>
                              <a:xfrm>
                                <a:off x="712224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7" name=""/>
                              <p:cNvSpPr/>
                              <p:nvPr/>
                            </p:nvSpPr>
                            <p:spPr>
                              <a:xfrm>
                                <a:off x="712764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58" name=""/>
                            <p:cNvGrpSpPr/>
                            <p:nvPr/>
                          </p:nvGrpSpPr>
                          <p:grpSpPr>
                            <a:xfrm>
                              <a:off x="7132320" y="2926800"/>
                              <a:ext cx="16200" cy="17640"/>
                              <a:chOff x="7132320" y="2926800"/>
                              <a:chExt cx="16200" cy="17640"/>
                            </a:xfrm>
                          </p:grpSpPr>
                          <p:sp>
                            <p:nvSpPr>
                              <p:cNvPr id="2959" name=""/>
                              <p:cNvSpPr/>
                              <p:nvPr/>
                            </p:nvSpPr>
                            <p:spPr>
                              <a:xfrm>
                                <a:off x="713232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0" name=""/>
                              <p:cNvSpPr/>
                              <p:nvPr/>
                            </p:nvSpPr>
                            <p:spPr>
                              <a:xfrm>
                                <a:off x="71370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2961" name=""/>
                <p:cNvGrpSpPr/>
                <p:nvPr/>
              </p:nvGrpSpPr>
              <p:grpSpPr>
                <a:xfrm>
                  <a:off x="6819120" y="2866680"/>
                  <a:ext cx="315000" cy="41760"/>
                  <a:chOff x="6819120" y="2866680"/>
                  <a:chExt cx="315000" cy="41760"/>
                </a:xfrm>
              </p:grpSpPr>
              <p:sp>
                <p:nvSpPr>
                  <p:cNvPr id="2962" name=""/>
                  <p:cNvSpPr/>
                  <p:nvPr/>
                </p:nvSpPr>
                <p:spPr>
                  <a:xfrm>
                    <a:off x="6819120" y="286668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>
                    <a:off x="6888600" y="286668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6986880" y="286668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7094160" y="286668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6" name=""/>
              <p:cNvGrpSpPr/>
              <p:nvPr/>
            </p:nvGrpSpPr>
            <p:grpSpPr>
              <a:xfrm>
                <a:off x="7099200" y="2871720"/>
                <a:ext cx="25200" cy="19440"/>
                <a:chOff x="7099200" y="2871720"/>
                <a:chExt cx="25200" cy="1944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7113600" y="287172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115400" y="287892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9" name=""/>
                <p:cNvGrpSpPr/>
                <p:nvPr/>
              </p:nvGrpSpPr>
              <p:grpSpPr>
                <a:xfrm>
                  <a:off x="7099200" y="2874240"/>
                  <a:ext cx="5400" cy="16920"/>
                  <a:chOff x="7099200" y="2874240"/>
                  <a:chExt cx="5400" cy="16920"/>
                </a:xfrm>
              </p:grpSpPr>
              <p:sp>
                <p:nvSpPr>
                  <p:cNvPr id="2970" name=""/>
                  <p:cNvSpPr/>
                  <p:nvPr/>
                </p:nvSpPr>
                <p:spPr>
                  <a:xfrm>
                    <a:off x="7099200" y="28742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7099200" y="28868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2" name=""/>
              <p:cNvGrpSpPr/>
              <p:nvPr/>
            </p:nvGrpSpPr>
            <p:grpSpPr>
              <a:xfrm>
                <a:off x="6892560" y="2872800"/>
                <a:ext cx="85680" cy="27720"/>
                <a:chOff x="6892560" y="2872800"/>
                <a:chExt cx="85680" cy="27720"/>
              </a:xfrm>
            </p:grpSpPr>
            <p:grpSp>
              <p:nvGrpSpPr>
                <p:cNvPr id="2973" name=""/>
                <p:cNvGrpSpPr/>
                <p:nvPr/>
              </p:nvGrpSpPr>
              <p:grpSpPr>
                <a:xfrm>
                  <a:off x="6893280" y="2872800"/>
                  <a:ext cx="84960" cy="15480"/>
                  <a:chOff x="6893280" y="2872800"/>
                  <a:chExt cx="84960" cy="15480"/>
                </a:xfrm>
              </p:grpSpPr>
              <p:sp>
                <p:nvSpPr>
                  <p:cNvPr id="2974" name=""/>
                  <p:cNvSpPr/>
                  <p:nvPr/>
                </p:nvSpPr>
                <p:spPr>
                  <a:xfrm>
                    <a:off x="6921720" y="287280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6921720" y="288036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6893280" y="287928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7" name=""/>
                <p:cNvSpPr/>
                <p:nvPr/>
              </p:nvSpPr>
              <p:spPr>
                <a:xfrm>
                  <a:off x="6892560" y="287424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966000" y="289620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6822720" y="2899440"/>
                <a:ext cx="67320" cy="9360"/>
                <a:chOff x="6822720" y="2899440"/>
                <a:chExt cx="67320" cy="9360"/>
              </a:xfrm>
            </p:grpSpPr>
            <p:grpSp>
              <p:nvGrpSpPr>
                <p:cNvPr id="2980" name=""/>
                <p:cNvGrpSpPr/>
                <p:nvPr/>
              </p:nvGrpSpPr>
              <p:grpSpPr>
                <a:xfrm>
                  <a:off x="6822720" y="2899440"/>
                  <a:ext cx="37080" cy="9360"/>
                  <a:chOff x="6822720" y="2899440"/>
                  <a:chExt cx="37080" cy="9360"/>
                </a:xfrm>
              </p:grpSpPr>
              <p:grpSp>
                <p:nvGrpSpPr>
                  <p:cNvPr id="2981" name=""/>
                  <p:cNvGrpSpPr/>
                  <p:nvPr/>
                </p:nvGrpSpPr>
                <p:grpSpPr>
                  <a:xfrm>
                    <a:off x="6822720" y="2899440"/>
                    <a:ext cx="23040" cy="9360"/>
                    <a:chOff x="6822720" y="2899440"/>
                    <a:chExt cx="23040" cy="9360"/>
                  </a:xfrm>
                </p:grpSpPr>
                <p:grpSp>
                  <p:nvGrpSpPr>
                    <p:cNvPr id="2982" name=""/>
                    <p:cNvGrpSpPr/>
                    <p:nvPr/>
                  </p:nvGrpSpPr>
                  <p:grpSpPr>
                    <a:xfrm>
                      <a:off x="6822720" y="2899440"/>
                      <a:ext cx="14760" cy="9360"/>
                      <a:chOff x="6822720" y="2899440"/>
                      <a:chExt cx="14760" cy="9360"/>
                    </a:xfrm>
                  </p:grpSpPr>
                  <p:sp>
                    <p:nvSpPr>
                      <p:cNvPr id="2983" name=""/>
                      <p:cNvSpPr/>
                      <p:nvPr/>
                    </p:nvSpPr>
                    <p:spPr>
                      <a:xfrm>
                        <a:off x="68227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4" name=""/>
                      <p:cNvSpPr/>
                      <p:nvPr/>
                    </p:nvSpPr>
                    <p:spPr>
                      <a:xfrm>
                        <a:off x="682596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85" name=""/>
                    <p:cNvGrpSpPr/>
                    <p:nvPr/>
                  </p:nvGrpSpPr>
                  <p:grpSpPr>
                    <a:xfrm>
                      <a:off x="6829560" y="2899440"/>
                      <a:ext cx="16200" cy="9360"/>
                      <a:chOff x="6829560" y="2899440"/>
                      <a:chExt cx="16200" cy="9360"/>
                    </a:xfrm>
                  </p:grpSpPr>
                  <p:sp>
                    <p:nvSpPr>
                      <p:cNvPr id="2986" name=""/>
                      <p:cNvSpPr/>
                      <p:nvPr/>
                    </p:nvSpPr>
                    <p:spPr>
                      <a:xfrm>
                        <a:off x="682956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7" name=""/>
                      <p:cNvSpPr/>
                      <p:nvPr/>
                    </p:nvSpPr>
                    <p:spPr>
                      <a:xfrm>
                        <a:off x="683388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88" name=""/>
                  <p:cNvGrpSpPr/>
                  <p:nvPr/>
                </p:nvGrpSpPr>
                <p:grpSpPr>
                  <a:xfrm>
                    <a:off x="6837120" y="2899440"/>
                    <a:ext cx="22680" cy="9360"/>
                    <a:chOff x="6837120" y="2899440"/>
                    <a:chExt cx="22680" cy="9360"/>
                  </a:xfrm>
                </p:grpSpPr>
                <p:grpSp>
                  <p:nvGrpSpPr>
                    <p:cNvPr id="2989" name=""/>
                    <p:cNvGrpSpPr/>
                    <p:nvPr/>
                  </p:nvGrpSpPr>
                  <p:grpSpPr>
                    <a:xfrm>
                      <a:off x="6837120" y="2899440"/>
                      <a:ext cx="14760" cy="9360"/>
                      <a:chOff x="6837120" y="2899440"/>
                      <a:chExt cx="14760" cy="9360"/>
                    </a:xfrm>
                  </p:grpSpPr>
                  <p:sp>
                    <p:nvSpPr>
                      <p:cNvPr id="2990" name=""/>
                      <p:cNvSpPr/>
                      <p:nvPr/>
                    </p:nvSpPr>
                    <p:spPr>
                      <a:xfrm>
                        <a:off x="68371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1" name=""/>
                      <p:cNvSpPr/>
                      <p:nvPr/>
                    </p:nvSpPr>
                    <p:spPr>
                      <a:xfrm>
                        <a:off x="684036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2" name=""/>
                    <p:cNvGrpSpPr/>
                    <p:nvPr/>
                  </p:nvGrpSpPr>
                  <p:grpSpPr>
                    <a:xfrm>
                      <a:off x="6844320" y="2899440"/>
                      <a:ext cx="15480" cy="9360"/>
                      <a:chOff x="6844320" y="2899440"/>
                      <a:chExt cx="15480" cy="9360"/>
                    </a:xfrm>
                  </p:grpSpPr>
                  <p:sp>
                    <p:nvSpPr>
                      <p:cNvPr id="2993" name=""/>
                      <p:cNvSpPr/>
                      <p:nvPr/>
                    </p:nvSpPr>
                    <p:spPr>
                      <a:xfrm>
                        <a:off x="68443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4" name=""/>
                      <p:cNvSpPr/>
                      <p:nvPr/>
                    </p:nvSpPr>
                    <p:spPr>
                      <a:xfrm>
                        <a:off x="684828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95" name=""/>
                <p:cNvGrpSpPr/>
                <p:nvPr/>
              </p:nvGrpSpPr>
              <p:grpSpPr>
                <a:xfrm>
                  <a:off x="6852240" y="2899440"/>
                  <a:ext cx="37800" cy="9360"/>
                  <a:chOff x="6852240" y="2899440"/>
                  <a:chExt cx="37800" cy="9360"/>
                </a:xfrm>
              </p:grpSpPr>
              <p:grpSp>
                <p:nvGrpSpPr>
                  <p:cNvPr id="2996" name=""/>
                  <p:cNvGrpSpPr/>
                  <p:nvPr/>
                </p:nvGrpSpPr>
                <p:grpSpPr>
                  <a:xfrm>
                    <a:off x="6852240" y="2899440"/>
                    <a:ext cx="23040" cy="9360"/>
                    <a:chOff x="6852240" y="2899440"/>
                    <a:chExt cx="23040" cy="9360"/>
                  </a:xfrm>
                </p:grpSpPr>
                <p:grpSp>
                  <p:nvGrpSpPr>
                    <p:cNvPr id="2997" name=""/>
                    <p:cNvGrpSpPr/>
                    <p:nvPr/>
                  </p:nvGrpSpPr>
                  <p:grpSpPr>
                    <a:xfrm>
                      <a:off x="6852240" y="2899440"/>
                      <a:ext cx="15840" cy="9360"/>
                      <a:chOff x="6852240" y="2899440"/>
                      <a:chExt cx="15840" cy="9360"/>
                    </a:xfrm>
                  </p:grpSpPr>
                  <p:sp>
                    <p:nvSpPr>
                      <p:cNvPr id="2998" name=""/>
                      <p:cNvSpPr/>
                      <p:nvPr/>
                    </p:nvSpPr>
                    <p:spPr>
                      <a:xfrm>
                        <a:off x="685224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9" name=""/>
                      <p:cNvSpPr/>
                      <p:nvPr/>
                    </p:nvSpPr>
                    <p:spPr>
                      <a:xfrm>
                        <a:off x="685620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0" name=""/>
                    <p:cNvGrpSpPr/>
                    <p:nvPr/>
                  </p:nvGrpSpPr>
                  <p:grpSpPr>
                    <a:xfrm>
                      <a:off x="6860520" y="2899440"/>
                      <a:ext cx="14760" cy="9360"/>
                      <a:chOff x="6860520" y="2899440"/>
                      <a:chExt cx="14760" cy="9360"/>
                    </a:xfrm>
                  </p:grpSpPr>
                  <p:sp>
                    <p:nvSpPr>
                      <p:cNvPr id="3001" name=""/>
                      <p:cNvSpPr/>
                      <p:nvPr/>
                    </p:nvSpPr>
                    <p:spPr>
                      <a:xfrm>
                        <a:off x="68605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2" name=""/>
                      <p:cNvSpPr/>
                      <p:nvPr/>
                    </p:nvSpPr>
                    <p:spPr>
                      <a:xfrm>
                        <a:off x="686376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03" name=""/>
                  <p:cNvGrpSpPr/>
                  <p:nvPr/>
                </p:nvGrpSpPr>
                <p:grpSpPr>
                  <a:xfrm>
                    <a:off x="6867360" y="2899440"/>
                    <a:ext cx="22680" cy="9360"/>
                    <a:chOff x="6867360" y="2899440"/>
                    <a:chExt cx="22680" cy="9360"/>
                  </a:xfrm>
                </p:grpSpPr>
                <p:grpSp>
                  <p:nvGrpSpPr>
                    <p:cNvPr id="3004" name=""/>
                    <p:cNvGrpSpPr/>
                    <p:nvPr/>
                  </p:nvGrpSpPr>
                  <p:grpSpPr>
                    <a:xfrm>
                      <a:off x="6867360" y="2899440"/>
                      <a:ext cx="15840" cy="9360"/>
                      <a:chOff x="6867360" y="2899440"/>
                      <a:chExt cx="15840" cy="9360"/>
                    </a:xfrm>
                  </p:grpSpPr>
                  <p:sp>
                    <p:nvSpPr>
                      <p:cNvPr id="3005" name=""/>
                      <p:cNvSpPr/>
                      <p:nvPr/>
                    </p:nvSpPr>
                    <p:spPr>
                      <a:xfrm>
                        <a:off x="686736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6" name=""/>
                      <p:cNvSpPr/>
                      <p:nvPr/>
                    </p:nvSpPr>
                    <p:spPr>
                      <a:xfrm>
                        <a:off x="687132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7" name=""/>
                    <p:cNvGrpSpPr/>
                    <p:nvPr/>
                  </p:nvGrpSpPr>
                  <p:grpSpPr>
                    <a:xfrm>
                      <a:off x="6875640" y="2899440"/>
                      <a:ext cx="14400" cy="9360"/>
                      <a:chOff x="6875640" y="2899440"/>
                      <a:chExt cx="14400" cy="9360"/>
                    </a:xfrm>
                  </p:grpSpPr>
                  <p:sp>
                    <p:nvSpPr>
                      <p:cNvPr id="3008" name=""/>
                      <p:cNvSpPr/>
                      <p:nvPr/>
                    </p:nvSpPr>
                    <p:spPr>
                      <a:xfrm>
                        <a:off x="687564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9" name=""/>
                      <p:cNvSpPr/>
                      <p:nvPr/>
                    </p:nvSpPr>
                    <p:spPr>
                      <a:xfrm>
                        <a:off x="687816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010" name=""/>
              <p:cNvSpPr/>
              <p:nvPr/>
            </p:nvSpPr>
            <p:spPr>
              <a:xfrm>
                <a:off x="6817320" y="289116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1" name=""/>
            <p:cNvGrpSpPr/>
            <p:nvPr/>
          </p:nvGrpSpPr>
          <p:grpSpPr>
            <a:xfrm>
              <a:off x="6705720" y="2943720"/>
              <a:ext cx="533160" cy="62640"/>
              <a:chOff x="6705720" y="2943720"/>
              <a:chExt cx="533160" cy="62640"/>
            </a:xfrm>
          </p:grpSpPr>
          <p:grpSp>
            <p:nvGrpSpPr>
              <p:cNvPr id="3012" name=""/>
              <p:cNvGrpSpPr/>
              <p:nvPr/>
            </p:nvGrpSpPr>
            <p:grpSpPr>
              <a:xfrm>
                <a:off x="6705720" y="2943720"/>
                <a:ext cx="533160" cy="62640"/>
                <a:chOff x="6705720" y="2943720"/>
                <a:chExt cx="533160" cy="6264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6708240" y="29988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6705720" y="29437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6721560" y="29494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6" name=""/>
              <p:cNvGrpSpPr/>
              <p:nvPr/>
            </p:nvGrpSpPr>
            <p:grpSpPr>
              <a:xfrm>
                <a:off x="6764400" y="2948400"/>
                <a:ext cx="419760" cy="14400"/>
                <a:chOff x="6764400" y="2948400"/>
                <a:chExt cx="419760" cy="14400"/>
              </a:xfrm>
            </p:grpSpPr>
            <p:sp>
              <p:nvSpPr>
                <p:cNvPr id="3017" name=""/>
                <p:cNvSpPr/>
                <p:nvPr/>
              </p:nvSpPr>
              <p:spPr>
                <a:xfrm>
                  <a:off x="6764400" y="29484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804360" y="29484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890040" y="29484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6966000" y="29484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044120" y="29484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113960" y="29534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3" name=""/>
              <p:cNvGrpSpPr/>
              <p:nvPr/>
            </p:nvGrpSpPr>
            <p:grpSpPr>
              <a:xfrm>
                <a:off x="6751080" y="2962440"/>
                <a:ext cx="435240" cy="21960"/>
                <a:chOff x="6751080" y="2962440"/>
                <a:chExt cx="435240" cy="21960"/>
              </a:xfrm>
            </p:grpSpPr>
            <p:grpSp>
              <p:nvGrpSpPr>
                <p:cNvPr id="3024" name=""/>
                <p:cNvGrpSpPr/>
                <p:nvPr/>
              </p:nvGrpSpPr>
              <p:grpSpPr>
                <a:xfrm>
                  <a:off x="6788880" y="2963160"/>
                  <a:ext cx="212760" cy="19080"/>
                  <a:chOff x="6788880" y="2963160"/>
                  <a:chExt cx="212760" cy="19080"/>
                </a:xfrm>
              </p:grpSpPr>
              <p:sp>
                <p:nvSpPr>
                  <p:cNvPr id="3025" name=""/>
                  <p:cNvSpPr/>
                  <p:nvPr/>
                </p:nvSpPr>
                <p:spPr>
                  <a:xfrm>
                    <a:off x="6788880" y="29631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6797160" y="29692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6799680" y="29754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6804000" y="29822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9" name=""/>
                <p:cNvGrpSpPr/>
                <p:nvPr/>
              </p:nvGrpSpPr>
              <p:grpSpPr>
                <a:xfrm>
                  <a:off x="6751080" y="2966040"/>
                  <a:ext cx="30960" cy="12240"/>
                  <a:chOff x="6751080" y="2966040"/>
                  <a:chExt cx="30960" cy="12240"/>
                </a:xfrm>
              </p:grpSpPr>
              <p:sp>
                <p:nvSpPr>
                  <p:cNvPr id="3030" name=""/>
                  <p:cNvSpPr/>
                  <p:nvPr/>
                </p:nvSpPr>
                <p:spPr>
                  <a:xfrm>
                    <a:off x="6760080" y="29660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6756480" y="29725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6751080" y="29782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3" name=""/>
                <p:cNvGrpSpPr/>
                <p:nvPr/>
              </p:nvGrpSpPr>
              <p:grpSpPr>
                <a:xfrm>
                  <a:off x="6835320" y="2962440"/>
                  <a:ext cx="194760" cy="20880"/>
                  <a:chOff x="6835320" y="2962440"/>
                  <a:chExt cx="194760" cy="20880"/>
                </a:xfrm>
              </p:grpSpPr>
              <p:sp>
                <p:nvSpPr>
                  <p:cNvPr id="3034" name=""/>
                  <p:cNvSpPr/>
                  <p:nvPr/>
                </p:nvSpPr>
                <p:spPr>
                  <a:xfrm>
                    <a:off x="6835320" y="29826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7005240" y="29624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7012800" y="29696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6996960" y="29764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6964920" y="29826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6990840" y="29833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0" name=""/>
                <p:cNvGrpSpPr/>
                <p:nvPr/>
              </p:nvGrpSpPr>
              <p:grpSpPr>
                <a:xfrm>
                  <a:off x="7045200" y="2966040"/>
                  <a:ext cx="56160" cy="17280"/>
                  <a:chOff x="7045200" y="2966040"/>
                  <a:chExt cx="56160" cy="17280"/>
                </a:xfrm>
              </p:grpSpPr>
              <p:sp>
                <p:nvSpPr>
                  <p:cNvPr id="3041" name=""/>
                  <p:cNvSpPr/>
                  <p:nvPr/>
                </p:nvSpPr>
                <p:spPr>
                  <a:xfrm>
                    <a:off x="7045200" y="29660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7053480" y="29739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7053840" y="29833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4" name=""/>
                <p:cNvGrpSpPr/>
                <p:nvPr/>
              </p:nvGrpSpPr>
              <p:grpSpPr>
                <a:xfrm>
                  <a:off x="7118640" y="2966040"/>
                  <a:ext cx="67680" cy="18360"/>
                  <a:chOff x="7118640" y="2966040"/>
                  <a:chExt cx="67680" cy="1836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>
                    <a:off x="7123320" y="29660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7118640" y="29725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123320" y="29782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7121880" y="29844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7173000" y="29732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178040" y="29811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51" name=""/>
            <p:cNvGrpSpPr/>
            <p:nvPr/>
          </p:nvGrpSpPr>
          <p:grpSpPr>
            <a:xfrm>
              <a:off x="6862320" y="2807640"/>
              <a:ext cx="231840" cy="38160"/>
              <a:chOff x="6862320" y="2807640"/>
              <a:chExt cx="231840" cy="38160"/>
            </a:xfrm>
          </p:grpSpPr>
          <p:grpSp>
            <p:nvGrpSpPr>
              <p:cNvPr id="3052" name=""/>
              <p:cNvGrpSpPr/>
              <p:nvPr/>
            </p:nvGrpSpPr>
            <p:grpSpPr>
              <a:xfrm>
                <a:off x="6862320" y="2820240"/>
                <a:ext cx="231840" cy="25560"/>
                <a:chOff x="6862320" y="2820240"/>
                <a:chExt cx="231840" cy="25560"/>
              </a:xfrm>
            </p:grpSpPr>
            <p:sp>
              <p:nvSpPr>
                <p:cNvPr id="3053" name=""/>
                <p:cNvSpPr/>
                <p:nvPr/>
              </p:nvSpPr>
              <p:spPr>
                <a:xfrm>
                  <a:off x="6862320" y="282024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864480" y="283752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5" name=""/>
              <p:cNvSpPr/>
              <p:nvPr/>
            </p:nvSpPr>
            <p:spPr>
              <a:xfrm>
                <a:off x="6915240" y="280764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>
              <a:off x="6836040" y="262584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868080" y="264636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877440" y="265176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6705720" y="3311640"/>
            <a:ext cx="533160" cy="380520"/>
            <a:chOff x="6705720" y="3311640"/>
            <a:chExt cx="533160" cy="380520"/>
          </a:xfrm>
        </p:grpSpPr>
        <p:grpSp>
          <p:nvGrpSpPr>
            <p:cNvPr id="3060" name=""/>
            <p:cNvGrpSpPr/>
            <p:nvPr/>
          </p:nvGrpSpPr>
          <p:grpSpPr>
            <a:xfrm>
              <a:off x="6808320" y="3514680"/>
              <a:ext cx="340200" cy="118080"/>
              <a:chOff x="6808320" y="3514680"/>
              <a:chExt cx="340200" cy="118080"/>
            </a:xfrm>
          </p:grpSpPr>
          <p:grpSp>
            <p:nvGrpSpPr>
              <p:cNvPr id="3061" name=""/>
              <p:cNvGrpSpPr/>
              <p:nvPr/>
            </p:nvGrpSpPr>
            <p:grpSpPr>
              <a:xfrm>
                <a:off x="6808320" y="3514680"/>
                <a:ext cx="340200" cy="118080"/>
                <a:chOff x="6808320" y="3514680"/>
                <a:chExt cx="340200" cy="118080"/>
              </a:xfrm>
            </p:grpSpPr>
            <p:grpSp>
              <p:nvGrpSpPr>
                <p:cNvPr id="3062" name=""/>
                <p:cNvGrpSpPr/>
                <p:nvPr/>
              </p:nvGrpSpPr>
              <p:grpSpPr>
                <a:xfrm>
                  <a:off x="6808320" y="3514680"/>
                  <a:ext cx="340200" cy="118080"/>
                  <a:chOff x="6808320" y="3514680"/>
                  <a:chExt cx="340200" cy="118080"/>
                </a:xfrm>
              </p:grpSpPr>
              <p:grpSp>
                <p:nvGrpSpPr>
                  <p:cNvPr id="3063" name=""/>
                  <p:cNvGrpSpPr/>
                  <p:nvPr/>
                </p:nvGrpSpPr>
                <p:grpSpPr>
                  <a:xfrm>
                    <a:off x="6808320" y="3514680"/>
                    <a:ext cx="339120" cy="118080"/>
                    <a:chOff x="6808320" y="3514680"/>
                    <a:chExt cx="339120" cy="118080"/>
                  </a:xfrm>
                </p:grpSpPr>
                <p:grpSp>
                  <p:nvGrpSpPr>
                    <p:cNvPr id="3064" name=""/>
                    <p:cNvGrpSpPr/>
                    <p:nvPr/>
                  </p:nvGrpSpPr>
                  <p:grpSpPr>
                    <a:xfrm>
                      <a:off x="6808320" y="3514680"/>
                      <a:ext cx="339120" cy="118080"/>
                      <a:chOff x="6808320" y="3514680"/>
                      <a:chExt cx="339120" cy="118080"/>
                    </a:xfrm>
                  </p:grpSpPr>
                  <p:sp>
                    <p:nvSpPr>
                      <p:cNvPr id="3065" name=""/>
                      <p:cNvSpPr/>
                      <p:nvPr/>
                    </p:nvSpPr>
                    <p:spPr>
                      <a:xfrm>
                        <a:off x="6809400" y="354528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6" name=""/>
                      <p:cNvSpPr/>
                      <p:nvPr/>
                    </p:nvSpPr>
                    <p:spPr>
                      <a:xfrm>
                        <a:off x="6808320" y="351468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67" name=""/>
                    <p:cNvSpPr/>
                    <p:nvPr/>
                  </p:nvSpPr>
                  <p:spPr>
                    <a:xfrm>
                      <a:off x="6817320" y="353844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8" name=""/>
                  <p:cNvGrpSpPr/>
                  <p:nvPr/>
                </p:nvGrpSpPr>
                <p:grpSpPr>
                  <a:xfrm>
                    <a:off x="6822000" y="3612600"/>
                    <a:ext cx="326520" cy="17640"/>
                    <a:chOff x="6822000" y="3612600"/>
                    <a:chExt cx="326520" cy="17640"/>
                  </a:xfrm>
                </p:grpSpPr>
                <p:grpSp>
                  <p:nvGrpSpPr>
                    <p:cNvPr id="3069" name=""/>
                    <p:cNvGrpSpPr/>
                    <p:nvPr/>
                  </p:nvGrpSpPr>
                  <p:grpSpPr>
                    <a:xfrm>
                      <a:off x="6822000" y="3612600"/>
                      <a:ext cx="160560" cy="17640"/>
                      <a:chOff x="6822000" y="3612600"/>
                      <a:chExt cx="160560" cy="17640"/>
                    </a:xfrm>
                  </p:grpSpPr>
                  <p:grpSp>
                    <p:nvGrpSpPr>
                      <p:cNvPr id="3070" name=""/>
                      <p:cNvGrpSpPr/>
                      <p:nvPr/>
                    </p:nvGrpSpPr>
                    <p:grpSpPr>
                      <a:xfrm>
                        <a:off x="6822000" y="3612600"/>
                        <a:ext cx="76320" cy="17640"/>
                        <a:chOff x="6822000" y="3612600"/>
                        <a:chExt cx="76320" cy="17640"/>
                      </a:xfrm>
                    </p:grpSpPr>
                    <p:grpSp>
                      <p:nvGrpSpPr>
                        <p:cNvPr id="3071" name=""/>
                        <p:cNvGrpSpPr/>
                        <p:nvPr/>
                      </p:nvGrpSpPr>
                      <p:grpSpPr>
                        <a:xfrm>
                          <a:off x="6822000" y="3612600"/>
                          <a:ext cx="35640" cy="17640"/>
                          <a:chOff x="6822000" y="3612600"/>
                          <a:chExt cx="35640" cy="17640"/>
                        </a:xfrm>
                      </p:grpSpPr>
                      <p:grpSp>
                        <p:nvGrpSpPr>
                          <p:cNvPr id="3072" name=""/>
                          <p:cNvGrpSpPr/>
                          <p:nvPr/>
                        </p:nvGrpSpPr>
                        <p:grpSpPr>
                          <a:xfrm>
                            <a:off x="6822000" y="3612600"/>
                            <a:ext cx="20880" cy="17640"/>
                            <a:chOff x="6822000" y="3612600"/>
                            <a:chExt cx="20880" cy="17640"/>
                          </a:xfrm>
                        </p:grpSpPr>
                        <p:grpSp>
                          <p:nvGrpSpPr>
                            <p:cNvPr id="3073" name=""/>
                            <p:cNvGrpSpPr/>
                            <p:nvPr/>
                          </p:nvGrpSpPr>
                          <p:grpSpPr>
                            <a:xfrm>
                              <a:off x="6822000" y="3612600"/>
                              <a:ext cx="5040" cy="17640"/>
                              <a:chOff x="6822000" y="3612600"/>
                              <a:chExt cx="5040" cy="17640"/>
                            </a:xfrm>
                          </p:grpSpPr>
                          <p:sp>
                            <p:nvSpPr>
                              <p:cNvPr id="3074" name=""/>
                              <p:cNvSpPr/>
                              <p:nvPr/>
                            </p:nvSpPr>
                            <p:spPr>
                              <a:xfrm>
                                <a:off x="6822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5" name=""/>
                              <p:cNvSpPr/>
                              <p:nvPr/>
                            </p:nvSpPr>
                            <p:spPr>
                              <a:xfrm>
                                <a:off x="68266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76" name=""/>
                            <p:cNvGrpSpPr/>
                            <p:nvPr/>
                          </p:nvGrpSpPr>
                          <p:grpSpPr>
                            <a:xfrm>
                              <a:off x="6831360" y="3612600"/>
                              <a:ext cx="11520" cy="17640"/>
                              <a:chOff x="6831360" y="3612600"/>
                              <a:chExt cx="11520" cy="17640"/>
                            </a:xfrm>
                          </p:grpSpPr>
                          <p:sp>
                            <p:nvSpPr>
                              <p:cNvPr id="3077" name=""/>
                              <p:cNvSpPr/>
                              <p:nvPr/>
                            </p:nvSpPr>
                            <p:spPr>
                              <a:xfrm>
                                <a:off x="68313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8" name=""/>
                              <p:cNvSpPr/>
                              <p:nvPr/>
                            </p:nvSpPr>
                            <p:spPr>
                              <a:xfrm>
                                <a:off x="68367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079" name=""/>
                          <p:cNvGrpSpPr/>
                          <p:nvPr/>
                        </p:nvGrpSpPr>
                        <p:grpSpPr>
                          <a:xfrm>
                            <a:off x="6842160" y="3612600"/>
                            <a:ext cx="15480" cy="17640"/>
                            <a:chOff x="6842160" y="3612600"/>
                            <a:chExt cx="15480" cy="17640"/>
                          </a:xfrm>
                        </p:grpSpPr>
                        <p:grpSp>
                          <p:nvGrpSpPr>
                            <p:cNvPr id="3080" name=""/>
                            <p:cNvGrpSpPr/>
                            <p:nvPr/>
                          </p:nvGrpSpPr>
                          <p:grpSpPr>
                            <a:xfrm>
                              <a:off x="6842160" y="3612600"/>
                              <a:ext cx="11520" cy="17640"/>
                              <a:chOff x="6842160" y="3612600"/>
                              <a:chExt cx="11520" cy="17640"/>
                            </a:xfrm>
                          </p:grpSpPr>
                          <p:sp>
                            <p:nvSpPr>
                              <p:cNvPr id="3081" name=""/>
                              <p:cNvSpPr/>
                              <p:nvPr/>
                            </p:nvSpPr>
                            <p:spPr>
                              <a:xfrm>
                                <a:off x="68421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2" name=""/>
                              <p:cNvSpPr/>
                              <p:nvPr/>
                            </p:nvSpPr>
                            <p:spPr>
                              <a:xfrm>
                                <a:off x="684684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83" name=""/>
                            <p:cNvGrpSpPr/>
                            <p:nvPr/>
                          </p:nvGrpSpPr>
                          <p:grpSpPr>
                            <a:xfrm>
                              <a:off x="6852600" y="3612600"/>
                              <a:ext cx="5040" cy="17640"/>
                              <a:chOff x="6852600" y="3612600"/>
                              <a:chExt cx="5040" cy="17640"/>
                            </a:xfrm>
                          </p:grpSpPr>
                          <p:sp>
                            <p:nvSpPr>
                              <p:cNvPr id="3084" name=""/>
                              <p:cNvSpPr/>
                              <p:nvPr/>
                            </p:nvSpPr>
                            <p:spPr>
                              <a:xfrm>
                                <a:off x="68526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5" name=""/>
                              <p:cNvSpPr/>
                              <p:nvPr/>
                            </p:nvSpPr>
                            <p:spPr>
                              <a:xfrm>
                                <a:off x="68572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086" name=""/>
                        <p:cNvGrpSpPr/>
                        <p:nvPr/>
                      </p:nvGrpSpPr>
                      <p:grpSpPr>
                        <a:xfrm>
                          <a:off x="6861960" y="3612600"/>
                          <a:ext cx="36360" cy="17640"/>
                          <a:chOff x="6861960" y="3612600"/>
                          <a:chExt cx="36360" cy="17640"/>
                        </a:xfrm>
                      </p:grpSpPr>
                      <p:grpSp>
                        <p:nvGrpSpPr>
                          <p:cNvPr id="3087" name=""/>
                          <p:cNvGrpSpPr/>
                          <p:nvPr/>
                        </p:nvGrpSpPr>
                        <p:grpSpPr>
                          <a:xfrm>
                            <a:off x="6861960" y="3612600"/>
                            <a:ext cx="21600" cy="17640"/>
                            <a:chOff x="6861960" y="3612600"/>
                            <a:chExt cx="21600" cy="17640"/>
                          </a:xfrm>
                        </p:grpSpPr>
                        <p:grpSp>
                          <p:nvGrpSpPr>
                            <p:cNvPr id="3088" name=""/>
                            <p:cNvGrpSpPr/>
                            <p:nvPr/>
                          </p:nvGrpSpPr>
                          <p:grpSpPr>
                            <a:xfrm>
                              <a:off x="6861960" y="3612600"/>
                              <a:ext cx="16200" cy="17640"/>
                              <a:chOff x="6861960" y="3612600"/>
                              <a:chExt cx="16200" cy="17640"/>
                            </a:xfrm>
                          </p:grpSpPr>
                          <p:sp>
                            <p:nvSpPr>
                              <p:cNvPr id="3089" name=""/>
                              <p:cNvSpPr/>
                              <p:nvPr/>
                            </p:nvSpPr>
                            <p:spPr>
                              <a:xfrm>
                                <a:off x="68619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0" name=""/>
                              <p:cNvSpPr/>
                              <p:nvPr/>
                            </p:nvSpPr>
                            <p:spPr>
                              <a:xfrm>
                                <a:off x="686664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91" name=""/>
                            <p:cNvGrpSpPr/>
                            <p:nvPr/>
                          </p:nvGrpSpPr>
                          <p:grpSpPr>
                            <a:xfrm>
                              <a:off x="6871680" y="3612600"/>
                              <a:ext cx="11880" cy="17640"/>
                              <a:chOff x="6871680" y="3612600"/>
                              <a:chExt cx="11880" cy="17640"/>
                            </a:xfrm>
                          </p:grpSpPr>
                          <p:sp>
                            <p:nvSpPr>
                              <p:cNvPr id="3092" name=""/>
                              <p:cNvSpPr/>
                              <p:nvPr/>
                            </p:nvSpPr>
                            <p:spPr>
                              <a:xfrm>
                                <a:off x="6871680" y="361260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3" name=""/>
                              <p:cNvSpPr/>
                              <p:nvPr/>
                            </p:nvSpPr>
                            <p:spPr>
                              <a:xfrm>
                                <a:off x="68770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094" name=""/>
                          <p:cNvGrpSpPr/>
                          <p:nvPr/>
                        </p:nvGrpSpPr>
                        <p:grpSpPr>
                          <a:xfrm>
                            <a:off x="6882120" y="3612600"/>
                            <a:ext cx="16200" cy="17640"/>
                            <a:chOff x="6882120" y="3612600"/>
                            <a:chExt cx="16200" cy="17640"/>
                          </a:xfrm>
                        </p:grpSpPr>
                        <p:grpSp>
                          <p:nvGrpSpPr>
                            <p:cNvPr id="3095" name=""/>
                            <p:cNvGrpSpPr/>
                            <p:nvPr/>
                          </p:nvGrpSpPr>
                          <p:grpSpPr>
                            <a:xfrm>
                              <a:off x="6882120" y="3612600"/>
                              <a:ext cx="16200" cy="17640"/>
                              <a:chOff x="6882120" y="3612600"/>
                              <a:chExt cx="16200" cy="17640"/>
                            </a:xfrm>
                          </p:grpSpPr>
                          <p:sp>
                            <p:nvSpPr>
                              <p:cNvPr id="3096" name=""/>
                              <p:cNvSpPr/>
                              <p:nvPr/>
                            </p:nvSpPr>
                            <p:spPr>
                              <a:xfrm>
                                <a:off x="68821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7" name=""/>
                              <p:cNvSpPr/>
                              <p:nvPr/>
                            </p:nvSpPr>
                            <p:spPr>
                              <a:xfrm>
                                <a:off x="68868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98" name=""/>
                            <p:cNvGrpSpPr/>
                            <p:nvPr/>
                          </p:nvGrpSpPr>
                          <p:grpSpPr>
                            <a:xfrm>
                              <a:off x="6892200" y="3612600"/>
                              <a:ext cx="5400" cy="17640"/>
                              <a:chOff x="6892200" y="3612600"/>
                              <a:chExt cx="5400" cy="17640"/>
                            </a:xfrm>
                          </p:grpSpPr>
                          <p:sp>
                            <p:nvSpPr>
                              <p:cNvPr id="3099" name=""/>
                              <p:cNvSpPr/>
                              <p:nvPr/>
                            </p:nvSpPr>
                            <p:spPr>
                              <a:xfrm>
                                <a:off x="689220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0" name=""/>
                              <p:cNvSpPr/>
                              <p:nvPr/>
                            </p:nvSpPr>
                            <p:spPr>
                              <a:xfrm>
                                <a:off x="68968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101" name=""/>
                      <p:cNvGrpSpPr/>
                      <p:nvPr/>
                    </p:nvGrpSpPr>
                    <p:grpSpPr>
                      <a:xfrm>
                        <a:off x="6901920" y="3612600"/>
                        <a:ext cx="80640" cy="17640"/>
                        <a:chOff x="6901920" y="3612600"/>
                        <a:chExt cx="80640" cy="17640"/>
                      </a:xfrm>
                    </p:grpSpPr>
                    <p:grpSp>
                      <p:nvGrpSpPr>
                        <p:cNvPr id="3102" name=""/>
                        <p:cNvGrpSpPr/>
                        <p:nvPr/>
                      </p:nvGrpSpPr>
                      <p:grpSpPr>
                        <a:xfrm>
                          <a:off x="6901920" y="3612600"/>
                          <a:ext cx="45720" cy="17640"/>
                          <a:chOff x="6901920" y="3612600"/>
                          <a:chExt cx="45720" cy="17640"/>
                        </a:xfrm>
                      </p:grpSpPr>
                      <p:grpSp>
                        <p:nvGrpSpPr>
                          <p:cNvPr id="3103" name=""/>
                          <p:cNvGrpSpPr/>
                          <p:nvPr/>
                        </p:nvGrpSpPr>
                        <p:grpSpPr>
                          <a:xfrm>
                            <a:off x="6901920" y="3612600"/>
                            <a:ext cx="16200" cy="17640"/>
                            <a:chOff x="6901920" y="3612600"/>
                            <a:chExt cx="16200" cy="17640"/>
                          </a:xfrm>
                        </p:grpSpPr>
                        <p:grpSp>
                          <p:nvGrpSpPr>
                            <p:cNvPr id="3104" name=""/>
                            <p:cNvGrpSpPr/>
                            <p:nvPr/>
                          </p:nvGrpSpPr>
                          <p:grpSpPr>
                            <a:xfrm>
                              <a:off x="6901920" y="3612600"/>
                              <a:ext cx="16200" cy="17640"/>
                              <a:chOff x="6901920" y="3612600"/>
                              <a:chExt cx="16200" cy="17640"/>
                            </a:xfrm>
                          </p:grpSpPr>
                          <p:sp>
                            <p:nvSpPr>
                              <p:cNvPr id="3105" name=""/>
                              <p:cNvSpPr/>
                              <p:nvPr/>
                            </p:nvSpPr>
                            <p:spPr>
                              <a:xfrm>
                                <a:off x="69019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6" name=""/>
                              <p:cNvSpPr/>
                              <p:nvPr/>
                            </p:nvSpPr>
                            <p:spPr>
                              <a:xfrm>
                                <a:off x="69066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7" name=""/>
                            <p:cNvGrpSpPr/>
                            <p:nvPr/>
                          </p:nvGrpSpPr>
                          <p:grpSpPr>
                            <a:xfrm>
                              <a:off x="6912000" y="3612600"/>
                              <a:ext cx="4320" cy="17640"/>
                              <a:chOff x="6912000" y="3612600"/>
                              <a:chExt cx="4320" cy="17640"/>
                            </a:xfrm>
                          </p:grpSpPr>
                          <p:sp>
                            <p:nvSpPr>
                              <p:cNvPr id="3108" name=""/>
                              <p:cNvSpPr/>
                              <p:nvPr/>
                            </p:nvSpPr>
                            <p:spPr>
                              <a:xfrm>
                                <a:off x="691200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9" name=""/>
                              <p:cNvSpPr/>
                              <p:nvPr/>
                            </p:nvSpPr>
                            <p:spPr>
                              <a:xfrm>
                                <a:off x="69159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10" name=""/>
                          <p:cNvGrpSpPr/>
                          <p:nvPr/>
                        </p:nvGrpSpPr>
                        <p:grpSpPr>
                          <a:xfrm>
                            <a:off x="6922440" y="3612600"/>
                            <a:ext cx="25200" cy="17640"/>
                            <a:chOff x="6922440" y="3612600"/>
                            <a:chExt cx="25200" cy="17640"/>
                          </a:xfrm>
                        </p:grpSpPr>
                        <p:grpSp>
                          <p:nvGrpSpPr>
                            <p:cNvPr id="3111" name=""/>
                            <p:cNvGrpSpPr/>
                            <p:nvPr/>
                          </p:nvGrpSpPr>
                          <p:grpSpPr>
                            <a:xfrm>
                              <a:off x="6922440" y="3612600"/>
                              <a:ext cx="4320" cy="17640"/>
                              <a:chOff x="6922440" y="3612600"/>
                              <a:chExt cx="4320" cy="17640"/>
                            </a:xfrm>
                          </p:grpSpPr>
                          <p:sp>
                            <p:nvSpPr>
                              <p:cNvPr id="3112" name=""/>
                              <p:cNvSpPr/>
                              <p:nvPr/>
                            </p:nvSpPr>
                            <p:spPr>
                              <a:xfrm>
                                <a:off x="692244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3" name=""/>
                              <p:cNvSpPr/>
                              <p:nvPr/>
                            </p:nvSpPr>
                            <p:spPr>
                              <a:xfrm>
                                <a:off x="69264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14" name=""/>
                            <p:cNvGrpSpPr/>
                            <p:nvPr/>
                          </p:nvGrpSpPr>
                          <p:grpSpPr>
                            <a:xfrm>
                              <a:off x="6932160" y="3612600"/>
                              <a:ext cx="15480" cy="17640"/>
                              <a:chOff x="6932160" y="3612600"/>
                              <a:chExt cx="15480" cy="17640"/>
                            </a:xfrm>
                          </p:grpSpPr>
                          <p:sp>
                            <p:nvSpPr>
                              <p:cNvPr id="3115" name=""/>
                              <p:cNvSpPr/>
                              <p:nvPr/>
                            </p:nvSpPr>
                            <p:spPr>
                              <a:xfrm>
                                <a:off x="69321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6" name=""/>
                              <p:cNvSpPr/>
                              <p:nvPr/>
                            </p:nvSpPr>
                            <p:spPr>
                              <a:xfrm>
                                <a:off x="693612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117" name=""/>
                        <p:cNvGrpSpPr/>
                        <p:nvPr/>
                      </p:nvGrpSpPr>
                      <p:grpSpPr>
                        <a:xfrm>
                          <a:off x="6941880" y="3612600"/>
                          <a:ext cx="40680" cy="17640"/>
                          <a:chOff x="6941880" y="3612600"/>
                          <a:chExt cx="40680" cy="17640"/>
                        </a:xfrm>
                      </p:grpSpPr>
                      <p:grpSp>
                        <p:nvGrpSpPr>
                          <p:cNvPr id="3118" name=""/>
                          <p:cNvGrpSpPr/>
                          <p:nvPr/>
                        </p:nvGrpSpPr>
                        <p:grpSpPr>
                          <a:xfrm>
                            <a:off x="6941880" y="3612600"/>
                            <a:ext cx="15480" cy="17640"/>
                            <a:chOff x="6941880" y="3612600"/>
                            <a:chExt cx="15480" cy="17640"/>
                          </a:xfrm>
                        </p:grpSpPr>
                        <p:grpSp>
                          <p:nvGrpSpPr>
                            <p:cNvPr id="3119" name=""/>
                            <p:cNvGrpSpPr/>
                            <p:nvPr/>
                          </p:nvGrpSpPr>
                          <p:grpSpPr>
                            <a:xfrm>
                              <a:off x="6941880" y="3612600"/>
                              <a:ext cx="5040" cy="17640"/>
                              <a:chOff x="6941880" y="3612600"/>
                              <a:chExt cx="5040" cy="17640"/>
                            </a:xfrm>
                          </p:grpSpPr>
                          <p:sp>
                            <p:nvSpPr>
                              <p:cNvPr id="3120" name=""/>
                              <p:cNvSpPr/>
                              <p:nvPr/>
                            </p:nvSpPr>
                            <p:spPr>
                              <a:xfrm>
                                <a:off x="69418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1" name=""/>
                              <p:cNvSpPr/>
                              <p:nvPr/>
                            </p:nvSpPr>
                            <p:spPr>
                              <a:xfrm>
                                <a:off x="69465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22" name=""/>
                            <p:cNvGrpSpPr/>
                            <p:nvPr/>
                          </p:nvGrpSpPr>
                          <p:grpSpPr>
                            <a:xfrm>
                              <a:off x="6952320" y="3612600"/>
                              <a:ext cx="5040" cy="17640"/>
                              <a:chOff x="6952320" y="3612600"/>
                              <a:chExt cx="5040" cy="17640"/>
                            </a:xfrm>
                          </p:grpSpPr>
                          <p:sp>
                            <p:nvSpPr>
                              <p:cNvPr id="3123" name=""/>
                              <p:cNvSpPr/>
                              <p:nvPr/>
                            </p:nvSpPr>
                            <p:spPr>
                              <a:xfrm>
                                <a:off x="695232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4" name=""/>
                              <p:cNvSpPr/>
                              <p:nvPr/>
                            </p:nvSpPr>
                            <p:spPr>
                              <a:xfrm>
                                <a:off x="6957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25" name=""/>
                          <p:cNvGrpSpPr/>
                          <p:nvPr/>
                        </p:nvGrpSpPr>
                        <p:grpSpPr>
                          <a:xfrm>
                            <a:off x="6961680" y="3612600"/>
                            <a:ext cx="20880" cy="17640"/>
                            <a:chOff x="6961680" y="3612600"/>
                            <a:chExt cx="20880" cy="17640"/>
                          </a:xfrm>
                        </p:grpSpPr>
                        <p:grpSp>
                          <p:nvGrpSpPr>
                            <p:cNvPr id="3126" name=""/>
                            <p:cNvGrpSpPr/>
                            <p:nvPr/>
                          </p:nvGrpSpPr>
                          <p:grpSpPr>
                            <a:xfrm>
                              <a:off x="6961680" y="3612600"/>
                              <a:ext cx="16920" cy="17640"/>
                              <a:chOff x="6961680" y="3612600"/>
                              <a:chExt cx="16920" cy="17640"/>
                            </a:xfrm>
                          </p:grpSpPr>
                          <p:sp>
                            <p:nvSpPr>
                              <p:cNvPr id="3127" name=""/>
                              <p:cNvSpPr/>
                              <p:nvPr/>
                            </p:nvSpPr>
                            <p:spPr>
                              <a:xfrm>
                                <a:off x="69616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8" name=""/>
                              <p:cNvSpPr/>
                              <p:nvPr/>
                            </p:nvSpPr>
                            <p:spPr>
                              <a:xfrm>
                                <a:off x="696708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29" name=""/>
                            <p:cNvGrpSpPr/>
                            <p:nvPr/>
                          </p:nvGrpSpPr>
                          <p:grpSpPr>
                            <a:xfrm>
                              <a:off x="6971040" y="3612600"/>
                              <a:ext cx="11520" cy="17640"/>
                              <a:chOff x="6971040" y="3612600"/>
                              <a:chExt cx="11520" cy="17640"/>
                            </a:xfrm>
                          </p:grpSpPr>
                          <p:sp>
                            <p:nvSpPr>
                              <p:cNvPr id="3130" name=""/>
                              <p:cNvSpPr/>
                              <p:nvPr/>
                            </p:nvSpPr>
                            <p:spPr>
                              <a:xfrm>
                                <a:off x="697104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1" name=""/>
                              <p:cNvSpPr/>
                              <p:nvPr/>
                            </p:nvSpPr>
                            <p:spPr>
                              <a:xfrm>
                                <a:off x="697644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3132" name=""/>
                    <p:cNvGrpSpPr/>
                    <p:nvPr/>
                  </p:nvGrpSpPr>
                  <p:grpSpPr>
                    <a:xfrm>
                      <a:off x="6982200" y="3612600"/>
                      <a:ext cx="166320" cy="17640"/>
                      <a:chOff x="6982200" y="3612600"/>
                      <a:chExt cx="166320" cy="17640"/>
                    </a:xfrm>
                  </p:grpSpPr>
                  <p:grpSp>
                    <p:nvGrpSpPr>
                      <p:cNvPr id="3133" name=""/>
                      <p:cNvGrpSpPr/>
                      <p:nvPr/>
                    </p:nvGrpSpPr>
                    <p:grpSpPr>
                      <a:xfrm>
                        <a:off x="6982200" y="3612600"/>
                        <a:ext cx="85680" cy="17640"/>
                        <a:chOff x="6982200" y="3612600"/>
                        <a:chExt cx="85680" cy="17640"/>
                      </a:xfrm>
                    </p:grpSpPr>
                    <p:grpSp>
                      <p:nvGrpSpPr>
                        <p:cNvPr id="3134" name=""/>
                        <p:cNvGrpSpPr/>
                        <p:nvPr/>
                      </p:nvGrpSpPr>
                      <p:grpSpPr>
                        <a:xfrm>
                          <a:off x="6982200" y="3612600"/>
                          <a:ext cx="36000" cy="17640"/>
                          <a:chOff x="6982200" y="3612600"/>
                          <a:chExt cx="36000" cy="17640"/>
                        </a:xfrm>
                      </p:grpSpPr>
                      <p:grpSp>
                        <p:nvGrpSpPr>
                          <p:cNvPr id="3135" name=""/>
                          <p:cNvGrpSpPr/>
                          <p:nvPr/>
                        </p:nvGrpSpPr>
                        <p:grpSpPr>
                          <a:xfrm>
                            <a:off x="6982200" y="3612600"/>
                            <a:ext cx="15480" cy="17640"/>
                            <a:chOff x="6982200" y="3612600"/>
                            <a:chExt cx="15480" cy="17640"/>
                          </a:xfrm>
                        </p:grpSpPr>
                        <p:grpSp>
                          <p:nvGrpSpPr>
                            <p:cNvPr id="3136" name=""/>
                            <p:cNvGrpSpPr/>
                            <p:nvPr/>
                          </p:nvGrpSpPr>
                          <p:grpSpPr>
                            <a:xfrm>
                              <a:off x="6982200" y="3612600"/>
                              <a:ext cx="5040" cy="17640"/>
                              <a:chOff x="6982200" y="3612600"/>
                              <a:chExt cx="5040" cy="17640"/>
                            </a:xfrm>
                          </p:grpSpPr>
                          <p:sp>
                            <p:nvSpPr>
                              <p:cNvPr id="3137" name=""/>
                              <p:cNvSpPr/>
                              <p:nvPr/>
                            </p:nvSpPr>
                            <p:spPr>
                              <a:xfrm>
                                <a:off x="69822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8" name=""/>
                              <p:cNvSpPr/>
                              <p:nvPr/>
                            </p:nvSpPr>
                            <p:spPr>
                              <a:xfrm>
                                <a:off x="69868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9" name=""/>
                            <p:cNvGrpSpPr/>
                            <p:nvPr/>
                          </p:nvGrpSpPr>
                          <p:grpSpPr>
                            <a:xfrm>
                              <a:off x="6992640" y="3612600"/>
                              <a:ext cx="5040" cy="17640"/>
                              <a:chOff x="6992640" y="3612600"/>
                              <a:chExt cx="5040" cy="17640"/>
                            </a:xfrm>
                          </p:grpSpPr>
                          <p:sp>
                            <p:nvSpPr>
                              <p:cNvPr id="3140" name=""/>
                              <p:cNvSpPr/>
                              <p:nvPr/>
                            </p:nvSpPr>
                            <p:spPr>
                              <a:xfrm>
                                <a:off x="699264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1" name=""/>
                              <p:cNvSpPr/>
                              <p:nvPr/>
                            </p:nvSpPr>
                            <p:spPr>
                              <a:xfrm>
                                <a:off x="699732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42" name=""/>
                          <p:cNvGrpSpPr/>
                          <p:nvPr/>
                        </p:nvGrpSpPr>
                        <p:grpSpPr>
                          <a:xfrm>
                            <a:off x="7002000" y="3612600"/>
                            <a:ext cx="16200" cy="17640"/>
                            <a:chOff x="7002000" y="3612600"/>
                            <a:chExt cx="16200" cy="17640"/>
                          </a:xfrm>
                        </p:grpSpPr>
                        <p:grpSp>
                          <p:nvGrpSpPr>
                            <p:cNvPr id="3143" name=""/>
                            <p:cNvGrpSpPr/>
                            <p:nvPr/>
                          </p:nvGrpSpPr>
                          <p:grpSpPr>
                            <a:xfrm>
                              <a:off x="7002000" y="3612600"/>
                              <a:ext cx="16200" cy="17640"/>
                              <a:chOff x="7002000" y="3612600"/>
                              <a:chExt cx="16200" cy="17640"/>
                            </a:xfrm>
                          </p:grpSpPr>
                          <p:sp>
                            <p:nvSpPr>
                              <p:cNvPr id="3144" name=""/>
                              <p:cNvSpPr/>
                              <p:nvPr/>
                            </p:nvSpPr>
                            <p:spPr>
                              <a:xfrm>
                                <a:off x="7002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5" name=""/>
                              <p:cNvSpPr/>
                              <p:nvPr/>
                            </p:nvSpPr>
                            <p:spPr>
                              <a:xfrm>
                                <a:off x="700668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46" name=""/>
                            <p:cNvGrpSpPr/>
                            <p:nvPr/>
                          </p:nvGrpSpPr>
                          <p:grpSpPr>
                            <a:xfrm>
                              <a:off x="7012080" y="3612600"/>
                              <a:ext cx="5040" cy="17640"/>
                              <a:chOff x="7012080" y="3612600"/>
                              <a:chExt cx="5040" cy="17640"/>
                            </a:xfrm>
                          </p:grpSpPr>
                          <p:sp>
                            <p:nvSpPr>
                              <p:cNvPr id="3147" name=""/>
                              <p:cNvSpPr/>
                              <p:nvPr/>
                            </p:nvSpPr>
                            <p:spPr>
                              <a:xfrm>
                                <a:off x="70120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8" name=""/>
                              <p:cNvSpPr/>
                              <p:nvPr/>
                            </p:nvSpPr>
                            <p:spPr>
                              <a:xfrm>
                                <a:off x="70167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149" name=""/>
                        <p:cNvGrpSpPr/>
                        <p:nvPr/>
                      </p:nvGrpSpPr>
                      <p:grpSpPr>
                        <a:xfrm>
                          <a:off x="7021800" y="3612600"/>
                          <a:ext cx="46080" cy="17640"/>
                          <a:chOff x="7021800" y="3612600"/>
                          <a:chExt cx="46080" cy="17640"/>
                        </a:xfrm>
                      </p:grpSpPr>
                      <p:grpSp>
                        <p:nvGrpSpPr>
                          <p:cNvPr id="3150" name=""/>
                          <p:cNvGrpSpPr/>
                          <p:nvPr/>
                        </p:nvGrpSpPr>
                        <p:grpSpPr>
                          <a:xfrm>
                            <a:off x="7021800" y="3612600"/>
                            <a:ext cx="16200" cy="17640"/>
                            <a:chOff x="7021800" y="3612600"/>
                            <a:chExt cx="16200" cy="17640"/>
                          </a:xfrm>
                        </p:grpSpPr>
                        <p:grpSp>
                          <p:nvGrpSpPr>
                            <p:cNvPr id="3151" name=""/>
                            <p:cNvGrpSpPr/>
                            <p:nvPr/>
                          </p:nvGrpSpPr>
                          <p:grpSpPr>
                            <a:xfrm>
                              <a:off x="7021800" y="3612600"/>
                              <a:ext cx="16200" cy="17640"/>
                              <a:chOff x="7021800" y="3612600"/>
                              <a:chExt cx="16200" cy="17640"/>
                            </a:xfrm>
                          </p:grpSpPr>
                          <p:sp>
                            <p:nvSpPr>
                              <p:cNvPr id="3152" name=""/>
                              <p:cNvSpPr/>
                              <p:nvPr/>
                            </p:nvSpPr>
                            <p:spPr>
                              <a:xfrm>
                                <a:off x="70218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3" name=""/>
                              <p:cNvSpPr/>
                              <p:nvPr/>
                            </p:nvSpPr>
                            <p:spPr>
                              <a:xfrm>
                                <a:off x="702648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54" name=""/>
                            <p:cNvGrpSpPr/>
                            <p:nvPr/>
                          </p:nvGrpSpPr>
                          <p:grpSpPr>
                            <a:xfrm>
                              <a:off x="7032240" y="3612600"/>
                              <a:ext cx="5400" cy="17640"/>
                              <a:chOff x="7032240" y="3612600"/>
                              <a:chExt cx="5400" cy="17640"/>
                            </a:xfrm>
                          </p:grpSpPr>
                          <p:sp>
                            <p:nvSpPr>
                              <p:cNvPr id="3155" name=""/>
                              <p:cNvSpPr/>
                              <p:nvPr/>
                            </p:nvSpPr>
                            <p:spPr>
                              <a:xfrm>
                                <a:off x="703224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6" name=""/>
                              <p:cNvSpPr/>
                              <p:nvPr/>
                            </p:nvSpPr>
                            <p:spPr>
                              <a:xfrm>
                                <a:off x="70369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57" name=""/>
                          <p:cNvGrpSpPr/>
                          <p:nvPr/>
                        </p:nvGrpSpPr>
                        <p:grpSpPr>
                          <a:xfrm>
                            <a:off x="7041600" y="3612600"/>
                            <a:ext cx="26280" cy="17640"/>
                            <a:chOff x="7041600" y="3612600"/>
                            <a:chExt cx="26280" cy="17640"/>
                          </a:xfrm>
                        </p:grpSpPr>
                        <p:grpSp>
                          <p:nvGrpSpPr>
                            <p:cNvPr id="3158" name=""/>
                            <p:cNvGrpSpPr/>
                            <p:nvPr/>
                          </p:nvGrpSpPr>
                          <p:grpSpPr>
                            <a:xfrm>
                              <a:off x="7041600" y="3612600"/>
                              <a:ext cx="11520" cy="17640"/>
                              <a:chOff x="7041600" y="3612600"/>
                              <a:chExt cx="11520" cy="17640"/>
                            </a:xfrm>
                          </p:grpSpPr>
                          <p:sp>
                            <p:nvSpPr>
                              <p:cNvPr id="3159" name=""/>
                              <p:cNvSpPr/>
                              <p:nvPr/>
                            </p:nvSpPr>
                            <p:spPr>
                              <a:xfrm>
                                <a:off x="70416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0" name=""/>
                              <p:cNvSpPr/>
                              <p:nvPr/>
                            </p:nvSpPr>
                            <p:spPr>
                              <a:xfrm>
                                <a:off x="7047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61" name=""/>
                            <p:cNvGrpSpPr/>
                            <p:nvPr/>
                          </p:nvGrpSpPr>
                          <p:grpSpPr>
                            <a:xfrm>
                              <a:off x="7050960" y="3612600"/>
                              <a:ext cx="16920" cy="17640"/>
                              <a:chOff x="7050960" y="3612600"/>
                              <a:chExt cx="16920" cy="17640"/>
                            </a:xfrm>
                          </p:grpSpPr>
                          <p:sp>
                            <p:nvSpPr>
                              <p:cNvPr id="3162" name=""/>
                              <p:cNvSpPr/>
                              <p:nvPr/>
                            </p:nvSpPr>
                            <p:spPr>
                              <a:xfrm>
                                <a:off x="70509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3" name=""/>
                              <p:cNvSpPr/>
                              <p:nvPr/>
                            </p:nvSpPr>
                            <p:spPr>
                              <a:xfrm>
                                <a:off x="70563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164" name=""/>
                      <p:cNvGrpSpPr/>
                      <p:nvPr/>
                    </p:nvGrpSpPr>
                    <p:grpSpPr>
                      <a:xfrm>
                        <a:off x="7062120" y="3612600"/>
                        <a:ext cx="86400" cy="17640"/>
                        <a:chOff x="7062120" y="3612600"/>
                        <a:chExt cx="86400" cy="17640"/>
                      </a:xfrm>
                    </p:grpSpPr>
                    <p:grpSp>
                      <p:nvGrpSpPr>
                        <p:cNvPr id="3165" name=""/>
                        <p:cNvGrpSpPr/>
                        <p:nvPr/>
                      </p:nvGrpSpPr>
                      <p:grpSpPr>
                        <a:xfrm>
                          <a:off x="7062120" y="3612600"/>
                          <a:ext cx="41400" cy="17640"/>
                          <a:chOff x="7062120" y="3612600"/>
                          <a:chExt cx="41400" cy="17640"/>
                        </a:xfrm>
                      </p:grpSpPr>
                      <p:grpSp>
                        <p:nvGrpSpPr>
                          <p:cNvPr id="3166" name=""/>
                          <p:cNvGrpSpPr/>
                          <p:nvPr/>
                        </p:nvGrpSpPr>
                        <p:grpSpPr>
                          <a:xfrm>
                            <a:off x="7062120" y="3612600"/>
                            <a:ext cx="21600" cy="17640"/>
                            <a:chOff x="7062120" y="3612600"/>
                            <a:chExt cx="21600" cy="17640"/>
                          </a:xfrm>
                        </p:grpSpPr>
                        <p:grpSp>
                          <p:nvGrpSpPr>
                            <p:cNvPr id="3167" name=""/>
                            <p:cNvGrpSpPr/>
                            <p:nvPr/>
                          </p:nvGrpSpPr>
                          <p:grpSpPr>
                            <a:xfrm>
                              <a:off x="7062120" y="3612600"/>
                              <a:ext cx="16200" cy="17640"/>
                              <a:chOff x="7062120" y="3612600"/>
                              <a:chExt cx="16200" cy="17640"/>
                            </a:xfrm>
                          </p:grpSpPr>
                          <p:sp>
                            <p:nvSpPr>
                              <p:cNvPr id="3168" name=""/>
                              <p:cNvSpPr/>
                              <p:nvPr/>
                            </p:nvSpPr>
                            <p:spPr>
                              <a:xfrm>
                                <a:off x="706212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9" name=""/>
                              <p:cNvSpPr/>
                              <p:nvPr/>
                            </p:nvSpPr>
                            <p:spPr>
                              <a:xfrm>
                                <a:off x="70668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70" name=""/>
                            <p:cNvGrpSpPr/>
                            <p:nvPr/>
                          </p:nvGrpSpPr>
                          <p:grpSpPr>
                            <a:xfrm>
                              <a:off x="7072200" y="3612600"/>
                              <a:ext cx="11520" cy="17640"/>
                              <a:chOff x="7072200" y="3612600"/>
                              <a:chExt cx="11520" cy="17640"/>
                            </a:xfrm>
                          </p:grpSpPr>
                          <p:sp>
                            <p:nvSpPr>
                              <p:cNvPr id="3171" name=""/>
                              <p:cNvSpPr/>
                              <p:nvPr/>
                            </p:nvSpPr>
                            <p:spPr>
                              <a:xfrm>
                                <a:off x="70722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2" name=""/>
                              <p:cNvSpPr/>
                              <p:nvPr/>
                            </p:nvSpPr>
                            <p:spPr>
                              <a:xfrm>
                                <a:off x="70768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73" name=""/>
                          <p:cNvGrpSpPr/>
                          <p:nvPr/>
                        </p:nvGrpSpPr>
                        <p:grpSpPr>
                          <a:xfrm>
                            <a:off x="7081920" y="3612600"/>
                            <a:ext cx="21600" cy="17640"/>
                            <a:chOff x="7081920" y="3612600"/>
                            <a:chExt cx="21600" cy="17640"/>
                          </a:xfrm>
                        </p:grpSpPr>
                        <p:grpSp>
                          <p:nvGrpSpPr>
                            <p:cNvPr id="3174" name=""/>
                            <p:cNvGrpSpPr/>
                            <p:nvPr/>
                          </p:nvGrpSpPr>
                          <p:grpSpPr>
                            <a:xfrm>
                              <a:off x="7081920" y="3612600"/>
                              <a:ext cx="16200" cy="17640"/>
                              <a:chOff x="7081920" y="3612600"/>
                              <a:chExt cx="16200" cy="17640"/>
                            </a:xfrm>
                          </p:grpSpPr>
                          <p:sp>
                            <p:nvSpPr>
                              <p:cNvPr id="3175" name=""/>
                              <p:cNvSpPr/>
                              <p:nvPr/>
                            </p:nvSpPr>
                            <p:spPr>
                              <a:xfrm>
                                <a:off x="70819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6" name=""/>
                              <p:cNvSpPr/>
                              <p:nvPr/>
                            </p:nvSpPr>
                            <p:spPr>
                              <a:xfrm>
                                <a:off x="70866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77" name=""/>
                            <p:cNvGrpSpPr/>
                            <p:nvPr/>
                          </p:nvGrpSpPr>
                          <p:grpSpPr>
                            <a:xfrm>
                              <a:off x="7092000" y="3612600"/>
                              <a:ext cx="11520" cy="17640"/>
                              <a:chOff x="7092000" y="3612600"/>
                              <a:chExt cx="11520" cy="17640"/>
                            </a:xfrm>
                          </p:grpSpPr>
                          <p:sp>
                            <p:nvSpPr>
                              <p:cNvPr id="3178" name=""/>
                              <p:cNvSpPr/>
                              <p:nvPr/>
                            </p:nvSpPr>
                            <p:spPr>
                              <a:xfrm>
                                <a:off x="70920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9" name=""/>
                              <p:cNvSpPr/>
                              <p:nvPr/>
                            </p:nvSpPr>
                            <p:spPr>
                              <a:xfrm>
                                <a:off x="70966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180" name=""/>
                        <p:cNvGrpSpPr/>
                        <p:nvPr/>
                      </p:nvGrpSpPr>
                      <p:grpSpPr>
                        <a:xfrm>
                          <a:off x="7102800" y="3612600"/>
                          <a:ext cx="45720" cy="17640"/>
                          <a:chOff x="7102800" y="3612600"/>
                          <a:chExt cx="45720" cy="17640"/>
                        </a:xfrm>
                      </p:grpSpPr>
                      <p:grpSp>
                        <p:nvGrpSpPr>
                          <p:cNvPr id="3181" name=""/>
                          <p:cNvGrpSpPr/>
                          <p:nvPr/>
                        </p:nvGrpSpPr>
                        <p:grpSpPr>
                          <a:xfrm>
                            <a:off x="7102800" y="3612600"/>
                            <a:ext cx="14760" cy="17640"/>
                            <a:chOff x="7102800" y="3612600"/>
                            <a:chExt cx="14760" cy="17640"/>
                          </a:xfrm>
                        </p:grpSpPr>
                        <p:grpSp>
                          <p:nvGrpSpPr>
                            <p:cNvPr id="3182" name=""/>
                            <p:cNvGrpSpPr/>
                            <p:nvPr/>
                          </p:nvGrpSpPr>
                          <p:grpSpPr>
                            <a:xfrm>
                              <a:off x="7102800" y="3612600"/>
                              <a:ext cx="4320" cy="17640"/>
                              <a:chOff x="7102800" y="3612600"/>
                              <a:chExt cx="4320" cy="17640"/>
                            </a:xfrm>
                          </p:grpSpPr>
                          <p:sp>
                            <p:nvSpPr>
                              <p:cNvPr id="3183" name=""/>
                              <p:cNvSpPr/>
                              <p:nvPr/>
                            </p:nvSpPr>
                            <p:spPr>
                              <a:xfrm>
                                <a:off x="710280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4" name=""/>
                              <p:cNvSpPr/>
                              <p:nvPr/>
                            </p:nvSpPr>
                            <p:spPr>
                              <a:xfrm>
                                <a:off x="71067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85" name=""/>
                            <p:cNvGrpSpPr/>
                            <p:nvPr/>
                          </p:nvGrpSpPr>
                          <p:grpSpPr>
                            <a:xfrm>
                              <a:off x="7112520" y="3612600"/>
                              <a:ext cx="5040" cy="17640"/>
                              <a:chOff x="7112520" y="3612600"/>
                              <a:chExt cx="5040" cy="17640"/>
                            </a:xfrm>
                          </p:grpSpPr>
                          <p:sp>
                            <p:nvSpPr>
                              <p:cNvPr id="3186" name=""/>
                              <p:cNvSpPr/>
                              <p:nvPr/>
                            </p:nvSpPr>
                            <p:spPr>
                              <a:xfrm>
                                <a:off x="71125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7" name=""/>
                              <p:cNvSpPr/>
                              <p:nvPr/>
                            </p:nvSpPr>
                            <p:spPr>
                              <a:xfrm>
                                <a:off x="71172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88" name=""/>
                          <p:cNvGrpSpPr/>
                          <p:nvPr/>
                        </p:nvGrpSpPr>
                        <p:grpSpPr>
                          <a:xfrm>
                            <a:off x="7122240" y="3612600"/>
                            <a:ext cx="26280" cy="17640"/>
                            <a:chOff x="7122240" y="3612600"/>
                            <a:chExt cx="26280" cy="17640"/>
                          </a:xfrm>
                        </p:grpSpPr>
                        <p:grpSp>
                          <p:nvGrpSpPr>
                            <p:cNvPr id="3189" name=""/>
                            <p:cNvGrpSpPr/>
                            <p:nvPr/>
                          </p:nvGrpSpPr>
                          <p:grpSpPr>
                            <a:xfrm>
                              <a:off x="7122240" y="3612600"/>
                              <a:ext cx="11520" cy="17640"/>
                              <a:chOff x="7122240" y="3612600"/>
                              <a:chExt cx="11520" cy="17640"/>
                            </a:xfrm>
                          </p:grpSpPr>
                          <p:sp>
                            <p:nvSpPr>
                              <p:cNvPr id="3190" name=""/>
                              <p:cNvSpPr/>
                              <p:nvPr/>
                            </p:nvSpPr>
                            <p:spPr>
                              <a:xfrm>
                                <a:off x="712224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1" name=""/>
                              <p:cNvSpPr/>
                              <p:nvPr/>
                            </p:nvSpPr>
                            <p:spPr>
                              <a:xfrm>
                                <a:off x="712764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92" name=""/>
                            <p:cNvGrpSpPr/>
                            <p:nvPr/>
                          </p:nvGrpSpPr>
                          <p:grpSpPr>
                            <a:xfrm>
                              <a:off x="7132320" y="3612600"/>
                              <a:ext cx="16200" cy="17640"/>
                              <a:chOff x="7132320" y="3612600"/>
                              <a:chExt cx="16200" cy="17640"/>
                            </a:xfrm>
                          </p:grpSpPr>
                          <p:sp>
                            <p:nvSpPr>
                              <p:cNvPr id="3193" name=""/>
                              <p:cNvSpPr/>
                              <p:nvPr/>
                            </p:nvSpPr>
                            <p:spPr>
                              <a:xfrm>
                                <a:off x="713232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4" name=""/>
                              <p:cNvSpPr/>
                              <p:nvPr/>
                            </p:nvSpPr>
                            <p:spPr>
                              <a:xfrm>
                                <a:off x="71370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195" name=""/>
                <p:cNvGrpSpPr/>
                <p:nvPr/>
              </p:nvGrpSpPr>
              <p:grpSpPr>
                <a:xfrm>
                  <a:off x="6819120" y="3552480"/>
                  <a:ext cx="315000" cy="41760"/>
                  <a:chOff x="6819120" y="3552480"/>
                  <a:chExt cx="315000" cy="4176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6819120" y="355248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888600" y="355248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6986880" y="355248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7094160" y="355248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0" name=""/>
              <p:cNvGrpSpPr/>
              <p:nvPr/>
            </p:nvGrpSpPr>
            <p:grpSpPr>
              <a:xfrm>
                <a:off x="7099200" y="3557520"/>
                <a:ext cx="25200" cy="19440"/>
                <a:chOff x="7099200" y="3557520"/>
                <a:chExt cx="25200" cy="19440"/>
              </a:xfrm>
            </p:grpSpPr>
            <p:sp>
              <p:nvSpPr>
                <p:cNvPr id="3201" name=""/>
                <p:cNvSpPr/>
                <p:nvPr/>
              </p:nvSpPr>
              <p:spPr>
                <a:xfrm>
                  <a:off x="7113600" y="355752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7115400" y="356472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3" name=""/>
                <p:cNvGrpSpPr/>
                <p:nvPr/>
              </p:nvGrpSpPr>
              <p:grpSpPr>
                <a:xfrm>
                  <a:off x="7099200" y="3560040"/>
                  <a:ext cx="5400" cy="16920"/>
                  <a:chOff x="7099200" y="3560040"/>
                  <a:chExt cx="5400" cy="16920"/>
                </a:xfrm>
              </p:grpSpPr>
              <p:sp>
                <p:nvSpPr>
                  <p:cNvPr id="3204" name=""/>
                  <p:cNvSpPr/>
                  <p:nvPr/>
                </p:nvSpPr>
                <p:spPr>
                  <a:xfrm>
                    <a:off x="7099200" y="35600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7099200" y="35726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6" name=""/>
              <p:cNvGrpSpPr/>
              <p:nvPr/>
            </p:nvGrpSpPr>
            <p:grpSpPr>
              <a:xfrm>
                <a:off x="6892560" y="3558600"/>
                <a:ext cx="85680" cy="27720"/>
                <a:chOff x="6892560" y="3558600"/>
                <a:chExt cx="85680" cy="27720"/>
              </a:xfrm>
            </p:grpSpPr>
            <p:grpSp>
              <p:nvGrpSpPr>
                <p:cNvPr id="3207" name=""/>
                <p:cNvGrpSpPr/>
                <p:nvPr/>
              </p:nvGrpSpPr>
              <p:grpSpPr>
                <a:xfrm>
                  <a:off x="6893280" y="3558600"/>
                  <a:ext cx="84960" cy="15480"/>
                  <a:chOff x="6893280" y="3558600"/>
                  <a:chExt cx="84960" cy="15480"/>
                </a:xfrm>
              </p:grpSpPr>
              <p:sp>
                <p:nvSpPr>
                  <p:cNvPr id="3208" name=""/>
                  <p:cNvSpPr/>
                  <p:nvPr/>
                </p:nvSpPr>
                <p:spPr>
                  <a:xfrm>
                    <a:off x="6921720" y="355860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6921720" y="356616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6893280" y="356508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1" name=""/>
                <p:cNvSpPr/>
                <p:nvPr/>
              </p:nvSpPr>
              <p:spPr>
                <a:xfrm>
                  <a:off x="6892560" y="356004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966000" y="358200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3" name=""/>
              <p:cNvGrpSpPr/>
              <p:nvPr/>
            </p:nvGrpSpPr>
            <p:grpSpPr>
              <a:xfrm>
                <a:off x="6822720" y="3585240"/>
                <a:ext cx="67320" cy="9360"/>
                <a:chOff x="6822720" y="3585240"/>
                <a:chExt cx="67320" cy="9360"/>
              </a:xfrm>
            </p:grpSpPr>
            <p:grpSp>
              <p:nvGrpSpPr>
                <p:cNvPr id="3214" name=""/>
                <p:cNvGrpSpPr/>
                <p:nvPr/>
              </p:nvGrpSpPr>
              <p:grpSpPr>
                <a:xfrm>
                  <a:off x="6822720" y="3585240"/>
                  <a:ext cx="37080" cy="9360"/>
                  <a:chOff x="6822720" y="3585240"/>
                  <a:chExt cx="37080" cy="9360"/>
                </a:xfrm>
              </p:grpSpPr>
              <p:grpSp>
                <p:nvGrpSpPr>
                  <p:cNvPr id="3215" name=""/>
                  <p:cNvGrpSpPr/>
                  <p:nvPr/>
                </p:nvGrpSpPr>
                <p:grpSpPr>
                  <a:xfrm>
                    <a:off x="6822720" y="3585240"/>
                    <a:ext cx="23040" cy="9360"/>
                    <a:chOff x="6822720" y="3585240"/>
                    <a:chExt cx="23040" cy="9360"/>
                  </a:xfrm>
                </p:grpSpPr>
                <p:grpSp>
                  <p:nvGrpSpPr>
                    <p:cNvPr id="3216" name=""/>
                    <p:cNvGrpSpPr/>
                    <p:nvPr/>
                  </p:nvGrpSpPr>
                  <p:grpSpPr>
                    <a:xfrm>
                      <a:off x="6822720" y="3585240"/>
                      <a:ext cx="14760" cy="9360"/>
                      <a:chOff x="6822720" y="3585240"/>
                      <a:chExt cx="14760" cy="9360"/>
                    </a:xfrm>
                  </p:grpSpPr>
                  <p:sp>
                    <p:nvSpPr>
                      <p:cNvPr id="3217" name=""/>
                      <p:cNvSpPr/>
                      <p:nvPr/>
                    </p:nvSpPr>
                    <p:spPr>
                      <a:xfrm>
                        <a:off x="68227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8" name=""/>
                      <p:cNvSpPr/>
                      <p:nvPr/>
                    </p:nvSpPr>
                    <p:spPr>
                      <a:xfrm>
                        <a:off x="682596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19" name=""/>
                    <p:cNvGrpSpPr/>
                    <p:nvPr/>
                  </p:nvGrpSpPr>
                  <p:grpSpPr>
                    <a:xfrm>
                      <a:off x="6829560" y="3585240"/>
                      <a:ext cx="16200" cy="9360"/>
                      <a:chOff x="6829560" y="3585240"/>
                      <a:chExt cx="16200" cy="9360"/>
                    </a:xfrm>
                  </p:grpSpPr>
                  <p:sp>
                    <p:nvSpPr>
                      <p:cNvPr id="3220" name=""/>
                      <p:cNvSpPr/>
                      <p:nvPr/>
                    </p:nvSpPr>
                    <p:spPr>
                      <a:xfrm>
                        <a:off x="682956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1" name=""/>
                      <p:cNvSpPr/>
                      <p:nvPr/>
                    </p:nvSpPr>
                    <p:spPr>
                      <a:xfrm>
                        <a:off x="683388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22" name=""/>
                  <p:cNvGrpSpPr/>
                  <p:nvPr/>
                </p:nvGrpSpPr>
                <p:grpSpPr>
                  <a:xfrm>
                    <a:off x="6837120" y="3585240"/>
                    <a:ext cx="22680" cy="9360"/>
                    <a:chOff x="6837120" y="3585240"/>
                    <a:chExt cx="22680" cy="9360"/>
                  </a:xfrm>
                </p:grpSpPr>
                <p:grpSp>
                  <p:nvGrpSpPr>
                    <p:cNvPr id="3223" name=""/>
                    <p:cNvGrpSpPr/>
                    <p:nvPr/>
                  </p:nvGrpSpPr>
                  <p:grpSpPr>
                    <a:xfrm>
                      <a:off x="6837120" y="3585240"/>
                      <a:ext cx="14760" cy="9360"/>
                      <a:chOff x="6837120" y="3585240"/>
                      <a:chExt cx="14760" cy="9360"/>
                    </a:xfrm>
                  </p:grpSpPr>
                  <p:sp>
                    <p:nvSpPr>
                      <p:cNvPr id="3224" name=""/>
                      <p:cNvSpPr/>
                      <p:nvPr/>
                    </p:nvSpPr>
                    <p:spPr>
                      <a:xfrm>
                        <a:off x="68371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5" name=""/>
                      <p:cNvSpPr/>
                      <p:nvPr/>
                    </p:nvSpPr>
                    <p:spPr>
                      <a:xfrm>
                        <a:off x="684036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6" name=""/>
                    <p:cNvGrpSpPr/>
                    <p:nvPr/>
                  </p:nvGrpSpPr>
                  <p:grpSpPr>
                    <a:xfrm>
                      <a:off x="6844320" y="3585240"/>
                      <a:ext cx="15480" cy="9360"/>
                      <a:chOff x="6844320" y="3585240"/>
                      <a:chExt cx="15480" cy="9360"/>
                    </a:xfrm>
                  </p:grpSpPr>
                  <p:sp>
                    <p:nvSpPr>
                      <p:cNvPr id="3227" name=""/>
                      <p:cNvSpPr/>
                      <p:nvPr/>
                    </p:nvSpPr>
                    <p:spPr>
                      <a:xfrm>
                        <a:off x="68443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8" name=""/>
                      <p:cNvSpPr/>
                      <p:nvPr/>
                    </p:nvSpPr>
                    <p:spPr>
                      <a:xfrm>
                        <a:off x="684828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29" name=""/>
                <p:cNvGrpSpPr/>
                <p:nvPr/>
              </p:nvGrpSpPr>
              <p:grpSpPr>
                <a:xfrm>
                  <a:off x="6852240" y="3585240"/>
                  <a:ext cx="37800" cy="9360"/>
                  <a:chOff x="6852240" y="3585240"/>
                  <a:chExt cx="37800" cy="9360"/>
                </a:xfrm>
              </p:grpSpPr>
              <p:grpSp>
                <p:nvGrpSpPr>
                  <p:cNvPr id="3230" name=""/>
                  <p:cNvGrpSpPr/>
                  <p:nvPr/>
                </p:nvGrpSpPr>
                <p:grpSpPr>
                  <a:xfrm>
                    <a:off x="6852240" y="3585240"/>
                    <a:ext cx="23040" cy="9360"/>
                    <a:chOff x="6852240" y="3585240"/>
                    <a:chExt cx="23040" cy="9360"/>
                  </a:xfrm>
                </p:grpSpPr>
                <p:grpSp>
                  <p:nvGrpSpPr>
                    <p:cNvPr id="3231" name=""/>
                    <p:cNvGrpSpPr/>
                    <p:nvPr/>
                  </p:nvGrpSpPr>
                  <p:grpSpPr>
                    <a:xfrm>
                      <a:off x="6852240" y="3585240"/>
                      <a:ext cx="15840" cy="9360"/>
                      <a:chOff x="6852240" y="3585240"/>
                      <a:chExt cx="15840" cy="9360"/>
                    </a:xfrm>
                  </p:grpSpPr>
                  <p:sp>
                    <p:nvSpPr>
                      <p:cNvPr id="3232" name=""/>
                      <p:cNvSpPr/>
                      <p:nvPr/>
                    </p:nvSpPr>
                    <p:spPr>
                      <a:xfrm>
                        <a:off x="685224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3" name=""/>
                      <p:cNvSpPr/>
                      <p:nvPr/>
                    </p:nvSpPr>
                    <p:spPr>
                      <a:xfrm>
                        <a:off x="685620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34" name=""/>
                    <p:cNvGrpSpPr/>
                    <p:nvPr/>
                  </p:nvGrpSpPr>
                  <p:grpSpPr>
                    <a:xfrm>
                      <a:off x="6860520" y="3585240"/>
                      <a:ext cx="14760" cy="9360"/>
                      <a:chOff x="6860520" y="3585240"/>
                      <a:chExt cx="14760" cy="9360"/>
                    </a:xfrm>
                  </p:grpSpPr>
                  <p:sp>
                    <p:nvSpPr>
                      <p:cNvPr id="3235" name=""/>
                      <p:cNvSpPr/>
                      <p:nvPr/>
                    </p:nvSpPr>
                    <p:spPr>
                      <a:xfrm>
                        <a:off x="68605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6" name=""/>
                      <p:cNvSpPr/>
                      <p:nvPr/>
                    </p:nvSpPr>
                    <p:spPr>
                      <a:xfrm>
                        <a:off x="686376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37" name=""/>
                  <p:cNvGrpSpPr/>
                  <p:nvPr/>
                </p:nvGrpSpPr>
                <p:grpSpPr>
                  <a:xfrm>
                    <a:off x="6867360" y="3585240"/>
                    <a:ext cx="22680" cy="9360"/>
                    <a:chOff x="6867360" y="3585240"/>
                    <a:chExt cx="22680" cy="9360"/>
                  </a:xfrm>
                </p:grpSpPr>
                <p:grpSp>
                  <p:nvGrpSpPr>
                    <p:cNvPr id="3238" name=""/>
                    <p:cNvGrpSpPr/>
                    <p:nvPr/>
                  </p:nvGrpSpPr>
                  <p:grpSpPr>
                    <a:xfrm>
                      <a:off x="6867360" y="3585240"/>
                      <a:ext cx="15840" cy="9360"/>
                      <a:chOff x="6867360" y="3585240"/>
                      <a:chExt cx="15840" cy="9360"/>
                    </a:xfrm>
                  </p:grpSpPr>
                  <p:sp>
                    <p:nvSpPr>
                      <p:cNvPr id="3239" name=""/>
                      <p:cNvSpPr/>
                      <p:nvPr/>
                    </p:nvSpPr>
                    <p:spPr>
                      <a:xfrm>
                        <a:off x="686736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0" name=""/>
                      <p:cNvSpPr/>
                      <p:nvPr/>
                    </p:nvSpPr>
                    <p:spPr>
                      <a:xfrm>
                        <a:off x="687132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1" name=""/>
                    <p:cNvGrpSpPr/>
                    <p:nvPr/>
                  </p:nvGrpSpPr>
                  <p:grpSpPr>
                    <a:xfrm>
                      <a:off x="6875640" y="3585240"/>
                      <a:ext cx="14400" cy="9360"/>
                      <a:chOff x="6875640" y="3585240"/>
                      <a:chExt cx="14400" cy="9360"/>
                    </a:xfrm>
                  </p:grpSpPr>
                  <p:sp>
                    <p:nvSpPr>
                      <p:cNvPr id="3242" name=""/>
                      <p:cNvSpPr/>
                      <p:nvPr/>
                    </p:nvSpPr>
                    <p:spPr>
                      <a:xfrm>
                        <a:off x="687564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3" name=""/>
                      <p:cNvSpPr/>
                      <p:nvPr/>
                    </p:nvSpPr>
                    <p:spPr>
                      <a:xfrm>
                        <a:off x="687816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244" name=""/>
              <p:cNvSpPr/>
              <p:nvPr/>
            </p:nvSpPr>
            <p:spPr>
              <a:xfrm>
                <a:off x="6817320" y="357696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5" name=""/>
            <p:cNvGrpSpPr/>
            <p:nvPr/>
          </p:nvGrpSpPr>
          <p:grpSpPr>
            <a:xfrm>
              <a:off x="6705720" y="3629520"/>
              <a:ext cx="533160" cy="62640"/>
              <a:chOff x="6705720" y="3629520"/>
              <a:chExt cx="533160" cy="62640"/>
            </a:xfrm>
          </p:grpSpPr>
          <p:grpSp>
            <p:nvGrpSpPr>
              <p:cNvPr id="3246" name=""/>
              <p:cNvGrpSpPr/>
              <p:nvPr/>
            </p:nvGrpSpPr>
            <p:grpSpPr>
              <a:xfrm>
                <a:off x="6705720" y="3629520"/>
                <a:ext cx="533160" cy="62640"/>
                <a:chOff x="6705720" y="3629520"/>
                <a:chExt cx="533160" cy="62640"/>
              </a:xfrm>
            </p:grpSpPr>
            <p:sp>
              <p:nvSpPr>
                <p:cNvPr id="3247" name=""/>
                <p:cNvSpPr/>
                <p:nvPr/>
              </p:nvSpPr>
              <p:spPr>
                <a:xfrm>
                  <a:off x="6708240" y="36846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705720" y="36295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721560" y="36352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6764400" y="3634200"/>
                <a:ext cx="419760" cy="14400"/>
                <a:chOff x="6764400" y="3634200"/>
                <a:chExt cx="419760" cy="1440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6764400" y="36342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6804360" y="36342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6890040" y="36342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6966000" y="36342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044120" y="36342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7113960" y="36392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7" name=""/>
              <p:cNvGrpSpPr/>
              <p:nvPr/>
            </p:nvGrpSpPr>
            <p:grpSpPr>
              <a:xfrm>
                <a:off x="6751080" y="3648240"/>
                <a:ext cx="435240" cy="21960"/>
                <a:chOff x="6751080" y="3648240"/>
                <a:chExt cx="435240" cy="21960"/>
              </a:xfrm>
            </p:grpSpPr>
            <p:grpSp>
              <p:nvGrpSpPr>
                <p:cNvPr id="3258" name=""/>
                <p:cNvGrpSpPr/>
                <p:nvPr/>
              </p:nvGrpSpPr>
              <p:grpSpPr>
                <a:xfrm>
                  <a:off x="6788880" y="3648960"/>
                  <a:ext cx="212760" cy="19080"/>
                  <a:chOff x="6788880" y="3648960"/>
                  <a:chExt cx="212760" cy="1908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>
                    <a:off x="6788880" y="36489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6797160" y="36550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>
                    <a:off x="6799680" y="36612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6804000" y="36680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3" name=""/>
                <p:cNvGrpSpPr/>
                <p:nvPr/>
              </p:nvGrpSpPr>
              <p:grpSpPr>
                <a:xfrm>
                  <a:off x="6751080" y="3651840"/>
                  <a:ext cx="30960" cy="12240"/>
                  <a:chOff x="6751080" y="3651840"/>
                  <a:chExt cx="30960" cy="12240"/>
                </a:xfrm>
              </p:grpSpPr>
              <p:sp>
                <p:nvSpPr>
                  <p:cNvPr id="3264" name=""/>
                  <p:cNvSpPr/>
                  <p:nvPr/>
                </p:nvSpPr>
                <p:spPr>
                  <a:xfrm>
                    <a:off x="6760080" y="36518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>
                    <a:off x="6756480" y="36583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6751080" y="36640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7" name=""/>
                <p:cNvGrpSpPr/>
                <p:nvPr/>
              </p:nvGrpSpPr>
              <p:grpSpPr>
                <a:xfrm>
                  <a:off x="6835320" y="3648240"/>
                  <a:ext cx="194760" cy="20880"/>
                  <a:chOff x="6835320" y="3648240"/>
                  <a:chExt cx="194760" cy="2088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>
                    <a:off x="6835320" y="36684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7005240" y="36482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7012800" y="36554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6996960" y="36622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6964920" y="3668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6990840" y="36691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4" name=""/>
                <p:cNvGrpSpPr/>
                <p:nvPr/>
              </p:nvGrpSpPr>
              <p:grpSpPr>
                <a:xfrm>
                  <a:off x="7045200" y="3651840"/>
                  <a:ext cx="56160" cy="17280"/>
                  <a:chOff x="7045200" y="3651840"/>
                  <a:chExt cx="56160" cy="17280"/>
                </a:xfrm>
              </p:grpSpPr>
              <p:sp>
                <p:nvSpPr>
                  <p:cNvPr id="3275" name=""/>
                  <p:cNvSpPr/>
                  <p:nvPr/>
                </p:nvSpPr>
                <p:spPr>
                  <a:xfrm>
                    <a:off x="7045200" y="36518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7053480" y="36597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7053840" y="36691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8" name=""/>
                <p:cNvGrpSpPr/>
                <p:nvPr/>
              </p:nvGrpSpPr>
              <p:grpSpPr>
                <a:xfrm>
                  <a:off x="7118640" y="3651840"/>
                  <a:ext cx="67680" cy="18360"/>
                  <a:chOff x="7118640" y="3651840"/>
                  <a:chExt cx="67680" cy="18360"/>
                </a:xfrm>
              </p:grpSpPr>
              <p:sp>
                <p:nvSpPr>
                  <p:cNvPr id="3279" name=""/>
                  <p:cNvSpPr/>
                  <p:nvPr/>
                </p:nvSpPr>
                <p:spPr>
                  <a:xfrm>
                    <a:off x="7123320" y="36518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7118640" y="36583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7123320" y="36640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7121880" y="36702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7173000" y="36590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7178040" y="36669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85" name=""/>
            <p:cNvGrpSpPr/>
            <p:nvPr/>
          </p:nvGrpSpPr>
          <p:grpSpPr>
            <a:xfrm>
              <a:off x="6862320" y="3493440"/>
              <a:ext cx="231840" cy="38160"/>
              <a:chOff x="6862320" y="3493440"/>
              <a:chExt cx="231840" cy="38160"/>
            </a:xfrm>
          </p:grpSpPr>
          <p:grpSp>
            <p:nvGrpSpPr>
              <p:cNvPr id="3286" name=""/>
              <p:cNvGrpSpPr/>
              <p:nvPr/>
            </p:nvGrpSpPr>
            <p:grpSpPr>
              <a:xfrm>
                <a:off x="6862320" y="3506040"/>
                <a:ext cx="231840" cy="25560"/>
                <a:chOff x="6862320" y="3506040"/>
                <a:chExt cx="231840" cy="2556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6862320" y="350604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6864480" y="352332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9" name=""/>
              <p:cNvSpPr/>
              <p:nvPr/>
            </p:nvSpPr>
            <p:spPr>
              <a:xfrm>
                <a:off x="6915240" y="349344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0" name=""/>
            <p:cNvSpPr/>
            <p:nvPr/>
          </p:nvSpPr>
          <p:spPr>
            <a:xfrm>
              <a:off x="6836040" y="331164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868080" y="333216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877440" y="333756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6705720" y="3921120"/>
            <a:ext cx="533160" cy="380520"/>
            <a:chOff x="6705720" y="3921120"/>
            <a:chExt cx="533160" cy="380520"/>
          </a:xfrm>
        </p:grpSpPr>
        <p:grpSp>
          <p:nvGrpSpPr>
            <p:cNvPr id="3294" name=""/>
            <p:cNvGrpSpPr/>
            <p:nvPr/>
          </p:nvGrpSpPr>
          <p:grpSpPr>
            <a:xfrm>
              <a:off x="6808320" y="4124160"/>
              <a:ext cx="340200" cy="118080"/>
              <a:chOff x="6808320" y="4124160"/>
              <a:chExt cx="340200" cy="118080"/>
            </a:xfrm>
          </p:grpSpPr>
          <p:grpSp>
            <p:nvGrpSpPr>
              <p:cNvPr id="3295" name=""/>
              <p:cNvGrpSpPr/>
              <p:nvPr/>
            </p:nvGrpSpPr>
            <p:grpSpPr>
              <a:xfrm>
                <a:off x="6808320" y="4124160"/>
                <a:ext cx="340200" cy="118080"/>
                <a:chOff x="6808320" y="4124160"/>
                <a:chExt cx="340200" cy="118080"/>
              </a:xfrm>
            </p:grpSpPr>
            <p:grpSp>
              <p:nvGrpSpPr>
                <p:cNvPr id="3296" name=""/>
                <p:cNvGrpSpPr/>
                <p:nvPr/>
              </p:nvGrpSpPr>
              <p:grpSpPr>
                <a:xfrm>
                  <a:off x="6808320" y="4124160"/>
                  <a:ext cx="340200" cy="118080"/>
                  <a:chOff x="6808320" y="4124160"/>
                  <a:chExt cx="340200" cy="118080"/>
                </a:xfrm>
              </p:grpSpPr>
              <p:grpSp>
                <p:nvGrpSpPr>
                  <p:cNvPr id="3297" name=""/>
                  <p:cNvGrpSpPr/>
                  <p:nvPr/>
                </p:nvGrpSpPr>
                <p:grpSpPr>
                  <a:xfrm>
                    <a:off x="6808320" y="4124160"/>
                    <a:ext cx="339120" cy="118080"/>
                    <a:chOff x="6808320" y="4124160"/>
                    <a:chExt cx="339120" cy="118080"/>
                  </a:xfrm>
                </p:grpSpPr>
                <p:grpSp>
                  <p:nvGrpSpPr>
                    <p:cNvPr id="3298" name=""/>
                    <p:cNvGrpSpPr/>
                    <p:nvPr/>
                  </p:nvGrpSpPr>
                  <p:grpSpPr>
                    <a:xfrm>
                      <a:off x="6808320" y="4124160"/>
                      <a:ext cx="339120" cy="118080"/>
                      <a:chOff x="6808320" y="4124160"/>
                      <a:chExt cx="339120" cy="118080"/>
                    </a:xfrm>
                  </p:grpSpPr>
                  <p:sp>
                    <p:nvSpPr>
                      <p:cNvPr id="3299" name=""/>
                      <p:cNvSpPr/>
                      <p:nvPr/>
                    </p:nvSpPr>
                    <p:spPr>
                      <a:xfrm>
                        <a:off x="6809400" y="41547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0" name=""/>
                      <p:cNvSpPr/>
                      <p:nvPr/>
                    </p:nvSpPr>
                    <p:spPr>
                      <a:xfrm>
                        <a:off x="6808320" y="41241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6817320" y="41479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02" name=""/>
                  <p:cNvGrpSpPr/>
                  <p:nvPr/>
                </p:nvGrpSpPr>
                <p:grpSpPr>
                  <a:xfrm>
                    <a:off x="6822000" y="4222080"/>
                    <a:ext cx="326520" cy="17640"/>
                    <a:chOff x="6822000" y="4222080"/>
                    <a:chExt cx="326520" cy="17640"/>
                  </a:xfrm>
                </p:grpSpPr>
                <p:grpSp>
                  <p:nvGrpSpPr>
                    <p:cNvPr id="3303" name=""/>
                    <p:cNvGrpSpPr/>
                    <p:nvPr/>
                  </p:nvGrpSpPr>
                  <p:grpSpPr>
                    <a:xfrm>
                      <a:off x="6822000" y="4222080"/>
                      <a:ext cx="160560" cy="17640"/>
                      <a:chOff x="6822000" y="4222080"/>
                      <a:chExt cx="160560" cy="17640"/>
                    </a:xfrm>
                  </p:grpSpPr>
                  <p:grpSp>
                    <p:nvGrpSpPr>
                      <p:cNvPr id="3304" name=""/>
                      <p:cNvGrpSpPr/>
                      <p:nvPr/>
                    </p:nvGrpSpPr>
                    <p:grpSpPr>
                      <a:xfrm>
                        <a:off x="6822000" y="4222080"/>
                        <a:ext cx="76320" cy="17640"/>
                        <a:chOff x="6822000" y="4222080"/>
                        <a:chExt cx="76320" cy="17640"/>
                      </a:xfrm>
                    </p:grpSpPr>
                    <p:grpSp>
                      <p:nvGrpSpPr>
                        <p:cNvPr id="3305" name=""/>
                        <p:cNvGrpSpPr/>
                        <p:nvPr/>
                      </p:nvGrpSpPr>
                      <p:grpSpPr>
                        <a:xfrm>
                          <a:off x="6822000" y="4222080"/>
                          <a:ext cx="35640" cy="17640"/>
                          <a:chOff x="6822000" y="4222080"/>
                          <a:chExt cx="35640" cy="17640"/>
                        </a:xfrm>
                      </p:grpSpPr>
                      <p:grpSp>
                        <p:nvGrpSpPr>
                          <p:cNvPr id="3306" name=""/>
                          <p:cNvGrpSpPr/>
                          <p:nvPr/>
                        </p:nvGrpSpPr>
                        <p:grpSpPr>
                          <a:xfrm>
                            <a:off x="6822000" y="4222080"/>
                            <a:ext cx="20880" cy="17640"/>
                            <a:chOff x="6822000" y="4222080"/>
                            <a:chExt cx="20880" cy="17640"/>
                          </a:xfrm>
                        </p:grpSpPr>
                        <p:grpSp>
                          <p:nvGrpSpPr>
                            <p:cNvPr id="3307" name=""/>
                            <p:cNvGrpSpPr/>
                            <p:nvPr/>
                          </p:nvGrpSpPr>
                          <p:grpSpPr>
                            <a:xfrm>
                              <a:off x="6822000" y="4222080"/>
                              <a:ext cx="5040" cy="17640"/>
                              <a:chOff x="6822000" y="4222080"/>
                              <a:chExt cx="5040" cy="17640"/>
                            </a:xfrm>
                          </p:grpSpPr>
                          <p:sp>
                            <p:nvSpPr>
                              <p:cNvPr id="3308" name=""/>
                              <p:cNvSpPr/>
                              <p:nvPr/>
                            </p:nvSpPr>
                            <p:spPr>
                              <a:xfrm>
                                <a:off x="6822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09" name=""/>
                              <p:cNvSpPr/>
                              <p:nvPr/>
                            </p:nvSpPr>
                            <p:spPr>
                              <a:xfrm>
                                <a:off x="68266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10" name=""/>
                            <p:cNvGrpSpPr/>
                            <p:nvPr/>
                          </p:nvGrpSpPr>
                          <p:grpSpPr>
                            <a:xfrm>
                              <a:off x="6831360" y="4222080"/>
                              <a:ext cx="11520" cy="17640"/>
                              <a:chOff x="6831360" y="4222080"/>
                              <a:chExt cx="11520" cy="17640"/>
                            </a:xfrm>
                          </p:grpSpPr>
                          <p:sp>
                            <p:nvSpPr>
                              <p:cNvPr id="3311" name=""/>
                              <p:cNvSpPr/>
                              <p:nvPr/>
                            </p:nvSpPr>
                            <p:spPr>
                              <a:xfrm>
                                <a:off x="68313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2" name=""/>
                              <p:cNvSpPr/>
                              <p:nvPr/>
                            </p:nvSpPr>
                            <p:spPr>
                              <a:xfrm>
                                <a:off x="68367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13" name=""/>
                          <p:cNvGrpSpPr/>
                          <p:nvPr/>
                        </p:nvGrpSpPr>
                        <p:grpSpPr>
                          <a:xfrm>
                            <a:off x="6842160" y="4222080"/>
                            <a:ext cx="15480" cy="17640"/>
                            <a:chOff x="6842160" y="4222080"/>
                            <a:chExt cx="15480" cy="17640"/>
                          </a:xfrm>
                        </p:grpSpPr>
                        <p:grpSp>
                          <p:nvGrpSpPr>
                            <p:cNvPr id="3314" name=""/>
                            <p:cNvGrpSpPr/>
                            <p:nvPr/>
                          </p:nvGrpSpPr>
                          <p:grpSpPr>
                            <a:xfrm>
                              <a:off x="6842160" y="4222080"/>
                              <a:ext cx="11520" cy="17640"/>
                              <a:chOff x="6842160" y="4222080"/>
                              <a:chExt cx="11520" cy="17640"/>
                            </a:xfrm>
                          </p:grpSpPr>
                          <p:sp>
                            <p:nvSpPr>
                              <p:cNvPr id="3315" name=""/>
                              <p:cNvSpPr/>
                              <p:nvPr/>
                            </p:nvSpPr>
                            <p:spPr>
                              <a:xfrm>
                                <a:off x="68421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6" name=""/>
                              <p:cNvSpPr/>
                              <p:nvPr/>
                            </p:nvSpPr>
                            <p:spPr>
                              <a:xfrm>
                                <a:off x="684684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17" name=""/>
                            <p:cNvGrpSpPr/>
                            <p:nvPr/>
                          </p:nvGrpSpPr>
                          <p:grpSpPr>
                            <a:xfrm>
                              <a:off x="6852600" y="4222080"/>
                              <a:ext cx="5040" cy="17640"/>
                              <a:chOff x="6852600" y="4222080"/>
                              <a:chExt cx="5040" cy="17640"/>
                            </a:xfrm>
                          </p:grpSpPr>
                          <p:sp>
                            <p:nvSpPr>
                              <p:cNvPr id="3318" name=""/>
                              <p:cNvSpPr/>
                              <p:nvPr/>
                            </p:nvSpPr>
                            <p:spPr>
                              <a:xfrm>
                                <a:off x="68526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9" name=""/>
                              <p:cNvSpPr/>
                              <p:nvPr/>
                            </p:nvSpPr>
                            <p:spPr>
                              <a:xfrm>
                                <a:off x="68572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20" name=""/>
                        <p:cNvGrpSpPr/>
                        <p:nvPr/>
                      </p:nvGrpSpPr>
                      <p:grpSpPr>
                        <a:xfrm>
                          <a:off x="6861960" y="4222080"/>
                          <a:ext cx="36360" cy="17640"/>
                          <a:chOff x="6861960" y="4222080"/>
                          <a:chExt cx="36360" cy="17640"/>
                        </a:xfrm>
                      </p:grpSpPr>
                      <p:grpSp>
                        <p:nvGrpSpPr>
                          <p:cNvPr id="3321" name=""/>
                          <p:cNvGrpSpPr/>
                          <p:nvPr/>
                        </p:nvGrpSpPr>
                        <p:grpSpPr>
                          <a:xfrm>
                            <a:off x="6861960" y="4222080"/>
                            <a:ext cx="21600" cy="17640"/>
                            <a:chOff x="6861960" y="4222080"/>
                            <a:chExt cx="21600" cy="17640"/>
                          </a:xfrm>
                        </p:grpSpPr>
                        <p:grpSp>
                          <p:nvGrpSpPr>
                            <p:cNvPr id="3322" name=""/>
                            <p:cNvGrpSpPr/>
                            <p:nvPr/>
                          </p:nvGrpSpPr>
                          <p:grpSpPr>
                            <a:xfrm>
                              <a:off x="6861960" y="4222080"/>
                              <a:ext cx="16200" cy="17640"/>
                              <a:chOff x="6861960" y="4222080"/>
                              <a:chExt cx="16200" cy="17640"/>
                            </a:xfrm>
                          </p:grpSpPr>
                          <p:sp>
                            <p:nvSpPr>
                              <p:cNvPr id="3323" name=""/>
                              <p:cNvSpPr/>
                              <p:nvPr/>
                            </p:nvSpPr>
                            <p:spPr>
                              <a:xfrm>
                                <a:off x="68619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24" name=""/>
                              <p:cNvSpPr/>
                              <p:nvPr/>
                            </p:nvSpPr>
                            <p:spPr>
                              <a:xfrm>
                                <a:off x="686664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25" name=""/>
                            <p:cNvGrpSpPr/>
                            <p:nvPr/>
                          </p:nvGrpSpPr>
                          <p:grpSpPr>
                            <a:xfrm>
                              <a:off x="6871680" y="4222080"/>
                              <a:ext cx="11880" cy="17640"/>
                              <a:chOff x="6871680" y="4222080"/>
                              <a:chExt cx="11880" cy="17640"/>
                            </a:xfrm>
                          </p:grpSpPr>
                          <p:sp>
                            <p:nvSpPr>
                              <p:cNvPr id="3326" name=""/>
                              <p:cNvSpPr/>
                              <p:nvPr/>
                            </p:nvSpPr>
                            <p:spPr>
                              <a:xfrm>
                                <a:off x="6871680" y="42220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27" name=""/>
                              <p:cNvSpPr/>
                              <p:nvPr/>
                            </p:nvSpPr>
                            <p:spPr>
                              <a:xfrm>
                                <a:off x="68770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28" name=""/>
                          <p:cNvGrpSpPr/>
                          <p:nvPr/>
                        </p:nvGrpSpPr>
                        <p:grpSpPr>
                          <a:xfrm>
                            <a:off x="6882120" y="4222080"/>
                            <a:ext cx="16200" cy="17640"/>
                            <a:chOff x="6882120" y="4222080"/>
                            <a:chExt cx="16200" cy="17640"/>
                          </a:xfrm>
                        </p:grpSpPr>
                        <p:grpSp>
                          <p:nvGrpSpPr>
                            <p:cNvPr id="3329" name=""/>
                            <p:cNvGrpSpPr/>
                            <p:nvPr/>
                          </p:nvGrpSpPr>
                          <p:grpSpPr>
                            <a:xfrm>
                              <a:off x="6882120" y="4222080"/>
                              <a:ext cx="16200" cy="17640"/>
                              <a:chOff x="6882120" y="4222080"/>
                              <a:chExt cx="16200" cy="17640"/>
                            </a:xfrm>
                          </p:grpSpPr>
                          <p:sp>
                            <p:nvSpPr>
                              <p:cNvPr id="3330" name=""/>
                              <p:cNvSpPr/>
                              <p:nvPr/>
                            </p:nvSpPr>
                            <p:spPr>
                              <a:xfrm>
                                <a:off x="68821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31" name=""/>
                              <p:cNvSpPr/>
                              <p:nvPr/>
                            </p:nvSpPr>
                            <p:spPr>
                              <a:xfrm>
                                <a:off x="68868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32" name=""/>
                            <p:cNvGrpSpPr/>
                            <p:nvPr/>
                          </p:nvGrpSpPr>
                          <p:grpSpPr>
                            <a:xfrm>
                              <a:off x="6892200" y="4222080"/>
                              <a:ext cx="5400" cy="17640"/>
                              <a:chOff x="6892200" y="4222080"/>
                              <a:chExt cx="5400" cy="17640"/>
                            </a:xfrm>
                          </p:grpSpPr>
                          <p:sp>
                            <p:nvSpPr>
                              <p:cNvPr id="3333" name=""/>
                              <p:cNvSpPr/>
                              <p:nvPr/>
                            </p:nvSpPr>
                            <p:spPr>
                              <a:xfrm>
                                <a:off x="689220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34" name=""/>
                              <p:cNvSpPr/>
                              <p:nvPr/>
                            </p:nvSpPr>
                            <p:spPr>
                              <a:xfrm>
                                <a:off x="68968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335" name=""/>
                      <p:cNvGrpSpPr/>
                      <p:nvPr/>
                    </p:nvGrpSpPr>
                    <p:grpSpPr>
                      <a:xfrm>
                        <a:off x="6901920" y="4222080"/>
                        <a:ext cx="80640" cy="17640"/>
                        <a:chOff x="6901920" y="4222080"/>
                        <a:chExt cx="80640" cy="17640"/>
                      </a:xfrm>
                    </p:grpSpPr>
                    <p:grpSp>
                      <p:nvGrpSpPr>
                        <p:cNvPr id="3336" name=""/>
                        <p:cNvGrpSpPr/>
                        <p:nvPr/>
                      </p:nvGrpSpPr>
                      <p:grpSpPr>
                        <a:xfrm>
                          <a:off x="6901920" y="4222080"/>
                          <a:ext cx="45720" cy="17640"/>
                          <a:chOff x="6901920" y="4222080"/>
                          <a:chExt cx="45720" cy="17640"/>
                        </a:xfrm>
                      </p:grpSpPr>
                      <p:grpSp>
                        <p:nvGrpSpPr>
                          <p:cNvPr id="3337" name=""/>
                          <p:cNvGrpSpPr/>
                          <p:nvPr/>
                        </p:nvGrpSpPr>
                        <p:grpSpPr>
                          <a:xfrm>
                            <a:off x="6901920" y="4222080"/>
                            <a:ext cx="16200" cy="17640"/>
                            <a:chOff x="6901920" y="4222080"/>
                            <a:chExt cx="16200" cy="17640"/>
                          </a:xfrm>
                        </p:grpSpPr>
                        <p:grpSp>
                          <p:nvGrpSpPr>
                            <p:cNvPr id="3338" name=""/>
                            <p:cNvGrpSpPr/>
                            <p:nvPr/>
                          </p:nvGrpSpPr>
                          <p:grpSpPr>
                            <a:xfrm>
                              <a:off x="6901920" y="4222080"/>
                              <a:ext cx="16200" cy="17640"/>
                              <a:chOff x="6901920" y="4222080"/>
                              <a:chExt cx="16200" cy="17640"/>
                            </a:xfrm>
                          </p:grpSpPr>
                          <p:sp>
                            <p:nvSpPr>
                              <p:cNvPr id="3339" name=""/>
                              <p:cNvSpPr/>
                              <p:nvPr/>
                            </p:nvSpPr>
                            <p:spPr>
                              <a:xfrm>
                                <a:off x="69019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40" name=""/>
                              <p:cNvSpPr/>
                              <p:nvPr/>
                            </p:nvSpPr>
                            <p:spPr>
                              <a:xfrm>
                                <a:off x="69066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41" name=""/>
                            <p:cNvGrpSpPr/>
                            <p:nvPr/>
                          </p:nvGrpSpPr>
                          <p:grpSpPr>
                            <a:xfrm>
                              <a:off x="6912000" y="4222080"/>
                              <a:ext cx="4320" cy="17640"/>
                              <a:chOff x="6912000" y="4222080"/>
                              <a:chExt cx="4320" cy="17640"/>
                            </a:xfrm>
                          </p:grpSpPr>
                          <p:sp>
                            <p:nvSpPr>
                              <p:cNvPr id="3342" name=""/>
                              <p:cNvSpPr/>
                              <p:nvPr/>
                            </p:nvSpPr>
                            <p:spPr>
                              <a:xfrm>
                                <a:off x="691200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43" name=""/>
                              <p:cNvSpPr/>
                              <p:nvPr/>
                            </p:nvSpPr>
                            <p:spPr>
                              <a:xfrm>
                                <a:off x="69159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44" name=""/>
                          <p:cNvGrpSpPr/>
                          <p:nvPr/>
                        </p:nvGrpSpPr>
                        <p:grpSpPr>
                          <a:xfrm>
                            <a:off x="6922440" y="4222080"/>
                            <a:ext cx="25200" cy="17640"/>
                            <a:chOff x="6922440" y="4222080"/>
                            <a:chExt cx="25200" cy="17640"/>
                          </a:xfrm>
                        </p:grpSpPr>
                        <p:grpSp>
                          <p:nvGrpSpPr>
                            <p:cNvPr id="3345" name=""/>
                            <p:cNvGrpSpPr/>
                            <p:nvPr/>
                          </p:nvGrpSpPr>
                          <p:grpSpPr>
                            <a:xfrm>
                              <a:off x="6922440" y="4222080"/>
                              <a:ext cx="4320" cy="17640"/>
                              <a:chOff x="6922440" y="4222080"/>
                              <a:chExt cx="4320" cy="17640"/>
                            </a:xfrm>
                          </p:grpSpPr>
                          <p:sp>
                            <p:nvSpPr>
                              <p:cNvPr id="3346" name=""/>
                              <p:cNvSpPr/>
                              <p:nvPr/>
                            </p:nvSpPr>
                            <p:spPr>
                              <a:xfrm>
                                <a:off x="692244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47" name=""/>
                              <p:cNvSpPr/>
                              <p:nvPr/>
                            </p:nvSpPr>
                            <p:spPr>
                              <a:xfrm>
                                <a:off x="69264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48" name=""/>
                            <p:cNvGrpSpPr/>
                            <p:nvPr/>
                          </p:nvGrpSpPr>
                          <p:grpSpPr>
                            <a:xfrm>
                              <a:off x="6932160" y="4222080"/>
                              <a:ext cx="15480" cy="17640"/>
                              <a:chOff x="6932160" y="4222080"/>
                              <a:chExt cx="15480" cy="17640"/>
                            </a:xfrm>
                          </p:grpSpPr>
                          <p:sp>
                            <p:nvSpPr>
                              <p:cNvPr id="3349" name=""/>
                              <p:cNvSpPr/>
                              <p:nvPr/>
                            </p:nvSpPr>
                            <p:spPr>
                              <a:xfrm>
                                <a:off x="69321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50" name=""/>
                              <p:cNvSpPr/>
                              <p:nvPr/>
                            </p:nvSpPr>
                            <p:spPr>
                              <a:xfrm>
                                <a:off x="693612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51" name=""/>
                        <p:cNvGrpSpPr/>
                        <p:nvPr/>
                      </p:nvGrpSpPr>
                      <p:grpSpPr>
                        <a:xfrm>
                          <a:off x="6941880" y="4222080"/>
                          <a:ext cx="40680" cy="17640"/>
                          <a:chOff x="6941880" y="4222080"/>
                          <a:chExt cx="40680" cy="17640"/>
                        </a:xfrm>
                      </p:grpSpPr>
                      <p:grpSp>
                        <p:nvGrpSpPr>
                          <p:cNvPr id="3352" name=""/>
                          <p:cNvGrpSpPr/>
                          <p:nvPr/>
                        </p:nvGrpSpPr>
                        <p:grpSpPr>
                          <a:xfrm>
                            <a:off x="6941880" y="4222080"/>
                            <a:ext cx="15480" cy="17640"/>
                            <a:chOff x="6941880" y="4222080"/>
                            <a:chExt cx="15480" cy="17640"/>
                          </a:xfrm>
                        </p:grpSpPr>
                        <p:grpSp>
                          <p:nvGrpSpPr>
                            <p:cNvPr id="3353" name=""/>
                            <p:cNvGrpSpPr/>
                            <p:nvPr/>
                          </p:nvGrpSpPr>
                          <p:grpSpPr>
                            <a:xfrm>
                              <a:off x="6941880" y="4222080"/>
                              <a:ext cx="5040" cy="17640"/>
                              <a:chOff x="6941880" y="4222080"/>
                              <a:chExt cx="5040" cy="17640"/>
                            </a:xfrm>
                          </p:grpSpPr>
                          <p:sp>
                            <p:nvSpPr>
                              <p:cNvPr id="3354" name=""/>
                              <p:cNvSpPr/>
                              <p:nvPr/>
                            </p:nvSpPr>
                            <p:spPr>
                              <a:xfrm>
                                <a:off x="69418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55" name=""/>
                              <p:cNvSpPr/>
                              <p:nvPr/>
                            </p:nvSpPr>
                            <p:spPr>
                              <a:xfrm>
                                <a:off x="69465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56" name=""/>
                            <p:cNvGrpSpPr/>
                            <p:nvPr/>
                          </p:nvGrpSpPr>
                          <p:grpSpPr>
                            <a:xfrm>
                              <a:off x="6952320" y="4222080"/>
                              <a:ext cx="5040" cy="17640"/>
                              <a:chOff x="6952320" y="4222080"/>
                              <a:chExt cx="5040" cy="17640"/>
                            </a:xfrm>
                          </p:grpSpPr>
                          <p:sp>
                            <p:nvSpPr>
                              <p:cNvPr id="3357" name=""/>
                              <p:cNvSpPr/>
                              <p:nvPr/>
                            </p:nvSpPr>
                            <p:spPr>
                              <a:xfrm>
                                <a:off x="695232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58" name=""/>
                              <p:cNvSpPr/>
                              <p:nvPr/>
                            </p:nvSpPr>
                            <p:spPr>
                              <a:xfrm>
                                <a:off x="6957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59" name=""/>
                          <p:cNvGrpSpPr/>
                          <p:nvPr/>
                        </p:nvGrpSpPr>
                        <p:grpSpPr>
                          <a:xfrm>
                            <a:off x="6961680" y="4222080"/>
                            <a:ext cx="20880" cy="17640"/>
                            <a:chOff x="6961680" y="4222080"/>
                            <a:chExt cx="20880" cy="17640"/>
                          </a:xfrm>
                        </p:grpSpPr>
                        <p:grpSp>
                          <p:nvGrpSpPr>
                            <p:cNvPr id="3360" name=""/>
                            <p:cNvGrpSpPr/>
                            <p:nvPr/>
                          </p:nvGrpSpPr>
                          <p:grpSpPr>
                            <a:xfrm>
                              <a:off x="6961680" y="4222080"/>
                              <a:ext cx="16920" cy="17640"/>
                              <a:chOff x="6961680" y="4222080"/>
                              <a:chExt cx="16920" cy="17640"/>
                            </a:xfrm>
                          </p:grpSpPr>
                          <p:sp>
                            <p:nvSpPr>
                              <p:cNvPr id="3361" name=""/>
                              <p:cNvSpPr/>
                              <p:nvPr/>
                            </p:nvSpPr>
                            <p:spPr>
                              <a:xfrm>
                                <a:off x="69616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62" name=""/>
                              <p:cNvSpPr/>
                              <p:nvPr/>
                            </p:nvSpPr>
                            <p:spPr>
                              <a:xfrm>
                                <a:off x="696708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63" name=""/>
                            <p:cNvGrpSpPr/>
                            <p:nvPr/>
                          </p:nvGrpSpPr>
                          <p:grpSpPr>
                            <a:xfrm>
                              <a:off x="6971040" y="4222080"/>
                              <a:ext cx="11520" cy="17640"/>
                              <a:chOff x="6971040" y="4222080"/>
                              <a:chExt cx="11520" cy="17640"/>
                            </a:xfrm>
                          </p:grpSpPr>
                          <p:sp>
                            <p:nvSpPr>
                              <p:cNvPr id="3364" name=""/>
                              <p:cNvSpPr/>
                              <p:nvPr/>
                            </p:nvSpPr>
                            <p:spPr>
                              <a:xfrm>
                                <a:off x="697104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65" name=""/>
                              <p:cNvSpPr/>
                              <p:nvPr/>
                            </p:nvSpPr>
                            <p:spPr>
                              <a:xfrm>
                                <a:off x="697644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3366" name=""/>
                    <p:cNvGrpSpPr/>
                    <p:nvPr/>
                  </p:nvGrpSpPr>
                  <p:grpSpPr>
                    <a:xfrm>
                      <a:off x="6982200" y="4222080"/>
                      <a:ext cx="166320" cy="17640"/>
                      <a:chOff x="6982200" y="4222080"/>
                      <a:chExt cx="166320" cy="17640"/>
                    </a:xfrm>
                  </p:grpSpPr>
                  <p:grpSp>
                    <p:nvGrpSpPr>
                      <p:cNvPr id="3367" name=""/>
                      <p:cNvGrpSpPr/>
                      <p:nvPr/>
                    </p:nvGrpSpPr>
                    <p:grpSpPr>
                      <a:xfrm>
                        <a:off x="6982200" y="4222080"/>
                        <a:ext cx="85680" cy="17640"/>
                        <a:chOff x="6982200" y="4222080"/>
                        <a:chExt cx="85680" cy="17640"/>
                      </a:xfrm>
                    </p:grpSpPr>
                    <p:grpSp>
                      <p:nvGrpSpPr>
                        <p:cNvPr id="3368" name=""/>
                        <p:cNvGrpSpPr/>
                        <p:nvPr/>
                      </p:nvGrpSpPr>
                      <p:grpSpPr>
                        <a:xfrm>
                          <a:off x="6982200" y="4222080"/>
                          <a:ext cx="36000" cy="17640"/>
                          <a:chOff x="6982200" y="4222080"/>
                          <a:chExt cx="36000" cy="17640"/>
                        </a:xfrm>
                      </p:grpSpPr>
                      <p:grpSp>
                        <p:nvGrpSpPr>
                          <p:cNvPr id="3369" name=""/>
                          <p:cNvGrpSpPr/>
                          <p:nvPr/>
                        </p:nvGrpSpPr>
                        <p:grpSpPr>
                          <a:xfrm>
                            <a:off x="6982200" y="4222080"/>
                            <a:ext cx="15480" cy="17640"/>
                            <a:chOff x="6982200" y="4222080"/>
                            <a:chExt cx="15480" cy="17640"/>
                          </a:xfrm>
                        </p:grpSpPr>
                        <p:grpSp>
                          <p:nvGrpSpPr>
                            <p:cNvPr id="3370" name=""/>
                            <p:cNvGrpSpPr/>
                            <p:nvPr/>
                          </p:nvGrpSpPr>
                          <p:grpSpPr>
                            <a:xfrm>
                              <a:off x="6982200" y="4222080"/>
                              <a:ext cx="5040" cy="17640"/>
                              <a:chOff x="6982200" y="4222080"/>
                              <a:chExt cx="5040" cy="17640"/>
                            </a:xfrm>
                          </p:grpSpPr>
                          <p:sp>
                            <p:nvSpPr>
                              <p:cNvPr id="3371" name=""/>
                              <p:cNvSpPr/>
                              <p:nvPr/>
                            </p:nvSpPr>
                            <p:spPr>
                              <a:xfrm>
                                <a:off x="69822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2" name=""/>
                              <p:cNvSpPr/>
                              <p:nvPr/>
                            </p:nvSpPr>
                            <p:spPr>
                              <a:xfrm>
                                <a:off x="69868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73" name=""/>
                            <p:cNvGrpSpPr/>
                            <p:nvPr/>
                          </p:nvGrpSpPr>
                          <p:grpSpPr>
                            <a:xfrm>
                              <a:off x="6992640" y="4222080"/>
                              <a:ext cx="5040" cy="17640"/>
                              <a:chOff x="6992640" y="4222080"/>
                              <a:chExt cx="5040" cy="17640"/>
                            </a:xfrm>
                          </p:grpSpPr>
                          <p:sp>
                            <p:nvSpPr>
                              <p:cNvPr id="3374" name=""/>
                              <p:cNvSpPr/>
                              <p:nvPr/>
                            </p:nvSpPr>
                            <p:spPr>
                              <a:xfrm>
                                <a:off x="699264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5" name=""/>
                              <p:cNvSpPr/>
                              <p:nvPr/>
                            </p:nvSpPr>
                            <p:spPr>
                              <a:xfrm>
                                <a:off x="699732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76" name=""/>
                          <p:cNvGrpSpPr/>
                          <p:nvPr/>
                        </p:nvGrpSpPr>
                        <p:grpSpPr>
                          <a:xfrm>
                            <a:off x="7002000" y="4222080"/>
                            <a:ext cx="16200" cy="17640"/>
                            <a:chOff x="7002000" y="4222080"/>
                            <a:chExt cx="16200" cy="17640"/>
                          </a:xfrm>
                        </p:grpSpPr>
                        <p:grpSp>
                          <p:nvGrpSpPr>
                            <p:cNvPr id="3377" name=""/>
                            <p:cNvGrpSpPr/>
                            <p:nvPr/>
                          </p:nvGrpSpPr>
                          <p:grpSpPr>
                            <a:xfrm>
                              <a:off x="7002000" y="4222080"/>
                              <a:ext cx="16200" cy="17640"/>
                              <a:chOff x="7002000" y="4222080"/>
                              <a:chExt cx="16200" cy="17640"/>
                            </a:xfrm>
                          </p:grpSpPr>
                          <p:sp>
                            <p:nvSpPr>
                              <p:cNvPr id="3378" name=""/>
                              <p:cNvSpPr/>
                              <p:nvPr/>
                            </p:nvSpPr>
                            <p:spPr>
                              <a:xfrm>
                                <a:off x="7002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9" name=""/>
                              <p:cNvSpPr/>
                              <p:nvPr/>
                            </p:nvSpPr>
                            <p:spPr>
                              <a:xfrm>
                                <a:off x="700668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80" name=""/>
                            <p:cNvGrpSpPr/>
                            <p:nvPr/>
                          </p:nvGrpSpPr>
                          <p:grpSpPr>
                            <a:xfrm>
                              <a:off x="7012080" y="4222080"/>
                              <a:ext cx="5040" cy="17640"/>
                              <a:chOff x="7012080" y="4222080"/>
                              <a:chExt cx="5040" cy="17640"/>
                            </a:xfrm>
                          </p:grpSpPr>
                          <p:sp>
                            <p:nvSpPr>
                              <p:cNvPr id="3381" name=""/>
                              <p:cNvSpPr/>
                              <p:nvPr/>
                            </p:nvSpPr>
                            <p:spPr>
                              <a:xfrm>
                                <a:off x="70120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82" name=""/>
                              <p:cNvSpPr/>
                              <p:nvPr/>
                            </p:nvSpPr>
                            <p:spPr>
                              <a:xfrm>
                                <a:off x="70167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83" name=""/>
                        <p:cNvGrpSpPr/>
                        <p:nvPr/>
                      </p:nvGrpSpPr>
                      <p:grpSpPr>
                        <a:xfrm>
                          <a:off x="7021800" y="4222080"/>
                          <a:ext cx="46080" cy="17640"/>
                          <a:chOff x="7021800" y="4222080"/>
                          <a:chExt cx="46080" cy="17640"/>
                        </a:xfrm>
                      </p:grpSpPr>
                      <p:grpSp>
                        <p:nvGrpSpPr>
                          <p:cNvPr id="3384" name=""/>
                          <p:cNvGrpSpPr/>
                          <p:nvPr/>
                        </p:nvGrpSpPr>
                        <p:grpSpPr>
                          <a:xfrm>
                            <a:off x="7021800" y="4222080"/>
                            <a:ext cx="16200" cy="17640"/>
                            <a:chOff x="7021800" y="4222080"/>
                            <a:chExt cx="16200" cy="17640"/>
                          </a:xfrm>
                        </p:grpSpPr>
                        <p:grpSp>
                          <p:nvGrpSpPr>
                            <p:cNvPr id="3385" name=""/>
                            <p:cNvGrpSpPr/>
                            <p:nvPr/>
                          </p:nvGrpSpPr>
                          <p:grpSpPr>
                            <a:xfrm>
                              <a:off x="7021800" y="4222080"/>
                              <a:ext cx="16200" cy="17640"/>
                              <a:chOff x="7021800" y="4222080"/>
                              <a:chExt cx="16200" cy="17640"/>
                            </a:xfrm>
                          </p:grpSpPr>
                          <p:sp>
                            <p:nvSpPr>
                              <p:cNvPr id="3386" name=""/>
                              <p:cNvSpPr/>
                              <p:nvPr/>
                            </p:nvSpPr>
                            <p:spPr>
                              <a:xfrm>
                                <a:off x="70218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87" name=""/>
                              <p:cNvSpPr/>
                              <p:nvPr/>
                            </p:nvSpPr>
                            <p:spPr>
                              <a:xfrm>
                                <a:off x="702648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88" name=""/>
                            <p:cNvGrpSpPr/>
                            <p:nvPr/>
                          </p:nvGrpSpPr>
                          <p:grpSpPr>
                            <a:xfrm>
                              <a:off x="7032240" y="4222080"/>
                              <a:ext cx="5400" cy="17640"/>
                              <a:chOff x="7032240" y="4222080"/>
                              <a:chExt cx="5400" cy="17640"/>
                            </a:xfrm>
                          </p:grpSpPr>
                          <p:sp>
                            <p:nvSpPr>
                              <p:cNvPr id="3389" name=""/>
                              <p:cNvSpPr/>
                              <p:nvPr/>
                            </p:nvSpPr>
                            <p:spPr>
                              <a:xfrm>
                                <a:off x="703224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90" name=""/>
                              <p:cNvSpPr/>
                              <p:nvPr/>
                            </p:nvSpPr>
                            <p:spPr>
                              <a:xfrm>
                                <a:off x="70369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91" name=""/>
                          <p:cNvGrpSpPr/>
                          <p:nvPr/>
                        </p:nvGrpSpPr>
                        <p:grpSpPr>
                          <a:xfrm>
                            <a:off x="7041600" y="4222080"/>
                            <a:ext cx="26280" cy="17640"/>
                            <a:chOff x="7041600" y="4222080"/>
                            <a:chExt cx="26280" cy="17640"/>
                          </a:xfrm>
                        </p:grpSpPr>
                        <p:grpSp>
                          <p:nvGrpSpPr>
                            <p:cNvPr id="3392" name=""/>
                            <p:cNvGrpSpPr/>
                            <p:nvPr/>
                          </p:nvGrpSpPr>
                          <p:grpSpPr>
                            <a:xfrm>
                              <a:off x="7041600" y="4222080"/>
                              <a:ext cx="11520" cy="17640"/>
                              <a:chOff x="7041600" y="4222080"/>
                              <a:chExt cx="11520" cy="17640"/>
                            </a:xfrm>
                          </p:grpSpPr>
                          <p:sp>
                            <p:nvSpPr>
                              <p:cNvPr id="3393" name=""/>
                              <p:cNvSpPr/>
                              <p:nvPr/>
                            </p:nvSpPr>
                            <p:spPr>
                              <a:xfrm>
                                <a:off x="70416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94" name=""/>
                              <p:cNvSpPr/>
                              <p:nvPr/>
                            </p:nvSpPr>
                            <p:spPr>
                              <a:xfrm>
                                <a:off x="7047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95" name=""/>
                            <p:cNvGrpSpPr/>
                            <p:nvPr/>
                          </p:nvGrpSpPr>
                          <p:grpSpPr>
                            <a:xfrm>
                              <a:off x="7050960" y="4222080"/>
                              <a:ext cx="16920" cy="17640"/>
                              <a:chOff x="7050960" y="4222080"/>
                              <a:chExt cx="16920" cy="17640"/>
                            </a:xfrm>
                          </p:grpSpPr>
                          <p:sp>
                            <p:nvSpPr>
                              <p:cNvPr id="3396" name=""/>
                              <p:cNvSpPr/>
                              <p:nvPr/>
                            </p:nvSpPr>
                            <p:spPr>
                              <a:xfrm>
                                <a:off x="70509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97" name=""/>
                              <p:cNvSpPr/>
                              <p:nvPr/>
                            </p:nvSpPr>
                            <p:spPr>
                              <a:xfrm>
                                <a:off x="70563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398" name=""/>
                      <p:cNvGrpSpPr/>
                      <p:nvPr/>
                    </p:nvGrpSpPr>
                    <p:grpSpPr>
                      <a:xfrm>
                        <a:off x="7062120" y="4222080"/>
                        <a:ext cx="86400" cy="17640"/>
                        <a:chOff x="7062120" y="4222080"/>
                        <a:chExt cx="86400" cy="17640"/>
                      </a:xfrm>
                    </p:grpSpPr>
                    <p:grpSp>
                      <p:nvGrpSpPr>
                        <p:cNvPr id="3399" name=""/>
                        <p:cNvGrpSpPr/>
                        <p:nvPr/>
                      </p:nvGrpSpPr>
                      <p:grpSpPr>
                        <a:xfrm>
                          <a:off x="7062120" y="4222080"/>
                          <a:ext cx="41400" cy="17640"/>
                          <a:chOff x="7062120" y="4222080"/>
                          <a:chExt cx="41400" cy="17640"/>
                        </a:xfrm>
                      </p:grpSpPr>
                      <p:grpSp>
                        <p:nvGrpSpPr>
                          <p:cNvPr id="3400" name=""/>
                          <p:cNvGrpSpPr/>
                          <p:nvPr/>
                        </p:nvGrpSpPr>
                        <p:grpSpPr>
                          <a:xfrm>
                            <a:off x="7062120" y="4222080"/>
                            <a:ext cx="21600" cy="17640"/>
                            <a:chOff x="7062120" y="4222080"/>
                            <a:chExt cx="21600" cy="17640"/>
                          </a:xfrm>
                        </p:grpSpPr>
                        <p:grpSp>
                          <p:nvGrpSpPr>
                            <p:cNvPr id="3401" name=""/>
                            <p:cNvGrpSpPr/>
                            <p:nvPr/>
                          </p:nvGrpSpPr>
                          <p:grpSpPr>
                            <a:xfrm>
                              <a:off x="7062120" y="4222080"/>
                              <a:ext cx="16200" cy="17640"/>
                              <a:chOff x="7062120" y="4222080"/>
                              <a:chExt cx="16200" cy="17640"/>
                            </a:xfrm>
                          </p:grpSpPr>
                          <p:sp>
                            <p:nvSpPr>
                              <p:cNvPr id="3402" name=""/>
                              <p:cNvSpPr/>
                              <p:nvPr/>
                            </p:nvSpPr>
                            <p:spPr>
                              <a:xfrm>
                                <a:off x="706212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03" name=""/>
                              <p:cNvSpPr/>
                              <p:nvPr/>
                            </p:nvSpPr>
                            <p:spPr>
                              <a:xfrm>
                                <a:off x="70668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04" name=""/>
                            <p:cNvGrpSpPr/>
                            <p:nvPr/>
                          </p:nvGrpSpPr>
                          <p:grpSpPr>
                            <a:xfrm>
                              <a:off x="7072200" y="4222080"/>
                              <a:ext cx="11520" cy="17640"/>
                              <a:chOff x="7072200" y="4222080"/>
                              <a:chExt cx="11520" cy="17640"/>
                            </a:xfrm>
                          </p:grpSpPr>
                          <p:sp>
                            <p:nvSpPr>
                              <p:cNvPr id="3405" name=""/>
                              <p:cNvSpPr/>
                              <p:nvPr/>
                            </p:nvSpPr>
                            <p:spPr>
                              <a:xfrm>
                                <a:off x="70722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06" name=""/>
                              <p:cNvSpPr/>
                              <p:nvPr/>
                            </p:nvSpPr>
                            <p:spPr>
                              <a:xfrm>
                                <a:off x="70768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07" name=""/>
                          <p:cNvGrpSpPr/>
                          <p:nvPr/>
                        </p:nvGrpSpPr>
                        <p:grpSpPr>
                          <a:xfrm>
                            <a:off x="7081920" y="4222080"/>
                            <a:ext cx="21600" cy="17640"/>
                            <a:chOff x="7081920" y="4222080"/>
                            <a:chExt cx="21600" cy="17640"/>
                          </a:xfrm>
                        </p:grpSpPr>
                        <p:grpSp>
                          <p:nvGrpSpPr>
                            <p:cNvPr id="3408" name=""/>
                            <p:cNvGrpSpPr/>
                            <p:nvPr/>
                          </p:nvGrpSpPr>
                          <p:grpSpPr>
                            <a:xfrm>
                              <a:off x="7081920" y="4222080"/>
                              <a:ext cx="16200" cy="17640"/>
                              <a:chOff x="7081920" y="4222080"/>
                              <a:chExt cx="16200" cy="17640"/>
                            </a:xfrm>
                          </p:grpSpPr>
                          <p:sp>
                            <p:nvSpPr>
                              <p:cNvPr id="3409" name=""/>
                              <p:cNvSpPr/>
                              <p:nvPr/>
                            </p:nvSpPr>
                            <p:spPr>
                              <a:xfrm>
                                <a:off x="70819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0" name=""/>
                              <p:cNvSpPr/>
                              <p:nvPr/>
                            </p:nvSpPr>
                            <p:spPr>
                              <a:xfrm>
                                <a:off x="70866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11" name=""/>
                            <p:cNvGrpSpPr/>
                            <p:nvPr/>
                          </p:nvGrpSpPr>
                          <p:grpSpPr>
                            <a:xfrm>
                              <a:off x="7092000" y="4222080"/>
                              <a:ext cx="11520" cy="17640"/>
                              <a:chOff x="7092000" y="4222080"/>
                              <a:chExt cx="11520" cy="17640"/>
                            </a:xfrm>
                          </p:grpSpPr>
                          <p:sp>
                            <p:nvSpPr>
                              <p:cNvPr id="3412" name=""/>
                              <p:cNvSpPr/>
                              <p:nvPr/>
                            </p:nvSpPr>
                            <p:spPr>
                              <a:xfrm>
                                <a:off x="70920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3" name=""/>
                              <p:cNvSpPr/>
                              <p:nvPr/>
                            </p:nvSpPr>
                            <p:spPr>
                              <a:xfrm>
                                <a:off x="70966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414" name=""/>
                        <p:cNvGrpSpPr/>
                        <p:nvPr/>
                      </p:nvGrpSpPr>
                      <p:grpSpPr>
                        <a:xfrm>
                          <a:off x="7102800" y="4222080"/>
                          <a:ext cx="45720" cy="17640"/>
                          <a:chOff x="7102800" y="4222080"/>
                          <a:chExt cx="45720" cy="17640"/>
                        </a:xfrm>
                      </p:grpSpPr>
                      <p:grpSp>
                        <p:nvGrpSpPr>
                          <p:cNvPr id="3415" name=""/>
                          <p:cNvGrpSpPr/>
                          <p:nvPr/>
                        </p:nvGrpSpPr>
                        <p:grpSpPr>
                          <a:xfrm>
                            <a:off x="7102800" y="4222080"/>
                            <a:ext cx="14760" cy="17640"/>
                            <a:chOff x="7102800" y="4222080"/>
                            <a:chExt cx="14760" cy="17640"/>
                          </a:xfrm>
                        </p:grpSpPr>
                        <p:grpSp>
                          <p:nvGrpSpPr>
                            <p:cNvPr id="3416" name=""/>
                            <p:cNvGrpSpPr/>
                            <p:nvPr/>
                          </p:nvGrpSpPr>
                          <p:grpSpPr>
                            <a:xfrm>
                              <a:off x="7102800" y="4222080"/>
                              <a:ext cx="4320" cy="17640"/>
                              <a:chOff x="7102800" y="4222080"/>
                              <a:chExt cx="4320" cy="17640"/>
                            </a:xfrm>
                          </p:grpSpPr>
                          <p:sp>
                            <p:nvSpPr>
                              <p:cNvPr id="3417" name=""/>
                              <p:cNvSpPr/>
                              <p:nvPr/>
                            </p:nvSpPr>
                            <p:spPr>
                              <a:xfrm>
                                <a:off x="710280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8" name=""/>
                              <p:cNvSpPr/>
                              <p:nvPr/>
                            </p:nvSpPr>
                            <p:spPr>
                              <a:xfrm>
                                <a:off x="71067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19" name=""/>
                            <p:cNvGrpSpPr/>
                            <p:nvPr/>
                          </p:nvGrpSpPr>
                          <p:grpSpPr>
                            <a:xfrm>
                              <a:off x="7112520" y="4222080"/>
                              <a:ext cx="5040" cy="17640"/>
                              <a:chOff x="7112520" y="4222080"/>
                              <a:chExt cx="5040" cy="17640"/>
                            </a:xfrm>
                          </p:grpSpPr>
                          <p:sp>
                            <p:nvSpPr>
                              <p:cNvPr id="3420" name=""/>
                              <p:cNvSpPr/>
                              <p:nvPr/>
                            </p:nvSpPr>
                            <p:spPr>
                              <a:xfrm>
                                <a:off x="71125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21" name=""/>
                              <p:cNvSpPr/>
                              <p:nvPr/>
                            </p:nvSpPr>
                            <p:spPr>
                              <a:xfrm>
                                <a:off x="71172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22" name=""/>
                          <p:cNvGrpSpPr/>
                          <p:nvPr/>
                        </p:nvGrpSpPr>
                        <p:grpSpPr>
                          <a:xfrm>
                            <a:off x="7122240" y="4222080"/>
                            <a:ext cx="26280" cy="17640"/>
                            <a:chOff x="7122240" y="4222080"/>
                            <a:chExt cx="26280" cy="17640"/>
                          </a:xfrm>
                        </p:grpSpPr>
                        <p:grpSp>
                          <p:nvGrpSpPr>
                            <p:cNvPr id="3423" name=""/>
                            <p:cNvGrpSpPr/>
                            <p:nvPr/>
                          </p:nvGrpSpPr>
                          <p:grpSpPr>
                            <a:xfrm>
                              <a:off x="7122240" y="4222080"/>
                              <a:ext cx="11520" cy="17640"/>
                              <a:chOff x="7122240" y="4222080"/>
                              <a:chExt cx="11520" cy="17640"/>
                            </a:xfrm>
                          </p:grpSpPr>
                          <p:sp>
                            <p:nvSpPr>
                              <p:cNvPr id="3424" name=""/>
                              <p:cNvSpPr/>
                              <p:nvPr/>
                            </p:nvSpPr>
                            <p:spPr>
                              <a:xfrm>
                                <a:off x="712224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25" name=""/>
                              <p:cNvSpPr/>
                              <p:nvPr/>
                            </p:nvSpPr>
                            <p:spPr>
                              <a:xfrm>
                                <a:off x="712764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26" name=""/>
                            <p:cNvGrpSpPr/>
                            <p:nvPr/>
                          </p:nvGrpSpPr>
                          <p:grpSpPr>
                            <a:xfrm>
                              <a:off x="7132320" y="4222080"/>
                              <a:ext cx="16200" cy="17640"/>
                              <a:chOff x="7132320" y="4222080"/>
                              <a:chExt cx="16200" cy="17640"/>
                            </a:xfrm>
                          </p:grpSpPr>
                          <p:sp>
                            <p:nvSpPr>
                              <p:cNvPr id="3427" name=""/>
                              <p:cNvSpPr/>
                              <p:nvPr/>
                            </p:nvSpPr>
                            <p:spPr>
                              <a:xfrm>
                                <a:off x="713232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28" name=""/>
                              <p:cNvSpPr/>
                              <p:nvPr/>
                            </p:nvSpPr>
                            <p:spPr>
                              <a:xfrm>
                                <a:off x="71370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429" name=""/>
                <p:cNvGrpSpPr/>
                <p:nvPr/>
              </p:nvGrpSpPr>
              <p:grpSpPr>
                <a:xfrm>
                  <a:off x="6819120" y="4161960"/>
                  <a:ext cx="315000" cy="41760"/>
                  <a:chOff x="6819120" y="4161960"/>
                  <a:chExt cx="315000" cy="4176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6819120" y="41619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6888600" y="41619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6986880" y="41619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>
                    <a:off x="7094160" y="41619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4" name=""/>
              <p:cNvGrpSpPr/>
              <p:nvPr/>
            </p:nvGrpSpPr>
            <p:grpSpPr>
              <a:xfrm>
                <a:off x="7099200" y="4167000"/>
                <a:ext cx="25200" cy="19440"/>
                <a:chOff x="7099200" y="4167000"/>
                <a:chExt cx="25200" cy="19440"/>
              </a:xfrm>
            </p:grpSpPr>
            <p:sp>
              <p:nvSpPr>
                <p:cNvPr id="3435" name=""/>
                <p:cNvSpPr/>
                <p:nvPr/>
              </p:nvSpPr>
              <p:spPr>
                <a:xfrm>
                  <a:off x="7113600" y="41670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7115400" y="41742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7" name=""/>
                <p:cNvGrpSpPr/>
                <p:nvPr/>
              </p:nvGrpSpPr>
              <p:grpSpPr>
                <a:xfrm>
                  <a:off x="7099200" y="4169520"/>
                  <a:ext cx="5400" cy="16920"/>
                  <a:chOff x="7099200" y="4169520"/>
                  <a:chExt cx="5400" cy="16920"/>
                </a:xfrm>
              </p:grpSpPr>
              <p:sp>
                <p:nvSpPr>
                  <p:cNvPr id="3438" name=""/>
                  <p:cNvSpPr/>
                  <p:nvPr/>
                </p:nvSpPr>
                <p:spPr>
                  <a:xfrm>
                    <a:off x="7099200" y="41695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7099200" y="4182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0" name=""/>
              <p:cNvGrpSpPr/>
              <p:nvPr/>
            </p:nvGrpSpPr>
            <p:grpSpPr>
              <a:xfrm>
                <a:off x="6892560" y="4168080"/>
                <a:ext cx="85680" cy="27720"/>
                <a:chOff x="6892560" y="4168080"/>
                <a:chExt cx="85680" cy="27720"/>
              </a:xfrm>
            </p:grpSpPr>
            <p:grpSp>
              <p:nvGrpSpPr>
                <p:cNvPr id="3441" name=""/>
                <p:cNvGrpSpPr/>
                <p:nvPr/>
              </p:nvGrpSpPr>
              <p:grpSpPr>
                <a:xfrm>
                  <a:off x="6893280" y="4168080"/>
                  <a:ext cx="84960" cy="15480"/>
                  <a:chOff x="6893280" y="4168080"/>
                  <a:chExt cx="84960" cy="15480"/>
                </a:xfrm>
              </p:grpSpPr>
              <p:sp>
                <p:nvSpPr>
                  <p:cNvPr id="3442" name=""/>
                  <p:cNvSpPr/>
                  <p:nvPr/>
                </p:nvSpPr>
                <p:spPr>
                  <a:xfrm>
                    <a:off x="6921720" y="41680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>
                    <a:off x="6921720" y="41756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6893280" y="41745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5" name=""/>
                <p:cNvSpPr/>
                <p:nvPr/>
              </p:nvSpPr>
              <p:spPr>
                <a:xfrm>
                  <a:off x="6892560" y="41695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6966000" y="41914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7" name=""/>
              <p:cNvGrpSpPr/>
              <p:nvPr/>
            </p:nvGrpSpPr>
            <p:grpSpPr>
              <a:xfrm>
                <a:off x="6822720" y="4194720"/>
                <a:ext cx="67320" cy="9360"/>
                <a:chOff x="6822720" y="4194720"/>
                <a:chExt cx="67320" cy="9360"/>
              </a:xfrm>
            </p:grpSpPr>
            <p:grpSp>
              <p:nvGrpSpPr>
                <p:cNvPr id="3448" name=""/>
                <p:cNvGrpSpPr/>
                <p:nvPr/>
              </p:nvGrpSpPr>
              <p:grpSpPr>
                <a:xfrm>
                  <a:off x="6822720" y="4194720"/>
                  <a:ext cx="37080" cy="9360"/>
                  <a:chOff x="6822720" y="4194720"/>
                  <a:chExt cx="37080" cy="9360"/>
                </a:xfrm>
              </p:grpSpPr>
              <p:grpSp>
                <p:nvGrpSpPr>
                  <p:cNvPr id="3449" name=""/>
                  <p:cNvGrpSpPr/>
                  <p:nvPr/>
                </p:nvGrpSpPr>
                <p:grpSpPr>
                  <a:xfrm>
                    <a:off x="6822720" y="4194720"/>
                    <a:ext cx="23040" cy="9360"/>
                    <a:chOff x="6822720" y="4194720"/>
                    <a:chExt cx="23040" cy="9360"/>
                  </a:xfrm>
                </p:grpSpPr>
                <p:grpSp>
                  <p:nvGrpSpPr>
                    <p:cNvPr id="3450" name=""/>
                    <p:cNvGrpSpPr/>
                    <p:nvPr/>
                  </p:nvGrpSpPr>
                  <p:grpSpPr>
                    <a:xfrm>
                      <a:off x="6822720" y="4194720"/>
                      <a:ext cx="14760" cy="9360"/>
                      <a:chOff x="6822720" y="4194720"/>
                      <a:chExt cx="14760" cy="9360"/>
                    </a:xfrm>
                  </p:grpSpPr>
                  <p:sp>
                    <p:nvSpPr>
                      <p:cNvPr id="3451" name=""/>
                      <p:cNvSpPr/>
                      <p:nvPr/>
                    </p:nvSpPr>
                    <p:spPr>
                      <a:xfrm>
                        <a:off x="68227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2" name=""/>
                      <p:cNvSpPr/>
                      <p:nvPr/>
                    </p:nvSpPr>
                    <p:spPr>
                      <a:xfrm>
                        <a:off x="682596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53" name=""/>
                    <p:cNvGrpSpPr/>
                    <p:nvPr/>
                  </p:nvGrpSpPr>
                  <p:grpSpPr>
                    <a:xfrm>
                      <a:off x="6829560" y="4194720"/>
                      <a:ext cx="16200" cy="9360"/>
                      <a:chOff x="6829560" y="4194720"/>
                      <a:chExt cx="16200" cy="9360"/>
                    </a:xfrm>
                  </p:grpSpPr>
                  <p:sp>
                    <p:nvSpPr>
                      <p:cNvPr id="3454" name=""/>
                      <p:cNvSpPr/>
                      <p:nvPr/>
                    </p:nvSpPr>
                    <p:spPr>
                      <a:xfrm>
                        <a:off x="682956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5" name=""/>
                      <p:cNvSpPr/>
                      <p:nvPr/>
                    </p:nvSpPr>
                    <p:spPr>
                      <a:xfrm>
                        <a:off x="683388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56" name=""/>
                  <p:cNvGrpSpPr/>
                  <p:nvPr/>
                </p:nvGrpSpPr>
                <p:grpSpPr>
                  <a:xfrm>
                    <a:off x="6837120" y="4194720"/>
                    <a:ext cx="22680" cy="9360"/>
                    <a:chOff x="6837120" y="4194720"/>
                    <a:chExt cx="22680" cy="9360"/>
                  </a:xfrm>
                </p:grpSpPr>
                <p:grpSp>
                  <p:nvGrpSpPr>
                    <p:cNvPr id="3457" name=""/>
                    <p:cNvGrpSpPr/>
                    <p:nvPr/>
                  </p:nvGrpSpPr>
                  <p:grpSpPr>
                    <a:xfrm>
                      <a:off x="6837120" y="4194720"/>
                      <a:ext cx="14760" cy="9360"/>
                      <a:chOff x="6837120" y="4194720"/>
                      <a:chExt cx="14760" cy="9360"/>
                    </a:xfrm>
                  </p:grpSpPr>
                  <p:sp>
                    <p:nvSpPr>
                      <p:cNvPr id="3458" name=""/>
                      <p:cNvSpPr/>
                      <p:nvPr/>
                    </p:nvSpPr>
                    <p:spPr>
                      <a:xfrm>
                        <a:off x="68371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9" name=""/>
                      <p:cNvSpPr/>
                      <p:nvPr/>
                    </p:nvSpPr>
                    <p:spPr>
                      <a:xfrm>
                        <a:off x="684036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60" name=""/>
                    <p:cNvGrpSpPr/>
                    <p:nvPr/>
                  </p:nvGrpSpPr>
                  <p:grpSpPr>
                    <a:xfrm>
                      <a:off x="6844320" y="4194720"/>
                      <a:ext cx="15480" cy="9360"/>
                      <a:chOff x="6844320" y="4194720"/>
                      <a:chExt cx="15480" cy="9360"/>
                    </a:xfrm>
                  </p:grpSpPr>
                  <p:sp>
                    <p:nvSpPr>
                      <p:cNvPr id="3461" name=""/>
                      <p:cNvSpPr/>
                      <p:nvPr/>
                    </p:nvSpPr>
                    <p:spPr>
                      <a:xfrm>
                        <a:off x="68443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2" name=""/>
                      <p:cNvSpPr/>
                      <p:nvPr/>
                    </p:nvSpPr>
                    <p:spPr>
                      <a:xfrm>
                        <a:off x="684828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463" name=""/>
                <p:cNvGrpSpPr/>
                <p:nvPr/>
              </p:nvGrpSpPr>
              <p:grpSpPr>
                <a:xfrm>
                  <a:off x="6852240" y="4194720"/>
                  <a:ext cx="37800" cy="9360"/>
                  <a:chOff x="6852240" y="4194720"/>
                  <a:chExt cx="37800" cy="9360"/>
                </a:xfrm>
              </p:grpSpPr>
              <p:grpSp>
                <p:nvGrpSpPr>
                  <p:cNvPr id="3464" name=""/>
                  <p:cNvGrpSpPr/>
                  <p:nvPr/>
                </p:nvGrpSpPr>
                <p:grpSpPr>
                  <a:xfrm>
                    <a:off x="6852240" y="4194720"/>
                    <a:ext cx="23040" cy="9360"/>
                    <a:chOff x="6852240" y="4194720"/>
                    <a:chExt cx="23040" cy="9360"/>
                  </a:xfrm>
                </p:grpSpPr>
                <p:grpSp>
                  <p:nvGrpSpPr>
                    <p:cNvPr id="3465" name=""/>
                    <p:cNvGrpSpPr/>
                    <p:nvPr/>
                  </p:nvGrpSpPr>
                  <p:grpSpPr>
                    <a:xfrm>
                      <a:off x="6852240" y="4194720"/>
                      <a:ext cx="15840" cy="9360"/>
                      <a:chOff x="6852240" y="4194720"/>
                      <a:chExt cx="15840" cy="9360"/>
                    </a:xfrm>
                  </p:grpSpPr>
                  <p:sp>
                    <p:nvSpPr>
                      <p:cNvPr id="3466" name=""/>
                      <p:cNvSpPr/>
                      <p:nvPr/>
                    </p:nvSpPr>
                    <p:spPr>
                      <a:xfrm>
                        <a:off x="685224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7" name=""/>
                      <p:cNvSpPr/>
                      <p:nvPr/>
                    </p:nvSpPr>
                    <p:spPr>
                      <a:xfrm>
                        <a:off x="685620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68" name=""/>
                    <p:cNvGrpSpPr/>
                    <p:nvPr/>
                  </p:nvGrpSpPr>
                  <p:grpSpPr>
                    <a:xfrm>
                      <a:off x="6860520" y="4194720"/>
                      <a:ext cx="14760" cy="9360"/>
                      <a:chOff x="6860520" y="4194720"/>
                      <a:chExt cx="14760" cy="9360"/>
                    </a:xfrm>
                  </p:grpSpPr>
                  <p:sp>
                    <p:nvSpPr>
                      <p:cNvPr id="3469" name=""/>
                      <p:cNvSpPr/>
                      <p:nvPr/>
                    </p:nvSpPr>
                    <p:spPr>
                      <a:xfrm>
                        <a:off x="68605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0" name=""/>
                      <p:cNvSpPr/>
                      <p:nvPr/>
                    </p:nvSpPr>
                    <p:spPr>
                      <a:xfrm>
                        <a:off x="686376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71" name=""/>
                  <p:cNvGrpSpPr/>
                  <p:nvPr/>
                </p:nvGrpSpPr>
                <p:grpSpPr>
                  <a:xfrm>
                    <a:off x="6867360" y="4194720"/>
                    <a:ext cx="22680" cy="9360"/>
                    <a:chOff x="6867360" y="4194720"/>
                    <a:chExt cx="22680" cy="9360"/>
                  </a:xfrm>
                </p:grpSpPr>
                <p:grpSp>
                  <p:nvGrpSpPr>
                    <p:cNvPr id="3472" name=""/>
                    <p:cNvGrpSpPr/>
                    <p:nvPr/>
                  </p:nvGrpSpPr>
                  <p:grpSpPr>
                    <a:xfrm>
                      <a:off x="6867360" y="4194720"/>
                      <a:ext cx="15840" cy="9360"/>
                      <a:chOff x="6867360" y="4194720"/>
                      <a:chExt cx="15840" cy="9360"/>
                    </a:xfrm>
                  </p:grpSpPr>
                  <p:sp>
                    <p:nvSpPr>
                      <p:cNvPr id="3473" name=""/>
                      <p:cNvSpPr/>
                      <p:nvPr/>
                    </p:nvSpPr>
                    <p:spPr>
                      <a:xfrm>
                        <a:off x="686736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4" name=""/>
                      <p:cNvSpPr/>
                      <p:nvPr/>
                    </p:nvSpPr>
                    <p:spPr>
                      <a:xfrm>
                        <a:off x="687132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75" name=""/>
                    <p:cNvGrpSpPr/>
                    <p:nvPr/>
                  </p:nvGrpSpPr>
                  <p:grpSpPr>
                    <a:xfrm>
                      <a:off x="6875640" y="4194720"/>
                      <a:ext cx="14400" cy="9360"/>
                      <a:chOff x="6875640" y="4194720"/>
                      <a:chExt cx="14400" cy="9360"/>
                    </a:xfrm>
                  </p:grpSpPr>
                  <p:sp>
                    <p:nvSpPr>
                      <p:cNvPr id="3476" name=""/>
                      <p:cNvSpPr/>
                      <p:nvPr/>
                    </p:nvSpPr>
                    <p:spPr>
                      <a:xfrm>
                        <a:off x="687564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7" name=""/>
                      <p:cNvSpPr/>
                      <p:nvPr/>
                    </p:nvSpPr>
                    <p:spPr>
                      <a:xfrm>
                        <a:off x="687816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478" name=""/>
              <p:cNvSpPr/>
              <p:nvPr/>
            </p:nvSpPr>
            <p:spPr>
              <a:xfrm>
                <a:off x="6817320" y="41864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9" name=""/>
            <p:cNvGrpSpPr/>
            <p:nvPr/>
          </p:nvGrpSpPr>
          <p:grpSpPr>
            <a:xfrm>
              <a:off x="6705720" y="4239000"/>
              <a:ext cx="533160" cy="62640"/>
              <a:chOff x="6705720" y="4239000"/>
              <a:chExt cx="533160" cy="62640"/>
            </a:xfrm>
          </p:grpSpPr>
          <p:grpSp>
            <p:nvGrpSpPr>
              <p:cNvPr id="3480" name=""/>
              <p:cNvGrpSpPr/>
              <p:nvPr/>
            </p:nvGrpSpPr>
            <p:grpSpPr>
              <a:xfrm>
                <a:off x="6705720" y="4239000"/>
                <a:ext cx="533160" cy="62640"/>
                <a:chOff x="6705720" y="4239000"/>
                <a:chExt cx="533160" cy="62640"/>
              </a:xfrm>
            </p:grpSpPr>
            <p:sp>
              <p:nvSpPr>
                <p:cNvPr id="3481" name=""/>
                <p:cNvSpPr/>
                <p:nvPr/>
              </p:nvSpPr>
              <p:spPr>
                <a:xfrm>
                  <a:off x="6708240" y="429408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05720" y="423900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1560" y="424476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4" name=""/>
              <p:cNvGrpSpPr/>
              <p:nvPr/>
            </p:nvGrpSpPr>
            <p:grpSpPr>
              <a:xfrm>
                <a:off x="6764400" y="4243680"/>
                <a:ext cx="419760" cy="14400"/>
                <a:chOff x="6764400" y="4243680"/>
                <a:chExt cx="419760" cy="14400"/>
              </a:xfrm>
            </p:grpSpPr>
            <p:sp>
              <p:nvSpPr>
                <p:cNvPr id="3485" name=""/>
                <p:cNvSpPr/>
                <p:nvPr/>
              </p:nvSpPr>
              <p:spPr>
                <a:xfrm>
                  <a:off x="6764400" y="42436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804360" y="42436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890040" y="42436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966000" y="42436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7044120" y="42436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113960" y="42487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1" name=""/>
              <p:cNvGrpSpPr/>
              <p:nvPr/>
            </p:nvGrpSpPr>
            <p:grpSpPr>
              <a:xfrm>
                <a:off x="6751080" y="4257720"/>
                <a:ext cx="435240" cy="21960"/>
                <a:chOff x="6751080" y="4257720"/>
                <a:chExt cx="435240" cy="21960"/>
              </a:xfrm>
            </p:grpSpPr>
            <p:grpSp>
              <p:nvGrpSpPr>
                <p:cNvPr id="3492" name=""/>
                <p:cNvGrpSpPr/>
                <p:nvPr/>
              </p:nvGrpSpPr>
              <p:grpSpPr>
                <a:xfrm>
                  <a:off x="6788880" y="4258440"/>
                  <a:ext cx="212760" cy="19080"/>
                  <a:chOff x="6788880" y="4258440"/>
                  <a:chExt cx="212760" cy="19080"/>
                </a:xfrm>
              </p:grpSpPr>
              <p:sp>
                <p:nvSpPr>
                  <p:cNvPr id="3493" name=""/>
                  <p:cNvSpPr/>
                  <p:nvPr/>
                </p:nvSpPr>
                <p:spPr>
                  <a:xfrm>
                    <a:off x="6788880" y="42584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6797160" y="42645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6799680" y="42706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>
                    <a:off x="6804000" y="42775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7" name=""/>
                <p:cNvGrpSpPr/>
                <p:nvPr/>
              </p:nvGrpSpPr>
              <p:grpSpPr>
                <a:xfrm>
                  <a:off x="6751080" y="4261320"/>
                  <a:ext cx="30960" cy="12240"/>
                  <a:chOff x="6751080" y="4261320"/>
                  <a:chExt cx="30960" cy="12240"/>
                </a:xfrm>
              </p:grpSpPr>
              <p:sp>
                <p:nvSpPr>
                  <p:cNvPr id="3498" name=""/>
                  <p:cNvSpPr/>
                  <p:nvPr/>
                </p:nvSpPr>
                <p:spPr>
                  <a:xfrm>
                    <a:off x="6760080" y="42613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>
                    <a:off x="6756480" y="42678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6751080" y="42735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1" name=""/>
                <p:cNvGrpSpPr/>
                <p:nvPr/>
              </p:nvGrpSpPr>
              <p:grpSpPr>
                <a:xfrm>
                  <a:off x="6835320" y="4257720"/>
                  <a:ext cx="194760" cy="20880"/>
                  <a:chOff x="6835320" y="4257720"/>
                  <a:chExt cx="194760" cy="20880"/>
                </a:xfrm>
              </p:grpSpPr>
              <p:sp>
                <p:nvSpPr>
                  <p:cNvPr id="3502" name=""/>
                  <p:cNvSpPr/>
                  <p:nvPr/>
                </p:nvSpPr>
                <p:spPr>
                  <a:xfrm>
                    <a:off x="6835320" y="42778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7005240" y="42577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>
                    <a:off x="7012800" y="42649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>
                    <a:off x="6996960" y="42717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6964920" y="42778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>
                    <a:off x="6990840" y="42786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8" name=""/>
                <p:cNvGrpSpPr/>
                <p:nvPr/>
              </p:nvGrpSpPr>
              <p:grpSpPr>
                <a:xfrm>
                  <a:off x="7045200" y="4261320"/>
                  <a:ext cx="56160" cy="17280"/>
                  <a:chOff x="7045200" y="4261320"/>
                  <a:chExt cx="56160" cy="17280"/>
                </a:xfrm>
              </p:grpSpPr>
              <p:sp>
                <p:nvSpPr>
                  <p:cNvPr id="3509" name=""/>
                  <p:cNvSpPr/>
                  <p:nvPr/>
                </p:nvSpPr>
                <p:spPr>
                  <a:xfrm>
                    <a:off x="7045200" y="42613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7053480" y="42692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>
                    <a:off x="7053840" y="42786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2" name=""/>
                <p:cNvGrpSpPr/>
                <p:nvPr/>
              </p:nvGrpSpPr>
              <p:grpSpPr>
                <a:xfrm>
                  <a:off x="7118640" y="4261320"/>
                  <a:ext cx="67680" cy="18360"/>
                  <a:chOff x="7118640" y="4261320"/>
                  <a:chExt cx="67680" cy="18360"/>
                </a:xfrm>
              </p:grpSpPr>
              <p:sp>
                <p:nvSpPr>
                  <p:cNvPr id="3513" name=""/>
                  <p:cNvSpPr/>
                  <p:nvPr/>
                </p:nvSpPr>
                <p:spPr>
                  <a:xfrm>
                    <a:off x="7123320" y="42613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>
                    <a:off x="7118640" y="42678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7123320" y="42735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7121880" y="42796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7173000" y="42685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7178040" y="42764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19" name=""/>
            <p:cNvGrpSpPr/>
            <p:nvPr/>
          </p:nvGrpSpPr>
          <p:grpSpPr>
            <a:xfrm>
              <a:off x="6862320" y="4102920"/>
              <a:ext cx="231840" cy="38160"/>
              <a:chOff x="6862320" y="4102920"/>
              <a:chExt cx="231840" cy="38160"/>
            </a:xfrm>
          </p:grpSpPr>
          <p:grpSp>
            <p:nvGrpSpPr>
              <p:cNvPr id="3520" name=""/>
              <p:cNvGrpSpPr/>
              <p:nvPr/>
            </p:nvGrpSpPr>
            <p:grpSpPr>
              <a:xfrm>
                <a:off x="6862320" y="4115520"/>
                <a:ext cx="231840" cy="25560"/>
                <a:chOff x="6862320" y="4115520"/>
                <a:chExt cx="231840" cy="25560"/>
              </a:xfrm>
            </p:grpSpPr>
            <p:sp>
              <p:nvSpPr>
                <p:cNvPr id="3521" name=""/>
                <p:cNvSpPr/>
                <p:nvPr/>
              </p:nvSpPr>
              <p:spPr>
                <a:xfrm>
                  <a:off x="6862320" y="411552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864480" y="413280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3" name=""/>
              <p:cNvSpPr/>
              <p:nvPr/>
            </p:nvSpPr>
            <p:spPr>
              <a:xfrm>
                <a:off x="6915240" y="41029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4" name=""/>
            <p:cNvSpPr/>
            <p:nvPr/>
          </p:nvSpPr>
          <p:spPr>
            <a:xfrm>
              <a:off x="6836040" y="39211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868080" y="39416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877440" y="394704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27" name=""/>
          <p:cNvGraphicFramePr/>
          <p:nvPr/>
        </p:nvGraphicFramePr>
        <p:xfrm>
          <a:off x="609480" y="3006720"/>
          <a:ext cx="6559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06720"/>
                    <a:ext cx="655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9" name=""/>
          <p:cNvSpPr/>
          <p:nvPr/>
        </p:nvSpPr>
        <p:spPr>
          <a:xfrm>
            <a:off x="1295280" y="346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0" name=""/>
          <p:cNvCxnSpPr>
            <a:stCxn id="3531" idx="6"/>
            <a:endCxn id="2962" idx="1"/>
          </p:cNvCxnSpPr>
          <p:nvPr/>
        </p:nvCxnSpPr>
        <p:spPr>
          <a:xfrm flipV="1">
            <a:off x="5474880" y="2886840"/>
            <a:ext cx="13453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2" name=""/>
          <p:cNvCxnSpPr>
            <a:stCxn id="3531" idx="5"/>
            <a:endCxn id="3291" idx="1"/>
          </p:cNvCxnSpPr>
          <p:nvPr/>
        </p:nvCxnSpPr>
        <p:spPr>
          <a:xfrm>
            <a:off x="5387760" y="3398400"/>
            <a:ext cx="14799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3" name=""/>
          <p:cNvCxnSpPr>
            <a:stCxn id="3534" idx="6"/>
            <a:endCxn id="3526" idx="1"/>
          </p:cNvCxnSpPr>
          <p:nvPr/>
        </p:nvCxnSpPr>
        <p:spPr>
          <a:xfrm>
            <a:off x="5475240" y="3446640"/>
            <a:ext cx="140256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35" name=""/>
          <p:cNvGrpSpPr/>
          <p:nvPr/>
        </p:nvGrpSpPr>
        <p:grpSpPr>
          <a:xfrm>
            <a:off x="4572000" y="4648320"/>
            <a:ext cx="609120" cy="380520"/>
            <a:chOff x="4572000" y="4648320"/>
            <a:chExt cx="609120" cy="380520"/>
          </a:xfrm>
        </p:grpSpPr>
        <p:grpSp>
          <p:nvGrpSpPr>
            <p:cNvPr id="3536" name=""/>
            <p:cNvGrpSpPr/>
            <p:nvPr/>
          </p:nvGrpSpPr>
          <p:grpSpPr>
            <a:xfrm>
              <a:off x="4583520" y="4666320"/>
              <a:ext cx="597600" cy="362520"/>
              <a:chOff x="4583520" y="4666320"/>
              <a:chExt cx="597600" cy="362520"/>
            </a:xfrm>
          </p:grpSpPr>
          <p:sp>
            <p:nvSpPr>
              <p:cNvPr id="3537" name=""/>
              <p:cNvSpPr/>
              <p:nvPr/>
            </p:nvSpPr>
            <p:spPr>
              <a:xfrm>
                <a:off x="4583520" y="478296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588920" y="479592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588920" y="466632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0" name=""/>
            <p:cNvSpPr/>
            <p:nvPr/>
          </p:nvSpPr>
          <p:spPr>
            <a:xfrm>
              <a:off x="4572000" y="476460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577760" y="477684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577760" y="464832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3" name=""/>
            <p:cNvGrpSpPr/>
            <p:nvPr/>
          </p:nvGrpSpPr>
          <p:grpSpPr>
            <a:xfrm>
              <a:off x="4687560" y="4678200"/>
              <a:ext cx="372240" cy="173160"/>
              <a:chOff x="4687560" y="4678200"/>
              <a:chExt cx="372240" cy="173160"/>
            </a:xfrm>
          </p:grpSpPr>
          <p:grpSp>
            <p:nvGrpSpPr>
              <p:cNvPr id="3544" name=""/>
              <p:cNvGrpSpPr/>
              <p:nvPr/>
            </p:nvGrpSpPr>
            <p:grpSpPr>
              <a:xfrm>
                <a:off x="4687560" y="4678200"/>
                <a:ext cx="372240" cy="173160"/>
                <a:chOff x="4687560" y="4678200"/>
                <a:chExt cx="372240" cy="173160"/>
              </a:xfrm>
            </p:grpSpPr>
            <p:sp>
              <p:nvSpPr>
                <p:cNvPr id="3545" name=""/>
                <p:cNvSpPr/>
                <p:nvPr/>
              </p:nvSpPr>
              <p:spPr>
                <a:xfrm>
                  <a:off x="4687560" y="4678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4687560" y="4678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4884840" y="4788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4884840" y="4788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9" name=""/>
              <p:cNvGrpSpPr/>
              <p:nvPr/>
            </p:nvGrpSpPr>
            <p:grpSpPr>
              <a:xfrm>
                <a:off x="4699080" y="4678200"/>
                <a:ext cx="349560" cy="173160"/>
                <a:chOff x="4699080" y="4678200"/>
                <a:chExt cx="349560" cy="173160"/>
              </a:xfrm>
            </p:grpSpPr>
            <p:sp>
              <p:nvSpPr>
                <p:cNvPr id="3550" name=""/>
                <p:cNvSpPr/>
                <p:nvPr/>
              </p:nvSpPr>
              <p:spPr>
                <a:xfrm>
                  <a:off x="4872960" y="4678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4872960" y="4678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4699080" y="4776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4699080" y="4776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54" name=""/>
          <p:cNvGrpSpPr/>
          <p:nvPr/>
        </p:nvGrpSpPr>
        <p:grpSpPr>
          <a:xfrm>
            <a:off x="4495680" y="1905120"/>
            <a:ext cx="609480" cy="380520"/>
            <a:chOff x="4495680" y="1905120"/>
            <a:chExt cx="609480" cy="380520"/>
          </a:xfrm>
        </p:grpSpPr>
        <p:grpSp>
          <p:nvGrpSpPr>
            <p:cNvPr id="3555" name=""/>
            <p:cNvGrpSpPr/>
            <p:nvPr/>
          </p:nvGrpSpPr>
          <p:grpSpPr>
            <a:xfrm>
              <a:off x="4507200" y="1923120"/>
              <a:ext cx="597960" cy="362520"/>
              <a:chOff x="4507200" y="1923120"/>
              <a:chExt cx="597960" cy="362520"/>
            </a:xfrm>
          </p:grpSpPr>
          <p:sp>
            <p:nvSpPr>
              <p:cNvPr id="3556" name=""/>
              <p:cNvSpPr/>
              <p:nvPr/>
            </p:nvSpPr>
            <p:spPr>
              <a:xfrm>
                <a:off x="4507200" y="20397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512600" y="20527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512600" y="19231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9" name=""/>
            <p:cNvSpPr/>
            <p:nvPr/>
          </p:nvSpPr>
          <p:spPr>
            <a:xfrm>
              <a:off x="4495680" y="20214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501440" y="20336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501440" y="19051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4611240" y="1935000"/>
              <a:ext cx="372240" cy="173160"/>
              <a:chOff x="4611240" y="1935000"/>
              <a:chExt cx="372240" cy="173160"/>
            </a:xfrm>
          </p:grpSpPr>
          <p:grpSp>
            <p:nvGrpSpPr>
              <p:cNvPr id="3563" name=""/>
              <p:cNvGrpSpPr/>
              <p:nvPr/>
            </p:nvGrpSpPr>
            <p:grpSpPr>
              <a:xfrm>
                <a:off x="4611240" y="1935000"/>
                <a:ext cx="372240" cy="173160"/>
                <a:chOff x="4611240" y="1935000"/>
                <a:chExt cx="372240" cy="173160"/>
              </a:xfrm>
            </p:grpSpPr>
            <p:sp>
              <p:nvSpPr>
                <p:cNvPr id="3564" name=""/>
                <p:cNvSpPr/>
                <p:nvPr/>
              </p:nvSpPr>
              <p:spPr>
                <a:xfrm>
                  <a:off x="4611240" y="19350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4611240" y="19350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808520" y="20455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4808520" y="20455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8" name=""/>
              <p:cNvGrpSpPr/>
              <p:nvPr/>
            </p:nvGrpSpPr>
            <p:grpSpPr>
              <a:xfrm>
                <a:off x="4622760" y="1935000"/>
                <a:ext cx="349560" cy="173160"/>
                <a:chOff x="4622760" y="1935000"/>
                <a:chExt cx="349560" cy="17316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4796640" y="19350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4796640" y="19350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4622760" y="20332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4622760" y="20332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73" name=""/>
          <p:cNvGrpSpPr/>
          <p:nvPr/>
        </p:nvGrpSpPr>
        <p:grpSpPr>
          <a:xfrm>
            <a:off x="4876920" y="3200400"/>
            <a:ext cx="609120" cy="380520"/>
            <a:chOff x="4876920" y="3200400"/>
            <a:chExt cx="609120" cy="380520"/>
          </a:xfrm>
        </p:grpSpPr>
        <p:grpSp>
          <p:nvGrpSpPr>
            <p:cNvPr id="3574" name=""/>
            <p:cNvGrpSpPr/>
            <p:nvPr/>
          </p:nvGrpSpPr>
          <p:grpSpPr>
            <a:xfrm>
              <a:off x="4888440" y="3218400"/>
              <a:ext cx="597600" cy="362520"/>
              <a:chOff x="4888440" y="3218400"/>
              <a:chExt cx="597600" cy="362520"/>
            </a:xfrm>
          </p:grpSpPr>
          <p:sp>
            <p:nvSpPr>
              <p:cNvPr id="3575" name=""/>
              <p:cNvSpPr/>
              <p:nvPr/>
            </p:nvSpPr>
            <p:spPr>
              <a:xfrm>
                <a:off x="4888440" y="333504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893840" y="334800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893840" y="321840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4876920" y="331668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82680" y="332892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882680" y="320040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4992480" y="3230280"/>
              <a:ext cx="372240" cy="173160"/>
              <a:chOff x="4992480" y="3230280"/>
              <a:chExt cx="372240" cy="173160"/>
            </a:xfrm>
          </p:grpSpPr>
          <p:grpSp>
            <p:nvGrpSpPr>
              <p:cNvPr id="3580" name=""/>
              <p:cNvGrpSpPr/>
              <p:nvPr/>
            </p:nvGrpSpPr>
            <p:grpSpPr>
              <a:xfrm>
                <a:off x="4992480" y="3230280"/>
                <a:ext cx="372240" cy="173160"/>
                <a:chOff x="4992480" y="3230280"/>
                <a:chExt cx="372240" cy="17316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49924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49924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51897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51897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5" name=""/>
              <p:cNvGrpSpPr/>
              <p:nvPr/>
            </p:nvGrpSpPr>
            <p:grpSpPr>
              <a:xfrm>
                <a:off x="5004000" y="3230280"/>
                <a:ext cx="349560" cy="173160"/>
                <a:chOff x="5004000" y="3230280"/>
                <a:chExt cx="349560" cy="173160"/>
              </a:xfrm>
            </p:grpSpPr>
            <p:sp>
              <p:nvSpPr>
                <p:cNvPr id="3586" name=""/>
                <p:cNvSpPr/>
                <p:nvPr/>
              </p:nvSpPr>
              <p:spPr>
                <a:xfrm>
                  <a:off x="51778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51778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50040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50040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90" name=""/>
          <p:cNvSpPr/>
          <p:nvPr/>
        </p:nvSpPr>
        <p:spPr>
          <a:xfrm flipH="1" flipV="1">
            <a:off x="3733920" y="3733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3657600" y="22860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3886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25909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5257800" y="380988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5486400" y="45712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 multicast traffic close to subscr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6" name=""/>
          <p:cNvGrpSpPr/>
          <p:nvPr/>
        </p:nvGrpSpPr>
        <p:grpSpPr>
          <a:xfrm>
            <a:off x="3276720" y="3200400"/>
            <a:ext cx="609120" cy="380520"/>
            <a:chOff x="3276720" y="3200400"/>
            <a:chExt cx="609120" cy="380520"/>
          </a:xfrm>
        </p:grpSpPr>
        <p:grpSp>
          <p:nvGrpSpPr>
            <p:cNvPr id="3597" name=""/>
            <p:cNvGrpSpPr/>
            <p:nvPr/>
          </p:nvGrpSpPr>
          <p:grpSpPr>
            <a:xfrm>
              <a:off x="3288240" y="3218400"/>
              <a:ext cx="597600" cy="362520"/>
              <a:chOff x="3288240" y="3218400"/>
              <a:chExt cx="597600" cy="362520"/>
            </a:xfrm>
          </p:grpSpPr>
          <p:sp>
            <p:nvSpPr>
              <p:cNvPr id="3598" name=""/>
              <p:cNvSpPr/>
              <p:nvPr/>
            </p:nvSpPr>
            <p:spPr>
              <a:xfrm>
                <a:off x="3288240" y="333504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293640" y="334800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293640" y="321840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1" name=""/>
            <p:cNvSpPr/>
            <p:nvPr/>
          </p:nvSpPr>
          <p:spPr>
            <a:xfrm>
              <a:off x="3276720" y="331668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282480" y="332892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282480" y="320040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4" name=""/>
            <p:cNvGrpSpPr/>
            <p:nvPr/>
          </p:nvGrpSpPr>
          <p:grpSpPr>
            <a:xfrm>
              <a:off x="3392280" y="3230280"/>
              <a:ext cx="372240" cy="173160"/>
              <a:chOff x="3392280" y="3230280"/>
              <a:chExt cx="372240" cy="173160"/>
            </a:xfrm>
          </p:grpSpPr>
          <p:grpSp>
            <p:nvGrpSpPr>
              <p:cNvPr id="3605" name=""/>
              <p:cNvGrpSpPr/>
              <p:nvPr/>
            </p:nvGrpSpPr>
            <p:grpSpPr>
              <a:xfrm>
                <a:off x="3392280" y="3230280"/>
                <a:ext cx="372240" cy="173160"/>
                <a:chOff x="3392280" y="3230280"/>
                <a:chExt cx="372240" cy="173160"/>
              </a:xfrm>
            </p:grpSpPr>
            <p:sp>
              <p:nvSpPr>
                <p:cNvPr id="3606" name=""/>
                <p:cNvSpPr/>
                <p:nvPr/>
              </p:nvSpPr>
              <p:spPr>
                <a:xfrm>
                  <a:off x="33922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33922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35895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35895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0" name=""/>
              <p:cNvGrpSpPr/>
              <p:nvPr/>
            </p:nvGrpSpPr>
            <p:grpSpPr>
              <a:xfrm>
                <a:off x="3403800" y="3230280"/>
                <a:ext cx="349560" cy="173160"/>
                <a:chOff x="3403800" y="3230280"/>
                <a:chExt cx="349560" cy="17316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35776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35776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4038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34038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5" name=""/>
          <p:cNvSpPr/>
          <p:nvPr/>
        </p:nvSpPr>
        <p:spPr>
          <a:xfrm flipV="1">
            <a:off x="5105520" y="1294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51055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510552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the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 flipV="1" rot="5889600">
            <a:off x="3847680" y="1408680"/>
            <a:ext cx="1143000" cy="3200400"/>
          </a:xfrm>
          <a:custGeom>
            <a:avLst/>
            <a:gdLst/>
            <a:ahLst/>
            <a:rect l="l" t="t" r="r" b="b"/>
            <a:pathLst>
              <a:path w="1173" h="611">
                <a:moveTo>
                  <a:pt x="156" y="443"/>
                </a:moveTo>
                <a:lnTo>
                  <a:pt x="162" y="458"/>
                </a:lnTo>
                <a:lnTo>
                  <a:pt x="173" y="478"/>
                </a:lnTo>
                <a:lnTo>
                  <a:pt x="192" y="491"/>
                </a:lnTo>
                <a:lnTo>
                  <a:pt x="219" y="505"/>
                </a:lnTo>
                <a:lnTo>
                  <a:pt x="240" y="511"/>
                </a:lnTo>
                <a:lnTo>
                  <a:pt x="269" y="518"/>
                </a:lnTo>
                <a:lnTo>
                  <a:pt x="312" y="523"/>
                </a:lnTo>
                <a:lnTo>
                  <a:pt x="356" y="523"/>
                </a:lnTo>
                <a:lnTo>
                  <a:pt x="397" y="519"/>
                </a:lnTo>
                <a:lnTo>
                  <a:pt x="427" y="512"/>
                </a:lnTo>
                <a:lnTo>
                  <a:pt x="439" y="540"/>
                </a:lnTo>
                <a:lnTo>
                  <a:pt x="456" y="562"/>
                </a:lnTo>
                <a:lnTo>
                  <a:pt x="483" y="581"/>
                </a:lnTo>
                <a:lnTo>
                  <a:pt x="521" y="596"/>
                </a:lnTo>
                <a:lnTo>
                  <a:pt x="568" y="607"/>
                </a:lnTo>
                <a:lnTo>
                  <a:pt x="615" y="610"/>
                </a:lnTo>
                <a:lnTo>
                  <a:pt x="658" y="607"/>
                </a:lnTo>
                <a:lnTo>
                  <a:pt x="707" y="601"/>
                </a:lnTo>
                <a:lnTo>
                  <a:pt x="748" y="583"/>
                </a:lnTo>
                <a:lnTo>
                  <a:pt x="776" y="565"/>
                </a:lnTo>
                <a:lnTo>
                  <a:pt x="799" y="549"/>
                </a:lnTo>
                <a:lnTo>
                  <a:pt x="806" y="526"/>
                </a:lnTo>
                <a:lnTo>
                  <a:pt x="839" y="536"/>
                </a:lnTo>
                <a:lnTo>
                  <a:pt x="878" y="535"/>
                </a:lnTo>
                <a:lnTo>
                  <a:pt x="912" y="529"/>
                </a:lnTo>
                <a:lnTo>
                  <a:pt x="944" y="517"/>
                </a:lnTo>
                <a:lnTo>
                  <a:pt x="969" y="495"/>
                </a:lnTo>
                <a:lnTo>
                  <a:pt x="982" y="473"/>
                </a:lnTo>
                <a:lnTo>
                  <a:pt x="983" y="456"/>
                </a:lnTo>
                <a:lnTo>
                  <a:pt x="1004" y="458"/>
                </a:lnTo>
                <a:lnTo>
                  <a:pt x="1027" y="456"/>
                </a:lnTo>
                <a:lnTo>
                  <a:pt x="1052" y="449"/>
                </a:lnTo>
                <a:lnTo>
                  <a:pt x="1073" y="440"/>
                </a:lnTo>
                <a:lnTo>
                  <a:pt x="1086" y="433"/>
                </a:lnTo>
                <a:lnTo>
                  <a:pt x="1100" y="423"/>
                </a:lnTo>
                <a:lnTo>
                  <a:pt x="1116" y="411"/>
                </a:lnTo>
                <a:lnTo>
                  <a:pt x="1127" y="395"/>
                </a:lnTo>
                <a:lnTo>
                  <a:pt x="1128" y="384"/>
                </a:lnTo>
                <a:lnTo>
                  <a:pt x="1129" y="372"/>
                </a:lnTo>
                <a:lnTo>
                  <a:pt x="1124" y="353"/>
                </a:lnTo>
                <a:lnTo>
                  <a:pt x="1136" y="337"/>
                </a:lnTo>
                <a:lnTo>
                  <a:pt x="1144" y="322"/>
                </a:lnTo>
                <a:lnTo>
                  <a:pt x="1151" y="305"/>
                </a:lnTo>
                <a:lnTo>
                  <a:pt x="1148" y="286"/>
                </a:lnTo>
                <a:lnTo>
                  <a:pt x="1147" y="272"/>
                </a:lnTo>
                <a:lnTo>
                  <a:pt x="1138" y="258"/>
                </a:lnTo>
                <a:lnTo>
                  <a:pt x="1158" y="239"/>
                </a:lnTo>
                <a:lnTo>
                  <a:pt x="1167" y="225"/>
                </a:lnTo>
                <a:lnTo>
                  <a:pt x="1172" y="207"/>
                </a:lnTo>
                <a:lnTo>
                  <a:pt x="1171" y="189"/>
                </a:lnTo>
                <a:lnTo>
                  <a:pt x="1166" y="167"/>
                </a:lnTo>
                <a:lnTo>
                  <a:pt x="1155" y="151"/>
                </a:lnTo>
                <a:lnTo>
                  <a:pt x="1136" y="137"/>
                </a:lnTo>
                <a:lnTo>
                  <a:pt x="1107" y="120"/>
                </a:lnTo>
                <a:lnTo>
                  <a:pt x="1072" y="115"/>
                </a:lnTo>
                <a:lnTo>
                  <a:pt x="1038" y="117"/>
                </a:lnTo>
                <a:lnTo>
                  <a:pt x="1015" y="123"/>
                </a:lnTo>
                <a:lnTo>
                  <a:pt x="1004" y="108"/>
                </a:lnTo>
                <a:lnTo>
                  <a:pt x="989" y="96"/>
                </a:lnTo>
                <a:lnTo>
                  <a:pt x="978" y="88"/>
                </a:lnTo>
                <a:lnTo>
                  <a:pt x="954" y="76"/>
                </a:lnTo>
                <a:lnTo>
                  <a:pt x="933" y="69"/>
                </a:lnTo>
                <a:lnTo>
                  <a:pt x="899" y="62"/>
                </a:lnTo>
                <a:lnTo>
                  <a:pt x="867" y="60"/>
                </a:lnTo>
                <a:lnTo>
                  <a:pt x="835" y="66"/>
                </a:lnTo>
                <a:lnTo>
                  <a:pt x="802" y="75"/>
                </a:lnTo>
                <a:lnTo>
                  <a:pt x="791" y="56"/>
                </a:lnTo>
                <a:lnTo>
                  <a:pt x="776" y="44"/>
                </a:lnTo>
                <a:lnTo>
                  <a:pt x="757" y="33"/>
                </a:lnTo>
                <a:lnTo>
                  <a:pt x="735" y="22"/>
                </a:lnTo>
                <a:lnTo>
                  <a:pt x="710" y="18"/>
                </a:lnTo>
                <a:lnTo>
                  <a:pt x="684" y="18"/>
                </a:lnTo>
                <a:lnTo>
                  <a:pt x="661" y="18"/>
                </a:lnTo>
                <a:lnTo>
                  <a:pt x="630" y="28"/>
                </a:lnTo>
                <a:lnTo>
                  <a:pt x="609" y="36"/>
                </a:lnTo>
                <a:lnTo>
                  <a:pt x="597" y="24"/>
                </a:lnTo>
                <a:lnTo>
                  <a:pt x="582" y="14"/>
                </a:lnTo>
                <a:lnTo>
                  <a:pt x="562" y="7"/>
                </a:lnTo>
                <a:lnTo>
                  <a:pt x="534" y="0"/>
                </a:lnTo>
                <a:lnTo>
                  <a:pt x="506" y="0"/>
                </a:lnTo>
                <a:lnTo>
                  <a:pt x="471" y="3"/>
                </a:lnTo>
                <a:lnTo>
                  <a:pt x="447" y="12"/>
                </a:lnTo>
                <a:lnTo>
                  <a:pt x="421" y="27"/>
                </a:lnTo>
                <a:lnTo>
                  <a:pt x="403" y="43"/>
                </a:lnTo>
                <a:lnTo>
                  <a:pt x="380" y="36"/>
                </a:lnTo>
                <a:lnTo>
                  <a:pt x="353" y="31"/>
                </a:lnTo>
                <a:lnTo>
                  <a:pt x="322" y="31"/>
                </a:lnTo>
                <a:lnTo>
                  <a:pt x="291" y="36"/>
                </a:lnTo>
                <a:lnTo>
                  <a:pt x="269" y="46"/>
                </a:lnTo>
                <a:lnTo>
                  <a:pt x="248" y="56"/>
                </a:lnTo>
                <a:lnTo>
                  <a:pt x="229" y="70"/>
                </a:lnTo>
                <a:lnTo>
                  <a:pt x="224" y="89"/>
                </a:lnTo>
                <a:lnTo>
                  <a:pt x="209" y="82"/>
                </a:lnTo>
                <a:lnTo>
                  <a:pt x="182" y="80"/>
                </a:lnTo>
                <a:lnTo>
                  <a:pt x="153" y="84"/>
                </a:lnTo>
                <a:lnTo>
                  <a:pt x="121" y="94"/>
                </a:lnTo>
                <a:lnTo>
                  <a:pt x="97" y="107"/>
                </a:lnTo>
                <a:lnTo>
                  <a:pt x="77" y="129"/>
                </a:lnTo>
                <a:lnTo>
                  <a:pt x="63" y="147"/>
                </a:lnTo>
                <a:lnTo>
                  <a:pt x="53" y="176"/>
                </a:lnTo>
                <a:lnTo>
                  <a:pt x="49" y="194"/>
                </a:lnTo>
                <a:lnTo>
                  <a:pt x="54" y="223"/>
                </a:lnTo>
                <a:lnTo>
                  <a:pt x="30" y="238"/>
                </a:lnTo>
                <a:lnTo>
                  <a:pt x="15" y="259"/>
                </a:lnTo>
                <a:lnTo>
                  <a:pt x="5" y="282"/>
                </a:lnTo>
                <a:lnTo>
                  <a:pt x="0" y="305"/>
                </a:lnTo>
                <a:lnTo>
                  <a:pt x="2" y="330"/>
                </a:lnTo>
                <a:lnTo>
                  <a:pt x="13" y="350"/>
                </a:lnTo>
                <a:lnTo>
                  <a:pt x="29" y="372"/>
                </a:lnTo>
                <a:lnTo>
                  <a:pt x="51" y="388"/>
                </a:lnTo>
                <a:lnTo>
                  <a:pt x="76" y="405"/>
                </a:lnTo>
                <a:lnTo>
                  <a:pt x="110" y="416"/>
                </a:lnTo>
                <a:lnTo>
                  <a:pt x="143" y="423"/>
                </a:lnTo>
                <a:lnTo>
                  <a:pt x="158" y="427"/>
                </a:lnTo>
                <a:lnTo>
                  <a:pt x="156" y="443"/>
                </a:lnTo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 flipV="1" rot="5889600">
            <a:off x="3848760" y="2628000"/>
            <a:ext cx="1146240" cy="3205080"/>
          </a:xfrm>
          <a:custGeom>
            <a:avLst/>
            <a:gdLst/>
            <a:ahLst/>
            <a:rect l="l" t="t" r="r" b="b"/>
            <a:pathLst>
              <a:path w="1173" h="611">
                <a:moveTo>
                  <a:pt x="156" y="443"/>
                </a:moveTo>
                <a:lnTo>
                  <a:pt x="162" y="458"/>
                </a:lnTo>
                <a:lnTo>
                  <a:pt x="173" y="478"/>
                </a:lnTo>
                <a:lnTo>
                  <a:pt x="192" y="491"/>
                </a:lnTo>
                <a:lnTo>
                  <a:pt x="219" y="505"/>
                </a:lnTo>
                <a:lnTo>
                  <a:pt x="240" y="511"/>
                </a:lnTo>
                <a:lnTo>
                  <a:pt x="269" y="518"/>
                </a:lnTo>
                <a:lnTo>
                  <a:pt x="312" y="523"/>
                </a:lnTo>
                <a:lnTo>
                  <a:pt x="356" y="523"/>
                </a:lnTo>
                <a:lnTo>
                  <a:pt x="397" y="519"/>
                </a:lnTo>
                <a:lnTo>
                  <a:pt x="427" y="512"/>
                </a:lnTo>
                <a:lnTo>
                  <a:pt x="439" y="540"/>
                </a:lnTo>
                <a:lnTo>
                  <a:pt x="456" y="562"/>
                </a:lnTo>
                <a:lnTo>
                  <a:pt x="483" y="581"/>
                </a:lnTo>
                <a:lnTo>
                  <a:pt x="521" y="596"/>
                </a:lnTo>
                <a:lnTo>
                  <a:pt x="568" y="607"/>
                </a:lnTo>
                <a:lnTo>
                  <a:pt x="615" y="610"/>
                </a:lnTo>
                <a:lnTo>
                  <a:pt x="658" y="607"/>
                </a:lnTo>
                <a:lnTo>
                  <a:pt x="707" y="601"/>
                </a:lnTo>
                <a:lnTo>
                  <a:pt x="748" y="583"/>
                </a:lnTo>
                <a:lnTo>
                  <a:pt x="776" y="565"/>
                </a:lnTo>
                <a:lnTo>
                  <a:pt x="799" y="549"/>
                </a:lnTo>
                <a:lnTo>
                  <a:pt x="806" y="526"/>
                </a:lnTo>
                <a:lnTo>
                  <a:pt x="839" y="536"/>
                </a:lnTo>
                <a:lnTo>
                  <a:pt x="878" y="535"/>
                </a:lnTo>
                <a:lnTo>
                  <a:pt x="912" y="529"/>
                </a:lnTo>
                <a:lnTo>
                  <a:pt x="944" y="517"/>
                </a:lnTo>
                <a:lnTo>
                  <a:pt x="969" y="495"/>
                </a:lnTo>
                <a:lnTo>
                  <a:pt x="982" y="473"/>
                </a:lnTo>
                <a:lnTo>
                  <a:pt x="983" y="456"/>
                </a:lnTo>
                <a:lnTo>
                  <a:pt x="1004" y="458"/>
                </a:lnTo>
                <a:lnTo>
                  <a:pt x="1027" y="456"/>
                </a:lnTo>
                <a:lnTo>
                  <a:pt x="1052" y="449"/>
                </a:lnTo>
                <a:lnTo>
                  <a:pt x="1073" y="440"/>
                </a:lnTo>
                <a:lnTo>
                  <a:pt x="1086" y="433"/>
                </a:lnTo>
                <a:lnTo>
                  <a:pt x="1100" y="423"/>
                </a:lnTo>
                <a:lnTo>
                  <a:pt x="1116" y="411"/>
                </a:lnTo>
                <a:lnTo>
                  <a:pt x="1127" y="395"/>
                </a:lnTo>
                <a:lnTo>
                  <a:pt x="1128" y="384"/>
                </a:lnTo>
                <a:lnTo>
                  <a:pt x="1129" y="372"/>
                </a:lnTo>
                <a:lnTo>
                  <a:pt x="1124" y="353"/>
                </a:lnTo>
                <a:lnTo>
                  <a:pt x="1136" y="337"/>
                </a:lnTo>
                <a:lnTo>
                  <a:pt x="1144" y="322"/>
                </a:lnTo>
                <a:lnTo>
                  <a:pt x="1151" y="305"/>
                </a:lnTo>
                <a:lnTo>
                  <a:pt x="1148" y="286"/>
                </a:lnTo>
                <a:lnTo>
                  <a:pt x="1147" y="272"/>
                </a:lnTo>
                <a:lnTo>
                  <a:pt x="1138" y="258"/>
                </a:lnTo>
                <a:lnTo>
                  <a:pt x="1158" y="239"/>
                </a:lnTo>
                <a:lnTo>
                  <a:pt x="1167" y="225"/>
                </a:lnTo>
                <a:lnTo>
                  <a:pt x="1172" y="207"/>
                </a:lnTo>
                <a:lnTo>
                  <a:pt x="1171" y="189"/>
                </a:lnTo>
                <a:lnTo>
                  <a:pt x="1166" y="167"/>
                </a:lnTo>
                <a:lnTo>
                  <a:pt x="1155" y="151"/>
                </a:lnTo>
                <a:lnTo>
                  <a:pt x="1136" y="137"/>
                </a:lnTo>
                <a:lnTo>
                  <a:pt x="1107" y="120"/>
                </a:lnTo>
                <a:lnTo>
                  <a:pt x="1072" y="115"/>
                </a:lnTo>
                <a:lnTo>
                  <a:pt x="1038" y="117"/>
                </a:lnTo>
                <a:lnTo>
                  <a:pt x="1015" y="123"/>
                </a:lnTo>
                <a:lnTo>
                  <a:pt x="1004" y="108"/>
                </a:lnTo>
                <a:lnTo>
                  <a:pt x="989" y="96"/>
                </a:lnTo>
                <a:lnTo>
                  <a:pt x="978" y="88"/>
                </a:lnTo>
                <a:lnTo>
                  <a:pt x="954" y="76"/>
                </a:lnTo>
                <a:lnTo>
                  <a:pt x="933" y="69"/>
                </a:lnTo>
                <a:lnTo>
                  <a:pt x="899" y="62"/>
                </a:lnTo>
                <a:lnTo>
                  <a:pt x="867" y="60"/>
                </a:lnTo>
                <a:lnTo>
                  <a:pt x="835" y="66"/>
                </a:lnTo>
                <a:lnTo>
                  <a:pt x="802" y="75"/>
                </a:lnTo>
                <a:lnTo>
                  <a:pt x="791" y="56"/>
                </a:lnTo>
                <a:lnTo>
                  <a:pt x="776" y="44"/>
                </a:lnTo>
                <a:lnTo>
                  <a:pt x="757" y="33"/>
                </a:lnTo>
                <a:lnTo>
                  <a:pt x="735" y="22"/>
                </a:lnTo>
                <a:lnTo>
                  <a:pt x="710" y="18"/>
                </a:lnTo>
                <a:lnTo>
                  <a:pt x="684" y="18"/>
                </a:lnTo>
                <a:lnTo>
                  <a:pt x="661" y="18"/>
                </a:lnTo>
                <a:lnTo>
                  <a:pt x="630" y="28"/>
                </a:lnTo>
                <a:lnTo>
                  <a:pt x="609" y="36"/>
                </a:lnTo>
                <a:lnTo>
                  <a:pt x="597" y="24"/>
                </a:lnTo>
                <a:lnTo>
                  <a:pt x="582" y="14"/>
                </a:lnTo>
                <a:lnTo>
                  <a:pt x="562" y="7"/>
                </a:lnTo>
                <a:lnTo>
                  <a:pt x="534" y="0"/>
                </a:lnTo>
                <a:lnTo>
                  <a:pt x="506" y="0"/>
                </a:lnTo>
                <a:lnTo>
                  <a:pt x="471" y="3"/>
                </a:lnTo>
                <a:lnTo>
                  <a:pt x="447" y="12"/>
                </a:lnTo>
                <a:lnTo>
                  <a:pt x="421" y="27"/>
                </a:lnTo>
                <a:lnTo>
                  <a:pt x="403" y="43"/>
                </a:lnTo>
                <a:lnTo>
                  <a:pt x="380" y="36"/>
                </a:lnTo>
                <a:lnTo>
                  <a:pt x="353" y="31"/>
                </a:lnTo>
                <a:lnTo>
                  <a:pt x="322" y="31"/>
                </a:lnTo>
                <a:lnTo>
                  <a:pt x="291" y="36"/>
                </a:lnTo>
                <a:lnTo>
                  <a:pt x="269" y="46"/>
                </a:lnTo>
                <a:lnTo>
                  <a:pt x="248" y="56"/>
                </a:lnTo>
                <a:lnTo>
                  <a:pt x="229" y="70"/>
                </a:lnTo>
                <a:lnTo>
                  <a:pt x="224" y="89"/>
                </a:lnTo>
                <a:lnTo>
                  <a:pt x="209" y="82"/>
                </a:lnTo>
                <a:lnTo>
                  <a:pt x="182" y="80"/>
                </a:lnTo>
                <a:lnTo>
                  <a:pt x="153" y="84"/>
                </a:lnTo>
                <a:lnTo>
                  <a:pt x="121" y="94"/>
                </a:lnTo>
                <a:lnTo>
                  <a:pt x="97" y="107"/>
                </a:lnTo>
                <a:lnTo>
                  <a:pt x="77" y="129"/>
                </a:lnTo>
                <a:lnTo>
                  <a:pt x="63" y="147"/>
                </a:lnTo>
                <a:lnTo>
                  <a:pt x="53" y="176"/>
                </a:lnTo>
                <a:lnTo>
                  <a:pt x="49" y="194"/>
                </a:lnTo>
                <a:lnTo>
                  <a:pt x="54" y="223"/>
                </a:lnTo>
                <a:lnTo>
                  <a:pt x="30" y="238"/>
                </a:lnTo>
                <a:lnTo>
                  <a:pt x="15" y="259"/>
                </a:lnTo>
                <a:lnTo>
                  <a:pt x="5" y="282"/>
                </a:lnTo>
                <a:lnTo>
                  <a:pt x="0" y="305"/>
                </a:lnTo>
                <a:lnTo>
                  <a:pt x="2" y="330"/>
                </a:lnTo>
                <a:lnTo>
                  <a:pt x="13" y="350"/>
                </a:lnTo>
                <a:lnTo>
                  <a:pt x="29" y="372"/>
                </a:lnTo>
                <a:lnTo>
                  <a:pt x="51" y="388"/>
                </a:lnTo>
                <a:lnTo>
                  <a:pt x="76" y="405"/>
                </a:lnTo>
                <a:lnTo>
                  <a:pt x="110" y="416"/>
                </a:lnTo>
                <a:lnTo>
                  <a:pt x="143" y="423"/>
                </a:lnTo>
                <a:lnTo>
                  <a:pt x="158" y="427"/>
                </a:lnTo>
                <a:lnTo>
                  <a:pt x="156" y="443"/>
                </a:lnTo>
              </a:path>
            </a:pathLst>
          </a:cu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3623" name="BS00296_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546120" cy="609840"/>
          </a:xfrm>
          <a:prstGeom prst="rect">
            <a:avLst/>
          </a:prstGeom>
          <a:ln w="0">
            <a:noFill/>
          </a:ln>
        </p:spPr>
      </p:pic>
      <p:sp>
        <p:nvSpPr>
          <p:cNvPr id="3624" name=""/>
          <p:cNvSpPr/>
          <p:nvPr/>
        </p:nvSpPr>
        <p:spPr>
          <a:xfrm>
            <a:off x="3586680" y="4877640"/>
            <a:ext cx="126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Best Eff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7924680" y="3581280"/>
            <a:ext cx="533520" cy="380880"/>
            <a:chOff x="7924680" y="3581280"/>
            <a:chExt cx="533520" cy="380880"/>
          </a:xfrm>
        </p:grpSpPr>
        <p:grpSp>
          <p:nvGrpSpPr>
            <p:cNvPr id="3626" name=""/>
            <p:cNvGrpSpPr/>
            <p:nvPr/>
          </p:nvGrpSpPr>
          <p:grpSpPr>
            <a:xfrm>
              <a:off x="8027640" y="3784320"/>
              <a:ext cx="340200" cy="118080"/>
              <a:chOff x="8027640" y="3784320"/>
              <a:chExt cx="340200" cy="118080"/>
            </a:xfrm>
          </p:grpSpPr>
          <p:grpSp>
            <p:nvGrpSpPr>
              <p:cNvPr id="3627" name=""/>
              <p:cNvGrpSpPr/>
              <p:nvPr/>
            </p:nvGrpSpPr>
            <p:grpSpPr>
              <a:xfrm>
                <a:off x="8027640" y="3784320"/>
                <a:ext cx="340200" cy="118080"/>
                <a:chOff x="8027640" y="3784320"/>
                <a:chExt cx="340200" cy="118080"/>
              </a:xfrm>
            </p:grpSpPr>
            <p:grpSp>
              <p:nvGrpSpPr>
                <p:cNvPr id="3628" name=""/>
                <p:cNvGrpSpPr/>
                <p:nvPr/>
              </p:nvGrpSpPr>
              <p:grpSpPr>
                <a:xfrm>
                  <a:off x="8027640" y="3784320"/>
                  <a:ext cx="340200" cy="118080"/>
                  <a:chOff x="8027640" y="3784320"/>
                  <a:chExt cx="340200" cy="118080"/>
                </a:xfrm>
              </p:grpSpPr>
              <p:grpSp>
                <p:nvGrpSpPr>
                  <p:cNvPr id="3629" name=""/>
                  <p:cNvGrpSpPr/>
                  <p:nvPr/>
                </p:nvGrpSpPr>
                <p:grpSpPr>
                  <a:xfrm>
                    <a:off x="8027640" y="3784320"/>
                    <a:ext cx="339120" cy="118080"/>
                    <a:chOff x="8027640" y="3784320"/>
                    <a:chExt cx="339120" cy="118080"/>
                  </a:xfrm>
                </p:grpSpPr>
                <p:grpSp>
                  <p:nvGrpSpPr>
                    <p:cNvPr id="3630" name=""/>
                    <p:cNvGrpSpPr/>
                    <p:nvPr/>
                  </p:nvGrpSpPr>
                  <p:grpSpPr>
                    <a:xfrm>
                      <a:off x="8027640" y="3784320"/>
                      <a:ext cx="339120" cy="118080"/>
                      <a:chOff x="8027640" y="3784320"/>
                      <a:chExt cx="339120" cy="118080"/>
                    </a:xfrm>
                  </p:grpSpPr>
                  <p:sp>
                    <p:nvSpPr>
                      <p:cNvPr id="3631" name=""/>
                      <p:cNvSpPr/>
                      <p:nvPr/>
                    </p:nvSpPr>
                    <p:spPr>
                      <a:xfrm>
                        <a:off x="8028720" y="38149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2" name=""/>
                      <p:cNvSpPr/>
                      <p:nvPr/>
                    </p:nvSpPr>
                    <p:spPr>
                      <a:xfrm>
                        <a:off x="8027640" y="37843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3" name=""/>
                    <p:cNvSpPr/>
                    <p:nvPr/>
                  </p:nvSpPr>
                  <p:spPr>
                    <a:xfrm>
                      <a:off x="8036640" y="38080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4" name=""/>
                  <p:cNvGrpSpPr/>
                  <p:nvPr/>
                </p:nvGrpSpPr>
                <p:grpSpPr>
                  <a:xfrm>
                    <a:off x="8041320" y="3882240"/>
                    <a:ext cx="326520" cy="17640"/>
                    <a:chOff x="8041320" y="3882240"/>
                    <a:chExt cx="326520" cy="17640"/>
                  </a:xfrm>
                </p:grpSpPr>
                <p:grpSp>
                  <p:nvGrpSpPr>
                    <p:cNvPr id="3635" name=""/>
                    <p:cNvGrpSpPr/>
                    <p:nvPr/>
                  </p:nvGrpSpPr>
                  <p:grpSpPr>
                    <a:xfrm>
                      <a:off x="8041320" y="3882240"/>
                      <a:ext cx="160560" cy="17640"/>
                      <a:chOff x="8041320" y="3882240"/>
                      <a:chExt cx="160560" cy="17640"/>
                    </a:xfrm>
                  </p:grpSpPr>
                  <p:grpSp>
                    <p:nvGrpSpPr>
                      <p:cNvPr id="3636" name=""/>
                      <p:cNvGrpSpPr/>
                      <p:nvPr/>
                    </p:nvGrpSpPr>
                    <p:grpSpPr>
                      <a:xfrm>
                        <a:off x="8041320" y="3882240"/>
                        <a:ext cx="76320" cy="17640"/>
                        <a:chOff x="8041320" y="3882240"/>
                        <a:chExt cx="76320" cy="17640"/>
                      </a:xfrm>
                    </p:grpSpPr>
                    <p:grpSp>
                      <p:nvGrpSpPr>
                        <p:cNvPr id="3637" name=""/>
                        <p:cNvGrpSpPr/>
                        <p:nvPr/>
                      </p:nvGrpSpPr>
                      <p:grpSpPr>
                        <a:xfrm>
                          <a:off x="8041320" y="3882240"/>
                          <a:ext cx="35640" cy="17640"/>
                          <a:chOff x="8041320" y="3882240"/>
                          <a:chExt cx="35640" cy="17640"/>
                        </a:xfrm>
                      </p:grpSpPr>
                      <p:grpSp>
                        <p:nvGrpSpPr>
                          <p:cNvPr id="3638" name=""/>
                          <p:cNvGrpSpPr/>
                          <p:nvPr/>
                        </p:nvGrpSpPr>
                        <p:grpSpPr>
                          <a:xfrm>
                            <a:off x="8041320" y="3882240"/>
                            <a:ext cx="20880" cy="17640"/>
                            <a:chOff x="8041320" y="3882240"/>
                            <a:chExt cx="20880" cy="17640"/>
                          </a:xfrm>
                        </p:grpSpPr>
                        <p:grpSp>
                          <p:nvGrpSpPr>
                            <p:cNvPr id="3639" name=""/>
                            <p:cNvGrpSpPr/>
                            <p:nvPr/>
                          </p:nvGrpSpPr>
                          <p:grpSpPr>
                            <a:xfrm>
                              <a:off x="8041320" y="3882240"/>
                              <a:ext cx="5040" cy="17640"/>
                              <a:chOff x="8041320" y="3882240"/>
                              <a:chExt cx="5040" cy="17640"/>
                            </a:xfrm>
                          </p:grpSpPr>
                          <p:sp>
                            <p:nvSpPr>
                              <p:cNvPr id="3640" name=""/>
                              <p:cNvSpPr/>
                              <p:nvPr/>
                            </p:nvSpPr>
                            <p:spPr>
                              <a:xfrm>
                                <a:off x="8041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1" name=""/>
                              <p:cNvSpPr/>
                              <p:nvPr/>
                            </p:nvSpPr>
                            <p:spPr>
                              <a:xfrm>
                                <a:off x="80460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42" name=""/>
                            <p:cNvGrpSpPr/>
                            <p:nvPr/>
                          </p:nvGrpSpPr>
                          <p:grpSpPr>
                            <a:xfrm>
                              <a:off x="8050680" y="3882240"/>
                              <a:ext cx="11520" cy="17640"/>
                              <a:chOff x="8050680" y="3882240"/>
                              <a:chExt cx="11520" cy="17640"/>
                            </a:xfrm>
                          </p:grpSpPr>
                          <p:sp>
                            <p:nvSpPr>
                              <p:cNvPr id="3643" name=""/>
                              <p:cNvSpPr/>
                              <p:nvPr/>
                            </p:nvSpPr>
                            <p:spPr>
                              <a:xfrm>
                                <a:off x="80506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4" name=""/>
                              <p:cNvSpPr/>
                              <p:nvPr/>
                            </p:nvSpPr>
                            <p:spPr>
                              <a:xfrm>
                                <a:off x="80560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45" name=""/>
                          <p:cNvGrpSpPr/>
                          <p:nvPr/>
                        </p:nvGrpSpPr>
                        <p:grpSpPr>
                          <a:xfrm>
                            <a:off x="8061480" y="3882240"/>
                            <a:ext cx="15480" cy="17640"/>
                            <a:chOff x="8061480" y="3882240"/>
                            <a:chExt cx="15480" cy="17640"/>
                          </a:xfrm>
                        </p:grpSpPr>
                        <p:grpSp>
                          <p:nvGrpSpPr>
                            <p:cNvPr id="3646" name=""/>
                            <p:cNvGrpSpPr/>
                            <p:nvPr/>
                          </p:nvGrpSpPr>
                          <p:grpSpPr>
                            <a:xfrm>
                              <a:off x="8061480" y="3882240"/>
                              <a:ext cx="11520" cy="17640"/>
                              <a:chOff x="8061480" y="3882240"/>
                              <a:chExt cx="11520" cy="17640"/>
                            </a:xfrm>
                          </p:grpSpPr>
                          <p:sp>
                            <p:nvSpPr>
                              <p:cNvPr id="3647" name=""/>
                              <p:cNvSpPr/>
                              <p:nvPr/>
                            </p:nvSpPr>
                            <p:spPr>
                              <a:xfrm>
                                <a:off x="80614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8" name=""/>
                              <p:cNvSpPr/>
                              <p:nvPr/>
                            </p:nvSpPr>
                            <p:spPr>
                              <a:xfrm>
                                <a:off x="806616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49" name=""/>
                            <p:cNvGrpSpPr/>
                            <p:nvPr/>
                          </p:nvGrpSpPr>
                          <p:grpSpPr>
                            <a:xfrm>
                              <a:off x="8071920" y="3882240"/>
                              <a:ext cx="5040" cy="17640"/>
                              <a:chOff x="8071920" y="3882240"/>
                              <a:chExt cx="5040" cy="17640"/>
                            </a:xfrm>
                          </p:grpSpPr>
                          <p:sp>
                            <p:nvSpPr>
                              <p:cNvPr id="3650" name=""/>
                              <p:cNvSpPr/>
                              <p:nvPr/>
                            </p:nvSpPr>
                            <p:spPr>
                              <a:xfrm>
                                <a:off x="80719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1" name=""/>
                              <p:cNvSpPr/>
                              <p:nvPr/>
                            </p:nvSpPr>
                            <p:spPr>
                              <a:xfrm>
                                <a:off x="80766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652" name=""/>
                        <p:cNvGrpSpPr/>
                        <p:nvPr/>
                      </p:nvGrpSpPr>
                      <p:grpSpPr>
                        <a:xfrm>
                          <a:off x="8081280" y="3882240"/>
                          <a:ext cx="36360" cy="17640"/>
                          <a:chOff x="8081280" y="3882240"/>
                          <a:chExt cx="36360" cy="17640"/>
                        </a:xfrm>
                      </p:grpSpPr>
                      <p:grpSp>
                        <p:nvGrpSpPr>
                          <p:cNvPr id="3653" name=""/>
                          <p:cNvGrpSpPr/>
                          <p:nvPr/>
                        </p:nvGrpSpPr>
                        <p:grpSpPr>
                          <a:xfrm>
                            <a:off x="8081280" y="3882240"/>
                            <a:ext cx="21600" cy="17640"/>
                            <a:chOff x="8081280" y="3882240"/>
                            <a:chExt cx="21600" cy="17640"/>
                          </a:xfrm>
                        </p:grpSpPr>
                        <p:grpSp>
                          <p:nvGrpSpPr>
                            <p:cNvPr id="3654" name=""/>
                            <p:cNvGrpSpPr/>
                            <p:nvPr/>
                          </p:nvGrpSpPr>
                          <p:grpSpPr>
                            <a:xfrm>
                              <a:off x="8081280" y="3882240"/>
                              <a:ext cx="16200" cy="17640"/>
                              <a:chOff x="8081280" y="3882240"/>
                              <a:chExt cx="16200" cy="17640"/>
                            </a:xfrm>
                          </p:grpSpPr>
                          <p:sp>
                            <p:nvSpPr>
                              <p:cNvPr id="3655" name=""/>
                              <p:cNvSpPr/>
                              <p:nvPr/>
                            </p:nvSpPr>
                            <p:spPr>
                              <a:xfrm>
                                <a:off x="80812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6" name=""/>
                              <p:cNvSpPr/>
                              <p:nvPr/>
                            </p:nvSpPr>
                            <p:spPr>
                              <a:xfrm>
                                <a:off x="808596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57" name=""/>
                            <p:cNvGrpSpPr/>
                            <p:nvPr/>
                          </p:nvGrpSpPr>
                          <p:grpSpPr>
                            <a:xfrm>
                              <a:off x="8091000" y="3882240"/>
                              <a:ext cx="11880" cy="17640"/>
                              <a:chOff x="8091000" y="3882240"/>
                              <a:chExt cx="11880" cy="17640"/>
                            </a:xfrm>
                          </p:grpSpPr>
                          <p:sp>
                            <p:nvSpPr>
                              <p:cNvPr id="3658" name=""/>
                              <p:cNvSpPr/>
                              <p:nvPr/>
                            </p:nvSpPr>
                            <p:spPr>
                              <a:xfrm>
                                <a:off x="8091000" y="38822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9" name=""/>
                              <p:cNvSpPr/>
                              <p:nvPr/>
                            </p:nvSpPr>
                            <p:spPr>
                              <a:xfrm>
                                <a:off x="80964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60" name=""/>
                          <p:cNvGrpSpPr/>
                          <p:nvPr/>
                        </p:nvGrpSpPr>
                        <p:grpSpPr>
                          <a:xfrm>
                            <a:off x="8101440" y="3882240"/>
                            <a:ext cx="16200" cy="17640"/>
                            <a:chOff x="8101440" y="3882240"/>
                            <a:chExt cx="16200" cy="17640"/>
                          </a:xfrm>
                        </p:grpSpPr>
                        <p:grpSp>
                          <p:nvGrpSpPr>
                            <p:cNvPr id="3661" name=""/>
                            <p:cNvGrpSpPr/>
                            <p:nvPr/>
                          </p:nvGrpSpPr>
                          <p:grpSpPr>
                            <a:xfrm>
                              <a:off x="8101440" y="3882240"/>
                              <a:ext cx="16200" cy="17640"/>
                              <a:chOff x="8101440" y="3882240"/>
                              <a:chExt cx="16200" cy="17640"/>
                            </a:xfrm>
                          </p:grpSpPr>
                          <p:sp>
                            <p:nvSpPr>
                              <p:cNvPr id="3662" name=""/>
                              <p:cNvSpPr/>
                              <p:nvPr/>
                            </p:nvSpPr>
                            <p:spPr>
                              <a:xfrm>
                                <a:off x="81014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63" name=""/>
                              <p:cNvSpPr/>
                              <p:nvPr/>
                            </p:nvSpPr>
                            <p:spPr>
                              <a:xfrm>
                                <a:off x="81061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64" name=""/>
                            <p:cNvGrpSpPr/>
                            <p:nvPr/>
                          </p:nvGrpSpPr>
                          <p:grpSpPr>
                            <a:xfrm>
                              <a:off x="8111520" y="3882240"/>
                              <a:ext cx="5400" cy="17640"/>
                              <a:chOff x="8111520" y="3882240"/>
                              <a:chExt cx="5400" cy="17640"/>
                            </a:xfrm>
                          </p:grpSpPr>
                          <p:sp>
                            <p:nvSpPr>
                              <p:cNvPr id="3665" name=""/>
                              <p:cNvSpPr/>
                              <p:nvPr/>
                            </p:nvSpPr>
                            <p:spPr>
                              <a:xfrm>
                                <a:off x="811152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66" name=""/>
                              <p:cNvSpPr/>
                              <p:nvPr/>
                            </p:nvSpPr>
                            <p:spPr>
                              <a:xfrm>
                                <a:off x="81162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667" name=""/>
                      <p:cNvGrpSpPr/>
                      <p:nvPr/>
                    </p:nvGrpSpPr>
                    <p:grpSpPr>
                      <a:xfrm>
                        <a:off x="8121240" y="3882240"/>
                        <a:ext cx="80640" cy="17640"/>
                        <a:chOff x="8121240" y="3882240"/>
                        <a:chExt cx="80640" cy="17640"/>
                      </a:xfrm>
                    </p:grpSpPr>
                    <p:grpSp>
                      <p:nvGrpSpPr>
                        <p:cNvPr id="3668" name=""/>
                        <p:cNvGrpSpPr/>
                        <p:nvPr/>
                      </p:nvGrpSpPr>
                      <p:grpSpPr>
                        <a:xfrm>
                          <a:off x="8121240" y="3882240"/>
                          <a:ext cx="45720" cy="17640"/>
                          <a:chOff x="8121240" y="3882240"/>
                          <a:chExt cx="45720" cy="17640"/>
                        </a:xfrm>
                      </p:grpSpPr>
                      <p:grpSp>
                        <p:nvGrpSpPr>
                          <p:cNvPr id="3669" name=""/>
                          <p:cNvGrpSpPr/>
                          <p:nvPr/>
                        </p:nvGrpSpPr>
                        <p:grpSpPr>
                          <a:xfrm>
                            <a:off x="8121240" y="3882240"/>
                            <a:ext cx="16200" cy="17640"/>
                            <a:chOff x="8121240" y="3882240"/>
                            <a:chExt cx="16200" cy="17640"/>
                          </a:xfrm>
                        </p:grpSpPr>
                        <p:grpSp>
                          <p:nvGrpSpPr>
                            <p:cNvPr id="3670" name=""/>
                            <p:cNvGrpSpPr/>
                            <p:nvPr/>
                          </p:nvGrpSpPr>
                          <p:grpSpPr>
                            <a:xfrm>
                              <a:off x="8121240" y="3882240"/>
                              <a:ext cx="16200" cy="17640"/>
                              <a:chOff x="8121240" y="3882240"/>
                              <a:chExt cx="16200" cy="17640"/>
                            </a:xfrm>
                          </p:grpSpPr>
                          <p:sp>
                            <p:nvSpPr>
                              <p:cNvPr id="3671" name=""/>
                              <p:cNvSpPr/>
                              <p:nvPr/>
                            </p:nvSpPr>
                            <p:spPr>
                              <a:xfrm>
                                <a:off x="81212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2" name=""/>
                              <p:cNvSpPr/>
                              <p:nvPr/>
                            </p:nvSpPr>
                            <p:spPr>
                              <a:xfrm>
                                <a:off x="81259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73" name=""/>
                            <p:cNvGrpSpPr/>
                            <p:nvPr/>
                          </p:nvGrpSpPr>
                          <p:grpSpPr>
                            <a:xfrm>
                              <a:off x="8131320" y="3882240"/>
                              <a:ext cx="4320" cy="17640"/>
                              <a:chOff x="8131320" y="3882240"/>
                              <a:chExt cx="4320" cy="17640"/>
                            </a:xfrm>
                          </p:grpSpPr>
                          <p:sp>
                            <p:nvSpPr>
                              <p:cNvPr id="3674" name=""/>
                              <p:cNvSpPr/>
                              <p:nvPr/>
                            </p:nvSpPr>
                            <p:spPr>
                              <a:xfrm>
                                <a:off x="813132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5" name=""/>
                              <p:cNvSpPr/>
                              <p:nvPr/>
                            </p:nvSpPr>
                            <p:spPr>
                              <a:xfrm>
                                <a:off x="81352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76" name=""/>
                          <p:cNvGrpSpPr/>
                          <p:nvPr/>
                        </p:nvGrpSpPr>
                        <p:grpSpPr>
                          <a:xfrm>
                            <a:off x="8141760" y="3882240"/>
                            <a:ext cx="25200" cy="17640"/>
                            <a:chOff x="8141760" y="3882240"/>
                            <a:chExt cx="25200" cy="17640"/>
                          </a:xfrm>
                        </p:grpSpPr>
                        <p:grpSp>
                          <p:nvGrpSpPr>
                            <p:cNvPr id="3677" name=""/>
                            <p:cNvGrpSpPr/>
                            <p:nvPr/>
                          </p:nvGrpSpPr>
                          <p:grpSpPr>
                            <a:xfrm>
                              <a:off x="8141760" y="3882240"/>
                              <a:ext cx="4320" cy="17640"/>
                              <a:chOff x="8141760" y="3882240"/>
                              <a:chExt cx="4320" cy="17640"/>
                            </a:xfrm>
                          </p:grpSpPr>
                          <p:sp>
                            <p:nvSpPr>
                              <p:cNvPr id="3678" name=""/>
                              <p:cNvSpPr/>
                              <p:nvPr/>
                            </p:nvSpPr>
                            <p:spPr>
                              <a:xfrm>
                                <a:off x="814176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9" name=""/>
                              <p:cNvSpPr/>
                              <p:nvPr/>
                            </p:nvSpPr>
                            <p:spPr>
                              <a:xfrm>
                                <a:off x="81457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80" name=""/>
                            <p:cNvGrpSpPr/>
                            <p:nvPr/>
                          </p:nvGrpSpPr>
                          <p:grpSpPr>
                            <a:xfrm>
                              <a:off x="8151480" y="3882240"/>
                              <a:ext cx="15480" cy="17640"/>
                              <a:chOff x="8151480" y="3882240"/>
                              <a:chExt cx="15480" cy="17640"/>
                            </a:xfrm>
                          </p:grpSpPr>
                          <p:sp>
                            <p:nvSpPr>
                              <p:cNvPr id="3681" name=""/>
                              <p:cNvSpPr/>
                              <p:nvPr/>
                            </p:nvSpPr>
                            <p:spPr>
                              <a:xfrm>
                                <a:off x="81514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82" name=""/>
                              <p:cNvSpPr/>
                              <p:nvPr/>
                            </p:nvSpPr>
                            <p:spPr>
                              <a:xfrm>
                                <a:off x="815544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683" name=""/>
                        <p:cNvGrpSpPr/>
                        <p:nvPr/>
                      </p:nvGrpSpPr>
                      <p:grpSpPr>
                        <a:xfrm>
                          <a:off x="8161200" y="3882240"/>
                          <a:ext cx="40680" cy="17640"/>
                          <a:chOff x="8161200" y="3882240"/>
                          <a:chExt cx="40680" cy="17640"/>
                        </a:xfrm>
                      </p:grpSpPr>
                      <p:grpSp>
                        <p:nvGrpSpPr>
                          <p:cNvPr id="3684" name=""/>
                          <p:cNvGrpSpPr/>
                          <p:nvPr/>
                        </p:nvGrpSpPr>
                        <p:grpSpPr>
                          <a:xfrm>
                            <a:off x="8161200" y="3882240"/>
                            <a:ext cx="15480" cy="17640"/>
                            <a:chOff x="8161200" y="3882240"/>
                            <a:chExt cx="15480" cy="17640"/>
                          </a:xfrm>
                        </p:grpSpPr>
                        <p:grpSp>
                          <p:nvGrpSpPr>
                            <p:cNvPr id="3685" name=""/>
                            <p:cNvGrpSpPr/>
                            <p:nvPr/>
                          </p:nvGrpSpPr>
                          <p:grpSpPr>
                            <a:xfrm>
                              <a:off x="8161200" y="3882240"/>
                              <a:ext cx="5040" cy="17640"/>
                              <a:chOff x="8161200" y="3882240"/>
                              <a:chExt cx="5040" cy="17640"/>
                            </a:xfrm>
                          </p:grpSpPr>
                          <p:sp>
                            <p:nvSpPr>
                              <p:cNvPr id="3686" name=""/>
                              <p:cNvSpPr/>
                              <p:nvPr/>
                            </p:nvSpPr>
                            <p:spPr>
                              <a:xfrm>
                                <a:off x="81612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87" name=""/>
                              <p:cNvSpPr/>
                              <p:nvPr/>
                            </p:nvSpPr>
                            <p:spPr>
                              <a:xfrm>
                                <a:off x="81658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88" name=""/>
                            <p:cNvGrpSpPr/>
                            <p:nvPr/>
                          </p:nvGrpSpPr>
                          <p:grpSpPr>
                            <a:xfrm>
                              <a:off x="8171640" y="3882240"/>
                              <a:ext cx="5040" cy="17640"/>
                              <a:chOff x="8171640" y="3882240"/>
                              <a:chExt cx="5040" cy="17640"/>
                            </a:xfrm>
                          </p:grpSpPr>
                          <p:sp>
                            <p:nvSpPr>
                              <p:cNvPr id="3689" name=""/>
                              <p:cNvSpPr/>
                              <p:nvPr/>
                            </p:nvSpPr>
                            <p:spPr>
                              <a:xfrm>
                                <a:off x="817164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90" name=""/>
                              <p:cNvSpPr/>
                              <p:nvPr/>
                            </p:nvSpPr>
                            <p:spPr>
                              <a:xfrm>
                                <a:off x="8176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91" name=""/>
                          <p:cNvGrpSpPr/>
                          <p:nvPr/>
                        </p:nvGrpSpPr>
                        <p:grpSpPr>
                          <a:xfrm>
                            <a:off x="8181000" y="3882240"/>
                            <a:ext cx="20880" cy="17640"/>
                            <a:chOff x="8181000" y="3882240"/>
                            <a:chExt cx="20880" cy="17640"/>
                          </a:xfrm>
                        </p:grpSpPr>
                        <p:grpSp>
                          <p:nvGrpSpPr>
                            <p:cNvPr id="3692" name=""/>
                            <p:cNvGrpSpPr/>
                            <p:nvPr/>
                          </p:nvGrpSpPr>
                          <p:grpSpPr>
                            <a:xfrm>
                              <a:off x="8181000" y="3882240"/>
                              <a:ext cx="16920" cy="17640"/>
                              <a:chOff x="8181000" y="3882240"/>
                              <a:chExt cx="16920" cy="17640"/>
                            </a:xfrm>
                          </p:grpSpPr>
                          <p:sp>
                            <p:nvSpPr>
                              <p:cNvPr id="3693" name=""/>
                              <p:cNvSpPr/>
                              <p:nvPr/>
                            </p:nvSpPr>
                            <p:spPr>
                              <a:xfrm>
                                <a:off x="81810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94" name=""/>
                              <p:cNvSpPr/>
                              <p:nvPr/>
                            </p:nvSpPr>
                            <p:spPr>
                              <a:xfrm>
                                <a:off x="818640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95" name=""/>
                            <p:cNvGrpSpPr/>
                            <p:nvPr/>
                          </p:nvGrpSpPr>
                          <p:grpSpPr>
                            <a:xfrm>
                              <a:off x="8190360" y="3882240"/>
                              <a:ext cx="11520" cy="17640"/>
                              <a:chOff x="8190360" y="3882240"/>
                              <a:chExt cx="11520" cy="17640"/>
                            </a:xfrm>
                          </p:grpSpPr>
                          <p:sp>
                            <p:nvSpPr>
                              <p:cNvPr id="3696" name=""/>
                              <p:cNvSpPr/>
                              <p:nvPr/>
                            </p:nvSpPr>
                            <p:spPr>
                              <a:xfrm>
                                <a:off x="819036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97" name=""/>
                              <p:cNvSpPr/>
                              <p:nvPr/>
                            </p:nvSpPr>
                            <p:spPr>
                              <a:xfrm>
                                <a:off x="819576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3698" name=""/>
                    <p:cNvGrpSpPr/>
                    <p:nvPr/>
                  </p:nvGrpSpPr>
                  <p:grpSpPr>
                    <a:xfrm>
                      <a:off x="8201520" y="3882240"/>
                      <a:ext cx="166320" cy="17640"/>
                      <a:chOff x="8201520" y="3882240"/>
                      <a:chExt cx="166320" cy="17640"/>
                    </a:xfrm>
                  </p:grpSpPr>
                  <p:grpSp>
                    <p:nvGrpSpPr>
                      <p:cNvPr id="3699" name=""/>
                      <p:cNvGrpSpPr/>
                      <p:nvPr/>
                    </p:nvGrpSpPr>
                    <p:grpSpPr>
                      <a:xfrm>
                        <a:off x="8201520" y="3882240"/>
                        <a:ext cx="85680" cy="17640"/>
                        <a:chOff x="8201520" y="3882240"/>
                        <a:chExt cx="85680" cy="17640"/>
                      </a:xfrm>
                    </p:grpSpPr>
                    <p:grpSp>
                      <p:nvGrpSpPr>
                        <p:cNvPr id="3700" name=""/>
                        <p:cNvGrpSpPr/>
                        <p:nvPr/>
                      </p:nvGrpSpPr>
                      <p:grpSpPr>
                        <a:xfrm>
                          <a:off x="8201520" y="3882240"/>
                          <a:ext cx="36000" cy="17640"/>
                          <a:chOff x="8201520" y="3882240"/>
                          <a:chExt cx="36000" cy="17640"/>
                        </a:xfrm>
                      </p:grpSpPr>
                      <p:grpSp>
                        <p:nvGrpSpPr>
                          <p:cNvPr id="3701" name=""/>
                          <p:cNvGrpSpPr/>
                          <p:nvPr/>
                        </p:nvGrpSpPr>
                        <p:grpSpPr>
                          <a:xfrm>
                            <a:off x="8201520" y="3882240"/>
                            <a:ext cx="15480" cy="17640"/>
                            <a:chOff x="8201520" y="3882240"/>
                            <a:chExt cx="15480" cy="17640"/>
                          </a:xfrm>
                        </p:grpSpPr>
                        <p:grpSp>
                          <p:nvGrpSpPr>
                            <p:cNvPr id="3702" name=""/>
                            <p:cNvGrpSpPr/>
                            <p:nvPr/>
                          </p:nvGrpSpPr>
                          <p:grpSpPr>
                            <a:xfrm>
                              <a:off x="8201520" y="3882240"/>
                              <a:ext cx="5040" cy="17640"/>
                              <a:chOff x="8201520" y="3882240"/>
                              <a:chExt cx="5040" cy="17640"/>
                            </a:xfrm>
                          </p:grpSpPr>
                          <p:sp>
                            <p:nvSpPr>
                              <p:cNvPr id="3703" name=""/>
                              <p:cNvSpPr/>
                              <p:nvPr/>
                            </p:nvSpPr>
                            <p:spPr>
                              <a:xfrm>
                                <a:off x="82015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04" name=""/>
                              <p:cNvSpPr/>
                              <p:nvPr/>
                            </p:nvSpPr>
                            <p:spPr>
                              <a:xfrm>
                                <a:off x="82062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05" name=""/>
                            <p:cNvGrpSpPr/>
                            <p:nvPr/>
                          </p:nvGrpSpPr>
                          <p:grpSpPr>
                            <a:xfrm>
                              <a:off x="8211960" y="3882240"/>
                              <a:ext cx="5040" cy="17640"/>
                              <a:chOff x="8211960" y="3882240"/>
                              <a:chExt cx="5040" cy="17640"/>
                            </a:xfrm>
                          </p:grpSpPr>
                          <p:sp>
                            <p:nvSpPr>
                              <p:cNvPr id="3706" name=""/>
                              <p:cNvSpPr/>
                              <p:nvPr/>
                            </p:nvSpPr>
                            <p:spPr>
                              <a:xfrm>
                                <a:off x="821196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07" name=""/>
                              <p:cNvSpPr/>
                              <p:nvPr/>
                            </p:nvSpPr>
                            <p:spPr>
                              <a:xfrm>
                                <a:off x="821664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08" name=""/>
                          <p:cNvGrpSpPr/>
                          <p:nvPr/>
                        </p:nvGrpSpPr>
                        <p:grpSpPr>
                          <a:xfrm>
                            <a:off x="8221320" y="3882240"/>
                            <a:ext cx="16200" cy="17640"/>
                            <a:chOff x="8221320" y="3882240"/>
                            <a:chExt cx="16200" cy="17640"/>
                          </a:xfrm>
                        </p:grpSpPr>
                        <p:grpSp>
                          <p:nvGrpSpPr>
                            <p:cNvPr id="3709" name=""/>
                            <p:cNvGrpSpPr/>
                            <p:nvPr/>
                          </p:nvGrpSpPr>
                          <p:grpSpPr>
                            <a:xfrm>
                              <a:off x="8221320" y="3882240"/>
                              <a:ext cx="16200" cy="17640"/>
                              <a:chOff x="8221320" y="3882240"/>
                              <a:chExt cx="16200" cy="17640"/>
                            </a:xfrm>
                          </p:grpSpPr>
                          <p:sp>
                            <p:nvSpPr>
                              <p:cNvPr id="3710" name=""/>
                              <p:cNvSpPr/>
                              <p:nvPr/>
                            </p:nvSpPr>
                            <p:spPr>
                              <a:xfrm>
                                <a:off x="8221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1" name=""/>
                              <p:cNvSpPr/>
                              <p:nvPr/>
                            </p:nvSpPr>
                            <p:spPr>
                              <a:xfrm>
                                <a:off x="822600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12" name=""/>
                            <p:cNvGrpSpPr/>
                            <p:nvPr/>
                          </p:nvGrpSpPr>
                          <p:grpSpPr>
                            <a:xfrm>
                              <a:off x="8231400" y="3882240"/>
                              <a:ext cx="5040" cy="17640"/>
                              <a:chOff x="8231400" y="3882240"/>
                              <a:chExt cx="5040" cy="17640"/>
                            </a:xfrm>
                          </p:grpSpPr>
                          <p:sp>
                            <p:nvSpPr>
                              <p:cNvPr id="3713" name=""/>
                              <p:cNvSpPr/>
                              <p:nvPr/>
                            </p:nvSpPr>
                            <p:spPr>
                              <a:xfrm>
                                <a:off x="82314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4" name=""/>
                              <p:cNvSpPr/>
                              <p:nvPr/>
                            </p:nvSpPr>
                            <p:spPr>
                              <a:xfrm>
                                <a:off x="82360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715" name=""/>
                        <p:cNvGrpSpPr/>
                        <p:nvPr/>
                      </p:nvGrpSpPr>
                      <p:grpSpPr>
                        <a:xfrm>
                          <a:off x="8241120" y="3882240"/>
                          <a:ext cx="46080" cy="17640"/>
                          <a:chOff x="8241120" y="3882240"/>
                          <a:chExt cx="46080" cy="17640"/>
                        </a:xfrm>
                      </p:grpSpPr>
                      <p:grpSp>
                        <p:nvGrpSpPr>
                          <p:cNvPr id="3716" name=""/>
                          <p:cNvGrpSpPr/>
                          <p:nvPr/>
                        </p:nvGrpSpPr>
                        <p:grpSpPr>
                          <a:xfrm>
                            <a:off x="8241120" y="3882240"/>
                            <a:ext cx="16200" cy="17640"/>
                            <a:chOff x="8241120" y="3882240"/>
                            <a:chExt cx="16200" cy="17640"/>
                          </a:xfrm>
                        </p:grpSpPr>
                        <p:grpSp>
                          <p:nvGrpSpPr>
                            <p:cNvPr id="3717" name=""/>
                            <p:cNvGrpSpPr/>
                            <p:nvPr/>
                          </p:nvGrpSpPr>
                          <p:grpSpPr>
                            <a:xfrm>
                              <a:off x="8241120" y="3882240"/>
                              <a:ext cx="16200" cy="17640"/>
                              <a:chOff x="8241120" y="3882240"/>
                              <a:chExt cx="16200" cy="17640"/>
                            </a:xfrm>
                          </p:grpSpPr>
                          <p:sp>
                            <p:nvSpPr>
                              <p:cNvPr id="3718" name=""/>
                              <p:cNvSpPr/>
                              <p:nvPr/>
                            </p:nvSpPr>
                            <p:spPr>
                              <a:xfrm>
                                <a:off x="82411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9" name=""/>
                              <p:cNvSpPr/>
                              <p:nvPr/>
                            </p:nvSpPr>
                            <p:spPr>
                              <a:xfrm>
                                <a:off x="824580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20" name=""/>
                            <p:cNvGrpSpPr/>
                            <p:nvPr/>
                          </p:nvGrpSpPr>
                          <p:grpSpPr>
                            <a:xfrm>
                              <a:off x="8251560" y="3882240"/>
                              <a:ext cx="5400" cy="17640"/>
                              <a:chOff x="8251560" y="3882240"/>
                              <a:chExt cx="5400" cy="17640"/>
                            </a:xfrm>
                          </p:grpSpPr>
                          <p:sp>
                            <p:nvSpPr>
                              <p:cNvPr id="3721" name=""/>
                              <p:cNvSpPr/>
                              <p:nvPr/>
                            </p:nvSpPr>
                            <p:spPr>
                              <a:xfrm>
                                <a:off x="825156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2" name=""/>
                              <p:cNvSpPr/>
                              <p:nvPr/>
                            </p:nvSpPr>
                            <p:spPr>
                              <a:xfrm>
                                <a:off x="82562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23" name=""/>
                          <p:cNvGrpSpPr/>
                          <p:nvPr/>
                        </p:nvGrpSpPr>
                        <p:grpSpPr>
                          <a:xfrm>
                            <a:off x="8260920" y="3882240"/>
                            <a:ext cx="26280" cy="17640"/>
                            <a:chOff x="8260920" y="3882240"/>
                            <a:chExt cx="26280" cy="17640"/>
                          </a:xfrm>
                        </p:grpSpPr>
                        <p:grpSp>
                          <p:nvGrpSpPr>
                            <p:cNvPr id="3724" name=""/>
                            <p:cNvGrpSpPr/>
                            <p:nvPr/>
                          </p:nvGrpSpPr>
                          <p:grpSpPr>
                            <a:xfrm>
                              <a:off x="8260920" y="3882240"/>
                              <a:ext cx="11520" cy="17640"/>
                              <a:chOff x="8260920" y="3882240"/>
                              <a:chExt cx="11520" cy="17640"/>
                            </a:xfrm>
                          </p:grpSpPr>
                          <p:sp>
                            <p:nvSpPr>
                              <p:cNvPr id="3725" name=""/>
                              <p:cNvSpPr/>
                              <p:nvPr/>
                            </p:nvSpPr>
                            <p:spPr>
                              <a:xfrm>
                                <a:off x="82609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6" name=""/>
                              <p:cNvSpPr/>
                              <p:nvPr/>
                            </p:nvSpPr>
                            <p:spPr>
                              <a:xfrm>
                                <a:off x="8266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27" name=""/>
                            <p:cNvGrpSpPr/>
                            <p:nvPr/>
                          </p:nvGrpSpPr>
                          <p:grpSpPr>
                            <a:xfrm>
                              <a:off x="8270280" y="3882240"/>
                              <a:ext cx="16920" cy="17640"/>
                              <a:chOff x="8270280" y="3882240"/>
                              <a:chExt cx="16920" cy="17640"/>
                            </a:xfrm>
                          </p:grpSpPr>
                          <p:sp>
                            <p:nvSpPr>
                              <p:cNvPr id="3728" name=""/>
                              <p:cNvSpPr/>
                              <p:nvPr/>
                            </p:nvSpPr>
                            <p:spPr>
                              <a:xfrm>
                                <a:off x="82702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9" name=""/>
                              <p:cNvSpPr/>
                              <p:nvPr/>
                            </p:nvSpPr>
                            <p:spPr>
                              <a:xfrm>
                                <a:off x="82756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730" name=""/>
                      <p:cNvGrpSpPr/>
                      <p:nvPr/>
                    </p:nvGrpSpPr>
                    <p:grpSpPr>
                      <a:xfrm>
                        <a:off x="8281440" y="3882240"/>
                        <a:ext cx="86400" cy="17640"/>
                        <a:chOff x="8281440" y="3882240"/>
                        <a:chExt cx="86400" cy="17640"/>
                      </a:xfrm>
                    </p:grpSpPr>
                    <p:grpSp>
                      <p:nvGrpSpPr>
                        <p:cNvPr id="3731" name=""/>
                        <p:cNvGrpSpPr/>
                        <p:nvPr/>
                      </p:nvGrpSpPr>
                      <p:grpSpPr>
                        <a:xfrm>
                          <a:off x="8281440" y="3882240"/>
                          <a:ext cx="41400" cy="17640"/>
                          <a:chOff x="8281440" y="3882240"/>
                          <a:chExt cx="41400" cy="17640"/>
                        </a:xfrm>
                      </p:grpSpPr>
                      <p:grpSp>
                        <p:nvGrpSpPr>
                          <p:cNvPr id="3732" name=""/>
                          <p:cNvGrpSpPr/>
                          <p:nvPr/>
                        </p:nvGrpSpPr>
                        <p:grpSpPr>
                          <a:xfrm>
                            <a:off x="8281440" y="3882240"/>
                            <a:ext cx="21600" cy="17640"/>
                            <a:chOff x="8281440" y="3882240"/>
                            <a:chExt cx="21600" cy="17640"/>
                          </a:xfrm>
                        </p:grpSpPr>
                        <p:grpSp>
                          <p:nvGrpSpPr>
                            <p:cNvPr id="3733" name=""/>
                            <p:cNvGrpSpPr/>
                            <p:nvPr/>
                          </p:nvGrpSpPr>
                          <p:grpSpPr>
                            <a:xfrm>
                              <a:off x="8281440" y="3882240"/>
                              <a:ext cx="16200" cy="17640"/>
                              <a:chOff x="8281440" y="3882240"/>
                              <a:chExt cx="16200" cy="17640"/>
                            </a:xfrm>
                          </p:grpSpPr>
                          <p:sp>
                            <p:nvSpPr>
                              <p:cNvPr id="3734" name=""/>
                              <p:cNvSpPr/>
                              <p:nvPr/>
                            </p:nvSpPr>
                            <p:spPr>
                              <a:xfrm>
                                <a:off x="828144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5" name=""/>
                              <p:cNvSpPr/>
                              <p:nvPr/>
                            </p:nvSpPr>
                            <p:spPr>
                              <a:xfrm>
                                <a:off x="82861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36" name=""/>
                            <p:cNvGrpSpPr/>
                            <p:nvPr/>
                          </p:nvGrpSpPr>
                          <p:grpSpPr>
                            <a:xfrm>
                              <a:off x="8291520" y="3882240"/>
                              <a:ext cx="11520" cy="17640"/>
                              <a:chOff x="8291520" y="3882240"/>
                              <a:chExt cx="11520" cy="17640"/>
                            </a:xfrm>
                          </p:grpSpPr>
                          <p:sp>
                            <p:nvSpPr>
                              <p:cNvPr id="3737" name=""/>
                              <p:cNvSpPr/>
                              <p:nvPr/>
                            </p:nvSpPr>
                            <p:spPr>
                              <a:xfrm>
                                <a:off x="82915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8" name=""/>
                              <p:cNvSpPr/>
                              <p:nvPr/>
                            </p:nvSpPr>
                            <p:spPr>
                              <a:xfrm>
                                <a:off x="82962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39" name=""/>
                          <p:cNvGrpSpPr/>
                          <p:nvPr/>
                        </p:nvGrpSpPr>
                        <p:grpSpPr>
                          <a:xfrm>
                            <a:off x="8301240" y="3882240"/>
                            <a:ext cx="21600" cy="17640"/>
                            <a:chOff x="8301240" y="3882240"/>
                            <a:chExt cx="21600" cy="17640"/>
                          </a:xfrm>
                        </p:grpSpPr>
                        <p:grpSp>
                          <p:nvGrpSpPr>
                            <p:cNvPr id="3740" name=""/>
                            <p:cNvGrpSpPr/>
                            <p:nvPr/>
                          </p:nvGrpSpPr>
                          <p:grpSpPr>
                            <a:xfrm>
                              <a:off x="8301240" y="3882240"/>
                              <a:ext cx="16200" cy="17640"/>
                              <a:chOff x="8301240" y="3882240"/>
                              <a:chExt cx="16200" cy="17640"/>
                            </a:xfrm>
                          </p:grpSpPr>
                          <p:sp>
                            <p:nvSpPr>
                              <p:cNvPr id="3741" name=""/>
                              <p:cNvSpPr/>
                              <p:nvPr/>
                            </p:nvSpPr>
                            <p:spPr>
                              <a:xfrm>
                                <a:off x="83012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42" name=""/>
                              <p:cNvSpPr/>
                              <p:nvPr/>
                            </p:nvSpPr>
                            <p:spPr>
                              <a:xfrm>
                                <a:off x="83059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43" name=""/>
                            <p:cNvGrpSpPr/>
                            <p:nvPr/>
                          </p:nvGrpSpPr>
                          <p:grpSpPr>
                            <a:xfrm>
                              <a:off x="8311320" y="3882240"/>
                              <a:ext cx="11520" cy="17640"/>
                              <a:chOff x="8311320" y="3882240"/>
                              <a:chExt cx="11520" cy="17640"/>
                            </a:xfrm>
                          </p:grpSpPr>
                          <p:sp>
                            <p:nvSpPr>
                              <p:cNvPr id="3744" name=""/>
                              <p:cNvSpPr/>
                              <p:nvPr/>
                            </p:nvSpPr>
                            <p:spPr>
                              <a:xfrm>
                                <a:off x="83113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45" name=""/>
                              <p:cNvSpPr/>
                              <p:nvPr/>
                            </p:nvSpPr>
                            <p:spPr>
                              <a:xfrm>
                                <a:off x="83160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746" name=""/>
                        <p:cNvGrpSpPr/>
                        <p:nvPr/>
                      </p:nvGrpSpPr>
                      <p:grpSpPr>
                        <a:xfrm>
                          <a:off x="8322120" y="3882240"/>
                          <a:ext cx="45720" cy="17640"/>
                          <a:chOff x="8322120" y="3882240"/>
                          <a:chExt cx="45720" cy="17640"/>
                        </a:xfrm>
                      </p:grpSpPr>
                      <p:grpSp>
                        <p:nvGrpSpPr>
                          <p:cNvPr id="3747" name=""/>
                          <p:cNvGrpSpPr/>
                          <p:nvPr/>
                        </p:nvGrpSpPr>
                        <p:grpSpPr>
                          <a:xfrm>
                            <a:off x="8322120" y="3882240"/>
                            <a:ext cx="14760" cy="17640"/>
                            <a:chOff x="8322120" y="3882240"/>
                            <a:chExt cx="14760" cy="17640"/>
                          </a:xfrm>
                        </p:grpSpPr>
                        <p:grpSp>
                          <p:nvGrpSpPr>
                            <p:cNvPr id="3748" name=""/>
                            <p:cNvGrpSpPr/>
                            <p:nvPr/>
                          </p:nvGrpSpPr>
                          <p:grpSpPr>
                            <a:xfrm>
                              <a:off x="8322120" y="3882240"/>
                              <a:ext cx="4320" cy="17640"/>
                              <a:chOff x="8322120" y="3882240"/>
                              <a:chExt cx="4320" cy="17640"/>
                            </a:xfrm>
                          </p:grpSpPr>
                          <p:sp>
                            <p:nvSpPr>
                              <p:cNvPr id="3749" name=""/>
                              <p:cNvSpPr/>
                              <p:nvPr/>
                            </p:nvSpPr>
                            <p:spPr>
                              <a:xfrm>
                                <a:off x="832212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50" name=""/>
                              <p:cNvSpPr/>
                              <p:nvPr/>
                            </p:nvSpPr>
                            <p:spPr>
                              <a:xfrm>
                                <a:off x="83260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51" name=""/>
                            <p:cNvGrpSpPr/>
                            <p:nvPr/>
                          </p:nvGrpSpPr>
                          <p:grpSpPr>
                            <a:xfrm>
                              <a:off x="8331840" y="3882240"/>
                              <a:ext cx="5040" cy="17640"/>
                              <a:chOff x="8331840" y="3882240"/>
                              <a:chExt cx="5040" cy="17640"/>
                            </a:xfrm>
                          </p:grpSpPr>
                          <p:sp>
                            <p:nvSpPr>
                              <p:cNvPr id="3752" name=""/>
                              <p:cNvSpPr/>
                              <p:nvPr/>
                            </p:nvSpPr>
                            <p:spPr>
                              <a:xfrm>
                                <a:off x="83318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53" name=""/>
                              <p:cNvSpPr/>
                              <p:nvPr/>
                            </p:nvSpPr>
                            <p:spPr>
                              <a:xfrm>
                                <a:off x="83365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54" name=""/>
                          <p:cNvGrpSpPr/>
                          <p:nvPr/>
                        </p:nvGrpSpPr>
                        <p:grpSpPr>
                          <a:xfrm>
                            <a:off x="8341560" y="3882240"/>
                            <a:ext cx="26280" cy="17640"/>
                            <a:chOff x="8341560" y="3882240"/>
                            <a:chExt cx="26280" cy="17640"/>
                          </a:xfrm>
                        </p:grpSpPr>
                        <p:grpSp>
                          <p:nvGrpSpPr>
                            <p:cNvPr id="3755" name=""/>
                            <p:cNvGrpSpPr/>
                            <p:nvPr/>
                          </p:nvGrpSpPr>
                          <p:grpSpPr>
                            <a:xfrm>
                              <a:off x="8341560" y="3882240"/>
                              <a:ext cx="11520" cy="17640"/>
                              <a:chOff x="8341560" y="3882240"/>
                              <a:chExt cx="11520" cy="17640"/>
                            </a:xfrm>
                          </p:grpSpPr>
                          <p:sp>
                            <p:nvSpPr>
                              <p:cNvPr id="3756" name=""/>
                              <p:cNvSpPr/>
                              <p:nvPr/>
                            </p:nvSpPr>
                            <p:spPr>
                              <a:xfrm>
                                <a:off x="834156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57" name=""/>
                              <p:cNvSpPr/>
                              <p:nvPr/>
                            </p:nvSpPr>
                            <p:spPr>
                              <a:xfrm>
                                <a:off x="834696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58" name=""/>
                            <p:cNvGrpSpPr/>
                            <p:nvPr/>
                          </p:nvGrpSpPr>
                          <p:grpSpPr>
                            <a:xfrm>
                              <a:off x="8351640" y="3882240"/>
                              <a:ext cx="16200" cy="17640"/>
                              <a:chOff x="8351640" y="3882240"/>
                              <a:chExt cx="16200" cy="17640"/>
                            </a:xfrm>
                          </p:grpSpPr>
                          <p:sp>
                            <p:nvSpPr>
                              <p:cNvPr id="3759" name=""/>
                              <p:cNvSpPr/>
                              <p:nvPr/>
                            </p:nvSpPr>
                            <p:spPr>
                              <a:xfrm>
                                <a:off x="835164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60" name=""/>
                              <p:cNvSpPr/>
                              <p:nvPr/>
                            </p:nvSpPr>
                            <p:spPr>
                              <a:xfrm>
                                <a:off x="83563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761" name=""/>
                <p:cNvGrpSpPr/>
                <p:nvPr/>
              </p:nvGrpSpPr>
              <p:grpSpPr>
                <a:xfrm>
                  <a:off x="8038440" y="3822120"/>
                  <a:ext cx="315000" cy="41760"/>
                  <a:chOff x="8038440" y="3822120"/>
                  <a:chExt cx="315000" cy="41760"/>
                </a:xfrm>
              </p:grpSpPr>
              <p:sp>
                <p:nvSpPr>
                  <p:cNvPr id="3762" name=""/>
                  <p:cNvSpPr/>
                  <p:nvPr/>
                </p:nvSpPr>
                <p:spPr>
                  <a:xfrm>
                    <a:off x="8038440" y="38221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3" name=""/>
                  <p:cNvSpPr/>
                  <p:nvPr/>
                </p:nvSpPr>
                <p:spPr>
                  <a:xfrm>
                    <a:off x="8107920" y="38221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4" name=""/>
                  <p:cNvSpPr/>
                  <p:nvPr/>
                </p:nvSpPr>
                <p:spPr>
                  <a:xfrm>
                    <a:off x="8206200" y="38221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5" name=""/>
                  <p:cNvSpPr/>
                  <p:nvPr/>
                </p:nvSpPr>
                <p:spPr>
                  <a:xfrm>
                    <a:off x="8313480" y="38221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6" name=""/>
              <p:cNvGrpSpPr/>
              <p:nvPr/>
            </p:nvGrpSpPr>
            <p:grpSpPr>
              <a:xfrm>
                <a:off x="8318520" y="3827160"/>
                <a:ext cx="25200" cy="19440"/>
                <a:chOff x="8318520" y="3827160"/>
                <a:chExt cx="25200" cy="19440"/>
              </a:xfrm>
            </p:grpSpPr>
            <p:sp>
              <p:nvSpPr>
                <p:cNvPr id="3767" name=""/>
                <p:cNvSpPr/>
                <p:nvPr/>
              </p:nvSpPr>
              <p:spPr>
                <a:xfrm>
                  <a:off x="8332920" y="38271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8334720" y="38343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9" name=""/>
                <p:cNvGrpSpPr/>
                <p:nvPr/>
              </p:nvGrpSpPr>
              <p:grpSpPr>
                <a:xfrm>
                  <a:off x="8318520" y="3829680"/>
                  <a:ext cx="5400" cy="16920"/>
                  <a:chOff x="8318520" y="3829680"/>
                  <a:chExt cx="5400" cy="16920"/>
                </a:xfrm>
              </p:grpSpPr>
              <p:sp>
                <p:nvSpPr>
                  <p:cNvPr id="3770" name=""/>
                  <p:cNvSpPr/>
                  <p:nvPr/>
                </p:nvSpPr>
                <p:spPr>
                  <a:xfrm>
                    <a:off x="8318520" y="38296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>
                    <a:off x="8318520" y="38422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2" name=""/>
              <p:cNvGrpSpPr/>
              <p:nvPr/>
            </p:nvGrpSpPr>
            <p:grpSpPr>
              <a:xfrm>
                <a:off x="8111880" y="3828240"/>
                <a:ext cx="85680" cy="27720"/>
                <a:chOff x="8111880" y="3828240"/>
                <a:chExt cx="85680" cy="27720"/>
              </a:xfrm>
            </p:grpSpPr>
            <p:grpSp>
              <p:nvGrpSpPr>
                <p:cNvPr id="3773" name=""/>
                <p:cNvGrpSpPr/>
                <p:nvPr/>
              </p:nvGrpSpPr>
              <p:grpSpPr>
                <a:xfrm>
                  <a:off x="8112600" y="3828240"/>
                  <a:ext cx="84960" cy="15480"/>
                  <a:chOff x="8112600" y="3828240"/>
                  <a:chExt cx="84960" cy="15480"/>
                </a:xfrm>
              </p:grpSpPr>
              <p:sp>
                <p:nvSpPr>
                  <p:cNvPr id="3774" name=""/>
                  <p:cNvSpPr/>
                  <p:nvPr/>
                </p:nvSpPr>
                <p:spPr>
                  <a:xfrm>
                    <a:off x="8141040" y="38282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8141040" y="38358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>
                    <a:off x="8112600" y="38347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7" name=""/>
                <p:cNvSpPr/>
                <p:nvPr/>
              </p:nvSpPr>
              <p:spPr>
                <a:xfrm>
                  <a:off x="8111880" y="38296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8185320" y="38516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9" name=""/>
              <p:cNvGrpSpPr/>
              <p:nvPr/>
            </p:nvGrpSpPr>
            <p:grpSpPr>
              <a:xfrm>
                <a:off x="8042040" y="3854880"/>
                <a:ext cx="67320" cy="9360"/>
                <a:chOff x="8042040" y="3854880"/>
                <a:chExt cx="67320" cy="9360"/>
              </a:xfrm>
            </p:grpSpPr>
            <p:grpSp>
              <p:nvGrpSpPr>
                <p:cNvPr id="3780" name=""/>
                <p:cNvGrpSpPr/>
                <p:nvPr/>
              </p:nvGrpSpPr>
              <p:grpSpPr>
                <a:xfrm>
                  <a:off x="8042040" y="3854880"/>
                  <a:ext cx="37080" cy="9360"/>
                  <a:chOff x="8042040" y="3854880"/>
                  <a:chExt cx="37080" cy="9360"/>
                </a:xfrm>
              </p:grpSpPr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8042040" y="3854880"/>
                    <a:ext cx="23040" cy="9360"/>
                    <a:chOff x="8042040" y="3854880"/>
                    <a:chExt cx="23040" cy="9360"/>
                  </a:xfrm>
                </p:grpSpPr>
                <p:grpSp>
                  <p:nvGrpSpPr>
                    <p:cNvPr id="3782" name=""/>
                    <p:cNvGrpSpPr/>
                    <p:nvPr/>
                  </p:nvGrpSpPr>
                  <p:grpSpPr>
                    <a:xfrm>
                      <a:off x="8042040" y="3854880"/>
                      <a:ext cx="14760" cy="9360"/>
                      <a:chOff x="8042040" y="3854880"/>
                      <a:chExt cx="14760" cy="9360"/>
                    </a:xfrm>
                  </p:grpSpPr>
                  <p:sp>
                    <p:nvSpPr>
                      <p:cNvPr id="3783" name=""/>
                      <p:cNvSpPr/>
                      <p:nvPr/>
                    </p:nvSpPr>
                    <p:spPr>
                      <a:xfrm>
                        <a:off x="80420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4" name=""/>
                      <p:cNvSpPr/>
                      <p:nvPr/>
                    </p:nvSpPr>
                    <p:spPr>
                      <a:xfrm>
                        <a:off x="804528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85" name=""/>
                    <p:cNvGrpSpPr/>
                    <p:nvPr/>
                  </p:nvGrpSpPr>
                  <p:grpSpPr>
                    <a:xfrm>
                      <a:off x="8048880" y="3854880"/>
                      <a:ext cx="16200" cy="9360"/>
                      <a:chOff x="8048880" y="3854880"/>
                      <a:chExt cx="16200" cy="9360"/>
                    </a:xfrm>
                  </p:grpSpPr>
                  <p:sp>
                    <p:nvSpPr>
                      <p:cNvPr id="3786" name=""/>
                      <p:cNvSpPr/>
                      <p:nvPr/>
                    </p:nvSpPr>
                    <p:spPr>
                      <a:xfrm>
                        <a:off x="804888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7" name=""/>
                      <p:cNvSpPr/>
                      <p:nvPr/>
                    </p:nvSpPr>
                    <p:spPr>
                      <a:xfrm>
                        <a:off x="805320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88" name=""/>
                  <p:cNvGrpSpPr/>
                  <p:nvPr/>
                </p:nvGrpSpPr>
                <p:grpSpPr>
                  <a:xfrm>
                    <a:off x="8056440" y="3854880"/>
                    <a:ext cx="22680" cy="9360"/>
                    <a:chOff x="8056440" y="3854880"/>
                    <a:chExt cx="22680" cy="9360"/>
                  </a:xfrm>
                </p:grpSpPr>
                <p:grpSp>
                  <p:nvGrpSpPr>
                    <p:cNvPr id="3789" name=""/>
                    <p:cNvGrpSpPr/>
                    <p:nvPr/>
                  </p:nvGrpSpPr>
                  <p:grpSpPr>
                    <a:xfrm>
                      <a:off x="8056440" y="3854880"/>
                      <a:ext cx="14760" cy="9360"/>
                      <a:chOff x="8056440" y="3854880"/>
                      <a:chExt cx="14760" cy="9360"/>
                    </a:xfrm>
                  </p:grpSpPr>
                  <p:sp>
                    <p:nvSpPr>
                      <p:cNvPr id="3790" name=""/>
                      <p:cNvSpPr/>
                      <p:nvPr/>
                    </p:nvSpPr>
                    <p:spPr>
                      <a:xfrm>
                        <a:off x="80564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1" name=""/>
                      <p:cNvSpPr/>
                      <p:nvPr/>
                    </p:nvSpPr>
                    <p:spPr>
                      <a:xfrm>
                        <a:off x="805968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92" name=""/>
                    <p:cNvGrpSpPr/>
                    <p:nvPr/>
                  </p:nvGrpSpPr>
                  <p:grpSpPr>
                    <a:xfrm>
                      <a:off x="8063640" y="3854880"/>
                      <a:ext cx="15480" cy="9360"/>
                      <a:chOff x="8063640" y="3854880"/>
                      <a:chExt cx="15480" cy="9360"/>
                    </a:xfrm>
                  </p:grpSpPr>
                  <p:sp>
                    <p:nvSpPr>
                      <p:cNvPr id="3793" name=""/>
                      <p:cNvSpPr/>
                      <p:nvPr/>
                    </p:nvSpPr>
                    <p:spPr>
                      <a:xfrm>
                        <a:off x="80636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4" name=""/>
                      <p:cNvSpPr/>
                      <p:nvPr/>
                    </p:nvSpPr>
                    <p:spPr>
                      <a:xfrm>
                        <a:off x="806760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795" name=""/>
                <p:cNvGrpSpPr/>
                <p:nvPr/>
              </p:nvGrpSpPr>
              <p:grpSpPr>
                <a:xfrm>
                  <a:off x="8071560" y="3854880"/>
                  <a:ext cx="37800" cy="9360"/>
                  <a:chOff x="8071560" y="3854880"/>
                  <a:chExt cx="37800" cy="9360"/>
                </a:xfrm>
              </p:grpSpPr>
              <p:grpSp>
                <p:nvGrpSpPr>
                  <p:cNvPr id="3796" name=""/>
                  <p:cNvGrpSpPr/>
                  <p:nvPr/>
                </p:nvGrpSpPr>
                <p:grpSpPr>
                  <a:xfrm>
                    <a:off x="8071560" y="3854880"/>
                    <a:ext cx="23040" cy="9360"/>
                    <a:chOff x="8071560" y="3854880"/>
                    <a:chExt cx="23040" cy="9360"/>
                  </a:xfrm>
                </p:grpSpPr>
                <p:grpSp>
                  <p:nvGrpSpPr>
                    <p:cNvPr id="3797" name=""/>
                    <p:cNvGrpSpPr/>
                    <p:nvPr/>
                  </p:nvGrpSpPr>
                  <p:grpSpPr>
                    <a:xfrm>
                      <a:off x="8071560" y="3854880"/>
                      <a:ext cx="15840" cy="9360"/>
                      <a:chOff x="8071560" y="3854880"/>
                      <a:chExt cx="15840" cy="9360"/>
                    </a:xfrm>
                  </p:grpSpPr>
                  <p:sp>
                    <p:nvSpPr>
                      <p:cNvPr id="3798" name=""/>
                      <p:cNvSpPr/>
                      <p:nvPr/>
                    </p:nvSpPr>
                    <p:spPr>
                      <a:xfrm>
                        <a:off x="807156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9" name=""/>
                      <p:cNvSpPr/>
                      <p:nvPr/>
                    </p:nvSpPr>
                    <p:spPr>
                      <a:xfrm>
                        <a:off x="807552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0" name=""/>
                    <p:cNvGrpSpPr/>
                    <p:nvPr/>
                  </p:nvGrpSpPr>
                  <p:grpSpPr>
                    <a:xfrm>
                      <a:off x="8079840" y="3854880"/>
                      <a:ext cx="14760" cy="9360"/>
                      <a:chOff x="8079840" y="3854880"/>
                      <a:chExt cx="14760" cy="9360"/>
                    </a:xfrm>
                  </p:grpSpPr>
                  <p:sp>
                    <p:nvSpPr>
                      <p:cNvPr id="3801" name=""/>
                      <p:cNvSpPr/>
                      <p:nvPr/>
                    </p:nvSpPr>
                    <p:spPr>
                      <a:xfrm>
                        <a:off x="80798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2" name=""/>
                      <p:cNvSpPr/>
                      <p:nvPr/>
                    </p:nvSpPr>
                    <p:spPr>
                      <a:xfrm>
                        <a:off x="808308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03" name=""/>
                  <p:cNvGrpSpPr/>
                  <p:nvPr/>
                </p:nvGrpSpPr>
                <p:grpSpPr>
                  <a:xfrm>
                    <a:off x="8086680" y="3854880"/>
                    <a:ext cx="22680" cy="9360"/>
                    <a:chOff x="8086680" y="3854880"/>
                    <a:chExt cx="22680" cy="9360"/>
                  </a:xfrm>
                </p:grpSpPr>
                <p:grpSp>
                  <p:nvGrpSpPr>
                    <p:cNvPr id="3804" name=""/>
                    <p:cNvGrpSpPr/>
                    <p:nvPr/>
                  </p:nvGrpSpPr>
                  <p:grpSpPr>
                    <a:xfrm>
                      <a:off x="8086680" y="3854880"/>
                      <a:ext cx="15840" cy="9360"/>
                      <a:chOff x="8086680" y="3854880"/>
                      <a:chExt cx="15840" cy="9360"/>
                    </a:xfrm>
                  </p:grpSpPr>
                  <p:sp>
                    <p:nvSpPr>
                      <p:cNvPr id="3805" name=""/>
                      <p:cNvSpPr/>
                      <p:nvPr/>
                    </p:nvSpPr>
                    <p:spPr>
                      <a:xfrm>
                        <a:off x="808668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6" name=""/>
                      <p:cNvSpPr/>
                      <p:nvPr/>
                    </p:nvSpPr>
                    <p:spPr>
                      <a:xfrm>
                        <a:off x="809064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7" name=""/>
                    <p:cNvGrpSpPr/>
                    <p:nvPr/>
                  </p:nvGrpSpPr>
                  <p:grpSpPr>
                    <a:xfrm>
                      <a:off x="8094960" y="3854880"/>
                      <a:ext cx="14400" cy="9360"/>
                      <a:chOff x="8094960" y="3854880"/>
                      <a:chExt cx="14400" cy="9360"/>
                    </a:xfrm>
                  </p:grpSpPr>
                  <p:sp>
                    <p:nvSpPr>
                      <p:cNvPr id="3808" name=""/>
                      <p:cNvSpPr/>
                      <p:nvPr/>
                    </p:nvSpPr>
                    <p:spPr>
                      <a:xfrm>
                        <a:off x="809496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9" name=""/>
                      <p:cNvSpPr/>
                      <p:nvPr/>
                    </p:nvSpPr>
                    <p:spPr>
                      <a:xfrm>
                        <a:off x="809748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810" name=""/>
              <p:cNvSpPr/>
              <p:nvPr/>
            </p:nvSpPr>
            <p:spPr>
              <a:xfrm>
                <a:off x="8036640" y="38466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1" name=""/>
            <p:cNvGrpSpPr/>
            <p:nvPr/>
          </p:nvGrpSpPr>
          <p:grpSpPr>
            <a:xfrm>
              <a:off x="7924680" y="3899520"/>
              <a:ext cx="533520" cy="62640"/>
              <a:chOff x="7924680" y="3899520"/>
              <a:chExt cx="533520" cy="62640"/>
            </a:xfrm>
          </p:grpSpPr>
          <p:grpSp>
            <p:nvGrpSpPr>
              <p:cNvPr id="3812" name=""/>
              <p:cNvGrpSpPr/>
              <p:nvPr/>
            </p:nvGrpSpPr>
            <p:grpSpPr>
              <a:xfrm>
                <a:off x="7924680" y="3899520"/>
                <a:ext cx="533520" cy="62640"/>
                <a:chOff x="7924680" y="3899520"/>
                <a:chExt cx="533520" cy="62640"/>
              </a:xfrm>
            </p:grpSpPr>
            <p:sp>
              <p:nvSpPr>
                <p:cNvPr id="3813" name=""/>
                <p:cNvSpPr/>
                <p:nvPr/>
              </p:nvSpPr>
              <p:spPr>
                <a:xfrm>
                  <a:off x="7927200" y="395460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7924680" y="389952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7940520" y="390528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6" name=""/>
              <p:cNvGrpSpPr/>
              <p:nvPr/>
            </p:nvGrpSpPr>
            <p:grpSpPr>
              <a:xfrm>
                <a:off x="7983360" y="3904200"/>
                <a:ext cx="420120" cy="14400"/>
                <a:chOff x="7983360" y="3904200"/>
                <a:chExt cx="420120" cy="14400"/>
              </a:xfrm>
            </p:grpSpPr>
            <p:sp>
              <p:nvSpPr>
                <p:cNvPr id="3817" name=""/>
                <p:cNvSpPr/>
                <p:nvPr/>
              </p:nvSpPr>
              <p:spPr>
                <a:xfrm>
                  <a:off x="7983360" y="39042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8023320" y="39042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8109000" y="39042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8184960" y="39042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8263080" y="39042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8333280" y="39092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3" name=""/>
              <p:cNvGrpSpPr/>
              <p:nvPr/>
            </p:nvGrpSpPr>
            <p:grpSpPr>
              <a:xfrm>
                <a:off x="7970040" y="3918240"/>
                <a:ext cx="435240" cy="21960"/>
                <a:chOff x="7970040" y="3918240"/>
                <a:chExt cx="435240" cy="21960"/>
              </a:xfrm>
            </p:grpSpPr>
            <p:grpSp>
              <p:nvGrpSpPr>
                <p:cNvPr id="3824" name=""/>
                <p:cNvGrpSpPr/>
                <p:nvPr/>
              </p:nvGrpSpPr>
              <p:grpSpPr>
                <a:xfrm>
                  <a:off x="8007840" y="3918960"/>
                  <a:ext cx="212760" cy="19080"/>
                  <a:chOff x="8007840" y="3918960"/>
                  <a:chExt cx="212760" cy="19080"/>
                </a:xfrm>
              </p:grpSpPr>
              <p:sp>
                <p:nvSpPr>
                  <p:cNvPr id="3825" name=""/>
                  <p:cNvSpPr/>
                  <p:nvPr/>
                </p:nvSpPr>
                <p:spPr>
                  <a:xfrm>
                    <a:off x="8007840" y="39189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8016120" y="39250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8018640" y="39312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8022960" y="39380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9" name=""/>
                <p:cNvGrpSpPr/>
                <p:nvPr/>
              </p:nvGrpSpPr>
              <p:grpSpPr>
                <a:xfrm>
                  <a:off x="7970040" y="3921840"/>
                  <a:ext cx="30960" cy="12240"/>
                  <a:chOff x="7970040" y="3921840"/>
                  <a:chExt cx="30960" cy="12240"/>
                </a:xfrm>
              </p:grpSpPr>
              <p:sp>
                <p:nvSpPr>
                  <p:cNvPr id="3830" name=""/>
                  <p:cNvSpPr/>
                  <p:nvPr/>
                </p:nvSpPr>
                <p:spPr>
                  <a:xfrm>
                    <a:off x="7979040" y="39218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7975440" y="39283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7970040" y="39340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3" name=""/>
                <p:cNvGrpSpPr/>
                <p:nvPr/>
              </p:nvGrpSpPr>
              <p:grpSpPr>
                <a:xfrm>
                  <a:off x="8054280" y="3918240"/>
                  <a:ext cx="194760" cy="20880"/>
                  <a:chOff x="8054280" y="3918240"/>
                  <a:chExt cx="194760" cy="20880"/>
                </a:xfrm>
              </p:grpSpPr>
              <p:sp>
                <p:nvSpPr>
                  <p:cNvPr id="3834" name=""/>
                  <p:cNvSpPr/>
                  <p:nvPr/>
                </p:nvSpPr>
                <p:spPr>
                  <a:xfrm>
                    <a:off x="8054280" y="39384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>
                    <a:off x="8224200" y="39182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8231760" y="39254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8215920" y="39322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>
                    <a:off x="8183880" y="3938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>
                    <a:off x="8209800" y="39391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0" name=""/>
                <p:cNvGrpSpPr/>
                <p:nvPr/>
              </p:nvGrpSpPr>
              <p:grpSpPr>
                <a:xfrm>
                  <a:off x="8264160" y="3921840"/>
                  <a:ext cx="56160" cy="17280"/>
                  <a:chOff x="8264160" y="3921840"/>
                  <a:chExt cx="56160" cy="17280"/>
                </a:xfrm>
              </p:grpSpPr>
              <p:sp>
                <p:nvSpPr>
                  <p:cNvPr id="3841" name=""/>
                  <p:cNvSpPr/>
                  <p:nvPr/>
                </p:nvSpPr>
                <p:spPr>
                  <a:xfrm>
                    <a:off x="8264160" y="39218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8272440" y="39297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8272800" y="39391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4" name=""/>
                <p:cNvGrpSpPr/>
                <p:nvPr/>
              </p:nvGrpSpPr>
              <p:grpSpPr>
                <a:xfrm>
                  <a:off x="8337600" y="3921840"/>
                  <a:ext cx="67680" cy="18360"/>
                  <a:chOff x="8337600" y="3921840"/>
                  <a:chExt cx="67680" cy="18360"/>
                </a:xfrm>
              </p:grpSpPr>
              <p:sp>
                <p:nvSpPr>
                  <p:cNvPr id="3845" name=""/>
                  <p:cNvSpPr/>
                  <p:nvPr/>
                </p:nvSpPr>
                <p:spPr>
                  <a:xfrm>
                    <a:off x="8342280" y="39218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8337600" y="39283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8342280" y="39340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8340840" y="39402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>
                    <a:off x="8391960" y="39290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8397000" y="39369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51" name=""/>
            <p:cNvGrpSpPr/>
            <p:nvPr/>
          </p:nvGrpSpPr>
          <p:grpSpPr>
            <a:xfrm>
              <a:off x="8081280" y="3763080"/>
              <a:ext cx="232200" cy="38160"/>
              <a:chOff x="8081280" y="3763080"/>
              <a:chExt cx="232200" cy="38160"/>
            </a:xfrm>
          </p:grpSpPr>
          <p:grpSp>
            <p:nvGrpSpPr>
              <p:cNvPr id="3852" name=""/>
              <p:cNvGrpSpPr/>
              <p:nvPr/>
            </p:nvGrpSpPr>
            <p:grpSpPr>
              <a:xfrm>
                <a:off x="8081280" y="3775680"/>
                <a:ext cx="232200" cy="25560"/>
                <a:chOff x="8081280" y="3775680"/>
                <a:chExt cx="232200" cy="25560"/>
              </a:xfrm>
            </p:grpSpPr>
            <p:sp>
              <p:nvSpPr>
                <p:cNvPr id="3853" name=""/>
                <p:cNvSpPr/>
                <p:nvPr/>
              </p:nvSpPr>
              <p:spPr>
                <a:xfrm>
                  <a:off x="8081280" y="377568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8083440" y="379296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5" name=""/>
              <p:cNvSpPr/>
              <p:nvPr/>
            </p:nvSpPr>
            <p:spPr>
              <a:xfrm>
                <a:off x="8134560" y="37630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>
              <a:off x="8055360" y="35812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8087040" y="36018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8096760" y="360720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9" name=""/>
          <p:cNvGrpSpPr/>
          <p:nvPr/>
        </p:nvGrpSpPr>
        <p:grpSpPr>
          <a:xfrm>
            <a:off x="6477120" y="3581280"/>
            <a:ext cx="609120" cy="380880"/>
            <a:chOff x="6477120" y="3581280"/>
            <a:chExt cx="609120" cy="380880"/>
          </a:xfrm>
        </p:grpSpPr>
        <p:grpSp>
          <p:nvGrpSpPr>
            <p:cNvPr id="3860" name=""/>
            <p:cNvGrpSpPr/>
            <p:nvPr/>
          </p:nvGrpSpPr>
          <p:grpSpPr>
            <a:xfrm>
              <a:off x="6488640" y="3599280"/>
              <a:ext cx="597600" cy="362880"/>
              <a:chOff x="6488640" y="3599280"/>
              <a:chExt cx="597600" cy="362880"/>
            </a:xfrm>
          </p:grpSpPr>
          <p:sp>
            <p:nvSpPr>
              <p:cNvPr id="3861" name=""/>
              <p:cNvSpPr/>
              <p:nvPr/>
            </p:nvSpPr>
            <p:spPr>
              <a:xfrm>
                <a:off x="6488640" y="3715920"/>
                <a:ext cx="59760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6494040" y="372888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494040" y="3599280"/>
                <a:ext cx="59184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4" name=""/>
            <p:cNvSpPr/>
            <p:nvPr/>
          </p:nvSpPr>
          <p:spPr>
            <a:xfrm>
              <a:off x="6477120" y="3697920"/>
              <a:ext cx="597600" cy="12888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6482880" y="3710160"/>
              <a:ext cx="591840" cy="2343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482880" y="3581280"/>
              <a:ext cx="591840" cy="23328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"/>
            <p:cNvGrpSpPr/>
            <p:nvPr/>
          </p:nvGrpSpPr>
          <p:grpSpPr>
            <a:xfrm>
              <a:off x="6592680" y="3611160"/>
              <a:ext cx="372240" cy="173160"/>
              <a:chOff x="6592680" y="3611160"/>
              <a:chExt cx="372240" cy="173160"/>
            </a:xfrm>
          </p:grpSpPr>
          <p:grpSp>
            <p:nvGrpSpPr>
              <p:cNvPr id="3868" name=""/>
              <p:cNvGrpSpPr/>
              <p:nvPr/>
            </p:nvGrpSpPr>
            <p:grpSpPr>
              <a:xfrm>
                <a:off x="6592680" y="3611160"/>
                <a:ext cx="372240" cy="173160"/>
                <a:chOff x="6592680" y="3611160"/>
                <a:chExt cx="372240" cy="173160"/>
              </a:xfrm>
            </p:grpSpPr>
            <p:sp>
              <p:nvSpPr>
                <p:cNvPr id="3869" name=""/>
                <p:cNvSpPr/>
                <p:nvPr/>
              </p:nvSpPr>
              <p:spPr>
                <a:xfrm>
                  <a:off x="6592680" y="36111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6592680" y="36111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6789960" y="37216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6789960" y="37216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3" name=""/>
              <p:cNvGrpSpPr/>
              <p:nvPr/>
            </p:nvGrpSpPr>
            <p:grpSpPr>
              <a:xfrm>
                <a:off x="6604200" y="3611160"/>
                <a:ext cx="349560" cy="173160"/>
                <a:chOff x="6604200" y="3611160"/>
                <a:chExt cx="349560" cy="173160"/>
              </a:xfrm>
            </p:grpSpPr>
            <p:sp>
              <p:nvSpPr>
                <p:cNvPr id="3874" name=""/>
                <p:cNvSpPr/>
                <p:nvPr/>
              </p:nvSpPr>
              <p:spPr>
                <a:xfrm>
                  <a:off x="6778080" y="36111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6778080" y="36111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6604200" y="37094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6604200" y="37094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78" name=""/>
          <p:cNvSpPr/>
          <p:nvPr/>
        </p:nvSpPr>
        <p:spPr>
          <a:xfrm>
            <a:off x="2133720" y="4191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9051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5715000" y="3276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5791320" y="3809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71629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1447920" y="3809880"/>
            <a:ext cx="552240" cy="393840"/>
            <a:chOff x="1447920" y="3809880"/>
            <a:chExt cx="552240" cy="393840"/>
          </a:xfrm>
        </p:grpSpPr>
        <p:sp>
          <p:nvSpPr>
            <p:cNvPr id="3884" name=""/>
            <p:cNvSpPr/>
            <p:nvPr/>
          </p:nvSpPr>
          <p:spPr>
            <a:xfrm>
              <a:off x="1572840" y="389556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5" name="shot_vaiods" descr=""/>
            <p:cNvPicPr/>
            <p:nvPr/>
          </p:nvPicPr>
          <p:blipFill>
            <a:blip r:embed="rId3"/>
            <a:stretch/>
          </p:blipFill>
          <p:spPr>
            <a:xfrm>
              <a:off x="1447920" y="3809880"/>
              <a:ext cx="55224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6" name=""/>
          <p:cNvGrpSpPr/>
          <p:nvPr/>
        </p:nvGrpSpPr>
        <p:grpSpPr>
          <a:xfrm>
            <a:off x="838080" y="3809880"/>
            <a:ext cx="552600" cy="393840"/>
            <a:chOff x="838080" y="3809880"/>
            <a:chExt cx="552600" cy="393840"/>
          </a:xfrm>
        </p:grpSpPr>
        <p:sp>
          <p:nvSpPr>
            <p:cNvPr id="3887" name=""/>
            <p:cNvSpPr/>
            <p:nvPr/>
          </p:nvSpPr>
          <p:spPr>
            <a:xfrm>
              <a:off x="963000" y="389556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8" name="shot_vaiods" descr=""/>
            <p:cNvPicPr/>
            <p:nvPr/>
          </p:nvPicPr>
          <p:blipFill>
            <a:blip r:embed="rId4"/>
            <a:stretch/>
          </p:blipFill>
          <p:spPr>
            <a:xfrm>
              <a:off x="838080" y="3809880"/>
              <a:ext cx="552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9" name=""/>
          <p:cNvGrpSpPr/>
          <p:nvPr/>
        </p:nvGrpSpPr>
        <p:grpSpPr>
          <a:xfrm>
            <a:off x="1123920" y="4254480"/>
            <a:ext cx="552600" cy="393840"/>
            <a:chOff x="1123920" y="4254480"/>
            <a:chExt cx="552600" cy="393840"/>
          </a:xfrm>
        </p:grpSpPr>
        <p:sp>
          <p:nvSpPr>
            <p:cNvPr id="3890" name=""/>
            <p:cNvSpPr/>
            <p:nvPr/>
          </p:nvSpPr>
          <p:spPr>
            <a:xfrm>
              <a:off x="1248840" y="434016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1" name="shot_vaiods" descr=""/>
            <p:cNvPicPr/>
            <p:nvPr/>
          </p:nvPicPr>
          <p:blipFill>
            <a:blip r:embed="rId5"/>
            <a:stretch/>
          </p:blipFill>
          <p:spPr>
            <a:xfrm>
              <a:off x="1123920" y="4254480"/>
              <a:ext cx="552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2" name=""/>
          <p:cNvGrpSpPr/>
          <p:nvPr/>
        </p:nvGrpSpPr>
        <p:grpSpPr>
          <a:xfrm>
            <a:off x="914400" y="5029200"/>
            <a:ext cx="1295280" cy="732960"/>
            <a:chOff x="914400" y="5029200"/>
            <a:chExt cx="1295280" cy="732960"/>
          </a:xfrm>
        </p:grpSpPr>
        <p:sp>
          <p:nvSpPr>
            <p:cNvPr id="3893" name=""/>
            <p:cNvSpPr/>
            <p:nvPr/>
          </p:nvSpPr>
          <p:spPr>
            <a:xfrm>
              <a:off x="954720" y="502920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914400" y="505836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5" name=""/>
          <p:cNvSpPr/>
          <p:nvPr/>
        </p:nvSpPr>
        <p:spPr>
          <a:xfrm flipV="1">
            <a:off x="213372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1070280" y="525744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737520" y="182880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8" name=""/>
          <p:cNvGrpSpPr/>
          <p:nvPr/>
        </p:nvGrpSpPr>
        <p:grpSpPr>
          <a:xfrm>
            <a:off x="3429000" y="2514600"/>
            <a:ext cx="1600200" cy="914400"/>
            <a:chOff x="3429000" y="2514600"/>
            <a:chExt cx="1600200" cy="914400"/>
          </a:xfrm>
        </p:grpSpPr>
        <p:grpSp>
          <p:nvGrpSpPr>
            <p:cNvPr id="3899" name=""/>
            <p:cNvGrpSpPr/>
            <p:nvPr/>
          </p:nvGrpSpPr>
          <p:grpSpPr>
            <a:xfrm>
              <a:off x="3733920" y="2514600"/>
              <a:ext cx="228600" cy="152280"/>
              <a:chOff x="3733920" y="2514600"/>
              <a:chExt cx="228600" cy="152280"/>
            </a:xfrm>
          </p:grpSpPr>
          <p:sp>
            <p:nvSpPr>
              <p:cNvPr id="3900" name=""/>
              <p:cNvSpPr/>
              <p:nvPr/>
            </p:nvSpPr>
            <p:spPr>
              <a:xfrm>
                <a:off x="3733920" y="256356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736080" y="256860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3736080" y="251460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3" name=""/>
            <p:cNvGrpSpPr/>
            <p:nvPr/>
          </p:nvGrpSpPr>
          <p:grpSpPr>
            <a:xfrm>
              <a:off x="3786120" y="2544840"/>
              <a:ext cx="142920" cy="58680"/>
              <a:chOff x="3786120" y="2544840"/>
              <a:chExt cx="142920" cy="58680"/>
            </a:xfrm>
          </p:grpSpPr>
          <p:sp>
            <p:nvSpPr>
              <p:cNvPr id="3904" name=""/>
              <p:cNvSpPr/>
              <p:nvPr/>
            </p:nvSpPr>
            <p:spPr>
              <a:xfrm>
                <a:off x="37861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7861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37872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37872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3962520" y="2819520"/>
              <a:ext cx="228600" cy="152280"/>
              <a:chOff x="3962520" y="2819520"/>
              <a:chExt cx="228600" cy="152280"/>
            </a:xfrm>
          </p:grpSpPr>
          <p:sp>
            <p:nvSpPr>
              <p:cNvPr id="3909" name=""/>
              <p:cNvSpPr/>
              <p:nvPr/>
            </p:nvSpPr>
            <p:spPr>
              <a:xfrm>
                <a:off x="3962520" y="28684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964680" y="28735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3964680" y="28195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2" name=""/>
            <p:cNvGrpSpPr/>
            <p:nvPr/>
          </p:nvGrpSpPr>
          <p:grpSpPr>
            <a:xfrm>
              <a:off x="4014720" y="2849400"/>
              <a:ext cx="142920" cy="59040"/>
              <a:chOff x="4014720" y="2849400"/>
              <a:chExt cx="142920" cy="59040"/>
            </a:xfrm>
          </p:grpSpPr>
          <p:sp>
            <p:nvSpPr>
              <p:cNvPr id="3913" name=""/>
              <p:cNvSpPr/>
              <p:nvPr/>
            </p:nvSpPr>
            <p:spPr>
              <a:xfrm>
                <a:off x="4014720" y="28494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014720" y="28494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015800" y="28501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015800" y="28501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7" name=""/>
            <p:cNvGrpSpPr/>
            <p:nvPr/>
          </p:nvGrpSpPr>
          <p:grpSpPr>
            <a:xfrm>
              <a:off x="4419720" y="2514600"/>
              <a:ext cx="228600" cy="152280"/>
              <a:chOff x="4419720" y="2514600"/>
              <a:chExt cx="228600" cy="152280"/>
            </a:xfrm>
          </p:grpSpPr>
          <p:sp>
            <p:nvSpPr>
              <p:cNvPr id="3918" name=""/>
              <p:cNvSpPr/>
              <p:nvPr/>
            </p:nvSpPr>
            <p:spPr>
              <a:xfrm>
                <a:off x="4419720" y="256356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421880" y="256860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421880" y="251460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1" name=""/>
            <p:cNvGrpSpPr/>
            <p:nvPr/>
          </p:nvGrpSpPr>
          <p:grpSpPr>
            <a:xfrm>
              <a:off x="4471920" y="2544840"/>
              <a:ext cx="142920" cy="58680"/>
              <a:chOff x="4471920" y="2544840"/>
              <a:chExt cx="142920" cy="58680"/>
            </a:xfrm>
          </p:grpSpPr>
          <p:sp>
            <p:nvSpPr>
              <p:cNvPr id="3922" name=""/>
              <p:cNvSpPr/>
              <p:nvPr/>
            </p:nvSpPr>
            <p:spPr>
              <a:xfrm>
                <a:off x="44719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4719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4730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4730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6" name=""/>
            <p:cNvGrpSpPr/>
            <p:nvPr/>
          </p:nvGrpSpPr>
          <p:grpSpPr>
            <a:xfrm>
              <a:off x="3429000" y="2895480"/>
              <a:ext cx="228600" cy="152640"/>
              <a:chOff x="3429000" y="2895480"/>
              <a:chExt cx="228600" cy="152640"/>
            </a:xfrm>
          </p:grpSpPr>
          <p:sp>
            <p:nvSpPr>
              <p:cNvPr id="3927" name=""/>
              <p:cNvSpPr/>
              <p:nvPr/>
            </p:nvSpPr>
            <p:spPr>
              <a:xfrm>
                <a:off x="3429000" y="294480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3431160" y="294948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3431160" y="289548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"/>
            <p:cNvGrpSpPr/>
            <p:nvPr/>
          </p:nvGrpSpPr>
          <p:grpSpPr>
            <a:xfrm>
              <a:off x="3481560" y="2925720"/>
              <a:ext cx="142560" cy="58680"/>
              <a:chOff x="3481560" y="2925720"/>
              <a:chExt cx="142560" cy="58680"/>
            </a:xfrm>
          </p:grpSpPr>
          <p:sp>
            <p:nvSpPr>
              <p:cNvPr id="3931" name=""/>
              <p:cNvSpPr/>
              <p:nvPr/>
            </p:nvSpPr>
            <p:spPr>
              <a:xfrm>
                <a:off x="34815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34815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4826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4826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5" name=""/>
            <p:cNvGrpSpPr/>
            <p:nvPr/>
          </p:nvGrpSpPr>
          <p:grpSpPr>
            <a:xfrm>
              <a:off x="3809880" y="3276720"/>
              <a:ext cx="228600" cy="152280"/>
              <a:chOff x="3809880" y="3276720"/>
              <a:chExt cx="228600" cy="152280"/>
            </a:xfrm>
          </p:grpSpPr>
          <p:sp>
            <p:nvSpPr>
              <p:cNvPr id="3936" name=""/>
              <p:cNvSpPr/>
              <p:nvPr/>
            </p:nvSpPr>
            <p:spPr>
              <a:xfrm>
                <a:off x="3809880" y="33256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3812040" y="33307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812040" y="32767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9" name=""/>
            <p:cNvGrpSpPr/>
            <p:nvPr/>
          </p:nvGrpSpPr>
          <p:grpSpPr>
            <a:xfrm>
              <a:off x="3862440" y="3306600"/>
              <a:ext cx="142920" cy="59040"/>
              <a:chOff x="3862440" y="3306600"/>
              <a:chExt cx="142920" cy="59040"/>
            </a:xfrm>
          </p:grpSpPr>
          <p:sp>
            <p:nvSpPr>
              <p:cNvPr id="3940" name=""/>
              <p:cNvSpPr/>
              <p:nvPr/>
            </p:nvSpPr>
            <p:spPr>
              <a:xfrm>
                <a:off x="3862440" y="33066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862440" y="33066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863520" y="33073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863520" y="33073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4" name=""/>
            <p:cNvGrpSpPr/>
            <p:nvPr/>
          </p:nvGrpSpPr>
          <p:grpSpPr>
            <a:xfrm>
              <a:off x="4343400" y="3124080"/>
              <a:ext cx="228600" cy="152640"/>
              <a:chOff x="4343400" y="3124080"/>
              <a:chExt cx="228600" cy="152640"/>
            </a:xfrm>
          </p:grpSpPr>
          <p:sp>
            <p:nvSpPr>
              <p:cNvPr id="3945" name=""/>
              <p:cNvSpPr/>
              <p:nvPr/>
            </p:nvSpPr>
            <p:spPr>
              <a:xfrm>
                <a:off x="4343400" y="317340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4345560" y="317808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4345560" y="312408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4395960" y="3154320"/>
              <a:ext cx="142560" cy="58680"/>
              <a:chOff x="4395960" y="3154320"/>
              <a:chExt cx="142560" cy="58680"/>
            </a:xfrm>
          </p:grpSpPr>
          <p:sp>
            <p:nvSpPr>
              <p:cNvPr id="3949" name=""/>
              <p:cNvSpPr/>
              <p:nvPr/>
            </p:nvSpPr>
            <p:spPr>
              <a:xfrm>
                <a:off x="4395960" y="31543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395960" y="31543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397040" y="31550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397040" y="31550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3" name=""/>
            <p:cNvSpPr/>
            <p:nvPr/>
          </p:nvSpPr>
          <p:spPr>
            <a:xfrm flipV="1">
              <a:off x="3657600" y="28954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V="1">
              <a:off x="3581280" y="2666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96252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3962520" y="297144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038480" y="3276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4191120" y="26668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581280" y="30481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4191120" y="2895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962520" y="266688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2" name=""/>
            <p:cNvGrpSpPr/>
            <p:nvPr/>
          </p:nvGrpSpPr>
          <p:grpSpPr>
            <a:xfrm>
              <a:off x="4800600" y="2895480"/>
              <a:ext cx="228600" cy="152640"/>
              <a:chOff x="4800600" y="2895480"/>
              <a:chExt cx="228600" cy="152640"/>
            </a:xfrm>
          </p:grpSpPr>
          <p:sp>
            <p:nvSpPr>
              <p:cNvPr id="3963" name=""/>
              <p:cNvSpPr/>
              <p:nvPr/>
            </p:nvSpPr>
            <p:spPr>
              <a:xfrm>
                <a:off x="4800600" y="294480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802760" y="294948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802760" y="289548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4853160" y="2925720"/>
              <a:ext cx="142560" cy="58680"/>
              <a:chOff x="4853160" y="2925720"/>
              <a:chExt cx="142560" cy="58680"/>
            </a:xfrm>
          </p:grpSpPr>
          <p:sp>
            <p:nvSpPr>
              <p:cNvPr id="3967" name=""/>
              <p:cNvSpPr/>
              <p:nvPr/>
            </p:nvSpPr>
            <p:spPr>
              <a:xfrm>
                <a:off x="48531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8531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48542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48542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1" name=""/>
            <p:cNvSpPr/>
            <p:nvPr/>
          </p:nvSpPr>
          <p:spPr>
            <a:xfrm>
              <a:off x="426708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724280" y="26668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4572000" y="304776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3429000" y="3733920"/>
            <a:ext cx="1600200" cy="914400"/>
            <a:chOff x="3429000" y="3733920"/>
            <a:chExt cx="1600200" cy="914400"/>
          </a:xfrm>
        </p:grpSpPr>
        <p:grpSp>
          <p:nvGrpSpPr>
            <p:cNvPr id="3975" name=""/>
            <p:cNvGrpSpPr/>
            <p:nvPr/>
          </p:nvGrpSpPr>
          <p:grpSpPr>
            <a:xfrm>
              <a:off x="3733920" y="3733920"/>
              <a:ext cx="228600" cy="152280"/>
              <a:chOff x="3733920" y="3733920"/>
              <a:chExt cx="228600" cy="152280"/>
            </a:xfrm>
          </p:grpSpPr>
          <p:sp>
            <p:nvSpPr>
              <p:cNvPr id="3976" name=""/>
              <p:cNvSpPr/>
              <p:nvPr/>
            </p:nvSpPr>
            <p:spPr>
              <a:xfrm>
                <a:off x="3733920" y="37828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736080" y="37879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736080" y="37339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786120" y="3764160"/>
              <a:ext cx="142920" cy="58680"/>
              <a:chOff x="3786120" y="3764160"/>
              <a:chExt cx="142920" cy="586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7861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861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872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7872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62520" y="4038840"/>
              <a:ext cx="228600" cy="152280"/>
              <a:chOff x="3962520" y="4038840"/>
              <a:chExt cx="22860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62520" y="408780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964680" y="409284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964680" y="403884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4014720" y="4068720"/>
              <a:ext cx="142920" cy="59040"/>
              <a:chOff x="4014720" y="4068720"/>
              <a:chExt cx="142920" cy="59040"/>
            </a:xfrm>
          </p:grpSpPr>
          <p:sp>
            <p:nvSpPr>
              <p:cNvPr id="3989" name=""/>
              <p:cNvSpPr/>
              <p:nvPr/>
            </p:nvSpPr>
            <p:spPr>
              <a:xfrm>
                <a:off x="4014720" y="40687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4014720" y="40687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015800" y="40694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015800" y="40694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3" name=""/>
            <p:cNvGrpSpPr/>
            <p:nvPr/>
          </p:nvGrpSpPr>
          <p:grpSpPr>
            <a:xfrm>
              <a:off x="4419720" y="3733920"/>
              <a:ext cx="228600" cy="152280"/>
              <a:chOff x="4419720" y="3733920"/>
              <a:chExt cx="228600" cy="152280"/>
            </a:xfrm>
          </p:grpSpPr>
          <p:sp>
            <p:nvSpPr>
              <p:cNvPr id="3994" name=""/>
              <p:cNvSpPr/>
              <p:nvPr/>
            </p:nvSpPr>
            <p:spPr>
              <a:xfrm>
                <a:off x="4419720" y="37828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421880" y="37879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421880" y="37339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7" name=""/>
            <p:cNvGrpSpPr/>
            <p:nvPr/>
          </p:nvGrpSpPr>
          <p:grpSpPr>
            <a:xfrm>
              <a:off x="4471920" y="3764160"/>
              <a:ext cx="142920" cy="58680"/>
              <a:chOff x="4471920" y="3764160"/>
              <a:chExt cx="142920" cy="58680"/>
            </a:xfrm>
          </p:grpSpPr>
          <p:sp>
            <p:nvSpPr>
              <p:cNvPr id="3998" name=""/>
              <p:cNvSpPr/>
              <p:nvPr/>
            </p:nvSpPr>
            <p:spPr>
              <a:xfrm>
                <a:off x="44719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4719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44730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4730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2" name=""/>
            <p:cNvGrpSpPr/>
            <p:nvPr/>
          </p:nvGrpSpPr>
          <p:grpSpPr>
            <a:xfrm>
              <a:off x="3429000" y="4114800"/>
              <a:ext cx="228600" cy="152640"/>
              <a:chOff x="3429000" y="4114800"/>
              <a:chExt cx="228600" cy="152640"/>
            </a:xfrm>
          </p:grpSpPr>
          <p:sp>
            <p:nvSpPr>
              <p:cNvPr id="4003" name=""/>
              <p:cNvSpPr/>
              <p:nvPr/>
            </p:nvSpPr>
            <p:spPr>
              <a:xfrm>
                <a:off x="3429000" y="416412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431160" y="416880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431160" y="411480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6" name=""/>
            <p:cNvGrpSpPr/>
            <p:nvPr/>
          </p:nvGrpSpPr>
          <p:grpSpPr>
            <a:xfrm>
              <a:off x="3481560" y="4145040"/>
              <a:ext cx="142560" cy="58680"/>
              <a:chOff x="3481560" y="4145040"/>
              <a:chExt cx="142560" cy="58680"/>
            </a:xfrm>
          </p:grpSpPr>
          <p:sp>
            <p:nvSpPr>
              <p:cNvPr id="4007" name=""/>
              <p:cNvSpPr/>
              <p:nvPr/>
            </p:nvSpPr>
            <p:spPr>
              <a:xfrm>
                <a:off x="34815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4815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4826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4826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1" name=""/>
            <p:cNvGrpSpPr/>
            <p:nvPr/>
          </p:nvGrpSpPr>
          <p:grpSpPr>
            <a:xfrm>
              <a:off x="3809880" y="4496040"/>
              <a:ext cx="228600" cy="152280"/>
              <a:chOff x="3809880" y="4496040"/>
              <a:chExt cx="228600" cy="152280"/>
            </a:xfrm>
          </p:grpSpPr>
          <p:sp>
            <p:nvSpPr>
              <p:cNvPr id="4012" name=""/>
              <p:cNvSpPr/>
              <p:nvPr/>
            </p:nvSpPr>
            <p:spPr>
              <a:xfrm>
                <a:off x="3809880" y="454500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812040" y="455004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812040" y="449604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5" name=""/>
            <p:cNvGrpSpPr/>
            <p:nvPr/>
          </p:nvGrpSpPr>
          <p:grpSpPr>
            <a:xfrm>
              <a:off x="3862440" y="4525920"/>
              <a:ext cx="142920" cy="59040"/>
              <a:chOff x="3862440" y="4525920"/>
              <a:chExt cx="142920" cy="59040"/>
            </a:xfrm>
          </p:grpSpPr>
          <p:sp>
            <p:nvSpPr>
              <p:cNvPr id="4016" name=""/>
              <p:cNvSpPr/>
              <p:nvPr/>
            </p:nvSpPr>
            <p:spPr>
              <a:xfrm>
                <a:off x="3862440" y="45259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862440" y="45259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863520" y="45266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863520" y="45266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4343400" y="4343400"/>
              <a:ext cx="228600" cy="152640"/>
              <a:chOff x="4343400" y="4343400"/>
              <a:chExt cx="228600" cy="152640"/>
            </a:xfrm>
          </p:grpSpPr>
          <p:sp>
            <p:nvSpPr>
              <p:cNvPr id="4021" name=""/>
              <p:cNvSpPr/>
              <p:nvPr/>
            </p:nvSpPr>
            <p:spPr>
              <a:xfrm>
                <a:off x="4343400" y="439272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345560" y="439740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4345560" y="434340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4395960" y="4373640"/>
              <a:ext cx="142560" cy="58680"/>
              <a:chOff x="4395960" y="4373640"/>
              <a:chExt cx="142560" cy="58680"/>
            </a:xfrm>
          </p:grpSpPr>
          <p:sp>
            <p:nvSpPr>
              <p:cNvPr id="4025" name=""/>
              <p:cNvSpPr/>
              <p:nvPr/>
            </p:nvSpPr>
            <p:spPr>
              <a:xfrm>
                <a:off x="4395960" y="43736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4395960" y="43736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397040" y="43743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397040" y="43743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9" name=""/>
            <p:cNvSpPr/>
            <p:nvPr/>
          </p:nvSpPr>
          <p:spPr>
            <a:xfrm flipV="1">
              <a:off x="3657600" y="4114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flipV="1">
              <a:off x="358128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962520" y="3810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V="1">
              <a:off x="3962520" y="419076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4038480" y="4496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V="1">
              <a:off x="4191120" y="388620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581280" y="42674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191120" y="411480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962520" y="388620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8" name=""/>
            <p:cNvGrpSpPr/>
            <p:nvPr/>
          </p:nvGrpSpPr>
          <p:grpSpPr>
            <a:xfrm>
              <a:off x="4800600" y="4114800"/>
              <a:ext cx="228600" cy="152640"/>
              <a:chOff x="4800600" y="4114800"/>
              <a:chExt cx="228600" cy="152640"/>
            </a:xfrm>
          </p:grpSpPr>
          <p:sp>
            <p:nvSpPr>
              <p:cNvPr id="4039" name=""/>
              <p:cNvSpPr/>
              <p:nvPr/>
            </p:nvSpPr>
            <p:spPr>
              <a:xfrm>
                <a:off x="4800600" y="416412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802760" y="416880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802760" y="411480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2" name=""/>
            <p:cNvGrpSpPr/>
            <p:nvPr/>
          </p:nvGrpSpPr>
          <p:grpSpPr>
            <a:xfrm>
              <a:off x="4853160" y="4145040"/>
              <a:ext cx="142560" cy="58680"/>
              <a:chOff x="4853160" y="4145040"/>
              <a:chExt cx="142560" cy="58680"/>
            </a:xfrm>
          </p:grpSpPr>
          <p:sp>
            <p:nvSpPr>
              <p:cNvPr id="4043" name=""/>
              <p:cNvSpPr/>
              <p:nvPr/>
            </p:nvSpPr>
            <p:spPr>
              <a:xfrm>
                <a:off x="48531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8531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8542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8542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7" name=""/>
            <p:cNvSpPr/>
            <p:nvPr/>
          </p:nvSpPr>
          <p:spPr>
            <a:xfrm>
              <a:off x="426708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724280" y="388620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V="1">
              <a:off x="4572000" y="426708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virtual r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2" name=""/>
          <p:cNvGrpSpPr/>
          <p:nvPr/>
        </p:nvGrpSpPr>
        <p:grpSpPr>
          <a:xfrm>
            <a:off x="3276720" y="2286000"/>
            <a:ext cx="1980360" cy="2133360"/>
            <a:chOff x="3276720" y="2286000"/>
            <a:chExt cx="1980360" cy="2133360"/>
          </a:xfrm>
        </p:grpSpPr>
        <p:sp>
          <p:nvSpPr>
            <p:cNvPr id="4053" name=""/>
            <p:cNvSpPr/>
            <p:nvPr/>
          </p:nvSpPr>
          <p:spPr>
            <a:xfrm>
              <a:off x="3279960" y="2291040"/>
              <a:ext cx="1977120" cy="21283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4" name=""/>
            <p:cNvGrpSpPr/>
            <p:nvPr/>
          </p:nvGrpSpPr>
          <p:grpSpPr>
            <a:xfrm>
              <a:off x="3276720" y="2286000"/>
              <a:ext cx="1980000" cy="2122560"/>
              <a:chOff x="3276720" y="2286000"/>
              <a:chExt cx="1980000" cy="2122560"/>
            </a:xfrm>
          </p:grpSpPr>
          <p:sp>
            <p:nvSpPr>
              <p:cNvPr id="4055" name=""/>
              <p:cNvSpPr/>
              <p:nvPr/>
            </p:nvSpPr>
            <p:spPr>
              <a:xfrm>
                <a:off x="457092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672440" y="2592000"/>
                <a:ext cx="21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773960" y="2592000"/>
                <a:ext cx="21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46940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87764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flipV="1">
                <a:off x="5012280" y="2607840"/>
                <a:ext cx="19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901040" y="260100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910760" y="26078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 flipV="1">
                <a:off x="4906800" y="26042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V="1">
                <a:off x="4908960" y="26078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5206320" y="24134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948200" y="262692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004720" y="26010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5012280" y="260784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 flipV="1">
                <a:off x="5010480" y="26042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049720" y="262692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977360" y="2336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104800" y="260100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12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114520" y="2607840"/>
                <a:ext cx="1728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flipV="1">
                <a:off x="5112360" y="26042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flipV="1">
                <a:off x="5114520" y="26078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H="1">
                <a:off x="497736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flipH="1">
                <a:off x="5078880" y="26676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979160" y="2592000"/>
                <a:ext cx="21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508104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705560" y="26078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flipV="1">
                <a:off x="4703760" y="26042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V="1">
                <a:off x="4705560" y="26078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596120" y="26010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604040" y="26078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V="1">
                <a:off x="4600080" y="26042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V="1">
                <a:off x="4805280" y="26042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 flipV="1">
                <a:off x="4807080" y="2607840"/>
                <a:ext cx="19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 flipV="1">
                <a:off x="4604040" y="26078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492440" y="2601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12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502520" y="26078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 flipV="1">
                <a:off x="4498560" y="26042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V="1">
                <a:off x="4502520" y="26078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353480" y="26010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361400" y="26078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 flipV="1">
                <a:off x="4359600" y="26042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 flipV="1">
                <a:off x="4363200" y="26078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799520" y="260100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809240" y="26078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846680" y="26269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H="1">
                <a:off x="4568760" y="26676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 flipH="1">
                <a:off x="467064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 flipH="1">
                <a:off x="477216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 flipH="1">
                <a:off x="487584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H="1">
                <a:off x="4466880" y="26676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H="1">
                <a:off x="4743000" y="27936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459680" y="2851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475160" y="2851560"/>
                <a:ext cx="3960" cy="172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480920" y="2851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6" y="8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2" y="2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50036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451400" y="2876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5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472640" y="288144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H="1">
                <a:off x="3694320" y="27936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614760" y="2851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630240" y="285156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63600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6" y="8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65580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608640" y="287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5"/>
                    </a:move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620520" y="2881440"/>
                <a:ext cx="2520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6" y="0"/>
                    </a:lnTo>
                    <a:lnTo>
                      <a:pt x="12" y="7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636000" y="2881440"/>
                <a:ext cx="2520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654000" y="2881440"/>
                <a:ext cx="2520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817800" y="285156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835800" y="2851560"/>
                <a:ext cx="3960" cy="172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839760" y="285156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7" y="8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2" y="2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85920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812040" y="2876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5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823560" y="288144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6" y="0"/>
                    </a:lnTo>
                    <a:lnTo>
                      <a:pt x="12" y="7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853080" y="288144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868920" y="288144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3868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H="1">
                <a:off x="4743000" y="3877920"/>
                <a:ext cx="2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79952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7368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46680" y="40446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H="1">
                <a:off x="4846320" y="38779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V="1">
                <a:off x="487368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H="1">
                <a:off x="507888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04576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 flipH="1">
                <a:off x="5049720" y="3877920"/>
                <a:ext cx="2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V="1">
                <a:off x="507708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V="1">
                <a:off x="497916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490896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012280" y="4049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01228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01480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06320" y="39304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7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 flipV="1">
                <a:off x="508104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91076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00472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H="1">
                <a:off x="4977360" y="400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494424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>
                <a:off x="4641120" y="38779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466848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V="1">
                <a:off x="457092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36140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36140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36536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492440" y="4042440"/>
                <a:ext cx="3528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50252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50036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50432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59612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60404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601880" y="4051440"/>
                <a:ext cx="1980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47703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66848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446688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433760" y="3877920"/>
                <a:ext cx="3132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H="1">
                <a:off x="443772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V="1">
                <a:off x="446292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470772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84272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477036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18788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19508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419364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19760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82356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V="1">
                <a:off x="38235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V="1">
                <a:off x="393156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297960" y="33350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7"/>
                    </a:moveTo>
                    <a:lnTo>
                      <a:pt x="12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2" y="10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456876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53528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 flipH="1">
                <a:off x="4539240" y="3877920"/>
                <a:ext cx="2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V="1">
                <a:off x="45669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 flipV="1">
                <a:off x="446940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35348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80924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80708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80924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60584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69764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470556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470556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463716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4103640" y="40446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09932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H="1">
                <a:off x="4132800" y="400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V="1">
                <a:off x="402912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26564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95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269600" y="40446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103640" y="4080960"/>
                <a:ext cx="163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05648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06620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064400" y="4051440"/>
                <a:ext cx="1728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068360" y="40496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95496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96468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96252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96648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5308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>
                <a:off x="392904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96280" y="3877920"/>
                <a:ext cx="3096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265640" y="3881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413460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6316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6100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63160" y="40496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65004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65796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65580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65976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54600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55572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554280" y="4051440"/>
                <a:ext cx="1728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55572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79440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75156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761280" y="4049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757320" y="4051440"/>
                <a:ext cx="1980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76128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193640" y="4259880"/>
                <a:ext cx="136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205160" y="4259880"/>
                <a:ext cx="3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218840" y="4259880"/>
                <a:ext cx="136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236480" y="425988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244040" y="4259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259880" y="425988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3" y="9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277160" y="4259880"/>
                <a:ext cx="136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289400" y="425988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07040" y="425988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H="1">
                <a:off x="3899520" y="3877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 flipV="1">
                <a:off x="392580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02912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99780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001400" y="38779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299120" y="400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V="1">
                <a:off x="430092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09932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95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89200" y="3877920"/>
                <a:ext cx="3132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V="1">
                <a:off x="372024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45420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297960" y="39304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7"/>
                    </a:move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41532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386160" y="3877920"/>
                <a:ext cx="3096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3389400" y="3877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V="1">
                <a:off x="341532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51684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48768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690720" y="3877920"/>
                <a:ext cx="3132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694320" y="3877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44448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45240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452400" y="4051440"/>
                <a:ext cx="1728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359316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V="1">
                <a:off x="36183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372024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3297960" y="42685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6"/>
                    </a:move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491640" y="40446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349164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V="1">
                <a:off x="351684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61836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798360" y="40446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379836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3798360" y="27936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555720" y="2472840"/>
                <a:ext cx="51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555720" y="2462760"/>
                <a:ext cx="518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3555360" y="2333160"/>
                <a:ext cx="51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>
                <a:off x="3555360" y="2341800"/>
                <a:ext cx="51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798360" y="262692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867920" y="285156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883400" y="2851560"/>
                <a:ext cx="2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889520" y="28515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7" y="8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906800" y="2851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9"/>
                    </a:moveTo>
                    <a:lnTo>
                      <a:pt x="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862160" y="2876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5"/>
                    </a:moveTo>
                    <a:lnTo>
                      <a:pt x="8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881600" y="28814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899240" y="28814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914720" y="28814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461120" y="2333160"/>
                <a:ext cx="51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461120" y="2341800"/>
                <a:ext cx="51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H="1">
                <a:off x="4460760" y="2472840"/>
                <a:ext cx="51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flipH="1">
                <a:off x="4460760" y="2462760"/>
                <a:ext cx="51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13100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flipV="1">
                <a:off x="409932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29732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flipV="1">
                <a:off x="33861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379440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flipV="1">
                <a:off x="47386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flipV="1">
                <a:off x="44337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46292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45352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56696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flipV="1">
                <a:off x="46371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87368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77036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flipV="1">
                <a:off x="484272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V="1">
                <a:off x="494424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97556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0457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07708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66848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297960" y="27410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6"/>
                    </a:move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2580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V="1">
                <a:off x="426564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V="1">
                <a:off x="38962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41532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34876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51684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flipV="1">
                <a:off x="358920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61836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369072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72024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82356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99780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02912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360240" y="4080960"/>
                <a:ext cx="18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360240" y="4080960"/>
                <a:ext cx="18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271400" y="4080960"/>
                <a:ext cx="16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3279960" y="4407120"/>
                <a:ext cx="1974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>
                <a:off x="4271400" y="258840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3360240" y="2333160"/>
                <a:ext cx="18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>
                <a:off x="3279600" y="2286000"/>
                <a:ext cx="1974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3360240" y="2588400"/>
                <a:ext cx="18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307040" y="285156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322520" y="285156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2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9" y="9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9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347720" y="285156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353480" y="2851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9"/>
                    </a:move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4" y="9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371120" y="285156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7" y="6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39092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308840" y="287784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9" name=""/>
              <p:cNvGrpSpPr/>
              <p:nvPr/>
            </p:nvGrpSpPr>
            <p:grpSpPr>
              <a:xfrm>
                <a:off x="3276720" y="2288880"/>
                <a:ext cx="1980000" cy="2117520"/>
                <a:chOff x="3276720" y="2288880"/>
                <a:chExt cx="1980000" cy="2117520"/>
              </a:xfrm>
            </p:grpSpPr>
            <p:grpSp>
              <p:nvGrpSpPr>
                <p:cNvPr id="4340" name=""/>
                <p:cNvGrpSpPr/>
                <p:nvPr/>
              </p:nvGrpSpPr>
              <p:grpSpPr>
                <a:xfrm>
                  <a:off x="3297960" y="2333880"/>
                  <a:ext cx="1935000" cy="1958040"/>
                  <a:chOff x="3297960" y="2333880"/>
                  <a:chExt cx="1935000" cy="1958040"/>
                </a:xfrm>
              </p:grpSpPr>
              <p:sp>
                <p:nvSpPr>
                  <p:cNvPr id="4341" name=""/>
                  <p:cNvSpPr/>
                  <p:nvPr/>
                </p:nvSpPr>
                <p:spPr>
                  <a:xfrm>
                    <a:off x="449028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>
                    <a:off x="450576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456048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>
                    <a:off x="4576320" y="28508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>
                    <a:off x="458208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6" name=""/>
                  <p:cNvSpPr/>
                  <p:nvPr/>
                </p:nvSpPr>
                <p:spPr>
                  <a:xfrm>
                    <a:off x="460152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7" name=""/>
                  <p:cNvSpPr/>
                  <p:nvPr/>
                </p:nvSpPr>
                <p:spPr>
                  <a:xfrm>
                    <a:off x="45525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457452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>
                    <a:off x="459180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46076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>
                    <a:off x="4664520" y="2850840"/>
                    <a:ext cx="12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2" name=""/>
                  <p:cNvSpPr/>
                  <p:nvPr/>
                </p:nvSpPr>
                <p:spPr>
                  <a:xfrm>
                    <a:off x="4677480" y="2850840"/>
                    <a:ext cx="21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3" name=""/>
                  <p:cNvSpPr/>
                  <p:nvPr/>
                </p:nvSpPr>
                <p:spPr>
                  <a:xfrm>
                    <a:off x="4683960" y="2850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>
                    <a:off x="470124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465624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6" y="5"/>
                        </a:move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>
                    <a:off x="46760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>
                    <a:off x="469368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470916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 flipH="1">
                    <a:off x="4640400" y="279288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476568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4779720" y="2850840"/>
                    <a:ext cx="39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478728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8" y="9"/>
                        </a:lnTo>
                        <a:lnTo>
                          <a:pt x="6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480492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4" name=""/>
                  <p:cNvSpPr/>
                  <p:nvPr/>
                </p:nvSpPr>
                <p:spPr>
                  <a:xfrm>
                    <a:off x="47577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6" y="5"/>
                        </a:move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5" name=""/>
                  <p:cNvSpPr/>
                  <p:nvPr/>
                </p:nvSpPr>
                <p:spPr>
                  <a:xfrm>
                    <a:off x="477756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>
                    <a:off x="479520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48128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 flipH="1">
                    <a:off x="443736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 flipH="1">
                    <a:off x="453888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 flipH="1">
                    <a:off x="484380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 flipH="1">
                    <a:off x="494748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 flipH="1">
                    <a:off x="5048640" y="27928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496872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>
                    <a:off x="4982760" y="2850840"/>
                    <a:ext cx="39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499068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5008320" y="2850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>
                    <a:off x="4961160" y="287532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7" y="5"/>
                        </a:move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>
                    <a:off x="498276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500040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50180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>
                    <a:off x="507096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2" name=""/>
                  <p:cNvSpPr/>
                  <p:nvPr/>
                </p:nvSpPr>
                <p:spPr>
                  <a:xfrm>
                    <a:off x="5086440" y="2850840"/>
                    <a:ext cx="144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509436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8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5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511164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5065200" y="287532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6" y="5"/>
                        </a:moveTo>
                        <a:lnTo>
                          <a:pt x="7" y="6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50846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510192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511956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9" name=""/>
                  <p:cNvSpPr/>
                  <p:nvPr/>
                </p:nvSpPr>
                <p:spPr>
                  <a:xfrm>
                    <a:off x="443736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538880" y="2626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4640760" y="262620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>
                    <a:off x="4742280" y="2626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 flipV="1">
                    <a:off x="4455000" y="2333880"/>
                    <a:ext cx="0" cy="13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4" name=""/>
                  <p:cNvSpPr/>
                  <p:nvPr/>
                </p:nvSpPr>
                <p:spPr>
                  <a:xfrm>
                    <a:off x="469728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4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4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5" name=""/>
                  <p:cNvSpPr/>
                  <p:nvPr/>
                </p:nvSpPr>
                <p:spPr>
                  <a:xfrm>
                    <a:off x="4056120" y="260028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5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3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406584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5" y="6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 flipV="1">
                    <a:off x="406188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 flipV="1">
                    <a:off x="406584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385272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400176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>
                    <a:off x="4103280" y="2626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 flipV="1">
                    <a:off x="396216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 flipH="1">
                    <a:off x="4102920" y="2587680"/>
                    <a:ext cx="163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386280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5" y="6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V="1">
                    <a:off x="385668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 flipV="1">
                    <a:off x="386064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3954600" y="260028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3962160" y="2607480"/>
                    <a:ext cx="176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8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8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 flipV="1">
                    <a:off x="396036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 flipH="1">
                    <a:off x="413244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 flipH="1">
                    <a:off x="429876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 flipH="1">
                    <a:off x="392724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 flipH="1">
                    <a:off x="403092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 flipH="1">
                    <a:off x="382572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413424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430056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3929040" y="2591280"/>
                    <a:ext cx="216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382752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9" name=""/>
                  <p:cNvSpPr/>
                  <p:nvPr/>
                </p:nvSpPr>
                <p:spPr>
                  <a:xfrm>
                    <a:off x="403272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 flipV="1">
                    <a:off x="355176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 flipV="1">
                    <a:off x="3553920" y="26074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344448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3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345240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 flipV="1">
                    <a:off x="345024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 flipV="1">
                    <a:off x="3452400" y="26074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 flipV="1">
                    <a:off x="375912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3760920" y="260748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 flipV="1">
                    <a:off x="3755160" y="26038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 flipH="1">
                    <a:off x="3417120" y="2666880"/>
                    <a:ext cx="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 flipH="1">
                    <a:off x="3518640" y="2666880"/>
                    <a:ext cx="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 flipH="1">
                    <a:off x="362052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 flipH="1">
                    <a:off x="372204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3419280" y="2591280"/>
                    <a:ext cx="144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>
                    <a:off x="352080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>
                    <a:off x="3622320" y="2591280"/>
                    <a:ext cx="216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>
                    <a:off x="3723840" y="2591280"/>
                    <a:ext cx="216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>
                    <a:off x="4197240" y="2442600"/>
                    <a:ext cx="12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5" y="4"/>
                        </a:lnTo>
                        <a:lnTo>
                          <a:pt x="1" y="4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>
                    <a:off x="4214520" y="2442600"/>
                    <a:ext cx="13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" y="10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>
                    <a:off x="4228200" y="244260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7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>
                    <a:off x="4249800" y="244260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2" y="9"/>
                        </a:moveTo>
                        <a:lnTo>
                          <a:pt x="4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9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>
                    <a:off x="4271040" y="2442600"/>
                    <a:ext cx="13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6" y="7"/>
                        </a:lnTo>
                        <a:lnTo>
                          <a:pt x="6" y="10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>
                    <a:off x="4275000" y="2442600"/>
                    <a:ext cx="273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">
                        <a:moveTo>
                          <a:pt x="0" y="10"/>
                        </a:moveTo>
                        <a:lnTo>
                          <a:pt x="7" y="0"/>
                        </a:lnTo>
                        <a:lnTo>
                          <a:pt x="13" y="10"/>
                        </a:lnTo>
                        <a:lnTo>
                          <a:pt x="13" y="7"/>
                        </a:lnTo>
                        <a:lnTo>
                          <a:pt x="7" y="7"/>
                        </a:lnTo>
                        <a:lnTo>
                          <a:pt x="7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4294800" y="244260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4" y="9"/>
                        </a:moveTo>
                        <a:lnTo>
                          <a:pt x="4" y="6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5" y="6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>
                    <a:off x="426924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>
                    <a:off x="3899880" y="26262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 flipV="1">
                    <a:off x="4073760" y="2333880"/>
                    <a:ext cx="0" cy="13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7" name=""/>
                  <p:cNvSpPr/>
                  <p:nvPr/>
                </p:nvSpPr>
                <p:spPr>
                  <a:xfrm>
                    <a:off x="418752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8" name=""/>
                  <p:cNvSpPr/>
                  <p:nvPr/>
                </p:nvSpPr>
                <p:spPr>
                  <a:xfrm>
                    <a:off x="419508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 flipV="1">
                    <a:off x="4191120" y="26038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 flipV="1">
                    <a:off x="4195080" y="26074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 flipH="1">
                    <a:off x="3899520" y="27928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 flipH="1">
                    <a:off x="426924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>
                    <a:off x="391932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>
                    <a:off x="3936960" y="28508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>
                    <a:off x="3940920" y="285084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7" y="8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9"/>
                        </a:lnTo>
                        <a:lnTo>
                          <a:pt x="7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>
                    <a:off x="396036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39135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392544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6" y="0"/>
                        </a:lnTo>
                        <a:lnTo>
                          <a:pt x="12" y="7"/>
                        </a:lnTo>
                        <a:lnTo>
                          <a:pt x="12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395244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39700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4138200" y="2850840"/>
                    <a:ext cx="176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">
                        <a:moveTo>
                          <a:pt x="0" y="6"/>
                        </a:move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>
                    <a:off x="4154040" y="2850840"/>
                    <a:ext cx="27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0">
                        <a:moveTo>
                          <a:pt x="2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9" y="7"/>
                        </a:lnTo>
                        <a:lnTo>
                          <a:pt x="9" y="6"/>
                        </a:lnTo>
                        <a:lnTo>
                          <a:pt x="10" y="6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4" y="9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4181040" y="2850840"/>
                    <a:ext cx="21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>
                    <a:off x="418752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3" y="9"/>
                        </a:move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4203000" y="2850840"/>
                    <a:ext cx="176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">
                        <a:moveTo>
                          <a:pt x="7" y="6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6" name=""/>
                  <p:cNvSpPr/>
                  <p:nvPr/>
                </p:nvSpPr>
                <p:spPr>
                  <a:xfrm>
                    <a:off x="4220640" y="285084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9"/>
                        </a:lnTo>
                        <a:lnTo>
                          <a:pt x="7" y="9"/>
                        </a:lnTo>
                        <a:lnTo>
                          <a:pt x="7" y="4"/>
                        </a:lnTo>
                        <a:lnTo>
                          <a:pt x="2" y="4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>
                    <a:off x="4140360" y="287712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0" y="8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2" y="4"/>
                        </a:lnTo>
                        <a:lnTo>
                          <a:pt x="2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415764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417384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419112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1" name=""/>
                  <p:cNvSpPr/>
                  <p:nvPr/>
                </p:nvSpPr>
                <p:spPr>
                  <a:xfrm>
                    <a:off x="4204800" y="2877120"/>
                    <a:ext cx="3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42087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173840" y="2908440"/>
                    <a:ext cx="576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4134240" y="292248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6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7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4154040" y="292248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7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>
                    <a:off x="4169520" y="292248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3" y="9"/>
                        </a:move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4191120" y="2920680"/>
                    <a:ext cx="13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1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6" y="7"/>
                        </a:lnTo>
                        <a:lnTo>
                          <a:pt x="6" y="11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4203000" y="292248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7"/>
                        </a:lnTo>
                        <a:lnTo>
                          <a:pt x="6" y="7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>
                    <a:off x="4222440" y="2920680"/>
                    <a:ext cx="13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1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6" y="7"/>
                        </a:lnTo>
                        <a:lnTo>
                          <a:pt x="6" y="11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4023000" y="2850840"/>
                    <a:ext cx="11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4038480" y="28508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4044600" y="2850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406404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4" name=""/>
                  <p:cNvSpPr/>
                  <p:nvPr/>
                </p:nvSpPr>
                <p:spPr>
                  <a:xfrm>
                    <a:off x="4015440" y="287532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>
                    <a:off x="40384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4042440" y="2880720"/>
                    <a:ext cx="273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8">
                        <a:moveTo>
                          <a:pt x="0" y="7"/>
                        </a:move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7" y="3"/>
                        </a:lnTo>
                        <a:lnTo>
                          <a:pt x="13" y="3"/>
                        </a:lnTo>
                        <a:lnTo>
                          <a:pt x="13" y="7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407160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 flipH="1">
                    <a:off x="400176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 flipH="1">
                    <a:off x="410328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364968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365760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>
                    <a:off x="375120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>
                    <a:off x="3389400" y="26262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>
                    <a:off x="349164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359316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 flipV="1">
                    <a:off x="3653640" y="26038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 flipV="1">
                    <a:off x="3657600" y="2607480"/>
                    <a:ext cx="1728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3297960" y="2412720"/>
                    <a:ext cx="27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6"/>
                        </a:move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1" y="10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0" y="12"/>
                        </a:lnTo>
                        <a:lnTo>
                          <a:pt x="11" y="11"/>
                        </a:lnTo>
                        <a:lnTo>
                          <a:pt x="12" y="10"/>
                        </a:lnTo>
                        <a:lnTo>
                          <a:pt x="13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3694320" y="26262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3551760" y="2335680"/>
                    <a:ext cx="2160" cy="13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354600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3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355572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>
                    <a:off x="4947480" y="4041360"/>
                    <a:ext cx="273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4" name=""/>
                  <p:cNvSpPr/>
                  <p:nvPr/>
                </p:nvSpPr>
                <p:spPr>
                  <a:xfrm flipH="1">
                    <a:off x="4947480" y="3877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 flipV="1">
                    <a:off x="4975200" y="3878280"/>
                    <a:ext cx="0" cy="16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5104080" y="404136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5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3" y="14"/>
                        </a:lnTo>
                        <a:lnTo>
                          <a:pt x="6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5" y="14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>
                    <a:off x="5113800" y="404856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5" y="7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>
                    <a:off x="5113800" y="4048560"/>
                    <a:ext cx="17280" cy="17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>
                    <a:off x="5115600" y="4047120"/>
                    <a:ext cx="17640" cy="1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4900680" y="404136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5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4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4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>
                    <a:off x="4910400" y="404856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5" y="7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2" name=""/>
                  <p:cNvSpPr/>
                  <p:nvPr/>
                </p:nvSpPr>
                <p:spPr>
                  <a:xfrm>
                    <a:off x="5205600" y="4266000"/>
                    <a:ext cx="273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7"/>
                        </a:move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1" y="10"/>
                        </a:lnTo>
                        <a:lnTo>
                          <a:pt x="2" y="12"/>
                        </a:lnTo>
                        <a:lnTo>
                          <a:pt x="4" y="13"/>
                        </a:lnTo>
                        <a:lnTo>
                          <a:pt x="6" y="14"/>
                        </a:lnTo>
                        <a:lnTo>
                          <a:pt x="10" y="13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3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3" name=""/>
                  <p:cNvSpPr/>
                  <p:nvPr/>
                </p:nvSpPr>
                <p:spPr>
                  <a:xfrm>
                    <a:off x="5205600" y="3333960"/>
                    <a:ext cx="27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7"/>
                        </a:moveTo>
                        <a:lnTo>
                          <a:pt x="12" y="5"/>
                        </a:lnTo>
                        <a:lnTo>
                          <a:pt x="12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0" y="12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3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351108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>
                    <a:off x="3526560" y="2850840"/>
                    <a:ext cx="5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6" name=""/>
                  <p:cNvSpPr/>
                  <p:nvPr/>
                </p:nvSpPr>
                <p:spPr>
                  <a:xfrm>
                    <a:off x="353448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5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7" name=""/>
                  <p:cNvSpPr/>
                  <p:nvPr/>
                </p:nvSpPr>
                <p:spPr>
                  <a:xfrm>
                    <a:off x="355176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3507120" y="287532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6" y="5"/>
                        </a:move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>
                    <a:off x="351684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6" y="0"/>
                        </a:lnTo>
                        <a:lnTo>
                          <a:pt x="12" y="7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>
                    <a:off x="354420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>
                    <a:off x="35614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340920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>
                    <a:off x="3425040" y="2850840"/>
                    <a:ext cx="5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>
                    <a:off x="343260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5" name=""/>
                  <p:cNvSpPr/>
                  <p:nvPr/>
                </p:nvSpPr>
                <p:spPr>
                  <a:xfrm>
                    <a:off x="345024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6" name=""/>
                  <p:cNvSpPr/>
                  <p:nvPr/>
                </p:nvSpPr>
                <p:spPr>
                  <a:xfrm>
                    <a:off x="340344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6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>
                    <a:off x="341532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6" y="0"/>
                        </a:lnTo>
                        <a:lnTo>
                          <a:pt x="12" y="7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>
                    <a:off x="344232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9" name=""/>
                  <p:cNvSpPr/>
                  <p:nvPr/>
                </p:nvSpPr>
                <p:spPr>
                  <a:xfrm>
                    <a:off x="344844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>
                    <a:off x="371628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1" name=""/>
                  <p:cNvSpPr/>
                  <p:nvPr/>
                </p:nvSpPr>
                <p:spPr>
                  <a:xfrm>
                    <a:off x="3731760" y="2850840"/>
                    <a:ext cx="5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>
                    <a:off x="373752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7" y="8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>
                    <a:off x="375696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>
                    <a:off x="3710520" y="287532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6" y="5"/>
                        </a:move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>
                    <a:off x="373176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>
                    <a:off x="373968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6" y="3"/>
                        </a:lnTo>
                        <a:lnTo>
                          <a:pt x="12" y="3"/>
                        </a:lnTo>
                        <a:lnTo>
                          <a:pt x="12" y="7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7" name=""/>
                  <p:cNvSpPr/>
                  <p:nvPr/>
                </p:nvSpPr>
                <p:spPr>
                  <a:xfrm>
                    <a:off x="37666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8" name=""/>
                  <p:cNvSpPr/>
                  <p:nvPr/>
                </p:nvSpPr>
                <p:spPr>
                  <a:xfrm flipH="1">
                    <a:off x="3389040" y="27928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9" name=""/>
                  <p:cNvSpPr/>
                  <p:nvPr/>
                </p:nvSpPr>
                <p:spPr>
                  <a:xfrm flipH="1">
                    <a:off x="349164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0" name=""/>
                  <p:cNvSpPr/>
                  <p:nvPr/>
                </p:nvSpPr>
                <p:spPr>
                  <a:xfrm flipH="1">
                    <a:off x="359316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1" name=""/>
                <p:cNvSpPr/>
                <p:nvPr/>
              </p:nvSpPr>
              <p:spPr>
                <a:xfrm>
                  <a:off x="4323960" y="2881080"/>
                  <a:ext cx="15840" cy="136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>
                  <a:off x="4340160" y="2881080"/>
                  <a:ext cx="15480" cy="136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4355640" y="2881080"/>
                  <a:ext cx="15480" cy="136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4371120" y="287748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4376880" y="2875680"/>
                  <a:ext cx="17640" cy="172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5"/>
                      </a:move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4340160" y="2908800"/>
                  <a:ext cx="5760" cy="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4302720" y="2923200"/>
                  <a:ext cx="17280" cy="172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6"/>
                      </a:move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4320000" y="29232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7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5" y="9"/>
                      </a:lnTo>
                      <a:lnTo>
                        <a:pt x="1" y="2"/>
                      </a:lnTo>
                      <a:lnTo>
                        <a:pt x="1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4338000" y="2923200"/>
                  <a:ext cx="15480" cy="172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2" y="9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4355640" y="2921040"/>
                  <a:ext cx="15480" cy="208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1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4371120" y="2923200"/>
                  <a:ext cx="11880" cy="172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>
                  <a:off x="4386600" y="292104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1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5254560" y="2288880"/>
                  <a:ext cx="216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3276720" y="2288880"/>
                  <a:ext cx="144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 flipV="1">
                  <a:off x="338220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 flipV="1">
                  <a:off x="338616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 flipV="1">
                  <a:off x="514908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409932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379440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369072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358920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348768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453528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4637160" y="2591640"/>
                  <a:ext cx="144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>
                  <a:off x="3997800" y="2591640"/>
                  <a:ext cx="144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389628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 flipV="1">
                  <a:off x="338616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 flipV="1">
                  <a:off x="443376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4267440" y="2588040"/>
                  <a:ext cx="2160" cy="1494000"/>
                </a:xfrm>
                <a:custGeom>
                  <a:avLst/>
                  <a:gdLst/>
                  <a:ahLst/>
                  <a:rect l="l" t="t" r="r" b="b"/>
                  <a:pathLst>
                    <a:path w="1" h="853">
                      <a:moveTo>
                        <a:pt x="0" y="0"/>
                      </a:moveTo>
                      <a:lnTo>
                        <a:pt x="0" y="85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>
                  <a:off x="473868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 flipV="1">
                  <a:off x="514908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504540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>
                  <a:off x="494388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>
                  <a:off x="484236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>
                  <a:off x="3356280" y="2288880"/>
                  <a:ext cx="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>
                  <a:off x="5174280" y="2288880"/>
                  <a:ext cx="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77" name=""/>
          <p:cNvGrpSpPr/>
          <p:nvPr/>
        </p:nvGrpSpPr>
        <p:grpSpPr>
          <a:xfrm>
            <a:off x="3886200" y="2590920"/>
            <a:ext cx="837720" cy="532800"/>
            <a:chOff x="3886200" y="2590920"/>
            <a:chExt cx="837720" cy="532800"/>
          </a:xfrm>
        </p:grpSpPr>
        <p:grpSp>
          <p:nvGrpSpPr>
            <p:cNvPr id="4578" name=""/>
            <p:cNvGrpSpPr/>
            <p:nvPr/>
          </p:nvGrpSpPr>
          <p:grpSpPr>
            <a:xfrm>
              <a:off x="3902040" y="2616120"/>
              <a:ext cx="821880" cy="507600"/>
              <a:chOff x="3902040" y="2616120"/>
              <a:chExt cx="821880" cy="507600"/>
            </a:xfrm>
          </p:grpSpPr>
          <p:sp>
            <p:nvSpPr>
              <p:cNvPr id="4579" name=""/>
              <p:cNvSpPr/>
              <p:nvPr/>
            </p:nvSpPr>
            <p:spPr>
              <a:xfrm>
                <a:off x="3902040" y="2779560"/>
                <a:ext cx="821880" cy="18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909600" y="2797560"/>
                <a:ext cx="813960" cy="32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909600" y="2616120"/>
                <a:ext cx="813960" cy="32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2" name=""/>
            <p:cNvSpPr/>
            <p:nvPr/>
          </p:nvSpPr>
          <p:spPr>
            <a:xfrm>
              <a:off x="3886200" y="2754000"/>
              <a:ext cx="821880" cy="18000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894120" y="2770920"/>
              <a:ext cx="813960" cy="3276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894120" y="2590920"/>
              <a:ext cx="813960" cy="32616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045320" y="2633040"/>
              <a:ext cx="511200" cy="242640"/>
              <a:chOff x="4045320" y="2633040"/>
              <a:chExt cx="511200" cy="242640"/>
            </a:xfrm>
          </p:grpSpPr>
          <p:grpSp>
            <p:nvGrpSpPr>
              <p:cNvPr id="4586" name=""/>
              <p:cNvGrpSpPr/>
              <p:nvPr/>
            </p:nvGrpSpPr>
            <p:grpSpPr>
              <a:xfrm>
                <a:off x="4045320" y="2633040"/>
                <a:ext cx="511200" cy="242640"/>
                <a:chOff x="4045320" y="2633040"/>
                <a:chExt cx="511200" cy="242640"/>
              </a:xfrm>
            </p:grpSpPr>
            <p:sp>
              <p:nvSpPr>
                <p:cNvPr id="4587" name=""/>
                <p:cNvSpPr/>
                <p:nvPr/>
              </p:nvSpPr>
              <p:spPr>
                <a:xfrm>
                  <a:off x="4045320" y="263304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>
                  <a:off x="4045320" y="263304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>
                  <a:off x="4316400" y="278784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>
                  <a:off x="4316400" y="278784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1" name=""/>
              <p:cNvGrpSpPr/>
              <p:nvPr/>
            </p:nvGrpSpPr>
            <p:grpSpPr>
              <a:xfrm>
                <a:off x="4060800" y="2633040"/>
                <a:ext cx="480600" cy="242640"/>
                <a:chOff x="4060800" y="2633040"/>
                <a:chExt cx="480600" cy="242640"/>
              </a:xfrm>
            </p:grpSpPr>
            <p:sp>
              <p:nvSpPr>
                <p:cNvPr id="4592" name=""/>
                <p:cNvSpPr/>
                <p:nvPr/>
              </p:nvSpPr>
              <p:spPr>
                <a:xfrm>
                  <a:off x="4299840" y="263304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>
                  <a:off x="4299840" y="263304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>
                  <a:off x="4060800" y="277092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>
                  <a:off x="4060800" y="277092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96" name=""/>
          <p:cNvGrpSpPr/>
          <p:nvPr/>
        </p:nvGrpSpPr>
        <p:grpSpPr>
          <a:xfrm>
            <a:off x="3886200" y="3429000"/>
            <a:ext cx="837720" cy="533160"/>
            <a:chOff x="3886200" y="3429000"/>
            <a:chExt cx="837720" cy="533160"/>
          </a:xfrm>
        </p:grpSpPr>
        <p:grpSp>
          <p:nvGrpSpPr>
            <p:cNvPr id="4597" name=""/>
            <p:cNvGrpSpPr/>
            <p:nvPr/>
          </p:nvGrpSpPr>
          <p:grpSpPr>
            <a:xfrm>
              <a:off x="3902040" y="3454200"/>
              <a:ext cx="821880" cy="507960"/>
              <a:chOff x="3902040" y="3454200"/>
              <a:chExt cx="821880" cy="507960"/>
            </a:xfrm>
          </p:grpSpPr>
          <p:sp>
            <p:nvSpPr>
              <p:cNvPr id="4598" name=""/>
              <p:cNvSpPr/>
              <p:nvPr/>
            </p:nvSpPr>
            <p:spPr>
              <a:xfrm>
                <a:off x="3902040" y="3617640"/>
                <a:ext cx="821880" cy="18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909600" y="3635640"/>
                <a:ext cx="813960" cy="32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909600" y="3454200"/>
                <a:ext cx="813960" cy="3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1" name=""/>
            <p:cNvSpPr/>
            <p:nvPr/>
          </p:nvSpPr>
          <p:spPr>
            <a:xfrm>
              <a:off x="3886200" y="3592080"/>
              <a:ext cx="821880" cy="18000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894120" y="3609000"/>
              <a:ext cx="813960" cy="3279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894120" y="3429000"/>
              <a:ext cx="813960" cy="3265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4" name=""/>
            <p:cNvGrpSpPr/>
            <p:nvPr/>
          </p:nvGrpSpPr>
          <p:grpSpPr>
            <a:xfrm>
              <a:off x="4045320" y="3471120"/>
              <a:ext cx="511200" cy="242640"/>
              <a:chOff x="4045320" y="3471120"/>
              <a:chExt cx="511200" cy="242640"/>
            </a:xfrm>
          </p:grpSpPr>
          <p:grpSp>
            <p:nvGrpSpPr>
              <p:cNvPr id="4605" name=""/>
              <p:cNvGrpSpPr/>
              <p:nvPr/>
            </p:nvGrpSpPr>
            <p:grpSpPr>
              <a:xfrm>
                <a:off x="4045320" y="3471120"/>
                <a:ext cx="511200" cy="242640"/>
                <a:chOff x="4045320" y="3471120"/>
                <a:chExt cx="511200" cy="242640"/>
              </a:xfrm>
            </p:grpSpPr>
            <p:sp>
              <p:nvSpPr>
                <p:cNvPr id="4606" name=""/>
                <p:cNvSpPr/>
                <p:nvPr/>
              </p:nvSpPr>
              <p:spPr>
                <a:xfrm>
                  <a:off x="4045320" y="347112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>
                  <a:off x="4045320" y="347112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4316400" y="362592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4316400" y="362592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0" name=""/>
              <p:cNvGrpSpPr/>
              <p:nvPr/>
            </p:nvGrpSpPr>
            <p:grpSpPr>
              <a:xfrm>
                <a:off x="4060800" y="3471120"/>
                <a:ext cx="480600" cy="242640"/>
                <a:chOff x="4060800" y="3471120"/>
                <a:chExt cx="480600" cy="242640"/>
              </a:xfrm>
            </p:grpSpPr>
            <p:sp>
              <p:nvSpPr>
                <p:cNvPr id="4611" name=""/>
                <p:cNvSpPr/>
                <p:nvPr/>
              </p:nvSpPr>
              <p:spPr>
                <a:xfrm>
                  <a:off x="4299840" y="347112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4299840" y="347112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4060800" y="360900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4060800" y="360900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15" name=""/>
          <p:cNvGrpSpPr/>
          <p:nvPr/>
        </p:nvGrpSpPr>
        <p:grpSpPr>
          <a:xfrm>
            <a:off x="7848720" y="3124080"/>
            <a:ext cx="533160" cy="380880"/>
            <a:chOff x="7848720" y="3124080"/>
            <a:chExt cx="533160" cy="380880"/>
          </a:xfrm>
        </p:grpSpPr>
        <p:grpSp>
          <p:nvGrpSpPr>
            <p:cNvPr id="4616" name=""/>
            <p:cNvGrpSpPr/>
            <p:nvPr/>
          </p:nvGrpSpPr>
          <p:grpSpPr>
            <a:xfrm>
              <a:off x="7951320" y="3327120"/>
              <a:ext cx="340200" cy="118080"/>
              <a:chOff x="7951320" y="3327120"/>
              <a:chExt cx="340200" cy="118080"/>
            </a:xfrm>
          </p:grpSpPr>
          <p:grpSp>
            <p:nvGrpSpPr>
              <p:cNvPr id="4617" name=""/>
              <p:cNvGrpSpPr/>
              <p:nvPr/>
            </p:nvGrpSpPr>
            <p:grpSpPr>
              <a:xfrm>
                <a:off x="7951320" y="3327120"/>
                <a:ext cx="340200" cy="118080"/>
                <a:chOff x="7951320" y="3327120"/>
                <a:chExt cx="340200" cy="118080"/>
              </a:xfrm>
            </p:grpSpPr>
            <p:grpSp>
              <p:nvGrpSpPr>
                <p:cNvPr id="4618" name=""/>
                <p:cNvGrpSpPr/>
                <p:nvPr/>
              </p:nvGrpSpPr>
              <p:grpSpPr>
                <a:xfrm>
                  <a:off x="7951320" y="3327120"/>
                  <a:ext cx="340200" cy="118080"/>
                  <a:chOff x="7951320" y="3327120"/>
                  <a:chExt cx="340200" cy="118080"/>
                </a:xfrm>
              </p:grpSpPr>
              <p:grpSp>
                <p:nvGrpSpPr>
                  <p:cNvPr id="4619" name=""/>
                  <p:cNvGrpSpPr/>
                  <p:nvPr/>
                </p:nvGrpSpPr>
                <p:grpSpPr>
                  <a:xfrm>
                    <a:off x="7951320" y="3327120"/>
                    <a:ext cx="339120" cy="118080"/>
                    <a:chOff x="7951320" y="3327120"/>
                    <a:chExt cx="339120" cy="118080"/>
                  </a:xfrm>
                </p:grpSpPr>
                <p:grpSp>
                  <p:nvGrpSpPr>
                    <p:cNvPr id="4620" name=""/>
                    <p:cNvGrpSpPr/>
                    <p:nvPr/>
                  </p:nvGrpSpPr>
                  <p:grpSpPr>
                    <a:xfrm>
                      <a:off x="7951320" y="3327120"/>
                      <a:ext cx="339120" cy="118080"/>
                      <a:chOff x="7951320" y="3327120"/>
                      <a:chExt cx="339120" cy="118080"/>
                    </a:xfrm>
                  </p:grpSpPr>
                  <p:sp>
                    <p:nvSpPr>
                      <p:cNvPr id="4621" name=""/>
                      <p:cNvSpPr/>
                      <p:nvPr/>
                    </p:nvSpPr>
                    <p:spPr>
                      <a:xfrm>
                        <a:off x="7952400" y="33577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2" name=""/>
                      <p:cNvSpPr/>
                      <p:nvPr/>
                    </p:nvSpPr>
                    <p:spPr>
                      <a:xfrm>
                        <a:off x="7951320" y="33271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23" name=""/>
                    <p:cNvSpPr/>
                    <p:nvPr/>
                  </p:nvSpPr>
                  <p:spPr>
                    <a:xfrm>
                      <a:off x="7960320" y="33508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4" name=""/>
                  <p:cNvGrpSpPr/>
                  <p:nvPr/>
                </p:nvGrpSpPr>
                <p:grpSpPr>
                  <a:xfrm>
                    <a:off x="7965000" y="3425040"/>
                    <a:ext cx="326520" cy="17640"/>
                    <a:chOff x="7965000" y="3425040"/>
                    <a:chExt cx="326520" cy="17640"/>
                  </a:xfrm>
                </p:grpSpPr>
                <p:grpSp>
                  <p:nvGrpSpPr>
                    <p:cNvPr id="4625" name=""/>
                    <p:cNvGrpSpPr/>
                    <p:nvPr/>
                  </p:nvGrpSpPr>
                  <p:grpSpPr>
                    <a:xfrm>
                      <a:off x="7965000" y="3425040"/>
                      <a:ext cx="160560" cy="17640"/>
                      <a:chOff x="7965000" y="3425040"/>
                      <a:chExt cx="160560" cy="17640"/>
                    </a:xfrm>
                  </p:grpSpPr>
                  <p:grpSp>
                    <p:nvGrpSpPr>
                      <p:cNvPr id="4626" name=""/>
                      <p:cNvGrpSpPr/>
                      <p:nvPr/>
                    </p:nvGrpSpPr>
                    <p:grpSpPr>
                      <a:xfrm>
                        <a:off x="7965000" y="3425040"/>
                        <a:ext cx="76320" cy="17640"/>
                        <a:chOff x="7965000" y="3425040"/>
                        <a:chExt cx="76320" cy="17640"/>
                      </a:xfrm>
                    </p:grpSpPr>
                    <p:grpSp>
                      <p:nvGrpSpPr>
                        <p:cNvPr id="4627" name=""/>
                        <p:cNvGrpSpPr/>
                        <p:nvPr/>
                      </p:nvGrpSpPr>
                      <p:grpSpPr>
                        <a:xfrm>
                          <a:off x="7965000" y="3425040"/>
                          <a:ext cx="35640" cy="17640"/>
                          <a:chOff x="7965000" y="3425040"/>
                          <a:chExt cx="35640" cy="17640"/>
                        </a:xfrm>
                      </p:grpSpPr>
                      <p:grpSp>
                        <p:nvGrpSpPr>
                          <p:cNvPr id="4628" name=""/>
                          <p:cNvGrpSpPr/>
                          <p:nvPr/>
                        </p:nvGrpSpPr>
                        <p:grpSpPr>
                          <a:xfrm>
                            <a:off x="7965000" y="3425040"/>
                            <a:ext cx="20880" cy="17640"/>
                            <a:chOff x="7965000" y="3425040"/>
                            <a:chExt cx="20880" cy="17640"/>
                          </a:xfrm>
                        </p:grpSpPr>
                        <p:grpSp>
                          <p:nvGrpSpPr>
                            <p:cNvPr id="4629" name=""/>
                            <p:cNvGrpSpPr/>
                            <p:nvPr/>
                          </p:nvGrpSpPr>
                          <p:grpSpPr>
                            <a:xfrm>
                              <a:off x="7965000" y="3425040"/>
                              <a:ext cx="5040" cy="17640"/>
                              <a:chOff x="7965000" y="3425040"/>
                              <a:chExt cx="5040" cy="17640"/>
                            </a:xfrm>
                          </p:grpSpPr>
                          <p:sp>
                            <p:nvSpPr>
                              <p:cNvPr id="4630" name=""/>
                              <p:cNvSpPr/>
                              <p:nvPr/>
                            </p:nvSpPr>
                            <p:spPr>
                              <a:xfrm>
                                <a:off x="7965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31" name=""/>
                              <p:cNvSpPr/>
                              <p:nvPr/>
                            </p:nvSpPr>
                            <p:spPr>
                              <a:xfrm>
                                <a:off x="7969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32" name=""/>
                            <p:cNvGrpSpPr/>
                            <p:nvPr/>
                          </p:nvGrpSpPr>
                          <p:grpSpPr>
                            <a:xfrm>
                              <a:off x="7974360" y="3425040"/>
                              <a:ext cx="11520" cy="17640"/>
                              <a:chOff x="7974360" y="3425040"/>
                              <a:chExt cx="11520" cy="17640"/>
                            </a:xfrm>
                          </p:grpSpPr>
                          <p:sp>
                            <p:nvSpPr>
                              <p:cNvPr id="4633" name=""/>
                              <p:cNvSpPr/>
                              <p:nvPr/>
                            </p:nvSpPr>
                            <p:spPr>
                              <a:xfrm>
                                <a:off x="79743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34" name=""/>
                              <p:cNvSpPr/>
                              <p:nvPr/>
                            </p:nvSpPr>
                            <p:spPr>
                              <a:xfrm>
                                <a:off x="79797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35" name=""/>
                          <p:cNvGrpSpPr/>
                          <p:nvPr/>
                        </p:nvGrpSpPr>
                        <p:grpSpPr>
                          <a:xfrm>
                            <a:off x="7985160" y="3425040"/>
                            <a:ext cx="15480" cy="17640"/>
                            <a:chOff x="7985160" y="3425040"/>
                            <a:chExt cx="15480" cy="17640"/>
                          </a:xfrm>
                        </p:grpSpPr>
                        <p:grpSp>
                          <p:nvGrpSpPr>
                            <p:cNvPr id="4636" name=""/>
                            <p:cNvGrpSpPr/>
                            <p:nvPr/>
                          </p:nvGrpSpPr>
                          <p:grpSpPr>
                            <a:xfrm>
                              <a:off x="7985160" y="3425040"/>
                              <a:ext cx="11520" cy="17640"/>
                              <a:chOff x="7985160" y="3425040"/>
                              <a:chExt cx="11520" cy="17640"/>
                            </a:xfrm>
                          </p:grpSpPr>
                          <p:sp>
                            <p:nvSpPr>
                              <p:cNvPr id="4637" name=""/>
                              <p:cNvSpPr/>
                              <p:nvPr/>
                            </p:nvSpPr>
                            <p:spPr>
                              <a:xfrm>
                                <a:off x="79851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38" name=""/>
                              <p:cNvSpPr/>
                              <p:nvPr/>
                            </p:nvSpPr>
                            <p:spPr>
                              <a:xfrm>
                                <a:off x="7989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39" name=""/>
                            <p:cNvGrpSpPr/>
                            <p:nvPr/>
                          </p:nvGrpSpPr>
                          <p:grpSpPr>
                            <a:xfrm>
                              <a:off x="7995600" y="3425040"/>
                              <a:ext cx="5040" cy="17640"/>
                              <a:chOff x="7995600" y="3425040"/>
                              <a:chExt cx="5040" cy="17640"/>
                            </a:xfrm>
                          </p:grpSpPr>
                          <p:sp>
                            <p:nvSpPr>
                              <p:cNvPr id="4640" name=""/>
                              <p:cNvSpPr/>
                              <p:nvPr/>
                            </p:nvSpPr>
                            <p:spPr>
                              <a:xfrm>
                                <a:off x="79956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1" name=""/>
                              <p:cNvSpPr/>
                              <p:nvPr/>
                            </p:nvSpPr>
                            <p:spPr>
                              <a:xfrm>
                                <a:off x="80002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642" name=""/>
                        <p:cNvGrpSpPr/>
                        <p:nvPr/>
                      </p:nvGrpSpPr>
                      <p:grpSpPr>
                        <a:xfrm>
                          <a:off x="8004960" y="3425040"/>
                          <a:ext cx="36360" cy="17640"/>
                          <a:chOff x="8004960" y="3425040"/>
                          <a:chExt cx="36360" cy="17640"/>
                        </a:xfrm>
                      </p:grpSpPr>
                      <p:grpSp>
                        <p:nvGrpSpPr>
                          <p:cNvPr id="4643" name=""/>
                          <p:cNvGrpSpPr/>
                          <p:nvPr/>
                        </p:nvGrpSpPr>
                        <p:grpSpPr>
                          <a:xfrm>
                            <a:off x="8004960" y="3425040"/>
                            <a:ext cx="21600" cy="17640"/>
                            <a:chOff x="8004960" y="3425040"/>
                            <a:chExt cx="21600" cy="17640"/>
                          </a:xfrm>
                        </p:grpSpPr>
                        <p:grpSp>
                          <p:nvGrpSpPr>
                            <p:cNvPr id="4644" name=""/>
                            <p:cNvGrpSpPr/>
                            <p:nvPr/>
                          </p:nvGrpSpPr>
                          <p:grpSpPr>
                            <a:xfrm>
                              <a:off x="8004960" y="3425040"/>
                              <a:ext cx="16200" cy="17640"/>
                              <a:chOff x="8004960" y="3425040"/>
                              <a:chExt cx="16200" cy="17640"/>
                            </a:xfrm>
                          </p:grpSpPr>
                          <p:sp>
                            <p:nvSpPr>
                              <p:cNvPr id="4645" name=""/>
                              <p:cNvSpPr/>
                              <p:nvPr/>
                            </p:nvSpPr>
                            <p:spPr>
                              <a:xfrm>
                                <a:off x="80049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6" name=""/>
                              <p:cNvSpPr/>
                              <p:nvPr/>
                            </p:nvSpPr>
                            <p:spPr>
                              <a:xfrm>
                                <a:off x="80096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47" name=""/>
                            <p:cNvGrpSpPr/>
                            <p:nvPr/>
                          </p:nvGrpSpPr>
                          <p:grpSpPr>
                            <a:xfrm>
                              <a:off x="8014680" y="3425040"/>
                              <a:ext cx="11880" cy="17640"/>
                              <a:chOff x="8014680" y="3425040"/>
                              <a:chExt cx="11880" cy="17640"/>
                            </a:xfrm>
                          </p:grpSpPr>
                          <p:sp>
                            <p:nvSpPr>
                              <p:cNvPr id="4648" name=""/>
                              <p:cNvSpPr/>
                              <p:nvPr/>
                            </p:nvSpPr>
                            <p:spPr>
                              <a:xfrm>
                                <a:off x="8014680" y="34250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9" name=""/>
                              <p:cNvSpPr/>
                              <p:nvPr/>
                            </p:nvSpPr>
                            <p:spPr>
                              <a:xfrm>
                                <a:off x="80200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50" name=""/>
                          <p:cNvGrpSpPr/>
                          <p:nvPr/>
                        </p:nvGrpSpPr>
                        <p:grpSpPr>
                          <a:xfrm>
                            <a:off x="8025120" y="3425040"/>
                            <a:ext cx="16200" cy="17640"/>
                            <a:chOff x="8025120" y="3425040"/>
                            <a:chExt cx="16200" cy="17640"/>
                          </a:xfrm>
                        </p:grpSpPr>
                        <p:grpSp>
                          <p:nvGrpSpPr>
                            <p:cNvPr id="4651" name=""/>
                            <p:cNvGrpSpPr/>
                            <p:nvPr/>
                          </p:nvGrpSpPr>
                          <p:grpSpPr>
                            <a:xfrm>
                              <a:off x="8025120" y="3425040"/>
                              <a:ext cx="16200" cy="17640"/>
                              <a:chOff x="8025120" y="3425040"/>
                              <a:chExt cx="16200" cy="17640"/>
                            </a:xfrm>
                          </p:grpSpPr>
                          <p:sp>
                            <p:nvSpPr>
                              <p:cNvPr id="4652" name=""/>
                              <p:cNvSpPr/>
                              <p:nvPr/>
                            </p:nvSpPr>
                            <p:spPr>
                              <a:xfrm>
                                <a:off x="80251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53" name=""/>
                              <p:cNvSpPr/>
                              <p:nvPr/>
                            </p:nvSpPr>
                            <p:spPr>
                              <a:xfrm>
                                <a:off x="80298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54" name=""/>
                            <p:cNvGrpSpPr/>
                            <p:nvPr/>
                          </p:nvGrpSpPr>
                          <p:grpSpPr>
                            <a:xfrm>
                              <a:off x="8035200" y="3425040"/>
                              <a:ext cx="5400" cy="17640"/>
                              <a:chOff x="8035200" y="3425040"/>
                              <a:chExt cx="5400" cy="17640"/>
                            </a:xfrm>
                          </p:grpSpPr>
                          <p:sp>
                            <p:nvSpPr>
                              <p:cNvPr id="4655" name=""/>
                              <p:cNvSpPr/>
                              <p:nvPr/>
                            </p:nvSpPr>
                            <p:spPr>
                              <a:xfrm>
                                <a:off x="80352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56" name=""/>
                              <p:cNvSpPr/>
                              <p:nvPr/>
                            </p:nvSpPr>
                            <p:spPr>
                              <a:xfrm>
                                <a:off x="80398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657" name=""/>
                      <p:cNvGrpSpPr/>
                      <p:nvPr/>
                    </p:nvGrpSpPr>
                    <p:grpSpPr>
                      <a:xfrm>
                        <a:off x="8044920" y="3425040"/>
                        <a:ext cx="80640" cy="17640"/>
                        <a:chOff x="8044920" y="3425040"/>
                        <a:chExt cx="80640" cy="17640"/>
                      </a:xfrm>
                    </p:grpSpPr>
                    <p:grpSp>
                      <p:nvGrpSpPr>
                        <p:cNvPr id="4658" name=""/>
                        <p:cNvGrpSpPr/>
                        <p:nvPr/>
                      </p:nvGrpSpPr>
                      <p:grpSpPr>
                        <a:xfrm>
                          <a:off x="8044920" y="3425040"/>
                          <a:ext cx="45720" cy="17640"/>
                          <a:chOff x="8044920" y="3425040"/>
                          <a:chExt cx="45720" cy="17640"/>
                        </a:xfrm>
                      </p:grpSpPr>
                      <p:grpSp>
                        <p:nvGrpSpPr>
                          <p:cNvPr id="4659" name=""/>
                          <p:cNvGrpSpPr/>
                          <p:nvPr/>
                        </p:nvGrpSpPr>
                        <p:grpSpPr>
                          <a:xfrm>
                            <a:off x="8044920" y="3425040"/>
                            <a:ext cx="16200" cy="17640"/>
                            <a:chOff x="8044920" y="3425040"/>
                            <a:chExt cx="16200" cy="17640"/>
                          </a:xfrm>
                        </p:grpSpPr>
                        <p:grpSp>
                          <p:nvGrpSpPr>
                            <p:cNvPr id="4660" name=""/>
                            <p:cNvGrpSpPr/>
                            <p:nvPr/>
                          </p:nvGrpSpPr>
                          <p:grpSpPr>
                            <a:xfrm>
                              <a:off x="8044920" y="3425040"/>
                              <a:ext cx="16200" cy="17640"/>
                              <a:chOff x="8044920" y="3425040"/>
                              <a:chExt cx="16200" cy="17640"/>
                            </a:xfrm>
                          </p:grpSpPr>
                          <p:sp>
                            <p:nvSpPr>
                              <p:cNvPr id="4661" name=""/>
                              <p:cNvSpPr/>
                              <p:nvPr/>
                            </p:nvSpPr>
                            <p:spPr>
                              <a:xfrm>
                                <a:off x="8044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62" name=""/>
                              <p:cNvSpPr/>
                              <p:nvPr/>
                            </p:nvSpPr>
                            <p:spPr>
                              <a:xfrm>
                                <a:off x="8049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63" name=""/>
                            <p:cNvGrpSpPr/>
                            <p:nvPr/>
                          </p:nvGrpSpPr>
                          <p:grpSpPr>
                            <a:xfrm>
                              <a:off x="8055000" y="3425040"/>
                              <a:ext cx="4320" cy="17640"/>
                              <a:chOff x="8055000" y="3425040"/>
                              <a:chExt cx="4320" cy="17640"/>
                            </a:xfrm>
                          </p:grpSpPr>
                          <p:sp>
                            <p:nvSpPr>
                              <p:cNvPr id="4664" name=""/>
                              <p:cNvSpPr/>
                              <p:nvPr/>
                            </p:nvSpPr>
                            <p:spPr>
                              <a:xfrm>
                                <a:off x="80550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65" name=""/>
                              <p:cNvSpPr/>
                              <p:nvPr/>
                            </p:nvSpPr>
                            <p:spPr>
                              <a:xfrm>
                                <a:off x="80589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66" name=""/>
                          <p:cNvGrpSpPr/>
                          <p:nvPr/>
                        </p:nvGrpSpPr>
                        <p:grpSpPr>
                          <a:xfrm>
                            <a:off x="8065440" y="3425040"/>
                            <a:ext cx="25200" cy="17640"/>
                            <a:chOff x="8065440" y="3425040"/>
                            <a:chExt cx="25200" cy="17640"/>
                          </a:xfrm>
                        </p:grpSpPr>
                        <p:grpSp>
                          <p:nvGrpSpPr>
                            <p:cNvPr id="4667" name=""/>
                            <p:cNvGrpSpPr/>
                            <p:nvPr/>
                          </p:nvGrpSpPr>
                          <p:grpSpPr>
                            <a:xfrm>
                              <a:off x="8065440" y="3425040"/>
                              <a:ext cx="4320" cy="17640"/>
                              <a:chOff x="8065440" y="3425040"/>
                              <a:chExt cx="4320" cy="17640"/>
                            </a:xfrm>
                          </p:grpSpPr>
                          <p:sp>
                            <p:nvSpPr>
                              <p:cNvPr id="4668" name=""/>
                              <p:cNvSpPr/>
                              <p:nvPr/>
                            </p:nvSpPr>
                            <p:spPr>
                              <a:xfrm>
                                <a:off x="80654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69" name=""/>
                              <p:cNvSpPr/>
                              <p:nvPr/>
                            </p:nvSpPr>
                            <p:spPr>
                              <a:xfrm>
                                <a:off x="80694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70" name=""/>
                            <p:cNvGrpSpPr/>
                            <p:nvPr/>
                          </p:nvGrpSpPr>
                          <p:grpSpPr>
                            <a:xfrm>
                              <a:off x="8075160" y="3425040"/>
                              <a:ext cx="15480" cy="17640"/>
                              <a:chOff x="8075160" y="3425040"/>
                              <a:chExt cx="15480" cy="17640"/>
                            </a:xfrm>
                          </p:grpSpPr>
                          <p:sp>
                            <p:nvSpPr>
                              <p:cNvPr id="4671" name=""/>
                              <p:cNvSpPr/>
                              <p:nvPr/>
                            </p:nvSpPr>
                            <p:spPr>
                              <a:xfrm>
                                <a:off x="80751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72" name=""/>
                              <p:cNvSpPr/>
                              <p:nvPr/>
                            </p:nvSpPr>
                            <p:spPr>
                              <a:xfrm>
                                <a:off x="80791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673" name=""/>
                        <p:cNvGrpSpPr/>
                        <p:nvPr/>
                      </p:nvGrpSpPr>
                      <p:grpSpPr>
                        <a:xfrm>
                          <a:off x="8084880" y="3425040"/>
                          <a:ext cx="40680" cy="17640"/>
                          <a:chOff x="8084880" y="3425040"/>
                          <a:chExt cx="40680" cy="17640"/>
                        </a:xfrm>
                      </p:grpSpPr>
                      <p:grpSp>
                        <p:nvGrpSpPr>
                          <p:cNvPr id="4674" name=""/>
                          <p:cNvGrpSpPr/>
                          <p:nvPr/>
                        </p:nvGrpSpPr>
                        <p:grpSpPr>
                          <a:xfrm>
                            <a:off x="8084880" y="3425040"/>
                            <a:ext cx="15480" cy="17640"/>
                            <a:chOff x="8084880" y="3425040"/>
                            <a:chExt cx="15480" cy="17640"/>
                          </a:xfrm>
                        </p:grpSpPr>
                        <p:grpSp>
                          <p:nvGrpSpPr>
                            <p:cNvPr id="4675" name=""/>
                            <p:cNvGrpSpPr/>
                            <p:nvPr/>
                          </p:nvGrpSpPr>
                          <p:grpSpPr>
                            <a:xfrm>
                              <a:off x="8084880" y="3425040"/>
                              <a:ext cx="5040" cy="17640"/>
                              <a:chOff x="8084880" y="3425040"/>
                              <a:chExt cx="5040" cy="17640"/>
                            </a:xfrm>
                          </p:grpSpPr>
                          <p:sp>
                            <p:nvSpPr>
                              <p:cNvPr id="4676" name=""/>
                              <p:cNvSpPr/>
                              <p:nvPr/>
                            </p:nvSpPr>
                            <p:spPr>
                              <a:xfrm>
                                <a:off x="8084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77" name=""/>
                              <p:cNvSpPr/>
                              <p:nvPr/>
                            </p:nvSpPr>
                            <p:spPr>
                              <a:xfrm>
                                <a:off x="80895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78" name=""/>
                            <p:cNvGrpSpPr/>
                            <p:nvPr/>
                          </p:nvGrpSpPr>
                          <p:grpSpPr>
                            <a:xfrm>
                              <a:off x="8095320" y="3425040"/>
                              <a:ext cx="5040" cy="17640"/>
                              <a:chOff x="8095320" y="3425040"/>
                              <a:chExt cx="5040" cy="17640"/>
                            </a:xfrm>
                          </p:grpSpPr>
                          <p:sp>
                            <p:nvSpPr>
                              <p:cNvPr id="4679" name=""/>
                              <p:cNvSpPr/>
                              <p:nvPr/>
                            </p:nvSpPr>
                            <p:spPr>
                              <a:xfrm>
                                <a:off x="80953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0" name=""/>
                              <p:cNvSpPr/>
                              <p:nvPr/>
                            </p:nvSpPr>
                            <p:spPr>
                              <a:xfrm>
                                <a:off x="8100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81" name=""/>
                          <p:cNvGrpSpPr/>
                          <p:nvPr/>
                        </p:nvGrpSpPr>
                        <p:grpSpPr>
                          <a:xfrm>
                            <a:off x="8104680" y="3425040"/>
                            <a:ext cx="20880" cy="17640"/>
                            <a:chOff x="8104680" y="3425040"/>
                            <a:chExt cx="20880" cy="17640"/>
                          </a:xfrm>
                        </p:grpSpPr>
                        <p:grpSp>
                          <p:nvGrpSpPr>
                            <p:cNvPr id="4682" name=""/>
                            <p:cNvGrpSpPr/>
                            <p:nvPr/>
                          </p:nvGrpSpPr>
                          <p:grpSpPr>
                            <a:xfrm>
                              <a:off x="8104680" y="3425040"/>
                              <a:ext cx="16920" cy="17640"/>
                              <a:chOff x="8104680" y="3425040"/>
                              <a:chExt cx="16920" cy="17640"/>
                            </a:xfrm>
                          </p:grpSpPr>
                          <p:sp>
                            <p:nvSpPr>
                              <p:cNvPr id="4683" name=""/>
                              <p:cNvSpPr/>
                              <p:nvPr/>
                            </p:nvSpPr>
                            <p:spPr>
                              <a:xfrm>
                                <a:off x="8104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4" name=""/>
                              <p:cNvSpPr/>
                              <p:nvPr/>
                            </p:nvSpPr>
                            <p:spPr>
                              <a:xfrm>
                                <a:off x="81100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85" name=""/>
                            <p:cNvGrpSpPr/>
                            <p:nvPr/>
                          </p:nvGrpSpPr>
                          <p:grpSpPr>
                            <a:xfrm>
                              <a:off x="8114040" y="3425040"/>
                              <a:ext cx="11520" cy="17640"/>
                              <a:chOff x="8114040" y="3425040"/>
                              <a:chExt cx="11520" cy="17640"/>
                            </a:xfrm>
                          </p:grpSpPr>
                          <p:sp>
                            <p:nvSpPr>
                              <p:cNvPr id="4686" name=""/>
                              <p:cNvSpPr/>
                              <p:nvPr/>
                            </p:nvSpPr>
                            <p:spPr>
                              <a:xfrm>
                                <a:off x="81140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7" name=""/>
                              <p:cNvSpPr/>
                              <p:nvPr/>
                            </p:nvSpPr>
                            <p:spPr>
                              <a:xfrm>
                                <a:off x="81194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4688" name=""/>
                    <p:cNvGrpSpPr/>
                    <p:nvPr/>
                  </p:nvGrpSpPr>
                  <p:grpSpPr>
                    <a:xfrm>
                      <a:off x="8125200" y="3425040"/>
                      <a:ext cx="166320" cy="17640"/>
                      <a:chOff x="8125200" y="3425040"/>
                      <a:chExt cx="166320" cy="17640"/>
                    </a:xfrm>
                  </p:grpSpPr>
                  <p:grpSp>
                    <p:nvGrpSpPr>
                      <p:cNvPr id="4689" name=""/>
                      <p:cNvGrpSpPr/>
                      <p:nvPr/>
                    </p:nvGrpSpPr>
                    <p:grpSpPr>
                      <a:xfrm>
                        <a:off x="8125200" y="3425040"/>
                        <a:ext cx="85680" cy="17640"/>
                        <a:chOff x="8125200" y="3425040"/>
                        <a:chExt cx="85680" cy="17640"/>
                      </a:xfrm>
                    </p:grpSpPr>
                    <p:grpSp>
                      <p:nvGrpSpPr>
                        <p:cNvPr id="4690" name=""/>
                        <p:cNvGrpSpPr/>
                        <p:nvPr/>
                      </p:nvGrpSpPr>
                      <p:grpSpPr>
                        <a:xfrm>
                          <a:off x="8125200" y="3425040"/>
                          <a:ext cx="36000" cy="17640"/>
                          <a:chOff x="8125200" y="3425040"/>
                          <a:chExt cx="36000" cy="17640"/>
                        </a:xfrm>
                      </p:grpSpPr>
                      <p:grpSp>
                        <p:nvGrpSpPr>
                          <p:cNvPr id="4691" name=""/>
                          <p:cNvGrpSpPr/>
                          <p:nvPr/>
                        </p:nvGrpSpPr>
                        <p:grpSpPr>
                          <a:xfrm>
                            <a:off x="8125200" y="3425040"/>
                            <a:ext cx="15480" cy="17640"/>
                            <a:chOff x="8125200" y="3425040"/>
                            <a:chExt cx="15480" cy="17640"/>
                          </a:xfrm>
                        </p:grpSpPr>
                        <p:grpSp>
                          <p:nvGrpSpPr>
                            <p:cNvPr id="4692" name=""/>
                            <p:cNvGrpSpPr/>
                            <p:nvPr/>
                          </p:nvGrpSpPr>
                          <p:grpSpPr>
                            <a:xfrm>
                              <a:off x="8125200" y="3425040"/>
                              <a:ext cx="5040" cy="17640"/>
                              <a:chOff x="8125200" y="3425040"/>
                              <a:chExt cx="5040" cy="17640"/>
                            </a:xfrm>
                          </p:grpSpPr>
                          <p:sp>
                            <p:nvSpPr>
                              <p:cNvPr id="4693" name=""/>
                              <p:cNvSpPr/>
                              <p:nvPr/>
                            </p:nvSpPr>
                            <p:spPr>
                              <a:xfrm>
                                <a:off x="81252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94" name=""/>
                              <p:cNvSpPr/>
                              <p:nvPr/>
                            </p:nvSpPr>
                            <p:spPr>
                              <a:xfrm>
                                <a:off x="8129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95" name=""/>
                            <p:cNvGrpSpPr/>
                            <p:nvPr/>
                          </p:nvGrpSpPr>
                          <p:grpSpPr>
                            <a:xfrm>
                              <a:off x="8135640" y="3425040"/>
                              <a:ext cx="5040" cy="17640"/>
                              <a:chOff x="8135640" y="3425040"/>
                              <a:chExt cx="5040" cy="17640"/>
                            </a:xfrm>
                          </p:grpSpPr>
                          <p:sp>
                            <p:nvSpPr>
                              <p:cNvPr id="4696" name=""/>
                              <p:cNvSpPr/>
                              <p:nvPr/>
                            </p:nvSpPr>
                            <p:spPr>
                              <a:xfrm>
                                <a:off x="81356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97" name=""/>
                              <p:cNvSpPr/>
                              <p:nvPr/>
                            </p:nvSpPr>
                            <p:spPr>
                              <a:xfrm>
                                <a:off x="81403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98" name=""/>
                          <p:cNvGrpSpPr/>
                          <p:nvPr/>
                        </p:nvGrpSpPr>
                        <p:grpSpPr>
                          <a:xfrm>
                            <a:off x="8145000" y="3425040"/>
                            <a:ext cx="16200" cy="17640"/>
                            <a:chOff x="8145000" y="3425040"/>
                            <a:chExt cx="16200" cy="17640"/>
                          </a:xfrm>
                        </p:grpSpPr>
                        <p:grpSp>
                          <p:nvGrpSpPr>
                            <p:cNvPr id="4699" name=""/>
                            <p:cNvGrpSpPr/>
                            <p:nvPr/>
                          </p:nvGrpSpPr>
                          <p:grpSpPr>
                            <a:xfrm>
                              <a:off x="8145000" y="3425040"/>
                              <a:ext cx="16200" cy="17640"/>
                              <a:chOff x="8145000" y="3425040"/>
                              <a:chExt cx="16200" cy="17640"/>
                            </a:xfrm>
                          </p:grpSpPr>
                          <p:sp>
                            <p:nvSpPr>
                              <p:cNvPr id="4700" name=""/>
                              <p:cNvSpPr/>
                              <p:nvPr/>
                            </p:nvSpPr>
                            <p:spPr>
                              <a:xfrm>
                                <a:off x="8145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01" name=""/>
                              <p:cNvSpPr/>
                              <p:nvPr/>
                            </p:nvSpPr>
                            <p:spPr>
                              <a:xfrm>
                                <a:off x="81496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02" name=""/>
                            <p:cNvGrpSpPr/>
                            <p:nvPr/>
                          </p:nvGrpSpPr>
                          <p:grpSpPr>
                            <a:xfrm>
                              <a:off x="8155080" y="3425040"/>
                              <a:ext cx="5040" cy="17640"/>
                              <a:chOff x="8155080" y="3425040"/>
                              <a:chExt cx="5040" cy="17640"/>
                            </a:xfrm>
                          </p:grpSpPr>
                          <p:sp>
                            <p:nvSpPr>
                              <p:cNvPr id="4703" name=""/>
                              <p:cNvSpPr/>
                              <p:nvPr/>
                            </p:nvSpPr>
                            <p:spPr>
                              <a:xfrm>
                                <a:off x="81550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04" name=""/>
                              <p:cNvSpPr/>
                              <p:nvPr/>
                            </p:nvSpPr>
                            <p:spPr>
                              <a:xfrm>
                                <a:off x="81597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705" name=""/>
                        <p:cNvGrpSpPr/>
                        <p:nvPr/>
                      </p:nvGrpSpPr>
                      <p:grpSpPr>
                        <a:xfrm>
                          <a:off x="8164800" y="3425040"/>
                          <a:ext cx="46080" cy="17640"/>
                          <a:chOff x="8164800" y="3425040"/>
                          <a:chExt cx="46080" cy="17640"/>
                        </a:xfrm>
                      </p:grpSpPr>
                      <p:grpSp>
                        <p:nvGrpSpPr>
                          <p:cNvPr id="4706" name=""/>
                          <p:cNvGrpSpPr/>
                          <p:nvPr/>
                        </p:nvGrpSpPr>
                        <p:grpSpPr>
                          <a:xfrm>
                            <a:off x="8164800" y="3425040"/>
                            <a:ext cx="16200" cy="17640"/>
                            <a:chOff x="8164800" y="3425040"/>
                            <a:chExt cx="16200" cy="17640"/>
                          </a:xfrm>
                        </p:grpSpPr>
                        <p:grpSp>
                          <p:nvGrpSpPr>
                            <p:cNvPr id="4707" name=""/>
                            <p:cNvGrpSpPr/>
                            <p:nvPr/>
                          </p:nvGrpSpPr>
                          <p:grpSpPr>
                            <a:xfrm>
                              <a:off x="8164800" y="3425040"/>
                              <a:ext cx="16200" cy="17640"/>
                              <a:chOff x="8164800" y="3425040"/>
                              <a:chExt cx="16200" cy="17640"/>
                            </a:xfrm>
                          </p:grpSpPr>
                          <p:sp>
                            <p:nvSpPr>
                              <p:cNvPr id="4708" name=""/>
                              <p:cNvSpPr/>
                              <p:nvPr/>
                            </p:nvSpPr>
                            <p:spPr>
                              <a:xfrm>
                                <a:off x="81648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09" name=""/>
                              <p:cNvSpPr/>
                              <p:nvPr/>
                            </p:nvSpPr>
                            <p:spPr>
                              <a:xfrm>
                                <a:off x="81694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10" name=""/>
                            <p:cNvGrpSpPr/>
                            <p:nvPr/>
                          </p:nvGrpSpPr>
                          <p:grpSpPr>
                            <a:xfrm>
                              <a:off x="8175240" y="3425040"/>
                              <a:ext cx="5400" cy="17640"/>
                              <a:chOff x="8175240" y="3425040"/>
                              <a:chExt cx="5400" cy="17640"/>
                            </a:xfrm>
                          </p:grpSpPr>
                          <p:sp>
                            <p:nvSpPr>
                              <p:cNvPr id="4711" name=""/>
                              <p:cNvSpPr/>
                              <p:nvPr/>
                            </p:nvSpPr>
                            <p:spPr>
                              <a:xfrm>
                                <a:off x="81752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12" name=""/>
                              <p:cNvSpPr/>
                              <p:nvPr/>
                            </p:nvSpPr>
                            <p:spPr>
                              <a:xfrm>
                                <a:off x="8179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713" name=""/>
                          <p:cNvGrpSpPr/>
                          <p:nvPr/>
                        </p:nvGrpSpPr>
                        <p:grpSpPr>
                          <a:xfrm>
                            <a:off x="8184600" y="3425040"/>
                            <a:ext cx="26280" cy="17640"/>
                            <a:chOff x="8184600" y="3425040"/>
                            <a:chExt cx="26280" cy="17640"/>
                          </a:xfrm>
                        </p:grpSpPr>
                        <p:grpSp>
                          <p:nvGrpSpPr>
                            <p:cNvPr id="4714" name=""/>
                            <p:cNvGrpSpPr/>
                            <p:nvPr/>
                          </p:nvGrpSpPr>
                          <p:grpSpPr>
                            <a:xfrm>
                              <a:off x="8184600" y="3425040"/>
                              <a:ext cx="11520" cy="17640"/>
                              <a:chOff x="8184600" y="3425040"/>
                              <a:chExt cx="11520" cy="17640"/>
                            </a:xfrm>
                          </p:grpSpPr>
                          <p:sp>
                            <p:nvSpPr>
                              <p:cNvPr id="4715" name=""/>
                              <p:cNvSpPr/>
                              <p:nvPr/>
                            </p:nvSpPr>
                            <p:spPr>
                              <a:xfrm>
                                <a:off x="8184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16" name=""/>
                              <p:cNvSpPr/>
                              <p:nvPr/>
                            </p:nvSpPr>
                            <p:spPr>
                              <a:xfrm>
                                <a:off x="8190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17" name=""/>
                            <p:cNvGrpSpPr/>
                            <p:nvPr/>
                          </p:nvGrpSpPr>
                          <p:grpSpPr>
                            <a:xfrm>
                              <a:off x="8193960" y="3425040"/>
                              <a:ext cx="16920" cy="17640"/>
                              <a:chOff x="8193960" y="3425040"/>
                              <a:chExt cx="16920" cy="17640"/>
                            </a:xfrm>
                          </p:grpSpPr>
                          <p:sp>
                            <p:nvSpPr>
                              <p:cNvPr id="4718" name=""/>
                              <p:cNvSpPr/>
                              <p:nvPr/>
                            </p:nvSpPr>
                            <p:spPr>
                              <a:xfrm>
                                <a:off x="81939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19" name=""/>
                              <p:cNvSpPr/>
                              <p:nvPr/>
                            </p:nvSpPr>
                            <p:spPr>
                              <a:xfrm>
                                <a:off x="81993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720" name=""/>
                      <p:cNvGrpSpPr/>
                      <p:nvPr/>
                    </p:nvGrpSpPr>
                    <p:grpSpPr>
                      <a:xfrm>
                        <a:off x="8205120" y="3425040"/>
                        <a:ext cx="86400" cy="17640"/>
                        <a:chOff x="8205120" y="3425040"/>
                        <a:chExt cx="86400" cy="17640"/>
                      </a:xfrm>
                    </p:grpSpPr>
                    <p:grpSp>
                      <p:nvGrpSpPr>
                        <p:cNvPr id="4721" name=""/>
                        <p:cNvGrpSpPr/>
                        <p:nvPr/>
                      </p:nvGrpSpPr>
                      <p:grpSpPr>
                        <a:xfrm>
                          <a:off x="8205120" y="3425040"/>
                          <a:ext cx="41400" cy="17640"/>
                          <a:chOff x="8205120" y="3425040"/>
                          <a:chExt cx="41400" cy="17640"/>
                        </a:xfrm>
                      </p:grpSpPr>
                      <p:grpSp>
                        <p:nvGrpSpPr>
                          <p:cNvPr id="4722" name=""/>
                          <p:cNvGrpSpPr/>
                          <p:nvPr/>
                        </p:nvGrpSpPr>
                        <p:grpSpPr>
                          <a:xfrm>
                            <a:off x="8205120" y="3425040"/>
                            <a:ext cx="21600" cy="17640"/>
                            <a:chOff x="8205120" y="3425040"/>
                            <a:chExt cx="21600" cy="17640"/>
                          </a:xfrm>
                        </p:grpSpPr>
                        <p:grpSp>
                          <p:nvGrpSpPr>
                            <p:cNvPr id="4723" name=""/>
                            <p:cNvGrpSpPr/>
                            <p:nvPr/>
                          </p:nvGrpSpPr>
                          <p:grpSpPr>
                            <a:xfrm>
                              <a:off x="8205120" y="3425040"/>
                              <a:ext cx="16200" cy="17640"/>
                              <a:chOff x="8205120" y="3425040"/>
                              <a:chExt cx="16200" cy="17640"/>
                            </a:xfrm>
                          </p:grpSpPr>
                          <p:sp>
                            <p:nvSpPr>
                              <p:cNvPr id="4724" name=""/>
                              <p:cNvSpPr/>
                              <p:nvPr/>
                            </p:nvSpPr>
                            <p:spPr>
                              <a:xfrm>
                                <a:off x="82051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25" name=""/>
                              <p:cNvSpPr/>
                              <p:nvPr/>
                            </p:nvSpPr>
                            <p:spPr>
                              <a:xfrm>
                                <a:off x="82098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26" name=""/>
                            <p:cNvGrpSpPr/>
                            <p:nvPr/>
                          </p:nvGrpSpPr>
                          <p:grpSpPr>
                            <a:xfrm>
                              <a:off x="8215200" y="3425040"/>
                              <a:ext cx="11520" cy="17640"/>
                              <a:chOff x="8215200" y="3425040"/>
                              <a:chExt cx="11520" cy="17640"/>
                            </a:xfrm>
                          </p:grpSpPr>
                          <p:sp>
                            <p:nvSpPr>
                              <p:cNvPr id="4727" name=""/>
                              <p:cNvSpPr/>
                              <p:nvPr/>
                            </p:nvSpPr>
                            <p:spPr>
                              <a:xfrm>
                                <a:off x="82152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28" name=""/>
                              <p:cNvSpPr/>
                              <p:nvPr/>
                            </p:nvSpPr>
                            <p:spPr>
                              <a:xfrm>
                                <a:off x="82198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729" name=""/>
                          <p:cNvGrpSpPr/>
                          <p:nvPr/>
                        </p:nvGrpSpPr>
                        <p:grpSpPr>
                          <a:xfrm>
                            <a:off x="8224920" y="3425040"/>
                            <a:ext cx="21600" cy="17640"/>
                            <a:chOff x="8224920" y="3425040"/>
                            <a:chExt cx="21600" cy="17640"/>
                          </a:xfrm>
                        </p:grpSpPr>
                        <p:grpSp>
                          <p:nvGrpSpPr>
                            <p:cNvPr id="4730" name=""/>
                            <p:cNvGrpSpPr/>
                            <p:nvPr/>
                          </p:nvGrpSpPr>
                          <p:grpSpPr>
                            <a:xfrm>
                              <a:off x="8224920" y="3425040"/>
                              <a:ext cx="16200" cy="17640"/>
                              <a:chOff x="8224920" y="3425040"/>
                              <a:chExt cx="16200" cy="17640"/>
                            </a:xfrm>
                          </p:grpSpPr>
                          <p:sp>
                            <p:nvSpPr>
                              <p:cNvPr id="4731" name=""/>
                              <p:cNvSpPr/>
                              <p:nvPr/>
                            </p:nvSpPr>
                            <p:spPr>
                              <a:xfrm>
                                <a:off x="8224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32" name=""/>
                              <p:cNvSpPr/>
                              <p:nvPr/>
                            </p:nvSpPr>
                            <p:spPr>
                              <a:xfrm>
                                <a:off x="8229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33" name=""/>
                            <p:cNvGrpSpPr/>
                            <p:nvPr/>
                          </p:nvGrpSpPr>
                          <p:grpSpPr>
                            <a:xfrm>
                              <a:off x="8235000" y="3425040"/>
                              <a:ext cx="11520" cy="17640"/>
                              <a:chOff x="8235000" y="3425040"/>
                              <a:chExt cx="11520" cy="17640"/>
                            </a:xfrm>
                          </p:grpSpPr>
                          <p:sp>
                            <p:nvSpPr>
                              <p:cNvPr id="4734" name=""/>
                              <p:cNvSpPr/>
                              <p:nvPr/>
                            </p:nvSpPr>
                            <p:spPr>
                              <a:xfrm>
                                <a:off x="82350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35" name=""/>
                              <p:cNvSpPr/>
                              <p:nvPr/>
                            </p:nvSpPr>
                            <p:spPr>
                              <a:xfrm>
                                <a:off x="82396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736" name=""/>
                        <p:cNvGrpSpPr/>
                        <p:nvPr/>
                      </p:nvGrpSpPr>
                      <p:grpSpPr>
                        <a:xfrm>
                          <a:off x="8245800" y="3425040"/>
                          <a:ext cx="45720" cy="17640"/>
                          <a:chOff x="8245800" y="3425040"/>
                          <a:chExt cx="45720" cy="17640"/>
                        </a:xfrm>
                      </p:grpSpPr>
                      <p:grpSp>
                        <p:nvGrpSpPr>
                          <p:cNvPr id="4737" name=""/>
                          <p:cNvGrpSpPr/>
                          <p:nvPr/>
                        </p:nvGrpSpPr>
                        <p:grpSpPr>
                          <a:xfrm>
                            <a:off x="8245800" y="3425040"/>
                            <a:ext cx="14760" cy="17640"/>
                            <a:chOff x="8245800" y="3425040"/>
                            <a:chExt cx="14760" cy="17640"/>
                          </a:xfrm>
                        </p:grpSpPr>
                        <p:grpSp>
                          <p:nvGrpSpPr>
                            <p:cNvPr id="4738" name=""/>
                            <p:cNvGrpSpPr/>
                            <p:nvPr/>
                          </p:nvGrpSpPr>
                          <p:grpSpPr>
                            <a:xfrm>
                              <a:off x="8245800" y="3425040"/>
                              <a:ext cx="4320" cy="17640"/>
                              <a:chOff x="8245800" y="3425040"/>
                              <a:chExt cx="4320" cy="17640"/>
                            </a:xfrm>
                          </p:grpSpPr>
                          <p:sp>
                            <p:nvSpPr>
                              <p:cNvPr id="4739" name=""/>
                              <p:cNvSpPr/>
                              <p:nvPr/>
                            </p:nvSpPr>
                            <p:spPr>
                              <a:xfrm>
                                <a:off x="82458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40" name=""/>
                              <p:cNvSpPr/>
                              <p:nvPr/>
                            </p:nvSpPr>
                            <p:spPr>
                              <a:xfrm>
                                <a:off x="82497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41" name=""/>
                            <p:cNvGrpSpPr/>
                            <p:nvPr/>
                          </p:nvGrpSpPr>
                          <p:grpSpPr>
                            <a:xfrm>
                              <a:off x="8255520" y="3425040"/>
                              <a:ext cx="5040" cy="17640"/>
                              <a:chOff x="8255520" y="3425040"/>
                              <a:chExt cx="5040" cy="17640"/>
                            </a:xfrm>
                          </p:grpSpPr>
                          <p:sp>
                            <p:nvSpPr>
                              <p:cNvPr id="4742" name=""/>
                              <p:cNvSpPr/>
                              <p:nvPr/>
                            </p:nvSpPr>
                            <p:spPr>
                              <a:xfrm>
                                <a:off x="82555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43" name=""/>
                              <p:cNvSpPr/>
                              <p:nvPr/>
                            </p:nvSpPr>
                            <p:spPr>
                              <a:xfrm>
                                <a:off x="82602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744" name=""/>
                          <p:cNvGrpSpPr/>
                          <p:nvPr/>
                        </p:nvGrpSpPr>
                        <p:grpSpPr>
                          <a:xfrm>
                            <a:off x="8265240" y="3425040"/>
                            <a:ext cx="26280" cy="17640"/>
                            <a:chOff x="8265240" y="3425040"/>
                            <a:chExt cx="26280" cy="17640"/>
                          </a:xfrm>
                        </p:grpSpPr>
                        <p:grpSp>
                          <p:nvGrpSpPr>
                            <p:cNvPr id="4745" name=""/>
                            <p:cNvGrpSpPr/>
                            <p:nvPr/>
                          </p:nvGrpSpPr>
                          <p:grpSpPr>
                            <a:xfrm>
                              <a:off x="8265240" y="3425040"/>
                              <a:ext cx="11520" cy="17640"/>
                              <a:chOff x="8265240" y="3425040"/>
                              <a:chExt cx="11520" cy="17640"/>
                            </a:xfrm>
                          </p:grpSpPr>
                          <p:sp>
                            <p:nvSpPr>
                              <p:cNvPr id="4746" name=""/>
                              <p:cNvSpPr/>
                              <p:nvPr/>
                            </p:nvSpPr>
                            <p:spPr>
                              <a:xfrm>
                                <a:off x="82652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47" name=""/>
                              <p:cNvSpPr/>
                              <p:nvPr/>
                            </p:nvSpPr>
                            <p:spPr>
                              <a:xfrm>
                                <a:off x="82706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48" name=""/>
                            <p:cNvGrpSpPr/>
                            <p:nvPr/>
                          </p:nvGrpSpPr>
                          <p:grpSpPr>
                            <a:xfrm>
                              <a:off x="8275320" y="3425040"/>
                              <a:ext cx="16200" cy="17640"/>
                              <a:chOff x="8275320" y="3425040"/>
                              <a:chExt cx="16200" cy="17640"/>
                            </a:xfrm>
                          </p:grpSpPr>
                          <p:sp>
                            <p:nvSpPr>
                              <p:cNvPr id="4749" name=""/>
                              <p:cNvSpPr/>
                              <p:nvPr/>
                            </p:nvSpPr>
                            <p:spPr>
                              <a:xfrm>
                                <a:off x="82753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50" name=""/>
                              <p:cNvSpPr/>
                              <p:nvPr/>
                            </p:nvSpPr>
                            <p:spPr>
                              <a:xfrm>
                                <a:off x="82800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4751" name=""/>
                <p:cNvGrpSpPr/>
                <p:nvPr/>
              </p:nvGrpSpPr>
              <p:grpSpPr>
                <a:xfrm>
                  <a:off x="7962120" y="3364920"/>
                  <a:ext cx="315000" cy="41760"/>
                  <a:chOff x="7962120" y="3364920"/>
                  <a:chExt cx="315000" cy="41760"/>
                </a:xfrm>
              </p:grpSpPr>
              <p:sp>
                <p:nvSpPr>
                  <p:cNvPr id="4752" name=""/>
                  <p:cNvSpPr/>
                  <p:nvPr/>
                </p:nvSpPr>
                <p:spPr>
                  <a:xfrm>
                    <a:off x="7962120" y="33649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8031600" y="33649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8129880" y="33649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8237160" y="33649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6" name=""/>
              <p:cNvGrpSpPr/>
              <p:nvPr/>
            </p:nvGrpSpPr>
            <p:grpSpPr>
              <a:xfrm>
                <a:off x="8242200" y="3369960"/>
                <a:ext cx="25200" cy="19440"/>
                <a:chOff x="8242200" y="3369960"/>
                <a:chExt cx="25200" cy="1944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8256600" y="33699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8258400" y="33771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9" name=""/>
                <p:cNvGrpSpPr/>
                <p:nvPr/>
              </p:nvGrpSpPr>
              <p:grpSpPr>
                <a:xfrm>
                  <a:off x="8242200" y="3372480"/>
                  <a:ext cx="5400" cy="16920"/>
                  <a:chOff x="8242200" y="3372480"/>
                  <a:chExt cx="5400" cy="1692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>
                    <a:off x="8242200" y="33724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8242200" y="33850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2" name=""/>
              <p:cNvGrpSpPr/>
              <p:nvPr/>
            </p:nvGrpSpPr>
            <p:grpSpPr>
              <a:xfrm>
                <a:off x="8035560" y="3371040"/>
                <a:ext cx="85680" cy="27720"/>
                <a:chOff x="8035560" y="3371040"/>
                <a:chExt cx="85680" cy="27720"/>
              </a:xfrm>
            </p:grpSpPr>
            <p:grpSp>
              <p:nvGrpSpPr>
                <p:cNvPr id="4763" name=""/>
                <p:cNvGrpSpPr/>
                <p:nvPr/>
              </p:nvGrpSpPr>
              <p:grpSpPr>
                <a:xfrm>
                  <a:off x="8036280" y="3371040"/>
                  <a:ext cx="84960" cy="15480"/>
                  <a:chOff x="8036280" y="3371040"/>
                  <a:chExt cx="84960" cy="15480"/>
                </a:xfrm>
              </p:grpSpPr>
              <p:sp>
                <p:nvSpPr>
                  <p:cNvPr id="4764" name=""/>
                  <p:cNvSpPr/>
                  <p:nvPr/>
                </p:nvSpPr>
                <p:spPr>
                  <a:xfrm>
                    <a:off x="8064720" y="33710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8064720" y="33786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8036280" y="33775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7" name=""/>
                <p:cNvSpPr/>
                <p:nvPr/>
              </p:nvSpPr>
              <p:spPr>
                <a:xfrm>
                  <a:off x="8035560" y="33724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8109000" y="33944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9" name=""/>
              <p:cNvGrpSpPr/>
              <p:nvPr/>
            </p:nvGrpSpPr>
            <p:grpSpPr>
              <a:xfrm>
                <a:off x="7965720" y="3397680"/>
                <a:ext cx="67320" cy="9360"/>
                <a:chOff x="7965720" y="3397680"/>
                <a:chExt cx="67320" cy="9360"/>
              </a:xfrm>
            </p:grpSpPr>
            <p:grpSp>
              <p:nvGrpSpPr>
                <p:cNvPr id="4770" name=""/>
                <p:cNvGrpSpPr/>
                <p:nvPr/>
              </p:nvGrpSpPr>
              <p:grpSpPr>
                <a:xfrm>
                  <a:off x="7965720" y="3397680"/>
                  <a:ext cx="37080" cy="9360"/>
                  <a:chOff x="7965720" y="3397680"/>
                  <a:chExt cx="37080" cy="9360"/>
                </a:xfrm>
              </p:grpSpPr>
              <p:grpSp>
                <p:nvGrpSpPr>
                  <p:cNvPr id="4771" name=""/>
                  <p:cNvGrpSpPr/>
                  <p:nvPr/>
                </p:nvGrpSpPr>
                <p:grpSpPr>
                  <a:xfrm>
                    <a:off x="7965720" y="3397680"/>
                    <a:ext cx="23040" cy="9360"/>
                    <a:chOff x="7965720" y="3397680"/>
                    <a:chExt cx="23040" cy="9360"/>
                  </a:xfrm>
                </p:grpSpPr>
                <p:grpSp>
                  <p:nvGrpSpPr>
                    <p:cNvPr id="4772" name=""/>
                    <p:cNvGrpSpPr/>
                    <p:nvPr/>
                  </p:nvGrpSpPr>
                  <p:grpSpPr>
                    <a:xfrm>
                      <a:off x="7965720" y="3397680"/>
                      <a:ext cx="14760" cy="9360"/>
                      <a:chOff x="7965720" y="3397680"/>
                      <a:chExt cx="14760" cy="9360"/>
                    </a:xfrm>
                  </p:grpSpPr>
                  <p:sp>
                    <p:nvSpPr>
                      <p:cNvPr id="4773" name=""/>
                      <p:cNvSpPr/>
                      <p:nvPr/>
                    </p:nvSpPr>
                    <p:spPr>
                      <a:xfrm>
                        <a:off x="79657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4" name=""/>
                      <p:cNvSpPr/>
                      <p:nvPr/>
                    </p:nvSpPr>
                    <p:spPr>
                      <a:xfrm>
                        <a:off x="796896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75" name=""/>
                    <p:cNvGrpSpPr/>
                    <p:nvPr/>
                  </p:nvGrpSpPr>
                  <p:grpSpPr>
                    <a:xfrm>
                      <a:off x="7972560" y="3397680"/>
                      <a:ext cx="16200" cy="9360"/>
                      <a:chOff x="7972560" y="3397680"/>
                      <a:chExt cx="16200" cy="9360"/>
                    </a:xfrm>
                  </p:grpSpPr>
                  <p:sp>
                    <p:nvSpPr>
                      <p:cNvPr id="4776" name=""/>
                      <p:cNvSpPr/>
                      <p:nvPr/>
                    </p:nvSpPr>
                    <p:spPr>
                      <a:xfrm>
                        <a:off x="79725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7" name=""/>
                      <p:cNvSpPr/>
                      <p:nvPr/>
                    </p:nvSpPr>
                    <p:spPr>
                      <a:xfrm>
                        <a:off x="79768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778" name=""/>
                  <p:cNvGrpSpPr/>
                  <p:nvPr/>
                </p:nvGrpSpPr>
                <p:grpSpPr>
                  <a:xfrm>
                    <a:off x="7980120" y="3397680"/>
                    <a:ext cx="22680" cy="9360"/>
                    <a:chOff x="7980120" y="3397680"/>
                    <a:chExt cx="22680" cy="9360"/>
                  </a:xfrm>
                </p:grpSpPr>
                <p:grpSp>
                  <p:nvGrpSpPr>
                    <p:cNvPr id="4779" name=""/>
                    <p:cNvGrpSpPr/>
                    <p:nvPr/>
                  </p:nvGrpSpPr>
                  <p:grpSpPr>
                    <a:xfrm>
                      <a:off x="7980120" y="3397680"/>
                      <a:ext cx="14760" cy="9360"/>
                      <a:chOff x="7980120" y="3397680"/>
                      <a:chExt cx="14760" cy="9360"/>
                    </a:xfrm>
                  </p:grpSpPr>
                  <p:sp>
                    <p:nvSpPr>
                      <p:cNvPr id="4780" name=""/>
                      <p:cNvSpPr/>
                      <p:nvPr/>
                    </p:nvSpPr>
                    <p:spPr>
                      <a:xfrm>
                        <a:off x="79801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1" name=""/>
                      <p:cNvSpPr/>
                      <p:nvPr/>
                    </p:nvSpPr>
                    <p:spPr>
                      <a:xfrm>
                        <a:off x="798336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82" name=""/>
                    <p:cNvGrpSpPr/>
                    <p:nvPr/>
                  </p:nvGrpSpPr>
                  <p:grpSpPr>
                    <a:xfrm>
                      <a:off x="7987320" y="3397680"/>
                      <a:ext cx="15480" cy="9360"/>
                      <a:chOff x="7987320" y="3397680"/>
                      <a:chExt cx="15480" cy="9360"/>
                    </a:xfrm>
                  </p:grpSpPr>
                  <p:sp>
                    <p:nvSpPr>
                      <p:cNvPr id="4783" name=""/>
                      <p:cNvSpPr/>
                      <p:nvPr/>
                    </p:nvSpPr>
                    <p:spPr>
                      <a:xfrm>
                        <a:off x="79873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4" name=""/>
                      <p:cNvSpPr/>
                      <p:nvPr/>
                    </p:nvSpPr>
                    <p:spPr>
                      <a:xfrm>
                        <a:off x="79912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85" name=""/>
                <p:cNvGrpSpPr/>
                <p:nvPr/>
              </p:nvGrpSpPr>
              <p:grpSpPr>
                <a:xfrm>
                  <a:off x="7995240" y="3397680"/>
                  <a:ext cx="37800" cy="9360"/>
                  <a:chOff x="7995240" y="3397680"/>
                  <a:chExt cx="37800" cy="9360"/>
                </a:xfrm>
              </p:grpSpPr>
              <p:grpSp>
                <p:nvGrpSpPr>
                  <p:cNvPr id="4786" name=""/>
                  <p:cNvGrpSpPr/>
                  <p:nvPr/>
                </p:nvGrpSpPr>
                <p:grpSpPr>
                  <a:xfrm>
                    <a:off x="7995240" y="3397680"/>
                    <a:ext cx="23040" cy="9360"/>
                    <a:chOff x="7995240" y="3397680"/>
                    <a:chExt cx="23040" cy="9360"/>
                  </a:xfrm>
                </p:grpSpPr>
                <p:grpSp>
                  <p:nvGrpSpPr>
                    <p:cNvPr id="4787" name=""/>
                    <p:cNvGrpSpPr/>
                    <p:nvPr/>
                  </p:nvGrpSpPr>
                  <p:grpSpPr>
                    <a:xfrm>
                      <a:off x="7995240" y="3397680"/>
                      <a:ext cx="15840" cy="9360"/>
                      <a:chOff x="7995240" y="3397680"/>
                      <a:chExt cx="15840" cy="9360"/>
                    </a:xfrm>
                  </p:grpSpPr>
                  <p:sp>
                    <p:nvSpPr>
                      <p:cNvPr id="4788" name=""/>
                      <p:cNvSpPr/>
                      <p:nvPr/>
                    </p:nvSpPr>
                    <p:spPr>
                      <a:xfrm>
                        <a:off x="799524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"/>
                      <p:cNvSpPr/>
                      <p:nvPr/>
                    </p:nvSpPr>
                    <p:spPr>
                      <a:xfrm>
                        <a:off x="799920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0" name=""/>
                    <p:cNvGrpSpPr/>
                    <p:nvPr/>
                  </p:nvGrpSpPr>
                  <p:grpSpPr>
                    <a:xfrm>
                      <a:off x="8003520" y="3397680"/>
                      <a:ext cx="14760" cy="9360"/>
                      <a:chOff x="8003520" y="3397680"/>
                      <a:chExt cx="14760" cy="9360"/>
                    </a:xfrm>
                  </p:grpSpPr>
                  <p:sp>
                    <p:nvSpPr>
                      <p:cNvPr id="4791" name=""/>
                      <p:cNvSpPr/>
                      <p:nvPr/>
                    </p:nvSpPr>
                    <p:spPr>
                      <a:xfrm>
                        <a:off x="80035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2" name=""/>
                      <p:cNvSpPr/>
                      <p:nvPr/>
                    </p:nvSpPr>
                    <p:spPr>
                      <a:xfrm>
                        <a:off x="800676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793" name=""/>
                  <p:cNvGrpSpPr/>
                  <p:nvPr/>
                </p:nvGrpSpPr>
                <p:grpSpPr>
                  <a:xfrm>
                    <a:off x="8010360" y="3397680"/>
                    <a:ext cx="22680" cy="9360"/>
                    <a:chOff x="8010360" y="3397680"/>
                    <a:chExt cx="22680" cy="9360"/>
                  </a:xfrm>
                </p:grpSpPr>
                <p:grpSp>
                  <p:nvGrpSpPr>
                    <p:cNvPr id="4794" name=""/>
                    <p:cNvGrpSpPr/>
                    <p:nvPr/>
                  </p:nvGrpSpPr>
                  <p:grpSpPr>
                    <a:xfrm>
                      <a:off x="8010360" y="3397680"/>
                      <a:ext cx="15840" cy="9360"/>
                      <a:chOff x="8010360" y="3397680"/>
                      <a:chExt cx="15840" cy="9360"/>
                    </a:xfrm>
                  </p:grpSpPr>
                  <p:sp>
                    <p:nvSpPr>
                      <p:cNvPr id="4795" name=""/>
                      <p:cNvSpPr/>
                      <p:nvPr/>
                    </p:nvSpPr>
                    <p:spPr>
                      <a:xfrm>
                        <a:off x="80103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6" name=""/>
                      <p:cNvSpPr/>
                      <p:nvPr/>
                    </p:nvSpPr>
                    <p:spPr>
                      <a:xfrm>
                        <a:off x="801432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7" name=""/>
                    <p:cNvGrpSpPr/>
                    <p:nvPr/>
                  </p:nvGrpSpPr>
                  <p:grpSpPr>
                    <a:xfrm>
                      <a:off x="8018640" y="3397680"/>
                      <a:ext cx="14400" cy="9360"/>
                      <a:chOff x="8018640" y="3397680"/>
                      <a:chExt cx="14400" cy="9360"/>
                    </a:xfrm>
                  </p:grpSpPr>
                  <p:sp>
                    <p:nvSpPr>
                      <p:cNvPr id="4798" name=""/>
                      <p:cNvSpPr/>
                      <p:nvPr/>
                    </p:nvSpPr>
                    <p:spPr>
                      <a:xfrm>
                        <a:off x="801864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9" name=""/>
                      <p:cNvSpPr/>
                      <p:nvPr/>
                    </p:nvSpPr>
                    <p:spPr>
                      <a:xfrm>
                        <a:off x="80211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800" name=""/>
              <p:cNvSpPr/>
              <p:nvPr/>
            </p:nvSpPr>
            <p:spPr>
              <a:xfrm>
                <a:off x="7960320" y="33894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1" name=""/>
            <p:cNvGrpSpPr/>
            <p:nvPr/>
          </p:nvGrpSpPr>
          <p:grpSpPr>
            <a:xfrm>
              <a:off x="7848720" y="3442320"/>
              <a:ext cx="533160" cy="62640"/>
              <a:chOff x="7848720" y="3442320"/>
              <a:chExt cx="533160" cy="62640"/>
            </a:xfrm>
          </p:grpSpPr>
          <p:grpSp>
            <p:nvGrpSpPr>
              <p:cNvPr id="4802" name=""/>
              <p:cNvGrpSpPr/>
              <p:nvPr/>
            </p:nvGrpSpPr>
            <p:grpSpPr>
              <a:xfrm>
                <a:off x="7848720" y="3442320"/>
                <a:ext cx="533160" cy="62640"/>
                <a:chOff x="7848720" y="3442320"/>
                <a:chExt cx="533160" cy="62640"/>
              </a:xfrm>
            </p:grpSpPr>
            <p:sp>
              <p:nvSpPr>
                <p:cNvPr id="4803" name=""/>
                <p:cNvSpPr/>
                <p:nvPr/>
              </p:nvSpPr>
              <p:spPr>
                <a:xfrm>
                  <a:off x="7851240" y="34974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848720" y="34423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864560" y="34480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6" name=""/>
              <p:cNvGrpSpPr/>
              <p:nvPr/>
            </p:nvGrpSpPr>
            <p:grpSpPr>
              <a:xfrm>
                <a:off x="7907400" y="3447000"/>
                <a:ext cx="419760" cy="14400"/>
                <a:chOff x="7907400" y="3447000"/>
                <a:chExt cx="419760" cy="14400"/>
              </a:xfrm>
            </p:grpSpPr>
            <p:sp>
              <p:nvSpPr>
                <p:cNvPr id="4807" name=""/>
                <p:cNvSpPr/>
                <p:nvPr/>
              </p:nvSpPr>
              <p:spPr>
                <a:xfrm>
                  <a:off x="7907400" y="34470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7947360" y="34470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>
                  <a:off x="8033040" y="34470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>
                  <a:off x="8109000" y="34470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>
                  <a:off x="8187120" y="34470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8256960" y="34520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3" name=""/>
              <p:cNvGrpSpPr/>
              <p:nvPr/>
            </p:nvGrpSpPr>
            <p:grpSpPr>
              <a:xfrm>
                <a:off x="7894080" y="3461040"/>
                <a:ext cx="435240" cy="21960"/>
                <a:chOff x="7894080" y="3461040"/>
                <a:chExt cx="435240" cy="21960"/>
              </a:xfrm>
            </p:grpSpPr>
            <p:grpSp>
              <p:nvGrpSpPr>
                <p:cNvPr id="4814" name=""/>
                <p:cNvGrpSpPr/>
                <p:nvPr/>
              </p:nvGrpSpPr>
              <p:grpSpPr>
                <a:xfrm>
                  <a:off x="7931880" y="3461760"/>
                  <a:ext cx="212760" cy="19080"/>
                  <a:chOff x="7931880" y="3461760"/>
                  <a:chExt cx="212760" cy="19080"/>
                </a:xfrm>
              </p:grpSpPr>
              <p:sp>
                <p:nvSpPr>
                  <p:cNvPr id="4815" name=""/>
                  <p:cNvSpPr/>
                  <p:nvPr/>
                </p:nvSpPr>
                <p:spPr>
                  <a:xfrm>
                    <a:off x="7931880" y="34617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7940160" y="34678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>
                    <a:off x="7942680" y="34740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>
                    <a:off x="7947000" y="34808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9" name=""/>
                <p:cNvGrpSpPr/>
                <p:nvPr/>
              </p:nvGrpSpPr>
              <p:grpSpPr>
                <a:xfrm>
                  <a:off x="7894080" y="3464640"/>
                  <a:ext cx="30960" cy="12240"/>
                  <a:chOff x="7894080" y="3464640"/>
                  <a:chExt cx="30960" cy="12240"/>
                </a:xfrm>
              </p:grpSpPr>
              <p:sp>
                <p:nvSpPr>
                  <p:cNvPr id="4820" name=""/>
                  <p:cNvSpPr/>
                  <p:nvPr/>
                </p:nvSpPr>
                <p:spPr>
                  <a:xfrm>
                    <a:off x="7903080" y="34646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7899480" y="34711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2" name=""/>
                  <p:cNvSpPr/>
                  <p:nvPr/>
                </p:nvSpPr>
                <p:spPr>
                  <a:xfrm>
                    <a:off x="7894080" y="34768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3" name=""/>
                <p:cNvGrpSpPr/>
                <p:nvPr/>
              </p:nvGrpSpPr>
              <p:grpSpPr>
                <a:xfrm>
                  <a:off x="7978320" y="3461040"/>
                  <a:ext cx="194760" cy="20880"/>
                  <a:chOff x="7978320" y="3461040"/>
                  <a:chExt cx="194760" cy="20880"/>
                </a:xfrm>
              </p:grpSpPr>
              <p:sp>
                <p:nvSpPr>
                  <p:cNvPr id="4824" name=""/>
                  <p:cNvSpPr/>
                  <p:nvPr/>
                </p:nvSpPr>
                <p:spPr>
                  <a:xfrm>
                    <a:off x="7978320" y="34812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8148240" y="34610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>
                    <a:off x="8155800" y="34682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7" name=""/>
                  <p:cNvSpPr/>
                  <p:nvPr/>
                </p:nvSpPr>
                <p:spPr>
                  <a:xfrm>
                    <a:off x="8139960" y="34750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8" name=""/>
                  <p:cNvSpPr/>
                  <p:nvPr/>
                </p:nvSpPr>
                <p:spPr>
                  <a:xfrm>
                    <a:off x="8107920" y="34812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"/>
                  <p:cNvSpPr/>
                  <p:nvPr/>
                </p:nvSpPr>
                <p:spPr>
                  <a:xfrm>
                    <a:off x="8133840" y="34819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0" name=""/>
                <p:cNvGrpSpPr/>
                <p:nvPr/>
              </p:nvGrpSpPr>
              <p:grpSpPr>
                <a:xfrm>
                  <a:off x="8188200" y="3464640"/>
                  <a:ext cx="56160" cy="17280"/>
                  <a:chOff x="8188200" y="3464640"/>
                  <a:chExt cx="56160" cy="17280"/>
                </a:xfrm>
              </p:grpSpPr>
              <p:sp>
                <p:nvSpPr>
                  <p:cNvPr id="4831" name=""/>
                  <p:cNvSpPr/>
                  <p:nvPr/>
                </p:nvSpPr>
                <p:spPr>
                  <a:xfrm>
                    <a:off x="8188200" y="34646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"/>
                  <p:cNvSpPr/>
                  <p:nvPr/>
                </p:nvSpPr>
                <p:spPr>
                  <a:xfrm>
                    <a:off x="8196480" y="34725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"/>
                  <p:cNvSpPr/>
                  <p:nvPr/>
                </p:nvSpPr>
                <p:spPr>
                  <a:xfrm>
                    <a:off x="8196840" y="34819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4" name=""/>
                <p:cNvGrpSpPr/>
                <p:nvPr/>
              </p:nvGrpSpPr>
              <p:grpSpPr>
                <a:xfrm>
                  <a:off x="8261640" y="3464640"/>
                  <a:ext cx="67680" cy="18360"/>
                  <a:chOff x="8261640" y="3464640"/>
                  <a:chExt cx="67680" cy="18360"/>
                </a:xfrm>
              </p:grpSpPr>
              <p:sp>
                <p:nvSpPr>
                  <p:cNvPr id="4835" name=""/>
                  <p:cNvSpPr/>
                  <p:nvPr/>
                </p:nvSpPr>
                <p:spPr>
                  <a:xfrm>
                    <a:off x="8266320" y="34646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>
                    <a:off x="8261640" y="34711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>
                    <a:off x="8266320" y="34768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8264880" y="34830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9" name=""/>
                  <p:cNvSpPr/>
                  <p:nvPr/>
                </p:nvSpPr>
                <p:spPr>
                  <a:xfrm>
                    <a:off x="8316000" y="34718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0" name=""/>
                  <p:cNvSpPr/>
                  <p:nvPr/>
                </p:nvSpPr>
                <p:spPr>
                  <a:xfrm>
                    <a:off x="8321040" y="34797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41" name=""/>
            <p:cNvGrpSpPr/>
            <p:nvPr/>
          </p:nvGrpSpPr>
          <p:grpSpPr>
            <a:xfrm>
              <a:off x="8005320" y="3305880"/>
              <a:ext cx="231840" cy="38160"/>
              <a:chOff x="8005320" y="3305880"/>
              <a:chExt cx="231840" cy="38160"/>
            </a:xfrm>
          </p:grpSpPr>
          <p:grpSp>
            <p:nvGrpSpPr>
              <p:cNvPr id="4842" name=""/>
              <p:cNvGrpSpPr/>
              <p:nvPr/>
            </p:nvGrpSpPr>
            <p:grpSpPr>
              <a:xfrm>
                <a:off x="8005320" y="3318480"/>
                <a:ext cx="231840" cy="25560"/>
                <a:chOff x="8005320" y="3318480"/>
                <a:chExt cx="231840" cy="25560"/>
              </a:xfrm>
            </p:grpSpPr>
            <p:sp>
              <p:nvSpPr>
                <p:cNvPr id="4843" name=""/>
                <p:cNvSpPr/>
                <p:nvPr/>
              </p:nvSpPr>
              <p:spPr>
                <a:xfrm>
                  <a:off x="8005320" y="331848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8007480" y="333576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5" name=""/>
              <p:cNvSpPr/>
              <p:nvPr/>
            </p:nvSpPr>
            <p:spPr>
              <a:xfrm>
                <a:off x="8058240" y="33058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6" name=""/>
            <p:cNvSpPr/>
            <p:nvPr/>
          </p:nvSpPr>
          <p:spPr>
            <a:xfrm>
              <a:off x="7979040" y="31240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8011080" y="31446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8020440" y="315000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9" name=""/>
          <p:cNvGrpSpPr/>
          <p:nvPr/>
        </p:nvGrpSpPr>
        <p:grpSpPr>
          <a:xfrm>
            <a:off x="6248520" y="3124080"/>
            <a:ext cx="609120" cy="380880"/>
            <a:chOff x="6248520" y="3124080"/>
            <a:chExt cx="609120" cy="380880"/>
          </a:xfrm>
        </p:grpSpPr>
        <p:grpSp>
          <p:nvGrpSpPr>
            <p:cNvPr id="4850" name=""/>
            <p:cNvGrpSpPr/>
            <p:nvPr/>
          </p:nvGrpSpPr>
          <p:grpSpPr>
            <a:xfrm>
              <a:off x="6260040" y="3142080"/>
              <a:ext cx="597600" cy="362880"/>
              <a:chOff x="6260040" y="3142080"/>
              <a:chExt cx="597600" cy="362880"/>
            </a:xfrm>
          </p:grpSpPr>
          <p:sp>
            <p:nvSpPr>
              <p:cNvPr id="4851" name=""/>
              <p:cNvSpPr/>
              <p:nvPr/>
            </p:nvSpPr>
            <p:spPr>
              <a:xfrm>
                <a:off x="6260040" y="3258720"/>
                <a:ext cx="59760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265440" y="327168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6265440" y="3142080"/>
                <a:ext cx="59184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4" name=""/>
            <p:cNvSpPr/>
            <p:nvPr/>
          </p:nvSpPr>
          <p:spPr>
            <a:xfrm>
              <a:off x="6248520" y="3240720"/>
              <a:ext cx="597600" cy="12888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254280" y="3252960"/>
              <a:ext cx="591840" cy="2343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6254280" y="3124080"/>
              <a:ext cx="591840" cy="23328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7" name=""/>
            <p:cNvGrpSpPr/>
            <p:nvPr/>
          </p:nvGrpSpPr>
          <p:grpSpPr>
            <a:xfrm>
              <a:off x="6364080" y="3153960"/>
              <a:ext cx="372240" cy="173160"/>
              <a:chOff x="6364080" y="3153960"/>
              <a:chExt cx="372240" cy="173160"/>
            </a:xfrm>
          </p:grpSpPr>
          <p:grpSp>
            <p:nvGrpSpPr>
              <p:cNvPr id="4858" name=""/>
              <p:cNvGrpSpPr/>
              <p:nvPr/>
            </p:nvGrpSpPr>
            <p:grpSpPr>
              <a:xfrm>
                <a:off x="6364080" y="3153960"/>
                <a:ext cx="372240" cy="173160"/>
                <a:chOff x="6364080" y="3153960"/>
                <a:chExt cx="372240" cy="173160"/>
              </a:xfrm>
            </p:grpSpPr>
            <p:sp>
              <p:nvSpPr>
                <p:cNvPr id="4859" name=""/>
                <p:cNvSpPr/>
                <p:nvPr/>
              </p:nvSpPr>
              <p:spPr>
                <a:xfrm>
                  <a:off x="6364080" y="31539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>
                  <a:off x="6364080" y="31539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>
                  <a:off x="6561360" y="32644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6561360" y="32644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3" name=""/>
              <p:cNvGrpSpPr/>
              <p:nvPr/>
            </p:nvGrpSpPr>
            <p:grpSpPr>
              <a:xfrm>
                <a:off x="6375600" y="3153960"/>
                <a:ext cx="349560" cy="173160"/>
                <a:chOff x="6375600" y="3153960"/>
                <a:chExt cx="349560" cy="173160"/>
              </a:xfrm>
            </p:grpSpPr>
            <p:sp>
              <p:nvSpPr>
                <p:cNvPr id="4864" name=""/>
                <p:cNvSpPr/>
                <p:nvPr/>
              </p:nvSpPr>
              <p:spPr>
                <a:xfrm>
                  <a:off x="6549480" y="31539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5" name=""/>
                <p:cNvSpPr/>
                <p:nvPr/>
              </p:nvSpPr>
              <p:spPr>
                <a:xfrm>
                  <a:off x="6549480" y="31539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6" name=""/>
                <p:cNvSpPr/>
                <p:nvPr/>
              </p:nvSpPr>
              <p:spPr>
                <a:xfrm>
                  <a:off x="6375600" y="32522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7" name=""/>
                <p:cNvSpPr/>
                <p:nvPr/>
              </p:nvSpPr>
              <p:spPr>
                <a:xfrm>
                  <a:off x="6375600" y="32522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68" name=""/>
          <p:cNvSpPr/>
          <p:nvPr/>
        </p:nvSpPr>
        <p:spPr>
          <a:xfrm>
            <a:off x="69343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4572000" y="3048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>
            <a:off x="4724280" y="3352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1" name=""/>
          <p:cNvGrpSpPr/>
          <p:nvPr/>
        </p:nvGrpSpPr>
        <p:grpSpPr>
          <a:xfrm>
            <a:off x="5257800" y="3276720"/>
            <a:ext cx="914400" cy="228600"/>
            <a:chOff x="5257800" y="3276720"/>
            <a:chExt cx="914400" cy="228600"/>
          </a:xfrm>
        </p:grpSpPr>
        <p:grpSp>
          <p:nvGrpSpPr>
            <p:cNvPr id="4872" name=""/>
            <p:cNvGrpSpPr/>
            <p:nvPr/>
          </p:nvGrpSpPr>
          <p:grpSpPr>
            <a:xfrm>
              <a:off x="5267520" y="3335040"/>
              <a:ext cx="680400" cy="16920"/>
              <a:chOff x="5267520" y="3335040"/>
              <a:chExt cx="680400" cy="16920"/>
            </a:xfrm>
          </p:grpSpPr>
          <p:sp>
            <p:nvSpPr>
              <p:cNvPr id="4873" name=""/>
              <p:cNvSpPr/>
              <p:nvPr/>
            </p:nvSpPr>
            <p:spPr>
              <a:xfrm>
                <a:off x="5277600" y="3335040"/>
                <a:ext cx="661680" cy="14040"/>
              </a:xfrm>
              <a:custGeom>
                <a:avLst/>
                <a:gdLst/>
                <a:ahLst/>
                <a:rect l="l" t="t" r="r" b="b"/>
                <a:pathLst>
                  <a:path w="1395" h="34">
                    <a:moveTo>
                      <a:pt x="0" y="0"/>
                    </a:moveTo>
                    <a:lnTo>
                      <a:pt x="1332" y="0"/>
                    </a:lnTo>
                    <a:lnTo>
                      <a:pt x="1374" y="0"/>
                    </a:lnTo>
                    <a:lnTo>
                      <a:pt x="1395" y="11"/>
                    </a:lnTo>
                    <a:lnTo>
                      <a:pt x="1395" y="24"/>
                    </a:lnTo>
                    <a:lnTo>
                      <a:pt x="1374" y="34"/>
                    </a:lnTo>
                    <a:lnTo>
                      <a:pt x="1332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4" name=""/>
              <p:cNvGrpSpPr/>
              <p:nvPr/>
            </p:nvGrpSpPr>
            <p:grpSpPr>
              <a:xfrm>
                <a:off x="5277600" y="3335040"/>
                <a:ext cx="670320" cy="16920"/>
                <a:chOff x="5277600" y="3335040"/>
                <a:chExt cx="670320" cy="16920"/>
              </a:xfrm>
            </p:grpSpPr>
            <p:sp>
              <p:nvSpPr>
                <p:cNvPr id="4875" name=""/>
                <p:cNvSpPr/>
                <p:nvPr/>
              </p:nvSpPr>
              <p:spPr>
                <a:xfrm>
                  <a:off x="5277600" y="3335040"/>
                  <a:ext cx="670320" cy="1692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>
                  <a:off x="5277600" y="3335040"/>
                  <a:ext cx="670320" cy="1692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7" name=""/>
              <p:cNvGrpSpPr/>
              <p:nvPr/>
            </p:nvGrpSpPr>
            <p:grpSpPr>
              <a:xfrm>
                <a:off x="5267520" y="3335040"/>
                <a:ext cx="30240" cy="16920"/>
                <a:chOff x="5267520" y="3335040"/>
                <a:chExt cx="30240" cy="16920"/>
              </a:xfrm>
            </p:grpSpPr>
            <p:sp>
              <p:nvSpPr>
                <p:cNvPr id="4878" name=""/>
                <p:cNvSpPr/>
                <p:nvPr/>
              </p:nvSpPr>
              <p:spPr>
                <a:xfrm>
                  <a:off x="5267520" y="3335040"/>
                  <a:ext cx="30240" cy="1692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9" name=""/>
                <p:cNvSpPr/>
                <p:nvPr/>
              </p:nvSpPr>
              <p:spPr>
                <a:xfrm>
                  <a:off x="5267520" y="3335040"/>
                  <a:ext cx="30240" cy="1692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0" name=""/>
            <p:cNvGrpSpPr/>
            <p:nvPr/>
          </p:nvGrpSpPr>
          <p:grpSpPr>
            <a:xfrm>
              <a:off x="5257800" y="3353040"/>
              <a:ext cx="679320" cy="17640"/>
              <a:chOff x="5257800" y="3353040"/>
              <a:chExt cx="679320" cy="17640"/>
            </a:xfrm>
          </p:grpSpPr>
          <p:sp>
            <p:nvSpPr>
              <p:cNvPr id="4881" name=""/>
              <p:cNvSpPr/>
              <p:nvPr/>
            </p:nvSpPr>
            <p:spPr>
              <a:xfrm>
                <a:off x="5267520" y="3353040"/>
                <a:ext cx="662760" cy="1512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6" y="37"/>
                    </a:lnTo>
                    <a:lnTo>
                      <a:pt x="133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2" name=""/>
              <p:cNvGrpSpPr/>
              <p:nvPr/>
            </p:nvGrpSpPr>
            <p:grpSpPr>
              <a:xfrm>
                <a:off x="5267520" y="3353040"/>
                <a:ext cx="669600" cy="17640"/>
                <a:chOff x="5267520" y="3353040"/>
                <a:chExt cx="669600" cy="17640"/>
              </a:xfrm>
            </p:grpSpPr>
            <p:sp>
              <p:nvSpPr>
                <p:cNvPr id="4883" name=""/>
                <p:cNvSpPr/>
                <p:nvPr/>
              </p:nvSpPr>
              <p:spPr>
                <a:xfrm>
                  <a:off x="5267520" y="3353040"/>
                  <a:ext cx="669600" cy="1764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>
                  <a:off x="5267520" y="3353040"/>
                  <a:ext cx="669600" cy="1764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5" name=""/>
              <p:cNvGrpSpPr/>
              <p:nvPr/>
            </p:nvGrpSpPr>
            <p:grpSpPr>
              <a:xfrm>
                <a:off x="5257800" y="3353040"/>
                <a:ext cx="29880" cy="17640"/>
                <a:chOff x="5257800" y="3353040"/>
                <a:chExt cx="29880" cy="17640"/>
              </a:xfrm>
            </p:grpSpPr>
            <p:sp>
              <p:nvSpPr>
                <p:cNvPr id="4886" name=""/>
                <p:cNvSpPr/>
                <p:nvPr/>
              </p:nvSpPr>
              <p:spPr>
                <a:xfrm>
                  <a:off x="5257800" y="33530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5257800" y="33530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8" name=""/>
            <p:cNvGrpSpPr/>
            <p:nvPr/>
          </p:nvGrpSpPr>
          <p:grpSpPr>
            <a:xfrm>
              <a:off x="5259240" y="3371400"/>
              <a:ext cx="681480" cy="17280"/>
              <a:chOff x="5259240" y="3371400"/>
              <a:chExt cx="681480" cy="17280"/>
            </a:xfrm>
          </p:grpSpPr>
          <p:sp>
            <p:nvSpPr>
              <p:cNvPr id="4889" name=""/>
              <p:cNvSpPr/>
              <p:nvPr/>
            </p:nvSpPr>
            <p:spPr>
              <a:xfrm>
                <a:off x="5268960" y="3371400"/>
                <a:ext cx="663480" cy="14400"/>
              </a:xfrm>
              <a:custGeom>
                <a:avLst/>
                <a:gdLst/>
                <a:ahLst/>
                <a:rect l="l" t="t" r="r" b="b"/>
                <a:pathLst>
                  <a:path w="1399" h="35">
                    <a:moveTo>
                      <a:pt x="0" y="0"/>
                    </a:moveTo>
                    <a:lnTo>
                      <a:pt x="1335" y="0"/>
                    </a:lnTo>
                    <a:lnTo>
                      <a:pt x="1377" y="0"/>
                    </a:lnTo>
                    <a:lnTo>
                      <a:pt x="1399" y="12"/>
                    </a:lnTo>
                    <a:lnTo>
                      <a:pt x="1399" y="23"/>
                    </a:lnTo>
                    <a:lnTo>
                      <a:pt x="1377" y="35"/>
                    </a:lnTo>
                    <a:lnTo>
                      <a:pt x="133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0" name=""/>
              <p:cNvGrpSpPr/>
              <p:nvPr/>
            </p:nvGrpSpPr>
            <p:grpSpPr>
              <a:xfrm>
                <a:off x="5268960" y="3371400"/>
                <a:ext cx="671760" cy="17280"/>
                <a:chOff x="5268960" y="3371400"/>
                <a:chExt cx="671760" cy="17280"/>
              </a:xfrm>
            </p:grpSpPr>
            <p:sp>
              <p:nvSpPr>
                <p:cNvPr id="4891" name=""/>
                <p:cNvSpPr/>
                <p:nvPr/>
              </p:nvSpPr>
              <p:spPr>
                <a:xfrm>
                  <a:off x="5268960" y="3371400"/>
                  <a:ext cx="671760" cy="1728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5268960" y="3371400"/>
                  <a:ext cx="671760" cy="1728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3" name=""/>
              <p:cNvGrpSpPr/>
              <p:nvPr/>
            </p:nvGrpSpPr>
            <p:grpSpPr>
              <a:xfrm>
                <a:off x="5259240" y="3371400"/>
                <a:ext cx="30960" cy="17280"/>
                <a:chOff x="5259240" y="3371400"/>
                <a:chExt cx="30960" cy="17280"/>
              </a:xfrm>
            </p:grpSpPr>
            <p:sp>
              <p:nvSpPr>
                <p:cNvPr id="4894" name=""/>
                <p:cNvSpPr/>
                <p:nvPr/>
              </p:nvSpPr>
              <p:spPr>
                <a:xfrm>
                  <a:off x="52592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52592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6" name=""/>
            <p:cNvGrpSpPr/>
            <p:nvPr/>
          </p:nvGrpSpPr>
          <p:grpSpPr>
            <a:xfrm>
              <a:off x="5270040" y="3389400"/>
              <a:ext cx="678960" cy="17280"/>
              <a:chOff x="5270040" y="3389400"/>
              <a:chExt cx="678960" cy="17280"/>
            </a:xfrm>
          </p:grpSpPr>
          <p:sp>
            <p:nvSpPr>
              <p:cNvPr id="4897" name=""/>
              <p:cNvSpPr/>
              <p:nvPr/>
            </p:nvSpPr>
            <p:spPr>
              <a:xfrm>
                <a:off x="5279760" y="3389400"/>
                <a:ext cx="661320" cy="1404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3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3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8" name=""/>
              <p:cNvGrpSpPr/>
              <p:nvPr/>
            </p:nvGrpSpPr>
            <p:grpSpPr>
              <a:xfrm>
                <a:off x="5279760" y="3389400"/>
                <a:ext cx="669240" cy="17280"/>
                <a:chOff x="5279760" y="3389400"/>
                <a:chExt cx="669240" cy="17280"/>
              </a:xfrm>
            </p:grpSpPr>
            <p:sp>
              <p:nvSpPr>
                <p:cNvPr id="4899" name=""/>
                <p:cNvSpPr/>
                <p:nvPr/>
              </p:nvSpPr>
              <p:spPr>
                <a:xfrm>
                  <a:off x="5279760" y="3389400"/>
                  <a:ext cx="66924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5279760" y="3389400"/>
                  <a:ext cx="66924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1" name=""/>
              <p:cNvGrpSpPr/>
              <p:nvPr/>
            </p:nvGrpSpPr>
            <p:grpSpPr>
              <a:xfrm>
                <a:off x="5270040" y="3389400"/>
                <a:ext cx="27720" cy="17280"/>
                <a:chOff x="5270040" y="3389400"/>
                <a:chExt cx="27720" cy="17280"/>
              </a:xfrm>
            </p:grpSpPr>
            <p:sp>
              <p:nvSpPr>
                <p:cNvPr id="4902" name=""/>
                <p:cNvSpPr/>
                <p:nvPr/>
              </p:nvSpPr>
              <p:spPr>
                <a:xfrm>
                  <a:off x="5270040" y="3389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5270040" y="3389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04" name=""/>
            <p:cNvGrpSpPr/>
            <p:nvPr/>
          </p:nvGrpSpPr>
          <p:grpSpPr>
            <a:xfrm>
              <a:off x="5287680" y="3317400"/>
              <a:ext cx="681480" cy="17280"/>
              <a:chOff x="5287680" y="3317400"/>
              <a:chExt cx="681480" cy="17280"/>
            </a:xfrm>
          </p:grpSpPr>
          <p:sp>
            <p:nvSpPr>
              <p:cNvPr id="4905" name=""/>
              <p:cNvSpPr/>
              <p:nvPr/>
            </p:nvSpPr>
            <p:spPr>
              <a:xfrm>
                <a:off x="5298840" y="3317400"/>
                <a:ext cx="662040" cy="14400"/>
              </a:xfrm>
              <a:custGeom>
                <a:avLst/>
                <a:gdLst/>
                <a:ahLst/>
                <a:rect l="l" t="t" r="r" b="b"/>
                <a:pathLst>
                  <a:path w="1396" h="35">
                    <a:moveTo>
                      <a:pt x="0" y="0"/>
                    </a:moveTo>
                    <a:lnTo>
                      <a:pt x="1333" y="0"/>
                    </a:lnTo>
                    <a:lnTo>
                      <a:pt x="1374" y="0"/>
                    </a:lnTo>
                    <a:lnTo>
                      <a:pt x="1396" y="12"/>
                    </a:lnTo>
                    <a:lnTo>
                      <a:pt x="1396" y="25"/>
                    </a:lnTo>
                    <a:lnTo>
                      <a:pt x="1374" y="35"/>
                    </a:lnTo>
                    <a:lnTo>
                      <a:pt x="13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6" name=""/>
              <p:cNvGrpSpPr/>
              <p:nvPr/>
            </p:nvGrpSpPr>
            <p:grpSpPr>
              <a:xfrm>
                <a:off x="5298840" y="3317400"/>
                <a:ext cx="670320" cy="17280"/>
                <a:chOff x="5298840" y="3317400"/>
                <a:chExt cx="670320" cy="17280"/>
              </a:xfrm>
            </p:grpSpPr>
            <p:sp>
              <p:nvSpPr>
                <p:cNvPr id="4907" name=""/>
                <p:cNvSpPr/>
                <p:nvPr/>
              </p:nvSpPr>
              <p:spPr>
                <a:xfrm>
                  <a:off x="5298840" y="3317400"/>
                  <a:ext cx="670320" cy="1728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5298840" y="3317400"/>
                  <a:ext cx="670320" cy="1728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9" name=""/>
              <p:cNvGrpSpPr/>
              <p:nvPr/>
            </p:nvGrpSpPr>
            <p:grpSpPr>
              <a:xfrm>
                <a:off x="5287680" y="3317400"/>
                <a:ext cx="30960" cy="17280"/>
                <a:chOff x="5287680" y="3317400"/>
                <a:chExt cx="30960" cy="17280"/>
              </a:xfrm>
            </p:grpSpPr>
            <p:sp>
              <p:nvSpPr>
                <p:cNvPr id="4910" name=""/>
                <p:cNvSpPr/>
                <p:nvPr/>
              </p:nvSpPr>
              <p:spPr>
                <a:xfrm>
                  <a:off x="5287680" y="3317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5287680" y="3317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2" name=""/>
            <p:cNvGrpSpPr/>
            <p:nvPr/>
          </p:nvGrpSpPr>
          <p:grpSpPr>
            <a:xfrm>
              <a:off x="5317560" y="3304800"/>
              <a:ext cx="678240" cy="16560"/>
              <a:chOff x="5317560" y="3304800"/>
              <a:chExt cx="678240" cy="16560"/>
            </a:xfrm>
          </p:grpSpPr>
          <p:sp>
            <p:nvSpPr>
              <p:cNvPr id="4913" name=""/>
              <p:cNvSpPr/>
              <p:nvPr/>
            </p:nvSpPr>
            <p:spPr>
              <a:xfrm>
                <a:off x="5326560" y="3304800"/>
                <a:ext cx="661320" cy="13680"/>
              </a:xfrm>
              <a:custGeom>
                <a:avLst/>
                <a:gdLst/>
                <a:ahLst/>
                <a:rect l="l" t="t" r="r" b="b"/>
                <a:pathLst>
                  <a:path w="1394" h="33">
                    <a:moveTo>
                      <a:pt x="0" y="0"/>
                    </a:moveTo>
                    <a:lnTo>
                      <a:pt x="1331" y="0"/>
                    </a:lnTo>
                    <a:lnTo>
                      <a:pt x="1374" y="0"/>
                    </a:lnTo>
                    <a:lnTo>
                      <a:pt x="1394" y="10"/>
                    </a:lnTo>
                    <a:lnTo>
                      <a:pt x="1394" y="23"/>
                    </a:lnTo>
                    <a:lnTo>
                      <a:pt x="1374" y="33"/>
                    </a:lnTo>
                    <a:lnTo>
                      <a:pt x="133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4" name=""/>
              <p:cNvGrpSpPr/>
              <p:nvPr/>
            </p:nvGrpSpPr>
            <p:grpSpPr>
              <a:xfrm>
                <a:off x="5326560" y="3304800"/>
                <a:ext cx="669240" cy="16560"/>
                <a:chOff x="5326560" y="3304800"/>
                <a:chExt cx="669240" cy="16560"/>
              </a:xfrm>
            </p:grpSpPr>
            <p:sp>
              <p:nvSpPr>
                <p:cNvPr id="4915" name=""/>
                <p:cNvSpPr/>
                <p:nvPr/>
              </p:nvSpPr>
              <p:spPr>
                <a:xfrm>
                  <a:off x="5326560" y="3304800"/>
                  <a:ext cx="669240" cy="1656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5326560" y="3304800"/>
                  <a:ext cx="669240" cy="1656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7" name=""/>
              <p:cNvGrpSpPr/>
              <p:nvPr/>
            </p:nvGrpSpPr>
            <p:grpSpPr>
              <a:xfrm>
                <a:off x="5317560" y="3304800"/>
                <a:ext cx="29880" cy="16560"/>
                <a:chOff x="5317560" y="3304800"/>
                <a:chExt cx="29880" cy="16560"/>
              </a:xfrm>
            </p:grpSpPr>
            <p:sp>
              <p:nvSpPr>
                <p:cNvPr id="4918" name=""/>
                <p:cNvSpPr/>
                <p:nvPr/>
              </p:nvSpPr>
              <p:spPr>
                <a:xfrm>
                  <a:off x="5317560" y="330480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>
                  <a:off x="5317560" y="330480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0" name=""/>
            <p:cNvGrpSpPr/>
            <p:nvPr/>
          </p:nvGrpSpPr>
          <p:grpSpPr>
            <a:xfrm>
              <a:off x="5298480" y="3353040"/>
              <a:ext cx="680760" cy="17640"/>
              <a:chOff x="5298480" y="3353040"/>
              <a:chExt cx="680760" cy="17640"/>
            </a:xfrm>
          </p:grpSpPr>
          <p:sp>
            <p:nvSpPr>
              <p:cNvPr id="4921" name=""/>
              <p:cNvSpPr/>
              <p:nvPr/>
            </p:nvSpPr>
            <p:spPr>
              <a:xfrm>
                <a:off x="5308560" y="3353040"/>
                <a:ext cx="662400" cy="1512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5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2" name=""/>
              <p:cNvGrpSpPr/>
              <p:nvPr/>
            </p:nvGrpSpPr>
            <p:grpSpPr>
              <a:xfrm>
                <a:off x="5308560" y="3353040"/>
                <a:ext cx="670680" cy="17640"/>
                <a:chOff x="5308560" y="3353040"/>
                <a:chExt cx="670680" cy="17640"/>
              </a:xfrm>
            </p:grpSpPr>
            <p:sp>
              <p:nvSpPr>
                <p:cNvPr id="4923" name=""/>
                <p:cNvSpPr/>
                <p:nvPr/>
              </p:nvSpPr>
              <p:spPr>
                <a:xfrm>
                  <a:off x="53085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53085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5" name=""/>
              <p:cNvGrpSpPr/>
              <p:nvPr/>
            </p:nvGrpSpPr>
            <p:grpSpPr>
              <a:xfrm>
                <a:off x="5298480" y="3353040"/>
                <a:ext cx="29520" cy="17640"/>
                <a:chOff x="5298480" y="3353040"/>
                <a:chExt cx="29520" cy="17640"/>
              </a:xfrm>
            </p:grpSpPr>
            <p:sp>
              <p:nvSpPr>
                <p:cNvPr id="4926" name=""/>
                <p:cNvSpPr/>
                <p:nvPr/>
              </p:nvSpPr>
              <p:spPr>
                <a:xfrm>
                  <a:off x="5298480" y="3353040"/>
                  <a:ext cx="2952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5298480" y="3353040"/>
                  <a:ext cx="2952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8" name=""/>
            <p:cNvGrpSpPr/>
            <p:nvPr/>
          </p:nvGrpSpPr>
          <p:grpSpPr>
            <a:xfrm>
              <a:off x="5314680" y="3335040"/>
              <a:ext cx="681120" cy="16920"/>
              <a:chOff x="5314680" y="3335040"/>
              <a:chExt cx="681120" cy="16920"/>
            </a:xfrm>
          </p:grpSpPr>
          <p:sp>
            <p:nvSpPr>
              <p:cNvPr id="4929" name=""/>
              <p:cNvSpPr/>
              <p:nvPr/>
            </p:nvSpPr>
            <p:spPr>
              <a:xfrm>
                <a:off x="5326560" y="3335040"/>
                <a:ext cx="661320" cy="1404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4" y="11"/>
                    </a:lnTo>
                    <a:lnTo>
                      <a:pt x="1394" y="24"/>
                    </a:lnTo>
                    <a:lnTo>
                      <a:pt x="1375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0" name=""/>
              <p:cNvGrpSpPr/>
              <p:nvPr/>
            </p:nvGrpSpPr>
            <p:grpSpPr>
              <a:xfrm>
                <a:off x="5326560" y="3335040"/>
                <a:ext cx="669240" cy="16920"/>
                <a:chOff x="5326560" y="3335040"/>
                <a:chExt cx="669240" cy="16920"/>
              </a:xfrm>
            </p:grpSpPr>
            <p:sp>
              <p:nvSpPr>
                <p:cNvPr id="4931" name=""/>
                <p:cNvSpPr/>
                <p:nvPr/>
              </p:nvSpPr>
              <p:spPr>
                <a:xfrm>
                  <a:off x="532656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532656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3" name=""/>
              <p:cNvGrpSpPr/>
              <p:nvPr/>
            </p:nvGrpSpPr>
            <p:grpSpPr>
              <a:xfrm>
                <a:off x="5314680" y="3335040"/>
                <a:ext cx="31680" cy="16920"/>
                <a:chOff x="5314680" y="3335040"/>
                <a:chExt cx="31680" cy="16920"/>
              </a:xfrm>
            </p:grpSpPr>
            <p:sp>
              <p:nvSpPr>
                <p:cNvPr id="4934" name=""/>
                <p:cNvSpPr/>
                <p:nvPr/>
              </p:nvSpPr>
              <p:spPr>
                <a:xfrm>
                  <a:off x="5314680" y="3335040"/>
                  <a:ext cx="31680" cy="1692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5314680" y="3335040"/>
                  <a:ext cx="31680" cy="1692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6" name=""/>
            <p:cNvGrpSpPr/>
            <p:nvPr/>
          </p:nvGrpSpPr>
          <p:grpSpPr>
            <a:xfrm>
              <a:off x="5502960" y="3277080"/>
              <a:ext cx="298800" cy="228240"/>
              <a:chOff x="5502960" y="3277080"/>
              <a:chExt cx="298800" cy="228240"/>
            </a:xfrm>
          </p:grpSpPr>
          <p:sp>
            <p:nvSpPr>
              <p:cNvPr id="4937" name=""/>
              <p:cNvSpPr/>
              <p:nvPr/>
            </p:nvSpPr>
            <p:spPr>
              <a:xfrm>
                <a:off x="5502960" y="3277080"/>
                <a:ext cx="298800" cy="22824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502960" y="3277080"/>
                <a:ext cx="298800" cy="22824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9" name=""/>
            <p:cNvGrpSpPr/>
            <p:nvPr/>
          </p:nvGrpSpPr>
          <p:grpSpPr>
            <a:xfrm>
              <a:off x="5349600" y="3317400"/>
              <a:ext cx="679680" cy="16560"/>
              <a:chOff x="5349600" y="3317400"/>
              <a:chExt cx="679680" cy="16560"/>
            </a:xfrm>
          </p:grpSpPr>
          <p:sp>
            <p:nvSpPr>
              <p:cNvPr id="4940" name=""/>
              <p:cNvSpPr/>
              <p:nvPr/>
            </p:nvSpPr>
            <p:spPr>
              <a:xfrm>
                <a:off x="5359320" y="3317400"/>
                <a:ext cx="661320" cy="1440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28" y="0"/>
                    </a:lnTo>
                    <a:lnTo>
                      <a:pt x="1374" y="0"/>
                    </a:lnTo>
                    <a:lnTo>
                      <a:pt x="1394" y="12"/>
                    </a:lnTo>
                    <a:lnTo>
                      <a:pt x="1394" y="25"/>
                    </a:lnTo>
                    <a:lnTo>
                      <a:pt x="1374" y="35"/>
                    </a:lnTo>
                    <a:lnTo>
                      <a:pt x="132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1" name=""/>
              <p:cNvGrpSpPr/>
              <p:nvPr/>
            </p:nvGrpSpPr>
            <p:grpSpPr>
              <a:xfrm>
                <a:off x="5359320" y="3317400"/>
                <a:ext cx="669960" cy="16560"/>
                <a:chOff x="5359320" y="3317400"/>
                <a:chExt cx="669960" cy="16560"/>
              </a:xfrm>
            </p:grpSpPr>
            <p:sp>
              <p:nvSpPr>
                <p:cNvPr id="4942" name=""/>
                <p:cNvSpPr/>
                <p:nvPr/>
              </p:nvSpPr>
              <p:spPr>
                <a:xfrm>
                  <a:off x="5359320" y="3317400"/>
                  <a:ext cx="669960" cy="1656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5359320" y="3317400"/>
                  <a:ext cx="669960" cy="1656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4" name=""/>
              <p:cNvGrpSpPr/>
              <p:nvPr/>
            </p:nvGrpSpPr>
            <p:grpSpPr>
              <a:xfrm>
                <a:off x="5349600" y="3317400"/>
                <a:ext cx="27720" cy="16560"/>
                <a:chOff x="5349600" y="3317400"/>
                <a:chExt cx="27720" cy="16560"/>
              </a:xfrm>
            </p:grpSpPr>
            <p:sp>
              <p:nvSpPr>
                <p:cNvPr id="4945" name=""/>
                <p:cNvSpPr/>
                <p:nvPr/>
              </p:nvSpPr>
              <p:spPr>
                <a:xfrm>
                  <a:off x="5349600" y="3317400"/>
                  <a:ext cx="27720" cy="1656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5349600" y="3317400"/>
                  <a:ext cx="27720" cy="1656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7" name=""/>
            <p:cNvGrpSpPr/>
            <p:nvPr/>
          </p:nvGrpSpPr>
          <p:grpSpPr>
            <a:xfrm>
              <a:off x="5340600" y="3422880"/>
              <a:ext cx="765360" cy="17280"/>
              <a:chOff x="5340600" y="3422880"/>
              <a:chExt cx="765360" cy="17280"/>
            </a:xfrm>
          </p:grpSpPr>
          <p:sp>
            <p:nvSpPr>
              <p:cNvPr id="4948" name=""/>
              <p:cNvSpPr/>
              <p:nvPr/>
            </p:nvSpPr>
            <p:spPr>
              <a:xfrm>
                <a:off x="5352840" y="3422880"/>
                <a:ext cx="744840" cy="14760"/>
              </a:xfrm>
              <a:custGeom>
                <a:avLst/>
                <a:gdLst/>
                <a:ahLst/>
                <a:rect l="l" t="t" r="r" b="b"/>
                <a:pathLst>
                  <a:path w="1571" h="36">
                    <a:moveTo>
                      <a:pt x="0" y="0"/>
                    </a:moveTo>
                    <a:lnTo>
                      <a:pt x="1500" y="0"/>
                    </a:lnTo>
                    <a:lnTo>
                      <a:pt x="1548" y="0"/>
                    </a:lnTo>
                    <a:lnTo>
                      <a:pt x="1571" y="12"/>
                    </a:lnTo>
                    <a:lnTo>
                      <a:pt x="1571" y="26"/>
                    </a:lnTo>
                    <a:lnTo>
                      <a:pt x="1548" y="36"/>
                    </a:lnTo>
                    <a:lnTo>
                      <a:pt x="1500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9" name=""/>
              <p:cNvGrpSpPr/>
              <p:nvPr/>
            </p:nvGrpSpPr>
            <p:grpSpPr>
              <a:xfrm>
                <a:off x="5352840" y="3422880"/>
                <a:ext cx="753120" cy="17280"/>
                <a:chOff x="5352840" y="3422880"/>
                <a:chExt cx="753120" cy="17280"/>
              </a:xfrm>
            </p:grpSpPr>
            <p:sp>
              <p:nvSpPr>
                <p:cNvPr id="4950" name=""/>
                <p:cNvSpPr/>
                <p:nvPr/>
              </p:nvSpPr>
              <p:spPr>
                <a:xfrm>
                  <a:off x="5352840" y="3422880"/>
                  <a:ext cx="753120" cy="1728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5352840" y="3422880"/>
                  <a:ext cx="753120" cy="1728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2" name=""/>
              <p:cNvGrpSpPr/>
              <p:nvPr/>
            </p:nvGrpSpPr>
            <p:grpSpPr>
              <a:xfrm>
                <a:off x="5340600" y="3422880"/>
                <a:ext cx="34560" cy="17280"/>
                <a:chOff x="5340600" y="3422880"/>
                <a:chExt cx="34560" cy="17280"/>
              </a:xfrm>
            </p:grpSpPr>
            <p:sp>
              <p:nvSpPr>
                <p:cNvPr id="4953" name=""/>
                <p:cNvSpPr/>
                <p:nvPr/>
              </p:nvSpPr>
              <p:spPr>
                <a:xfrm>
                  <a:off x="5340600" y="342288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5340600" y="342288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5" name=""/>
            <p:cNvGrpSpPr/>
            <p:nvPr/>
          </p:nvGrpSpPr>
          <p:grpSpPr>
            <a:xfrm>
              <a:off x="5373360" y="3335040"/>
              <a:ext cx="681480" cy="16920"/>
              <a:chOff x="5373360" y="3335040"/>
              <a:chExt cx="681480" cy="16920"/>
            </a:xfrm>
          </p:grpSpPr>
          <p:sp>
            <p:nvSpPr>
              <p:cNvPr id="4956" name=""/>
              <p:cNvSpPr/>
              <p:nvPr/>
            </p:nvSpPr>
            <p:spPr>
              <a:xfrm>
                <a:off x="5385600" y="3335040"/>
                <a:ext cx="662400" cy="14040"/>
              </a:xfrm>
              <a:custGeom>
                <a:avLst/>
                <a:gdLst/>
                <a:ahLst/>
                <a:rect l="l" t="t" r="r" b="b"/>
                <a:pathLst>
                  <a:path w="1397" h="34">
                    <a:moveTo>
                      <a:pt x="0" y="0"/>
                    </a:moveTo>
                    <a:lnTo>
                      <a:pt x="1334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4"/>
                    </a:lnTo>
                    <a:lnTo>
                      <a:pt x="1375" y="34"/>
                    </a:lnTo>
                    <a:lnTo>
                      <a:pt x="133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7" name=""/>
              <p:cNvGrpSpPr/>
              <p:nvPr/>
            </p:nvGrpSpPr>
            <p:grpSpPr>
              <a:xfrm>
                <a:off x="5385600" y="3335040"/>
                <a:ext cx="669240" cy="16920"/>
                <a:chOff x="5385600" y="3335040"/>
                <a:chExt cx="669240" cy="16920"/>
              </a:xfrm>
            </p:grpSpPr>
            <p:sp>
              <p:nvSpPr>
                <p:cNvPr id="4958" name=""/>
                <p:cNvSpPr/>
                <p:nvPr/>
              </p:nvSpPr>
              <p:spPr>
                <a:xfrm>
                  <a:off x="538560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9" name=""/>
                <p:cNvSpPr/>
                <p:nvPr/>
              </p:nvSpPr>
              <p:spPr>
                <a:xfrm>
                  <a:off x="538560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0" name=""/>
              <p:cNvGrpSpPr/>
              <p:nvPr/>
            </p:nvGrpSpPr>
            <p:grpSpPr>
              <a:xfrm>
                <a:off x="5373360" y="3335040"/>
                <a:ext cx="30960" cy="16920"/>
                <a:chOff x="5373360" y="3335040"/>
                <a:chExt cx="30960" cy="16920"/>
              </a:xfrm>
            </p:grpSpPr>
            <p:sp>
              <p:nvSpPr>
                <p:cNvPr id="4961" name=""/>
                <p:cNvSpPr/>
                <p:nvPr/>
              </p:nvSpPr>
              <p:spPr>
                <a:xfrm>
                  <a:off x="5373360" y="3335040"/>
                  <a:ext cx="30960" cy="1692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>
                  <a:off x="5373360" y="3335040"/>
                  <a:ext cx="30960" cy="1692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3" name=""/>
            <p:cNvGrpSpPr/>
            <p:nvPr/>
          </p:nvGrpSpPr>
          <p:grpSpPr>
            <a:xfrm>
              <a:off x="5306040" y="3371400"/>
              <a:ext cx="680760" cy="17280"/>
              <a:chOff x="5306040" y="3371400"/>
              <a:chExt cx="680760" cy="17280"/>
            </a:xfrm>
          </p:grpSpPr>
          <p:sp>
            <p:nvSpPr>
              <p:cNvPr id="4964" name=""/>
              <p:cNvSpPr/>
              <p:nvPr/>
            </p:nvSpPr>
            <p:spPr>
              <a:xfrm>
                <a:off x="5317200" y="3371400"/>
                <a:ext cx="661320" cy="1440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5" name=""/>
              <p:cNvGrpSpPr/>
              <p:nvPr/>
            </p:nvGrpSpPr>
            <p:grpSpPr>
              <a:xfrm>
                <a:off x="5317200" y="3371400"/>
                <a:ext cx="669600" cy="17280"/>
                <a:chOff x="5317200" y="3371400"/>
                <a:chExt cx="669600" cy="17280"/>
              </a:xfrm>
            </p:grpSpPr>
            <p:sp>
              <p:nvSpPr>
                <p:cNvPr id="4966" name=""/>
                <p:cNvSpPr/>
                <p:nvPr/>
              </p:nvSpPr>
              <p:spPr>
                <a:xfrm>
                  <a:off x="531720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531720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8" name=""/>
              <p:cNvGrpSpPr/>
              <p:nvPr/>
            </p:nvGrpSpPr>
            <p:grpSpPr>
              <a:xfrm>
                <a:off x="5306040" y="3371400"/>
                <a:ext cx="30960" cy="17280"/>
                <a:chOff x="5306040" y="3371400"/>
                <a:chExt cx="30960" cy="17280"/>
              </a:xfrm>
            </p:grpSpPr>
            <p:sp>
              <p:nvSpPr>
                <p:cNvPr id="4969" name=""/>
                <p:cNvSpPr/>
                <p:nvPr/>
              </p:nvSpPr>
              <p:spPr>
                <a:xfrm>
                  <a:off x="53060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53060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1" name=""/>
            <p:cNvGrpSpPr/>
            <p:nvPr/>
          </p:nvGrpSpPr>
          <p:grpSpPr>
            <a:xfrm>
              <a:off x="5426640" y="3335040"/>
              <a:ext cx="738000" cy="16920"/>
              <a:chOff x="5426640" y="3335040"/>
              <a:chExt cx="738000" cy="16920"/>
            </a:xfrm>
          </p:grpSpPr>
          <p:sp>
            <p:nvSpPr>
              <p:cNvPr id="4972" name=""/>
              <p:cNvSpPr/>
              <p:nvPr/>
            </p:nvSpPr>
            <p:spPr>
              <a:xfrm>
                <a:off x="5438160" y="3335040"/>
                <a:ext cx="718200" cy="14040"/>
              </a:xfrm>
              <a:custGeom>
                <a:avLst/>
                <a:gdLst/>
                <a:ahLst/>
                <a:rect l="l" t="t" r="r" b="b"/>
                <a:pathLst>
                  <a:path w="1514" h="34">
                    <a:moveTo>
                      <a:pt x="0" y="0"/>
                    </a:moveTo>
                    <a:lnTo>
                      <a:pt x="1445" y="0"/>
                    </a:lnTo>
                    <a:lnTo>
                      <a:pt x="1491" y="0"/>
                    </a:lnTo>
                    <a:lnTo>
                      <a:pt x="1514" y="11"/>
                    </a:lnTo>
                    <a:lnTo>
                      <a:pt x="1514" y="24"/>
                    </a:lnTo>
                    <a:lnTo>
                      <a:pt x="1491" y="34"/>
                    </a:lnTo>
                    <a:lnTo>
                      <a:pt x="144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3" name=""/>
              <p:cNvGrpSpPr/>
              <p:nvPr/>
            </p:nvGrpSpPr>
            <p:grpSpPr>
              <a:xfrm>
                <a:off x="5438160" y="3335040"/>
                <a:ext cx="726480" cy="16920"/>
                <a:chOff x="5438160" y="3335040"/>
                <a:chExt cx="726480" cy="16920"/>
              </a:xfrm>
            </p:grpSpPr>
            <p:sp>
              <p:nvSpPr>
                <p:cNvPr id="4974" name=""/>
                <p:cNvSpPr/>
                <p:nvPr/>
              </p:nvSpPr>
              <p:spPr>
                <a:xfrm>
                  <a:off x="5438160" y="3335040"/>
                  <a:ext cx="726480" cy="1692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5438160" y="3335040"/>
                  <a:ext cx="726480" cy="1692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6" name=""/>
              <p:cNvGrpSpPr/>
              <p:nvPr/>
            </p:nvGrpSpPr>
            <p:grpSpPr>
              <a:xfrm>
                <a:off x="5426640" y="3335040"/>
                <a:ext cx="33480" cy="16920"/>
                <a:chOff x="5426640" y="3335040"/>
                <a:chExt cx="33480" cy="16920"/>
              </a:xfrm>
            </p:grpSpPr>
            <p:sp>
              <p:nvSpPr>
                <p:cNvPr id="4977" name=""/>
                <p:cNvSpPr/>
                <p:nvPr/>
              </p:nvSpPr>
              <p:spPr>
                <a:xfrm>
                  <a:off x="5426640" y="3335040"/>
                  <a:ext cx="33480" cy="1692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5426640" y="3335040"/>
                  <a:ext cx="33480" cy="1692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9" name=""/>
            <p:cNvGrpSpPr/>
            <p:nvPr/>
          </p:nvGrpSpPr>
          <p:grpSpPr>
            <a:xfrm>
              <a:off x="5351040" y="3371400"/>
              <a:ext cx="680400" cy="17280"/>
              <a:chOff x="5351040" y="3371400"/>
              <a:chExt cx="680400" cy="17280"/>
            </a:xfrm>
          </p:grpSpPr>
          <p:sp>
            <p:nvSpPr>
              <p:cNvPr id="4980" name=""/>
              <p:cNvSpPr/>
              <p:nvPr/>
            </p:nvSpPr>
            <p:spPr>
              <a:xfrm>
                <a:off x="5360760" y="3371400"/>
                <a:ext cx="662760" cy="1440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5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1" name=""/>
              <p:cNvGrpSpPr/>
              <p:nvPr/>
            </p:nvGrpSpPr>
            <p:grpSpPr>
              <a:xfrm>
                <a:off x="5360760" y="3371400"/>
                <a:ext cx="670680" cy="17280"/>
                <a:chOff x="5360760" y="3371400"/>
                <a:chExt cx="670680" cy="17280"/>
              </a:xfrm>
            </p:grpSpPr>
            <p:sp>
              <p:nvSpPr>
                <p:cNvPr id="4982" name=""/>
                <p:cNvSpPr/>
                <p:nvPr/>
              </p:nvSpPr>
              <p:spPr>
                <a:xfrm>
                  <a:off x="5360760" y="3371400"/>
                  <a:ext cx="670680" cy="1728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5360760" y="3371400"/>
                  <a:ext cx="670680" cy="1728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4" name=""/>
              <p:cNvGrpSpPr/>
              <p:nvPr/>
            </p:nvGrpSpPr>
            <p:grpSpPr>
              <a:xfrm>
                <a:off x="5351040" y="3371400"/>
                <a:ext cx="27720" cy="17280"/>
                <a:chOff x="5351040" y="3371400"/>
                <a:chExt cx="27720" cy="17280"/>
              </a:xfrm>
            </p:grpSpPr>
            <p:sp>
              <p:nvSpPr>
                <p:cNvPr id="4985" name=""/>
                <p:cNvSpPr/>
                <p:nvPr/>
              </p:nvSpPr>
              <p:spPr>
                <a:xfrm>
                  <a:off x="5351040" y="3371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>
                  <a:off x="5351040" y="3371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7" name=""/>
            <p:cNvGrpSpPr/>
            <p:nvPr/>
          </p:nvGrpSpPr>
          <p:grpSpPr>
            <a:xfrm>
              <a:off x="5340600" y="3353040"/>
              <a:ext cx="678240" cy="17640"/>
              <a:chOff x="5340600" y="3353040"/>
              <a:chExt cx="678240" cy="17640"/>
            </a:xfrm>
          </p:grpSpPr>
          <p:sp>
            <p:nvSpPr>
              <p:cNvPr id="4988" name=""/>
              <p:cNvSpPr/>
              <p:nvPr/>
            </p:nvSpPr>
            <p:spPr>
              <a:xfrm>
                <a:off x="5348520" y="3353040"/>
                <a:ext cx="662040" cy="1512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6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6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9" name=""/>
              <p:cNvGrpSpPr/>
              <p:nvPr/>
            </p:nvGrpSpPr>
            <p:grpSpPr>
              <a:xfrm>
                <a:off x="5348520" y="3353040"/>
                <a:ext cx="670320" cy="17640"/>
                <a:chOff x="5348520" y="3353040"/>
                <a:chExt cx="670320" cy="17640"/>
              </a:xfrm>
            </p:grpSpPr>
            <p:sp>
              <p:nvSpPr>
                <p:cNvPr id="4990" name=""/>
                <p:cNvSpPr/>
                <p:nvPr/>
              </p:nvSpPr>
              <p:spPr>
                <a:xfrm>
                  <a:off x="5348520" y="3353040"/>
                  <a:ext cx="670320" cy="1764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5348520" y="3353040"/>
                  <a:ext cx="670320" cy="1764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2" name=""/>
              <p:cNvGrpSpPr/>
              <p:nvPr/>
            </p:nvGrpSpPr>
            <p:grpSpPr>
              <a:xfrm>
                <a:off x="5340600" y="3353040"/>
                <a:ext cx="27720" cy="17640"/>
                <a:chOff x="5340600" y="3353040"/>
                <a:chExt cx="27720" cy="17640"/>
              </a:xfrm>
            </p:grpSpPr>
            <p:sp>
              <p:nvSpPr>
                <p:cNvPr id="4993" name=""/>
                <p:cNvSpPr/>
                <p:nvPr/>
              </p:nvSpPr>
              <p:spPr>
                <a:xfrm>
                  <a:off x="5340600" y="335304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5340600" y="335304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5" name=""/>
            <p:cNvGrpSpPr/>
            <p:nvPr/>
          </p:nvGrpSpPr>
          <p:grpSpPr>
            <a:xfrm>
              <a:off x="5384520" y="3353040"/>
              <a:ext cx="679320" cy="17640"/>
              <a:chOff x="5384520" y="3353040"/>
              <a:chExt cx="679320" cy="17640"/>
            </a:xfrm>
          </p:grpSpPr>
          <p:sp>
            <p:nvSpPr>
              <p:cNvPr id="4996" name=""/>
              <p:cNvSpPr/>
              <p:nvPr/>
            </p:nvSpPr>
            <p:spPr>
              <a:xfrm>
                <a:off x="5393160" y="3353040"/>
                <a:ext cx="662760" cy="1512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5" y="37"/>
                    </a:lnTo>
                    <a:lnTo>
                      <a:pt x="133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7" name=""/>
              <p:cNvGrpSpPr/>
              <p:nvPr/>
            </p:nvGrpSpPr>
            <p:grpSpPr>
              <a:xfrm>
                <a:off x="5393160" y="3353040"/>
                <a:ext cx="670680" cy="17640"/>
                <a:chOff x="5393160" y="3353040"/>
                <a:chExt cx="670680" cy="17640"/>
              </a:xfrm>
            </p:grpSpPr>
            <p:sp>
              <p:nvSpPr>
                <p:cNvPr id="4998" name=""/>
                <p:cNvSpPr/>
                <p:nvPr/>
              </p:nvSpPr>
              <p:spPr>
                <a:xfrm>
                  <a:off x="53931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>
                  <a:off x="53931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0" name=""/>
              <p:cNvGrpSpPr/>
              <p:nvPr/>
            </p:nvGrpSpPr>
            <p:grpSpPr>
              <a:xfrm>
                <a:off x="5384520" y="3353040"/>
                <a:ext cx="29160" cy="17640"/>
                <a:chOff x="5384520" y="3353040"/>
                <a:chExt cx="29160" cy="17640"/>
              </a:xfrm>
            </p:grpSpPr>
            <p:sp>
              <p:nvSpPr>
                <p:cNvPr id="5001" name=""/>
                <p:cNvSpPr/>
                <p:nvPr/>
              </p:nvSpPr>
              <p:spPr>
                <a:xfrm>
                  <a:off x="5384520" y="3353040"/>
                  <a:ext cx="29160" cy="1764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5384520" y="3353040"/>
                  <a:ext cx="29160" cy="1764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03" name=""/>
            <p:cNvGrpSpPr/>
            <p:nvPr/>
          </p:nvGrpSpPr>
          <p:grpSpPr>
            <a:xfrm>
              <a:off x="5395680" y="3371400"/>
              <a:ext cx="681840" cy="17280"/>
              <a:chOff x="5395680" y="3371400"/>
              <a:chExt cx="681840" cy="17280"/>
            </a:xfrm>
          </p:grpSpPr>
          <p:sp>
            <p:nvSpPr>
              <p:cNvPr id="5004" name=""/>
              <p:cNvSpPr/>
              <p:nvPr/>
            </p:nvSpPr>
            <p:spPr>
              <a:xfrm>
                <a:off x="5407920" y="3371400"/>
                <a:ext cx="662400" cy="1440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3"/>
                    </a:lnTo>
                    <a:lnTo>
                      <a:pt x="1376" y="35"/>
                    </a:lnTo>
                    <a:lnTo>
                      <a:pt x="133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5" name=""/>
              <p:cNvGrpSpPr/>
              <p:nvPr/>
            </p:nvGrpSpPr>
            <p:grpSpPr>
              <a:xfrm>
                <a:off x="5407920" y="3371400"/>
                <a:ext cx="669600" cy="17280"/>
                <a:chOff x="5407920" y="3371400"/>
                <a:chExt cx="669600" cy="17280"/>
              </a:xfrm>
            </p:grpSpPr>
            <p:sp>
              <p:nvSpPr>
                <p:cNvPr id="5006" name=""/>
                <p:cNvSpPr/>
                <p:nvPr/>
              </p:nvSpPr>
              <p:spPr>
                <a:xfrm>
                  <a:off x="540792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540792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8" name=""/>
              <p:cNvGrpSpPr/>
              <p:nvPr/>
            </p:nvGrpSpPr>
            <p:grpSpPr>
              <a:xfrm>
                <a:off x="5395680" y="3371400"/>
                <a:ext cx="31680" cy="17280"/>
                <a:chOff x="5395680" y="3371400"/>
                <a:chExt cx="31680" cy="17280"/>
              </a:xfrm>
            </p:grpSpPr>
            <p:sp>
              <p:nvSpPr>
                <p:cNvPr id="5009" name=""/>
                <p:cNvSpPr/>
                <p:nvPr/>
              </p:nvSpPr>
              <p:spPr>
                <a:xfrm>
                  <a:off x="5395680" y="337140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5395680" y="337140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1" name=""/>
            <p:cNvGrpSpPr/>
            <p:nvPr/>
          </p:nvGrpSpPr>
          <p:grpSpPr>
            <a:xfrm>
              <a:off x="5438520" y="3371400"/>
              <a:ext cx="731520" cy="17280"/>
              <a:chOff x="5438520" y="3371400"/>
              <a:chExt cx="731520" cy="17280"/>
            </a:xfrm>
          </p:grpSpPr>
          <p:sp>
            <p:nvSpPr>
              <p:cNvPr id="5012" name=""/>
              <p:cNvSpPr/>
              <p:nvPr/>
            </p:nvSpPr>
            <p:spPr>
              <a:xfrm>
                <a:off x="5449680" y="3371400"/>
                <a:ext cx="711720" cy="14400"/>
              </a:xfrm>
              <a:custGeom>
                <a:avLst/>
                <a:gdLst/>
                <a:ahLst/>
                <a:rect l="l" t="t" r="r" b="b"/>
                <a:pathLst>
                  <a:path w="1500" h="35">
                    <a:moveTo>
                      <a:pt x="0" y="0"/>
                    </a:moveTo>
                    <a:lnTo>
                      <a:pt x="1433" y="0"/>
                    </a:lnTo>
                    <a:lnTo>
                      <a:pt x="1477" y="0"/>
                    </a:lnTo>
                    <a:lnTo>
                      <a:pt x="1500" y="12"/>
                    </a:lnTo>
                    <a:lnTo>
                      <a:pt x="1500" y="23"/>
                    </a:lnTo>
                    <a:lnTo>
                      <a:pt x="1477" y="35"/>
                    </a:lnTo>
                    <a:lnTo>
                      <a:pt x="14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3" name=""/>
              <p:cNvGrpSpPr/>
              <p:nvPr/>
            </p:nvGrpSpPr>
            <p:grpSpPr>
              <a:xfrm>
                <a:off x="5449680" y="3371400"/>
                <a:ext cx="720360" cy="17280"/>
                <a:chOff x="5449680" y="3371400"/>
                <a:chExt cx="720360" cy="17280"/>
              </a:xfrm>
            </p:grpSpPr>
            <p:sp>
              <p:nvSpPr>
                <p:cNvPr id="5014" name=""/>
                <p:cNvSpPr/>
                <p:nvPr/>
              </p:nvSpPr>
              <p:spPr>
                <a:xfrm>
                  <a:off x="5449680" y="3371400"/>
                  <a:ext cx="720360" cy="1728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5449680" y="3371400"/>
                  <a:ext cx="720360" cy="1728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6" name=""/>
              <p:cNvGrpSpPr/>
              <p:nvPr/>
            </p:nvGrpSpPr>
            <p:grpSpPr>
              <a:xfrm>
                <a:off x="5438520" y="3371400"/>
                <a:ext cx="33120" cy="17280"/>
                <a:chOff x="5438520" y="3371400"/>
                <a:chExt cx="33120" cy="17280"/>
              </a:xfrm>
            </p:grpSpPr>
            <p:sp>
              <p:nvSpPr>
                <p:cNvPr id="5017" name=""/>
                <p:cNvSpPr/>
                <p:nvPr/>
              </p:nvSpPr>
              <p:spPr>
                <a:xfrm>
                  <a:off x="5438520" y="337140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5438520" y="337140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9" name=""/>
            <p:cNvGrpSpPr/>
            <p:nvPr/>
          </p:nvGrpSpPr>
          <p:grpSpPr>
            <a:xfrm>
              <a:off x="5293800" y="3407040"/>
              <a:ext cx="679680" cy="16560"/>
              <a:chOff x="5293800" y="3407040"/>
              <a:chExt cx="679680" cy="16560"/>
            </a:xfrm>
          </p:grpSpPr>
          <p:sp>
            <p:nvSpPr>
              <p:cNvPr id="5020" name=""/>
              <p:cNvSpPr/>
              <p:nvPr/>
            </p:nvSpPr>
            <p:spPr>
              <a:xfrm>
                <a:off x="5302800" y="3407040"/>
                <a:ext cx="662760" cy="13680"/>
              </a:xfrm>
              <a:custGeom>
                <a:avLst/>
                <a:gdLst/>
                <a:ahLst/>
                <a:rect l="l" t="t" r="r" b="b"/>
                <a:pathLst>
                  <a:path w="1397" h="33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3"/>
                    </a:lnTo>
                    <a:lnTo>
                      <a:pt x="1375" y="33"/>
                    </a:lnTo>
                    <a:lnTo>
                      <a:pt x="1333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1" name=""/>
              <p:cNvGrpSpPr/>
              <p:nvPr/>
            </p:nvGrpSpPr>
            <p:grpSpPr>
              <a:xfrm>
                <a:off x="5302800" y="3407040"/>
                <a:ext cx="670680" cy="16560"/>
                <a:chOff x="5302800" y="3407040"/>
                <a:chExt cx="670680" cy="16560"/>
              </a:xfrm>
            </p:grpSpPr>
            <p:sp>
              <p:nvSpPr>
                <p:cNvPr id="5022" name=""/>
                <p:cNvSpPr/>
                <p:nvPr/>
              </p:nvSpPr>
              <p:spPr>
                <a:xfrm>
                  <a:off x="5302800" y="3407040"/>
                  <a:ext cx="670680" cy="1656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5302800" y="3407040"/>
                  <a:ext cx="670680" cy="1656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4" name=""/>
              <p:cNvGrpSpPr/>
              <p:nvPr/>
            </p:nvGrpSpPr>
            <p:grpSpPr>
              <a:xfrm>
                <a:off x="5293800" y="3407040"/>
                <a:ext cx="29880" cy="16560"/>
                <a:chOff x="5293800" y="3407040"/>
                <a:chExt cx="29880" cy="16560"/>
              </a:xfrm>
            </p:grpSpPr>
            <p:sp>
              <p:nvSpPr>
                <p:cNvPr id="5025" name=""/>
                <p:cNvSpPr/>
                <p:nvPr/>
              </p:nvSpPr>
              <p:spPr>
                <a:xfrm>
                  <a:off x="5293800" y="340704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>
                  <a:off x="5293800" y="340704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7" name=""/>
            <p:cNvGrpSpPr/>
            <p:nvPr/>
          </p:nvGrpSpPr>
          <p:grpSpPr>
            <a:xfrm>
              <a:off x="5317560" y="3390840"/>
              <a:ext cx="679680" cy="17280"/>
              <a:chOff x="5317560" y="3390840"/>
              <a:chExt cx="679680" cy="17280"/>
            </a:xfrm>
          </p:grpSpPr>
          <p:sp>
            <p:nvSpPr>
              <p:cNvPr id="5028" name=""/>
              <p:cNvSpPr/>
              <p:nvPr/>
            </p:nvSpPr>
            <p:spPr>
              <a:xfrm>
                <a:off x="5329080" y="3390840"/>
                <a:ext cx="660240" cy="14760"/>
              </a:xfrm>
              <a:custGeom>
                <a:avLst/>
                <a:gdLst/>
                <a:ahLst/>
                <a:rect l="l" t="t" r="r" b="b"/>
                <a:pathLst>
                  <a:path w="1392" h="36">
                    <a:moveTo>
                      <a:pt x="0" y="0"/>
                    </a:moveTo>
                    <a:lnTo>
                      <a:pt x="1329" y="0"/>
                    </a:lnTo>
                    <a:lnTo>
                      <a:pt x="1371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1" y="36"/>
                    </a:lnTo>
                    <a:lnTo>
                      <a:pt x="132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9" name=""/>
              <p:cNvGrpSpPr/>
              <p:nvPr/>
            </p:nvGrpSpPr>
            <p:grpSpPr>
              <a:xfrm>
                <a:off x="5329080" y="3390840"/>
                <a:ext cx="668160" cy="17280"/>
                <a:chOff x="5329080" y="3390840"/>
                <a:chExt cx="668160" cy="17280"/>
              </a:xfrm>
            </p:grpSpPr>
            <p:sp>
              <p:nvSpPr>
                <p:cNvPr id="5030" name=""/>
                <p:cNvSpPr/>
                <p:nvPr/>
              </p:nvSpPr>
              <p:spPr>
                <a:xfrm>
                  <a:off x="5329080" y="3390840"/>
                  <a:ext cx="668160" cy="1728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5329080" y="3390840"/>
                  <a:ext cx="668160" cy="1728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2" name=""/>
              <p:cNvGrpSpPr/>
              <p:nvPr/>
            </p:nvGrpSpPr>
            <p:grpSpPr>
              <a:xfrm>
                <a:off x="5317560" y="3390840"/>
                <a:ext cx="29880" cy="17280"/>
                <a:chOff x="5317560" y="3390840"/>
                <a:chExt cx="29880" cy="17280"/>
              </a:xfrm>
            </p:grpSpPr>
            <p:sp>
              <p:nvSpPr>
                <p:cNvPr id="5033" name=""/>
                <p:cNvSpPr/>
                <p:nvPr/>
              </p:nvSpPr>
              <p:spPr>
                <a:xfrm>
                  <a:off x="5317560" y="33908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5317560" y="33908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5" name=""/>
            <p:cNvGrpSpPr/>
            <p:nvPr/>
          </p:nvGrpSpPr>
          <p:grpSpPr>
            <a:xfrm>
              <a:off x="5344920" y="3288240"/>
              <a:ext cx="761040" cy="17280"/>
              <a:chOff x="5344920" y="3288240"/>
              <a:chExt cx="761040" cy="17280"/>
            </a:xfrm>
          </p:grpSpPr>
          <p:sp>
            <p:nvSpPr>
              <p:cNvPr id="5036" name=""/>
              <p:cNvSpPr/>
              <p:nvPr/>
            </p:nvSpPr>
            <p:spPr>
              <a:xfrm>
                <a:off x="5357160" y="3288240"/>
                <a:ext cx="740880" cy="14760"/>
              </a:xfrm>
              <a:custGeom>
                <a:avLst/>
                <a:gdLst/>
                <a:ahLst/>
                <a:rect l="l" t="t" r="r" b="b"/>
                <a:pathLst>
                  <a:path w="1562" h="36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2"/>
                    </a:lnTo>
                    <a:lnTo>
                      <a:pt x="1562" y="26"/>
                    </a:lnTo>
                    <a:lnTo>
                      <a:pt x="1539" y="36"/>
                    </a:lnTo>
                    <a:lnTo>
                      <a:pt x="149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7" name=""/>
              <p:cNvGrpSpPr/>
              <p:nvPr/>
            </p:nvGrpSpPr>
            <p:grpSpPr>
              <a:xfrm>
                <a:off x="5357160" y="3288240"/>
                <a:ext cx="748800" cy="17280"/>
                <a:chOff x="5357160" y="3288240"/>
                <a:chExt cx="748800" cy="17280"/>
              </a:xfrm>
            </p:grpSpPr>
            <p:sp>
              <p:nvSpPr>
                <p:cNvPr id="5038" name=""/>
                <p:cNvSpPr/>
                <p:nvPr/>
              </p:nvSpPr>
              <p:spPr>
                <a:xfrm>
                  <a:off x="5357160" y="3288240"/>
                  <a:ext cx="748800" cy="1728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>
                  <a:off x="5357160" y="3288240"/>
                  <a:ext cx="748800" cy="1728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0" name=""/>
              <p:cNvGrpSpPr/>
              <p:nvPr/>
            </p:nvGrpSpPr>
            <p:grpSpPr>
              <a:xfrm>
                <a:off x="5344920" y="3288240"/>
                <a:ext cx="33120" cy="17280"/>
                <a:chOff x="5344920" y="3288240"/>
                <a:chExt cx="33120" cy="17280"/>
              </a:xfrm>
            </p:grpSpPr>
            <p:sp>
              <p:nvSpPr>
                <p:cNvPr id="5041" name=""/>
                <p:cNvSpPr/>
                <p:nvPr/>
              </p:nvSpPr>
              <p:spPr>
                <a:xfrm>
                  <a:off x="5344920" y="328824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>
                  <a:off x="5344920" y="328824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43" name=""/>
            <p:cNvGrpSpPr/>
            <p:nvPr/>
          </p:nvGrpSpPr>
          <p:grpSpPr>
            <a:xfrm>
              <a:off x="5369040" y="3390840"/>
              <a:ext cx="760680" cy="17640"/>
              <a:chOff x="5369040" y="3390840"/>
              <a:chExt cx="760680" cy="17640"/>
            </a:xfrm>
          </p:grpSpPr>
          <p:sp>
            <p:nvSpPr>
              <p:cNvPr id="5044" name=""/>
              <p:cNvSpPr/>
              <p:nvPr/>
            </p:nvSpPr>
            <p:spPr>
              <a:xfrm>
                <a:off x="5381280" y="3390840"/>
                <a:ext cx="740520" cy="15480"/>
              </a:xfrm>
              <a:custGeom>
                <a:avLst/>
                <a:gdLst/>
                <a:ahLst/>
                <a:rect l="l" t="t" r="r" b="b"/>
                <a:pathLst>
                  <a:path w="1561" h="38">
                    <a:moveTo>
                      <a:pt x="0" y="0"/>
                    </a:moveTo>
                    <a:lnTo>
                      <a:pt x="1491" y="0"/>
                    </a:lnTo>
                    <a:lnTo>
                      <a:pt x="1538" y="0"/>
                    </a:lnTo>
                    <a:lnTo>
                      <a:pt x="1561" y="13"/>
                    </a:lnTo>
                    <a:lnTo>
                      <a:pt x="1561" y="26"/>
                    </a:lnTo>
                    <a:lnTo>
                      <a:pt x="1538" y="38"/>
                    </a:lnTo>
                    <a:lnTo>
                      <a:pt x="149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5" name=""/>
              <p:cNvGrpSpPr/>
              <p:nvPr/>
            </p:nvGrpSpPr>
            <p:grpSpPr>
              <a:xfrm>
                <a:off x="5381280" y="3390840"/>
                <a:ext cx="748440" cy="17640"/>
                <a:chOff x="5381280" y="3390840"/>
                <a:chExt cx="748440" cy="17640"/>
              </a:xfrm>
            </p:grpSpPr>
            <p:sp>
              <p:nvSpPr>
                <p:cNvPr id="5046" name=""/>
                <p:cNvSpPr/>
                <p:nvPr/>
              </p:nvSpPr>
              <p:spPr>
                <a:xfrm>
                  <a:off x="5381280" y="3390840"/>
                  <a:ext cx="748440" cy="1764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5381280" y="3390840"/>
                  <a:ext cx="748440" cy="1764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8" name=""/>
              <p:cNvGrpSpPr/>
              <p:nvPr/>
            </p:nvGrpSpPr>
            <p:grpSpPr>
              <a:xfrm>
                <a:off x="5369040" y="3390840"/>
                <a:ext cx="33480" cy="17640"/>
                <a:chOff x="5369040" y="3390840"/>
                <a:chExt cx="33480" cy="17640"/>
              </a:xfrm>
            </p:grpSpPr>
            <p:sp>
              <p:nvSpPr>
                <p:cNvPr id="5049" name=""/>
                <p:cNvSpPr/>
                <p:nvPr/>
              </p:nvSpPr>
              <p:spPr>
                <a:xfrm>
                  <a:off x="5369040" y="339084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>
                  <a:off x="5369040" y="339084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51" name=""/>
            <p:cNvGrpSpPr/>
            <p:nvPr/>
          </p:nvGrpSpPr>
          <p:grpSpPr>
            <a:xfrm>
              <a:off x="5432400" y="3353040"/>
              <a:ext cx="739800" cy="17640"/>
              <a:chOff x="5432400" y="3353040"/>
              <a:chExt cx="739800" cy="17640"/>
            </a:xfrm>
          </p:grpSpPr>
          <p:sp>
            <p:nvSpPr>
              <p:cNvPr id="5052" name=""/>
              <p:cNvSpPr/>
              <p:nvPr/>
            </p:nvSpPr>
            <p:spPr>
              <a:xfrm>
                <a:off x="5444640" y="3353040"/>
                <a:ext cx="719280" cy="15120"/>
              </a:xfrm>
              <a:custGeom>
                <a:avLst/>
                <a:gdLst/>
                <a:ahLst/>
                <a:rect l="l" t="t" r="r" b="b"/>
                <a:pathLst>
                  <a:path w="1517" h="37">
                    <a:moveTo>
                      <a:pt x="0" y="0"/>
                    </a:moveTo>
                    <a:lnTo>
                      <a:pt x="1451" y="0"/>
                    </a:lnTo>
                    <a:lnTo>
                      <a:pt x="1494" y="0"/>
                    </a:lnTo>
                    <a:lnTo>
                      <a:pt x="1517" y="13"/>
                    </a:lnTo>
                    <a:lnTo>
                      <a:pt x="1517" y="26"/>
                    </a:lnTo>
                    <a:lnTo>
                      <a:pt x="1494" y="37"/>
                    </a:lnTo>
                    <a:lnTo>
                      <a:pt x="145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3" name=""/>
              <p:cNvGrpSpPr/>
              <p:nvPr/>
            </p:nvGrpSpPr>
            <p:grpSpPr>
              <a:xfrm>
                <a:off x="5444640" y="3353040"/>
                <a:ext cx="727560" cy="17640"/>
                <a:chOff x="5444640" y="3353040"/>
                <a:chExt cx="727560" cy="17640"/>
              </a:xfrm>
            </p:grpSpPr>
            <p:sp>
              <p:nvSpPr>
                <p:cNvPr id="5054" name=""/>
                <p:cNvSpPr/>
                <p:nvPr/>
              </p:nvSpPr>
              <p:spPr>
                <a:xfrm>
                  <a:off x="5444640" y="3353040"/>
                  <a:ext cx="727560" cy="1764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>
                  <a:off x="5444640" y="3353040"/>
                  <a:ext cx="727560" cy="1764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6" name=""/>
              <p:cNvGrpSpPr/>
              <p:nvPr/>
            </p:nvGrpSpPr>
            <p:grpSpPr>
              <a:xfrm>
                <a:off x="5432400" y="3353040"/>
                <a:ext cx="32400" cy="17640"/>
                <a:chOff x="5432400" y="3353040"/>
                <a:chExt cx="32400" cy="17640"/>
              </a:xfrm>
            </p:grpSpPr>
            <p:sp>
              <p:nvSpPr>
                <p:cNvPr id="5057" name=""/>
                <p:cNvSpPr/>
                <p:nvPr/>
              </p:nvSpPr>
              <p:spPr>
                <a:xfrm>
                  <a:off x="5432400" y="3353040"/>
                  <a:ext cx="32400" cy="1764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>
                  <a:off x="5432400" y="3353040"/>
                  <a:ext cx="32400" cy="1764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59" name=""/>
            <p:cNvGrpSpPr/>
            <p:nvPr/>
          </p:nvGrpSpPr>
          <p:grpSpPr>
            <a:xfrm>
              <a:off x="5420520" y="3389400"/>
              <a:ext cx="741960" cy="18720"/>
              <a:chOff x="5420520" y="3389400"/>
              <a:chExt cx="741960" cy="18720"/>
            </a:xfrm>
          </p:grpSpPr>
          <p:sp>
            <p:nvSpPr>
              <p:cNvPr id="5060" name=""/>
              <p:cNvSpPr/>
              <p:nvPr/>
            </p:nvSpPr>
            <p:spPr>
              <a:xfrm>
                <a:off x="5432760" y="3389400"/>
                <a:ext cx="721800" cy="15480"/>
              </a:xfrm>
              <a:custGeom>
                <a:avLst/>
                <a:gdLst/>
                <a:ahLst/>
                <a:rect l="l" t="t" r="r" b="b"/>
                <a:pathLst>
                  <a:path w="1521" h="37">
                    <a:moveTo>
                      <a:pt x="0" y="0"/>
                    </a:moveTo>
                    <a:lnTo>
                      <a:pt x="1454" y="0"/>
                    </a:lnTo>
                    <a:lnTo>
                      <a:pt x="1498" y="0"/>
                    </a:lnTo>
                    <a:lnTo>
                      <a:pt x="1521" y="13"/>
                    </a:lnTo>
                    <a:lnTo>
                      <a:pt x="1521" y="26"/>
                    </a:lnTo>
                    <a:lnTo>
                      <a:pt x="1498" y="37"/>
                    </a:lnTo>
                    <a:lnTo>
                      <a:pt x="145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1" name=""/>
              <p:cNvGrpSpPr/>
              <p:nvPr/>
            </p:nvGrpSpPr>
            <p:grpSpPr>
              <a:xfrm>
                <a:off x="5432760" y="3389400"/>
                <a:ext cx="729720" cy="18720"/>
                <a:chOff x="5432760" y="3389400"/>
                <a:chExt cx="729720" cy="18720"/>
              </a:xfrm>
            </p:grpSpPr>
            <p:sp>
              <p:nvSpPr>
                <p:cNvPr id="5062" name=""/>
                <p:cNvSpPr/>
                <p:nvPr/>
              </p:nvSpPr>
              <p:spPr>
                <a:xfrm>
                  <a:off x="5432760" y="3389400"/>
                  <a:ext cx="729720" cy="1872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5432760" y="3389400"/>
                  <a:ext cx="729720" cy="1872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4" name=""/>
              <p:cNvGrpSpPr/>
              <p:nvPr/>
            </p:nvGrpSpPr>
            <p:grpSpPr>
              <a:xfrm>
                <a:off x="5420520" y="3389400"/>
                <a:ext cx="32400" cy="18720"/>
                <a:chOff x="5420520" y="3389400"/>
                <a:chExt cx="32400" cy="18720"/>
              </a:xfrm>
            </p:grpSpPr>
            <p:sp>
              <p:nvSpPr>
                <p:cNvPr id="5065" name=""/>
                <p:cNvSpPr/>
                <p:nvPr/>
              </p:nvSpPr>
              <p:spPr>
                <a:xfrm>
                  <a:off x="5420520" y="3389400"/>
                  <a:ext cx="32400" cy="1872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420520" y="3389400"/>
                  <a:ext cx="32400" cy="1872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7" name=""/>
            <p:cNvGrpSpPr/>
            <p:nvPr/>
          </p:nvGrpSpPr>
          <p:grpSpPr>
            <a:xfrm>
              <a:off x="5343480" y="3405960"/>
              <a:ext cx="679680" cy="16560"/>
              <a:chOff x="5343480" y="3405960"/>
              <a:chExt cx="679680" cy="16560"/>
            </a:xfrm>
          </p:grpSpPr>
          <p:sp>
            <p:nvSpPr>
              <p:cNvPr id="5068" name=""/>
              <p:cNvSpPr/>
              <p:nvPr/>
            </p:nvSpPr>
            <p:spPr>
              <a:xfrm>
                <a:off x="5354280" y="3405960"/>
                <a:ext cx="660240" cy="14400"/>
              </a:xfrm>
              <a:custGeom>
                <a:avLst/>
                <a:gdLst/>
                <a:ahLst/>
                <a:rect l="l" t="t" r="r" b="b"/>
                <a:pathLst>
                  <a:path w="1392" h="35">
                    <a:moveTo>
                      <a:pt x="0" y="0"/>
                    </a:moveTo>
                    <a:lnTo>
                      <a:pt x="1329" y="0"/>
                    </a:lnTo>
                    <a:lnTo>
                      <a:pt x="1372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2" y="35"/>
                    </a:lnTo>
                    <a:lnTo>
                      <a:pt x="132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9" name=""/>
              <p:cNvGrpSpPr/>
              <p:nvPr/>
            </p:nvGrpSpPr>
            <p:grpSpPr>
              <a:xfrm>
                <a:off x="5354280" y="3405960"/>
                <a:ext cx="668880" cy="16560"/>
                <a:chOff x="5354280" y="3405960"/>
                <a:chExt cx="668880" cy="16560"/>
              </a:xfrm>
            </p:grpSpPr>
            <p:sp>
              <p:nvSpPr>
                <p:cNvPr id="5070" name=""/>
                <p:cNvSpPr/>
                <p:nvPr/>
              </p:nvSpPr>
              <p:spPr>
                <a:xfrm>
                  <a:off x="5354280" y="3405960"/>
                  <a:ext cx="668880" cy="1656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>
                  <a:off x="5354280" y="3405960"/>
                  <a:ext cx="668880" cy="1656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2" name=""/>
              <p:cNvGrpSpPr/>
              <p:nvPr/>
            </p:nvGrpSpPr>
            <p:grpSpPr>
              <a:xfrm>
                <a:off x="5343480" y="3405960"/>
                <a:ext cx="30960" cy="16560"/>
                <a:chOff x="5343480" y="3405960"/>
                <a:chExt cx="30960" cy="1656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5343480" y="3405960"/>
                  <a:ext cx="30960" cy="1656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>
                  <a:off x="5343480" y="3405960"/>
                  <a:ext cx="30960" cy="1656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5" name=""/>
            <p:cNvGrpSpPr/>
            <p:nvPr/>
          </p:nvGrpSpPr>
          <p:grpSpPr>
            <a:xfrm>
              <a:off x="5398200" y="3407400"/>
              <a:ext cx="740880" cy="16560"/>
              <a:chOff x="5398200" y="3407400"/>
              <a:chExt cx="740880" cy="16560"/>
            </a:xfrm>
          </p:grpSpPr>
          <p:sp>
            <p:nvSpPr>
              <p:cNvPr id="5076" name=""/>
              <p:cNvSpPr/>
              <p:nvPr/>
            </p:nvSpPr>
            <p:spPr>
              <a:xfrm>
                <a:off x="5406480" y="3407400"/>
                <a:ext cx="724320" cy="13680"/>
              </a:xfrm>
              <a:custGeom>
                <a:avLst/>
                <a:gdLst/>
                <a:ahLst/>
                <a:rect l="l" t="t" r="r" b="b"/>
                <a:pathLst>
                  <a:path w="1527" h="33">
                    <a:moveTo>
                      <a:pt x="0" y="0"/>
                    </a:moveTo>
                    <a:lnTo>
                      <a:pt x="1458" y="0"/>
                    </a:lnTo>
                    <a:lnTo>
                      <a:pt x="1504" y="0"/>
                    </a:lnTo>
                    <a:lnTo>
                      <a:pt x="1527" y="12"/>
                    </a:lnTo>
                    <a:lnTo>
                      <a:pt x="1527" y="23"/>
                    </a:lnTo>
                    <a:lnTo>
                      <a:pt x="1504" y="33"/>
                    </a:lnTo>
                    <a:lnTo>
                      <a:pt x="145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7" name=""/>
              <p:cNvGrpSpPr/>
              <p:nvPr/>
            </p:nvGrpSpPr>
            <p:grpSpPr>
              <a:xfrm>
                <a:off x="5406480" y="3407400"/>
                <a:ext cx="732600" cy="16560"/>
                <a:chOff x="5406480" y="3407400"/>
                <a:chExt cx="732600" cy="16560"/>
              </a:xfrm>
            </p:grpSpPr>
            <p:sp>
              <p:nvSpPr>
                <p:cNvPr id="5078" name=""/>
                <p:cNvSpPr/>
                <p:nvPr/>
              </p:nvSpPr>
              <p:spPr>
                <a:xfrm>
                  <a:off x="5406480" y="3407400"/>
                  <a:ext cx="732600" cy="1656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5406480" y="3407400"/>
                  <a:ext cx="732600" cy="1656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0" name=""/>
              <p:cNvGrpSpPr/>
              <p:nvPr/>
            </p:nvGrpSpPr>
            <p:grpSpPr>
              <a:xfrm>
                <a:off x="5398200" y="3407400"/>
                <a:ext cx="32400" cy="16560"/>
                <a:chOff x="5398200" y="3407400"/>
                <a:chExt cx="32400" cy="16560"/>
              </a:xfrm>
            </p:grpSpPr>
            <p:sp>
              <p:nvSpPr>
                <p:cNvPr id="5081" name=""/>
                <p:cNvSpPr/>
                <p:nvPr/>
              </p:nvSpPr>
              <p:spPr>
                <a:xfrm>
                  <a:off x="5398200" y="3407400"/>
                  <a:ext cx="32400" cy="1656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5398200" y="3407400"/>
                  <a:ext cx="32400" cy="1656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3" name=""/>
            <p:cNvGrpSpPr/>
            <p:nvPr/>
          </p:nvGrpSpPr>
          <p:grpSpPr>
            <a:xfrm>
              <a:off x="5379480" y="3304800"/>
              <a:ext cx="757440" cy="16560"/>
              <a:chOff x="5379480" y="3304800"/>
              <a:chExt cx="757440" cy="16560"/>
            </a:xfrm>
          </p:grpSpPr>
          <p:sp>
            <p:nvSpPr>
              <p:cNvPr id="5084" name=""/>
              <p:cNvSpPr/>
              <p:nvPr/>
            </p:nvSpPr>
            <p:spPr>
              <a:xfrm>
                <a:off x="5388120" y="3304800"/>
                <a:ext cx="740880" cy="13680"/>
              </a:xfrm>
              <a:custGeom>
                <a:avLst/>
                <a:gdLst/>
                <a:ahLst/>
                <a:rect l="l" t="t" r="r" b="b"/>
                <a:pathLst>
                  <a:path w="1562" h="33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0"/>
                    </a:lnTo>
                    <a:lnTo>
                      <a:pt x="1562" y="23"/>
                    </a:lnTo>
                    <a:lnTo>
                      <a:pt x="1539" y="33"/>
                    </a:lnTo>
                    <a:lnTo>
                      <a:pt x="149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5" name=""/>
              <p:cNvGrpSpPr/>
              <p:nvPr/>
            </p:nvGrpSpPr>
            <p:grpSpPr>
              <a:xfrm>
                <a:off x="5388120" y="3304800"/>
                <a:ext cx="748800" cy="16560"/>
                <a:chOff x="5388120" y="3304800"/>
                <a:chExt cx="748800" cy="16560"/>
              </a:xfrm>
            </p:grpSpPr>
            <p:sp>
              <p:nvSpPr>
                <p:cNvPr id="5086" name=""/>
                <p:cNvSpPr/>
                <p:nvPr/>
              </p:nvSpPr>
              <p:spPr>
                <a:xfrm>
                  <a:off x="5388120" y="3304800"/>
                  <a:ext cx="748800" cy="1656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5388120" y="3304800"/>
                  <a:ext cx="748800" cy="1656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8" name=""/>
              <p:cNvGrpSpPr/>
              <p:nvPr/>
            </p:nvGrpSpPr>
            <p:grpSpPr>
              <a:xfrm>
                <a:off x="5379480" y="3304800"/>
                <a:ext cx="33120" cy="16560"/>
                <a:chOff x="5379480" y="3304800"/>
                <a:chExt cx="33120" cy="16560"/>
              </a:xfrm>
            </p:grpSpPr>
            <p:sp>
              <p:nvSpPr>
                <p:cNvPr id="5089" name=""/>
                <p:cNvSpPr/>
                <p:nvPr/>
              </p:nvSpPr>
              <p:spPr>
                <a:xfrm>
                  <a:off x="5379480" y="3304800"/>
                  <a:ext cx="33120" cy="1656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5379480" y="3304800"/>
                  <a:ext cx="33120" cy="1656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1" name=""/>
            <p:cNvGrpSpPr/>
            <p:nvPr/>
          </p:nvGrpSpPr>
          <p:grpSpPr>
            <a:xfrm>
              <a:off x="5405760" y="3317400"/>
              <a:ext cx="748080" cy="17280"/>
              <a:chOff x="5405760" y="3317400"/>
              <a:chExt cx="748080" cy="17280"/>
            </a:xfrm>
          </p:grpSpPr>
          <p:sp>
            <p:nvSpPr>
              <p:cNvPr id="5092" name=""/>
              <p:cNvSpPr/>
              <p:nvPr/>
            </p:nvSpPr>
            <p:spPr>
              <a:xfrm>
                <a:off x="5417280" y="3317400"/>
                <a:ext cx="727920" cy="14400"/>
              </a:xfrm>
              <a:custGeom>
                <a:avLst/>
                <a:gdLst/>
                <a:ahLst/>
                <a:rect l="l" t="t" r="r" b="b"/>
                <a:pathLst>
                  <a:path w="1535" h="35">
                    <a:moveTo>
                      <a:pt x="0" y="0"/>
                    </a:moveTo>
                    <a:lnTo>
                      <a:pt x="1468" y="0"/>
                    </a:lnTo>
                    <a:lnTo>
                      <a:pt x="1512" y="0"/>
                    </a:lnTo>
                    <a:lnTo>
                      <a:pt x="1535" y="12"/>
                    </a:lnTo>
                    <a:lnTo>
                      <a:pt x="1535" y="25"/>
                    </a:lnTo>
                    <a:lnTo>
                      <a:pt x="1512" y="35"/>
                    </a:lnTo>
                    <a:lnTo>
                      <a:pt x="146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3" name=""/>
              <p:cNvGrpSpPr/>
              <p:nvPr/>
            </p:nvGrpSpPr>
            <p:grpSpPr>
              <a:xfrm>
                <a:off x="5417280" y="3317400"/>
                <a:ext cx="736560" cy="17280"/>
                <a:chOff x="5417280" y="3317400"/>
                <a:chExt cx="736560" cy="17280"/>
              </a:xfrm>
            </p:grpSpPr>
            <p:sp>
              <p:nvSpPr>
                <p:cNvPr id="5094" name=""/>
                <p:cNvSpPr/>
                <p:nvPr/>
              </p:nvSpPr>
              <p:spPr>
                <a:xfrm>
                  <a:off x="5417280" y="3317400"/>
                  <a:ext cx="736560" cy="1728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5417280" y="3317400"/>
                  <a:ext cx="736560" cy="1728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6" name=""/>
              <p:cNvGrpSpPr/>
              <p:nvPr/>
            </p:nvGrpSpPr>
            <p:grpSpPr>
              <a:xfrm>
                <a:off x="5405760" y="3317400"/>
                <a:ext cx="34560" cy="17280"/>
                <a:chOff x="5405760" y="3317400"/>
                <a:chExt cx="34560" cy="17280"/>
              </a:xfrm>
            </p:grpSpPr>
            <p:sp>
              <p:nvSpPr>
                <p:cNvPr id="5097" name=""/>
                <p:cNvSpPr/>
                <p:nvPr/>
              </p:nvSpPr>
              <p:spPr>
                <a:xfrm>
                  <a:off x="5405760" y="331740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5405760" y="331740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9" name=""/>
            <p:cNvGrpSpPr/>
            <p:nvPr/>
          </p:nvGrpSpPr>
          <p:grpSpPr>
            <a:xfrm>
              <a:off x="5646240" y="3276720"/>
              <a:ext cx="335520" cy="164880"/>
              <a:chOff x="5646240" y="3276720"/>
              <a:chExt cx="335520" cy="164880"/>
            </a:xfrm>
          </p:grpSpPr>
          <p:sp>
            <p:nvSpPr>
              <p:cNvPr id="5100" name=""/>
              <p:cNvSpPr/>
              <p:nvPr/>
            </p:nvSpPr>
            <p:spPr>
              <a:xfrm>
                <a:off x="5646240" y="3276720"/>
                <a:ext cx="335520" cy="16488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5646240" y="3276720"/>
                <a:ext cx="335520" cy="16488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0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5103" name="BS00296_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546120" cy="609840"/>
          </a:xfrm>
          <a:prstGeom prst="rect">
            <a:avLst/>
          </a:prstGeom>
          <a:ln w="0">
            <a:noFill/>
          </a:ln>
        </p:spPr>
      </p:pic>
      <p:grpSp>
        <p:nvGrpSpPr>
          <p:cNvPr id="5104" name=""/>
          <p:cNvGrpSpPr/>
          <p:nvPr/>
        </p:nvGrpSpPr>
        <p:grpSpPr>
          <a:xfrm>
            <a:off x="1447920" y="3657600"/>
            <a:ext cx="552240" cy="393840"/>
            <a:chOff x="1447920" y="3657600"/>
            <a:chExt cx="552240" cy="393840"/>
          </a:xfrm>
        </p:grpSpPr>
        <p:sp>
          <p:nvSpPr>
            <p:cNvPr id="5105" name=""/>
            <p:cNvSpPr/>
            <p:nvPr/>
          </p:nvSpPr>
          <p:spPr>
            <a:xfrm>
              <a:off x="1572840" y="374328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6" name="shot_vaiods" descr=""/>
            <p:cNvPicPr/>
            <p:nvPr/>
          </p:nvPicPr>
          <p:blipFill>
            <a:blip r:embed="rId3"/>
            <a:stretch/>
          </p:blipFill>
          <p:spPr>
            <a:xfrm>
              <a:off x="1447920" y="3657600"/>
              <a:ext cx="552240" cy="39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7" name=""/>
          <p:cNvSpPr/>
          <p:nvPr/>
        </p:nvSpPr>
        <p:spPr>
          <a:xfrm>
            <a:off x="21337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205740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9" name=""/>
          <p:cNvGrpSpPr/>
          <p:nvPr/>
        </p:nvGrpSpPr>
        <p:grpSpPr>
          <a:xfrm>
            <a:off x="838080" y="3657600"/>
            <a:ext cx="552600" cy="393840"/>
            <a:chOff x="838080" y="3657600"/>
            <a:chExt cx="552600" cy="393840"/>
          </a:xfrm>
        </p:grpSpPr>
        <p:sp>
          <p:nvSpPr>
            <p:cNvPr id="5110" name=""/>
            <p:cNvSpPr/>
            <p:nvPr/>
          </p:nvSpPr>
          <p:spPr>
            <a:xfrm>
              <a:off x="963000" y="374328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1" name="shot_vaiods" descr=""/>
            <p:cNvPicPr/>
            <p:nvPr/>
          </p:nvPicPr>
          <p:blipFill>
            <a:blip r:embed="rId4"/>
            <a:stretch/>
          </p:blipFill>
          <p:spPr>
            <a:xfrm>
              <a:off x="838080" y="3657600"/>
              <a:ext cx="552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2" name=""/>
          <p:cNvGrpSpPr/>
          <p:nvPr/>
        </p:nvGrpSpPr>
        <p:grpSpPr>
          <a:xfrm>
            <a:off x="1123920" y="4102200"/>
            <a:ext cx="552600" cy="393480"/>
            <a:chOff x="1123920" y="4102200"/>
            <a:chExt cx="552600" cy="393480"/>
          </a:xfrm>
        </p:grpSpPr>
        <p:sp>
          <p:nvSpPr>
            <p:cNvPr id="5113" name=""/>
            <p:cNvSpPr/>
            <p:nvPr/>
          </p:nvSpPr>
          <p:spPr>
            <a:xfrm>
              <a:off x="1248840" y="4187880"/>
              <a:ext cx="1666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4" name="shot_vaiods" descr=""/>
            <p:cNvPicPr/>
            <p:nvPr/>
          </p:nvPicPr>
          <p:blipFill>
            <a:blip r:embed="rId5"/>
            <a:stretch/>
          </p:blipFill>
          <p:spPr>
            <a:xfrm>
              <a:off x="1123920" y="4102200"/>
              <a:ext cx="552600" cy="39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5" name=""/>
          <p:cNvGrpSpPr/>
          <p:nvPr/>
        </p:nvGrpSpPr>
        <p:grpSpPr>
          <a:xfrm>
            <a:off x="914400" y="5029200"/>
            <a:ext cx="1295280" cy="732960"/>
            <a:chOff x="914400" y="5029200"/>
            <a:chExt cx="1295280" cy="732960"/>
          </a:xfrm>
        </p:grpSpPr>
        <p:sp>
          <p:nvSpPr>
            <p:cNvPr id="5116" name=""/>
            <p:cNvSpPr/>
            <p:nvPr/>
          </p:nvSpPr>
          <p:spPr>
            <a:xfrm>
              <a:off x="954720" y="502920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914400" y="505836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8" name=""/>
          <p:cNvSpPr/>
          <p:nvPr/>
        </p:nvSpPr>
        <p:spPr>
          <a:xfrm flipV="1">
            <a:off x="2133720" y="388584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070280" y="525744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3661200" y="175248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3662640" y="4344120"/>
            <a:ext cx="126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Best Eff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PlaceHolder 1"/>
          <p:cNvSpPr>
            <a:spLocks noGrp="1"/>
          </p:cNvSpPr>
          <p:nvPr>
            <p:ph type="title"/>
          </p:nvPr>
        </p:nvSpPr>
        <p:spPr>
          <a:xfrm>
            <a:off x="844200" y="533160"/>
            <a:ext cx="7669080" cy="7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3" name=""/>
          <p:cNvGrpSpPr/>
          <p:nvPr/>
        </p:nvGrpSpPr>
        <p:grpSpPr>
          <a:xfrm>
            <a:off x="1035000" y="1523880"/>
            <a:ext cx="6820560" cy="4118040"/>
            <a:chOff x="1035000" y="1523880"/>
            <a:chExt cx="6820560" cy="4118040"/>
          </a:xfrm>
        </p:grpSpPr>
        <p:sp>
          <p:nvSpPr>
            <p:cNvPr id="5124" name=""/>
            <p:cNvSpPr/>
            <p:nvPr/>
          </p:nvSpPr>
          <p:spPr>
            <a:xfrm>
              <a:off x="6159240" y="4975200"/>
              <a:ext cx="23112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42720" y="4815000"/>
              <a:ext cx="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6" name=""/>
            <p:cNvGrpSpPr/>
            <p:nvPr/>
          </p:nvGrpSpPr>
          <p:grpSpPr>
            <a:xfrm>
              <a:off x="1035000" y="1523880"/>
              <a:ext cx="6820560" cy="3992760"/>
              <a:chOff x="1035000" y="1523880"/>
              <a:chExt cx="6820560" cy="3992760"/>
            </a:xfrm>
          </p:grpSpPr>
          <p:sp>
            <p:nvSpPr>
              <p:cNvPr id="5127" name=""/>
              <p:cNvSpPr/>
              <p:nvPr/>
            </p:nvSpPr>
            <p:spPr>
              <a:xfrm rot="1354200">
                <a:off x="1580040" y="2036880"/>
                <a:ext cx="669600" cy="80460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1035000" y="1830240"/>
                <a:ext cx="770760" cy="129060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1761840" y="2900160"/>
                <a:ext cx="402840" cy="121140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948320" y="2933640"/>
                <a:ext cx="615240" cy="93024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1996560" y="3987720"/>
                <a:ext cx="748800" cy="150336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1526040" y="3984480"/>
                <a:ext cx="503640" cy="15321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2125440" y="1523880"/>
                <a:ext cx="249120" cy="31428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2065320" y="1890720"/>
                <a:ext cx="77760" cy="856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2165400" y="2066760"/>
                <a:ext cx="5690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6000" spc="-1" strike="noStrike">
                    <a:solidFill>
                      <a:srgbClr val="000000"/>
                    </a:solidFill>
                    <a:latin typeface="Tele-Antiqua"/>
                  </a:rPr>
                  <a:t>Any Questions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3001680" y="4041720"/>
                <a:ext cx="3505680" cy="11606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913560" y="4065120"/>
                <a:ext cx="696240" cy="53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H="1" flipV="1">
                <a:off x="3505680" y="3732120"/>
                <a:ext cx="309240" cy="8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H="1">
                <a:off x="3312720" y="4703760"/>
                <a:ext cx="578880" cy="72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3872160" y="4684680"/>
                <a:ext cx="1278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590720" y="4065480"/>
                <a:ext cx="460080" cy="7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005440" y="4721040"/>
                <a:ext cx="103608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H="1" flipV="1">
                <a:off x="4058280" y="3443400"/>
                <a:ext cx="56988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235200" y="4911840"/>
                <a:ext cx="129708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4954320" y="4149360"/>
                <a:ext cx="67860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766120" y="4352760"/>
                <a:ext cx="479160" cy="5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7" name=""/>
              <p:cNvGrpSpPr/>
              <p:nvPr/>
            </p:nvGrpSpPr>
            <p:grpSpPr>
              <a:xfrm>
                <a:off x="3605760" y="4410000"/>
                <a:ext cx="452880" cy="461880"/>
                <a:chOff x="3605760" y="4410000"/>
                <a:chExt cx="452880" cy="461880"/>
              </a:xfrm>
            </p:grpSpPr>
            <p:sp>
              <p:nvSpPr>
                <p:cNvPr id="5148" name=""/>
                <p:cNvSpPr/>
                <p:nvPr/>
              </p:nvSpPr>
              <p:spPr>
                <a:xfrm>
                  <a:off x="3605760" y="4410000"/>
                  <a:ext cx="45288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9" name=""/>
                <p:cNvGrpSpPr/>
                <p:nvPr/>
              </p:nvGrpSpPr>
              <p:grpSpPr>
                <a:xfrm>
                  <a:off x="3636360" y="4464000"/>
                  <a:ext cx="373320" cy="358920"/>
                  <a:chOff x="3636360" y="4464000"/>
                  <a:chExt cx="373320" cy="358920"/>
                </a:xfrm>
              </p:grpSpPr>
              <p:sp>
                <p:nvSpPr>
                  <p:cNvPr id="5150" name=""/>
                  <p:cNvSpPr/>
                  <p:nvPr/>
                </p:nvSpPr>
                <p:spPr>
                  <a:xfrm>
                    <a:off x="3678120" y="4513320"/>
                    <a:ext cx="30672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"/>
                  <p:cNvSpPr/>
                  <p:nvPr/>
                </p:nvSpPr>
                <p:spPr>
                  <a:xfrm>
                    <a:off x="3673080" y="4513320"/>
                    <a:ext cx="31824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2" name=""/>
                  <p:cNvSpPr/>
                  <p:nvPr/>
                </p:nvSpPr>
                <p:spPr>
                  <a:xfrm>
                    <a:off x="3953520" y="446400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3" name=""/>
                  <p:cNvSpPr/>
                  <p:nvPr/>
                </p:nvSpPr>
                <p:spPr>
                  <a:xfrm>
                    <a:off x="3953520" y="472284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>
                    <a:off x="3636360" y="446400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5" name=""/>
                  <p:cNvSpPr/>
                  <p:nvPr/>
                </p:nvSpPr>
                <p:spPr>
                  <a:xfrm>
                    <a:off x="3636360" y="472896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56" name=""/>
              <p:cNvSpPr/>
              <p:nvPr/>
            </p:nvSpPr>
            <p:spPr>
              <a:xfrm rot="5400000">
                <a:off x="4406040" y="3784680"/>
                <a:ext cx="490680" cy="42624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7" name=""/>
              <p:cNvGrpSpPr/>
              <p:nvPr/>
            </p:nvGrpSpPr>
            <p:grpSpPr>
              <a:xfrm>
                <a:off x="4483800" y="3784680"/>
                <a:ext cx="330840" cy="404280"/>
                <a:chOff x="4483800" y="3784680"/>
                <a:chExt cx="330840" cy="404280"/>
              </a:xfrm>
            </p:grpSpPr>
            <p:sp>
              <p:nvSpPr>
                <p:cNvPr id="5158" name=""/>
                <p:cNvSpPr/>
                <p:nvPr/>
              </p:nvSpPr>
              <p:spPr>
                <a:xfrm rot="5400000">
                  <a:off x="4483080" y="3875760"/>
                  <a:ext cx="331920" cy="240120"/>
                </a:xfrm>
                <a:custGeom>
                  <a:avLst/>
                  <a:gdLst/>
                  <a:ahLst/>
                  <a:rect l="l" t="t" r="r" b="b"/>
                  <a:pathLst>
                    <a:path w="233" h="174">
                      <a:moveTo>
                        <a:pt x="232" y="173"/>
                      </a:moveTo>
                      <a:lnTo>
                        <a:pt x="163" y="173"/>
                      </a:lnTo>
                      <a:lnTo>
                        <a:pt x="6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rot="5400000">
                  <a:off x="4476600" y="3876840"/>
                  <a:ext cx="344880" cy="240120"/>
                </a:xfrm>
                <a:custGeom>
                  <a:avLst/>
                  <a:gdLst/>
                  <a:ahLst/>
                  <a:rect l="l" t="t" r="r" b="b"/>
                  <a:pathLst>
                    <a:path w="242" h="174">
                      <a:moveTo>
                        <a:pt x="0" y="173"/>
                      </a:moveTo>
                      <a:lnTo>
                        <a:pt x="69" y="173"/>
                      </a:lnTo>
                      <a:lnTo>
                        <a:pt x="162" y="0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 rot="5400000">
                  <a:off x="4740840" y="4115160"/>
                  <a:ext cx="60840" cy="86760"/>
                </a:xfrm>
                <a:custGeom>
                  <a:avLst/>
                  <a:gdLst/>
                  <a:ahLst/>
                  <a:rect l="l" t="t" r="r" b="b"/>
                  <a:pathLst>
                    <a:path w="43" h="63">
                      <a:moveTo>
                        <a:pt x="0" y="0"/>
                      </a:moveTo>
                      <a:lnTo>
                        <a:pt x="0" y="62"/>
                      </a:lnTo>
                      <a:lnTo>
                        <a:pt x="42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rot="5400000">
                  <a:off x="4502160" y="4115160"/>
                  <a:ext cx="60840" cy="86760"/>
                </a:xfrm>
                <a:custGeom>
                  <a:avLst/>
                  <a:gdLst/>
                  <a:ahLst/>
                  <a:rect l="l" t="t" r="r" b="b"/>
                  <a:pathLst>
                    <a:path w="43" h="63">
                      <a:moveTo>
                        <a:pt x="0" y="0"/>
                      </a:moveTo>
                      <a:lnTo>
                        <a:pt x="0" y="62"/>
                      </a:lnTo>
                      <a:lnTo>
                        <a:pt x="42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 rot="5400000">
                  <a:off x="4741200" y="3771000"/>
                  <a:ext cx="59760" cy="8676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41" y="62"/>
                      </a:moveTo>
                      <a:lnTo>
                        <a:pt x="41" y="0"/>
                      </a:lnTo>
                      <a:lnTo>
                        <a:pt x="0" y="33"/>
                      </a:lnTo>
                      <a:lnTo>
                        <a:pt x="41" y="6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 rot="5400000">
                  <a:off x="4497120" y="3771360"/>
                  <a:ext cx="59760" cy="8640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41" y="62"/>
                      </a:moveTo>
                      <a:lnTo>
                        <a:pt x="41" y="0"/>
                      </a:lnTo>
                      <a:lnTo>
                        <a:pt x="0" y="29"/>
                      </a:lnTo>
                      <a:lnTo>
                        <a:pt x="41" y="6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4" name=""/>
              <p:cNvGrpSpPr/>
              <p:nvPr/>
            </p:nvGrpSpPr>
            <p:grpSpPr>
              <a:xfrm>
                <a:off x="5526000" y="4006800"/>
                <a:ext cx="452520" cy="461880"/>
                <a:chOff x="5526000" y="4006800"/>
                <a:chExt cx="452520" cy="461880"/>
              </a:xfrm>
            </p:grpSpPr>
            <p:sp>
              <p:nvSpPr>
                <p:cNvPr id="5165" name=""/>
                <p:cNvSpPr/>
                <p:nvPr/>
              </p:nvSpPr>
              <p:spPr>
                <a:xfrm>
                  <a:off x="5526000" y="4006800"/>
                  <a:ext cx="45252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6" name=""/>
                <p:cNvGrpSpPr/>
                <p:nvPr/>
              </p:nvGrpSpPr>
              <p:grpSpPr>
                <a:xfrm>
                  <a:off x="5556600" y="4060800"/>
                  <a:ext cx="372960" cy="358920"/>
                  <a:chOff x="5556600" y="4060800"/>
                  <a:chExt cx="372960" cy="358920"/>
                </a:xfrm>
              </p:grpSpPr>
              <p:sp>
                <p:nvSpPr>
                  <p:cNvPr id="5167" name=""/>
                  <p:cNvSpPr/>
                  <p:nvPr/>
                </p:nvSpPr>
                <p:spPr>
                  <a:xfrm>
                    <a:off x="5598360" y="4110120"/>
                    <a:ext cx="30636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8" name=""/>
                  <p:cNvSpPr/>
                  <p:nvPr/>
                </p:nvSpPr>
                <p:spPr>
                  <a:xfrm>
                    <a:off x="5593320" y="4110120"/>
                    <a:ext cx="31788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"/>
                  <p:cNvSpPr/>
                  <p:nvPr/>
                </p:nvSpPr>
                <p:spPr>
                  <a:xfrm>
                    <a:off x="5873400" y="406080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"/>
                  <p:cNvSpPr/>
                  <p:nvPr/>
                </p:nvSpPr>
                <p:spPr>
                  <a:xfrm>
                    <a:off x="5873400" y="431964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1" name=""/>
                  <p:cNvSpPr/>
                  <p:nvPr/>
                </p:nvSpPr>
                <p:spPr>
                  <a:xfrm>
                    <a:off x="5556600" y="406080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2" name=""/>
                  <p:cNvSpPr/>
                  <p:nvPr/>
                </p:nvSpPr>
                <p:spPr>
                  <a:xfrm>
                    <a:off x="5556600" y="432576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73" name=""/>
              <p:cNvGrpSpPr/>
              <p:nvPr/>
            </p:nvGrpSpPr>
            <p:grpSpPr>
              <a:xfrm>
                <a:off x="4561200" y="4608360"/>
                <a:ext cx="452880" cy="461880"/>
                <a:chOff x="4561200" y="4608360"/>
                <a:chExt cx="452880" cy="461880"/>
              </a:xfrm>
            </p:grpSpPr>
            <p:sp>
              <p:nvSpPr>
                <p:cNvPr id="5174" name=""/>
                <p:cNvSpPr/>
                <p:nvPr/>
              </p:nvSpPr>
              <p:spPr>
                <a:xfrm>
                  <a:off x="4561200" y="4608360"/>
                  <a:ext cx="45288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5" name=""/>
                <p:cNvGrpSpPr/>
                <p:nvPr/>
              </p:nvGrpSpPr>
              <p:grpSpPr>
                <a:xfrm>
                  <a:off x="4591800" y="4662360"/>
                  <a:ext cx="373320" cy="358920"/>
                  <a:chOff x="4591800" y="4662360"/>
                  <a:chExt cx="373320" cy="358920"/>
                </a:xfrm>
              </p:grpSpPr>
              <p:sp>
                <p:nvSpPr>
                  <p:cNvPr id="5176" name=""/>
                  <p:cNvSpPr/>
                  <p:nvPr/>
                </p:nvSpPr>
                <p:spPr>
                  <a:xfrm>
                    <a:off x="4633560" y="4711680"/>
                    <a:ext cx="30672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"/>
                  <p:cNvSpPr/>
                  <p:nvPr/>
                </p:nvSpPr>
                <p:spPr>
                  <a:xfrm>
                    <a:off x="4628520" y="4711680"/>
                    <a:ext cx="31824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8" name=""/>
                  <p:cNvSpPr/>
                  <p:nvPr/>
                </p:nvSpPr>
                <p:spPr>
                  <a:xfrm>
                    <a:off x="4908960" y="466236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>
                    <a:off x="4908960" y="492120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"/>
                  <p:cNvSpPr/>
                  <p:nvPr/>
                </p:nvSpPr>
                <p:spPr>
                  <a:xfrm>
                    <a:off x="4591800" y="466236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"/>
                  <p:cNvSpPr/>
                  <p:nvPr/>
                </p:nvSpPr>
                <p:spPr>
                  <a:xfrm>
                    <a:off x="4591800" y="492732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2" name=""/>
              <p:cNvGrpSpPr/>
              <p:nvPr/>
            </p:nvGrpSpPr>
            <p:grpSpPr>
              <a:xfrm>
                <a:off x="5958360" y="4721040"/>
                <a:ext cx="452520" cy="461880"/>
                <a:chOff x="5958360" y="4721040"/>
                <a:chExt cx="452520" cy="461880"/>
              </a:xfrm>
            </p:grpSpPr>
            <p:sp>
              <p:nvSpPr>
                <p:cNvPr id="5183" name=""/>
                <p:cNvSpPr/>
                <p:nvPr/>
              </p:nvSpPr>
              <p:spPr>
                <a:xfrm>
                  <a:off x="5958360" y="4721040"/>
                  <a:ext cx="45252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4" name=""/>
                <p:cNvGrpSpPr/>
                <p:nvPr/>
              </p:nvGrpSpPr>
              <p:grpSpPr>
                <a:xfrm>
                  <a:off x="5988960" y="4775040"/>
                  <a:ext cx="372960" cy="358920"/>
                  <a:chOff x="5988960" y="4775040"/>
                  <a:chExt cx="372960" cy="358920"/>
                </a:xfrm>
              </p:grpSpPr>
              <p:sp>
                <p:nvSpPr>
                  <p:cNvPr id="5185" name=""/>
                  <p:cNvSpPr/>
                  <p:nvPr/>
                </p:nvSpPr>
                <p:spPr>
                  <a:xfrm>
                    <a:off x="6030720" y="4824360"/>
                    <a:ext cx="30636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>
                    <a:off x="6025680" y="4824360"/>
                    <a:ext cx="31788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"/>
                  <p:cNvSpPr/>
                  <p:nvPr/>
                </p:nvSpPr>
                <p:spPr>
                  <a:xfrm>
                    <a:off x="6305760" y="477504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"/>
                  <p:cNvSpPr/>
                  <p:nvPr/>
                </p:nvSpPr>
                <p:spPr>
                  <a:xfrm>
                    <a:off x="6305760" y="503388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9" name=""/>
                  <p:cNvSpPr/>
                  <p:nvPr/>
                </p:nvSpPr>
                <p:spPr>
                  <a:xfrm>
                    <a:off x="5988960" y="477504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0" name=""/>
                  <p:cNvSpPr/>
                  <p:nvPr/>
                </p:nvSpPr>
                <p:spPr>
                  <a:xfrm>
                    <a:off x="5988960" y="504000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network equipment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server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peering 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 would require that the source host send a duplicate packet to every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requires the source host to send a single packet and the network takes care of replicating the packet for multiple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istribution, games, real time information,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Drawb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does not know whether all receivers get the pa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pplica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quire network design to provide redunda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of duplicate packet/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ath co-exist at so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chance of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MP &amp; IGMP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M-SM, PIM-DM, PIM S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M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Top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 forwarding state is maintained in the form of (S,G)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,G) multicast entries are similar to unicast route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Path Forwarding (RPF)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cast protocols use RPF check to ensure that data is only accepted from the interface which leads to the best path back to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table has 2 vie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cast usable routes – these routes are learned via unicast routing protocols (RIP, OSPF, IS-IS, etc.) and then used for forwarding unica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cast usable routes – these routes are learned via unicast routing protocols (RIP, OSPF, IS-IS, etc.) and multicast routing protocols (DVMRP &amp; MBGP) and then used for forwarding multica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ll of the routers in the network need to run 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portions of the network are completely isolated from multicast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 isolated multicast segments by tunnelling through non-multicast capable routers using GRE, DVMRP tu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arse Mode vs Dense Mode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31352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ed on limited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s must explicitly send IGMP group joins to receive multica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s that those who want data will request it (jo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you’ve joined, you must explicitly leave multicast group to stop receiv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s maintain (source, group) state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dez-vous point (RP) or core needed for learning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PIM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279080"/>
            <a:ext cx="43146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ed on wide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s must explicitly send IGMP group joins to receive multicast data (they get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cket automatic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s that routers without local group members (local hosts that receive 1st packet but don’t join) will complain (pru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you’ve joined, you must explicitly leave multicast group to stop receiv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info maintained for each source at every router in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PIM DM, DVM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7680" y="5807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84480" y="6033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99000" y="5942520"/>
            <a:ext cx="45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im is to build the distribution tre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- PIM-DM/ IGMP 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447920"/>
            <a:ext cx="8153280" cy="5029200"/>
          </a:xfrm>
          <a:custGeom>
            <a:avLst/>
            <a:gdLst/>
            <a:ahLst/>
            <a:rect l="l" t="t" r="r" b="b"/>
            <a:pathLst>
              <a:path w="1496" h="1149">
                <a:moveTo>
                  <a:pt x="60" y="388"/>
                </a:moveTo>
                <a:cubicBezTo>
                  <a:pt x="96" y="344"/>
                  <a:pt x="89" y="314"/>
                  <a:pt x="96" y="269"/>
                </a:cubicBezTo>
                <a:cubicBezTo>
                  <a:pt x="98" y="254"/>
                  <a:pt x="129" y="230"/>
                  <a:pt x="136" y="221"/>
                </a:cubicBezTo>
                <a:cubicBezTo>
                  <a:pt x="171" y="179"/>
                  <a:pt x="218" y="127"/>
                  <a:pt x="272" y="109"/>
                </a:cubicBezTo>
                <a:cubicBezTo>
                  <a:pt x="288" y="104"/>
                  <a:pt x="306" y="102"/>
                  <a:pt x="320" y="93"/>
                </a:cubicBezTo>
                <a:cubicBezTo>
                  <a:pt x="382" y="52"/>
                  <a:pt x="384" y="54"/>
                  <a:pt x="464" y="45"/>
                </a:cubicBezTo>
                <a:cubicBezTo>
                  <a:pt x="515" y="51"/>
                  <a:pt x="536" y="50"/>
                  <a:pt x="576" y="77"/>
                </a:cubicBezTo>
                <a:cubicBezTo>
                  <a:pt x="628" y="43"/>
                  <a:pt x="675" y="25"/>
                  <a:pt x="736" y="13"/>
                </a:cubicBezTo>
                <a:cubicBezTo>
                  <a:pt x="881" y="18"/>
                  <a:pt x="945" y="0"/>
                  <a:pt x="1048" y="69"/>
                </a:cubicBezTo>
                <a:cubicBezTo>
                  <a:pt x="1090" y="132"/>
                  <a:pt x="1046" y="115"/>
                  <a:pt x="1160" y="125"/>
                </a:cubicBezTo>
                <a:cubicBezTo>
                  <a:pt x="1212" y="138"/>
                  <a:pt x="1262" y="156"/>
                  <a:pt x="1312" y="173"/>
                </a:cubicBezTo>
                <a:cubicBezTo>
                  <a:pt x="1338" y="182"/>
                  <a:pt x="1358" y="204"/>
                  <a:pt x="1384" y="213"/>
                </a:cubicBezTo>
                <a:cubicBezTo>
                  <a:pt x="1389" y="221"/>
                  <a:pt x="1393" y="230"/>
                  <a:pt x="1400" y="237"/>
                </a:cubicBezTo>
                <a:cubicBezTo>
                  <a:pt x="1407" y="244"/>
                  <a:pt x="1418" y="246"/>
                  <a:pt x="1424" y="253"/>
                </a:cubicBezTo>
                <a:cubicBezTo>
                  <a:pt x="1466" y="301"/>
                  <a:pt x="1484" y="352"/>
                  <a:pt x="1496" y="413"/>
                </a:cubicBezTo>
                <a:cubicBezTo>
                  <a:pt x="1491" y="451"/>
                  <a:pt x="1487" y="507"/>
                  <a:pt x="1464" y="541"/>
                </a:cubicBezTo>
                <a:cubicBezTo>
                  <a:pt x="1453" y="557"/>
                  <a:pt x="1432" y="589"/>
                  <a:pt x="1432" y="589"/>
                </a:cubicBezTo>
                <a:cubicBezTo>
                  <a:pt x="1443" y="621"/>
                  <a:pt x="1450" y="642"/>
                  <a:pt x="1456" y="661"/>
                </a:cubicBezTo>
                <a:cubicBezTo>
                  <a:pt x="1461" y="677"/>
                  <a:pt x="1472" y="709"/>
                  <a:pt x="1472" y="709"/>
                </a:cubicBezTo>
                <a:cubicBezTo>
                  <a:pt x="1466" y="804"/>
                  <a:pt x="1470" y="892"/>
                  <a:pt x="1384" y="949"/>
                </a:cubicBezTo>
                <a:cubicBezTo>
                  <a:pt x="1359" y="986"/>
                  <a:pt x="1314" y="999"/>
                  <a:pt x="1272" y="1013"/>
                </a:cubicBezTo>
                <a:cubicBezTo>
                  <a:pt x="1155" y="1052"/>
                  <a:pt x="1151" y="1053"/>
                  <a:pt x="1008" y="1061"/>
                </a:cubicBezTo>
                <a:cubicBezTo>
                  <a:pt x="945" y="1103"/>
                  <a:pt x="881" y="1131"/>
                  <a:pt x="808" y="1149"/>
                </a:cubicBezTo>
                <a:cubicBezTo>
                  <a:pt x="713" y="1143"/>
                  <a:pt x="679" y="1143"/>
                  <a:pt x="600" y="1117"/>
                </a:cubicBezTo>
                <a:cubicBezTo>
                  <a:pt x="584" y="1112"/>
                  <a:pt x="568" y="1106"/>
                  <a:pt x="552" y="1101"/>
                </a:cubicBezTo>
                <a:cubicBezTo>
                  <a:pt x="544" y="1098"/>
                  <a:pt x="528" y="1093"/>
                  <a:pt x="528" y="1093"/>
                </a:cubicBezTo>
                <a:cubicBezTo>
                  <a:pt x="485" y="1029"/>
                  <a:pt x="528" y="1079"/>
                  <a:pt x="376" y="1061"/>
                </a:cubicBezTo>
                <a:cubicBezTo>
                  <a:pt x="376" y="1061"/>
                  <a:pt x="296" y="1041"/>
                  <a:pt x="280" y="1037"/>
                </a:cubicBezTo>
                <a:cubicBezTo>
                  <a:pt x="264" y="1033"/>
                  <a:pt x="232" y="1021"/>
                  <a:pt x="232" y="1021"/>
                </a:cubicBezTo>
                <a:cubicBezTo>
                  <a:pt x="217" y="999"/>
                  <a:pt x="177" y="953"/>
                  <a:pt x="168" y="925"/>
                </a:cubicBezTo>
                <a:cubicBezTo>
                  <a:pt x="165" y="917"/>
                  <a:pt x="152" y="863"/>
                  <a:pt x="136" y="853"/>
                </a:cubicBezTo>
                <a:cubicBezTo>
                  <a:pt x="122" y="844"/>
                  <a:pt x="102" y="846"/>
                  <a:pt x="88" y="837"/>
                </a:cubicBezTo>
                <a:cubicBezTo>
                  <a:pt x="80" y="832"/>
                  <a:pt x="72" y="826"/>
                  <a:pt x="64" y="821"/>
                </a:cubicBezTo>
                <a:cubicBezTo>
                  <a:pt x="40" y="784"/>
                  <a:pt x="30" y="742"/>
                  <a:pt x="16" y="701"/>
                </a:cubicBezTo>
                <a:cubicBezTo>
                  <a:pt x="11" y="685"/>
                  <a:pt x="0" y="653"/>
                  <a:pt x="0" y="653"/>
                </a:cubicBezTo>
                <a:cubicBezTo>
                  <a:pt x="3" y="602"/>
                  <a:pt x="2" y="551"/>
                  <a:pt x="8" y="501"/>
                </a:cubicBezTo>
                <a:cubicBezTo>
                  <a:pt x="13" y="463"/>
                  <a:pt x="49" y="418"/>
                  <a:pt x="60" y="396"/>
                </a:cubicBez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79a1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62120" y="27432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819520"/>
            <a:ext cx="76212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320" y="388620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837720" y="3885840"/>
            <a:ext cx="8384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743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895480"/>
            <a:ext cx="60948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33556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6483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030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267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648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3355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5880" y="3962520"/>
            <a:ext cx="561960" cy="338040"/>
            <a:chOff x="6095880" y="3962520"/>
            <a:chExt cx="561960" cy="338040"/>
          </a:xfrm>
        </p:grpSpPr>
        <p:sp>
          <p:nvSpPr>
            <p:cNvPr id="127" name=""/>
            <p:cNvSpPr/>
            <p:nvPr/>
          </p:nvSpPr>
          <p:spPr>
            <a:xfrm>
              <a:off x="6095880" y="4082400"/>
              <a:ext cx="561960" cy="218160"/>
            </a:xfrm>
            <a:prstGeom prst="ellipse">
              <a:avLst/>
            </a:prstGeom>
            <a:solidFill>
              <a:srgbClr val="b9b501"/>
            </a:solidFill>
            <a:ln w="19080">
              <a:solidFill>
                <a:srgbClr val="fef9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4073760"/>
              <a:ext cx="561960" cy="122040"/>
            </a:xfrm>
            <a:prstGeom prst="rect">
              <a:avLst/>
            </a:prstGeom>
            <a:solidFill>
              <a:srgbClr val="b9b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095880" y="3962520"/>
              <a:ext cx="561960" cy="218160"/>
              <a:chOff x="6095880" y="3962520"/>
              <a:chExt cx="561960" cy="21816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5880" y="3962520"/>
                <a:ext cx="561960" cy="218160"/>
              </a:xfrm>
              <a:prstGeom prst="ellipse">
                <a:avLst/>
              </a:prstGeom>
              <a:solidFill>
                <a:srgbClr val="dfda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6182280" y="3982680"/>
                <a:ext cx="411120" cy="169560"/>
                <a:chOff x="6182280" y="3982680"/>
                <a:chExt cx="411120" cy="16956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6182280" y="3982680"/>
                  <a:ext cx="409320" cy="164880"/>
                  <a:chOff x="6182280" y="3982680"/>
                  <a:chExt cx="409320" cy="16488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6184080" y="398268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5400000">
                    <a:off x="6239520" y="401580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0800000">
                    <a:off x="6402240" y="407448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6441480" y="393408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184080" y="3987360"/>
                  <a:ext cx="409320" cy="164880"/>
                  <a:chOff x="6184080" y="3987360"/>
                  <a:chExt cx="409320" cy="164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6185880" y="398736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5400000">
                    <a:off x="6241320" y="402048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6404040" y="407916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6200000">
                    <a:off x="6443280" y="393876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2" name=""/>
            <p:cNvSpPr/>
            <p:nvPr/>
          </p:nvSpPr>
          <p:spPr>
            <a:xfrm flipV="1">
              <a:off x="6095880" y="4073400"/>
              <a:ext cx="0" cy="122040"/>
            </a:xfrm>
            <a:prstGeom prst="line">
              <a:avLst/>
            </a:prstGeom>
            <a:ln w="19080">
              <a:solidFill>
                <a:srgbClr val="fef9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657840" y="4064400"/>
              <a:ext cx="0" cy="130680"/>
            </a:xfrm>
            <a:prstGeom prst="line">
              <a:avLst/>
            </a:prstGeom>
            <a:ln w="19080">
              <a:solidFill>
                <a:srgbClr val="fef9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PC" descr=""/>
          <p:cNvPicPr/>
          <p:nvPr/>
        </p:nvPicPr>
        <p:blipFill>
          <a:blip r:embed="rId1"/>
          <a:srcRect l="0" t="0" r="0" b="1787"/>
          <a:stretch/>
        </p:blipFill>
        <p:spPr>
          <a:xfrm>
            <a:off x="6248520" y="4800600"/>
            <a:ext cx="447480" cy="379440"/>
          </a:xfrm>
          <a:prstGeom prst="rect">
            <a:avLst/>
          </a:prstGeom>
          <a:ln w="0">
            <a:noFill/>
          </a:ln>
        </p:spPr>
      </p:pic>
      <p:pic>
        <p:nvPicPr>
          <p:cNvPr id="145" name="PC" descr=""/>
          <p:cNvPicPr/>
          <p:nvPr/>
        </p:nvPicPr>
        <p:blipFill>
          <a:blip r:embed="rId2"/>
          <a:srcRect l="0" t="0" r="0" b="1787"/>
          <a:stretch/>
        </p:blipFill>
        <p:spPr>
          <a:xfrm>
            <a:off x="1523880" y="5640480"/>
            <a:ext cx="4478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647720" y="2481120"/>
            <a:ext cx="561960" cy="414360"/>
            <a:chOff x="1647720" y="2481120"/>
            <a:chExt cx="561960" cy="414360"/>
          </a:xfrm>
        </p:grpSpPr>
        <p:grpSp>
          <p:nvGrpSpPr>
            <p:cNvPr id="147" name=""/>
            <p:cNvGrpSpPr/>
            <p:nvPr/>
          </p:nvGrpSpPr>
          <p:grpSpPr>
            <a:xfrm>
              <a:off x="1647720" y="2557440"/>
              <a:ext cx="561960" cy="338040"/>
              <a:chOff x="1647720" y="2557440"/>
              <a:chExt cx="561960" cy="338040"/>
            </a:xfrm>
          </p:grpSpPr>
          <p:sp>
            <p:nvSpPr>
              <p:cNvPr id="148" name=""/>
              <p:cNvSpPr/>
              <p:nvPr/>
            </p:nvSpPr>
            <p:spPr>
              <a:xfrm>
                <a:off x="1647720" y="267732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47720" y="266868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647720" y="2557440"/>
                <a:ext cx="561960" cy="218160"/>
                <a:chOff x="1647720" y="2557440"/>
                <a:chExt cx="561960" cy="218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647720" y="255744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734120" y="2577600"/>
                  <a:ext cx="411120" cy="169560"/>
                  <a:chOff x="1734120" y="2577600"/>
                  <a:chExt cx="411120" cy="16956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734120" y="2577600"/>
                    <a:ext cx="409320" cy="164880"/>
                    <a:chOff x="1734120" y="2577600"/>
                    <a:chExt cx="409320" cy="1648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735920" y="25776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5400000">
                      <a:off x="1791360" y="261072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 rot="10800000">
                      <a:off x="1954080" y="26694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16200000">
                      <a:off x="1993320" y="25290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735920" y="2582280"/>
                    <a:ext cx="409320" cy="164880"/>
                    <a:chOff x="1735920" y="2582280"/>
                    <a:chExt cx="409320" cy="1648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737720" y="25822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5400000">
                      <a:off x="1793160" y="26154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10800000">
                      <a:off x="1955880" y="26740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6200000">
                      <a:off x="1995120" y="25336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3" name=""/>
              <p:cNvSpPr/>
              <p:nvPr/>
            </p:nvSpPr>
            <p:spPr>
              <a:xfrm flipV="1">
                <a:off x="1647720" y="266832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209680" y="265932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78680" y="2481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200" y="3519360"/>
            <a:ext cx="561960" cy="400320"/>
            <a:chOff x="457200" y="3519360"/>
            <a:chExt cx="561960" cy="400320"/>
          </a:xfrm>
        </p:grpSpPr>
        <p:grpSp>
          <p:nvGrpSpPr>
            <p:cNvPr id="167" name=""/>
            <p:cNvGrpSpPr/>
            <p:nvPr/>
          </p:nvGrpSpPr>
          <p:grpSpPr>
            <a:xfrm>
              <a:off x="457200" y="3581280"/>
              <a:ext cx="561960" cy="338400"/>
              <a:chOff x="457200" y="3581280"/>
              <a:chExt cx="561960" cy="338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57200" y="3701160"/>
                <a:ext cx="561960" cy="21852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369252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57200" y="3581280"/>
                <a:ext cx="561960" cy="218520"/>
                <a:chOff x="457200" y="3581280"/>
                <a:chExt cx="561960" cy="218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7200" y="3581280"/>
                  <a:ext cx="561960" cy="21852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543600" y="3601440"/>
                  <a:ext cx="411120" cy="169920"/>
                  <a:chOff x="543600" y="3601440"/>
                  <a:chExt cx="411120" cy="16992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543600" y="3601440"/>
                    <a:ext cx="409320" cy="165240"/>
                    <a:chOff x="543600" y="3601440"/>
                    <a:chExt cx="409320" cy="1652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545400" y="36014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rot="5400000">
                      <a:off x="600840" y="363528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rot="10800000">
                      <a:off x="763560" y="36936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6200000">
                      <a:off x="802800" y="355284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545400" y="3606120"/>
                    <a:ext cx="409320" cy="165240"/>
                    <a:chOff x="545400" y="3606120"/>
                    <a:chExt cx="409320" cy="16524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547200" y="36061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rot="5400000">
                      <a:off x="602640" y="363996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rot="10800000">
                      <a:off x="765360" y="36982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rot="16200000">
                      <a:off x="804600" y="355752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83" name=""/>
              <p:cNvSpPr/>
              <p:nvPr/>
            </p:nvSpPr>
            <p:spPr>
              <a:xfrm flipV="1">
                <a:off x="457200" y="369216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019160" y="3683880"/>
                <a:ext cx="0" cy="131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16600" y="3519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67040" y="3505320"/>
            <a:ext cx="561960" cy="414360"/>
            <a:chOff x="2867040" y="3505320"/>
            <a:chExt cx="561960" cy="414360"/>
          </a:xfrm>
        </p:grpSpPr>
        <p:grpSp>
          <p:nvGrpSpPr>
            <p:cNvPr id="187" name=""/>
            <p:cNvGrpSpPr/>
            <p:nvPr/>
          </p:nvGrpSpPr>
          <p:grpSpPr>
            <a:xfrm>
              <a:off x="2867040" y="3581280"/>
              <a:ext cx="561960" cy="338400"/>
              <a:chOff x="2867040" y="3581280"/>
              <a:chExt cx="561960" cy="338400"/>
            </a:xfrm>
          </p:grpSpPr>
          <p:sp>
            <p:nvSpPr>
              <p:cNvPr id="188" name=""/>
              <p:cNvSpPr/>
              <p:nvPr/>
            </p:nvSpPr>
            <p:spPr>
              <a:xfrm>
                <a:off x="2867040" y="3701160"/>
                <a:ext cx="561960" cy="21852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67040" y="369252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867040" y="3581280"/>
                <a:ext cx="561960" cy="218520"/>
                <a:chOff x="2867040" y="3581280"/>
                <a:chExt cx="561960" cy="2185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67040" y="3581280"/>
                  <a:ext cx="561960" cy="21852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2953440" y="3601440"/>
                  <a:ext cx="411120" cy="169920"/>
                  <a:chOff x="2953440" y="3601440"/>
                  <a:chExt cx="411120" cy="1699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953440" y="3601440"/>
                    <a:ext cx="409320" cy="165240"/>
                    <a:chOff x="2953440" y="3601440"/>
                    <a:chExt cx="409320" cy="1652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955240" y="36014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5400000">
                      <a:off x="3010680" y="363528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rot="10800000">
                      <a:off x="3173400" y="36936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6200000">
                      <a:off x="3212640" y="355284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955240" y="3606120"/>
                    <a:ext cx="409320" cy="165240"/>
                    <a:chOff x="2955240" y="3606120"/>
                    <a:chExt cx="409320" cy="1652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957040" y="36061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5400000">
                      <a:off x="3012480" y="363996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10800000">
                      <a:off x="3175200" y="36982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6200000">
                      <a:off x="3214440" y="355752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3" name=""/>
              <p:cNvSpPr/>
              <p:nvPr/>
            </p:nvSpPr>
            <p:spPr>
              <a:xfrm flipV="1">
                <a:off x="2867040" y="369216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429000" y="3683880"/>
                <a:ext cx="0" cy="131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2926080" y="35053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55280" y="390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47720" y="4662360"/>
            <a:ext cx="561960" cy="401760"/>
            <a:chOff x="1647720" y="4662360"/>
            <a:chExt cx="561960" cy="401760"/>
          </a:xfrm>
        </p:grpSpPr>
        <p:grpSp>
          <p:nvGrpSpPr>
            <p:cNvPr id="208" name=""/>
            <p:cNvGrpSpPr/>
            <p:nvPr/>
          </p:nvGrpSpPr>
          <p:grpSpPr>
            <a:xfrm>
              <a:off x="1647720" y="4726080"/>
              <a:ext cx="561960" cy="338040"/>
              <a:chOff x="1647720" y="4726080"/>
              <a:chExt cx="561960" cy="338040"/>
            </a:xfrm>
          </p:grpSpPr>
          <p:sp>
            <p:nvSpPr>
              <p:cNvPr id="209" name=""/>
              <p:cNvSpPr/>
              <p:nvPr/>
            </p:nvSpPr>
            <p:spPr>
              <a:xfrm>
                <a:off x="1647720" y="484596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47720" y="483732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647720" y="4726080"/>
                <a:ext cx="561960" cy="218160"/>
                <a:chOff x="1647720" y="4726080"/>
                <a:chExt cx="561960" cy="2181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647720" y="472608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734120" y="4746240"/>
                  <a:ext cx="411120" cy="169560"/>
                  <a:chOff x="1734120" y="4746240"/>
                  <a:chExt cx="411120" cy="16956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1734120" y="4746240"/>
                    <a:ext cx="409320" cy="164880"/>
                    <a:chOff x="1734120" y="4746240"/>
                    <a:chExt cx="409320" cy="1648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735920" y="47462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5400000">
                      <a:off x="1791360" y="477936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0800000">
                      <a:off x="1954080" y="48380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6200000">
                      <a:off x="1993320" y="469764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735920" y="4750920"/>
                    <a:ext cx="409320" cy="164880"/>
                    <a:chOff x="1735920" y="4750920"/>
                    <a:chExt cx="409320" cy="1648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1737720" y="47509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rot="5400000">
                      <a:off x="1793160" y="478404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rot="10800000">
                      <a:off x="1955880" y="48427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rot="16200000">
                      <a:off x="1995120" y="470232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4" name=""/>
              <p:cNvSpPr/>
              <p:nvPr/>
            </p:nvSpPr>
            <p:spPr>
              <a:xfrm flipV="1">
                <a:off x="1647720" y="483696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209680" y="482796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678680" y="4662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3429000" y="2895480"/>
            <a:ext cx="2057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2743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410080" y="2514600"/>
            <a:ext cx="561960" cy="414360"/>
            <a:chOff x="5410080" y="2514600"/>
            <a:chExt cx="561960" cy="414360"/>
          </a:xfrm>
        </p:grpSpPr>
        <p:grpSp>
          <p:nvGrpSpPr>
            <p:cNvPr id="230" name=""/>
            <p:cNvGrpSpPr/>
            <p:nvPr/>
          </p:nvGrpSpPr>
          <p:grpSpPr>
            <a:xfrm>
              <a:off x="5410080" y="2590920"/>
              <a:ext cx="561960" cy="338040"/>
              <a:chOff x="5410080" y="2590920"/>
              <a:chExt cx="561960" cy="338040"/>
            </a:xfrm>
          </p:grpSpPr>
          <p:sp>
            <p:nvSpPr>
              <p:cNvPr id="231" name=""/>
              <p:cNvSpPr/>
              <p:nvPr/>
            </p:nvSpPr>
            <p:spPr>
              <a:xfrm>
                <a:off x="5410080" y="271080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10080" y="270216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410080" y="2590920"/>
                <a:ext cx="561960" cy="218160"/>
                <a:chOff x="5410080" y="2590920"/>
                <a:chExt cx="561960" cy="218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410080" y="259092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5496480" y="2611080"/>
                  <a:ext cx="411120" cy="169560"/>
                  <a:chOff x="5496480" y="2611080"/>
                  <a:chExt cx="411120" cy="16956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496480" y="2611080"/>
                    <a:ext cx="409320" cy="164880"/>
                    <a:chOff x="5496480" y="2611080"/>
                    <a:chExt cx="409320" cy="1648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5498280" y="26110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5400000">
                      <a:off x="5553720" y="26442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rot="10800000">
                      <a:off x="5716440" y="27028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6200000">
                      <a:off x="5755680" y="25624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498280" y="2615760"/>
                    <a:ext cx="409320" cy="164880"/>
                    <a:chOff x="5498280" y="2615760"/>
                    <a:chExt cx="409320" cy="16488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500080" y="26157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rot="5400000">
                      <a:off x="5555520" y="26488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10800000">
                      <a:off x="5718240" y="27075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16200000">
                      <a:off x="5757480" y="256716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46" name=""/>
              <p:cNvSpPr/>
              <p:nvPr/>
            </p:nvSpPr>
            <p:spPr>
              <a:xfrm flipV="1">
                <a:off x="5410080" y="270180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972040" y="269280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488560" y="25146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315200" y="2514600"/>
            <a:ext cx="561960" cy="414360"/>
            <a:chOff x="7315200" y="2514600"/>
            <a:chExt cx="561960" cy="414360"/>
          </a:xfrm>
        </p:grpSpPr>
        <p:grpSp>
          <p:nvGrpSpPr>
            <p:cNvPr id="250" name=""/>
            <p:cNvGrpSpPr/>
            <p:nvPr/>
          </p:nvGrpSpPr>
          <p:grpSpPr>
            <a:xfrm>
              <a:off x="7315200" y="2590920"/>
              <a:ext cx="561960" cy="338040"/>
              <a:chOff x="7315200" y="2590920"/>
              <a:chExt cx="561960" cy="338040"/>
            </a:xfrm>
          </p:grpSpPr>
          <p:sp>
            <p:nvSpPr>
              <p:cNvPr id="251" name=""/>
              <p:cNvSpPr/>
              <p:nvPr/>
            </p:nvSpPr>
            <p:spPr>
              <a:xfrm>
                <a:off x="7315200" y="271080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5200" y="270216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7315200" y="2590920"/>
                <a:ext cx="561960" cy="218160"/>
                <a:chOff x="7315200" y="2590920"/>
                <a:chExt cx="561960" cy="2181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315200" y="259092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7401600" y="2611080"/>
                  <a:ext cx="411120" cy="169560"/>
                  <a:chOff x="7401600" y="2611080"/>
                  <a:chExt cx="411120" cy="16956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7401600" y="2611080"/>
                    <a:ext cx="409320" cy="164880"/>
                    <a:chOff x="7401600" y="2611080"/>
                    <a:chExt cx="409320" cy="1648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403400" y="26110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rot="5400000">
                      <a:off x="7458840" y="26442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0800000">
                      <a:off x="7621560" y="27028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6200000">
                      <a:off x="7660800" y="25624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403400" y="2615760"/>
                    <a:ext cx="409320" cy="164880"/>
                    <a:chOff x="7403400" y="2615760"/>
                    <a:chExt cx="409320" cy="164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405200" y="26157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rot="5400000">
                      <a:off x="7460640" y="26488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rot="10800000">
                      <a:off x="7623360" y="27075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rot="16200000">
                      <a:off x="7662600" y="256716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66" name=""/>
              <p:cNvSpPr/>
              <p:nvPr/>
            </p:nvSpPr>
            <p:spPr>
              <a:xfrm flipV="1">
                <a:off x="7315200" y="270180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877160" y="269280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393680" y="25146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>
            <a:off x="5791320" y="21337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4400" y="1447920"/>
            <a:ext cx="112104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5040" y="1752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4191120"/>
            <a:ext cx="114300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 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5240" y="4495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1447920"/>
            <a:ext cx="108288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21337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479600"/>
            <a:ext cx="112068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438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2819520"/>
            <a:ext cx="106704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6864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S1,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9200" y="6095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428640" y="348624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1680" y="17161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*,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711680" y="1725480"/>
            <a:ext cx="1121040" cy="368280"/>
            <a:chOff x="4711680" y="1725480"/>
            <a:chExt cx="1121040" cy="368280"/>
          </a:xfrm>
        </p:grpSpPr>
        <p:sp>
          <p:nvSpPr>
            <p:cNvPr id="285" name=""/>
            <p:cNvSpPr/>
            <p:nvPr/>
          </p:nvSpPr>
          <p:spPr>
            <a:xfrm>
              <a:off x="4794480" y="1746000"/>
              <a:ext cx="951120" cy="336600"/>
            </a:xfrm>
            <a:prstGeom prst="rect">
              <a:avLst/>
            </a:prstGeom>
            <a:solidFill>
              <a:srgbClr val="ff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11680" y="17254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(S1,G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93560" y="1765440"/>
            <a:ext cx="1121040" cy="368280"/>
            <a:chOff x="493560" y="1765440"/>
            <a:chExt cx="1121040" cy="368280"/>
          </a:xfrm>
        </p:grpSpPr>
        <p:sp>
          <p:nvSpPr>
            <p:cNvPr id="288" name=""/>
            <p:cNvSpPr/>
            <p:nvPr/>
          </p:nvSpPr>
          <p:spPr>
            <a:xfrm>
              <a:off x="576360" y="1785600"/>
              <a:ext cx="951120" cy="336240"/>
            </a:xfrm>
            <a:prstGeom prst="rect">
              <a:avLst/>
            </a:prstGeom>
            <a:solidFill>
              <a:srgbClr val="ff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3560" y="176544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(S1,G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89000" y="4470480"/>
            <a:ext cx="103644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47750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S1,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22200" y="5022360"/>
            <a:ext cx="45252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064240" y="5030280"/>
            <a:ext cx="1031040" cy="749880"/>
            <a:chOff x="2064240" y="5030280"/>
            <a:chExt cx="1031040" cy="749880"/>
          </a:xfrm>
        </p:grpSpPr>
        <p:sp>
          <p:nvSpPr>
            <p:cNvPr id="294" name=""/>
            <p:cNvSpPr/>
            <p:nvPr/>
          </p:nvSpPr>
          <p:spPr>
            <a:xfrm>
              <a:off x="2064240" y="541188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33720" y="5030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959720" y="3429000"/>
            <a:ext cx="1060200" cy="609480"/>
            <a:chOff x="4959720" y="3429000"/>
            <a:chExt cx="1060200" cy="609480"/>
          </a:xfrm>
        </p:grpSpPr>
        <p:sp>
          <p:nvSpPr>
            <p:cNvPr id="297" name=""/>
            <p:cNvSpPr/>
            <p:nvPr/>
          </p:nvSpPr>
          <p:spPr>
            <a:xfrm>
              <a:off x="4959720" y="342900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36040" y="4424400"/>
            <a:ext cx="1136160" cy="604800"/>
            <a:chOff x="5036040" y="4424400"/>
            <a:chExt cx="1136160" cy="604800"/>
          </a:xfrm>
        </p:grpSpPr>
        <p:sp>
          <p:nvSpPr>
            <p:cNvPr id="300" name=""/>
            <p:cNvSpPr/>
            <p:nvPr/>
          </p:nvSpPr>
          <p:spPr>
            <a:xfrm>
              <a:off x="5036040" y="442440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9920" y="48006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357000" y="3386160"/>
            <a:ext cx="1499040" cy="893160"/>
            <a:chOff x="3357000" y="3386160"/>
            <a:chExt cx="1499040" cy="893160"/>
          </a:xfrm>
        </p:grpSpPr>
        <p:sp>
          <p:nvSpPr>
            <p:cNvPr id="303" name=""/>
            <p:cNvSpPr/>
            <p:nvPr/>
          </p:nvSpPr>
          <p:spPr>
            <a:xfrm rot="20038800">
              <a:off x="3385440" y="370332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376520" y="3386160"/>
              <a:ext cx="47952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8160" y="4036680"/>
            <a:ext cx="1018800" cy="1126080"/>
            <a:chOff x="2288160" y="4036680"/>
            <a:chExt cx="1018800" cy="1126080"/>
          </a:xfrm>
        </p:grpSpPr>
        <p:sp>
          <p:nvSpPr>
            <p:cNvPr id="306" name=""/>
            <p:cNvSpPr/>
            <p:nvPr/>
          </p:nvSpPr>
          <p:spPr>
            <a:xfrm rot="18579600">
              <a:off x="2243160" y="446400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066480" y="4036680"/>
              <a:ext cx="24048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Perform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Multiaccess environment - e.g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opy per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broadcast Multiaccess environment - e.g. xDSL, wireless,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opy 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505320" y="2362320"/>
            <a:ext cx="837720" cy="456840"/>
            <a:chOff x="3505320" y="2362320"/>
            <a:chExt cx="837720" cy="456840"/>
          </a:xfrm>
        </p:grpSpPr>
        <p:grpSp>
          <p:nvGrpSpPr>
            <p:cNvPr id="311" name=""/>
            <p:cNvGrpSpPr/>
            <p:nvPr/>
          </p:nvGrpSpPr>
          <p:grpSpPr>
            <a:xfrm>
              <a:off x="3521160" y="2383920"/>
              <a:ext cx="821880" cy="435240"/>
              <a:chOff x="3521160" y="2383920"/>
              <a:chExt cx="821880" cy="435240"/>
            </a:xfrm>
          </p:grpSpPr>
          <p:sp>
            <p:nvSpPr>
              <p:cNvPr id="312" name=""/>
              <p:cNvSpPr/>
              <p:nvPr/>
            </p:nvSpPr>
            <p:spPr>
              <a:xfrm>
                <a:off x="3521160" y="2523960"/>
                <a:ext cx="821880" cy="1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28720" y="2539440"/>
                <a:ext cx="813960" cy="27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8720" y="2383920"/>
                <a:ext cx="813960" cy="28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502000"/>
              <a:ext cx="821880" cy="15444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13240" y="2516760"/>
              <a:ext cx="813960" cy="2808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13240" y="2362320"/>
              <a:ext cx="813960" cy="2797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3664440" y="2398320"/>
              <a:ext cx="511200" cy="208080"/>
              <a:chOff x="3664440" y="2398320"/>
              <a:chExt cx="511200" cy="20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664440" y="2398320"/>
                <a:ext cx="511200" cy="207720"/>
                <a:chOff x="3664440" y="2398320"/>
                <a:chExt cx="511200" cy="207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664440" y="239832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664440" y="239832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935520" y="253080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35520" y="253080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679920" y="2398320"/>
                <a:ext cx="480600" cy="208080"/>
                <a:chOff x="3679920" y="2398320"/>
                <a:chExt cx="480600" cy="208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918960" y="239832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918960" y="239832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79920" y="251640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9920" y="251640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9" name=""/>
          <p:cNvGrpSpPr/>
          <p:nvPr/>
        </p:nvGrpSpPr>
        <p:grpSpPr>
          <a:xfrm>
            <a:off x="5791320" y="1752480"/>
            <a:ext cx="533160" cy="380880"/>
            <a:chOff x="5791320" y="1752480"/>
            <a:chExt cx="533160" cy="380880"/>
          </a:xfrm>
        </p:grpSpPr>
        <p:grpSp>
          <p:nvGrpSpPr>
            <p:cNvPr id="330" name=""/>
            <p:cNvGrpSpPr/>
            <p:nvPr/>
          </p:nvGrpSpPr>
          <p:grpSpPr>
            <a:xfrm>
              <a:off x="5893920" y="1955520"/>
              <a:ext cx="340200" cy="118080"/>
              <a:chOff x="5893920" y="1955520"/>
              <a:chExt cx="340200" cy="1180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893920" y="1955520"/>
                <a:ext cx="340200" cy="118080"/>
                <a:chOff x="5893920" y="1955520"/>
                <a:chExt cx="340200" cy="11808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5893920" y="1955520"/>
                  <a:ext cx="340200" cy="118080"/>
                  <a:chOff x="5893920" y="1955520"/>
                  <a:chExt cx="340200" cy="11808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93920" y="1955520"/>
                    <a:ext cx="339120" cy="118080"/>
                    <a:chOff x="5893920" y="1955520"/>
                    <a:chExt cx="339120" cy="11808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5893920" y="1955520"/>
                      <a:ext cx="339120" cy="118080"/>
                      <a:chOff x="5893920" y="1955520"/>
                      <a:chExt cx="339120" cy="1180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5895000" y="19861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5893920" y="19555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5902920" y="19792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907600" y="2053440"/>
                    <a:ext cx="326520" cy="17640"/>
                    <a:chOff x="5907600" y="2053440"/>
                    <a:chExt cx="326520" cy="17640"/>
                  </a:xfrm>
                </p:grpSpPr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5907600" y="2053440"/>
                      <a:ext cx="160560" cy="17640"/>
                      <a:chOff x="5907600" y="2053440"/>
                      <a:chExt cx="160560" cy="17640"/>
                    </a:xfrm>
                  </p:grpSpPr>
                  <p:grpSp>
                    <p:nvGrpSpPr>
                      <p:cNvPr id="340" name=""/>
                      <p:cNvGrpSpPr/>
                      <p:nvPr/>
                    </p:nvGrpSpPr>
                    <p:grpSpPr>
                      <a:xfrm>
                        <a:off x="5907600" y="2053440"/>
                        <a:ext cx="76320" cy="17640"/>
                        <a:chOff x="5907600" y="2053440"/>
                        <a:chExt cx="76320" cy="17640"/>
                      </a:xfrm>
                    </p:grpSpPr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5907600" y="2053440"/>
                          <a:ext cx="35640" cy="17640"/>
                          <a:chOff x="5907600" y="2053440"/>
                          <a:chExt cx="35640" cy="17640"/>
                        </a:xfrm>
                      </p:grpSpPr>
                      <p:grpSp>
                        <p:nvGrpSpPr>
                          <p:cNvPr id="342" name=""/>
                          <p:cNvGrpSpPr/>
                          <p:nvPr/>
                        </p:nvGrpSpPr>
                        <p:grpSpPr>
                          <a:xfrm>
                            <a:off x="5907600" y="2053440"/>
                            <a:ext cx="20880" cy="17640"/>
                            <a:chOff x="5907600" y="2053440"/>
                            <a:chExt cx="20880" cy="17640"/>
                          </a:xfrm>
                        </p:grpSpPr>
                        <p:grpSp>
                          <p:nvGrpSpPr>
                            <p:cNvPr id="343" name=""/>
                            <p:cNvGrpSpPr/>
                            <p:nvPr/>
                          </p:nvGrpSpPr>
                          <p:grpSpPr>
                            <a:xfrm>
                              <a:off x="5907600" y="2053440"/>
                              <a:ext cx="5040" cy="17640"/>
                              <a:chOff x="5907600" y="2053440"/>
                              <a:chExt cx="5040" cy="17640"/>
                            </a:xfrm>
                          </p:grpSpPr>
                          <p:sp>
                            <p:nvSpPr>
                              <p:cNvPr id="344" name=""/>
                              <p:cNvSpPr/>
                              <p:nvPr/>
                            </p:nvSpPr>
                            <p:spPr>
                              <a:xfrm>
                                <a:off x="5907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5" name=""/>
                              <p:cNvSpPr/>
                              <p:nvPr/>
                            </p:nvSpPr>
                            <p:spPr>
                              <a:xfrm>
                                <a:off x="59122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6" name=""/>
                            <p:cNvGrpSpPr/>
                            <p:nvPr/>
                          </p:nvGrpSpPr>
                          <p:grpSpPr>
                            <a:xfrm>
                              <a:off x="5916960" y="2053440"/>
                              <a:ext cx="11520" cy="17640"/>
                              <a:chOff x="5916960" y="2053440"/>
                              <a:chExt cx="11520" cy="17640"/>
                            </a:xfrm>
                          </p:grpSpPr>
                          <p:sp>
                            <p:nvSpPr>
                              <p:cNvPr id="347" name=""/>
                              <p:cNvSpPr/>
                              <p:nvPr/>
                            </p:nvSpPr>
                            <p:spPr>
                              <a:xfrm>
                                <a:off x="59169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8" name=""/>
                              <p:cNvSpPr/>
                              <p:nvPr/>
                            </p:nvSpPr>
                            <p:spPr>
                              <a:xfrm>
                                <a:off x="59223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9" name=""/>
                          <p:cNvGrpSpPr/>
                          <p:nvPr/>
                        </p:nvGrpSpPr>
                        <p:grpSpPr>
                          <a:xfrm>
                            <a:off x="5927760" y="2053440"/>
                            <a:ext cx="15480" cy="17640"/>
                            <a:chOff x="5927760" y="2053440"/>
                            <a:chExt cx="15480" cy="17640"/>
                          </a:xfrm>
                        </p:grpSpPr>
                        <p:grpSp>
                          <p:nvGrpSpPr>
                            <p:cNvPr id="350" name=""/>
                            <p:cNvGrpSpPr/>
                            <p:nvPr/>
                          </p:nvGrpSpPr>
                          <p:grpSpPr>
                            <a:xfrm>
                              <a:off x="5927760" y="2053440"/>
                              <a:ext cx="11520" cy="17640"/>
                              <a:chOff x="5927760" y="2053440"/>
                              <a:chExt cx="11520" cy="17640"/>
                            </a:xfrm>
                          </p:grpSpPr>
                          <p:sp>
                            <p:nvSpPr>
                              <p:cNvPr id="351" name=""/>
                              <p:cNvSpPr/>
                              <p:nvPr/>
                            </p:nvSpPr>
                            <p:spPr>
                              <a:xfrm>
                                <a:off x="59277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2" name=""/>
                              <p:cNvSpPr/>
                              <p:nvPr/>
                            </p:nvSpPr>
                            <p:spPr>
                              <a:xfrm>
                                <a:off x="593244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53" name=""/>
                            <p:cNvGrpSpPr/>
                            <p:nvPr/>
                          </p:nvGrpSpPr>
                          <p:grpSpPr>
                            <a:xfrm>
                              <a:off x="5938200" y="2053440"/>
                              <a:ext cx="5040" cy="17640"/>
                              <a:chOff x="5938200" y="2053440"/>
                              <a:chExt cx="5040" cy="17640"/>
                            </a:xfrm>
                          </p:grpSpPr>
                          <p:sp>
                            <p:nvSpPr>
                              <p:cNvPr id="354" name=""/>
                              <p:cNvSpPr/>
                              <p:nvPr/>
                            </p:nvSpPr>
                            <p:spPr>
                              <a:xfrm>
                                <a:off x="59382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5" name=""/>
                              <p:cNvSpPr/>
                              <p:nvPr/>
                            </p:nvSpPr>
                            <p:spPr>
                              <a:xfrm>
                                <a:off x="59428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56" name=""/>
                        <p:cNvGrpSpPr/>
                        <p:nvPr/>
                      </p:nvGrpSpPr>
                      <p:grpSpPr>
                        <a:xfrm>
                          <a:off x="5947560" y="2053440"/>
                          <a:ext cx="36360" cy="17640"/>
                          <a:chOff x="5947560" y="2053440"/>
                          <a:chExt cx="36360" cy="17640"/>
                        </a:xfrm>
                      </p:grpSpPr>
                      <p:grpSp>
                        <p:nvGrpSpPr>
                          <p:cNvPr id="357" name=""/>
                          <p:cNvGrpSpPr/>
                          <p:nvPr/>
                        </p:nvGrpSpPr>
                        <p:grpSpPr>
                          <a:xfrm>
                            <a:off x="5947560" y="2053440"/>
                            <a:ext cx="21600" cy="17640"/>
                            <a:chOff x="5947560" y="2053440"/>
                            <a:chExt cx="21600" cy="17640"/>
                          </a:xfrm>
                        </p:grpSpPr>
                        <p:grpSp>
                          <p:nvGrpSpPr>
                            <p:cNvPr id="358" name=""/>
                            <p:cNvGrpSpPr/>
                            <p:nvPr/>
                          </p:nvGrpSpPr>
                          <p:grpSpPr>
                            <a:xfrm>
                              <a:off x="5947560" y="2053440"/>
                              <a:ext cx="16200" cy="17640"/>
                              <a:chOff x="5947560" y="2053440"/>
                              <a:chExt cx="16200" cy="17640"/>
                            </a:xfrm>
                          </p:grpSpPr>
                          <p:sp>
                            <p:nvSpPr>
                              <p:cNvPr id="359" name=""/>
                              <p:cNvSpPr/>
                              <p:nvPr/>
                            </p:nvSpPr>
                            <p:spPr>
                              <a:xfrm>
                                <a:off x="59475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"/>
                              <p:cNvSpPr/>
                              <p:nvPr/>
                            </p:nvSpPr>
                            <p:spPr>
                              <a:xfrm>
                                <a:off x="595224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1" name=""/>
                            <p:cNvGrpSpPr/>
                            <p:nvPr/>
                          </p:nvGrpSpPr>
                          <p:grpSpPr>
                            <a:xfrm>
                              <a:off x="5957280" y="2053440"/>
                              <a:ext cx="11880" cy="17640"/>
                              <a:chOff x="5957280" y="2053440"/>
                              <a:chExt cx="11880" cy="17640"/>
                            </a:xfrm>
                          </p:grpSpPr>
                          <p:sp>
                            <p:nvSpPr>
                              <p:cNvPr id="362" name=""/>
                              <p:cNvSpPr/>
                              <p:nvPr/>
                            </p:nvSpPr>
                            <p:spPr>
                              <a:xfrm>
                                <a:off x="5957280" y="20534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3" name=""/>
                              <p:cNvSpPr/>
                              <p:nvPr/>
                            </p:nvSpPr>
                            <p:spPr>
                              <a:xfrm>
                                <a:off x="59626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4" name=""/>
                          <p:cNvGrpSpPr/>
                          <p:nvPr/>
                        </p:nvGrpSpPr>
                        <p:grpSpPr>
                          <a:xfrm>
                            <a:off x="5967720" y="2053440"/>
                            <a:ext cx="16200" cy="17640"/>
                            <a:chOff x="5967720" y="2053440"/>
                            <a:chExt cx="16200" cy="17640"/>
                          </a:xfrm>
                        </p:grpSpPr>
                        <p:grpSp>
                          <p:nvGrpSpPr>
                            <p:cNvPr id="365" name=""/>
                            <p:cNvGrpSpPr/>
                            <p:nvPr/>
                          </p:nvGrpSpPr>
                          <p:grpSpPr>
                            <a:xfrm>
                              <a:off x="5967720" y="2053440"/>
                              <a:ext cx="16200" cy="17640"/>
                              <a:chOff x="5967720" y="2053440"/>
                              <a:chExt cx="16200" cy="17640"/>
                            </a:xfrm>
                          </p:grpSpPr>
                          <p:sp>
                            <p:nvSpPr>
                              <p:cNvPr id="366" name=""/>
                              <p:cNvSpPr/>
                              <p:nvPr/>
                            </p:nvSpPr>
                            <p:spPr>
                              <a:xfrm>
                                <a:off x="59677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" name=""/>
                              <p:cNvSpPr/>
                              <p:nvPr/>
                            </p:nvSpPr>
                            <p:spPr>
                              <a:xfrm>
                                <a:off x="59724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8" name=""/>
                            <p:cNvGrpSpPr/>
                            <p:nvPr/>
                          </p:nvGrpSpPr>
                          <p:grpSpPr>
                            <a:xfrm>
                              <a:off x="5977800" y="2053440"/>
                              <a:ext cx="5400" cy="17640"/>
                              <a:chOff x="5977800" y="2053440"/>
                              <a:chExt cx="5400" cy="17640"/>
                            </a:xfrm>
                          </p:grpSpPr>
                          <p:sp>
                            <p:nvSpPr>
                              <p:cNvPr id="369" name=""/>
                              <p:cNvSpPr/>
                              <p:nvPr/>
                            </p:nvSpPr>
                            <p:spPr>
                              <a:xfrm>
                                <a:off x="597780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0" name=""/>
                              <p:cNvSpPr/>
                              <p:nvPr/>
                            </p:nvSpPr>
                            <p:spPr>
                              <a:xfrm>
                                <a:off x="59824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71" name=""/>
                      <p:cNvGrpSpPr/>
                      <p:nvPr/>
                    </p:nvGrpSpPr>
                    <p:grpSpPr>
                      <a:xfrm>
                        <a:off x="5987520" y="2053440"/>
                        <a:ext cx="80640" cy="17640"/>
                        <a:chOff x="5987520" y="2053440"/>
                        <a:chExt cx="80640" cy="17640"/>
                      </a:xfrm>
                    </p:grpSpPr>
                    <p:grpSp>
                      <p:nvGrpSpPr>
                        <p:cNvPr id="372" name=""/>
                        <p:cNvGrpSpPr/>
                        <p:nvPr/>
                      </p:nvGrpSpPr>
                      <p:grpSpPr>
                        <a:xfrm>
                          <a:off x="5987520" y="2053440"/>
                          <a:ext cx="45720" cy="17640"/>
                          <a:chOff x="5987520" y="2053440"/>
                          <a:chExt cx="45720" cy="17640"/>
                        </a:xfrm>
                      </p:grpSpPr>
                      <p:grpSp>
                        <p:nvGrpSpPr>
                          <p:cNvPr id="373" name=""/>
                          <p:cNvGrpSpPr/>
                          <p:nvPr/>
                        </p:nvGrpSpPr>
                        <p:grpSpPr>
                          <a:xfrm>
                            <a:off x="5987520" y="2053440"/>
                            <a:ext cx="16200" cy="17640"/>
                            <a:chOff x="5987520" y="2053440"/>
                            <a:chExt cx="16200" cy="17640"/>
                          </a:xfrm>
                        </p:grpSpPr>
                        <p:grpSp>
                          <p:nvGrpSpPr>
                            <p:cNvPr id="374" name=""/>
                            <p:cNvGrpSpPr/>
                            <p:nvPr/>
                          </p:nvGrpSpPr>
                          <p:grpSpPr>
                            <a:xfrm>
                              <a:off x="5987520" y="2053440"/>
                              <a:ext cx="16200" cy="17640"/>
                              <a:chOff x="5987520" y="2053440"/>
                              <a:chExt cx="16200" cy="17640"/>
                            </a:xfrm>
                          </p:grpSpPr>
                          <p:sp>
                            <p:nvSpPr>
                              <p:cNvPr id="375" name=""/>
                              <p:cNvSpPr/>
                              <p:nvPr/>
                            </p:nvSpPr>
                            <p:spPr>
                              <a:xfrm>
                                <a:off x="59875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>
                                <a:off x="59922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7" name=""/>
                            <p:cNvGrpSpPr/>
                            <p:nvPr/>
                          </p:nvGrpSpPr>
                          <p:grpSpPr>
                            <a:xfrm>
                              <a:off x="5997600" y="2053440"/>
                              <a:ext cx="4320" cy="17640"/>
                              <a:chOff x="5997600" y="2053440"/>
                              <a:chExt cx="4320" cy="17640"/>
                            </a:xfrm>
                          </p:grpSpPr>
                          <p:sp>
                            <p:nvSpPr>
                              <p:cNvPr id="378" name=""/>
                              <p:cNvSpPr/>
                              <p:nvPr/>
                            </p:nvSpPr>
                            <p:spPr>
                              <a:xfrm>
                                <a:off x="599760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>
                                <a:off x="60015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80" name=""/>
                          <p:cNvGrpSpPr/>
                          <p:nvPr/>
                        </p:nvGrpSpPr>
                        <p:grpSpPr>
                          <a:xfrm>
                            <a:off x="6008040" y="2053440"/>
                            <a:ext cx="25200" cy="17640"/>
                            <a:chOff x="6008040" y="2053440"/>
                            <a:chExt cx="25200" cy="17640"/>
                          </a:xfrm>
                        </p:grpSpPr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6008040" y="2053440"/>
                              <a:ext cx="4320" cy="17640"/>
                              <a:chOff x="6008040" y="2053440"/>
                              <a:chExt cx="4320" cy="1764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>
                                <a:off x="600804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>
                                <a:off x="60120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4" name=""/>
                            <p:cNvGrpSpPr/>
                            <p:nvPr/>
                          </p:nvGrpSpPr>
                          <p:grpSpPr>
                            <a:xfrm>
                              <a:off x="6017760" y="2053440"/>
                              <a:ext cx="15480" cy="17640"/>
                              <a:chOff x="6017760" y="2053440"/>
                              <a:chExt cx="15480" cy="17640"/>
                            </a:xfrm>
                          </p:grpSpPr>
                          <p:sp>
                            <p:nvSpPr>
                              <p:cNvPr id="385" name=""/>
                              <p:cNvSpPr/>
                              <p:nvPr/>
                            </p:nvSpPr>
                            <p:spPr>
                              <a:xfrm>
                                <a:off x="60177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6" name=""/>
                              <p:cNvSpPr/>
                              <p:nvPr/>
                            </p:nvSpPr>
                            <p:spPr>
                              <a:xfrm>
                                <a:off x="602172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87" name=""/>
                        <p:cNvGrpSpPr/>
                        <p:nvPr/>
                      </p:nvGrpSpPr>
                      <p:grpSpPr>
                        <a:xfrm>
                          <a:off x="6027480" y="2053440"/>
                          <a:ext cx="40680" cy="17640"/>
                          <a:chOff x="6027480" y="2053440"/>
                          <a:chExt cx="40680" cy="17640"/>
                        </a:xfrm>
                      </p:grpSpPr>
                      <p:grpSp>
                        <p:nvGrpSpPr>
                          <p:cNvPr id="388" name=""/>
                          <p:cNvGrpSpPr/>
                          <p:nvPr/>
                        </p:nvGrpSpPr>
                        <p:grpSpPr>
                          <a:xfrm>
                            <a:off x="6027480" y="2053440"/>
                            <a:ext cx="15480" cy="17640"/>
                            <a:chOff x="6027480" y="2053440"/>
                            <a:chExt cx="15480" cy="17640"/>
                          </a:xfrm>
                        </p:grpSpPr>
                        <p:grpSp>
                          <p:nvGrpSpPr>
                            <p:cNvPr id="389" name=""/>
                            <p:cNvGrpSpPr/>
                            <p:nvPr/>
                          </p:nvGrpSpPr>
                          <p:grpSpPr>
                            <a:xfrm>
                              <a:off x="6027480" y="2053440"/>
                              <a:ext cx="5040" cy="17640"/>
                              <a:chOff x="6027480" y="2053440"/>
                              <a:chExt cx="5040" cy="17640"/>
                            </a:xfrm>
                          </p:grpSpPr>
                          <p:sp>
                            <p:nvSpPr>
                              <p:cNvPr id="390" name=""/>
                              <p:cNvSpPr/>
                              <p:nvPr/>
                            </p:nvSpPr>
                            <p:spPr>
                              <a:xfrm>
                                <a:off x="60274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1" name=""/>
                              <p:cNvSpPr/>
                              <p:nvPr/>
                            </p:nvSpPr>
                            <p:spPr>
                              <a:xfrm>
                                <a:off x="60321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92" name=""/>
                            <p:cNvGrpSpPr/>
                            <p:nvPr/>
                          </p:nvGrpSpPr>
                          <p:grpSpPr>
                            <a:xfrm>
                              <a:off x="6037920" y="2053440"/>
                              <a:ext cx="5040" cy="17640"/>
                              <a:chOff x="6037920" y="2053440"/>
                              <a:chExt cx="5040" cy="17640"/>
                            </a:xfrm>
                          </p:grpSpPr>
                          <p:sp>
                            <p:nvSpPr>
                              <p:cNvPr id="393" name=""/>
                              <p:cNvSpPr/>
                              <p:nvPr/>
                            </p:nvSpPr>
                            <p:spPr>
                              <a:xfrm>
                                <a:off x="603792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4" name=""/>
                              <p:cNvSpPr/>
                              <p:nvPr/>
                            </p:nvSpPr>
                            <p:spPr>
                              <a:xfrm>
                                <a:off x="6042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95" name=""/>
                          <p:cNvGrpSpPr/>
                          <p:nvPr/>
                        </p:nvGrpSpPr>
                        <p:grpSpPr>
                          <a:xfrm>
                            <a:off x="6047280" y="2053440"/>
                            <a:ext cx="20880" cy="17640"/>
                            <a:chOff x="6047280" y="2053440"/>
                            <a:chExt cx="20880" cy="17640"/>
                          </a:xfrm>
                        </p:grpSpPr>
                        <p:grpSp>
                          <p:nvGrpSpPr>
                            <p:cNvPr id="396" name=""/>
                            <p:cNvGrpSpPr/>
                            <p:nvPr/>
                          </p:nvGrpSpPr>
                          <p:grpSpPr>
                            <a:xfrm>
                              <a:off x="6047280" y="2053440"/>
                              <a:ext cx="16920" cy="17640"/>
                              <a:chOff x="6047280" y="2053440"/>
                              <a:chExt cx="16920" cy="17640"/>
                            </a:xfrm>
                          </p:grpSpPr>
                          <p:sp>
                            <p:nvSpPr>
                              <p:cNvPr id="397" name=""/>
                              <p:cNvSpPr/>
                              <p:nvPr/>
                            </p:nvSpPr>
                            <p:spPr>
                              <a:xfrm>
                                <a:off x="60472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8" name=""/>
                              <p:cNvSpPr/>
                              <p:nvPr/>
                            </p:nvSpPr>
                            <p:spPr>
                              <a:xfrm>
                                <a:off x="605268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99" name=""/>
                            <p:cNvGrpSpPr/>
                            <p:nvPr/>
                          </p:nvGrpSpPr>
                          <p:grpSpPr>
                            <a:xfrm>
                              <a:off x="6056640" y="2053440"/>
                              <a:ext cx="11520" cy="17640"/>
                              <a:chOff x="6056640" y="2053440"/>
                              <a:chExt cx="11520" cy="17640"/>
                            </a:xfrm>
                          </p:grpSpPr>
                          <p:sp>
                            <p:nvSpPr>
                              <p:cNvPr id="400" name=""/>
                              <p:cNvSpPr/>
                              <p:nvPr/>
                            </p:nvSpPr>
                            <p:spPr>
                              <a:xfrm>
                                <a:off x="605664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1" name=""/>
                              <p:cNvSpPr/>
                              <p:nvPr/>
                            </p:nvSpPr>
                            <p:spPr>
                              <a:xfrm>
                                <a:off x="606204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6067800" y="2053440"/>
                      <a:ext cx="166320" cy="17640"/>
                      <a:chOff x="6067800" y="2053440"/>
                      <a:chExt cx="166320" cy="17640"/>
                    </a:xfrm>
                  </p:grpSpPr>
                  <p:grpSp>
                    <p:nvGrpSpPr>
                      <p:cNvPr id="403" name=""/>
                      <p:cNvGrpSpPr/>
                      <p:nvPr/>
                    </p:nvGrpSpPr>
                    <p:grpSpPr>
                      <a:xfrm>
                        <a:off x="6067800" y="2053440"/>
                        <a:ext cx="85680" cy="17640"/>
                        <a:chOff x="6067800" y="2053440"/>
                        <a:chExt cx="85680" cy="17640"/>
                      </a:xfrm>
                    </p:grpSpPr>
                    <p:grpSp>
                      <p:nvGrpSpPr>
                        <p:cNvPr id="404" name=""/>
                        <p:cNvGrpSpPr/>
                        <p:nvPr/>
                      </p:nvGrpSpPr>
                      <p:grpSpPr>
                        <a:xfrm>
                          <a:off x="6067800" y="2053440"/>
                          <a:ext cx="36000" cy="17640"/>
                          <a:chOff x="6067800" y="2053440"/>
                          <a:chExt cx="36000" cy="17640"/>
                        </a:xfrm>
                      </p:grpSpPr>
                      <p:grpSp>
                        <p:nvGrpSpPr>
                          <p:cNvPr id="405" name=""/>
                          <p:cNvGrpSpPr/>
                          <p:nvPr/>
                        </p:nvGrpSpPr>
                        <p:grpSpPr>
                          <a:xfrm>
                            <a:off x="6067800" y="2053440"/>
                            <a:ext cx="15480" cy="17640"/>
                            <a:chOff x="6067800" y="2053440"/>
                            <a:chExt cx="15480" cy="17640"/>
                          </a:xfrm>
                        </p:grpSpPr>
                        <p:grpSp>
                          <p:nvGrpSpPr>
                            <p:cNvPr id="406" name=""/>
                            <p:cNvGrpSpPr/>
                            <p:nvPr/>
                          </p:nvGrpSpPr>
                          <p:grpSpPr>
                            <a:xfrm>
                              <a:off x="6067800" y="2053440"/>
                              <a:ext cx="5040" cy="17640"/>
                              <a:chOff x="6067800" y="2053440"/>
                              <a:chExt cx="5040" cy="17640"/>
                            </a:xfrm>
                          </p:grpSpPr>
                          <p:sp>
                            <p:nvSpPr>
                              <p:cNvPr id="407" name=""/>
                              <p:cNvSpPr/>
                              <p:nvPr/>
                            </p:nvSpPr>
                            <p:spPr>
                              <a:xfrm>
                                <a:off x="60678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"/>
                              <p:cNvSpPr/>
                              <p:nvPr/>
                            </p:nvSpPr>
                            <p:spPr>
                              <a:xfrm>
                                <a:off x="60724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09" name=""/>
                            <p:cNvGrpSpPr/>
                            <p:nvPr/>
                          </p:nvGrpSpPr>
                          <p:grpSpPr>
                            <a:xfrm>
                              <a:off x="6078240" y="2053440"/>
                              <a:ext cx="5040" cy="17640"/>
                              <a:chOff x="6078240" y="2053440"/>
                              <a:chExt cx="5040" cy="17640"/>
                            </a:xfrm>
                          </p:grpSpPr>
                          <p:sp>
                            <p:nvSpPr>
                              <p:cNvPr id="410" name=""/>
                              <p:cNvSpPr/>
                              <p:nvPr/>
                            </p:nvSpPr>
                            <p:spPr>
                              <a:xfrm>
                                <a:off x="607824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1" name=""/>
                              <p:cNvSpPr/>
                              <p:nvPr/>
                            </p:nvSpPr>
                            <p:spPr>
                              <a:xfrm>
                                <a:off x="608292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12" name=""/>
                          <p:cNvGrpSpPr/>
                          <p:nvPr/>
                        </p:nvGrpSpPr>
                        <p:grpSpPr>
                          <a:xfrm>
                            <a:off x="6087600" y="2053440"/>
                            <a:ext cx="16200" cy="17640"/>
                            <a:chOff x="6087600" y="2053440"/>
                            <a:chExt cx="16200" cy="17640"/>
                          </a:xfrm>
                        </p:grpSpPr>
                        <p:grpSp>
                          <p:nvGrpSpPr>
                            <p:cNvPr id="413" name=""/>
                            <p:cNvGrpSpPr/>
                            <p:nvPr/>
                          </p:nvGrpSpPr>
                          <p:grpSpPr>
                            <a:xfrm>
                              <a:off x="6087600" y="2053440"/>
                              <a:ext cx="16200" cy="17640"/>
                              <a:chOff x="6087600" y="2053440"/>
                              <a:chExt cx="16200" cy="17640"/>
                            </a:xfrm>
                          </p:grpSpPr>
                          <p:sp>
                            <p:nvSpPr>
                              <p:cNvPr id="414" name=""/>
                              <p:cNvSpPr/>
                              <p:nvPr/>
                            </p:nvSpPr>
                            <p:spPr>
                              <a:xfrm>
                                <a:off x="6087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5" name=""/>
                              <p:cNvSpPr/>
                              <p:nvPr/>
                            </p:nvSpPr>
                            <p:spPr>
                              <a:xfrm>
                                <a:off x="609228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16" name=""/>
                            <p:cNvGrpSpPr/>
                            <p:nvPr/>
                          </p:nvGrpSpPr>
                          <p:grpSpPr>
                            <a:xfrm>
                              <a:off x="6097680" y="2053440"/>
                              <a:ext cx="5040" cy="17640"/>
                              <a:chOff x="6097680" y="2053440"/>
                              <a:chExt cx="5040" cy="17640"/>
                            </a:xfrm>
                          </p:grpSpPr>
                          <p:sp>
                            <p:nvSpPr>
                              <p:cNvPr id="417" name=""/>
                              <p:cNvSpPr/>
                              <p:nvPr/>
                            </p:nvSpPr>
                            <p:spPr>
                              <a:xfrm>
                                <a:off x="60976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8" name=""/>
                              <p:cNvSpPr/>
                              <p:nvPr/>
                            </p:nvSpPr>
                            <p:spPr>
                              <a:xfrm>
                                <a:off x="61023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19" name=""/>
                        <p:cNvGrpSpPr/>
                        <p:nvPr/>
                      </p:nvGrpSpPr>
                      <p:grpSpPr>
                        <a:xfrm>
                          <a:off x="6107400" y="2053440"/>
                          <a:ext cx="46080" cy="17640"/>
                          <a:chOff x="6107400" y="2053440"/>
                          <a:chExt cx="46080" cy="17640"/>
                        </a:xfrm>
                      </p:grpSpPr>
                      <p:grpSp>
                        <p:nvGrpSpPr>
                          <p:cNvPr id="420" name=""/>
                          <p:cNvGrpSpPr/>
                          <p:nvPr/>
                        </p:nvGrpSpPr>
                        <p:grpSpPr>
                          <a:xfrm>
                            <a:off x="6107400" y="2053440"/>
                            <a:ext cx="16200" cy="17640"/>
                            <a:chOff x="6107400" y="2053440"/>
                            <a:chExt cx="16200" cy="17640"/>
                          </a:xfrm>
                        </p:grpSpPr>
                        <p:grpSp>
                          <p:nvGrpSpPr>
                            <p:cNvPr id="421" name=""/>
                            <p:cNvGrpSpPr/>
                            <p:nvPr/>
                          </p:nvGrpSpPr>
                          <p:grpSpPr>
                            <a:xfrm>
                              <a:off x="6107400" y="2053440"/>
                              <a:ext cx="16200" cy="17640"/>
                              <a:chOff x="6107400" y="2053440"/>
                              <a:chExt cx="16200" cy="17640"/>
                            </a:xfrm>
                          </p:grpSpPr>
                          <p:sp>
                            <p:nvSpPr>
                              <p:cNvPr id="422" name=""/>
                              <p:cNvSpPr/>
                              <p:nvPr/>
                            </p:nvSpPr>
                            <p:spPr>
                              <a:xfrm>
                                <a:off x="61074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3" name=""/>
                              <p:cNvSpPr/>
                              <p:nvPr/>
                            </p:nvSpPr>
                            <p:spPr>
                              <a:xfrm>
                                <a:off x="611208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6117840" y="2053440"/>
                              <a:ext cx="5400" cy="17640"/>
                              <a:chOff x="6117840" y="2053440"/>
                              <a:chExt cx="5400" cy="17640"/>
                            </a:xfrm>
                          </p:grpSpPr>
                          <p:sp>
                            <p:nvSpPr>
                              <p:cNvPr id="425" name=""/>
                              <p:cNvSpPr/>
                              <p:nvPr/>
                            </p:nvSpPr>
                            <p:spPr>
                              <a:xfrm>
                                <a:off x="611784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6" name=""/>
                              <p:cNvSpPr/>
                              <p:nvPr/>
                            </p:nvSpPr>
                            <p:spPr>
                              <a:xfrm>
                                <a:off x="61225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7" name=""/>
                          <p:cNvGrpSpPr/>
                          <p:nvPr/>
                        </p:nvGrpSpPr>
                        <p:grpSpPr>
                          <a:xfrm>
                            <a:off x="6127200" y="2053440"/>
                            <a:ext cx="26280" cy="17640"/>
                            <a:chOff x="6127200" y="2053440"/>
                            <a:chExt cx="26280" cy="17640"/>
                          </a:xfrm>
                        </p:grpSpPr>
                        <p:grpSp>
                          <p:nvGrpSpPr>
                            <p:cNvPr id="428" name=""/>
                            <p:cNvGrpSpPr/>
                            <p:nvPr/>
                          </p:nvGrpSpPr>
                          <p:grpSpPr>
                            <a:xfrm>
                              <a:off x="6127200" y="2053440"/>
                              <a:ext cx="11520" cy="17640"/>
                              <a:chOff x="6127200" y="2053440"/>
                              <a:chExt cx="11520" cy="17640"/>
                            </a:xfrm>
                          </p:grpSpPr>
                          <p:sp>
                            <p:nvSpPr>
                              <p:cNvPr id="429" name=""/>
                              <p:cNvSpPr/>
                              <p:nvPr/>
                            </p:nvSpPr>
                            <p:spPr>
                              <a:xfrm>
                                <a:off x="61272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0" name=""/>
                              <p:cNvSpPr/>
                              <p:nvPr/>
                            </p:nvSpPr>
                            <p:spPr>
                              <a:xfrm>
                                <a:off x="6132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31" name=""/>
                            <p:cNvGrpSpPr/>
                            <p:nvPr/>
                          </p:nvGrpSpPr>
                          <p:grpSpPr>
                            <a:xfrm>
                              <a:off x="6136560" y="2053440"/>
                              <a:ext cx="16920" cy="17640"/>
                              <a:chOff x="6136560" y="2053440"/>
                              <a:chExt cx="16920" cy="17640"/>
                            </a:xfrm>
                          </p:grpSpPr>
                          <p:sp>
                            <p:nvSpPr>
                              <p:cNvPr id="432" name=""/>
                              <p:cNvSpPr/>
                              <p:nvPr/>
                            </p:nvSpPr>
                            <p:spPr>
                              <a:xfrm>
                                <a:off x="61365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3" name=""/>
                              <p:cNvSpPr/>
                              <p:nvPr/>
                            </p:nvSpPr>
                            <p:spPr>
                              <a:xfrm>
                                <a:off x="61419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6147720" y="2053440"/>
                        <a:ext cx="86400" cy="17640"/>
                        <a:chOff x="6147720" y="2053440"/>
                        <a:chExt cx="86400" cy="17640"/>
                      </a:xfrm>
                    </p:grpSpPr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6147720" y="2053440"/>
                          <a:ext cx="41400" cy="17640"/>
                          <a:chOff x="6147720" y="2053440"/>
                          <a:chExt cx="41400" cy="17640"/>
                        </a:xfrm>
                      </p:grpSpPr>
                      <p:grpSp>
                        <p:nvGrpSpPr>
                          <p:cNvPr id="436" name=""/>
                          <p:cNvGrpSpPr/>
                          <p:nvPr/>
                        </p:nvGrpSpPr>
                        <p:grpSpPr>
                          <a:xfrm>
                            <a:off x="6147720" y="2053440"/>
                            <a:ext cx="21600" cy="17640"/>
                            <a:chOff x="6147720" y="2053440"/>
                            <a:chExt cx="21600" cy="17640"/>
                          </a:xfrm>
                        </p:grpSpPr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6147720" y="2053440"/>
                              <a:ext cx="16200" cy="17640"/>
                              <a:chOff x="6147720" y="2053440"/>
                              <a:chExt cx="16200" cy="17640"/>
                            </a:xfrm>
                          </p:grpSpPr>
                          <p:sp>
                            <p:nvSpPr>
                              <p:cNvPr id="438" name=""/>
                              <p:cNvSpPr/>
                              <p:nvPr/>
                            </p:nvSpPr>
                            <p:spPr>
                              <a:xfrm>
                                <a:off x="614772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9" name=""/>
                              <p:cNvSpPr/>
                              <p:nvPr/>
                            </p:nvSpPr>
                            <p:spPr>
                              <a:xfrm>
                                <a:off x="61524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0" name=""/>
                            <p:cNvGrpSpPr/>
                            <p:nvPr/>
                          </p:nvGrpSpPr>
                          <p:grpSpPr>
                            <a:xfrm>
                              <a:off x="6157800" y="2053440"/>
                              <a:ext cx="11520" cy="17640"/>
                              <a:chOff x="6157800" y="2053440"/>
                              <a:chExt cx="11520" cy="17640"/>
                            </a:xfrm>
                          </p:grpSpPr>
                          <p:sp>
                            <p:nvSpPr>
                              <p:cNvPr id="441" name=""/>
                              <p:cNvSpPr/>
                              <p:nvPr/>
                            </p:nvSpPr>
                            <p:spPr>
                              <a:xfrm>
                                <a:off x="61578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2" name=""/>
                              <p:cNvSpPr/>
                              <p:nvPr/>
                            </p:nvSpPr>
                            <p:spPr>
                              <a:xfrm>
                                <a:off x="61624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43" name=""/>
                          <p:cNvGrpSpPr/>
                          <p:nvPr/>
                        </p:nvGrpSpPr>
                        <p:grpSpPr>
                          <a:xfrm>
                            <a:off x="6167520" y="2053440"/>
                            <a:ext cx="21600" cy="17640"/>
                            <a:chOff x="6167520" y="2053440"/>
                            <a:chExt cx="21600" cy="17640"/>
                          </a:xfrm>
                        </p:grpSpPr>
                        <p:grpSp>
                          <p:nvGrpSpPr>
                            <p:cNvPr id="444" name=""/>
                            <p:cNvGrpSpPr/>
                            <p:nvPr/>
                          </p:nvGrpSpPr>
                          <p:grpSpPr>
                            <a:xfrm>
                              <a:off x="6167520" y="2053440"/>
                              <a:ext cx="16200" cy="17640"/>
                              <a:chOff x="6167520" y="2053440"/>
                              <a:chExt cx="16200" cy="17640"/>
                            </a:xfrm>
                          </p:grpSpPr>
                          <p:sp>
                            <p:nvSpPr>
                              <p:cNvPr id="445" name=""/>
                              <p:cNvSpPr/>
                              <p:nvPr/>
                            </p:nvSpPr>
                            <p:spPr>
                              <a:xfrm>
                                <a:off x="61675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>
                                <a:off x="61722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7" name=""/>
                            <p:cNvGrpSpPr/>
                            <p:nvPr/>
                          </p:nvGrpSpPr>
                          <p:grpSpPr>
                            <a:xfrm>
                              <a:off x="6177600" y="2053440"/>
                              <a:ext cx="11520" cy="17640"/>
                              <a:chOff x="6177600" y="2053440"/>
                              <a:chExt cx="11520" cy="17640"/>
                            </a:xfrm>
                          </p:grpSpPr>
                          <p:sp>
                            <p:nvSpPr>
                              <p:cNvPr id="448" name=""/>
                              <p:cNvSpPr/>
                              <p:nvPr/>
                            </p:nvSpPr>
                            <p:spPr>
                              <a:xfrm>
                                <a:off x="61776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>
                                <a:off x="61822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50" name=""/>
                        <p:cNvGrpSpPr/>
                        <p:nvPr/>
                      </p:nvGrpSpPr>
                      <p:grpSpPr>
                        <a:xfrm>
                          <a:off x="6188400" y="2053440"/>
                          <a:ext cx="45720" cy="17640"/>
                          <a:chOff x="6188400" y="2053440"/>
                          <a:chExt cx="45720" cy="17640"/>
                        </a:xfrm>
                      </p:grpSpPr>
                      <p:grpSp>
                        <p:nvGrpSpPr>
                          <p:cNvPr id="451" name=""/>
                          <p:cNvGrpSpPr/>
                          <p:nvPr/>
                        </p:nvGrpSpPr>
                        <p:grpSpPr>
                          <a:xfrm>
                            <a:off x="6188400" y="2053440"/>
                            <a:ext cx="14760" cy="17640"/>
                            <a:chOff x="6188400" y="2053440"/>
                            <a:chExt cx="14760" cy="17640"/>
                          </a:xfrm>
                        </p:grpSpPr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6188400" y="2053440"/>
                              <a:ext cx="4320" cy="17640"/>
                              <a:chOff x="6188400" y="2053440"/>
                              <a:chExt cx="4320" cy="17640"/>
                            </a:xfrm>
                          </p:grpSpPr>
                          <p:sp>
                            <p:nvSpPr>
                              <p:cNvPr id="453" name=""/>
                              <p:cNvSpPr/>
                              <p:nvPr/>
                            </p:nvSpPr>
                            <p:spPr>
                              <a:xfrm>
                                <a:off x="618840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4" name=""/>
                              <p:cNvSpPr/>
                              <p:nvPr/>
                            </p:nvSpPr>
                            <p:spPr>
                              <a:xfrm>
                                <a:off x="61923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55" name=""/>
                            <p:cNvGrpSpPr/>
                            <p:nvPr/>
                          </p:nvGrpSpPr>
                          <p:grpSpPr>
                            <a:xfrm>
                              <a:off x="6198120" y="2053440"/>
                              <a:ext cx="5040" cy="17640"/>
                              <a:chOff x="6198120" y="2053440"/>
                              <a:chExt cx="5040" cy="17640"/>
                            </a:xfrm>
                          </p:grpSpPr>
                          <p:sp>
                            <p:nvSpPr>
                              <p:cNvPr id="456" name=""/>
                              <p:cNvSpPr/>
                              <p:nvPr/>
                            </p:nvSpPr>
                            <p:spPr>
                              <a:xfrm>
                                <a:off x="61981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7" name=""/>
                              <p:cNvSpPr/>
                              <p:nvPr/>
                            </p:nvSpPr>
                            <p:spPr>
                              <a:xfrm>
                                <a:off x="62028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58" name=""/>
                          <p:cNvGrpSpPr/>
                          <p:nvPr/>
                        </p:nvGrpSpPr>
                        <p:grpSpPr>
                          <a:xfrm>
                            <a:off x="6207840" y="2053440"/>
                            <a:ext cx="26280" cy="17640"/>
                            <a:chOff x="6207840" y="2053440"/>
                            <a:chExt cx="26280" cy="17640"/>
                          </a:xfrm>
                        </p:grpSpPr>
                        <p:grpSp>
                          <p:nvGrpSpPr>
                            <p:cNvPr id="459" name=""/>
                            <p:cNvGrpSpPr/>
                            <p:nvPr/>
                          </p:nvGrpSpPr>
                          <p:grpSpPr>
                            <a:xfrm>
                              <a:off x="6207840" y="2053440"/>
                              <a:ext cx="11520" cy="17640"/>
                              <a:chOff x="6207840" y="2053440"/>
                              <a:chExt cx="11520" cy="17640"/>
                            </a:xfrm>
                          </p:grpSpPr>
                          <p:sp>
                            <p:nvSpPr>
                              <p:cNvPr id="460" name=""/>
                              <p:cNvSpPr/>
                              <p:nvPr/>
                            </p:nvSpPr>
                            <p:spPr>
                              <a:xfrm>
                                <a:off x="620784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1" name=""/>
                              <p:cNvSpPr/>
                              <p:nvPr/>
                            </p:nvSpPr>
                            <p:spPr>
                              <a:xfrm>
                                <a:off x="621324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2" name=""/>
                            <p:cNvGrpSpPr/>
                            <p:nvPr/>
                          </p:nvGrpSpPr>
                          <p:grpSpPr>
                            <a:xfrm>
                              <a:off x="6217920" y="2053440"/>
                              <a:ext cx="16200" cy="17640"/>
                              <a:chOff x="6217920" y="2053440"/>
                              <a:chExt cx="16200" cy="17640"/>
                            </a:xfrm>
                          </p:grpSpPr>
                          <p:sp>
                            <p:nvSpPr>
                              <p:cNvPr id="463" name=""/>
                              <p:cNvSpPr/>
                              <p:nvPr/>
                            </p:nvSpPr>
                            <p:spPr>
                              <a:xfrm>
                                <a:off x="621792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" name=""/>
                              <p:cNvSpPr/>
                              <p:nvPr/>
                            </p:nvSpPr>
                            <p:spPr>
                              <a:xfrm>
                                <a:off x="62226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904720" y="1993320"/>
                  <a:ext cx="315000" cy="41760"/>
                  <a:chOff x="5904720" y="1993320"/>
                  <a:chExt cx="315000" cy="417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5904720" y="19933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974200" y="19933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072480" y="19933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179760" y="19933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6184800" y="1998360"/>
                <a:ext cx="25200" cy="19440"/>
                <a:chOff x="6184800" y="1998360"/>
                <a:chExt cx="25200" cy="194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199200" y="19983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201000" y="20055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184800" y="2000880"/>
                  <a:ext cx="5400" cy="16920"/>
                  <a:chOff x="6184800" y="2000880"/>
                  <a:chExt cx="5400" cy="169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184800" y="20008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184800" y="20134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5978160" y="1999440"/>
                <a:ext cx="85680" cy="27720"/>
                <a:chOff x="5978160" y="1999440"/>
                <a:chExt cx="85680" cy="277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978880" y="1999440"/>
                  <a:ext cx="84960" cy="15480"/>
                  <a:chOff x="5978880" y="1999440"/>
                  <a:chExt cx="84960" cy="154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6007320" y="19994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007320" y="20070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978880" y="20059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5978160" y="20008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51600" y="20228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08320" y="2026080"/>
                <a:ext cx="67320" cy="9360"/>
                <a:chOff x="5908320" y="2026080"/>
                <a:chExt cx="67320" cy="936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5908320" y="2026080"/>
                  <a:ext cx="37080" cy="9360"/>
                  <a:chOff x="5908320" y="2026080"/>
                  <a:chExt cx="37080" cy="9360"/>
                </a:xfrm>
              </p:grpSpPr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5908320" y="2026080"/>
                    <a:ext cx="23040" cy="9360"/>
                    <a:chOff x="5908320" y="2026080"/>
                    <a:chExt cx="23040" cy="9360"/>
                  </a:xfrm>
                </p:grpSpPr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5908320" y="2026080"/>
                      <a:ext cx="14760" cy="9360"/>
                      <a:chOff x="5908320" y="2026080"/>
                      <a:chExt cx="14760" cy="9360"/>
                    </a:xfrm>
                  </p:grpSpPr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59083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591156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5915160" y="2026080"/>
                      <a:ext cx="16200" cy="9360"/>
                      <a:chOff x="5915160" y="2026080"/>
                      <a:chExt cx="16200" cy="936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591516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591948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922720" y="2026080"/>
                    <a:ext cx="22680" cy="9360"/>
                    <a:chOff x="5922720" y="2026080"/>
                    <a:chExt cx="22680" cy="9360"/>
                  </a:xfrm>
                </p:grpSpPr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5922720" y="2026080"/>
                      <a:ext cx="14760" cy="9360"/>
                      <a:chOff x="5922720" y="2026080"/>
                      <a:chExt cx="14760" cy="9360"/>
                    </a:xfrm>
                  </p:grpSpPr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59227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592596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5929920" y="2026080"/>
                      <a:ext cx="15480" cy="9360"/>
                      <a:chOff x="5929920" y="2026080"/>
                      <a:chExt cx="15480" cy="9360"/>
                    </a:xfrm>
                  </p:grpSpPr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59299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593388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937840" y="2026080"/>
                  <a:ext cx="37800" cy="9360"/>
                  <a:chOff x="5937840" y="2026080"/>
                  <a:chExt cx="37800" cy="9360"/>
                </a:xfrm>
              </p:grpSpPr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937840" y="2026080"/>
                    <a:ext cx="23040" cy="9360"/>
                    <a:chOff x="5937840" y="2026080"/>
                    <a:chExt cx="23040" cy="9360"/>
                  </a:xfrm>
                </p:grpSpPr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5937840" y="2026080"/>
                      <a:ext cx="15840" cy="9360"/>
                      <a:chOff x="5937840" y="2026080"/>
                      <a:chExt cx="15840" cy="936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593784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594180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5946120" y="2026080"/>
                      <a:ext cx="14760" cy="9360"/>
                      <a:chOff x="5946120" y="2026080"/>
                      <a:chExt cx="14760" cy="936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59461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594936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952960" y="2026080"/>
                    <a:ext cx="22680" cy="9360"/>
                    <a:chOff x="5952960" y="2026080"/>
                    <a:chExt cx="22680" cy="9360"/>
                  </a:xfrm>
                </p:grpSpPr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5952960" y="2026080"/>
                      <a:ext cx="15840" cy="9360"/>
                      <a:chOff x="5952960" y="2026080"/>
                      <a:chExt cx="15840" cy="936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595296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595692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5961240" y="2026080"/>
                      <a:ext cx="14400" cy="9360"/>
                      <a:chOff x="5961240" y="2026080"/>
                      <a:chExt cx="14400" cy="936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596124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596376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14" name=""/>
              <p:cNvSpPr/>
              <p:nvPr/>
            </p:nvSpPr>
            <p:spPr>
              <a:xfrm>
                <a:off x="5902920" y="20178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5791320" y="2070720"/>
              <a:ext cx="533160" cy="62640"/>
              <a:chOff x="5791320" y="2070720"/>
              <a:chExt cx="533160" cy="626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5791320" y="2070720"/>
                <a:ext cx="533160" cy="62640"/>
                <a:chOff x="5791320" y="2070720"/>
                <a:chExt cx="533160" cy="626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5793840" y="21258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791320" y="20707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807160" y="20764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850000" y="2075400"/>
                <a:ext cx="419760" cy="14400"/>
                <a:chOff x="5850000" y="2075400"/>
                <a:chExt cx="419760" cy="144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850000" y="20754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889960" y="20754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975640" y="20754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051600" y="20754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129720" y="20754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199560" y="20804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836680" y="2089440"/>
                <a:ext cx="435240" cy="21960"/>
                <a:chOff x="5836680" y="2089440"/>
                <a:chExt cx="435240" cy="2196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5874480" y="2090160"/>
                  <a:ext cx="212760" cy="19080"/>
                  <a:chOff x="5874480" y="2090160"/>
                  <a:chExt cx="212760" cy="190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5874480" y="20901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5882760" y="20962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5885280" y="21024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889600" y="21092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5836680" y="2093040"/>
                  <a:ext cx="30960" cy="12240"/>
                  <a:chOff x="5836680" y="2093040"/>
                  <a:chExt cx="30960" cy="1224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845680" y="20930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842080" y="20995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5836680" y="21052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5920920" y="2089440"/>
                  <a:ext cx="194760" cy="20880"/>
                  <a:chOff x="5920920" y="2089440"/>
                  <a:chExt cx="194760" cy="208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5920920" y="21096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090840" y="20894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098400" y="20966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82560" y="21034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050520" y="21096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076440" y="21103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6130800" y="2093040"/>
                  <a:ext cx="56160" cy="17280"/>
                  <a:chOff x="6130800" y="2093040"/>
                  <a:chExt cx="56160" cy="172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6130800" y="20930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39080" y="21009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39440" y="21103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204240" y="2093040"/>
                  <a:ext cx="67680" cy="18360"/>
                  <a:chOff x="6204240" y="2093040"/>
                  <a:chExt cx="67680" cy="183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208920" y="20930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04240" y="20995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8920" y="21052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07480" y="21114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258600" y="21002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263640" y="21081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5" name=""/>
            <p:cNvGrpSpPr/>
            <p:nvPr/>
          </p:nvGrpSpPr>
          <p:grpSpPr>
            <a:xfrm>
              <a:off x="5947920" y="1934280"/>
              <a:ext cx="231840" cy="38160"/>
              <a:chOff x="5947920" y="1934280"/>
              <a:chExt cx="231840" cy="381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947920" y="1946880"/>
                <a:ext cx="231840" cy="25560"/>
                <a:chOff x="5947920" y="1946880"/>
                <a:chExt cx="231840" cy="255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947920" y="194688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950080" y="196416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6000840" y="19342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5921640" y="17524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53680" y="17730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3040" y="177840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952880" y="1752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791320" y="2362320"/>
            <a:ext cx="533160" cy="380520"/>
            <a:chOff x="5791320" y="2362320"/>
            <a:chExt cx="533160" cy="380520"/>
          </a:xfrm>
        </p:grpSpPr>
        <p:grpSp>
          <p:nvGrpSpPr>
            <p:cNvPr id="565" name=""/>
            <p:cNvGrpSpPr/>
            <p:nvPr/>
          </p:nvGrpSpPr>
          <p:grpSpPr>
            <a:xfrm>
              <a:off x="5893920" y="2565360"/>
              <a:ext cx="340200" cy="118080"/>
              <a:chOff x="5893920" y="2565360"/>
              <a:chExt cx="340200" cy="1180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5893920" y="2565360"/>
                <a:ext cx="340200" cy="118080"/>
                <a:chOff x="5893920" y="2565360"/>
                <a:chExt cx="340200" cy="11808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5893920" y="2565360"/>
                  <a:ext cx="340200" cy="118080"/>
                  <a:chOff x="5893920" y="2565360"/>
                  <a:chExt cx="340200" cy="118080"/>
                </a:xfrm>
              </p:grpSpPr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893920" y="2565360"/>
                    <a:ext cx="339120" cy="118080"/>
                    <a:chOff x="5893920" y="2565360"/>
                    <a:chExt cx="339120" cy="11808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5893920" y="2565360"/>
                      <a:ext cx="339120" cy="118080"/>
                      <a:chOff x="5893920" y="2565360"/>
                      <a:chExt cx="339120" cy="118080"/>
                    </a:xfrm>
                  </p:grpSpPr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5895000" y="25959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>
                        <a:off x="5893920" y="25653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902920" y="25891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907600" y="2663280"/>
                    <a:ext cx="326520" cy="17640"/>
                    <a:chOff x="5907600" y="2663280"/>
                    <a:chExt cx="326520" cy="17640"/>
                  </a:xfrm>
                </p:grpSpPr>
                <p:grpSp>
                  <p:nvGrpSpPr>
                    <p:cNvPr id="574" name=""/>
                    <p:cNvGrpSpPr/>
                    <p:nvPr/>
                  </p:nvGrpSpPr>
                  <p:grpSpPr>
                    <a:xfrm>
                      <a:off x="5907600" y="2663280"/>
                      <a:ext cx="160560" cy="17640"/>
                      <a:chOff x="5907600" y="2663280"/>
                      <a:chExt cx="160560" cy="17640"/>
                    </a:xfrm>
                  </p:grpSpPr>
                  <p:grpSp>
                    <p:nvGrpSpPr>
                      <p:cNvPr id="575" name=""/>
                      <p:cNvGrpSpPr/>
                      <p:nvPr/>
                    </p:nvGrpSpPr>
                    <p:grpSpPr>
                      <a:xfrm>
                        <a:off x="5907600" y="2663280"/>
                        <a:ext cx="76320" cy="17640"/>
                        <a:chOff x="5907600" y="2663280"/>
                        <a:chExt cx="76320" cy="17640"/>
                      </a:xfrm>
                    </p:grpSpPr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5907600" y="2663280"/>
                          <a:ext cx="35640" cy="17640"/>
                          <a:chOff x="5907600" y="2663280"/>
                          <a:chExt cx="35640" cy="17640"/>
                        </a:xfrm>
                      </p:grpSpPr>
                      <p:grpSp>
                        <p:nvGrpSpPr>
                          <p:cNvPr id="577" name=""/>
                          <p:cNvGrpSpPr/>
                          <p:nvPr/>
                        </p:nvGrpSpPr>
                        <p:grpSpPr>
                          <a:xfrm>
                            <a:off x="5907600" y="2663280"/>
                            <a:ext cx="20880" cy="17640"/>
                            <a:chOff x="5907600" y="2663280"/>
                            <a:chExt cx="20880" cy="17640"/>
                          </a:xfrm>
                        </p:grpSpPr>
                        <p:grpSp>
                          <p:nvGrpSpPr>
                            <p:cNvPr id="578" name=""/>
                            <p:cNvGrpSpPr/>
                            <p:nvPr/>
                          </p:nvGrpSpPr>
                          <p:grpSpPr>
                            <a:xfrm>
                              <a:off x="5907600" y="2663280"/>
                              <a:ext cx="5040" cy="17640"/>
                              <a:chOff x="5907600" y="2663280"/>
                              <a:chExt cx="5040" cy="17640"/>
                            </a:xfrm>
                          </p:grpSpPr>
                          <p:sp>
                            <p:nvSpPr>
                              <p:cNvPr id="579" name=""/>
                              <p:cNvSpPr/>
                              <p:nvPr/>
                            </p:nvSpPr>
                            <p:spPr>
                              <a:xfrm>
                                <a:off x="5907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0" name=""/>
                              <p:cNvSpPr/>
                              <p:nvPr/>
                            </p:nvSpPr>
                            <p:spPr>
                              <a:xfrm>
                                <a:off x="59122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1" name=""/>
                            <p:cNvGrpSpPr/>
                            <p:nvPr/>
                          </p:nvGrpSpPr>
                          <p:grpSpPr>
                            <a:xfrm>
                              <a:off x="5916960" y="2663280"/>
                              <a:ext cx="11520" cy="17640"/>
                              <a:chOff x="5916960" y="2663280"/>
                              <a:chExt cx="11520" cy="17640"/>
                            </a:xfrm>
                          </p:grpSpPr>
                          <p:sp>
                            <p:nvSpPr>
                              <p:cNvPr id="582" name=""/>
                              <p:cNvSpPr/>
                              <p:nvPr/>
                            </p:nvSpPr>
                            <p:spPr>
                              <a:xfrm>
                                <a:off x="59169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3" name=""/>
                              <p:cNvSpPr/>
                              <p:nvPr/>
                            </p:nvSpPr>
                            <p:spPr>
                              <a:xfrm>
                                <a:off x="59223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84" name=""/>
                          <p:cNvGrpSpPr/>
                          <p:nvPr/>
                        </p:nvGrpSpPr>
                        <p:grpSpPr>
                          <a:xfrm>
                            <a:off x="5927760" y="2663280"/>
                            <a:ext cx="15480" cy="17640"/>
                            <a:chOff x="5927760" y="2663280"/>
                            <a:chExt cx="15480" cy="17640"/>
                          </a:xfrm>
                        </p:grpSpPr>
                        <p:grpSp>
                          <p:nvGrpSpPr>
                            <p:cNvPr id="585" name=""/>
                            <p:cNvGrpSpPr/>
                            <p:nvPr/>
                          </p:nvGrpSpPr>
                          <p:grpSpPr>
                            <a:xfrm>
                              <a:off x="5927760" y="2663280"/>
                              <a:ext cx="11520" cy="17640"/>
                              <a:chOff x="5927760" y="2663280"/>
                              <a:chExt cx="11520" cy="17640"/>
                            </a:xfrm>
                          </p:grpSpPr>
                          <p:sp>
                            <p:nvSpPr>
                              <p:cNvPr id="586" name=""/>
                              <p:cNvSpPr/>
                              <p:nvPr/>
                            </p:nvSpPr>
                            <p:spPr>
                              <a:xfrm>
                                <a:off x="59277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7" name=""/>
                              <p:cNvSpPr/>
                              <p:nvPr/>
                            </p:nvSpPr>
                            <p:spPr>
                              <a:xfrm>
                                <a:off x="593244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8" name=""/>
                            <p:cNvGrpSpPr/>
                            <p:nvPr/>
                          </p:nvGrpSpPr>
                          <p:grpSpPr>
                            <a:xfrm>
                              <a:off x="5938200" y="2663280"/>
                              <a:ext cx="5040" cy="17640"/>
                              <a:chOff x="5938200" y="2663280"/>
                              <a:chExt cx="5040" cy="17640"/>
                            </a:xfrm>
                          </p:grpSpPr>
                          <p:sp>
                            <p:nvSpPr>
                              <p:cNvPr id="589" name=""/>
                              <p:cNvSpPr/>
                              <p:nvPr/>
                            </p:nvSpPr>
                            <p:spPr>
                              <a:xfrm>
                                <a:off x="59382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0" name=""/>
                              <p:cNvSpPr/>
                              <p:nvPr/>
                            </p:nvSpPr>
                            <p:spPr>
                              <a:xfrm>
                                <a:off x="59428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91" name=""/>
                        <p:cNvGrpSpPr/>
                        <p:nvPr/>
                      </p:nvGrpSpPr>
                      <p:grpSpPr>
                        <a:xfrm>
                          <a:off x="5947560" y="2663280"/>
                          <a:ext cx="36360" cy="17640"/>
                          <a:chOff x="5947560" y="2663280"/>
                          <a:chExt cx="36360" cy="17640"/>
                        </a:xfrm>
                      </p:grpSpPr>
                      <p:grpSp>
                        <p:nvGrpSpPr>
                          <p:cNvPr id="592" name=""/>
                          <p:cNvGrpSpPr/>
                          <p:nvPr/>
                        </p:nvGrpSpPr>
                        <p:grpSpPr>
                          <a:xfrm>
                            <a:off x="5947560" y="2663280"/>
                            <a:ext cx="21600" cy="17640"/>
                            <a:chOff x="5947560" y="2663280"/>
                            <a:chExt cx="21600" cy="17640"/>
                          </a:xfrm>
                        </p:grpSpPr>
                        <p:grpSp>
                          <p:nvGrpSpPr>
                            <p:cNvPr id="593" name=""/>
                            <p:cNvGrpSpPr/>
                            <p:nvPr/>
                          </p:nvGrpSpPr>
                          <p:grpSpPr>
                            <a:xfrm>
                              <a:off x="5947560" y="2663280"/>
                              <a:ext cx="16200" cy="17640"/>
                              <a:chOff x="5947560" y="2663280"/>
                              <a:chExt cx="16200" cy="17640"/>
                            </a:xfrm>
                          </p:grpSpPr>
                          <p:sp>
                            <p:nvSpPr>
                              <p:cNvPr id="594" name=""/>
                              <p:cNvSpPr/>
                              <p:nvPr/>
                            </p:nvSpPr>
                            <p:spPr>
                              <a:xfrm>
                                <a:off x="59475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5" name=""/>
                              <p:cNvSpPr/>
                              <p:nvPr/>
                            </p:nvSpPr>
                            <p:spPr>
                              <a:xfrm>
                                <a:off x="595224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96" name=""/>
                            <p:cNvGrpSpPr/>
                            <p:nvPr/>
                          </p:nvGrpSpPr>
                          <p:grpSpPr>
                            <a:xfrm>
                              <a:off x="5957280" y="2663280"/>
                              <a:ext cx="11880" cy="17640"/>
                              <a:chOff x="5957280" y="2663280"/>
                              <a:chExt cx="11880" cy="17640"/>
                            </a:xfrm>
                          </p:grpSpPr>
                          <p:sp>
                            <p:nvSpPr>
                              <p:cNvPr id="597" name=""/>
                              <p:cNvSpPr/>
                              <p:nvPr/>
                            </p:nvSpPr>
                            <p:spPr>
                              <a:xfrm>
                                <a:off x="5957280" y="26632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8" name=""/>
                              <p:cNvSpPr/>
                              <p:nvPr/>
                            </p:nvSpPr>
                            <p:spPr>
                              <a:xfrm>
                                <a:off x="59626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99" name=""/>
                          <p:cNvGrpSpPr/>
                          <p:nvPr/>
                        </p:nvGrpSpPr>
                        <p:grpSpPr>
                          <a:xfrm>
                            <a:off x="5967720" y="2663280"/>
                            <a:ext cx="16200" cy="17640"/>
                            <a:chOff x="5967720" y="2663280"/>
                            <a:chExt cx="16200" cy="17640"/>
                          </a:xfrm>
                        </p:grpSpPr>
                        <p:grpSp>
                          <p:nvGrpSpPr>
                            <p:cNvPr id="600" name=""/>
                            <p:cNvGrpSpPr/>
                            <p:nvPr/>
                          </p:nvGrpSpPr>
                          <p:grpSpPr>
                            <a:xfrm>
                              <a:off x="5967720" y="2663280"/>
                              <a:ext cx="16200" cy="17640"/>
                              <a:chOff x="5967720" y="2663280"/>
                              <a:chExt cx="16200" cy="17640"/>
                            </a:xfrm>
                          </p:grpSpPr>
                          <p:sp>
                            <p:nvSpPr>
                              <p:cNvPr id="601" name=""/>
                              <p:cNvSpPr/>
                              <p:nvPr/>
                            </p:nvSpPr>
                            <p:spPr>
                              <a:xfrm>
                                <a:off x="59677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2" name=""/>
                              <p:cNvSpPr/>
                              <p:nvPr/>
                            </p:nvSpPr>
                            <p:spPr>
                              <a:xfrm>
                                <a:off x="59724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03" name=""/>
                            <p:cNvGrpSpPr/>
                            <p:nvPr/>
                          </p:nvGrpSpPr>
                          <p:grpSpPr>
                            <a:xfrm>
                              <a:off x="5977800" y="2663280"/>
                              <a:ext cx="5400" cy="17640"/>
                              <a:chOff x="5977800" y="2663280"/>
                              <a:chExt cx="5400" cy="17640"/>
                            </a:xfrm>
                          </p:grpSpPr>
                          <p:sp>
                            <p:nvSpPr>
                              <p:cNvPr id="604" name=""/>
                              <p:cNvSpPr/>
                              <p:nvPr/>
                            </p:nvSpPr>
                            <p:spPr>
                              <a:xfrm>
                                <a:off x="597780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5" name=""/>
                              <p:cNvSpPr/>
                              <p:nvPr/>
                            </p:nvSpPr>
                            <p:spPr>
                              <a:xfrm>
                                <a:off x="59824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5987520" y="2663280"/>
                        <a:ext cx="80640" cy="17640"/>
                        <a:chOff x="5987520" y="2663280"/>
                        <a:chExt cx="80640" cy="17640"/>
                      </a:xfrm>
                    </p:grpSpPr>
                    <p:grpSp>
                      <p:nvGrpSpPr>
                        <p:cNvPr id="607" name=""/>
                        <p:cNvGrpSpPr/>
                        <p:nvPr/>
                      </p:nvGrpSpPr>
                      <p:grpSpPr>
                        <a:xfrm>
                          <a:off x="5987520" y="2663280"/>
                          <a:ext cx="45720" cy="17640"/>
                          <a:chOff x="5987520" y="2663280"/>
                          <a:chExt cx="45720" cy="17640"/>
                        </a:xfrm>
                      </p:grpSpPr>
                      <p:grpSp>
                        <p:nvGrpSpPr>
                          <p:cNvPr id="608" name=""/>
                          <p:cNvGrpSpPr/>
                          <p:nvPr/>
                        </p:nvGrpSpPr>
                        <p:grpSpPr>
                          <a:xfrm>
                            <a:off x="5987520" y="2663280"/>
                            <a:ext cx="16200" cy="17640"/>
                            <a:chOff x="5987520" y="2663280"/>
                            <a:chExt cx="16200" cy="17640"/>
                          </a:xfrm>
                        </p:grpSpPr>
                        <p:grpSp>
                          <p:nvGrpSpPr>
                            <p:cNvPr id="609" name=""/>
                            <p:cNvGrpSpPr/>
                            <p:nvPr/>
                          </p:nvGrpSpPr>
                          <p:grpSpPr>
                            <a:xfrm>
                              <a:off x="5987520" y="2663280"/>
                              <a:ext cx="16200" cy="17640"/>
                              <a:chOff x="5987520" y="2663280"/>
                              <a:chExt cx="16200" cy="17640"/>
                            </a:xfrm>
                          </p:grpSpPr>
                          <p:sp>
                            <p:nvSpPr>
                              <p:cNvPr id="610" name=""/>
                              <p:cNvSpPr/>
                              <p:nvPr/>
                            </p:nvSpPr>
                            <p:spPr>
                              <a:xfrm>
                                <a:off x="59875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1" name=""/>
                              <p:cNvSpPr/>
                              <p:nvPr/>
                            </p:nvSpPr>
                            <p:spPr>
                              <a:xfrm>
                                <a:off x="59922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2" name=""/>
                            <p:cNvGrpSpPr/>
                            <p:nvPr/>
                          </p:nvGrpSpPr>
                          <p:grpSpPr>
                            <a:xfrm>
                              <a:off x="5997600" y="2663280"/>
                              <a:ext cx="4320" cy="17640"/>
                              <a:chOff x="5997600" y="2663280"/>
                              <a:chExt cx="4320" cy="17640"/>
                            </a:xfrm>
                          </p:grpSpPr>
                          <p:sp>
                            <p:nvSpPr>
                              <p:cNvPr id="613" name=""/>
                              <p:cNvSpPr/>
                              <p:nvPr/>
                            </p:nvSpPr>
                            <p:spPr>
                              <a:xfrm>
                                <a:off x="599760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4" name=""/>
                              <p:cNvSpPr/>
                              <p:nvPr/>
                            </p:nvSpPr>
                            <p:spPr>
                              <a:xfrm>
                                <a:off x="60015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15" name=""/>
                          <p:cNvGrpSpPr/>
                          <p:nvPr/>
                        </p:nvGrpSpPr>
                        <p:grpSpPr>
                          <a:xfrm>
                            <a:off x="6008040" y="2663280"/>
                            <a:ext cx="25200" cy="17640"/>
                            <a:chOff x="6008040" y="2663280"/>
                            <a:chExt cx="25200" cy="17640"/>
                          </a:xfrm>
                        </p:grpSpPr>
                        <p:grpSp>
                          <p:nvGrpSpPr>
                            <p:cNvPr id="616" name=""/>
                            <p:cNvGrpSpPr/>
                            <p:nvPr/>
                          </p:nvGrpSpPr>
                          <p:grpSpPr>
                            <a:xfrm>
                              <a:off x="6008040" y="2663280"/>
                              <a:ext cx="4320" cy="17640"/>
                              <a:chOff x="6008040" y="2663280"/>
                              <a:chExt cx="4320" cy="17640"/>
                            </a:xfrm>
                          </p:grpSpPr>
                          <p:sp>
                            <p:nvSpPr>
                              <p:cNvPr id="617" name=""/>
                              <p:cNvSpPr/>
                              <p:nvPr/>
                            </p:nvSpPr>
                            <p:spPr>
                              <a:xfrm>
                                <a:off x="600804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8" name=""/>
                              <p:cNvSpPr/>
                              <p:nvPr/>
                            </p:nvSpPr>
                            <p:spPr>
                              <a:xfrm>
                                <a:off x="60120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9" name=""/>
                            <p:cNvGrpSpPr/>
                            <p:nvPr/>
                          </p:nvGrpSpPr>
                          <p:grpSpPr>
                            <a:xfrm>
                              <a:off x="6017760" y="2663280"/>
                              <a:ext cx="15480" cy="17640"/>
                              <a:chOff x="6017760" y="2663280"/>
                              <a:chExt cx="15480" cy="17640"/>
                            </a:xfrm>
                          </p:grpSpPr>
                          <p:sp>
                            <p:nvSpPr>
                              <p:cNvPr id="620" name=""/>
                              <p:cNvSpPr/>
                              <p:nvPr/>
                            </p:nvSpPr>
                            <p:spPr>
                              <a:xfrm>
                                <a:off x="60177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1" name=""/>
                              <p:cNvSpPr/>
                              <p:nvPr/>
                            </p:nvSpPr>
                            <p:spPr>
                              <a:xfrm>
                                <a:off x="602172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22" name=""/>
                        <p:cNvGrpSpPr/>
                        <p:nvPr/>
                      </p:nvGrpSpPr>
                      <p:grpSpPr>
                        <a:xfrm>
                          <a:off x="6027480" y="2663280"/>
                          <a:ext cx="40680" cy="17640"/>
                          <a:chOff x="6027480" y="2663280"/>
                          <a:chExt cx="40680" cy="17640"/>
                        </a:xfrm>
                      </p:grpSpPr>
                      <p:grpSp>
                        <p:nvGrpSpPr>
                          <p:cNvPr id="623" name=""/>
                          <p:cNvGrpSpPr/>
                          <p:nvPr/>
                        </p:nvGrpSpPr>
                        <p:grpSpPr>
                          <a:xfrm>
                            <a:off x="6027480" y="2663280"/>
                            <a:ext cx="15480" cy="17640"/>
                            <a:chOff x="6027480" y="2663280"/>
                            <a:chExt cx="15480" cy="17640"/>
                          </a:xfrm>
                        </p:grpSpPr>
                        <p:grpSp>
                          <p:nvGrpSpPr>
                            <p:cNvPr id="624" name=""/>
                            <p:cNvGrpSpPr/>
                            <p:nvPr/>
                          </p:nvGrpSpPr>
                          <p:grpSpPr>
                            <a:xfrm>
                              <a:off x="6027480" y="2663280"/>
                              <a:ext cx="5040" cy="17640"/>
                              <a:chOff x="6027480" y="2663280"/>
                              <a:chExt cx="5040" cy="17640"/>
                            </a:xfrm>
                          </p:grpSpPr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>
                                <a:off x="60274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" name=""/>
                              <p:cNvSpPr/>
                              <p:nvPr/>
                            </p:nvSpPr>
                            <p:spPr>
                              <a:xfrm>
                                <a:off x="60321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7" name=""/>
                            <p:cNvGrpSpPr/>
                            <p:nvPr/>
                          </p:nvGrpSpPr>
                          <p:grpSpPr>
                            <a:xfrm>
                              <a:off x="6037920" y="2663280"/>
                              <a:ext cx="5040" cy="17640"/>
                              <a:chOff x="6037920" y="2663280"/>
                              <a:chExt cx="5040" cy="17640"/>
                            </a:xfrm>
                          </p:grpSpPr>
                          <p:sp>
                            <p:nvSpPr>
                              <p:cNvPr id="628" name=""/>
                              <p:cNvSpPr/>
                              <p:nvPr/>
                            </p:nvSpPr>
                            <p:spPr>
                              <a:xfrm>
                                <a:off x="603792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9" name=""/>
                              <p:cNvSpPr/>
                              <p:nvPr/>
                            </p:nvSpPr>
                            <p:spPr>
                              <a:xfrm>
                                <a:off x="6042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0" name=""/>
                          <p:cNvGrpSpPr/>
                          <p:nvPr/>
                        </p:nvGrpSpPr>
                        <p:grpSpPr>
                          <a:xfrm>
                            <a:off x="6047280" y="2663280"/>
                            <a:ext cx="20880" cy="17640"/>
                            <a:chOff x="6047280" y="2663280"/>
                            <a:chExt cx="20880" cy="17640"/>
                          </a:xfrm>
                        </p:grpSpPr>
                        <p:grpSp>
                          <p:nvGrpSpPr>
                            <p:cNvPr id="631" name=""/>
                            <p:cNvGrpSpPr/>
                            <p:nvPr/>
                          </p:nvGrpSpPr>
                          <p:grpSpPr>
                            <a:xfrm>
                              <a:off x="6047280" y="2663280"/>
                              <a:ext cx="16920" cy="17640"/>
                              <a:chOff x="6047280" y="2663280"/>
                              <a:chExt cx="16920" cy="17640"/>
                            </a:xfrm>
                          </p:grpSpPr>
                          <p:sp>
                            <p:nvSpPr>
                              <p:cNvPr id="632" name=""/>
                              <p:cNvSpPr/>
                              <p:nvPr/>
                            </p:nvSpPr>
                            <p:spPr>
                              <a:xfrm>
                                <a:off x="60472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3" name=""/>
                              <p:cNvSpPr/>
                              <p:nvPr/>
                            </p:nvSpPr>
                            <p:spPr>
                              <a:xfrm>
                                <a:off x="605268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4" name=""/>
                            <p:cNvGrpSpPr/>
                            <p:nvPr/>
                          </p:nvGrpSpPr>
                          <p:grpSpPr>
                            <a:xfrm>
                              <a:off x="6056640" y="2663280"/>
                              <a:ext cx="11520" cy="17640"/>
                              <a:chOff x="6056640" y="2663280"/>
                              <a:chExt cx="11520" cy="17640"/>
                            </a:xfrm>
                          </p:grpSpPr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605664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" name=""/>
                              <p:cNvSpPr/>
                              <p:nvPr/>
                            </p:nvSpPr>
                            <p:spPr>
                              <a:xfrm>
                                <a:off x="606204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37" name=""/>
                    <p:cNvGrpSpPr/>
                    <p:nvPr/>
                  </p:nvGrpSpPr>
                  <p:grpSpPr>
                    <a:xfrm>
                      <a:off x="6067800" y="2663280"/>
                      <a:ext cx="166320" cy="17640"/>
                      <a:chOff x="6067800" y="2663280"/>
                      <a:chExt cx="166320" cy="17640"/>
                    </a:xfrm>
                  </p:grpSpPr>
                  <p:grpSp>
                    <p:nvGrpSpPr>
                      <p:cNvPr id="638" name=""/>
                      <p:cNvGrpSpPr/>
                      <p:nvPr/>
                    </p:nvGrpSpPr>
                    <p:grpSpPr>
                      <a:xfrm>
                        <a:off x="6067800" y="2663280"/>
                        <a:ext cx="85680" cy="17640"/>
                        <a:chOff x="6067800" y="2663280"/>
                        <a:chExt cx="85680" cy="17640"/>
                      </a:xfrm>
                    </p:grpSpPr>
                    <p:grpSp>
                      <p:nvGrpSpPr>
                        <p:cNvPr id="639" name=""/>
                        <p:cNvGrpSpPr/>
                        <p:nvPr/>
                      </p:nvGrpSpPr>
                      <p:grpSpPr>
                        <a:xfrm>
                          <a:off x="6067800" y="2663280"/>
                          <a:ext cx="36000" cy="17640"/>
                          <a:chOff x="6067800" y="2663280"/>
                          <a:chExt cx="36000" cy="17640"/>
                        </a:xfrm>
                      </p:grpSpPr>
                      <p:grpSp>
                        <p:nvGrpSpPr>
                          <p:cNvPr id="640" name=""/>
                          <p:cNvGrpSpPr/>
                          <p:nvPr/>
                        </p:nvGrpSpPr>
                        <p:grpSpPr>
                          <a:xfrm>
                            <a:off x="6067800" y="2663280"/>
                            <a:ext cx="15480" cy="17640"/>
                            <a:chOff x="6067800" y="2663280"/>
                            <a:chExt cx="15480" cy="17640"/>
                          </a:xfrm>
                        </p:grpSpPr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6067800" y="2663280"/>
                              <a:ext cx="5040" cy="17640"/>
                              <a:chOff x="6067800" y="2663280"/>
                              <a:chExt cx="5040" cy="1764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60678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60724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4" name=""/>
                            <p:cNvGrpSpPr/>
                            <p:nvPr/>
                          </p:nvGrpSpPr>
                          <p:grpSpPr>
                            <a:xfrm>
                              <a:off x="6078240" y="2663280"/>
                              <a:ext cx="5040" cy="17640"/>
                              <a:chOff x="6078240" y="2663280"/>
                              <a:chExt cx="5040" cy="17640"/>
                            </a:xfrm>
                          </p:grpSpPr>
                          <p:sp>
                            <p:nvSpPr>
                              <p:cNvPr id="645" name=""/>
                              <p:cNvSpPr/>
                              <p:nvPr/>
                            </p:nvSpPr>
                            <p:spPr>
                              <a:xfrm>
                                <a:off x="607824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" name=""/>
                              <p:cNvSpPr/>
                              <p:nvPr/>
                            </p:nvSpPr>
                            <p:spPr>
                              <a:xfrm>
                                <a:off x="608292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7" name=""/>
                          <p:cNvGrpSpPr/>
                          <p:nvPr/>
                        </p:nvGrpSpPr>
                        <p:grpSpPr>
                          <a:xfrm>
                            <a:off x="6087600" y="2663280"/>
                            <a:ext cx="16200" cy="17640"/>
                            <a:chOff x="6087600" y="2663280"/>
                            <a:chExt cx="16200" cy="17640"/>
                          </a:xfrm>
                        </p:grpSpPr>
                        <p:grpSp>
                          <p:nvGrpSpPr>
                            <p:cNvPr id="648" name=""/>
                            <p:cNvGrpSpPr/>
                            <p:nvPr/>
                          </p:nvGrpSpPr>
                          <p:grpSpPr>
                            <a:xfrm>
                              <a:off x="6087600" y="2663280"/>
                              <a:ext cx="16200" cy="17640"/>
                              <a:chOff x="6087600" y="2663280"/>
                              <a:chExt cx="16200" cy="17640"/>
                            </a:xfrm>
                          </p:grpSpPr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6087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609228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1" name=""/>
                            <p:cNvGrpSpPr/>
                            <p:nvPr/>
                          </p:nvGrpSpPr>
                          <p:grpSpPr>
                            <a:xfrm>
                              <a:off x="6097680" y="2663280"/>
                              <a:ext cx="5040" cy="17640"/>
                              <a:chOff x="6097680" y="2663280"/>
                              <a:chExt cx="5040" cy="17640"/>
                            </a:xfrm>
                          </p:grpSpPr>
                          <p:sp>
                            <p:nvSpPr>
                              <p:cNvPr id="652" name=""/>
                              <p:cNvSpPr/>
                              <p:nvPr/>
                            </p:nvSpPr>
                            <p:spPr>
                              <a:xfrm>
                                <a:off x="60976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3" name=""/>
                              <p:cNvSpPr/>
                              <p:nvPr/>
                            </p:nvSpPr>
                            <p:spPr>
                              <a:xfrm>
                                <a:off x="61023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4" name=""/>
                        <p:cNvGrpSpPr/>
                        <p:nvPr/>
                      </p:nvGrpSpPr>
                      <p:grpSpPr>
                        <a:xfrm>
                          <a:off x="6107400" y="2663280"/>
                          <a:ext cx="46080" cy="17640"/>
                          <a:chOff x="6107400" y="2663280"/>
                          <a:chExt cx="46080" cy="17640"/>
                        </a:xfrm>
                      </p:grpSpPr>
                      <p:grpSp>
                        <p:nvGrpSpPr>
                          <p:cNvPr id="655" name=""/>
                          <p:cNvGrpSpPr/>
                          <p:nvPr/>
                        </p:nvGrpSpPr>
                        <p:grpSpPr>
                          <a:xfrm>
                            <a:off x="6107400" y="2663280"/>
                            <a:ext cx="16200" cy="17640"/>
                            <a:chOff x="6107400" y="2663280"/>
                            <a:chExt cx="16200" cy="17640"/>
                          </a:xfrm>
                        </p:grpSpPr>
                        <p:grpSp>
                          <p:nvGrpSpPr>
                            <p:cNvPr id="656" name=""/>
                            <p:cNvGrpSpPr/>
                            <p:nvPr/>
                          </p:nvGrpSpPr>
                          <p:grpSpPr>
                            <a:xfrm>
                              <a:off x="6107400" y="2663280"/>
                              <a:ext cx="16200" cy="17640"/>
                              <a:chOff x="6107400" y="2663280"/>
                              <a:chExt cx="16200" cy="17640"/>
                            </a:xfrm>
                          </p:grpSpPr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61074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611208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9" name=""/>
                            <p:cNvGrpSpPr/>
                            <p:nvPr/>
                          </p:nvGrpSpPr>
                          <p:grpSpPr>
                            <a:xfrm>
                              <a:off x="6117840" y="2663280"/>
                              <a:ext cx="5400" cy="17640"/>
                              <a:chOff x="6117840" y="2663280"/>
                              <a:chExt cx="5400" cy="17640"/>
                            </a:xfrm>
                          </p:grpSpPr>
                          <p:sp>
                            <p:nvSpPr>
                              <p:cNvPr id="660" name=""/>
                              <p:cNvSpPr/>
                              <p:nvPr/>
                            </p:nvSpPr>
                            <p:spPr>
                              <a:xfrm>
                                <a:off x="611784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" name=""/>
                              <p:cNvSpPr/>
                              <p:nvPr/>
                            </p:nvSpPr>
                            <p:spPr>
                              <a:xfrm>
                                <a:off x="61225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62" name=""/>
                          <p:cNvGrpSpPr/>
                          <p:nvPr/>
                        </p:nvGrpSpPr>
                        <p:grpSpPr>
                          <a:xfrm>
                            <a:off x="6127200" y="2663280"/>
                            <a:ext cx="26280" cy="17640"/>
                            <a:chOff x="6127200" y="2663280"/>
                            <a:chExt cx="26280" cy="17640"/>
                          </a:xfrm>
                        </p:grpSpPr>
                        <p:grpSp>
                          <p:nvGrpSpPr>
                            <p:cNvPr id="663" name=""/>
                            <p:cNvGrpSpPr/>
                            <p:nvPr/>
                          </p:nvGrpSpPr>
                          <p:grpSpPr>
                            <a:xfrm>
                              <a:off x="6127200" y="2663280"/>
                              <a:ext cx="11520" cy="17640"/>
                              <a:chOff x="6127200" y="2663280"/>
                              <a:chExt cx="11520" cy="17640"/>
                            </a:xfrm>
                          </p:grpSpPr>
                          <p:sp>
                            <p:nvSpPr>
                              <p:cNvPr id="664" name=""/>
                              <p:cNvSpPr/>
                              <p:nvPr/>
                            </p:nvSpPr>
                            <p:spPr>
                              <a:xfrm>
                                <a:off x="61272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6132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6" name=""/>
                            <p:cNvGrpSpPr/>
                            <p:nvPr/>
                          </p:nvGrpSpPr>
                          <p:grpSpPr>
                            <a:xfrm>
                              <a:off x="6136560" y="2663280"/>
                              <a:ext cx="16920" cy="17640"/>
                              <a:chOff x="6136560" y="2663280"/>
                              <a:chExt cx="16920" cy="17640"/>
                            </a:xfrm>
                          </p:grpSpPr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61365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"/>
                              <p:cNvSpPr/>
                              <p:nvPr/>
                            </p:nvSpPr>
                            <p:spPr>
                              <a:xfrm>
                                <a:off x="61419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69" name=""/>
                      <p:cNvGrpSpPr/>
                      <p:nvPr/>
                    </p:nvGrpSpPr>
                    <p:grpSpPr>
                      <a:xfrm>
                        <a:off x="6147720" y="2663280"/>
                        <a:ext cx="86400" cy="17640"/>
                        <a:chOff x="6147720" y="2663280"/>
                        <a:chExt cx="86400" cy="17640"/>
                      </a:xfrm>
                    </p:grpSpPr>
                    <p:grpSp>
                      <p:nvGrpSpPr>
                        <p:cNvPr id="670" name=""/>
                        <p:cNvGrpSpPr/>
                        <p:nvPr/>
                      </p:nvGrpSpPr>
                      <p:grpSpPr>
                        <a:xfrm>
                          <a:off x="6147720" y="2663280"/>
                          <a:ext cx="41400" cy="17640"/>
                          <a:chOff x="6147720" y="2663280"/>
                          <a:chExt cx="41400" cy="17640"/>
                        </a:xfrm>
                      </p:grpSpPr>
                      <p:grpSp>
                        <p:nvGrpSpPr>
                          <p:cNvPr id="671" name=""/>
                          <p:cNvGrpSpPr/>
                          <p:nvPr/>
                        </p:nvGrpSpPr>
                        <p:grpSpPr>
                          <a:xfrm>
                            <a:off x="6147720" y="2663280"/>
                            <a:ext cx="21600" cy="17640"/>
                            <a:chOff x="6147720" y="2663280"/>
                            <a:chExt cx="21600" cy="17640"/>
                          </a:xfrm>
                        </p:grpSpPr>
                        <p:grpSp>
                          <p:nvGrpSpPr>
                            <p:cNvPr id="672" name=""/>
                            <p:cNvGrpSpPr/>
                            <p:nvPr/>
                          </p:nvGrpSpPr>
                          <p:grpSpPr>
                            <a:xfrm>
                              <a:off x="6147720" y="2663280"/>
                              <a:ext cx="16200" cy="17640"/>
                              <a:chOff x="6147720" y="2663280"/>
                              <a:chExt cx="16200" cy="17640"/>
                            </a:xfrm>
                          </p:grpSpPr>
                          <p:sp>
                            <p:nvSpPr>
                              <p:cNvPr id="673" name=""/>
                              <p:cNvSpPr/>
                              <p:nvPr/>
                            </p:nvSpPr>
                            <p:spPr>
                              <a:xfrm>
                                <a:off x="614772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"/>
                              <p:cNvSpPr/>
                              <p:nvPr/>
                            </p:nvSpPr>
                            <p:spPr>
                              <a:xfrm>
                                <a:off x="61524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5" name=""/>
                            <p:cNvGrpSpPr/>
                            <p:nvPr/>
                          </p:nvGrpSpPr>
                          <p:grpSpPr>
                            <a:xfrm>
                              <a:off x="6157800" y="2663280"/>
                              <a:ext cx="11520" cy="17640"/>
                              <a:chOff x="6157800" y="2663280"/>
                              <a:chExt cx="11520" cy="17640"/>
                            </a:xfrm>
                          </p:grpSpPr>
                          <p:sp>
                            <p:nvSpPr>
                              <p:cNvPr id="676" name=""/>
                              <p:cNvSpPr/>
                              <p:nvPr/>
                            </p:nvSpPr>
                            <p:spPr>
                              <a:xfrm>
                                <a:off x="61578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7" name=""/>
                              <p:cNvSpPr/>
                              <p:nvPr/>
                            </p:nvSpPr>
                            <p:spPr>
                              <a:xfrm>
                                <a:off x="61624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8" name=""/>
                          <p:cNvGrpSpPr/>
                          <p:nvPr/>
                        </p:nvGrpSpPr>
                        <p:grpSpPr>
                          <a:xfrm>
                            <a:off x="6167520" y="2663280"/>
                            <a:ext cx="21600" cy="17640"/>
                            <a:chOff x="6167520" y="2663280"/>
                            <a:chExt cx="21600" cy="17640"/>
                          </a:xfrm>
                        </p:grpSpPr>
                        <p:grpSp>
                          <p:nvGrpSpPr>
                            <p:cNvPr id="679" name=""/>
                            <p:cNvGrpSpPr/>
                            <p:nvPr/>
                          </p:nvGrpSpPr>
                          <p:grpSpPr>
                            <a:xfrm>
                              <a:off x="6167520" y="2663280"/>
                              <a:ext cx="16200" cy="17640"/>
                              <a:chOff x="6167520" y="2663280"/>
                              <a:chExt cx="16200" cy="17640"/>
                            </a:xfrm>
                          </p:grpSpPr>
                          <p:sp>
                            <p:nvSpPr>
                              <p:cNvPr id="680" name=""/>
                              <p:cNvSpPr/>
                              <p:nvPr/>
                            </p:nvSpPr>
                            <p:spPr>
                              <a:xfrm>
                                <a:off x="61675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" name=""/>
                              <p:cNvSpPr/>
                              <p:nvPr/>
                            </p:nvSpPr>
                            <p:spPr>
                              <a:xfrm>
                                <a:off x="61722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2" name=""/>
                            <p:cNvGrpSpPr/>
                            <p:nvPr/>
                          </p:nvGrpSpPr>
                          <p:grpSpPr>
                            <a:xfrm>
                              <a:off x="6177600" y="2663280"/>
                              <a:ext cx="11520" cy="17640"/>
                              <a:chOff x="6177600" y="2663280"/>
                              <a:chExt cx="11520" cy="17640"/>
                            </a:xfrm>
                          </p:grpSpPr>
                          <p:sp>
                            <p:nvSpPr>
                              <p:cNvPr id="683" name=""/>
                              <p:cNvSpPr/>
                              <p:nvPr/>
                            </p:nvSpPr>
                            <p:spPr>
                              <a:xfrm>
                                <a:off x="61776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4" name=""/>
                              <p:cNvSpPr/>
                              <p:nvPr/>
                            </p:nvSpPr>
                            <p:spPr>
                              <a:xfrm>
                                <a:off x="61822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5" name=""/>
                        <p:cNvGrpSpPr/>
                        <p:nvPr/>
                      </p:nvGrpSpPr>
                      <p:grpSpPr>
                        <a:xfrm>
                          <a:off x="6188400" y="2663280"/>
                          <a:ext cx="45720" cy="17640"/>
                          <a:chOff x="6188400" y="2663280"/>
                          <a:chExt cx="45720" cy="17640"/>
                        </a:xfrm>
                      </p:grpSpPr>
                      <p:grpSp>
                        <p:nvGrpSpPr>
                          <p:cNvPr id="686" name=""/>
                          <p:cNvGrpSpPr/>
                          <p:nvPr/>
                        </p:nvGrpSpPr>
                        <p:grpSpPr>
                          <a:xfrm>
                            <a:off x="6188400" y="2663280"/>
                            <a:ext cx="14760" cy="17640"/>
                            <a:chOff x="6188400" y="2663280"/>
                            <a:chExt cx="14760" cy="17640"/>
                          </a:xfrm>
                        </p:grpSpPr>
                        <p:grpSp>
                          <p:nvGrpSpPr>
                            <p:cNvPr id="687" name=""/>
                            <p:cNvGrpSpPr/>
                            <p:nvPr/>
                          </p:nvGrpSpPr>
                          <p:grpSpPr>
                            <a:xfrm>
                              <a:off x="6188400" y="2663280"/>
                              <a:ext cx="4320" cy="17640"/>
                              <a:chOff x="6188400" y="2663280"/>
                              <a:chExt cx="4320" cy="17640"/>
                            </a:xfrm>
                          </p:grpSpPr>
                          <p:sp>
                            <p:nvSpPr>
                              <p:cNvPr id="688" name=""/>
                              <p:cNvSpPr/>
                              <p:nvPr/>
                            </p:nvSpPr>
                            <p:spPr>
                              <a:xfrm>
                                <a:off x="618840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"/>
                              <p:cNvSpPr/>
                              <p:nvPr/>
                            </p:nvSpPr>
                            <p:spPr>
                              <a:xfrm>
                                <a:off x="61923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0" name=""/>
                            <p:cNvGrpSpPr/>
                            <p:nvPr/>
                          </p:nvGrpSpPr>
                          <p:grpSpPr>
                            <a:xfrm>
                              <a:off x="6198120" y="2663280"/>
                              <a:ext cx="5040" cy="17640"/>
                              <a:chOff x="6198120" y="2663280"/>
                              <a:chExt cx="5040" cy="17640"/>
                            </a:xfrm>
                          </p:grpSpPr>
                          <p:sp>
                            <p:nvSpPr>
                              <p:cNvPr id="691" name=""/>
                              <p:cNvSpPr/>
                              <p:nvPr/>
                            </p:nvSpPr>
                            <p:spPr>
                              <a:xfrm>
                                <a:off x="61981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2" name=""/>
                              <p:cNvSpPr/>
                              <p:nvPr/>
                            </p:nvSpPr>
                            <p:spPr>
                              <a:xfrm>
                                <a:off x="62028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3" name=""/>
                          <p:cNvGrpSpPr/>
                          <p:nvPr/>
                        </p:nvGrpSpPr>
                        <p:grpSpPr>
                          <a:xfrm>
                            <a:off x="6207840" y="2663280"/>
                            <a:ext cx="26280" cy="17640"/>
                            <a:chOff x="6207840" y="2663280"/>
                            <a:chExt cx="26280" cy="17640"/>
                          </a:xfrm>
                        </p:grpSpPr>
                        <p:grpSp>
                          <p:nvGrpSpPr>
                            <p:cNvPr id="694" name=""/>
                            <p:cNvGrpSpPr/>
                            <p:nvPr/>
                          </p:nvGrpSpPr>
                          <p:grpSpPr>
                            <a:xfrm>
                              <a:off x="6207840" y="2663280"/>
                              <a:ext cx="11520" cy="17640"/>
                              <a:chOff x="6207840" y="2663280"/>
                              <a:chExt cx="11520" cy="17640"/>
                            </a:xfrm>
                          </p:grpSpPr>
                          <p:sp>
                            <p:nvSpPr>
                              <p:cNvPr id="695" name=""/>
                              <p:cNvSpPr/>
                              <p:nvPr/>
                            </p:nvSpPr>
                            <p:spPr>
                              <a:xfrm>
                                <a:off x="620784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6" name=""/>
                              <p:cNvSpPr/>
                              <p:nvPr/>
                            </p:nvSpPr>
                            <p:spPr>
                              <a:xfrm>
                                <a:off x="621324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7" name=""/>
                            <p:cNvGrpSpPr/>
                            <p:nvPr/>
                          </p:nvGrpSpPr>
                          <p:grpSpPr>
                            <a:xfrm>
                              <a:off x="6217920" y="2663280"/>
                              <a:ext cx="16200" cy="17640"/>
                              <a:chOff x="6217920" y="2663280"/>
                              <a:chExt cx="16200" cy="17640"/>
                            </a:xfrm>
                          </p:grpSpPr>
                          <p:sp>
                            <p:nvSpPr>
                              <p:cNvPr id="698" name=""/>
                              <p:cNvSpPr/>
                              <p:nvPr/>
                            </p:nvSpPr>
                            <p:spPr>
                              <a:xfrm>
                                <a:off x="621792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" name=""/>
                              <p:cNvSpPr/>
                              <p:nvPr/>
                            </p:nvSpPr>
                            <p:spPr>
                              <a:xfrm>
                                <a:off x="62226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5904720" y="2603160"/>
                  <a:ext cx="315000" cy="41760"/>
                  <a:chOff x="5904720" y="2603160"/>
                  <a:chExt cx="315000" cy="4176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5904720" y="26031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74200" y="26031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72480" y="26031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79760" y="26031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6184800" y="2608200"/>
                <a:ext cx="25200" cy="19440"/>
                <a:chOff x="6184800" y="2608200"/>
                <a:chExt cx="25200" cy="194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199200" y="26082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201000" y="26154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6184800" y="2610720"/>
                  <a:ext cx="5400" cy="16920"/>
                  <a:chOff x="6184800" y="2610720"/>
                  <a:chExt cx="5400" cy="169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6184800" y="26107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184800" y="26233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1" name=""/>
              <p:cNvGrpSpPr/>
              <p:nvPr/>
            </p:nvGrpSpPr>
            <p:grpSpPr>
              <a:xfrm>
                <a:off x="5978160" y="2609280"/>
                <a:ext cx="85680" cy="27720"/>
                <a:chOff x="5978160" y="2609280"/>
                <a:chExt cx="85680" cy="2772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5978880" y="2609280"/>
                  <a:ext cx="84960" cy="15480"/>
                  <a:chOff x="5978880" y="2609280"/>
                  <a:chExt cx="84960" cy="1548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6007320" y="26092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07320" y="26168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978880" y="26157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>
                  <a:off x="5978160" y="26107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51600" y="26326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5908320" y="2635920"/>
                <a:ext cx="67320" cy="9360"/>
                <a:chOff x="5908320" y="2635920"/>
                <a:chExt cx="67320" cy="936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5908320" y="2635920"/>
                  <a:ext cx="37080" cy="9360"/>
                  <a:chOff x="5908320" y="2635920"/>
                  <a:chExt cx="37080" cy="9360"/>
                </a:xfrm>
              </p:grpSpPr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908320" y="2635920"/>
                    <a:ext cx="23040" cy="9360"/>
                    <a:chOff x="5908320" y="2635920"/>
                    <a:chExt cx="23040" cy="9360"/>
                  </a:xfrm>
                </p:grpSpPr>
                <p:grpSp>
                  <p:nvGrpSpPr>
                    <p:cNvPr id="721" name=""/>
                    <p:cNvGrpSpPr/>
                    <p:nvPr/>
                  </p:nvGrpSpPr>
                  <p:grpSpPr>
                    <a:xfrm>
                      <a:off x="5908320" y="2635920"/>
                      <a:ext cx="14760" cy="9360"/>
                      <a:chOff x="5908320" y="2635920"/>
                      <a:chExt cx="14760" cy="9360"/>
                    </a:xfrm>
                  </p:grpSpPr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59083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591156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4" name=""/>
                    <p:cNvGrpSpPr/>
                    <p:nvPr/>
                  </p:nvGrpSpPr>
                  <p:grpSpPr>
                    <a:xfrm>
                      <a:off x="5915160" y="2635920"/>
                      <a:ext cx="16200" cy="9360"/>
                      <a:chOff x="5915160" y="2635920"/>
                      <a:chExt cx="16200" cy="9360"/>
                    </a:xfrm>
                  </p:grpSpPr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591516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591948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5922720" y="2635920"/>
                    <a:ext cx="22680" cy="9360"/>
                    <a:chOff x="5922720" y="2635920"/>
                    <a:chExt cx="22680" cy="9360"/>
                  </a:xfrm>
                </p:grpSpPr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5922720" y="2635920"/>
                      <a:ext cx="14760" cy="9360"/>
                      <a:chOff x="5922720" y="2635920"/>
                      <a:chExt cx="14760" cy="9360"/>
                    </a:xfrm>
                  </p:grpSpPr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59227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592596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1" name=""/>
                    <p:cNvGrpSpPr/>
                    <p:nvPr/>
                  </p:nvGrpSpPr>
                  <p:grpSpPr>
                    <a:xfrm>
                      <a:off x="5929920" y="2635920"/>
                      <a:ext cx="15480" cy="9360"/>
                      <a:chOff x="5929920" y="2635920"/>
                      <a:chExt cx="15480" cy="9360"/>
                    </a:xfrm>
                  </p:grpSpPr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59299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593388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5937840" y="2635920"/>
                  <a:ext cx="37800" cy="9360"/>
                  <a:chOff x="5937840" y="2635920"/>
                  <a:chExt cx="37800" cy="9360"/>
                </a:xfrm>
              </p:grpSpPr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937840" y="2635920"/>
                    <a:ext cx="23040" cy="9360"/>
                    <a:chOff x="5937840" y="2635920"/>
                    <a:chExt cx="23040" cy="93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5937840" y="2635920"/>
                      <a:ext cx="15840" cy="9360"/>
                      <a:chOff x="5937840" y="2635920"/>
                      <a:chExt cx="15840" cy="9360"/>
                    </a:xfrm>
                  </p:grpSpPr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593784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594180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5946120" y="2635920"/>
                      <a:ext cx="14760" cy="9360"/>
                      <a:chOff x="5946120" y="2635920"/>
                      <a:chExt cx="14760" cy="936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59461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594936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5952960" y="2635920"/>
                    <a:ext cx="22680" cy="9360"/>
                    <a:chOff x="5952960" y="2635920"/>
                    <a:chExt cx="22680" cy="9360"/>
                  </a:xfrm>
                </p:grpSpPr>
                <p:grpSp>
                  <p:nvGrpSpPr>
                    <p:cNvPr id="743" name=""/>
                    <p:cNvGrpSpPr/>
                    <p:nvPr/>
                  </p:nvGrpSpPr>
                  <p:grpSpPr>
                    <a:xfrm>
                      <a:off x="5952960" y="2635920"/>
                      <a:ext cx="15840" cy="9360"/>
                      <a:chOff x="5952960" y="2635920"/>
                      <a:chExt cx="15840" cy="9360"/>
                    </a:xfrm>
                  </p:grpSpPr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595296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595692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6" name=""/>
                    <p:cNvGrpSpPr/>
                    <p:nvPr/>
                  </p:nvGrpSpPr>
                  <p:grpSpPr>
                    <a:xfrm>
                      <a:off x="5961240" y="2635920"/>
                      <a:ext cx="14400" cy="9360"/>
                      <a:chOff x="5961240" y="2635920"/>
                      <a:chExt cx="14400" cy="9360"/>
                    </a:xfrm>
                  </p:grpSpPr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596124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596376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49" name=""/>
              <p:cNvSpPr/>
              <p:nvPr/>
            </p:nvSpPr>
            <p:spPr>
              <a:xfrm>
                <a:off x="5902920" y="26276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5791320" y="2680200"/>
              <a:ext cx="533160" cy="62640"/>
              <a:chOff x="5791320" y="2680200"/>
              <a:chExt cx="533160" cy="626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5791320" y="2680200"/>
                <a:ext cx="533160" cy="62640"/>
                <a:chOff x="5791320" y="2680200"/>
                <a:chExt cx="533160" cy="62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5793840" y="273528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91320" y="268020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807160" y="268596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5850000" y="2684880"/>
                <a:ext cx="419760" cy="14400"/>
                <a:chOff x="5850000" y="2684880"/>
                <a:chExt cx="419760" cy="1440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850000" y="26848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889960" y="26848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975640" y="26848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51600" y="26848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129720" y="26848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199560" y="26899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5836680" y="2698920"/>
                <a:ext cx="435240" cy="21960"/>
                <a:chOff x="5836680" y="2698920"/>
                <a:chExt cx="435240" cy="2196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5874480" y="2699640"/>
                  <a:ext cx="212760" cy="19080"/>
                  <a:chOff x="5874480" y="2699640"/>
                  <a:chExt cx="212760" cy="190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5874480" y="26996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882760" y="27057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885280" y="27118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889600" y="27187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5836680" y="2702520"/>
                  <a:ext cx="30960" cy="12240"/>
                  <a:chOff x="5836680" y="2702520"/>
                  <a:chExt cx="30960" cy="122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845680" y="27025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842080" y="27090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836680" y="27147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920920" y="2698920"/>
                  <a:ext cx="194760" cy="20880"/>
                  <a:chOff x="5920920" y="2698920"/>
                  <a:chExt cx="194760" cy="208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920920" y="27190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090840" y="26989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098400" y="27061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082560" y="27129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050520" y="27190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076440" y="27198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130800" y="2702520"/>
                  <a:ext cx="56160" cy="17280"/>
                  <a:chOff x="6130800" y="2702520"/>
                  <a:chExt cx="56160" cy="1728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6130800" y="27025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6139080" y="27104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6139440" y="27198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6204240" y="2702520"/>
                  <a:ext cx="67680" cy="18360"/>
                  <a:chOff x="6204240" y="2702520"/>
                  <a:chExt cx="67680" cy="183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6208920" y="27025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204240" y="27090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208920" y="27147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207480" y="27208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6258600" y="27097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6263640" y="27176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0" name=""/>
            <p:cNvGrpSpPr/>
            <p:nvPr/>
          </p:nvGrpSpPr>
          <p:grpSpPr>
            <a:xfrm>
              <a:off x="5947920" y="2544120"/>
              <a:ext cx="231840" cy="38160"/>
              <a:chOff x="5947920" y="2544120"/>
              <a:chExt cx="231840" cy="3816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5947920" y="2556720"/>
                <a:ext cx="231840" cy="25560"/>
                <a:chOff x="5947920" y="2556720"/>
                <a:chExt cx="231840" cy="255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5947920" y="255672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950080" y="257400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6000840" y="25441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5921640" y="23623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53680" y="23828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63040" y="238824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791320" y="3048120"/>
            <a:ext cx="533160" cy="380520"/>
            <a:chOff x="5791320" y="3048120"/>
            <a:chExt cx="533160" cy="380520"/>
          </a:xfrm>
        </p:grpSpPr>
        <p:grpSp>
          <p:nvGrpSpPr>
            <p:cNvPr id="799" name=""/>
            <p:cNvGrpSpPr/>
            <p:nvPr/>
          </p:nvGrpSpPr>
          <p:grpSpPr>
            <a:xfrm>
              <a:off x="5893920" y="3251160"/>
              <a:ext cx="340200" cy="118080"/>
              <a:chOff x="5893920" y="3251160"/>
              <a:chExt cx="340200" cy="11808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5893920" y="3251160"/>
                <a:ext cx="340200" cy="118080"/>
                <a:chOff x="5893920" y="3251160"/>
                <a:chExt cx="340200" cy="11808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5893920" y="3251160"/>
                  <a:ext cx="340200" cy="118080"/>
                  <a:chOff x="5893920" y="3251160"/>
                  <a:chExt cx="340200" cy="118080"/>
                </a:xfrm>
              </p:grpSpPr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893920" y="3251160"/>
                    <a:ext cx="339120" cy="118080"/>
                    <a:chOff x="5893920" y="3251160"/>
                    <a:chExt cx="339120" cy="118080"/>
                  </a:xfrm>
                </p:grpSpPr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5893920" y="3251160"/>
                      <a:ext cx="339120" cy="118080"/>
                      <a:chOff x="5893920" y="3251160"/>
                      <a:chExt cx="339120" cy="11808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5895000" y="32817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5893920" y="32511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5902920" y="32749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5907600" y="3349080"/>
                    <a:ext cx="326520" cy="17640"/>
                    <a:chOff x="5907600" y="3349080"/>
                    <a:chExt cx="326520" cy="17640"/>
                  </a:xfrm>
                </p:grpSpPr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5907600" y="3349080"/>
                      <a:ext cx="160560" cy="17640"/>
                      <a:chOff x="5907600" y="3349080"/>
                      <a:chExt cx="160560" cy="176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5907600" y="3349080"/>
                        <a:ext cx="76320" cy="17640"/>
                        <a:chOff x="5907600" y="3349080"/>
                        <a:chExt cx="76320" cy="17640"/>
                      </a:xfrm>
                    </p:grpSpPr>
                    <p:grpSp>
                      <p:nvGrpSpPr>
                        <p:cNvPr id="810" name=""/>
                        <p:cNvGrpSpPr/>
                        <p:nvPr/>
                      </p:nvGrpSpPr>
                      <p:grpSpPr>
                        <a:xfrm>
                          <a:off x="5907600" y="3349080"/>
                          <a:ext cx="35640" cy="17640"/>
                          <a:chOff x="5907600" y="3349080"/>
                          <a:chExt cx="35640" cy="17640"/>
                        </a:xfrm>
                      </p:grpSpPr>
                      <p:grpSp>
                        <p:nvGrpSpPr>
                          <p:cNvPr id="811" name=""/>
                          <p:cNvGrpSpPr/>
                          <p:nvPr/>
                        </p:nvGrpSpPr>
                        <p:grpSpPr>
                          <a:xfrm>
                            <a:off x="5907600" y="3349080"/>
                            <a:ext cx="20880" cy="17640"/>
                            <a:chOff x="5907600" y="3349080"/>
                            <a:chExt cx="20880" cy="17640"/>
                          </a:xfrm>
                        </p:grpSpPr>
                        <p:grpSp>
                          <p:nvGrpSpPr>
                            <p:cNvPr id="812" name=""/>
                            <p:cNvGrpSpPr/>
                            <p:nvPr/>
                          </p:nvGrpSpPr>
                          <p:grpSpPr>
                            <a:xfrm>
                              <a:off x="5907600" y="3349080"/>
                              <a:ext cx="5040" cy="17640"/>
                              <a:chOff x="5907600" y="3349080"/>
                              <a:chExt cx="5040" cy="17640"/>
                            </a:xfrm>
                          </p:grpSpPr>
                          <p:sp>
                            <p:nvSpPr>
                              <p:cNvPr id="813" name=""/>
                              <p:cNvSpPr/>
                              <p:nvPr/>
                            </p:nvSpPr>
                            <p:spPr>
                              <a:xfrm>
                                <a:off x="5907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4" name=""/>
                              <p:cNvSpPr/>
                              <p:nvPr/>
                            </p:nvSpPr>
                            <p:spPr>
                              <a:xfrm>
                                <a:off x="59122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5" name=""/>
                            <p:cNvGrpSpPr/>
                            <p:nvPr/>
                          </p:nvGrpSpPr>
                          <p:grpSpPr>
                            <a:xfrm>
                              <a:off x="5916960" y="3349080"/>
                              <a:ext cx="11520" cy="17640"/>
                              <a:chOff x="5916960" y="3349080"/>
                              <a:chExt cx="11520" cy="17640"/>
                            </a:xfrm>
                          </p:grpSpPr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59169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7" name=""/>
                              <p:cNvSpPr/>
                              <p:nvPr/>
                            </p:nvSpPr>
                            <p:spPr>
                              <a:xfrm>
                                <a:off x="59223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18" name=""/>
                          <p:cNvGrpSpPr/>
                          <p:nvPr/>
                        </p:nvGrpSpPr>
                        <p:grpSpPr>
                          <a:xfrm>
                            <a:off x="5927760" y="3349080"/>
                            <a:ext cx="15480" cy="17640"/>
                            <a:chOff x="5927760" y="3349080"/>
                            <a:chExt cx="15480" cy="17640"/>
                          </a:xfrm>
                        </p:grpSpPr>
                        <p:grpSp>
                          <p:nvGrpSpPr>
                            <p:cNvPr id="819" name=""/>
                            <p:cNvGrpSpPr/>
                            <p:nvPr/>
                          </p:nvGrpSpPr>
                          <p:grpSpPr>
                            <a:xfrm>
                              <a:off x="5927760" y="3349080"/>
                              <a:ext cx="11520" cy="17640"/>
                              <a:chOff x="5927760" y="3349080"/>
                              <a:chExt cx="11520" cy="17640"/>
                            </a:xfrm>
                          </p:grpSpPr>
                          <p:sp>
                            <p:nvSpPr>
                              <p:cNvPr id="820" name=""/>
                              <p:cNvSpPr/>
                              <p:nvPr/>
                            </p:nvSpPr>
                            <p:spPr>
                              <a:xfrm>
                                <a:off x="59277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1" name=""/>
                              <p:cNvSpPr/>
                              <p:nvPr/>
                            </p:nvSpPr>
                            <p:spPr>
                              <a:xfrm>
                                <a:off x="593244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2" name=""/>
                            <p:cNvGrpSpPr/>
                            <p:nvPr/>
                          </p:nvGrpSpPr>
                          <p:grpSpPr>
                            <a:xfrm>
                              <a:off x="5938200" y="3349080"/>
                              <a:ext cx="5040" cy="17640"/>
                              <a:chOff x="5938200" y="3349080"/>
                              <a:chExt cx="5040" cy="17640"/>
                            </a:xfrm>
                          </p:grpSpPr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59382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4" name=""/>
                              <p:cNvSpPr/>
                              <p:nvPr/>
                            </p:nvSpPr>
                            <p:spPr>
                              <a:xfrm>
                                <a:off x="59428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5" name=""/>
                        <p:cNvGrpSpPr/>
                        <p:nvPr/>
                      </p:nvGrpSpPr>
                      <p:grpSpPr>
                        <a:xfrm>
                          <a:off x="5947560" y="3349080"/>
                          <a:ext cx="36360" cy="17640"/>
                          <a:chOff x="5947560" y="3349080"/>
                          <a:chExt cx="36360" cy="17640"/>
                        </a:xfrm>
                      </p:grpSpPr>
                      <p:grpSp>
                        <p:nvGrpSpPr>
                          <p:cNvPr id="826" name=""/>
                          <p:cNvGrpSpPr/>
                          <p:nvPr/>
                        </p:nvGrpSpPr>
                        <p:grpSpPr>
                          <a:xfrm>
                            <a:off x="5947560" y="3349080"/>
                            <a:ext cx="21600" cy="17640"/>
                            <a:chOff x="5947560" y="3349080"/>
                            <a:chExt cx="21600" cy="17640"/>
                          </a:xfrm>
                        </p:grpSpPr>
                        <p:grpSp>
                          <p:nvGrpSpPr>
                            <p:cNvPr id="827" name=""/>
                            <p:cNvGrpSpPr/>
                            <p:nvPr/>
                          </p:nvGrpSpPr>
                          <p:grpSpPr>
                            <a:xfrm>
                              <a:off x="5947560" y="3349080"/>
                              <a:ext cx="16200" cy="17640"/>
                              <a:chOff x="5947560" y="3349080"/>
                              <a:chExt cx="16200" cy="17640"/>
                            </a:xfrm>
                          </p:grpSpPr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59475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9" name=""/>
                              <p:cNvSpPr/>
                              <p:nvPr/>
                            </p:nvSpPr>
                            <p:spPr>
                              <a:xfrm>
                                <a:off x="595224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0" name=""/>
                            <p:cNvGrpSpPr/>
                            <p:nvPr/>
                          </p:nvGrpSpPr>
                          <p:grpSpPr>
                            <a:xfrm>
                              <a:off x="5957280" y="3349080"/>
                              <a:ext cx="11880" cy="17640"/>
                              <a:chOff x="5957280" y="3349080"/>
                              <a:chExt cx="11880" cy="17640"/>
                            </a:xfrm>
                          </p:grpSpPr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5957280" y="33490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2" name=""/>
                              <p:cNvSpPr/>
                              <p:nvPr/>
                            </p:nvSpPr>
                            <p:spPr>
                              <a:xfrm>
                                <a:off x="59626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3" name=""/>
                          <p:cNvGrpSpPr/>
                          <p:nvPr/>
                        </p:nvGrpSpPr>
                        <p:grpSpPr>
                          <a:xfrm>
                            <a:off x="5967720" y="3349080"/>
                            <a:ext cx="16200" cy="17640"/>
                            <a:chOff x="5967720" y="3349080"/>
                            <a:chExt cx="16200" cy="17640"/>
                          </a:xfrm>
                        </p:grpSpPr>
                        <p:grpSp>
                          <p:nvGrpSpPr>
                            <p:cNvPr id="834" name=""/>
                            <p:cNvGrpSpPr/>
                            <p:nvPr/>
                          </p:nvGrpSpPr>
                          <p:grpSpPr>
                            <a:xfrm>
                              <a:off x="5967720" y="3349080"/>
                              <a:ext cx="16200" cy="17640"/>
                              <a:chOff x="5967720" y="3349080"/>
                              <a:chExt cx="16200" cy="17640"/>
                            </a:xfrm>
                          </p:grpSpPr>
                          <p:sp>
                            <p:nvSpPr>
                              <p:cNvPr id="835" name=""/>
                              <p:cNvSpPr/>
                              <p:nvPr/>
                            </p:nvSpPr>
                            <p:spPr>
                              <a:xfrm>
                                <a:off x="59677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6" name=""/>
                              <p:cNvSpPr/>
                              <p:nvPr/>
                            </p:nvSpPr>
                            <p:spPr>
                              <a:xfrm>
                                <a:off x="59724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7" name=""/>
                            <p:cNvGrpSpPr/>
                            <p:nvPr/>
                          </p:nvGrpSpPr>
                          <p:grpSpPr>
                            <a:xfrm>
                              <a:off x="5977800" y="3349080"/>
                              <a:ext cx="5400" cy="17640"/>
                              <a:chOff x="5977800" y="3349080"/>
                              <a:chExt cx="5400" cy="17640"/>
                            </a:xfrm>
                          </p:grpSpPr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597780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9" name=""/>
                              <p:cNvSpPr/>
                              <p:nvPr/>
                            </p:nvSpPr>
                            <p:spPr>
                              <a:xfrm>
                                <a:off x="59824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987520" y="3349080"/>
                        <a:ext cx="80640" cy="17640"/>
                        <a:chOff x="5987520" y="3349080"/>
                        <a:chExt cx="80640" cy="17640"/>
                      </a:xfrm>
                    </p:grpSpPr>
                    <p:grpSp>
                      <p:nvGrpSpPr>
                        <p:cNvPr id="841" name=""/>
                        <p:cNvGrpSpPr/>
                        <p:nvPr/>
                      </p:nvGrpSpPr>
                      <p:grpSpPr>
                        <a:xfrm>
                          <a:off x="5987520" y="3349080"/>
                          <a:ext cx="45720" cy="17640"/>
                          <a:chOff x="5987520" y="3349080"/>
                          <a:chExt cx="45720" cy="17640"/>
                        </a:xfrm>
                      </p:grpSpPr>
                      <p:grpSp>
                        <p:nvGrpSpPr>
                          <p:cNvPr id="842" name=""/>
                          <p:cNvGrpSpPr/>
                          <p:nvPr/>
                        </p:nvGrpSpPr>
                        <p:grpSpPr>
                          <a:xfrm>
                            <a:off x="5987520" y="3349080"/>
                            <a:ext cx="16200" cy="17640"/>
                            <a:chOff x="5987520" y="3349080"/>
                            <a:chExt cx="16200" cy="17640"/>
                          </a:xfrm>
                        </p:grpSpPr>
                        <p:grpSp>
                          <p:nvGrpSpPr>
                            <p:cNvPr id="843" name=""/>
                            <p:cNvGrpSpPr/>
                            <p:nvPr/>
                          </p:nvGrpSpPr>
                          <p:grpSpPr>
                            <a:xfrm>
                              <a:off x="5987520" y="3349080"/>
                              <a:ext cx="16200" cy="17640"/>
                              <a:chOff x="5987520" y="3349080"/>
                              <a:chExt cx="16200" cy="17640"/>
                            </a:xfrm>
                          </p:grpSpPr>
                          <p:sp>
                            <p:nvSpPr>
                              <p:cNvPr id="844" name=""/>
                              <p:cNvSpPr/>
                              <p:nvPr/>
                            </p:nvSpPr>
                            <p:spPr>
                              <a:xfrm>
                                <a:off x="59875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5" name=""/>
                              <p:cNvSpPr/>
                              <p:nvPr/>
                            </p:nvSpPr>
                            <p:spPr>
                              <a:xfrm>
                                <a:off x="59922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6" name=""/>
                            <p:cNvGrpSpPr/>
                            <p:nvPr/>
                          </p:nvGrpSpPr>
                          <p:grpSpPr>
                            <a:xfrm>
                              <a:off x="5997600" y="3349080"/>
                              <a:ext cx="4320" cy="17640"/>
                              <a:chOff x="5997600" y="3349080"/>
                              <a:chExt cx="4320" cy="17640"/>
                            </a:xfrm>
                          </p:grpSpPr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599760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8" name=""/>
                              <p:cNvSpPr/>
                              <p:nvPr/>
                            </p:nvSpPr>
                            <p:spPr>
                              <a:xfrm>
                                <a:off x="60015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49" name=""/>
                          <p:cNvGrpSpPr/>
                          <p:nvPr/>
                        </p:nvGrpSpPr>
                        <p:grpSpPr>
                          <a:xfrm>
                            <a:off x="6008040" y="3349080"/>
                            <a:ext cx="25200" cy="17640"/>
                            <a:chOff x="6008040" y="3349080"/>
                            <a:chExt cx="25200" cy="17640"/>
                          </a:xfrm>
                        </p:grpSpPr>
                        <p:grpSp>
                          <p:nvGrpSpPr>
                            <p:cNvPr id="850" name=""/>
                            <p:cNvGrpSpPr/>
                            <p:nvPr/>
                          </p:nvGrpSpPr>
                          <p:grpSpPr>
                            <a:xfrm>
                              <a:off x="6008040" y="3349080"/>
                              <a:ext cx="4320" cy="17640"/>
                              <a:chOff x="6008040" y="3349080"/>
                              <a:chExt cx="4320" cy="17640"/>
                            </a:xfrm>
                          </p:grpSpPr>
                          <p:sp>
                            <p:nvSpPr>
                              <p:cNvPr id="851" name=""/>
                              <p:cNvSpPr/>
                              <p:nvPr/>
                            </p:nvSpPr>
                            <p:spPr>
                              <a:xfrm>
                                <a:off x="600804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2" name=""/>
                              <p:cNvSpPr/>
                              <p:nvPr/>
                            </p:nvSpPr>
                            <p:spPr>
                              <a:xfrm>
                                <a:off x="60120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3" name=""/>
                            <p:cNvGrpSpPr/>
                            <p:nvPr/>
                          </p:nvGrpSpPr>
                          <p:grpSpPr>
                            <a:xfrm>
                              <a:off x="6017760" y="3349080"/>
                              <a:ext cx="15480" cy="17640"/>
                              <a:chOff x="6017760" y="3349080"/>
                              <a:chExt cx="15480" cy="17640"/>
                            </a:xfrm>
                          </p:grpSpPr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60177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5" name=""/>
                              <p:cNvSpPr/>
                              <p:nvPr/>
                            </p:nvSpPr>
                            <p:spPr>
                              <a:xfrm>
                                <a:off x="602172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6" name=""/>
                        <p:cNvGrpSpPr/>
                        <p:nvPr/>
                      </p:nvGrpSpPr>
                      <p:grpSpPr>
                        <a:xfrm>
                          <a:off x="6027480" y="3349080"/>
                          <a:ext cx="40680" cy="17640"/>
                          <a:chOff x="6027480" y="3349080"/>
                          <a:chExt cx="40680" cy="17640"/>
                        </a:xfrm>
                      </p:grpSpPr>
                      <p:grpSp>
                        <p:nvGrpSpPr>
                          <p:cNvPr id="857" name=""/>
                          <p:cNvGrpSpPr/>
                          <p:nvPr/>
                        </p:nvGrpSpPr>
                        <p:grpSpPr>
                          <a:xfrm>
                            <a:off x="6027480" y="3349080"/>
                            <a:ext cx="15480" cy="17640"/>
                            <a:chOff x="6027480" y="3349080"/>
                            <a:chExt cx="15480" cy="17640"/>
                          </a:xfrm>
                        </p:grpSpPr>
                        <p:grpSp>
                          <p:nvGrpSpPr>
                            <p:cNvPr id="858" name=""/>
                            <p:cNvGrpSpPr/>
                            <p:nvPr/>
                          </p:nvGrpSpPr>
                          <p:grpSpPr>
                            <a:xfrm>
                              <a:off x="6027480" y="3349080"/>
                              <a:ext cx="5040" cy="17640"/>
                              <a:chOff x="6027480" y="3349080"/>
                              <a:chExt cx="5040" cy="17640"/>
                            </a:xfrm>
                          </p:grpSpPr>
                          <p:sp>
                            <p:nvSpPr>
                              <p:cNvPr id="859" name=""/>
                              <p:cNvSpPr/>
                              <p:nvPr/>
                            </p:nvSpPr>
                            <p:spPr>
                              <a:xfrm>
                                <a:off x="60274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0" name=""/>
                              <p:cNvSpPr/>
                              <p:nvPr/>
                            </p:nvSpPr>
                            <p:spPr>
                              <a:xfrm>
                                <a:off x="60321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1" name=""/>
                            <p:cNvGrpSpPr/>
                            <p:nvPr/>
                          </p:nvGrpSpPr>
                          <p:grpSpPr>
                            <a:xfrm>
                              <a:off x="6037920" y="3349080"/>
                              <a:ext cx="5040" cy="17640"/>
                              <a:chOff x="6037920" y="3349080"/>
                              <a:chExt cx="5040" cy="17640"/>
                            </a:xfrm>
                          </p:grpSpPr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603792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3" name=""/>
                              <p:cNvSpPr/>
                              <p:nvPr/>
                            </p:nvSpPr>
                            <p:spPr>
                              <a:xfrm>
                                <a:off x="6042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4" name=""/>
                          <p:cNvGrpSpPr/>
                          <p:nvPr/>
                        </p:nvGrpSpPr>
                        <p:grpSpPr>
                          <a:xfrm>
                            <a:off x="6047280" y="3349080"/>
                            <a:ext cx="20880" cy="17640"/>
                            <a:chOff x="6047280" y="3349080"/>
                            <a:chExt cx="20880" cy="17640"/>
                          </a:xfrm>
                        </p:grpSpPr>
                        <p:grpSp>
                          <p:nvGrpSpPr>
                            <p:cNvPr id="865" name=""/>
                            <p:cNvGrpSpPr/>
                            <p:nvPr/>
                          </p:nvGrpSpPr>
                          <p:grpSpPr>
                            <a:xfrm>
                              <a:off x="6047280" y="3349080"/>
                              <a:ext cx="16920" cy="17640"/>
                              <a:chOff x="6047280" y="3349080"/>
                              <a:chExt cx="16920" cy="17640"/>
                            </a:xfrm>
                          </p:grpSpPr>
                          <p:sp>
                            <p:nvSpPr>
                              <p:cNvPr id="866" name=""/>
                              <p:cNvSpPr/>
                              <p:nvPr/>
                            </p:nvSpPr>
                            <p:spPr>
                              <a:xfrm>
                                <a:off x="60472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7" name=""/>
                              <p:cNvSpPr/>
                              <p:nvPr/>
                            </p:nvSpPr>
                            <p:spPr>
                              <a:xfrm>
                                <a:off x="605268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8" name=""/>
                            <p:cNvGrpSpPr/>
                            <p:nvPr/>
                          </p:nvGrpSpPr>
                          <p:grpSpPr>
                            <a:xfrm>
                              <a:off x="6056640" y="3349080"/>
                              <a:ext cx="11520" cy="17640"/>
                              <a:chOff x="6056640" y="3349080"/>
                              <a:chExt cx="11520" cy="17640"/>
                            </a:xfrm>
                          </p:grpSpPr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605664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0" name=""/>
                              <p:cNvSpPr/>
                              <p:nvPr/>
                            </p:nvSpPr>
                            <p:spPr>
                              <a:xfrm>
                                <a:off x="606204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6067800" y="3349080"/>
                      <a:ext cx="166320" cy="17640"/>
                      <a:chOff x="6067800" y="3349080"/>
                      <a:chExt cx="166320" cy="17640"/>
                    </a:xfrm>
                  </p:grpSpPr>
                  <p:grpSp>
                    <p:nvGrpSpPr>
                      <p:cNvPr id="872" name=""/>
                      <p:cNvGrpSpPr/>
                      <p:nvPr/>
                    </p:nvGrpSpPr>
                    <p:grpSpPr>
                      <a:xfrm>
                        <a:off x="6067800" y="3349080"/>
                        <a:ext cx="85680" cy="17640"/>
                        <a:chOff x="6067800" y="3349080"/>
                        <a:chExt cx="85680" cy="17640"/>
                      </a:xfrm>
                    </p:grpSpPr>
                    <p:grpSp>
                      <p:nvGrpSpPr>
                        <p:cNvPr id="873" name=""/>
                        <p:cNvGrpSpPr/>
                        <p:nvPr/>
                      </p:nvGrpSpPr>
                      <p:grpSpPr>
                        <a:xfrm>
                          <a:off x="6067800" y="3349080"/>
                          <a:ext cx="36000" cy="17640"/>
                          <a:chOff x="6067800" y="3349080"/>
                          <a:chExt cx="36000" cy="17640"/>
                        </a:xfrm>
                      </p:grpSpPr>
                      <p:grpSp>
                        <p:nvGrpSpPr>
                          <p:cNvPr id="874" name=""/>
                          <p:cNvGrpSpPr/>
                          <p:nvPr/>
                        </p:nvGrpSpPr>
                        <p:grpSpPr>
                          <a:xfrm>
                            <a:off x="6067800" y="3349080"/>
                            <a:ext cx="15480" cy="17640"/>
                            <a:chOff x="6067800" y="3349080"/>
                            <a:chExt cx="15480" cy="17640"/>
                          </a:xfrm>
                        </p:grpSpPr>
                        <p:grpSp>
                          <p:nvGrpSpPr>
                            <p:cNvPr id="875" name=""/>
                            <p:cNvGrpSpPr/>
                            <p:nvPr/>
                          </p:nvGrpSpPr>
                          <p:grpSpPr>
                            <a:xfrm>
                              <a:off x="6067800" y="3349080"/>
                              <a:ext cx="5040" cy="17640"/>
                              <a:chOff x="6067800" y="3349080"/>
                              <a:chExt cx="5040" cy="17640"/>
                            </a:xfrm>
                          </p:grpSpPr>
                          <p:sp>
                            <p:nvSpPr>
                              <p:cNvPr id="876" name=""/>
                              <p:cNvSpPr/>
                              <p:nvPr/>
                            </p:nvSpPr>
                            <p:spPr>
                              <a:xfrm>
                                <a:off x="60678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7" name=""/>
                              <p:cNvSpPr/>
                              <p:nvPr/>
                            </p:nvSpPr>
                            <p:spPr>
                              <a:xfrm>
                                <a:off x="60724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8" name=""/>
                            <p:cNvGrpSpPr/>
                            <p:nvPr/>
                          </p:nvGrpSpPr>
                          <p:grpSpPr>
                            <a:xfrm>
                              <a:off x="6078240" y="3349080"/>
                              <a:ext cx="5040" cy="17640"/>
                              <a:chOff x="6078240" y="3349080"/>
                              <a:chExt cx="5040" cy="17640"/>
                            </a:xfrm>
                          </p:grpSpPr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607824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0" name=""/>
                              <p:cNvSpPr/>
                              <p:nvPr/>
                            </p:nvSpPr>
                            <p:spPr>
                              <a:xfrm>
                                <a:off x="608292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1" name=""/>
                          <p:cNvGrpSpPr/>
                          <p:nvPr/>
                        </p:nvGrpSpPr>
                        <p:grpSpPr>
                          <a:xfrm>
                            <a:off x="6087600" y="3349080"/>
                            <a:ext cx="16200" cy="17640"/>
                            <a:chOff x="6087600" y="3349080"/>
                            <a:chExt cx="16200" cy="17640"/>
                          </a:xfrm>
                        </p:grpSpPr>
                        <p:grpSp>
                          <p:nvGrpSpPr>
                            <p:cNvPr id="882" name=""/>
                            <p:cNvGrpSpPr/>
                            <p:nvPr/>
                          </p:nvGrpSpPr>
                          <p:grpSpPr>
                            <a:xfrm>
                              <a:off x="6087600" y="3349080"/>
                              <a:ext cx="16200" cy="17640"/>
                              <a:chOff x="6087600" y="3349080"/>
                              <a:chExt cx="16200" cy="17640"/>
                            </a:xfrm>
                          </p:grpSpPr>
                          <p:sp>
                            <p:nvSpPr>
                              <p:cNvPr id="883" name=""/>
                              <p:cNvSpPr/>
                              <p:nvPr/>
                            </p:nvSpPr>
                            <p:spPr>
                              <a:xfrm>
                                <a:off x="6087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4" name=""/>
                              <p:cNvSpPr/>
                              <p:nvPr/>
                            </p:nvSpPr>
                            <p:spPr>
                              <a:xfrm>
                                <a:off x="609228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5" name=""/>
                            <p:cNvGrpSpPr/>
                            <p:nvPr/>
                          </p:nvGrpSpPr>
                          <p:grpSpPr>
                            <a:xfrm>
                              <a:off x="6097680" y="3349080"/>
                              <a:ext cx="5040" cy="17640"/>
                              <a:chOff x="6097680" y="3349080"/>
                              <a:chExt cx="5040" cy="17640"/>
                            </a:xfrm>
                          </p:grpSpPr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60976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7" name=""/>
                              <p:cNvSpPr/>
                              <p:nvPr/>
                            </p:nvSpPr>
                            <p:spPr>
                              <a:xfrm>
                                <a:off x="61023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88" name=""/>
                        <p:cNvGrpSpPr/>
                        <p:nvPr/>
                      </p:nvGrpSpPr>
                      <p:grpSpPr>
                        <a:xfrm>
                          <a:off x="6107400" y="3349080"/>
                          <a:ext cx="46080" cy="17640"/>
                          <a:chOff x="6107400" y="3349080"/>
                          <a:chExt cx="46080" cy="17640"/>
                        </a:xfrm>
                      </p:grpSpPr>
                      <p:grpSp>
                        <p:nvGrpSpPr>
                          <p:cNvPr id="889" name=""/>
                          <p:cNvGrpSpPr/>
                          <p:nvPr/>
                        </p:nvGrpSpPr>
                        <p:grpSpPr>
                          <a:xfrm>
                            <a:off x="6107400" y="3349080"/>
                            <a:ext cx="16200" cy="17640"/>
                            <a:chOff x="6107400" y="3349080"/>
                            <a:chExt cx="16200" cy="17640"/>
                          </a:xfrm>
                        </p:grpSpPr>
                        <p:grpSp>
                          <p:nvGrpSpPr>
                            <p:cNvPr id="890" name=""/>
                            <p:cNvGrpSpPr/>
                            <p:nvPr/>
                          </p:nvGrpSpPr>
                          <p:grpSpPr>
                            <a:xfrm>
                              <a:off x="6107400" y="3349080"/>
                              <a:ext cx="16200" cy="17640"/>
                              <a:chOff x="6107400" y="3349080"/>
                              <a:chExt cx="16200" cy="17640"/>
                            </a:xfrm>
                          </p:grpSpPr>
                          <p:sp>
                            <p:nvSpPr>
                              <p:cNvPr id="891" name=""/>
                              <p:cNvSpPr/>
                              <p:nvPr/>
                            </p:nvSpPr>
                            <p:spPr>
                              <a:xfrm>
                                <a:off x="61074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2" name=""/>
                              <p:cNvSpPr/>
                              <p:nvPr/>
                            </p:nvSpPr>
                            <p:spPr>
                              <a:xfrm>
                                <a:off x="611208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3" name=""/>
                            <p:cNvGrpSpPr/>
                            <p:nvPr/>
                          </p:nvGrpSpPr>
                          <p:grpSpPr>
                            <a:xfrm>
                              <a:off x="6117840" y="3349080"/>
                              <a:ext cx="5400" cy="17640"/>
                              <a:chOff x="6117840" y="3349080"/>
                              <a:chExt cx="5400" cy="17640"/>
                            </a:xfrm>
                          </p:grpSpPr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611784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5" name=""/>
                              <p:cNvSpPr/>
                              <p:nvPr/>
                            </p:nvSpPr>
                            <p:spPr>
                              <a:xfrm>
                                <a:off x="61225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6" name=""/>
                          <p:cNvGrpSpPr/>
                          <p:nvPr/>
                        </p:nvGrpSpPr>
                        <p:grpSpPr>
                          <a:xfrm>
                            <a:off x="6127200" y="3349080"/>
                            <a:ext cx="26280" cy="17640"/>
                            <a:chOff x="6127200" y="3349080"/>
                            <a:chExt cx="26280" cy="17640"/>
                          </a:xfrm>
                        </p:grpSpPr>
                        <p:grpSp>
                          <p:nvGrpSpPr>
                            <p:cNvPr id="897" name=""/>
                            <p:cNvGrpSpPr/>
                            <p:nvPr/>
                          </p:nvGrpSpPr>
                          <p:grpSpPr>
                            <a:xfrm>
                              <a:off x="6127200" y="3349080"/>
                              <a:ext cx="11520" cy="17640"/>
                              <a:chOff x="6127200" y="3349080"/>
                              <a:chExt cx="11520" cy="17640"/>
                            </a:xfrm>
                          </p:grpSpPr>
                          <p:sp>
                            <p:nvSpPr>
                              <p:cNvPr id="898" name=""/>
                              <p:cNvSpPr/>
                              <p:nvPr/>
                            </p:nvSpPr>
                            <p:spPr>
                              <a:xfrm>
                                <a:off x="61272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9" name=""/>
                              <p:cNvSpPr/>
                              <p:nvPr/>
                            </p:nvSpPr>
                            <p:spPr>
                              <a:xfrm>
                                <a:off x="6132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0" name=""/>
                            <p:cNvGrpSpPr/>
                            <p:nvPr/>
                          </p:nvGrpSpPr>
                          <p:grpSpPr>
                            <a:xfrm>
                              <a:off x="6136560" y="3349080"/>
                              <a:ext cx="16920" cy="17640"/>
                              <a:chOff x="6136560" y="3349080"/>
                              <a:chExt cx="16920" cy="17640"/>
                            </a:xfrm>
                          </p:grpSpPr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61365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2" name=""/>
                              <p:cNvSpPr/>
                              <p:nvPr/>
                            </p:nvSpPr>
                            <p:spPr>
                              <a:xfrm>
                                <a:off x="61419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3" name=""/>
                      <p:cNvGrpSpPr/>
                      <p:nvPr/>
                    </p:nvGrpSpPr>
                    <p:grpSpPr>
                      <a:xfrm>
                        <a:off x="6147720" y="3349080"/>
                        <a:ext cx="86400" cy="17640"/>
                        <a:chOff x="6147720" y="3349080"/>
                        <a:chExt cx="86400" cy="17640"/>
                      </a:xfrm>
                    </p:grpSpPr>
                    <p:grpSp>
                      <p:nvGrpSpPr>
                        <p:cNvPr id="904" name=""/>
                        <p:cNvGrpSpPr/>
                        <p:nvPr/>
                      </p:nvGrpSpPr>
                      <p:grpSpPr>
                        <a:xfrm>
                          <a:off x="6147720" y="3349080"/>
                          <a:ext cx="41400" cy="17640"/>
                          <a:chOff x="6147720" y="3349080"/>
                          <a:chExt cx="41400" cy="17640"/>
                        </a:xfrm>
                      </p:grpSpPr>
                      <p:grpSp>
                        <p:nvGrpSpPr>
                          <p:cNvPr id="905" name=""/>
                          <p:cNvGrpSpPr/>
                          <p:nvPr/>
                        </p:nvGrpSpPr>
                        <p:grpSpPr>
                          <a:xfrm>
                            <a:off x="6147720" y="3349080"/>
                            <a:ext cx="21600" cy="17640"/>
                            <a:chOff x="6147720" y="3349080"/>
                            <a:chExt cx="21600" cy="17640"/>
                          </a:xfrm>
                        </p:grpSpPr>
                        <p:grpSp>
                          <p:nvGrpSpPr>
                            <p:cNvPr id="906" name=""/>
                            <p:cNvGrpSpPr/>
                            <p:nvPr/>
                          </p:nvGrpSpPr>
                          <p:grpSpPr>
                            <a:xfrm>
                              <a:off x="6147720" y="3349080"/>
                              <a:ext cx="16200" cy="17640"/>
                              <a:chOff x="6147720" y="3349080"/>
                              <a:chExt cx="16200" cy="17640"/>
                            </a:xfrm>
                          </p:grpSpPr>
                          <p:sp>
                            <p:nvSpPr>
                              <p:cNvPr id="907" name=""/>
                              <p:cNvSpPr/>
                              <p:nvPr/>
                            </p:nvSpPr>
                            <p:spPr>
                              <a:xfrm>
                                <a:off x="614772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8" name=""/>
                              <p:cNvSpPr/>
                              <p:nvPr/>
                            </p:nvSpPr>
                            <p:spPr>
                              <a:xfrm>
                                <a:off x="61524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9" name=""/>
                            <p:cNvGrpSpPr/>
                            <p:nvPr/>
                          </p:nvGrpSpPr>
                          <p:grpSpPr>
                            <a:xfrm>
                              <a:off x="6157800" y="3349080"/>
                              <a:ext cx="11520" cy="17640"/>
                              <a:chOff x="6157800" y="3349080"/>
                              <a:chExt cx="11520" cy="17640"/>
                            </a:xfrm>
                          </p:grpSpPr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61578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1" name=""/>
                              <p:cNvSpPr/>
                              <p:nvPr/>
                            </p:nvSpPr>
                            <p:spPr>
                              <a:xfrm>
                                <a:off x="61624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2" name=""/>
                          <p:cNvGrpSpPr/>
                          <p:nvPr/>
                        </p:nvGrpSpPr>
                        <p:grpSpPr>
                          <a:xfrm>
                            <a:off x="6167520" y="3349080"/>
                            <a:ext cx="21600" cy="17640"/>
                            <a:chOff x="6167520" y="3349080"/>
                            <a:chExt cx="21600" cy="17640"/>
                          </a:xfrm>
                        </p:grpSpPr>
                        <p:grpSp>
                          <p:nvGrpSpPr>
                            <p:cNvPr id="913" name=""/>
                            <p:cNvGrpSpPr/>
                            <p:nvPr/>
                          </p:nvGrpSpPr>
                          <p:grpSpPr>
                            <a:xfrm>
                              <a:off x="6167520" y="3349080"/>
                              <a:ext cx="16200" cy="17640"/>
                              <a:chOff x="6167520" y="3349080"/>
                              <a:chExt cx="16200" cy="17640"/>
                            </a:xfrm>
                          </p:grpSpPr>
                          <p:sp>
                            <p:nvSpPr>
                              <p:cNvPr id="914" name=""/>
                              <p:cNvSpPr/>
                              <p:nvPr/>
                            </p:nvSpPr>
                            <p:spPr>
                              <a:xfrm>
                                <a:off x="61675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5" name=""/>
                              <p:cNvSpPr/>
                              <p:nvPr/>
                            </p:nvSpPr>
                            <p:spPr>
                              <a:xfrm>
                                <a:off x="61722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6" name=""/>
                            <p:cNvGrpSpPr/>
                            <p:nvPr/>
                          </p:nvGrpSpPr>
                          <p:grpSpPr>
                            <a:xfrm>
                              <a:off x="6177600" y="3349080"/>
                              <a:ext cx="11520" cy="17640"/>
                              <a:chOff x="6177600" y="3349080"/>
                              <a:chExt cx="11520" cy="17640"/>
                            </a:xfrm>
                          </p:grpSpPr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61776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8" name=""/>
                              <p:cNvSpPr/>
                              <p:nvPr/>
                            </p:nvSpPr>
                            <p:spPr>
                              <a:xfrm>
                                <a:off x="61822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19" name=""/>
                        <p:cNvGrpSpPr/>
                        <p:nvPr/>
                      </p:nvGrpSpPr>
                      <p:grpSpPr>
                        <a:xfrm>
                          <a:off x="6188400" y="3349080"/>
                          <a:ext cx="45720" cy="17640"/>
                          <a:chOff x="6188400" y="3349080"/>
                          <a:chExt cx="45720" cy="17640"/>
                        </a:xfrm>
                      </p:grpSpPr>
                      <p:grpSp>
                        <p:nvGrpSpPr>
                          <p:cNvPr id="920" name=""/>
                          <p:cNvGrpSpPr/>
                          <p:nvPr/>
                        </p:nvGrpSpPr>
                        <p:grpSpPr>
                          <a:xfrm>
                            <a:off x="6188400" y="3349080"/>
                            <a:ext cx="14760" cy="17640"/>
                            <a:chOff x="6188400" y="3349080"/>
                            <a:chExt cx="14760" cy="17640"/>
                          </a:xfrm>
                        </p:grpSpPr>
                        <p:grpSp>
                          <p:nvGrpSpPr>
                            <p:cNvPr id="921" name=""/>
                            <p:cNvGrpSpPr/>
                            <p:nvPr/>
                          </p:nvGrpSpPr>
                          <p:grpSpPr>
                            <a:xfrm>
                              <a:off x="6188400" y="3349080"/>
                              <a:ext cx="4320" cy="17640"/>
                              <a:chOff x="6188400" y="3349080"/>
                              <a:chExt cx="4320" cy="17640"/>
                            </a:xfrm>
                          </p:grpSpPr>
                          <p:sp>
                            <p:nvSpPr>
                              <p:cNvPr id="922" name=""/>
                              <p:cNvSpPr/>
                              <p:nvPr/>
                            </p:nvSpPr>
                            <p:spPr>
                              <a:xfrm>
                                <a:off x="618840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3" name=""/>
                              <p:cNvSpPr/>
                              <p:nvPr/>
                            </p:nvSpPr>
                            <p:spPr>
                              <a:xfrm>
                                <a:off x="61923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4" name=""/>
                            <p:cNvGrpSpPr/>
                            <p:nvPr/>
                          </p:nvGrpSpPr>
                          <p:grpSpPr>
                            <a:xfrm>
                              <a:off x="6198120" y="3349080"/>
                              <a:ext cx="5040" cy="17640"/>
                              <a:chOff x="6198120" y="3349080"/>
                              <a:chExt cx="5040" cy="17640"/>
                            </a:xfrm>
                          </p:grpSpPr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61981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6" name=""/>
                              <p:cNvSpPr/>
                              <p:nvPr/>
                            </p:nvSpPr>
                            <p:spPr>
                              <a:xfrm>
                                <a:off x="62028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7" name=""/>
                          <p:cNvGrpSpPr/>
                          <p:nvPr/>
                        </p:nvGrpSpPr>
                        <p:grpSpPr>
                          <a:xfrm>
                            <a:off x="6207840" y="3349080"/>
                            <a:ext cx="26280" cy="17640"/>
                            <a:chOff x="6207840" y="3349080"/>
                            <a:chExt cx="26280" cy="17640"/>
                          </a:xfrm>
                        </p:grpSpPr>
                        <p:grpSp>
                          <p:nvGrpSpPr>
                            <p:cNvPr id="928" name=""/>
                            <p:cNvGrpSpPr/>
                            <p:nvPr/>
                          </p:nvGrpSpPr>
                          <p:grpSpPr>
                            <a:xfrm>
                              <a:off x="6207840" y="3349080"/>
                              <a:ext cx="11520" cy="17640"/>
                              <a:chOff x="6207840" y="3349080"/>
                              <a:chExt cx="11520" cy="17640"/>
                            </a:xfrm>
                          </p:grpSpPr>
                          <p:sp>
                            <p:nvSpPr>
                              <p:cNvPr id="929" name=""/>
                              <p:cNvSpPr/>
                              <p:nvPr/>
                            </p:nvSpPr>
                            <p:spPr>
                              <a:xfrm>
                                <a:off x="620784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0" name=""/>
                              <p:cNvSpPr/>
                              <p:nvPr/>
                            </p:nvSpPr>
                            <p:spPr>
                              <a:xfrm>
                                <a:off x="621324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1" name=""/>
                            <p:cNvGrpSpPr/>
                            <p:nvPr/>
                          </p:nvGrpSpPr>
                          <p:grpSpPr>
                            <a:xfrm>
                              <a:off x="6217920" y="3349080"/>
                              <a:ext cx="16200" cy="17640"/>
                              <a:chOff x="6217920" y="3349080"/>
                              <a:chExt cx="16200" cy="17640"/>
                            </a:xfrm>
                          </p:grpSpPr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621792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3" name=""/>
                              <p:cNvSpPr/>
                              <p:nvPr/>
                            </p:nvSpPr>
                            <p:spPr>
                              <a:xfrm>
                                <a:off x="62226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4" name=""/>
                <p:cNvGrpSpPr/>
                <p:nvPr/>
              </p:nvGrpSpPr>
              <p:grpSpPr>
                <a:xfrm>
                  <a:off x="5904720" y="3288960"/>
                  <a:ext cx="315000" cy="41760"/>
                  <a:chOff x="5904720" y="3288960"/>
                  <a:chExt cx="315000" cy="4176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>
                    <a:off x="5904720" y="32889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974200" y="32889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072480" y="32889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179760" y="32889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9" name=""/>
              <p:cNvGrpSpPr/>
              <p:nvPr/>
            </p:nvGrpSpPr>
            <p:grpSpPr>
              <a:xfrm>
                <a:off x="6184800" y="3294000"/>
                <a:ext cx="25200" cy="19440"/>
                <a:chOff x="6184800" y="3294000"/>
                <a:chExt cx="25200" cy="194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6199200" y="32940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201000" y="33012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6184800" y="3296520"/>
                  <a:ext cx="5400" cy="16920"/>
                  <a:chOff x="6184800" y="3296520"/>
                  <a:chExt cx="5400" cy="1692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6184800" y="32965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184800" y="3309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5" name=""/>
              <p:cNvGrpSpPr/>
              <p:nvPr/>
            </p:nvGrpSpPr>
            <p:grpSpPr>
              <a:xfrm>
                <a:off x="5978160" y="3295080"/>
                <a:ext cx="85680" cy="27720"/>
                <a:chOff x="5978160" y="3295080"/>
                <a:chExt cx="85680" cy="2772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5978880" y="3295080"/>
                  <a:ext cx="84960" cy="15480"/>
                  <a:chOff x="5978880" y="3295080"/>
                  <a:chExt cx="84960" cy="154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6007320" y="32950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007320" y="33026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978880" y="33015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0" name=""/>
                <p:cNvSpPr/>
                <p:nvPr/>
              </p:nvSpPr>
              <p:spPr>
                <a:xfrm>
                  <a:off x="5978160" y="32965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051600" y="33184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5908320" y="3321720"/>
                <a:ext cx="67320" cy="9360"/>
                <a:chOff x="5908320" y="3321720"/>
                <a:chExt cx="67320" cy="9360"/>
              </a:xfrm>
            </p:grpSpPr>
            <p:grpSp>
              <p:nvGrpSpPr>
                <p:cNvPr id="953" name=""/>
                <p:cNvGrpSpPr/>
                <p:nvPr/>
              </p:nvGrpSpPr>
              <p:grpSpPr>
                <a:xfrm>
                  <a:off x="5908320" y="3321720"/>
                  <a:ext cx="37080" cy="9360"/>
                  <a:chOff x="5908320" y="3321720"/>
                  <a:chExt cx="37080" cy="9360"/>
                </a:xfrm>
              </p:grpSpPr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908320" y="3321720"/>
                    <a:ext cx="23040" cy="9360"/>
                    <a:chOff x="5908320" y="3321720"/>
                    <a:chExt cx="23040" cy="9360"/>
                  </a:xfrm>
                </p:grpSpPr>
                <p:grpSp>
                  <p:nvGrpSpPr>
                    <p:cNvPr id="955" name=""/>
                    <p:cNvGrpSpPr/>
                    <p:nvPr/>
                  </p:nvGrpSpPr>
                  <p:grpSpPr>
                    <a:xfrm>
                      <a:off x="5908320" y="3321720"/>
                      <a:ext cx="14760" cy="9360"/>
                      <a:chOff x="5908320" y="3321720"/>
                      <a:chExt cx="14760" cy="9360"/>
                    </a:xfrm>
                  </p:grpSpPr>
                  <p:sp>
                    <p:nvSpPr>
                      <p:cNvPr id="956" name=""/>
                      <p:cNvSpPr/>
                      <p:nvPr/>
                    </p:nvSpPr>
                    <p:spPr>
                      <a:xfrm>
                        <a:off x="59083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7" name=""/>
                      <p:cNvSpPr/>
                      <p:nvPr/>
                    </p:nvSpPr>
                    <p:spPr>
                      <a:xfrm>
                        <a:off x="591156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8" name=""/>
                    <p:cNvGrpSpPr/>
                    <p:nvPr/>
                  </p:nvGrpSpPr>
                  <p:grpSpPr>
                    <a:xfrm>
                      <a:off x="5915160" y="3321720"/>
                      <a:ext cx="16200" cy="9360"/>
                      <a:chOff x="5915160" y="3321720"/>
                      <a:chExt cx="16200" cy="9360"/>
                    </a:xfrm>
                  </p:grpSpPr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591516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0" name=""/>
                      <p:cNvSpPr/>
                      <p:nvPr/>
                    </p:nvSpPr>
                    <p:spPr>
                      <a:xfrm>
                        <a:off x="591948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5922720" y="3321720"/>
                    <a:ext cx="22680" cy="9360"/>
                    <a:chOff x="5922720" y="3321720"/>
                    <a:chExt cx="22680" cy="936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5922720" y="3321720"/>
                      <a:ext cx="14760" cy="9360"/>
                      <a:chOff x="5922720" y="3321720"/>
                      <a:chExt cx="14760" cy="93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59227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592596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5929920" y="3321720"/>
                      <a:ext cx="15480" cy="9360"/>
                      <a:chOff x="5929920" y="3321720"/>
                      <a:chExt cx="15480" cy="9360"/>
                    </a:xfrm>
                  </p:grpSpPr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59299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593388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37840" y="3321720"/>
                  <a:ext cx="37800" cy="9360"/>
                  <a:chOff x="5937840" y="3321720"/>
                  <a:chExt cx="37800" cy="9360"/>
                </a:xfrm>
              </p:grpSpPr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937840" y="3321720"/>
                    <a:ext cx="23040" cy="9360"/>
                    <a:chOff x="5937840" y="3321720"/>
                    <a:chExt cx="23040" cy="9360"/>
                  </a:xfrm>
                </p:grpSpPr>
                <p:grpSp>
                  <p:nvGrpSpPr>
                    <p:cNvPr id="970" name=""/>
                    <p:cNvGrpSpPr/>
                    <p:nvPr/>
                  </p:nvGrpSpPr>
                  <p:grpSpPr>
                    <a:xfrm>
                      <a:off x="5937840" y="3321720"/>
                      <a:ext cx="15840" cy="9360"/>
                      <a:chOff x="5937840" y="3321720"/>
                      <a:chExt cx="15840" cy="9360"/>
                    </a:xfrm>
                  </p:grpSpPr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593784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594180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3" name=""/>
                    <p:cNvGrpSpPr/>
                    <p:nvPr/>
                  </p:nvGrpSpPr>
                  <p:grpSpPr>
                    <a:xfrm>
                      <a:off x="5946120" y="3321720"/>
                      <a:ext cx="14760" cy="9360"/>
                      <a:chOff x="5946120" y="3321720"/>
                      <a:chExt cx="14760" cy="9360"/>
                    </a:xfrm>
                  </p:grpSpPr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59461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594936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952960" y="3321720"/>
                    <a:ext cx="22680" cy="9360"/>
                    <a:chOff x="5952960" y="3321720"/>
                    <a:chExt cx="22680" cy="9360"/>
                  </a:xfrm>
                </p:grpSpPr>
                <p:grpSp>
                  <p:nvGrpSpPr>
                    <p:cNvPr id="977" name=""/>
                    <p:cNvGrpSpPr/>
                    <p:nvPr/>
                  </p:nvGrpSpPr>
                  <p:grpSpPr>
                    <a:xfrm>
                      <a:off x="5952960" y="3321720"/>
                      <a:ext cx="15840" cy="9360"/>
                      <a:chOff x="5952960" y="3321720"/>
                      <a:chExt cx="15840" cy="9360"/>
                    </a:xfrm>
                  </p:grpSpPr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595296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95692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0" name=""/>
                    <p:cNvGrpSpPr/>
                    <p:nvPr/>
                  </p:nvGrpSpPr>
                  <p:grpSpPr>
                    <a:xfrm>
                      <a:off x="5961240" y="3321720"/>
                      <a:ext cx="14400" cy="9360"/>
                      <a:chOff x="5961240" y="3321720"/>
                      <a:chExt cx="14400" cy="9360"/>
                    </a:xfrm>
                  </p:grpSpPr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96124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>
                        <a:off x="596376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3" name=""/>
              <p:cNvSpPr/>
              <p:nvPr/>
            </p:nvSpPr>
            <p:spPr>
              <a:xfrm>
                <a:off x="5902920" y="33134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791320" y="3366000"/>
              <a:ext cx="533160" cy="62640"/>
              <a:chOff x="5791320" y="3366000"/>
              <a:chExt cx="533160" cy="6264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791320" y="3366000"/>
                <a:ext cx="533160" cy="62640"/>
                <a:chOff x="5791320" y="3366000"/>
                <a:chExt cx="533160" cy="626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793840" y="342108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791320" y="336600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807160" y="337176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5850000" y="3370680"/>
                <a:ext cx="419760" cy="14400"/>
                <a:chOff x="5850000" y="3370680"/>
                <a:chExt cx="419760" cy="14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5850000" y="33706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889960" y="33706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975640" y="33706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051600" y="33706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129720" y="33706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199560" y="33757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5836680" y="3384720"/>
                <a:ext cx="435240" cy="21960"/>
                <a:chOff x="5836680" y="3384720"/>
                <a:chExt cx="435240" cy="21960"/>
              </a:xfrm>
            </p:grpSpPr>
            <p:grpSp>
              <p:nvGrpSpPr>
                <p:cNvPr id="997" name=""/>
                <p:cNvGrpSpPr/>
                <p:nvPr/>
              </p:nvGrpSpPr>
              <p:grpSpPr>
                <a:xfrm>
                  <a:off x="5874480" y="3385440"/>
                  <a:ext cx="212760" cy="19080"/>
                  <a:chOff x="5874480" y="3385440"/>
                  <a:chExt cx="212760" cy="190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5874480" y="33854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5882760" y="33915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5885280" y="33976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889600" y="34045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5836680" y="3388320"/>
                  <a:ext cx="30960" cy="12240"/>
                  <a:chOff x="5836680" y="3388320"/>
                  <a:chExt cx="30960" cy="1224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5845680" y="33883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842080" y="33948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5836680" y="34005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5920920" y="3384720"/>
                  <a:ext cx="194760" cy="20880"/>
                  <a:chOff x="5920920" y="3384720"/>
                  <a:chExt cx="194760" cy="2088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5920920" y="34048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090840" y="33847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098400" y="33919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082560" y="33987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050520" y="34048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076440" y="34056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6130800" y="3388320"/>
                  <a:ext cx="56160" cy="17280"/>
                  <a:chOff x="6130800" y="3388320"/>
                  <a:chExt cx="56160" cy="172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6130800" y="33883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6139080" y="33962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6139440" y="34056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6204240" y="3388320"/>
                  <a:ext cx="67680" cy="18360"/>
                  <a:chOff x="6204240" y="3388320"/>
                  <a:chExt cx="67680" cy="1836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6208920" y="33883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204240" y="33948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208920" y="34005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6207480" y="34066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258600" y="33955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6263640" y="34034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4" name=""/>
            <p:cNvGrpSpPr/>
            <p:nvPr/>
          </p:nvGrpSpPr>
          <p:grpSpPr>
            <a:xfrm>
              <a:off x="5947920" y="3229920"/>
              <a:ext cx="231840" cy="38160"/>
              <a:chOff x="5947920" y="3229920"/>
              <a:chExt cx="231840" cy="3816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5947920" y="3242520"/>
                <a:ext cx="231840" cy="25560"/>
                <a:chOff x="5947920" y="3242520"/>
                <a:chExt cx="231840" cy="2556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5947920" y="324252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950080" y="325980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6000840" y="32299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5921640" y="30481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53680" y="30686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63040" y="307404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49528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1676520" y="2133720"/>
          <a:ext cx="6555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55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623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505320" y="5029200"/>
            <a:ext cx="837720" cy="456840"/>
            <a:chOff x="3505320" y="5029200"/>
            <a:chExt cx="837720" cy="456840"/>
          </a:xfrm>
        </p:grpSpPr>
        <p:grpSp>
          <p:nvGrpSpPr>
            <p:cNvPr id="1040" name=""/>
            <p:cNvGrpSpPr/>
            <p:nvPr/>
          </p:nvGrpSpPr>
          <p:grpSpPr>
            <a:xfrm>
              <a:off x="3521160" y="5050800"/>
              <a:ext cx="821880" cy="435240"/>
              <a:chOff x="3521160" y="5050800"/>
              <a:chExt cx="821880" cy="435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3521160" y="5190840"/>
                <a:ext cx="821880" cy="1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28720" y="5206320"/>
                <a:ext cx="813960" cy="27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28720" y="5050800"/>
                <a:ext cx="813960" cy="28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3505320" y="5168880"/>
              <a:ext cx="821880" cy="15444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13240" y="5183640"/>
              <a:ext cx="813960" cy="2808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513240" y="5029200"/>
              <a:ext cx="813960" cy="2797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3664440" y="5065200"/>
              <a:ext cx="511200" cy="208080"/>
              <a:chOff x="3664440" y="5065200"/>
              <a:chExt cx="511200" cy="20808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3664440" y="5065200"/>
                <a:ext cx="511200" cy="207720"/>
                <a:chOff x="3664440" y="5065200"/>
                <a:chExt cx="511200" cy="20772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664440" y="506520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664440" y="506520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935520" y="519768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935520" y="519768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3679920" y="5065200"/>
                <a:ext cx="480600" cy="208080"/>
                <a:chOff x="3679920" y="5065200"/>
                <a:chExt cx="480600" cy="2080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3918960" y="506520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918960" y="506520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679920" y="518328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79920" y="518328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8" name=""/>
          <p:cNvGrpSpPr/>
          <p:nvPr/>
        </p:nvGrpSpPr>
        <p:grpSpPr>
          <a:xfrm>
            <a:off x="6095880" y="4419720"/>
            <a:ext cx="533520" cy="380520"/>
            <a:chOff x="6095880" y="4419720"/>
            <a:chExt cx="533520" cy="380520"/>
          </a:xfrm>
        </p:grpSpPr>
        <p:grpSp>
          <p:nvGrpSpPr>
            <p:cNvPr id="1059" name=""/>
            <p:cNvGrpSpPr/>
            <p:nvPr/>
          </p:nvGrpSpPr>
          <p:grpSpPr>
            <a:xfrm>
              <a:off x="6198840" y="4622760"/>
              <a:ext cx="340200" cy="118080"/>
              <a:chOff x="6198840" y="4622760"/>
              <a:chExt cx="340200" cy="11808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6198840" y="4622760"/>
                <a:ext cx="340200" cy="118080"/>
                <a:chOff x="6198840" y="4622760"/>
                <a:chExt cx="340200" cy="11808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6198840" y="4622760"/>
                  <a:ext cx="340200" cy="118080"/>
                  <a:chOff x="6198840" y="4622760"/>
                  <a:chExt cx="340200" cy="1180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6198840" y="4622760"/>
                    <a:ext cx="339120" cy="118080"/>
                    <a:chOff x="6198840" y="4622760"/>
                    <a:chExt cx="339120" cy="118080"/>
                  </a:xfrm>
                </p:grpSpPr>
                <p:grpSp>
                  <p:nvGrpSpPr>
                    <p:cNvPr id="1063" name=""/>
                    <p:cNvGrpSpPr/>
                    <p:nvPr/>
                  </p:nvGrpSpPr>
                  <p:grpSpPr>
                    <a:xfrm>
                      <a:off x="6198840" y="4622760"/>
                      <a:ext cx="339120" cy="118080"/>
                      <a:chOff x="6198840" y="4622760"/>
                      <a:chExt cx="339120" cy="118080"/>
                    </a:xfrm>
                  </p:grpSpPr>
                  <p:sp>
                    <p:nvSpPr>
                      <p:cNvPr id="1064" name=""/>
                      <p:cNvSpPr/>
                      <p:nvPr/>
                    </p:nvSpPr>
                    <p:spPr>
                      <a:xfrm>
                        <a:off x="6199920" y="46533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5" name=""/>
                      <p:cNvSpPr/>
                      <p:nvPr/>
                    </p:nvSpPr>
                    <p:spPr>
                      <a:xfrm>
                        <a:off x="6198840" y="46227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6207840" y="46465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6212520" y="4720680"/>
                    <a:ext cx="326520" cy="17640"/>
                    <a:chOff x="6212520" y="4720680"/>
                    <a:chExt cx="326520" cy="17640"/>
                  </a:xfrm>
                </p:grpSpPr>
                <p:grpSp>
                  <p:nvGrpSpPr>
                    <p:cNvPr id="1068" name=""/>
                    <p:cNvGrpSpPr/>
                    <p:nvPr/>
                  </p:nvGrpSpPr>
                  <p:grpSpPr>
                    <a:xfrm>
                      <a:off x="6212520" y="4720680"/>
                      <a:ext cx="160560" cy="17640"/>
                      <a:chOff x="6212520" y="4720680"/>
                      <a:chExt cx="160560" cy="17640"/>
                    </a:xfrm>
                  </p:grpSpPr>
                  <p:grpSp>
                    <p:nvGrpSpPr>
                      <p:cNvPr id="1069" name=""/>
                      <p:cNvGrpSpPr/>
                      <p:nvPr/>
                    </p:nvGrpSpPr>
                    <p:grpSpPr>
                      <a:xfrm>
                        <a:off x="6212520" y="4720680"/>
                        <a:ext cx="76320" cy="17640"/>
                        <a:chOff x="6212520" y="4720680"/>
                        <a:chExt cx="76320" cy="17640"/>
                      </a:xfrm>
                    </p:grpSpPr>
                    <p:grpSp>
                      <p:nvGrpSpPr>
                        <p:cNvPr id="1070" name=""/>
                        <p:cNvGrpSpPr/>
                        <p:nvPr/>
                      </p:nvGrpSpPr>
                      <p:grpSpPr>
                        <a:xfrm>
                          <a:off x="6212520" y="4720680"/>
                          <a:ext cx="35640" cy="17640"/>
                          <a:chOff x="6212520" y="4720680"/>
                          <a:chExt cx="35640" cy="17640"/>
                        </a:xfrm>
                      </p:grpSpPr>
                      <p:grpSp>
                        <p:nvGrpSpPr>
                          <p:cNvPr id="1071" name=""/>
                          <p:cNvGrpSpPr/>
                          <p:nvPr/>
                        </p:nvGrpSpPr>
                        <p:grpSpPr>
                          <a:xfrm>
                            <a:off x="6212520" y="4720680"/>
                            <a:ext cx="20880" cy="17640"/>
                            <a:chOff x="6212520" y="4720680"/>
                            <a:chExt cx="20880" cy="17640"/>
                          </a:xfrm>
                        </p:grpSpPr>
                        <p:grpSp>
                          <p:nvGrpSpPr>
                            <p:cNvPr id="1072" name=""/>
                            <p:cNvGrpSpPr/>
                            <p:nvPr/>
                          </p:nvGrpSpPr>
                          <p:grpSpPr>
                            <a:xfrm>
                              <a:off x="6212520" y="4720680"/>
                              <a:ext cx="5040" cy="17640"/>
                              <a:chOff x="6212520" y="4720680"/>
                              <a:chExt cx="5040" cy="17640"/>
                            </a:xfrm>
                          </p:grpSpPr>
                          <p:sp>
                            <p:nvSpPr>
                              <p:cNvPr id="1073" name=""/>
                              <p:cNvSpPr/>
                              <p:nvPr/>
                            </p:nvSpPr>
                            <p:spPr>
                              <a:xfrm>
                                <a:off x="6212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4" name=""/>
                              <p:cNvSpPr/>
                              <p:nvPr/>
                            </p:nvSpPr>
                            <p:spPr>
                              <a:xfrm>
                                <a:off x="62172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75" name=""/>
                            <p:cNvGrpSpPr/>
                            <p:nvPr/>
                          </p:nvGrpSpPr>
                          <p:grpSpPr>
                            <a:xfrm>
                              <a:off x="6221880" y="4720680"/>
                              <a:ext cx="11520" cy="17640"/>
                              <a:chOff x="6221880" y="4720680"/>
                              <a:chExt cx="11520" cy="17640"/>
                            </a:xfrm>
                          </p:grpSpPr>
                          <p:sp>
                            <p:nvSpPr>
                              <p:cNvPr id="1076" name=""/>
                              <p:cNvSpPr/>
                              <p:nvPr/>
                            </p:nvSpPr>
                            <p:spPr>
                              <a:xfrm>
                                <a:off x="62218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7" name=""/>
                              <p:cNvSpPr/>
                              <p:nvPr/>
                            </p:nvSpPr>
                            <p:spPr>
                              <a:xfrm>
                                <a:off x="62272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078" name=""/>
                          <p:cNvGrpSpPr/>
                          <p:nvPr/>
                        </p:nvGrpSpPr>
                        <p:grpSpPr>
                          <a:xfrm>
                            <a:off x="6232680" y="4720680"/>
                            <a:ext cx="15480" cy="17640"/>
                            <a:chOff x="6232680" y="4720680"/>
                            <a:chExt cx="15480" cy="17640"/>
                          </a:xfrm>
                        </p:grpSpPr>
                        <p:grpSp>
                          <p:nvGrpSpPr>
                            <p:cNvPr id="1079" name=""/>
                            <p:cNvGrpSpPr/>
                            <p:nvPr/>
                          </p:nvGrpSpPr>
                          <p:grpSpPr>
                            <a:xfrm>
                              <a:off x="6232680" y="4720680"/>
                              <a:ext cx="11520" cy="17640"/>
                              <a:chOff x="6232680" y="4720680"/>
                              <a:chExt cx="11520" cy="17640"/>
                            </a:xfrm>
                          </p:grpSpPr>
                          <p:sp>
                            <p:nvSpPr>
                              <p:cNvPr id="1080" name=""/>
                              <p:cNvSpPr/>
                              <p:nvPr/>
                            </p:nvSpPr>
                            <p:spPr>
                              <a:xfrm>
                                <a:off x="62326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1" name=""/>
                              <p:cNvSpPr/>
                              <p:nvPr/>
                            </p:nvSpPr>
                            <p:spPr>
                              <a:xfrm>
                                <a:off x="62373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82" name=""/>
                            <p:cNvGrpSpPr/>
                            <p:nvPr/>
                          </p:nvGrpSpPr>
                          <p:grpSpPr>
                            <a:xfrm>
                              <a:off x="6243120" y="4720680"/>
                              <a:ext cx="5040" cy="17640"/>
                              <a:chOff x="6243120" y="4720680"/>
                              <a:chExt cx="5040" cy="17640"/>
                            </a:xfrm>
                          </p:grpSpPr>
                          <p:sp>
                            <p:nvSpPr>
                              <p:cNvPr id="1083" name=""/>
                              <p:cNvSpPr/>
                              <p:nvPr/>
                            </p:nvSpPr>
                            <p:spPr>
                              <a:xfrm>
                                <a:off x="62431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4" name=""/>
                              <p:cNvSpPr/>
                              <p:nvPr/>
                            </p:nvSpPr>
                            <p:spPr>
                              <a:xfrm>
                                <a:off x="62478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085" name=""/>
                        <p:cNvGrpSpPr/>
                        <p:nvPr/>
                      </p:nvGrpSpPr>
                      <p:grpSpPr>
                        <a:xfrm>
                          <a:off x="6252480" y="4720680"/>
                          <a:ext cx="36360" cy="17640"/>
                          <a:chOff x="6252480" y="4720680"/>
                          <a:chExt cx="36360" cy="17640"/>
                        </a:xfrm>
                      </p:grpSpPr>
                      <p:grpSp>
                        <p:nvGrpSpPr>
                          <p:cNvPr id="1086" name=""/>
                          <p:cNvGrpSpPr/>
                          <p:nvPr/>
                        </p:nvGrpSpPr>
                        <p:grpSpPr>
                          <a:xfrm>
                            <a:off x="6252480" y="4720680"/>
                            <a:ext cx="21600" cy="17640"/>
                            <a:chOff x="6252480" y="4720680"/>
                            <a:chExt cx="21600" cy="17640"/>
                          </a:xfrm>
                        </p:grpSpPr>
                        <p:grpSp>
                          <p:nvGrpSpPr>
                            <p:cNvPr id="1087" name=""/>
                            <p:cNvGrpSpPr/>
                            <p:nvPr/>
                          </p:nvGrpSpPr>
                          <p:grpSpPr>
                            <a:xfrm>
                              <a:off x="6252480" y="4720680"/>
                              <a:ext cx="16200" cy="17640"/>
                              <a:chOff x="6252480" y="4720680"/>
                              <a:chExt cx="16200" cy="17640"/>
                            </a:xfrm>
                          </p:grpSpPr>
                          <p:sp>
                            <p:nvSpPr>
                              <p:cNvPr id="1088" name=""/>
                              <p:cNvSpPr/>
                              <p:nvPr/>
                            </p:nvSpPr>
                            <p:spPr>
                              <a:xfrm>
                                <a:off x="62524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9" name=""/>
                              <p:cNvSpPr/>
                              <p:nvPr/>
                            </p:nvSpPr>
                            <p:spPr>
                              <a:xfrm>
                                <a:off x="62571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0" name=""/>
                            <p:cNvGrpSpPr/>
                            <p:nvPr/>
                          </p:nvGrpSpPr>
                          <p:grpSpPr>
                            <a:xfrm>
                              <a:off x="6262200" y="4720680"/>
                              <a:ext cx="11880" cy="17640"/>
                              <a:chOff x="6262200" y="4720680"/>
                              <a:chExt cx="11880" cy="17640"/>
                            </a:xfrm>
                          </p:grpSpPr>
                          <p:sp>
                            <p:nvSpPr>
                              <p:cNvPr id="1091" name=""/>
                              <p:cNvSpPr/>
                              <p:nvPr/>
                            </p:nvSpPr>
                            <p:spPr>
                              <a:xfrm>
                                <a:off x="6262200" y="47206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2" name=""/>
                              <p:cNvSpPr/>
                              <p:nvPr/>
                            </p:nvSpPr>
                            <p:spPr>
                              <a:xfrm>
                                <a:off x="62676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093" name=""/>
                          <p:cNvGrpSpPr/>
                          <p:nvPr/>
                        </p:nvGrpSpPr>
                        <p:grpSpPr>
                          <a:xfrm>
                            <a:off x="6272640" y="4720680"/>
                            <a:ext cx="16200" cy="17640"/>
                            <a:chOff x="6272640" y="4720680"/>
                            <a:chExt cx="16200" cy="17640"/>
                          </a:xfrm>
                        </p:grpSpPr>
                        <p:grpSp>
                          <p:nvGrpSpPr>
                            <p:cNvPr id="1094" name=""/>
                            <p:cNvGrpSpPr/>
                            <p:nvPr/>
                          </p:nvGrpSpPr>
                          <p:grpSpPr>
                            <a:xfrm>
                              <a:off x="6272640" y="4720680"/>
                              <a:ext cx="16200" cy="17640"/>
                              <a:chOff x="6272640" y="4720680"/>
                              <a:chExt cx="16200" cy="17640"/>
                            </a:xfrm>
                          </p:grpSpPr>
                          <p:sp>
                            <p:nvSpPr>
                              <p:cNvPr id="1095" name=""/>
                              <p:cNvSpPr/>
                              <p:nvPr/>
                            </p:nvSpPr>
                            <p:spPr>
                              <a:xfrm>
                                <a:off x="62726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6" name=""/>
                              <p:cNvSpPr/>
                              <p:nvPr/>
                            </p:nvSpPr>
                            <p:spPr>
                              <a:xfrm>
                                <a:off x="62773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7" name=""/>
                            <p:cNvGrpSpPr/>
                            <p:nvPr/>
                          </p:nvGrpSpPr>
                          <p:grpSpPr>
                            <a:xfrm>
                              <a:off x="6282720" y="4720680"/>
                              <a:ext cx="5400" cy="17640"/>
                              <a:chOff x="6282720" y="4720680"/>
                              <a:chExt cx="5400" cy="17640"/>
                            </a:xfrm>
                          </p:grpSpPr>
                          <p:sp>
                            <p:nvSpPr>
                              <p:cNvPr id="1098" name=""/>
                              <p:cNvSpPr/>
                              <p:nvPr/>
                            </p:nvSpPr>
                            <p:spPr>
                              <a:xfrm>
                                <a:off x="62827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9" name=""/>
                              <p:cNvSpPr/>
                              <p:nvPr/>
                            </p:nvSpPr>
                            <p:spPr>
                              <a:xfrm>
                                <a:off x="62874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100" name=""/>
                      <p:cNvGrpSpPr/>
                      <p:nvPr/>
                    </p:nvGrpSpPr>
                    <p:grpSpPr>
                      <a:xfrm>
                        <a:off x="6292440" y="4720680"/>
                        <a:ext cx="80640" cy="17640"/>
                        <a:chOff x="6292440" y="4720680"/>
                        <a:chExt cx="80640" cy="17640"/>
                      </a:xfrm>
                    </p:grpSpPr>
                    <p:grpSp>
                      <p:nvGrpSpPr>
                        <p:cNvPr id="1101" name=""/>
                        <p:cNvGrpSpPr/>
                        <p:nvPr/>
                      </p:nvGrpSpPr>
                      <p:grpSpPr>
                        <a:xfrm>
                          <a:off x="6292440" y="4720680"/>
                          <a:ext cx="45720" cy="17640"/>
                          <a:chOff x="6292440" y="4720680"/>
                          <a:chExt cx="45720" cy="17640"/>
                        </a:xfrm>
                      </p:grpSpPr>
                      <p:grpSp>
                        <p:nvGrpSpPr>
                          <p:cNvPr id="1102" name=""/>
                          <p:cNvGrpSpPr/>
                          <p:nvPr/>
                        </p:nvGrpSpPr>
                        <p:grpSpPr>
                          <a:xfrm>
                            <a:off x="6292440" y="4720680"/>
                            <a:ext cx="16200" cy="17640"/>
                            <a:chOff x="6292440" y="4720680"/>
                            <a:chExt cx="16200" cy="17640"/>
                          </a:xfrm>
                        </p:grpSpPr>
                        <p:grpSp>
                          <p:nvGrpSpPr>
                            <p:cNvPr id="1103" name=""/>
                            <p:cNvGrpSpPr/>
                            <p:nvPr/>
                          </p:nvGrpSpPr>
                          <p:grpSpPr>
                            <a:xfrm>
                              <a:off x="6292440" y="4720680"/>
                              <a:ext cx="16200" cy="17640"/>
                              <a:chOff x="6292440" y="4720680"/>
                              <a:chExt cx="16200" cy="17640"/>
                            </a:xfrm>
                          </p:grpSpPr>
                          <p:sp>
                            <p:nvSpPr>
                              <p:cNvPr id="1104" name=""/>
                              <p:cNvSpPr/>
                              <p:nvPr/>
                            </p:nvSpPr>
                            <p:spPr>
                              <a:xfrm>
                                <a:off x="6292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5" name=""/>
                              <p:cNvSpPr/>
                              <p:nvPr/>
                            </p:nvSpPr>
                            <p:spPr>
                              <a:xfrm>
                                <a:off x="6297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06" name=""/>
                            <p:cNvGrpSpPr/>
                            <p:nvPr/>
                          </p:nvGrpSpPr>
                          <p:grpSpPr>
                            <a:xfrm>
                              <a:off x="6302520" y="4720680"/>
                              <a:ext cx="4320" cy="17640"/>
                              <a:chOff x="6302520" y="4720680"/>
                              <a:chExt cx="4320" cy="17640"/>
                            </a:xfrm>
                          </p:grpSpPr>
                          <p:sp>
                            <p:nvSpPr>
                              <p:cNvPr id="1107" name=""/>
                              <p:cNvSpPr/>
                              <p:nvPr/>
                            </p:nvSpPr>
                            <p:spPr>
                              <a:xfrm>
                                <a:off x="63025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8" name=""/>
                              <p:cNvSpPr/>
                              <p:nvPr/>
                            </p:nvSpPr>
                            <p:spPr>
                              <a:xfrm>
                                <a:off x="63064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09" name=""/>
                          <p:cNvGrpSpPr/>
                          <p:nvPr/>
                        </p:nvGrpSpPr>
                        <p:grpSpPr>
                          <a:xfrm>
                            <a:off x="6312960" y="4720680"/>
                            <a:ext cx="25200" cy="17640"/>
                            <a:chOff x="6312960" y="4720680"/>
                            <a:chExt cx="25200" cy="17640"/>
                          </a:xfrm>
                        </p:grpSpPr>
                        <p:grpSp>
                          <p:nvGrpSpPr>
                            <p:cNvPr id="1110" name=""/>
                            <p:cNvGrpSpPr/>
                            <p:nvPr/>
                          </p:nvGrpSpPr>
                          <p:grpSpPr>
                            <a:xfrm>
                              <a:off x="6312960" y="4720680"/>
                              <a:ext cx="4320" cy="17640"/>
                              <a:chOff x="6312960" y="4720680"/>
                              <a:chExt cx="4320" cy="17640"/>
                            </a:xfrm>
                          </p:grpSpPr>
                          <p:sp>
                            <p:nvSpPr>
                              <p:cNvPr id="1111" name=""/>
                              <p:cNvSpPr/>
                              <p:nvPr/>
                            </p:nvSpPr>
                            <p:spPr>
                              <a:xfrm>
                                <a:off x="63129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6316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13" name=""/>
                            <p:cNvGrpSpPr/>
                            <p:nvPr/>
                          </p:nvGrpSpPr>
                          <p:grpSpPr>
                            <a:xfrm>
                              <a:off x="6322680" y="4720680"/>
                              <a:ext cx="15480" cy="17640"/>
                              <a:chOff x="6322680" y="4720680"/>
                              <a:chExt cx="15480" cy="17640"/>
                            </a:xfrm>
                          </p:grpSpPr>
                          <p:sp>
                            <p:nvSpPr>
                              <p:cNvPr id="1114" name=""/>
                              <p:cNvSpPr/>
                              <p:nvPr/>
                            </p:nvSpPr>
                            <p:spPr>
                              <a:xfrm>
                                <a:off x="63226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5" name=""/>
                              <p:cNvSpPr/>
                              <p:nvPr/>
                            </p:nvSpPr>
                            <p:spPr>
                              <a:xfrm>
                                <a:off x="63266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16" name=""/>
                        <p:cNvGrpSpPr/>
                        <p:nvPr/>
                      </p:nvGrpSpPr>
                      <p:grpSpPr>
                        <a:xfrm>
                          <a:off x="6332400" y="4720680"/>
                          <a:ext cx="40680" cy="17640"/>
                          <a:chOff x="6332400" y="4720680"/>
                          <a:chExt cx="40680" cy="17640"/>
                        </a:xfrm>
                      </p:grpSpPr>
                      <p:grpSp>
                        <p:nvGrpSpPr>
                          <p:cNvPr id="1117" name=""/>
                          <p:cNvGrpSpPr/>
                          <p:nvPr/>
                        </p:nvGrpSpPr>
                        <p:grpSpPr>
                          <a:xfrm>
                            <a:off x="6332400" y="4720680"/>
                            <a:ext cx="15480" cy="17640"/>
                            <a:chOff x="6332400" y="4720680"/>
                            <a:chExt cx="15480" cy="17640"/>
                          </a:xfrm>
                        </p:grpSpPr>
                        <p:grpSp>
                          <p:nvGrpSpPr>
                            <p:cNvPr id="1118" name=""/>
                            <p:cNvGrpSpPr/>
                            <p:nvPr/>
                          </p:nvGrpSpPr>
                          <p:grpSpPr>
                            <a:xfrm>
                              <a:off x="6332400" y="4720680"/>
                              <a:ext cx="5040" cy="17640"/>
                              <a:chOff x="6332400" y="4720680"/>
                              <a:chExt cx="5040" cy="17640"/>
                            </a:xfrm>
                          </p:grpSpPr>
                          <p:sp>
                            <p:nvSpPr>
                              <p:cNvPr id="1119" name=""/>
                              <p:cNvSpPr/>
                              <p:nvPr/>
                            </p:nvSpPr>
                            <p:spPr>
                              <a:xfrm>
                                <a:off x="63324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0" name=""/>
                              <p:cNvSpPr/>
                              <p:nvPr/>
                            </p:nvSpPr>
                            <p:spPr>
                              <a:xfrm>
                                <a:off x="63370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21" name=""/>
                            <p:cNvGrpSpPr/>
                            <p:nvPr/>
                          </p:nvGrpSpPr>
                          <p:grpSpPr>
                            <a:xfrm>
                              <a:off x="6342840" y="4720680"/>
                              <a:ext cx="5040" cy="17640"/>
                              <a:chOff x="6342840" y="4720680"/>
                              <a:chExt cx="5040" cy="17640"/>
                            </a:xfrm>
                          </p:grpSpPr>
                          <p:sp>
                            <p:nvSpPr>
                              <p:cNvPr id="1122" name=""/>
                              <p:cNvSpPr/>
                              <p:nvPr/>
                            </p:nvSpPr>
                            <p:spPr>
                              <a:xfrm>
                                <a:off x="63428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3" name=""/>
                              <p:cNvSpPr/>
                              <p:nvPr/>
                            </p:nvSpPr>
                            <p:spPr>
                              <a:xfrm>
                                <a:off x="6347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24" name=""/>
                          <p:cNvGrpSpPr/>
                          <p:nvPr/>
                        </p:nvGrpSpPr>
                        <p:grpSpPr>
                          <a:xfrm>
                            <a:off x="6352200" y="4720680"/>
                            <a:ext cx="20880" cy="17640"/>
                            <a:chOff x="6352200" y="4720680"/>
                            <a:chExt cx="20880" cy="17640"/>
                          </a:xfrm>
                        </p:grpSpPr>
                        <p:grpSp>
                          <p:nvGrpSpPr>
                            <p:cNvPr id="1125" name=""/>
                            <p:cNvGrpSpPr/>
                            <p:nvPr/>
                          </p:nvGrpSpPr>
                          <p:grpSpPr>
                            <a:xfrm>
                              <a:off x="6352200" y="4720680"/>
                              <a:ext cx="16920" cy="17640"/>
                              <a:chOff x="6352200" y="4720680"/>
                              <a:chExt cx="16920" cy="17640"/>
                            </a:xfrm>
                          </p:grpSpPr>
                          <p:sp>
                            <p:nvSpPr>
                              <p:cNvPr id="1126" name=""/>
                              <p:cNvSpPr/>
                              <p:nvPr/>
                            </p:nvSpPr>
                            <p:spPr>
                              <a:xfrm>
                                <a:off x="63522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7" name=""/>
                              <p:cNvSpPr/>
                              <p:nvPr/>
                            </p:nvSpPr>
                            <p:spPr>
                              <a:xfrm>
                                <a:off x="63576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28" name=""/>
                            <p:cNvGrpSpPr/>
                            <p:nvPr/>
                          </p:nvGrpSpPr>
                          <p:grpSpPr>
                            <a:xfrm>
                              <a:off x="6361560" y="4720680"/>
                              <a:ext cx="11520" cy="17640"/>
                              <a:chOff x="6361560" y="4720680"/>
                              <a:chExt cx="11520" cy="17640"/>
                            </a:xfrm>
                          </p:grpSpPr>
                          <p:sp>
                            <p:nvSpPr>
                              <p:cNvPr id="1129" name=""/>
                              <p:cNvSpPr/>
                              <p:nvPr/>
                            </p:nvSpPr>
                            <p:spPr>
                              <a:xfrm>
                                <a:off x="63615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0" name=""/>
                              <p:cNvSpPr/>
                              <p:nvPr/>
                            </p:nvSpPr>
                            <p:spPr>
                              <a:xfrm>
                                <a:off x="63669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131" name=""/>
                    <p:cNvGrpSpPr/>
                    <p:nvPr/>
                  </p:nvGrpSpPr>
                  <p:grpSpPr>
                    <a:xfrm>
                      <a:off x="6372720" y="4720680"/>
                      <a:ext cx="166320" cy="17640"/>
                      <a:chOff x="6372720" y="4720680"/>
                      <a:chExt cx="166320" cy="17640"/>
                    </a:xfrm>
                  </p:grpSpPr>
                  <p:grpSp>
                    <p:nvGrpSpPr>
                      <p:cNvPr id="1132" name=""/>
                      <p:cNvGrpSpPr/>
                      <p:nvPr/>
                    </p:nvGrpSpPr>
                    <p:grpSpPr>
                      <a:xfrm>
                        <a:off x="6372720" y="4720680"/>
                        <a:ext cx="85680" cy="17640"/>
                        <a:chOff x="6372720" y="4720680"/>
                        <a:chExt cx="85680" cy="17640"/>
                      </a:xfrm>
                    </p:grpSpPr>
                    <p:grpSp>
                      <p:nvGrpSpPr>
                        <p:cNvPr id="1133" name=""/>
                        <p:cNvGrpSpPr/>
                        <p:nvPr/>
                      </p:nvGrpSpPr>
                      <p:grpSpPr>
                        <a:xfrm>
                          <a:off x="6372720" y="4720680"/>
                          <a:ext cx="36000" cy="17640"/>
                          <a:chOff x="6372720" y="4720680"/>
                          <a:chExt cx="36000" cy="17640"/>
                        </a:xfrm>
                      </p:grpSpPr>
                      <p:grpSp>
                        <p:nvGrpSpPr>
                          <p:cNvPr id="1134" name=""/>
                          <p:cNvGrpSpPr/>
                          <p:nvPr/>
                        </p:nvGrpSpPr>
                        <p:grpSpPr>
                          <a:xfrm>
                            <a:off x="6372720" y="4720680"/>
                            <a:ext cx="15480" cy="17640"/>
                            <a:chOff x="6372720" y="4720680"/>
                            <a:chExt cx="15480" cy="17640"/>
                          </a:xfrm>
                        </p:grpSpPr>
                        <p:grpSp>
                          <p:nvGrpSpPr>
                            <p:cNvPr id="1135" name=""/>
                            <p:cNvGrpSpPr/>
                            <p:nvPr/>
                          </p:nvGrpSpPr>
                          <p:grpSpPr>
                            <a:xfrm>
                              <a:off x="6372720" y="4720680"/>
                              <a:ext cx="5040" cy="17640"/>
                              <a:chOff x="6372720" y="4720680"/>
                              <a:chExt cx="5040" cy="17640"/>
                            </a:xfrm>
                          </p:grpSpPr>
                          <p:sp>
                            <p:nvSpPr>
                              <p:cNvPr id="1136" name=""/>
                              <p:cNvSpPr/>
                              <p:nvPr/>
                            </p:nvSpPr>
                            <p:spPr>
                              <a:xfrm>
                                <a:off x="63727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7" name=""/>
                              <p:cNvSpPr/>
                              <p:nvPr/>
                            </p:nvSpPr>
                            <p:spPr>
                              <a:xfrm>
                                <a:off x="63774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38" name=""/>
                            <p:cNvGrpSpPr/>
                            <p:nvPr/>
                          </p:nvGrpSpPr>
                          <p:grpSpPr>
                            <a:xfrm>
                              <a:off x="6383160" y="4720680"/>
                              <a:ext cx="5040" cy="17640"/>
                              <a:chOff x="6383160" y="4720680"/>
                              <a:chExt cx="5040" cy="17640"/>
                            </a:xfrm>
                          </p:grpSpPr>
                          <p:sp>
                            <p:nvSpPr>
                              <p:cNvPr id="1139" name=""/>
                              <p:cNvSpPr/>
                              <p:nvPr/>
                            </p:nvSpPr>
                            <p:spPr>
                              <a:xfrm>
                                <a:off x="63831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0" name=""/>
                              <p:cNvSpPr/>
                              <p:nvPr/>
                            </p:nvSpPr>
                            <p:spPr>
                              <a:xfrm>
                                <a:off x="63878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41" name=""/>
                          <p:cNvGrpSpPr/>
                          <p:nvPr/>
                        </p:nvGrpSpPr>
                        <p:grpSpPr>
                          <a:xfrm>
                            <a:off x="6392520" y="4720680"/>
                            <a:ext cx="16200" cy="17640"/>
                            <a:chOff x="6392520" y="4720680"/>
                            <a:chExt cx="16200" cy="17640"/>
                          </a:xfrm>
                        </p:grpSpPr>
                        <p:grpSp>
                          <p:nvGrpSpPr>
                            <p:cNvPr id="1142" name=""/>
                            <p:cNvGrpSpPr/>
                            <p:nvPr/>
                          </p:nvGrpSpPr>
                          <p:grpSpPr>
                            <a:xfrm>
                              <a:off x="6392520" y="4720680"/>
                              <a:ext cx="16200" cy="17640"/>
                              <a:chOff x="6392520" y="4720680"/>
                              <a:chExt cx="16200" cy="17640"/>
                            </a:xfrm>
                          </p:grpSpPr>
                          <p:sp>
                            <p:nvSpPr>
                              <p:cNvPr id="1143" name=""/>
                              <p:cNvSpPr/>
                              <p:nvPr/>
                            </p:nvSpPr>
                            <p:spPr>
                              <a:xfrm>
                                <a:off x="6392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4" name=""/>
                              <p:cNvSpPr/>
                              <p:nvPr/>
                            </p:nvSpPr>
                            <p:spPr>
                              <a:xfrm>
                                <a:off x="63972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45" name=""/>
                            <p:cNvGrpSpPr/>
                            <p:nvPr/>
                          </p:nvGrpSpPr>
                          <p:grpSpPr>
                            <a:xfrm>
                              <a:off x="6402600" y="4720680"/>
                              <a:ext cx="5040" cy="17640"/>
                              <a:chOff x="6402600" y="4720680"/>
                              <a:chExt cx="5040" cy="17640"/>
                            </a:xfrm>
                          </p:grpSpPr>
                          <p:sp>
                            <p:nvSpPr>
                              <p:cNvPr id="1146" name=""/>
                              <p:cNvSpPr/>
                              <p:nvPr/>
                            </p:nvSpPr>
                            <p:spPr>
                              <a:xfrm>
                                <a:off x="64026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7" name=""/>
                              <p:cNvSpPr/>
                              <p:nvPr/>
                            </p:nvSpPr>
                            <p:spPr>
                              <a:xfrm>
                                <a:off x="64072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48" name=""/>
                        <p:cNvGrpSpPr/>
                        <p:nvPr/>
                      </p:nvGrpSpPr>
                      <p:grpSpPr>
                        <a:xfrm>
                          <a:off x="6412320" y="4720680"/>
                          <a:ext cx="46080" cy="17640"/>
                          <a:chOff x="6412320" y="4720680"/>
                          <a:chExt cx="46080" cy="17640"/>
                        </a:xfrm>
                      </p:grpSpPr>
                      <p:grpSp>
                        <p:nvGrpSpPr>
                          <p:cNvPr id="1149" name=""/>
                          <p:cNvGrpSpPr/>
                          <p:nvPr/>
                        </p:nvGrpSpPr>
                        <p:grpSpPr>
                          <a:xfrm>
                            <a:off x="6412320" y="4720680"/>
                            <a:ext cx="16200" cy="17640"/>
                            <a:chOff x="6412320" y="4720680"/>
                            <a:chExt cx="16200" cy="17640"/>
                          </a:xfrm>
                        </p:grpSpPr>
                        <p:grpSp>
                          <p:nvGrpSpPr>
                            <p:cNvPr id="1150" name=""/>
                            <p:cNvGrpSpPr/>
                            <p:nvPr/>
                          </p:nvGrpSpPr>
                          <p:grpSpPr>
                            <a:xfrm>
                              <a:off x="6412320" y="4720680"/>
                              <a:ext cx="16200" cy="17640"/>
                              <a:chOff x="6412320" y="4720680"/>
                              <a:chExt cx="16200" cy="17640"/>
                            </a:xfrm>
                          </p:grpSpPr>
                          <p:sp>
                            <p:nvSpPr>
                              <p:cNvPr id="1151" name=""/>
                              <p:cNvSpPr/>
                              <p:nvPr/>
                            </p:nvSpPr>
                            <p:spPr>
                              <a:xfrm>
                                <a:off x="64123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52" name=""/>
                              <p:cNvSpPr/>
                              <p:nvPr/>
                            </p:nvSpPr>
                            <p:spPr>
                              <a:xfrm>
                                <a:off x="64170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53" name=""/>
                            <p:cNvGrpSpPr/>
                            <p:nvPr/>
                          </p:nvGrpSpPr>
                          <p:grpSpPr>
                            <a:xfrm>
                              <a:off x="6422760" y="4720680"/>
                              <a:ext cx="5400" cy="17640"/>
                              <a:chOff x="6422760" y="4720680"/>
                              <a:chExt cx="5400" cy="17640"/>
                            </a:xfrm>
                          </p:grpSpPr>
                          <p:sp>
                            <p:nvSpPr>
                              <p:cNvPr id="1154" name=""/>
                              <p:cNvSpPr/>
                              <p:nvPr/>
                            </p:nvSpPr>
                            <p:spPr>
                              <a:xfrm>
                                <a:off x="64227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55" name=""/>
                              <p:cNvSpPr/>
                              <p:nvPr/>
                            </p:nvSpPr>
                            <p:spPr>
                              <a:xfrm>
                                <a:off x="6427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56" name=""/>
                          <p:cNvGrpSpPr/>
                          <p:nvPr/>
                        </p:nvGrpSpPr>
                        <p:grpSpPr>
                          <a:xfrm>
                            <a:off x="6432120" y="4720680"/>
                            <a:ext cx="26280" cy="17640"/>
                            <a:chOff x="6432120" y="4720680"/>
                            <a:chExt cx="26280" cy="17640"/>
                          </a:xfrm>
                        </p:grpSpPr>
                        <p:grpSp>
                          <p:nvGrpSpPr>
                            <p:cNvPr id="1157" name=""/>
                            <p:cNvGrpSpPr/>
                            <p:nvPr/>
                          </p:nvGrpSpPr>
                          <p:grpSpPr>
                            <a:xfrm>
                              <a:off x="6432120" y="4720680"/>
                              <a:ext cx="11520" cy="17640"/>
                              <a:chOff x="6432120" y="4720680"/>
                              <a:chExt cx="11520" cy="17640"/>
                            </a:xfrm>
                          </p:grpSpPr>
                          <p:sp>
                            <p:nvSpPr>
                              <p:cNvPr id="1158" name=""/>
                              <p:cNvSpPr/>
                              <p:nvPr/>
                            </p:nvSpPr>
                            <p:spPr>
                              <a:xfrm>
                                <a:off x="6432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59" name=""/>
                              <p:cNvSpPr/>
                              <p:nvPr/>
                            </p:nvSpPr>
                            <p:spPr>
                              <a:xfrm>
                                <a:off x="6437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60" name=""/>
                            <p:cNvGrpSpPr/>
                            <p:nvPr/>
                          </p:nvGrpSpPr>
                          <p:grpSpPr>
                            <a:xfrm>
                              <a:off x="6441480" y="4720680"/>
                              <a:ext cx="16920" cy="17640"/>
                              <a:chOff x="6441480" y="4720680"/>
                              <a:chExt cx="16920" cy="17640"/>
                            </a:xfrm>
                          </p:grpSpPr>
                          <p:sp>
                            <p:nvSpPr>
                              <p:cNvPr id="1161" name=""/>
                              <p:cNvSpPr/>
                              <p:nvPr/>
                            </p:nvSpPr>
                            <p:spPr>
                              <a:xfrm>
                                <a:off x="64414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62" name=""/>
                              <p:cNvSpPr/>
                              <p:nvPr/>
                            </p:nvSpPr>
                            <p:spPr>
                              <a:xfrm>
                                <a:off x="64468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6452640" y="4720680"/>
                        <a:ext cx="86400" cy="17640"/>
                        <a:chOff x="6452640" y="4720680"/>
                        <a:chExt cx="86400" cy="17640"/>
                      </a:xfrm>
                    </p:grpSpPr>
                    <p:grpSp>
                      <p:nvGrpSpPr>
                        <p:cNvPr id="1164" name=""/>
                        <p:cNvGrpSpPr/>
                        <p:nvPr/>
                      </p:nvGrpSpPr>
                      <p:grpSpPr>
                        <a:xfrm>
                          <a:off x="6452640" y="4720680"/>
                          <a:ext cx="41400" cy="17640"/>
                          <a:chOff x="6452640" y="4720680"/>
                          <a:chExt cx="41400" cy="17640"/>
                        </a:xfrm>
                      </p:grpSpPr>
                      <p:grpSp>
                        <p:nvGrpSpPr>
                          <p:cNvPr id="1165" name=""/>
                          <p:cNvGrpSpPr/>
                          <p:nvPr/>
                        </p:nvGrpSpPr>
                        <p:grpSpPr>
                          <a:xfrm>
                            <a:off x="6452640" y="4720680"/>
                            <a:ext cx="21600" cy="17640"/>
                            <a:chOff x="6452640" y="4720680"/>
                            <a:chExt cx="21600" cy="17640"/>
                          </a:xfrm>
                        </p:grpSpPr>
                        <p:grpSp>
                          <p:nvGrpSpPr>
                            <p:cNvPr id="1166" name=""/>
                            <p:cNvGrpSpPr/>
                            <p:nvPr/>
                          </p:nvGrpSpPr>
                          <p:grpSpPr>
                            <a:xfrm>
                              <a:off x="6452640" y="4720680"/>
                              <a:ext cx="16200" cy="17640"/>
                              <a:chOff x="6452640" y="4720680"/>
                              <a:chExt cx="16200" cy="17640"/>
                            </a:xfrm>
                          </p:grpSpPr>
                          <p:sp>
                            <p:nvSpPr>
                              <p:cNvPr id="1167" name=""/>
                              <p:cNvSpPr/>
                              <p:nvPr/>
                            </p:nvSpPr>
                            <p:spPr>
                              <a:xfrm>
                                <a:off x="64526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68" name=""/>
                              <p:cNvSpPr/>
                              <p:nvPr/>
                            </p:nvSpPr>
                            <p:spPr>
                              <a:xfrm>
                                <a:off x="64573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69" name=""/>
                            <p:cNvGrpSpPr/>
                            <p:nvPr/>
                          </p:nvGrpSpPr>
                          <p:grpSpPr>
                            <a:xfrm>
                              <a:off x="6462720" y="4720680"/>
                              <a:ext cx="11520" cy="17640"/>
                              <a:chOff x="6462720" y="4720680"/>
                              <a:chExt cx="11520" cy="17640"/>
                            </a:xfrm>
                          </p:grpSpPr>
                          <p:sp>
                            <p:nvSpPr>
                              <p:cNvPr id="1170" name=""/>
                              <p:cNvSpPr/>
                              <p:nvPr/>
                            </p:nvSpPr>
                            <p:spPr>
                              <a:xfrm>
                                <a:off x="6462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1" name=""/>
                              <p:cNvSpPr/>
                              <p:nvPr/>
                            </p:nvSpPr>
                            <p:spPr>
                              <a:xfrm>
                                <a:off x="64674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72" name=""/>
                          <p:cNvGrpSpPr/>
                          <p:nvPr/>
                        </p:nvGrpSpPr>
                        <p:grpSpPr>
                          <a:xfrm>
                            <a:off x="6472440" y="4720680"/>
                            <a:ext cx="21600" cy="17640"/>
                            <a:chOff x="6472440" y="4720680"/>
                            <a:chExt cx="21600" cy="17640"/>
                          </a:xfrm>
                        </p:grpSpPr>
                        <p:grpSp>
                          <p:nvGrpSpPr>
                            <p:cNvPr id="1173" name=""/>
                            <p:cNvGrpSpPr/>
                            <p:nvPr/>
                          </p:nvGrpSpPr>
                          <p:grpSpPr>
                            <a:xfrm>
                              <a:off x="6472440" y="4720680"/>
                              <a:ext cx="16200" cy="17640"/>
                              <a:chOff x="6472440" y="4720680"/>
                              <a:chExt cx="16200" cy="17640"/>
                            </a:xfrm>
                          </p:grpSpPr>
                          <p:sp>
                            <p:nvSpPr>
                              <p:cNvPr id="1174" name=""/>
                              <p:cNvSpPr/>
                              <p:nvPr/>
                            </p:nvSpPr>
                            <p:spPr>
                              <a:xfrm>
                                <a:off x="6472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5" name=""/>
                              <p:cNvSpPr/>
                              <p:nvPr/>
                            </p:nvSpPr>
                            <p:spPr>
                              <a:xfrm>
                                <a:off x="6477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76" name=""/>
                            <p:cNvGrpSpPr/>
                            <p:nvPr/>
                          </p:nvGrpSpPr>
                          <p:grpSpPr>
                            <a:xfrm>
                              <a:off x="6482520" y="4720680"/>
                              <a:ext cx="11520" cy="17640"/>
                              <a:chOff x="6482520" y="4720680"/>
                              <a:chExt cx="11520" cy="17640"/>
                            </a:xfrm>
                          </p:grpSpPr>
                          <p:sp>
                            <p:nvSpPr>
                              <p:cNvPr id="1177" name=""/>
                              <p:cNvSpPr/>
                              <p:nvPr/>
                            </p:nvSpPr>
                            <p:spPr>
                              <a:xfrm>
                                <a:off x="6482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8" name=""/>
                              <p:cNvSpPr/>
                              <p:nvPr/>
                            </p:nvSpPr>
                            <p:spPr>
                              <a:xfrm>
                                <a:off x="64872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79" name=""/>
                        <p:cNvGrpSpPr/>
                        <p:nvPr/>
                      </p:nvGrpSpPr>
                      <p:grpSpPr>
                        <a:xfrm>
                          <a:off x="6493320" y="4720680"/>
                          <a:ext cx="45720" cy="17640"/>
                          <a:chOff x="6493320" y="4720680"/>
                          <a:chExt cx="45720" cy="17640"/>
                        </a:xfrm>
                      </p:grpSpPr>
                      <p:grpSp>
                        <p:nvGrpSpPr>
                          <p:cNvPr id="1180" name=""/>
                          <p:cNvGrpSpPr/>
                          <p:nvPr/>
                        </p:nvGrpSpPr>
                        <p:grpSpPr>
                          <a:xfrm>
                            <a:off x="6493320" y="4720680"/>
                            <a:ext cx="14760" cy="17640"/>
                            <a:chOff x="6493320" y="4720680"/>
                            <a:chExt cx="14760" cy="17640"/>
                          </a:xfrm>
                        </p:grpSpPr>
                        <p:grpSp>
                          <p:nvGrpSpPr>
                            <p:cNvPr id="1181" name=""/>
                            <p:cNvGrpSpPr/>
                            <p:nvPr/>
                          </p:nvGrpSpPr>
                          <p:grpSpPr>
                            <a:xfrm>
                              <a:off x="6493320" y="4720680"/>
                              <a:ext cx="4320" cy="17640"/>
                              <a:chOff x="6493320" y="4720680"/>
                              <a:chExt cx="4320" cy="17640"/>
                            </a:xfrm>
                          </p:grpSpPr>
                          <p:sp>
                            <p:nvSpPr>
                              <p:cNvPr id="1182" name=""/>
                              <p:cNvSpPr/>
                              <p:nvPr/>
                            </p:nvSpPr>
                            <p:spPr>
                              <a:xfrm>
                                <a:off x="64933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83" name=""/>
                              <p:cNvSpPr/>
                              <p:nvPr/>
                            </p:nvSpPr>
                            <p:spPr>
                              <a:xfrm>
                                <a:off x="64972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84" name=""/>
                            <p:cNvGrpSpPr/>
                            <p:nvPr/>
                          </p:nvGrpSpPr>
                          <p:grpSpPr>
                            <a:xfrm>
                              <a:off x="6503040" y="4720680"/>
                              <a:ext cx="5040" cy="17640"/>
                              <a:chOff x="6503040" y="4720680"/>
                              <a:chExt cx="5040" cy="17640"/>
                            </a:xfrm>
                          </p:grpSpPr>
                          <p:sp>
                            <p:nvSpPr>
                              <p:cNvPr id="1185" name=""/>
                              <p:cNvSpPr/>
                              <p:nvPr/>
                            </p:nvSpPr>
                            <p:spPr>
                              <a:xfrm>
                                <a:off x="65030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86" name=""/>
                              <p:cNvSpPr/>
                              <p:nvPr/>
                            </p:nvSpPr>
                            <p:spPr>
                              <a:xfrm>
                                <a:off x="65077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87" name=""/>
                          <p:cNvGrpSpPr/>
                          <p:nvPr/>
                        </p:nvGrpSpPr>
                        <p:grpSpPr>
                          <a:xfrm>
                            <a:off x="6512760" y="4720680"/>
                            <a:ext cx="26280" cy="17640"/>
                            <a:chOff x="6512760" y="4720680"/>
                            <a:chExt cx="26280" cy="17640"/>
                          </a:xfrm>
                        </p:grpSpPr>
                        <p:grpSp>
                          <p:nvGrpSpPr>
                            <p:cNvPr id="1188" name=""/>
                            <p:cNvGrpSpPr/>
                            <p:nvPr/>
                          </p:nvGrpSpPr>
                          <p:grpSpPr>
                            <a:xfrm>
                              <a:off x="6512760" y="4720680"/>
                              <a:ext cx="11520" cy="17640"/>
                              <a:chOff x="6512760" y="4720680"/>
                              <a:chExt cx="11520" cy="17640"/>
                            </a:xfrm>
                          </p:grpSpPr>
                          <p:sp>
                            <p:nvSpPr>
                              <p:cNvPr id="1189" name=""/>
                              <p:cNvSpPr/>
                              <p:nvPr/>
                            </p:nvSpPr>
                            <p:spPr>
                              <a:xfrm>
                                <a:off x="65127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90" name=""/>
                              <p:cNvSpPr/>
                              <p:nvPr/>
                            </p:nvSpPr>
                            <p:spPr>
                              <a:xfrm>
                                <a:off x="65181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91" name=""/>
                            <p:cNvGrpSpPr/>
                            <p:nvPr/>
                          </p:nvGrpSpPr>
                          <p:grpSpPr>
                            <a:xfrm>
                              <a:off x="6522840" y="4720680"/>
                              <a:ext cx="16200" cy="17640"/>
                              <a:chOff x="6522840" y="4720680"/>
                              <a:chExt cx="16200" cy="17640"/>
                            </a:xfrm>
                          </p:grpSpPr>
                          <p:sp>
                            <p:nvSpPr>
                              <p:cNvPr id="1192" name=""/>
                              <p:cNvSpPr/>
                              <p:nvPr/>
                            </p:nvSpPr>
                            <p:spPr>
                              <a:xfrm>
                                <a:off x="65228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93" name=""/>
                              <p:cNvSpPr/>
                              <p:nvPr/>
                            </p:nvSpPr>
                            <p:spPr>
                              <a:xfrm>
                                <a:off x="6527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6209640" y="4660560"/>
                  <a:ext cx="315000" cy="41760"/>
                  <a:chOff x="6209640" y="4660560"/>
                  <a:chExt cx="315000" cy="4176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6209640" y="46605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6279120" y="46605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6377400" y="46605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6484680" y="46605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6489720" y="4665600"/>
                <a:ext cx="25200" cy="19440"/>
                <a:chOff x="6489720" y="4665600"/>
                <a:chExt cx="25200" cy="1944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6504120" y="46656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505920" y="46728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2" name=""/>
                <p:cNvGrpSpPr/>
                <p:nvPr/>
              </p:nvGrpSpPr>
              <p:grpSpPr>
                <a:xfrm>
                  <a:off x="6489720" y="4668120"/>
                  <a:ext cx="5400" cy="16920"/>
                  <a:chOff x="6489720" y="4668120"/>
                  <a:chExt cx="5400" cy="1692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6489720" y="4668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489720" y="46807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5" name=""/>
              <p:cNvGrpSpPr/>
              <p:nvPr/>
            </p:nvGrpSpPr>
            <p:grpSpPr>
              <a:xfrm>
                <a:off x="6283080" y="4666680"/>
                <a:ext cx="85680" cy="27720"/>
                <a:chOff x="6283080" y="4666680"/>
                <a:chExt cx="85680" cy="2772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6283800" y="4666680"/>
                  <a:ext cx="84960" cy="15480"/>
                  <a:chOff x="6283800" y="4666680"/>
                  <a:chExt cx="84960" cy="1548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6312240" y="46666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6312240" y="46742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6283800" y="46731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0" name=""/>
                <p:cNvSpPr/>
                <p:nvPr/>
              </p:nvSpPr>
              <p:spPr>
                <a:xfrm>
                  <a:off x="6283080" y="46681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356520" y="46900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6213240" y="4693320"/>
                <a:ext cx="67320" cy="9360"/>
                <a:chOff x="6213240" y="4693320"/>
                <a:chExt cx="67320" cy="9360"/>
              </a:xfrm>
            </p:grpSpPr>
            <p:grpSp>
              <p:nvGrpSpPr>
                <p:cNvPr id="1213" name=""/>
                <p:cNvGrpSpPr/>
                <p:nvPr/>
              </p:nvGrpSpPr>
              <p:grpSpPr>
                <a:xfrm>
                  <a:off x="6213240" y="4693320"/>
                  <a:ext cx="37080" cy="9360"/>
                  <a:chOff x="6213240" y="4693320"/>
                  <a:chExt cx="37080" cy="9360"/>
                </a:xfrm>
              </p:grpSpPr>
              <p:grpSp>
                <p:nvGrpSpPr>
                  <p:cNvPr id="1214" name=""/>
                  <p:cNvGrpSpPr/>
                  <p:nvPr/>
                </p:nvGrpSpPr>
                <p:grpSpPr>
                  <a:xfrm>
                    <a:off x="6213240" y="4693320"/>
                    <a:ext cx="23040" cy="9360"/>
                    <a:chOff x="6213240" y="4693320"/>
                    <a:chExt cx="23040" cy="9360"/>
                  </a:xfrm>
                </p:grpSpPr>
                <p:grpSp>
                  <p:nvGrpSpPr>
                    <p:cNvPr id="1215" name=""/>
                    <p:cNvGrpSpPr/>
                    <p:nvPr/>
                  </p:nvGrpSpPr>
                  <p:grpSpPr>
                    <a:xfrm>
                      <a:off x="6213240" y="4693320"/>
                      <a:ext cx="14760" cy="9360"/>
                      <a:chOff x="6213240" y="4693320"/>
                      <a:chExt cx="14760" cy="9360"/>
                    </a:xfrm>
                  </p:grpSpPr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62132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62164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8" name=""/>
                    <p:cNvGrpSpPr/>
                    <p:nvPr/>
                  </p:nvGrpSpPr>
                  <p:grpSpPr>
                    <a:xfrm>
                      <a:off x="6220080" y="4693320"/>
                      <a:ext cx="16200" cy="9360"/>
                      <a:chOff x="6220080" y="4693320"/>
                      <a:chExt cx="16200" cy="9360"/>
                    </a:xfrm>
                  </p:grpSpPr>
                  <p:sp>
                    <p:nvSpPr>
                      <p:cNvPr id="1219" name=""/>
                      <p:cNvSpPr/>
                      <p:nvPr/>
                    </p:nvSpPr>
                    <p:spPr>
                      <a:xfrm>
                        <a:off x="62200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0" name=""/>
                      <p:cNvSpPr/>
                      <p:nvPr/>
                    </p:nvSpPr>
                    <p:spPr>
                      <a:xfrm>
                        <a:off x="622440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6227640" y="4693320"/>
                    <a:ext cx="22680" cy="9360"/>
                    <a:chOff x="6227640" y="4693320"/>
                    <a:chExt cx="22680" cy="9360"/>
                  </a:xfrm>
                </p:grpSpPr>
                <p:grpSp>
                  <p:nvGrpSpPr>
                    <p:cNvPr id="1222" name=""/>
                    <p:cNvGrpSpPr/>
                    <p:nvPr/>
                  </p:nvGrpSpPr>
                  <p:grpSpPr>
                    <a:xfrm>
                      <a:off x="6227640" y="4693320"/>
                      <a:ext cx="14760" cy="9360"/>
                      <a:chOff x="6227640" y="4693320"/>
                      <a:chExt cx="14760" cy="9360"/>
                    </a:xfrm>
                  </p:grpSpPr>
                  <p:sp>
                    <p:nvSpPr>
                      <p:cNvPr id="1223" name=""/>
                      <p:cNvSpPr/>
                      <p:nvPr/>
                    </p:nvSpPr>
                    <p:spPr>
                      <a:xfrm>
                        <a:off x="62276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4" name=""/>
                      <p:cNvSpPr/>
                      <p:nvPr/>
                    </p:nvSpPr>
                    <p:spPr>
                      <a:xfrm>
                        <a:off x="62308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5" name=""/>
                    <p:cNvGrpSpPr/>
                    <p:nvPr/>
                  </p:nvGrpSpPr>
                  <p:grpSpPr>
                    <a:xfrm>
                      <a:off x="6234840" y="4693320"/>
                      <a:ext cx="15480" cy="9360"/>
                      <a:chOff x="6234840" y="4693320"/>
                      <a:chExt cx="15480" cy="9360"/>
                    </a:xfrm>
                  </p:grpSpPr>
                  <p:sp>
                    <p:nvSpPr>
                      <p:cNvPr id="1226" name=""/>
                      <p:cNvSpPr/>
                      <p:nvPr/>
                    </p:nvSpPr>
                    <p:spPr>
                      <a:xfrm>
                        <a:off x="62348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"/>
                      <p:cNvSpPr/>
                      <p:nvPr/>
                    </p:nvSpPr>
                    <p:spPr>
                      <a:xfrm>
                        <a:off x="623880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6242760" y="4693320"/>
                  <a:ext cx="37800" cy="9360"/>
                  <a:chOff x="6242760" y="4693320"/>
                  <a:chExt cx="37800" cy="9360"/>
                </a:xfrm>
              </p:grpSpPr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6242760" y="4693320"/>
                    <a:ext cx="23040" cy="9360"/>
                    <a:chOff x="6242760" y="4693320"/>
                    <a:chExt cx="23040" cy="9360"/>
                  </a:xfrm>
                </p:grpSpPr>
                <p:grpSp>
                  <p:nvGrpSpPr>
                    <p:cNvPr id="1230" name=""/>
                    <p:cNvGrpSpPr/>
                    <p:nvPr/>
                  </p:nvGrpSpPr>
                  <p:grpSpPr>
                    <a:xfrm>
                      <a:off x="6242760" y="4693320"/>
                      <a:ext cx="15840" cy="9360"/>
                      <a:chOff x="6242760" y="4693320"/>
                      <a:chExt cx="15840" cy="9360"/>
                    </a:xfrm>
                  </p:grpSpPr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62427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624672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33" name=""/>
                    <p:cNvGrpSpPr/>
                    <p:nvPr/>
                  </p:nvGrpSpPr>
                  <p:grpSpPr>
                    <a:xfrm>
                      <a:off x="6251040" y="4693320"/>
                      <a:ext cx="14760" cy="9360"/>
                      <a:chOff x="6251040" y="4693320"/>
                      <a:chExt cx="14760" cy="9360"/>
                    </a:xfrm>
                  </p:grpSpPr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62510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>
                        <a:off x="62542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6" name=""/>
                  <p:cNvGrpSpPr/>
                  <p:nvPr/>
                </p:nvGrpSpPr>
                <p:grpSpPr>
                  <a:xfrm>
                    <a:off x="6257880" y="4693320"/>
                    <a:ext cx="22680" cy="9360"/>
                    <a:chOff x="6257880" y="4693320"/>
                    <a:chExt cx="22680" cy="9360"/>
                  </a:xfrm>
                </p:grpSpPr>
                <p:grpSp>
                  <p:nvGrpSpPr>
                    <p:cNvPr id="1237" name=""/>
                    <p:cNvGrpSpPr/>
                    <p:nvPr/>
                  </p:nvGrpSpPr>
                  <p:grpSpPr>
                    <a:xfrm>
                      <a:off x="6257880" y="4693320"/>
                      <a:ext cx="15840" cy="9360"/>
                      <a:chOff x="6257880" y="4693320"/>
                      <a:chExt cx="15840" cy="9360"/>
                    </a:xfrm>
                  </p:grpSpPr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62578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26184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0" name=""/>
                    <p:cNvGrpSpPr/>
                    <p:nvPr/>
                  </p:nvGrpSpPr>
                  <p:grpSpPr>
                    <a:xfrm>
                      <a:off x="6266160" y="4693320"/>
                      <a:ext cx="14400" cy="9360"/>
                      <a:chOff x="6266160" y="4693320"/>
                      <a:chExt cx="14400" cy="9360"/>
                    </a:xfrm>
                  </p:grpSpPr>
                  <p:sp>
                    <p:nvSpPr>
                      <p:cNvPr id="1241" name=""/>
                      <p:cNvSpPr/>
                      <p:nvPr/>
                    </p:nvSpPr>
                    <p:spPr>
                      <a:xfrm>
                        <a:off x="62661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>
                        <a:off x="62686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43" name=""/>
              <p:cNvSpPr/>
              <p:nvPr/>
            </p:nvSpPr>
            <p:spPr>
              <a:xfrm>
                <a:off x="6207840" y="46850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6095880" y="4737600"/>
              <a:ext cx="533520" cy="62640"/>
              <a:chOff x="6095880" y="4737600"/>
              <a:chExt cx="533520" cy="6264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6095880" y="4737600"/>
                <a:ext cx="533520" cy="62640"/>
                <a:chOff x="6095880" y="4737600"/>
                <a:chExt cx="533520" cy="6264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098400" y="479268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095880" y="473760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111720" y="474336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6154560" y="4742280"/>
                <a:ext cx="420120" cy="14400"/>
                <a:chOff x="6154560" y="4742280"/>
                <a:chExt cx="420120" cy="1440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6154560" y="47422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6194520" y="47422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280200" y="47422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356160" y="47422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434280" y="47422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504480" y="47473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6141240" y="4756320"/>
                <a:ext cx="435240" cy="21960"/>
                <a:chOff x="6141240" y="4756320"/>
                <a:chExt cx="435240" cy="21960"/>
              </a:xfrm>
            </p:grpSpPr>
            <p:grpSp>
              <p:nvGrpSpPr>
                <p:cNvPr id="1257" name=""/>
                <p:cNvGrpSpPr/>
                <p:nvPr/>
              </p:nvGrpSpPr>
              <p:grpSpPr>
                <a:xfrm>
                  <a:off x="6179040" y="4757040"/>
                  <a:ext cx="212760" cy="19080"/>
                  <a:chOff x="6179040" y="4757040"/>
                  <a:chExt cx="212760" cy="1908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6179040" y="47570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6187320" y="47631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189840" y="47692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6194160" y="47761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6141240" y="4759920"/>
                  <a:ext cx="30960" cy="12240"/>
                  <a:chOff x="6141240" y="4759920"/>
                  <a:chExt cx="30960" cy="1224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6150240" y="47599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146640" y="4766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6141240" y="47721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6225480" y="4756320"/>
                  <a:ext cx="194760" cy="20880"/>
                  <a:chOff x="6225480" y="4756320"/>
                  <a:chExt cx="194760" cy="2088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6225480" y="47764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6395400" y="47563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402960" y="47635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6387120" y="47703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6355080" y="47764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6381000" y="47772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6435360" y="4759920"/>
                  <a:ext cx="56160" cy="17280"/>
                  <a:chOff x="6435360" y="4759920"/>
                  <a:chExt cx="56160" cy="172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6435360" y="47599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443640" y="47678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444000" y="47772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7" name=""/>
                <p:cNvGrpSpPr/>
                <p:nvPr/>
              </p:nvGrpSpPr>
              <p:grpSpPr>
                <a:xfrm>
                  <a:off x="6508800" y="4759920"/>
                  <a:ext cx="67680" cy="18360"/>
                  <a:chOff x="6508800" y="4759920"/>
                  <a:chExt cx="67680" cy="1836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6513480" y="47599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6508800" y="47664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6513480" y="47721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6512040" y="47782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6563160" y="47671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6568200" y="47750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4" name=""/>
            <p:cNvGrpSpPr/>
            <p:nvPr/>
          </p:nvGrpSpPr>
          <p:grpSpPr>
            <a:xfrm>
              <a:off x="6252480" y="4601520"/>
              <a:ext cx="232200" cy="38160"/>
              <a:chOff x="6252480" y="4601520"/>
              <a:chExt cx="232200" cy="3816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6252480" y="4614120"/>
                <a:ext cx="232200" cy="25560"/>
                <a:chOff x="6252480" y="4614120"/>
                <a:chExt cx="232200" cy="2556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6252480" y="461412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254640" y="463140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>
                <a:off x="6305760" y="46015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6226560" y="44197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58240" y="44402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67960" y="444564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6095880" y="5105520"/>
            <a:ext cx="533520" cy="380520"/>
            <a:chOff x="6095880" y="5105520"/>
            <a:chExt cx="533520" cy="380520"/>
          </a:xfrm>
        </p:grpSpPr>
        <p:grpSp>
          <p:nvGrpSpPr>
            <p:cNvPr id="1293" name=""/>
            <p:cNvGrpSpPr/>
            <p:nvPr/>
          </p:nvGrpSpPr>
          <p:grpSpPr>
            <a:xfrm>
              <a:off x="6198840" y="5308560"/>
              <a:ext cx="340200" cy="118080"/>
              <a:chOff x="6198840" y="5308560"/>
              <a:chExt cx="340200" cy="11808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6198840" y="5308560"/>
                <a:ext cx="340200" cy="118080"/>
                <a:chOff x="6198840" y="5308560"/>
                <a:chExt cx="340200" cy="118080"/>
              </a:xfrm>
            </p:grpSpPr>
            <p:grpSp>
              <p:nvGrpSpPr>
                <p:cNvPr id="1295" name=""/>
                <p:cNvGrpSpPr/>
                <p:nvPr/>
              </p:nvGrpSpPr>
              <p:grpSpPr>
                <a:xfrm>
                  <a:off x="6198840" y="5308560"/>
                  <a:ext cx="340200" cy="118080"/>
                  <a:chOff x="6198840" y="5308560"/>
                  <a:chExt cx="340200" cy="118080"/>
                </a:xfrm>
              </p:grpSpPr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6198840" y="5308560"/>
                    <a:ext cx="339120" cy="118080"/>
                    <a:chOff x="6198840" y="5308560"/>
                    <a:chExt cx="339120" cy="118080"/>
                  </a:xfrm>
                </p:grpSpPr>
                <p:grpSp>
                  <p:nvGrpSpPr>
                    <p:cNvPr id="1297" name=""/>
                    <p:cNvGrpSpPr/>
                    <p:nvPr/>
                  </p:nvGrpSpPr>
                  <p:grpSpPr>
                    <a:xfrm>
                      <a:off x="6198840" y="5308560"/>
                      <a:ext cx="339120" cy="118080"/>
                      <a:chOff x="6198840" y="5308560"/>
                      <a:chExt cx="339120" cy="118080"/>
                    </a:xfrm>
                  </p:grpSpPr>
                  <p:sp>
                    <p:nvSpPr>
                      <p:cNvPr id="1298" name=""/>
                      <p:cNvSpPr/>
                      <p:nvPr/>
                    </p:nvSpPr>
                    <p:spPr>
                      <a:xfrm>
                        <a:off x="6199920" y="53391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9" name=""/>
                      <p:cNvSpPr/>
                      <p:nvPr/>
                    </p:nvSpPr>
                    <p:spPr>
                      <a:xfrm>
                        <a:off x="6198840" y="53085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6207840" y="53323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6212520" y="5406480"/>
                    <a:ext cx="326520" cy="17640"/>
                    <a:chOff x="6212520" y="5406480"/>
                    <a:chExt cx="326520" cy="17640"/>
                  </a:xfrm>
                </p:grpSpPr>
                <p:grpSp>
                  <p:nvGrpSpPr>
                    <p:cNvPr id="1302" name=""/>
                    <p:cNvGrpSpPr/>
                    <p:nvPr/>
                  </p:nvGrpSpPr>
                  <p:grpSpPr>
                    <a:xfrm>
                      <a:off x="6212520" y="5406480"/>
                      <a:ext cx="160560" cy="17640"/>
                      <a:chOff x="6212520" y="5406480"/>
                      <a:chExt cx="160560" cy="17640"/>
                    </a:xfrm>
                  </p:grpSpPr>
                  <p:grpSp>
                    <p:nvGrpSpPr>
                      <p:cNvPr id="1303" name=""/>
                      <p:cNvGrpSpPr/>
                      <p:nvPr/>
                    </p:nvGrpSpPr>
                    <p:grpSpPr>
                      <a:xfrm>
                        <a:off x="6212520" y="5406480"/>
                        <a:ext cx="76320" cy="17640"/>
                        <a:chOff x="6212520" y="5406480"/>
                        <a:chExt cx="76320" cy="17640"/>
                      </a:xfrm>
                    </p:grpSpPr>
                    <p:grpSp>
                      <p:nvGrpSpPr>
                        <p:cNvPr id="1304" name=""/>
                        <p:cNvGrpSpPr/>
                        <p:nvPr/>
                      </p:nvGrpSpPr>
                      <p:grpSpPr>
                        <a:xfrm>
                          <a:off x="6212520" y="5406480"/>
                          <a:ext cx="35640" cy="17640"/>
                          <a:chOff x="6212520" y="5406480"/>
                          <a:chExt cx="35640" cy="17640"/>
                        </a:xfrm>
                      </p:grpSpPr>
                      <p:grpSp>
                        <p:nvGrpSpPr>
                          <p:cNvPr id="1305" name=""/>
                          <p:cNvGrpSpPr/>
                          <p:nvPr/>
                        </p:nvGrpSpPr>
                        <p:grpSpPr>
                          <a:xfrm>
                            <a:off x="6212520" y="5406480"/>
                            <a:ext cx="20880" cy="17640"/>
                            <a:chOff x="6212520" y="5406480"/>
                            <a:chExt cx="20880" cy="17640"/>
                          </a:xfrm>
                        </p:grpSpPr>
                        <p:grpSp>
                          <p:nvGrpSpPr>
                            <p:cNvPr id="1306" name=""/>
                            <p:cNvGrpSpPr/>
                            <p:nvPr/>
                          </p:nvGrpSpPr>
                          <p:grpSpPr>
                            <a:xfrm>
                              <a:off x="6212520" y="5406480"/>
                              <a:ext cx="5040" cy="17640"/>
                              <a:chOff x="6212520" y="5406480"/>
                              <a:chExt cx="5040" cy="17640"/>
                            </a:xfrm>
                          </p:grpSpPr>
                          <p:sp>
                            <p:nvSpPr>
                              <p:cNvPr id="1307" name=""/>
                              <p:cNvSpPr/>
                              <p:nvPr/>
                            </p:nvSpPr>
                            <p:spPr>
                              <a:xfrm>
                                <a:off x="6212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8" name=""/>
                              <p:cNvSpPr/>
                              <p:nvPr/>
                            </p:nvSpPr>
                            <p:spPr>
                              <a:xfrm>
                                <a:off x="62172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09" name=""/>
                            <p:cNvGrpSpPr/>
                            <p:nvPr/>
                          </p:nvGrpSpPr>
                          <p:grpSpPr>
                            <a:xfrm>
                              <a:off x="6221880" y="5406480"/>
                              <a:ext cx="11520" cy="17640"/>
                              <a:chOff x="6221880" y="5406480"/>
                              <a:chExt cx="11520" cy="17640"/>
                            </a:xfrm>
                          </p:grpSpPr>
                          <p:sp>
                            <p:nvSpPr>
                              <p:cNvPr id="1310" name=""/>
                              <p:cNvSpPr/>
                              <p:nvPr/>
                            </p:nvSpPr>
                            <p:spPr>
                              <a:xfrm>
                                <a:off x="62218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1" name=""/>
                              <p:cNvSpPr/>
                              <p:nvPr/>
                            </p:nvSpPr>
                            <p:spPr>
                              <a:xfrm>
                                <a:off x="62272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12" name=""/>
                          <p:cNvGrpSpPr/>
                          <p:nvPr/>
                        </p:nvGrpSpPr>
                        <p:grpSpPr>
                          <a:xfrm>
                            <a:off x="6232680" y="5406480"/>
                            <a:ext cx="15480" cy="17640"/>
                            <a:chOff x="6232680" y="5406480"/>
                            <a:chExt cx="15480" cy="17640"/>
                          </a:xfrm>
                        </p:grpSpPr>
                        <p:grpSp>
                          <p:nvGrpSpPr>
                            <p:cNvPr id="1313" name=""/>
                            <p:cNvGrpSpPr/>
                            <p:nvPr/>
                          </p:nvGrpSpPr>
                          <p:grpSpPr>
                            <a:xfrm>
                              <a:off x="6232680" y="5406480"/>
                              <a:ext cx="11520" cy="17640"/>
                              <a:chOff x="6232680" y="5406480"/>
                              <a:chExt cx="11520" cy="17640"/>
                            </a:xfrm>
                          </p:grpSpPr>
                          <p:sp>
                            <p:nvSpPr>
                              <p:cNvPr id="1314" name=""/>
                              <p:cNvSpPr/>
                              <p:nvPr/>
                            </p:nvSpPr>
                            <p:spPr>
                              <a:xfrm>
                                <a:off x="62326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5" name=""/>
                              <p:cNvSpPr/>
                              <p:nvPr/>
                            </p:nvSpPr>
                            <p:spPr>
                              <a:xfrm>
                                <a:off x="623736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16" name=""/>
                            <p:cNvGrpSpPr/>
                            <p:nvPr/>
                          </p:nvGrpSpPr>
                          <p:grpSpPr>
                            <a:xfrm>
                              <a:off x="6243120" y="5406480"/>
                              <a:ext cx="5040" cy="17640"/>
                              <a:chOff x="6243120" y="5406480"/>
                              <a:chExt cx="5040" cy="17640"/>
                            </a:xfrm>
                          </p:grpSpPr>
                          <p:sp>
                            <p:nvSpPr>
                              <p:cNvPr id="1317" name=""/>
                              <p:cNvSpPr/>
                              <p:nvPr/>
                            </p:nvSpPr>
                            <p:spPr>
                              <a:xfrm>
                                <a:off x="62431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8" name=""/>
                              <p:cNvSpPr/>
                              <p:nvPr/>
                            </p:nvSpPr>
                            <p:spPr>
                              <a:xfrm>
                                <a:off x="62478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19" name=""/>
                        <p:cNvGrpSpPr/>
                        <p:nvPr/>
                      </p:nvGrpSpPr>
                      <p:grpSpPr>
                        <a:xfrm>
                          <a:off x="6252480" y="5406480"/>
                          <a:ext cx="36360" cy="17640"/>
                          <a:chOff x="6252480" y="5406480"/>
                          <a:chExt cx="36360" cy="17640"/>
                        </a:xfrm>
                      </p:grpSpPr>
                      <p:grpSp>
                        <p:nvGrpSpPr>
                          <p:cNvPr id="1320" name=""/>
                          <p:cNvGrpSpPr/>
                          <p:nvPr/>
                        </p:nvGrpSpPr>
                        <p:grpSpPr>
                          <a:xfrm>
                            <a:off x="6252480" y="5406480"/>
                            <a:ext cx="21600" cy="17640"/>
                            <a:chOff x="6252480" y="5406480"/>
                            <a:chExt cx="21600" cy="17640"/>
                          </a:xfrm>
                        </p:grpSpPr>
                        <p:grpSp>
                          <p:nvGrpSpPr>
                            <p:cNvPr id="1321" name=""/>
                            <p:cNvGrpSpPr/>
                            <p:nvPr/>
                          </p:nvGrpSpPr>
                          <p:grpSpPr>
                            <a:xfrm>
                              <a:off x="6252480" y="5406480"/>
                              <a:ext cx="16200" cy="17640"/>
                              <a:chOff x="6252480" y="5406480"/>
                              <a:chExt cx="16200" cy="17640"/>
                            </a:xfrm>
                          </p:grpSpPr>
                          <p:sp>
                            <p:nvSpPr>
                              <p:cNvPr id="1322" name=""/>
                              <p:cNvSpPr/>
                              <p:nvPr/>
                            </p:nvSpPr>
                            <p:spPr>
                              <a:xfrm>
                                <a:off x="62524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3" name=""/>
                              <p:cNvSpPr/>
                              <p:nvPr/>
                            </p:nvSpPr>
                            <p:spPr>
                              <a:xfrm>
                                <a:off x="625716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4" name=""/>
                            <p:cNvGrpSpPr/>
                            <p:nvPr/>
                          </p:nvGrpSpPr>
                          <p:grpSpPr>
                            <a:xfrm>
                              <a:off x="6262200" y="5406480"/>
                              <a:ext cx="11880" cy="17640"/>
                              <a:chOff x="6262200" y="5406480"/>
                              <a:chExt cx="11880" cy="17640"/>
                            </a:xfrm>
                          </p:grpSpPr>
                          <p:sp>
                            <p:nvSpPr>
                              <p:cNvPr id="1325" name=""/>
                              <p:cNvSpPr/>
                              <p:nvPr/>
                            </p:nvSpPr>
                            <p:spPr>
                              <a:xfrm>
                                <a:off x="6262200" y="54064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6" name=""/>
                              <p:cNvSpPr/>
                              <p:nvPr/>
                            </p:nvSpPr>
                            <p:spPr>
                              <a:xfrm>
                                <a:off x="62676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27" name=""/>
                          <p:cNvGrpSpPr/>
                          <p:nvPr/>
                        </p:nvGrpSpPr>
                        <p:grpSpPr>
                          <a:xfrm>
                            <a:off x="6272640" y="5406480"/>
                            <a:ext cx="16200" cy="17640"/>
                            <a:chOff x="6272640" y="5406480"/>
                            <a:chExt cx="16200" cy="17640"/>
                          </a:xfrm>
                        </p:grpSpPr>
                        <p:grpSp>
                          <p:nvGrpSpPr>
                            <p:cNvPr id="1328" name=""/>
                            <p:cNvGrpSpPr/>
                            <p:nvPr/>
                          </p:nvGrpSpPr>
                          <p:grpSpPr>
                            <a:xfrm>
                              <a:off x="6272640" y="5406480"/>
                              <a:ext cx="16200" cy="17640"/>
                              <a:chOff x="6272640" y="5406480"/>
                              <a:chExt cx="16200" cy="17640"/>
                            </a:xfrm>
                          </p:grpSpPr>
                          <p:sp>
                            <p:nvSpPr>
                              <p:cNvPr id="1329" name=""/>
                              <p:cNvSpPr/>
                              <p:nvPr/>
                            </p:nvSpPr>
                            <p:spPr>
                              <a:xfrm>
                                <a:off x="62726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0" name=""/>
                              <p:cNvSpPr/>
                              <p:nvPr/>
                            </p:nvSpPr>
                            <p:spPr>
                              <a:xfrm>
                                <a:off x="62773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31" name=""/>
                            <p:cNvGrpSpPr/>
                            <p:nvPr/>
                          </p:nvGrpSpPr>
                          <p:grpSpPr>
                            <a:xfrm>
                              <a:off x="6282720" y="5406480"/>
                              <a:ext cx="5400" cy="17640"/>
                              <a:chOff x="6282720" y="5406480"/>
                              <a:chExt cx="5400" cy="17640"/>
                            </a:xfrm>
                          </p:grpSpPr>
                          <p:sp>
                            <p:nvSpPr>
                              <p:cNvPr id="1332" name=""/>
                              <p:cNvSpPr/>
                              <p:nvPr/>
                            </p:nvSpPr>
                            <p:spPr>
                              <a:xfrm>
                                <a:off x="628272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3" name=""/>
                              <p:cNvSpPr/>
                              <p:nvPr/>
                            </p:nvSpPr>
                            <p:spPr>
                              <a:xfrm>
                                <a:off x="62874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6292440" y="5406480"/>
                        <a:ext cx="80640" cy="17640"/>
                        <a:chOff x="6292440" y="5406480"/>
                        <a:chExt cx="80640" cy="17640"/>
                      </a:xfrm>
                    </p:grpSpPr>
                    <p:grpSp>
                      <p:nvGrpSpPr>
                        <p:cNvPr id="1335" name=""/>
                        <p:cNvGrpSpPr/>
                        <p:nvPr/>
                      </p:nvGrpSpPr>
                      <p:grpSpPr>
                        <a:xfrm>
                          <a:off x="6292440" y="5406480"/>
                          <a:ext cx="45720" cy="17640"/>
                          <a:chOff x="6292440" y="5406480"/>
                          <a:chExt cx="45720" cy="17640"/>
                        </a:xfrm>
                      </p:grpSpPr>
                      <p:grpSp>
                        <p:nvGrpSpPr>
                          <p:cNvPr id="1336" name=""/>
                          <p:cNvGrpSpPr/>
                          <p:nvPr/>
                        </p:nvGrpSpPr>
                        <p:grpSpPr>
                          <a:xfrm>
                            <a:off x="6292440" y="5406480"/>
                            <a:ext cx="16200" cy="17640"/>
                            <a:chOff x="6292440" y="5406480"/>
                            <a:chExt cx="16200" cy="17640"/>
                          </a:xfrm>
                        </p:grpSpPr>
                        <p:grpSp>
                          <p:nvGrpSpPr>
                            <p:cNvPr id="1337" name=""/>
                            <p:cNvGrpSpPr/>
                            <p:nvPr/>
                          </p:nvGrpSpPr>
                          <p:grpSpPr>
                            <a:xfrm>
                              <a:off x="6292440" y="5406480"/>
                              <a:ext cx="16200" cy="17640"/>
                              <a:chOff x="6292440" y="5406480"/>
                              <a:chExt cx="16200" cy="17640"/>
                            </a:xfrm>
                          </p:grpSpPr>
                          <p:sp>
                            <p:nvSpPr>
                              <p:cNvPr id="1338" name=""/>
                              <p:cNvSpPr/>
                              <p:nvPr/>
                            </p:nvSpPr>
                            <p:spPr>
                              <a:xfrm>
                                <a:off x="62924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9" name=""/>
                              <p:cNvSpPr/>
                              <p:nvPr/>
                            </p:nvSpPr>
                            <p:spPr>
                              <a:xfrm>
                                <a:off x="62971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0" name=""/>
                            <p:cNvGrpSpPr/>
                            <p:nvPr/>
                          </p:nvGrpSpPr>
                          <p:grpSpPr>
                            <a:xfrm>
                              <a:off x="6302520" y="5406480"/>
                              <a:ext cx="4320" cy="17640"/>
                              <a:chOff x="6302520" y="5406480"/>
                              <a:chExt cx="4320" cy="17640"/>
                            </a:xfrm>
                          </p:grpSpPr>
                          <p:sp>
                            <p:nvSpPr>
                              <p:cNvPr id="1341" name=""/>
                              <p:cNvSpPr/>
                              <p:nvPr/>
                            </p:nvSpPr>
                            <p:spPr>
                              <a:xfrm>
                                <a:off x="630252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2" name=""/>
                              <p:cNvSpPr/>
                              <p:nvPr/>
                            </p:nvSpPr>
                            <p:spPr>
                              <a:xfrm>
                                <a:off x="63064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43" name=""/>
                          <p:cNvGrpSpPr/>
                          <p:nvPr/>
                        </p:nvGrpSpPr>
                        <p:grpSpPr>
                          <a:xfrm>
                            <a:off x="6312960" y="5406480"/>
                            <a:ext cx="25200" cy="17640"/>
                            <a:chOff x="6312960" y="5406480"/>
                            <a:chExt cx="25200" cy="17640"/>
                          </a:xfrm>
                        </p:grpSpPr>
                        <p:grpSp>
                          <p:nvGrpSpPr>
                            <p:cNvPr id="1344" name=""/>
                            <p:cNvGrpSpPr/>
                            <p:nvPr/>
                          </p:nvGrpSpPr>
                          <p:grpSpPr>
                            <a:xfrm>
                              <a:off x="6312960" y="5406480"/>
                              <a:ext cx="4320" cy="17640"/>
                              <a:chOff x="6312960" y="5406480"/>
                              <a:chExt cx="4320" cy="17640"/>
                            </a:xfrm>
                          </p:grpSpPr>
                          <p:sp>
                            <p:nvSpPr>
                              <p:cNvPr id="1345" name=""/>
                              <p:cNvSpPr/>
                              <p:nvPr/>
                            </p:nvSpPr>
                            <p:spPr>
                              <a:xfrm>
                                <a:off x="631296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6" name=""/>
                              <p:cNvSpPr/>
                              <p:nvPr/>
                            </p:nvSpPr>
                            <p:spPr>
                              <a:xfrm>
                                <a:off x="63169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7" name=""/>
                            <p:cNvGrpSpPr/>
                            <p:nvPr/>
                          </p:nvGrpSpPr>
                          <p:grpSpPr>
                            <a:xfrm>
                              <a:off x="6322680" y="5406480"/>
                              <a:ext cx="15480" cy="17640"/>
                              <a:chOff x="6322680" y="5406480"/>
                              <a:chExt cx="15480" cy="17640"/>
                            </a:xfrm>
                          </p:grpSpPr>
                          <p:sp>
                            <p:nvSpPr>
                              <p:cNvPr id="1348" name=""/>
                              <p:cNvSpPr/>
                              <p:nvPr/>
                            </p:nvSpPr>
                            <p:spPr>
                              <a:xfrm>
                                <a:off x="63226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9" name=""/>
                              <p:cNvSpPr/>
                              <p:nvPr/>
                            </p:nvSpPr>
                            <p:spPr>
                              <a:xfrm>
                                <a:off x="632664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50" name=""/>
                        <p:cNvGrpSpPr/>
                        <p:nvPr/>
                      </p:nvGrpSpPr>
                      <p:grpSpPr>
                        <a:xfrm>
                          <a:off x="6332400" y="5406480"/>
                          <a:ext cx="40680" cy="17640"/>
                          <a:chOff x="6332400" y="5406480"/>
                          <a:chExt cx="40680" cy="17640"/>
                        </a:xfrm>
                      </p:grpSpPr>
                      <p:grpSp>
                        <p:nvGrpSpPr>
                          <p:cNvPr id="1351" name=""/>
                          <p:cNvGrpSpPr/>
                          <p:nvPr/>
                        </p:nvGrpSpPr>
                        <p:grpSpPr>
                          <a:xfrm>
                            <a:off x="6332400" y="5406480"/>
                            <a:ext cx="15480" cy="17640"/>
                            <a:chOff x="6332400" y="5406480"/>
                            <a:chExt cx="15480" cy="17640"/>
                          </a:xfrm>
                        </p:grpSpPr>
                        <p:grpSp>
                          <p:nvGrpSpPr>
                            <p:cNvPr id="1352" name=""/>
                            <p:cNvGrpSpPr/>
                            <p:nvPr/>
                          </p:nvGrpSpPr>
                          <p:grpSpPr>
                            <a:xfrm>
                              <a:off x="6332400" y="5406480"/>
                              <a:ext cx="5040" cy="17640"/>
                              <a:chOff x="6332400" y="5406480"/>
                              <a:chExt cx="5040" cy="17640"/>
                            </a:xfrm>
                          </p:grpSpPr>
                          <p:sp>
                            <p:nvSpPr>
                              <p:cNvPr id="1353" name=""/>
                              <p:cNvSpPr/>
                              <p:nvPr/>
                            </p:nvSpPr>
                            <p:spPr>
                              <a:xfrm>
                                <a:off x="63324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4" name=""/>
                              <p:cNvSpPr/>
                              <p:nvPr/>
                            </p:nvSpPr>
                            <p:spPr>
                              <a:xfrm>
                                <a:off x="63370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55" name=""/>
                            <p:cNvGrpSpPr/>
                            <p:nvPr/>
                          </p:nvGrpSpPr>
                          <p:grpSpPr>
                            <a:xfrm>
                              <a:off x="6342840" y="5406480"/>
                              <a:ext cx="5040" cy="17640"/>
                              <a:chOff x="6342840" y="5406480"/>
                              <a:chExt cx="5040" cy="17640"/>
                            </a:xfrm>
                          </p:grpSpPr>
                          <p:sp>
                            <p:nvSpPr>
                              <p:cNvPr id="1356" name=""/>
                              <p:cNvSpPr/>
                              <p:nvPr/>
                            </p:nvSpPr>
                            <p:spPr>
                              <a:xfrm>
                                <a:off x="634284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7" name=""/>
                              <p:cNvSpPr/>
                              <p:nvPr/>
                            </p:nvSpPr>
                            <p:spPr>
                              <a:xfrm>
                                <a:off x="6347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58" name=""/>
                          <p:cNvGrpSpPr/>
                          <p:nvPr/>
                        </p:nvGrpSpPr>
                        <p:grpSpPr>
                          <a:xfrm>
                            <a:off x="6352200" y="5406480"/>
                            <a:ext cx="20880" cy="17640"/>
                            <a:chOff x="6352200" y="5406480"/>
                            <a:chExt cx="20880" cy="17640"/>
                          </a:xfrm>
                        </p:grpSpPr>
                        <p:grpSp>
                          <p:nvGrpSpPr>
                            <p:cNvPr id="1359" name=""/>
                            <p:cNvGrpSpPr/>
                            <p:nvPr/>
                          </p:nvGrpSpPr>
                          <p:grpSpPr>
                            <a:xfrm>
                              <a:off x="6352200" y="5406480"/>
                              <a:ext cx="16920" cy="17640"/>
                              <a:chOff x="6352200" y="5406480"/>
                              <a:chExt cx="16920" cy="17640"/>
                            </a:xfrm>
                          </p:grpSpPr>
                          <p:sp>
                            <p:nvSpPr>
                              <p:cNvPr id="1360" name=""/>
                              <p:cNvSpPr/>
                              <p:nvPr/>
                            </p:nvSpPr>
                            <p:spPr>
                              <a:xfrm>
                                <a:off x="63522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1" name=""/>
                              <p:cNvSpPr/>
                              <p:nvPr/>
                            </p:nvSpPr>
                            <p:spPr>
                              <a:xfrm>
                                <a:off x="635760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62" name=""/>
                            <p:cNvGrpSpPr/>
                            <p:nvPr/>
                          </p:nvGrpSpPr>
                          <p:grpSpPr>
                            <a:xfrm>
                              <a:off x="6361560" y="5406480"/>
                              <a:ext cx="11520" cy="17640"/>
                              <a:chOff x="6361560" y="5406480"/>
                              <a:chExt cx="11520" cy="17640"/>
                            </a:xfrm>
                          </p:grpSpPr>
                          <p:sp>
                            <p:nvSpPr>
                              <p:cNvPr id="1363" name=""/>
                              <p:cNvSpPr/>
                              <p:nvPr/>
                            </p:nvSpPr>
                            <p:spPr>
                              <a:xfrm>
                                <a:off x="636156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4" name=""/>
                              <p:cNvSpPr/>
                              <p:nvPr/>
                            </p:nvSpPr>
                            <p:spPr>
                              <a:xfrm>
                                <a:off x="636696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365" name=""/>
                    <p:cNvGrpSpPr/>
                    <p:nvPr/>
                  </p:nvGrpSpPr>
                  <p:grpSpPr>
                    <a:xfrm>
                      <a:off x="6372720" y="5406480"/>
                      <a:ext cx="166320" cy="17640"/>
                      <a:chOff x="6372720" y="5406480"/>
                      <a:chExt cx="166320" cy="17640"/>
                    </a:xfrm>
                  </p:grpSpPr>
                  <p:grpSp>
                    <p:nvGrpSpPr>
                      <p:cNvPr id="1366" name=""/>
                      <p:cNvGrpSpPr/>
                      <p:nvPr/>
                    </p:nvGrpSpPr>
                    <p:grpSpPr>
                      <a:xfrm>
                        <a:off x="6372720" y="5406480"/>
                        <a:ext cx="85680" cy="17640"/>
                        <a:chOff x="6372720" y="5406480"/>
                        <a:chExt cx="85680" cy="17640"/>
                      </a:xfrm>
                    </p:grpSpPr>
                    <p:grpSp>
                      <p:nvGrpSpPr>
                        <p:cNvPr id="1367" name=""/>
                        <p:cNvGrpSpPr/>
                        <p:nvPr/>
                      </p:nvGrpSpPr>
                      <p:grpSpPr>
                        <a:xfrm>
                          <a:off x="6372720" y="5406480"/>
                          <a:ext cx="36000" cy="17640"/>
                          <a:chOff x="6372720" y="5406480"/>
                          <a:chExt cx="36000" cy="17640"/>
                        </a:xfrm>
                      </p:grpSpPr>
                      <p:grpSp>
                        <p:nvGrpSpPr>
                          <p:cNvPr id="1368" name=""/>
                          <p:cNvGrpSpPr/>
                          <p:nvPr/>
                        </p:nvGrpSpPr>
                        <p:grpSpPr>
                          <a:xfrm>
                            <a:off x="6372720" y="5406480"/>
                            <a:ext cx="15480" cy="17640"/>
                            <a:chOff x="6372720" y="5406480"/>
                            <a:chExt cx="15480" cy="17640"/>
                          </a:xfrm>
                        </p:grpSpPr>
                        <p:grpSp>
                          <p:nvGrpSpPr>
                            <p:cNvPr id="1369" name=""/>
                            <p:cNvGrpSpPr/>
                            <p:nvPr/>
                          </p:nvGrpSpPr>
                          <p:grpSpPr>
                            <a:xfrm>
                              <a:off x="6372720" y="5406480"/>
                              <a:ext cx="5040" cy="17640"/>
                              <a:chOff x="6372720" y="5406480"/>
                              <a:chExt cx="5040" cy="17640"/>
                            </a:xfrm>
                          </p:grpSpPr>
                          <p:sp>
                            <p:nvSpPr>
                              <p:cNvPr id="1370" name=""/>
                              <p:cNvSpPr/>
                              <p:nvPr/>
                            </p:nvSpPr>
                            <p:spPr>
                              <a:xfrm>
                                <a:off x="63727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1" name=""/>
                              <p:cNvSpPr/>
                              <p:nvPr/>
                            </p:nvSpPr>
                            <p:spPr>
                              <a:xfrm>
                                <a:off x="63774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72" name=""/>
                            <p:cNvGrpSpPr/>
                            <p:nvPr/>
                          </p:nvGrpSpPr>
                          <p:grpSpPr>
                            <a:xfrm>
                              <a:off x="6383160" y="5406480"/>
                              <a:ext cx="5040" cy="17640"/>
                              <a:chOff x="6383160" y="5406480"/>
                              <a:chExt cx="5040" cy="17640"/>
                            </a:xfrm>
                          </p:grpSpPr>
                          <p:sp>
                            <p:nvSpPr>
                              <p:cNvPr id="1373" name=""/>
                              <p:cNvSpPr/>
                              <p:nvPr/>
                            </p:nvSpPr>
                            <p:spPr>
                              <a:xfrm>
                                <a:off x="638316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4" name=""/>
                              <p:cNvSpPr/>
                              <p:nvPr/>
                            </p:nvSpPr>
                            <p:spPr>
                              <a:xfrm>
                                <a:off x="638784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75" name=""/>
                          <p:cNvGrpSpPr/>
                          <p:nvPr/>
                        </p:nvGrpSpPr>
                        <p:grpSpPr>
                          <a:xfrm>
                            <a:off x="6392520" y="5406480"/>
                            <a:ext cx="16200" cy="17640"/>
                            <a:chOff x="6392520" y="5406480"/>
                            <a:chExt cx="16200" cy="17640"/>
                          </a:xfrm>
                        </p:grpSpPr>
                        <p:grpSp>
                          <p:nvGrpSpPr>
                            <p:cNvPr id="1376" name=""/>
                            <p:cNvGrpSpPr/>
                            <p:nvPr/>
                          </p:nvGrpSpPr>
                          <p:grpSpPr>
                            <a:xfrm>
                              <a:off x="6392520" y="5406480"/>
                              <a:ext cx="16200" cy="17640"/>
                              <a:chOff x="6392520" y="5406480"/>
                              <a:chExt cx="16200" cy="17640"/>
                            </a:xfrm>
                          </p:grpSpPr>
                          <p:sp>
                            <p:nvSpPr>
                              <p:cNvPr id="1377" name=""/>
                              <p:cNvSpPr/>
                              <p:nvPr/>
                            </p:nvSpPr>
                            <p:spPr>
                              <a:xfrm>
                                <a:off x="6392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8" name=""/>
                              <p:cNvSpPr/>
                              <p:nvPr/>
                            </p:nvSpPr>
                            <p:spPr>
                              <a:xfrm>
                                <a:off x="639720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79" name=""/>
                            <p:cNvGrpSpPr/>
                            <p:nvPr/>
                          </p:nvGrpSpPr>
                          <p:grpSpPr>
                            <a:xfrm>
                              <a:off x="6402600" y="5406480"/>
                              <a:ext cx="5040" cy="17640"/>
                              <a:chOff x="6402600" y="5406480"/>
                              <a:chExt cx="5040" cy="17640"/>
                            </a:xfrm>
                          </p:grpSpPr>
                          <p:sp>
                            <p:nvSpPr>
                              <p:cNvPr id="1380" name=""/>
                              <p:cNvSpPr/>
                              <p:nvPr/>
                            </p:nvSpPr>
                            <p:spPr>
                              <a:xfrm>
                                <a:off x="64026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1" name=""/>
                              <p:cNvSpPr/>
                              <p:nvPr/>
                            </p:nvSpPr>
                            <p:spPr>
                              <a:xfrm>
                                <a:off x="64072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82" name=""/>
                        <p:cNvGrpSpPr/>
                        <p:nvPr/>
                      </p:nvGrpSpPr>
                      <p:grpSpPr>
                        <a:xfrm>
                          <a:off x="6412320" y="5406480"/>
                          <a:ext cx="46080" cy="17640"/>
                          <a:chOff x="6412320" y="5406480"/>
                          <a:chExt cx="46080" cy="17640"/>
                        </a:xfrm>
                      </p:grpSpPr>
                      <p:grpSp>
                        <p:nvGrpSpPr>
                          <p:cNvPr id="1383" name=""/>
                          <p:cNvGrpSpPr/>
                          <p:nvPr/>
                        </p:nvGrpSpPr>
                        <p:grpSpPr>
                          <a:xfrm>
                            <a:off x="6412320" y="5406480"/>
                            <a:ext cx="16200" cy="17640"/>
                            <a:chOff x="6412320" y="5406480"/>
                            <a:chExt cx="16200" cy="17640"/>
                          </a:xfrm>
                        </p:grpSpPr>
                        <p:grpSp>
                          <p:nvGrpSpPr>
                            <p:cNvPr id="1384" name=""/>
                            <p:cNvGrpSpPr/>
                            <p:nvPr/>
                          </p:nvGrpSpPr>
                          <p:grpSpPr>
                            <a:xfrm>
                              <a:off x="6412320" y="5406480"/>
                              <a:ext cx="16200" cy="17640"/>
                              <a:chOff x="6412320" y="5406480"/>
                              <a:chExt cx="16200" cy="17640"/>
                            </a:xfrm>
                          </p:grpSpPr>
                          <p:sp>
                            <p:nvSpPr>
                              <p:cNvPr id="1385" name=""/>
                              <p:cNvSpPr/>
                              <p:nvPr/>
                            </p:nvSpPr>
                            <p:spPr>
                              <a:xfrm>
                                <a:off x="64123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6" name=""/>
                              <p:cNvSpPr/>
                              <p:nvPr/>
                            </p:nvSpPr>
                            <p:spPr>
                              <a:xfrm>
                                <a:off x="641700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87" name=""/>
                            <p:cNvGrpSpPr/>
                            <p:nvPr/>
                          </p:nvGrpSpPr>
                          <p:grpSpPr>
                            <a:xfrm>
                              <a:off x="6422760" y="5406480"/>
                              <a:ext cx="5400" cy="17640"/>
                              <a:chOff x="6422760" y="5406480"/>
                              <a:chExt cx="5400" cy="17640"/>
                            </a:xfrm>
                          </p:grpSpPr>
                          <p:sp>
                            <p:nvSpPr>
                              <p:cNvPr id="1388" name=""/>
                              <p:cNvSpPr/>
                              <p:nvPr/>
                            </p:nvSpPr>
                            <p:spPr>
                              <a:xfrm>
                                <a:off x="642276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9" name=""/>
                              <p:cNvSpPr/>
                              <p:nvPr/>
                            </p:nvSpPr>
                            <p:spPr>
                              <a:xfrm>
                                <a:off x="64274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90" name=""/>
                          <p:cNvGrpSpPr/>
                          <p:nvPr/>
                        </p:nvGrpSpPr>
                        <p:grpSpPr>
                          <a:xfrm>
                            <a:off x="6432120" y="5406480"/>
                            <a:ext cx="26280" cy="17640"/>
                            <a:chOff x="6432120" y="5406480"/>
                            <a:chExt cx="26280" cy="17640"/>
                          </a:xfrm>
                        </p:grpSpPr>
                        <p:grpSp>
                          <p:nvGrpSpPr>
                            <p:cNvPr id="1391" name=""/>
                            <p:cNvGrpSpPr/>
                            <p:nvPr/>
                          </p:nvGrpSpPr>
                          <p:grpSpPr>
                            <a:xfrm>
                              <a:off x="6432120" y="5406480"/>
                              <a:ext cx="11520" cy="17640"/>
                              <a:chOff x="6432120" y="5406480"/>
                              <a:chExt cx="11520" cy="17640"/>
                            </a:xfrm>
                          </p:grpSpPr>
                          <p:sp>
                            <p:nvSpPr>
                              <p:cNvPr id="1392" name=""/>
                              <p:cNvSpPr/>
                              <p:nvPr/>
                            </p:nvSpPr>
                            <p:spPr>
                              <a:xfrm>
                                <a:off x="64321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3" name=""/>
                              <p:cNvSpPr/>
                              <p:nvPr/>
                            </p:nvSpPr>
                            <p:spPr>
                              <a:xfrm>
                                <a:off x="6437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94" name=""/>
                            <p:cNvGrpSpPr/>
                            <p:nvPr/>
                          </p:nvGrpSpPr>
                          <p:grpSpPr>
                            <a:xfrm>
                              <a:off x="6441480" y="5406480"/>
                              <a:ext cx="16920" cy="17640"/>
                              <a:chOff x="6441480" y="5406480"/>
                              <a:chExt cx="16920" cy="17640"/>
                            </a:xfrm>
                          </p:grpSpPr>
                          <p:sp>
                            <p:nvSpPr>
                              <p:cNvPr id="1395" name=""/>
                              <p:cNvSpPr/>
                              <p:nvPr/>
                            </p:nvSpPr>
                            <p:spPr>
                              <a:xfrm>
                                <a:off x="64414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6" name=""/>
                              <p:cNvSpPr/>
                              <p:nvPr/>
                            </p:nvSpPr>
                            <p:spPr>
                              <a:xfrm>
                                <a:off x="64468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397" name=""/>
                      <p:cNvGrpSpPr/>
                      <p:nvPr/>
                    </p:nvGrpSpPr>
                    <p:grpSpPr>
                      <a:xfrm>
                        <a:off x="6452640" y="5406480"/>
                        <a:ext cx="86400" cy="17640"/>
                        <a:chOff x="6452640" y="5406480"/>
                        <a:chExt cx="86400" cy="17640"/>
                      </a:xfrm>
                    </p:grpSpPr>
                    <p:grpSp>
                      <p:nvGrpSpPr>
                        <p:cNvPr id="1398" name=""/>
                        <p:cNvGrpSpPr/>
                        <p:nvPr/>
                      </p:nvGrpSpPr>
                      <p:grpSpPr>
                        <a:xfrm>
                          <a:off x="6452640" y="5406480"/>
                          <a:ext cx="41400" cy="17640"/>
                          <a:chOff x="6452640" y="5406480"/>
                          <a:chExt cx="41400" cy="17640"/>
                        </a:xfrm>
                      </p:grpSpPr>
                      <p:grpSp>
                        <p:nvGrpSpPr>
                          <p:cNvPr id="1399" name=""/>
                          <p:cNvGrpSpPr/>
                          <p:nvPr/>
                        </p:nvGrpSpPr>
                        <p:grpSpPr>
                          <a:xfrm>
                            <a:off x="6452640" y="5406480"/>
                            <a:ext cx="21600" cy="17640"/>
                            <a:chOff x="6452640" y="5406480"/>
                            <a:chExt cx="21600" cy="17640"/>
                          </a:xfrm>
                        </p:grpSpPr>
                        <p:grpSp>
                          <p:nvGrpSpPr>
                            <p:cNvPr id="1400" name=""/>
                            <p:cNvGrpSpPr/>
                            <p:nvPr/>
                          </p:nvGrpSpPr>
                          <p:grpSpPr>
                            <a:xfrm>
                              <a:off x="6452640" y="5406480"/>
                              <a:ext cx="16200" cy="17640"/>
                              <a:chOff x="6452640" y="5406480"/>
                              <a:chExt cx="16200" cy="17640"/>
                            </a:xfrm>
                          </p:grpSpPr>
                          <p:sp>
                            <p:nvSpPr>
                              <p:cNvPr id="1401" name=""/>
                              <p:cNvSpPr/>
                              <p:nvPr/>
                            </p:nvSpPr>
                            <p:spPr>
                              <a:xfrm>
                                <a:off x="645264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02" name=""/>
                              <p:cNvSpPr/>
                              <p:nvPr/>
                            </p:nvSpPr>
                            <p:spPr>
                              <a:xfrm>
                                <a:off x="64573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03" name=""/>
                            <p:cNvGrpSpPr/>
                            <p:nvPr/>
                          </p:nvGrpSpPr>
                          <p:grpSpPr>
                            <a:xfrm>
                              <a:off x="6462720" y="5406480"/>
                              <a:ext cx="11520" cy="17640"/>
                              <a:chOff x="6462720" y="5406480"/>
                              <a:chExt cx="11520" cy="17640"/>
                            </a:xfrm>
                          </p:grpSpPr>
                          <p:sp>
                            <p:nvSpPr>
                              <p:cNvPr id="1404" name=""/>
                              <p:cNvSpPr/>
                              <p:nvPr/>
                            </p:nvSpPr>
                            <p:spPr>
                              <a:xfrm>
                                <a:off x="64627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05" name=""/>
                              <p:cNvSpPr/>
                              <p:nvPr/>
                            </p:nvSpPr>
                            <p:spPr>
                              <a:xfrm>
                                <a:off x="64674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406" name=""/>
                          <p:cNvGrpSpPr/>
                          <p:nvPr/>
                        </p:nvGrpSpPr>
                        <p:grpSpPr>
                          <a:xfrm>
                            <a:off x="6472440" y="5406480"/>
                            <a:ext cx="21600" cy="17640"/>
                            <a:chOff x="6472440" y="5406480"/>
                            <a:chExt cx="21600" cy="17640"/>
                          </a:xfrm>
                        </p:grpSpPr>
                        <p:grpSp>
                          <p:nvGrpSpPr>
                            <p:cNvPr id="1407" name=""/>
                            <p:cNvGrpSpPr/>
                            <p:nvPr/>
                          </p:nvGrpSpPr>
                          <p:grpSpPr>
                            <a:xfrm>
                              <a:off x="6472440" y="5406480"/>
                              <a:ext cx="16200" cy="17640"/>
                              <a:chOff x="6472440" y="5406480"/>
                              <a:chExt cx="16200" cy="17640"/>
                            </a:xfrm>
                          </p:grpSpPr>
                          <p:sp>
                            <p:nvSpPr>
                              <p:cNvPr id="1408" name=""/>
                              <p:cNvSpPr/>
                              <p:nvPr/>
                            </p:nvSpPr>
                            <p:spPr>
                              <a:xfrm>
                                <a:off x="64724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09" name=""/>
                              <p:cNvSpPr/>
                              <p:nvPr/>
                            </p:nvSpPr>
                            <p:spPr>
                              <a:xfrm>
                                <a:off x="64771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0" name=""/>
                            <p:cNvGrpSpPr/>
                            <p:nvPr/>
                          </p:nvGrpSpPr>
                          <p:grpSpPr>
                            <a:xfrm>
                              <a:off x="6482520" y="5406480"/>
                              <a:ext cx="11520" cy="17640"/>
                              <a:chOff x="6482520" y="5406480"/>
                              <a:chExt cx="11520" cy="17640"/>
                            </a:xfrm>
                          </p:grpSpPr>
                          <p:sp>
                            <p:nvSpPr>
                              <p:cNvPr id="1411" name=""/>
                              <p:cNvSpPr/>
                              <p:nvPr/>
                            </p:nvSpPr>
                            <p:spPr>
                              <a:xfrm>
                                <a:off x="64825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2" name=""/>
                              <p:cNvSpPr/>
                              <p:nvPr/>
                            </p:nvSpPr>
                            <p:spPr>
                              <a:xfrm>
                                <a:off x="64872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13" name=""/>
                        <p:cNvGrpSpPr/>
                        <p:nvPr/>
                      </p:nvGrpSpPr>
                      <p:grpSpPr>
                        <a:xfrm>
                          <a:off x="6493320" y="5406480"/>
                          <a:ext cx="45720" cy="17640"/>
                          <a:chOff x="6493320" y="5406480"/>
                          <a:chExt cx="45720" cy="17640"/>
                        </a:xfrm>
                      </p:grpSpPr>
                      <p:grpSp>
                        <p:nvGrpSpPr>
                          <p:cNvPr id="1414" name=""/>
                          <p:cNvGrpSpPr/>
                          <p:nvPr/>
                        </p:nvGrpSpPr>
                        <p:grpSpPr>
                          <a:xfrm>
                            <a:off x="6493320" y="5406480"/>
                            <a:ext cx="14760" cy="17640"/>
                            <a:chOff x="6493320" y="5406480"/>
                            <a:chExt cx="14760" cy="17640"/>
                          </a:xfrm>
                        </p:grpSpPr>
                        <p:grpSp>
                          <p:nvGrpSpPr>
                            <p:cNvPr id="1415" name=""/>
                            <p:cNvGrpSpPr/>
                            <p:nvPr/>
                          </p:nvGrpSpPr>
                          <p:grpSpPr>
                            <a:xfrm>
                              <a:off x="6493320" y="5406480"/>
                              <a:ext cx="4320" cy="17640"/>
                              <a:chOff x="6493320" y="5406480"/>
                              <a:chExt cx="4320" cy="17640"/>
                            </a:xfrm>
                          </p:grpSpPr>
                          <p:sp>
                            <p:nvSpPr>
                              <p:cNvPr id="1416" name=""/>
                              <p:cNvSpPr/>
                              <p:nvPr/>
                            </p:nvSpPr>
                            <p:spPr>
                              <a:xfrm>
                                <a:off x="649332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7" name=""/>
                              <p:cNvSpPr/>
                              <p:nvPr/>
                            </p:nvSpPr>
                            <p:spPr>
                              <a:xfrm>
                                <a:off x="64972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8" name=""/>
                            <p:cNvGrpSpPr/>
                            <p:nvPr/>
                          </p:nvGrpSpPr>
                          <p:grpSpPr>
                            <a:xfrm>
                              <a:off x="6503040" y="5406480"/>
                              <a:ext cx="5040" cy="17640"/>
                              <a:chOff x="6503040" y="5406480"/>
                              <a:chExt cx="5040" cy="17640"/>
                            </a:xfrm>
                          </p:grpSpPr>
                          <p:sp>
                            <p:nvSpPr>
                              <p:cNvPr id="1419" name=""/>
                              <p:cNvSpPr/>
                              <p:nvPr/>
                            </p:nvSpPr>
                            <p:spPr>
                              <a:xfrm>
                                <a:off x="65030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0" name=""/>
                              <p:cNvSpPr/>
                              <p:nvPr/>
                            </p:nvSpPr>
                            <p:spPr>
                              <a:xfrm>
                                <a:off x="65077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421" name=""/>
                          <p:cNvGrpSpPr/>
                          <p:nvPr/>
                        </p:nvGrpSpPr>
                        <p:grpSpPr>
                          <a:xfrm>
                            <a:off x="6512760" y="5406480"/>
                            <a:ext cx="26280" cy="17640"/>
                            <a:chOff x="6512760" y="5406480"/>
                            <a:chExt cx="26280" cy="17640"/>
                          </a:xfrm>
                        </p:grpSpPr>
                        <p:grpSp>
                          <p:nvGrpSpPr>
                            <p:cNvPr id="1422" name=""/>
                            <p:cNvGrpSpPr/>
                            <p:nvPr/>
                          </p:nvGrpSpPr>
                          <p:grpSpPr>
                            <a:xfrm>
                              <a:off x="6512760" y="5406480"/>
                              <a:ext cx="11520" cy="17640"/>
                              <a:chOff x="6512760" y="5406480"/>
                              <a:chExt cx="11520" cy="17640"/>
                            </a:xfrm>
                          </p:grpSpPr>
                          <p:sp>
                            <p:nvSpPr>
                              <p:cNvPr id="1423" name=""/>
                              <p:cNvSpPr/>
                              <p:nvPr/>
                            </p:nvSpPr>
                            <p:spPr>
                              <a:xfrm>
                                <a:off x="651276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4" name=""/>
                              <p:cNvSpPr/>
                              <p:nvPr/>
                            </p:nvSpPr>
                            <p:spPr>
                              <a:xfrm>
                                <a:off x="651816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25" name=""/>
                            <p:cNvGrpSpPr/>
                            <p:nvPr/>
                          </p:nvGrpSpPr>
                          <p:grpSpPr>
                            <a:xfrm>
                              <a:off x="6522840" y="5406480"/>
                              <a:ext cx="16200" cy="17640"/>
                              <a:chOff x="6522840" y="5406480"/>
                              <a:chExt cx="16200" cy="17640"/>
                            </a:xfrm>
                          </p:grpSpPr>
                          <p:sp>
                            <p:nvSpPr>
                              <p:cNvPr id="1426" name=""/>
                              <p:cNvSpPr/>
                              <p:nvPr/>
                            </p:nvSpPr>
                            <p:spPr>
                              <a:xfrm>
                                <a:off x="652284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7" name=""/>
                              <p:cNvSpPr/>
                              <p:nvPr/>
                            </p:nvSpPr>
                            <p:spPr>
                              <a:xfrm>
                                <a:off x="65275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428" name=""/>
                <p:cNvGrpSpPr/>
                <p:nvPr/>
              </p:nvGrpSpPr>
              <p:grpSpPr>
                <a:xfrm>
                  <a:off x="6209640" y="5346360"/>
                  <a:ext cx="315000" cy="41760"/>
                  <a:chOff x="6209640" y="5346360"/>
                  <a:chExt cx="315000" cy="41760"/>
                </a:xfrm>
              </p:grpSpPr>
              <p:sp>
                <p:nvSpPr>
                  <p:cNvPr id="1429" name=""/>
                  <p:cNvSpPr/>
                  <p:nvPr/>
                </p:nvSpPr>
                <p:spPr>
                  <a:xfrm>
                    <a:off x="6209640" y="53463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6279120" y="53463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377400" y="53463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484680" y="53463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3" name=""/>
              <p:cNvGrpSpPr/>
              <p:nvPr/>
            </p:nvGrpSpPr>
            <p:grpSpPr>
              <a:xfrm>
                <a:off x="6489720" y="5351400"/>
                <a:ext cx="25200" cy="19440"/>
                <a:chOff x="6489720" y="5351400"/>
                <a:chExt cx="25200" cy="1944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504120" y="53514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505920" y="53586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6" name=""/>
                <p:cNvGrpSpPr/>
                <p:nvPr/>
              </p:nvGrpSpPr>
              <p:grpSpPr>
                <a:xfrm>
                  <a:off x="6489720" y="5353920"/>
                  <a:ext cx="5400" cy="16920"/>
                  <a:chOff x="6489720" y="5353920"/>
                  <a:chExt cx="5400" cy="1692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6489720" y="53539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6489720" y="53665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6283080" y="5352480"/>
                <a:ext cx="85680" cy="27720"/>
                <a:chOff x="6283080" y="5352480"/>
                <a:chExt cx="85680" cy="2772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6283800" y="5352480"/>
                  <a:ext cx="84960" cy="15480"/>
                  <a:chOff x="6283800" y="5352480"/>
                  <a:chExt cx="84960" cy="15480"/>
                </a:xfrm>
              </p:grpSpPr>
              <p:sp>
                <p:nvSpPr>
                  <p:cNvPr id="1441" name=""/>
                  <p:cNvSpPr/>
                  <p:nvPr/>
                </p:nvSpPr>
                <p:spPr>
                  <a:xfrm>
                    <a:off x="6312240" y="53524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312240" y="53600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283800" y="53589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4" name=""/>
                <p:cNvSpPr/>
                <p:nvPr/>
              </p:nvSpPr>
              <p:spPr>
                <a:xfrm>
                  <a:off x="6283080" y="53539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356520" y="53758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6213240" y="5379120"/>
                <a:ext cx="67320" cy="9360"/>
                <a:chOff x="6213240" y="5379120"/>
                <a:chExt cx="67320" cy="9360"/>
              </a:xfrm>
            </p:grpSpPr>
            <p:grpSp>
              <p:nvGrpSpPr>
                <p:cNvPr id="1447" name=""/>
                <p:cNvGrpSpPr/>
                <p:nvPr/>
              </p:nvGrpSpPr>
              <p:grpSpPr>
                <a:xfrm>
                  <a:off x="6213240" y="5379120"/>
                  <a:ext cx="37080" cy="9360"/>
                  <a:chOff x="6213240" y="5379120"/>
                  <a:chExt cx="37080" cy="9360"/>
                </a:xfrm>
              </p:grpSpPr>
              <p:grpSp>
                <p:nvGrpSpPr>
                  <p:cNvPr id="1448" name=""/>
                  <p:cNvGrpSpPr/>
                  <p:nvPr/>
                </p:nvGrpSpPr>
                <p:grpSpPr>
                  <a:xfrm>
                    <a:off x="6213240" y="5379120"/>
                    <a:ext cx="23040" cy="9360"/>
                    <a:chOff x="6213240" y="5379120"/>
                    <a:chExt cx="23040" cy="9360"/>
                  </a:xfrm>
                </p:grpSpPr>
                <p:grpSp>
                  <p:nvGrpSpPr>
                    <p:cNvPr id="1449" name=""/>
                    <p:cNvGrpSpPr/>
                    <p:nvPr/>
                  </p:nvGrpSpPr>
                  <p:grpSpPr>
                    <a:xfrm>
                      <a:off x="6213240" y="5379120"/>
                      <a:ext cx="14760" cy="9360"/>
                      <a:chOff x="6213240" y="5379120"/>
                      <a:chExt cx="14760" cy="9360"/>
                    </a:xfrm>
                  </p:grpSpPr>
                  <p:sp>
                    <p:nvSpPr>
                      <p:cNvPr id="1450" name=""/>
                      <p:cNvSpPr/>
                      <p:nvPr/>
                    </p:nvSpPr>
                    <p:spPr>
                      <a:xfrm>
                        <a:off x="62132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21648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2" name=""/>
                    <p:cNvGrpSpPr/>
                    <p:nvPr/>
                  </p:nvGrpSpPr>
                  <p:grpSpPr>
                    <a:xfrm>
                      <a:off x="6220080" y="5379120"/>
                      <a:ext cx="16200" cy="9360"/>
                      <a:chOff x="6220080" y="5379120"/>
                      <a:chExt cx="16200" cy="9360"/>
                    </a:xfrm>
                  </p:grpSpPr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22008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4" name=""/>
                      <p:cNvSpPr/>
                      <p:nvPr/>
                    </p:nvSpPr>
                    <p:spPr>
                      <a:xfrm>
                        <a:off x="622440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6227640" y="5379120"/>
                    <a:ext cx="22680" cy="9360"/>
                    <a:chOff x="6227640" y="5379120"/>
                    <a:chExt cx="22680" cy="9360"/>
                  </a:xfrm>
                </p:grpSpPr>
                <p:grpSp>
                  <p:nvGrpSpPr>
                    <p:cNvPr id="1456" name=""/>
                    <p:cNvGrpSpPr/>
                    <p:nvPr/>
                  </p:nvGrpSpPr>
                  <p:grpSpPr>
                    <a:xfrm>
                      <a:off x="6227640" y="5379120"/>
                      <a:ext cx="14760" cy="9360"/>
                      <a:chOff x="6227640" y="5379120"/>
                      <a:chExt cx="14760" cy="9360"/>
                    </a:xfrm>
                  </p:grpSpPr>
                  <p:sp>
                    <p:nvSpPr>
                      <p:cNvPr id="1457" name=""/>
                      <p:cNvSpPr/>
                      <p:nvPr/>
                    </p:nvSpPr>
                    <p:spPr>
                      <a:xfrm>
                        <a:off x="62276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623088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9" name=""/>
                    <p:cNvGrpSpPr/>
                    <p:nvPr/>
                  </p:nvGrpSpPr>
                  <p:grpSpPr>
                    <a:xfrm>
                      <a:off x="6234840" y="5379120"/>
                      <a:ext cx="15480" cy="9360"/>
                      <a:chOff x="6234840" y="5379120"/>
                      <a:chExt cx="15480" cy="9360"/>
                    </a:xfrm>
                  </p:grpSpPr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62348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623880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242760" y="5379120"/>
                  <a:ext cx="37800" cy="9360"/>
                  <a:chOff x="6242760" y="5379120"/>
                  <a:chExt cx="37800" cy="9360"/>
                </a:xfrm>
              </p:grpSpPr>
              <p:grpSp>
                <p:nvGrpSpPr>
                  <p:cNvPr id="1463" name=""/>
                  <p:cNvGrpSpPr/>
                  <p:nvPr/>
                </p:nvGrpSpPr>
                <p:grpSpPr>
                  <a:xfrm>
                    <a:off x="6242760" y="5379120"/>
                    <a:ext cx="23040" cy="9360"/>
                    <a:chOff x="6242760" y="5379120"/>
                    <a:chExt cx="23040" cy="9360"/>
                  </a:xfrm>
                </p:grpSpPr>
                <p:grpSp>
                  <p:nvGrpSpPr>
                    <p:cNvPr id="1464" name=""/>
                    <p:cNvGrpSpPr/>
                    <p:nvPr/>
                  </p:nvGrpSpPr>
                  <p:grpSpPr>
                    <a:xfrm>
                      <a:off x="6242760" y="5379120"/>
                      <a:ext cx="15840" cy="9360"/>
                      <a:chOff x="6242760" y="5379120"/>
                      <a:chExt cx="15840" cy="9360"/>
                    </a:xfrm>
                  </p:grpSpPr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624276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624672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67" name=""/>
                    <p:cNvGrpSpPr/>
                    <p:nvPr/>
                  </p:nvGrpSpPr>
                  <p:grpSpPr>
                    <a:xfrm>
                      <a:off x="6251040" y="5379120"/>
                      <a:ext cx="14760" cy="9360"/>
                      <a:chOff x="6251040" y="5379120"/>
                      <a:chExt cx="14760" cy="9360"/>
                    </a:xfrm>
                  </p:grpSpPr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62510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625428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6257880" y="5379120"/>
                    <a:ext cx="22680" cy="9360"/>
                    <a:chOff x="6257880" y="5379120"/>
                    <a:chExt cx="22680" cy="9360"/>
                  </a:xfrm>
                </p:grpSpPr>
                <p:grpSp>
                  <p:nvGrpSpPr>
                    <p:cNvPr id="1471" name=""/>
                    <p:cNvGrpSpPr/>
                    <p:nvPr/>
                  </p:nvGrpSpPr>
                  <p:grpSpPr>
                    <a:xfrm>
                      <a:off x="6257880" y="5379120"/>
                      <a:ext cx="15840" cy="9360"/>
                      <a:chOff x="6257880" y="5379120"/>
                      <a:chExt cx="15840" cy="9360"/>
                    </a:xfrm>
                  </p:grpSpPr>
                  <p:sp>
                    <p:nvSpPr>
                      <p:cNvPr id="1472" name=""/>
                      <p:cNvSpPr/>
                      <p:nvPr/>
                    </p:nvSpPr>
                    <p:spPr>
                      <a:xfrm>
                        <a:off x="625788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3" name=""/>
                      <p:cNvSpPr/>
                      <p:nvPr/>
                    </p:nvSpPr>
                    <p:spPr>
                      <a:xfrm>
                        <a:off x="626184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4" name=""/>
                    <p:cNvGrpSpPr/>
                    <p:nvPr/>
                  </p:nvGrpSpPr>
                  <p:grpSpPr>
                    <a:xfrm>
                      <a:off x="6266160" y="5379120"/>
                      <a:ext cx="14400" cy="9360"/>
                      <a:chOff x="6266160" y="5379120"/>
                      <a:chExt cx="14400" cy="9360"/>
                    </a:xfrm>
                  </p:grpSpPr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626616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626868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77" name=""/>
              <p:cNvSpPr/>
              <p:nvPr/>
            </p:nvSpPr>
            <p:spPr>
              <a:xfrm>
                <a:off x="6207840" y="53708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6095880" y="5423400"/>
              <a:ext cx="533520" cy="62640"/>
              <a:chOff x="6095880" y="5423400"/>
              <a:chExt cx="533520" cy="62640"/>
            </a:xfrm>
          </p:grpSpPr>
          <p:grpSp>
            <p:nvGrpSpPr>
              <p:cNvPr id="1479" name=""/>
              <p:cNvGrpSpPr/>
              <p:nvPr/>
            </p:nvGrpSpPr>
            <p:grpSpPr>
              <a:xfrm>
                <a:off x="6095880" y="5423400"/>
                <a:ext cx="533520" cy="62640"/>
                <a:chOff x="6095880" y="5423400"/>
                <a:chExt cx="533520" cy="6264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6098400" y="547848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095880" y="542340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111720" y="542916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6154560" y="5428080"/>
                <a:ext cx="420120" cy="14400"/>
                <a:chOff x="6154560" y="5428080"/>
                <a:chExt cx="420120" cy="1440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6154560" y="54280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6194520" y="54280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280200" y="54280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356160" y="54280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434280" y="54280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504480" y="54331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6141240" y="5442120"/>
                <a:ext cx="435240" cy="21960"/>
                <a:chOff x="6141240" y="5442120"/>
                <a:chExt cx="435240" cy="21960"/>
              </a:xfrm>
            </p:grpSpPr>
            <p:grpSp>
              <p:nvGrpSpPr>
                <p:cNvPr id="1491" name=""/>
                <p:cNvGrpSpPr/>
                <p:nvPr/>
              </p:nvGrpSpPr>
              <p:grpSpPr>
                <a:xfrm>
                  <a:off x="6179040" y="5442840"/>
                  <a:ext cx="212760" cy="19080"/>
                  <a:chOff x="6179040" y="5442840"/>
                  <a:chExt cx="212760" cy="1908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6179040" y="54428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6187320" y="54489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6189840" y="54550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6194160" y="54619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6" name=""/>
                <p:cNvGrpSpPr/>
                <p:nvPr/>
              </p:nvGrpSpPr>
              <p:grpSpPr>
                <a:xfrm>
                  <a:off x="6141240" y="5445720"/>
                  <a:ext cx="30960" cy="12240"/>
                  <a:chOff x="6141240" y="5445720"/>
                  <a:chExt cx="30960" cy="1224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6150240" y="54457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6146640" y="54522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141240" y="54579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6225480" y="5442120"/>
                  <a:ext cx="194760" cy="20880"/>
                  <a:chOff x="6225480" y="5442120"/>
                  <a:chExt cx="194760" cy="20880"/>
                </a:xfrm>
              </p:grpSpPr>
              <p:sp>
                <p:nvSpPr>
                  <p:cNvPr id="1501" name=""/>
                  <p:cNvSpPr/>
                  <p:nvPr/>
                </p:nvSpPr>
                <p:spPr>
                  <a:xfrm>
                    <a:off x="6225480" y="54622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395400" y="54421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402960" y="54493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6387120" y="54561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6355080" y="54622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381000" y="54630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7" name=""/>
                <p:cNvGrpSpPr/>
                <p:nvPr/>
              </p:nvGrpSpPr>
              <p:grpSpPr>
                <a:xfrm>
                  <a:off x="6435360" y="5445720"/>
                  <a:ext cx="56160" cy="17280"/>
                  <a:chOff x="6435360" y="5445720"/>
                  <a:chExt cx="56160" cy="1728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6435360" y="54457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443640" y="54536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444000" y="54630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1" name=""/>
                <p:cNvGrpSpPr/>
                <p:nvPr/>
              </p:nvGrpSpPr>
              <p:grpSpPr>
                <a:xfrm>
                  <a:off x="6508800" y="5445720"/>
                  <a:ext cx="67680" cy="18360"/>
                  <a:chOff x="6508800" y="5445720"/>
                  <a:chExt cx="67680" cy="1836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6513480" y="54457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508800" y="54522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6513480" y="54579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512040" y="54640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6563160" y="5452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6568200" y="54608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18" name=""/>
            <p:cNvGrpSpPr/>
            <p:nvPr/>
          </p:nvGrpSpPr>
          <p:grpSpPr>
            <a:xfrm>
              <a:off x="6252480" y="5287320"/>
              <a:ext cx="232200" cy="38160"/>
              <a:chOff x="6252480" y="5287320"/>
              <a:chExt cx="232200" cy="38160"/>
            </a:xfrm>
          </p:grpSpPr>
          <p:grpSp>
            <p:nvGrpSpPr>
              <p:cNvPr id="1519" name=""/>
              <p:cNvGrpSpPr/>
              <p:nvPr/>
            </p:nvGrpSpPr>
            <p:grpSpPr>
              <a:xfrm>
                <a:off x="6252480" y="5299920"/>
                <a:ext cx="232200" cy="25560"/>
                <a:chOff x="6252480" y="5299920"/>
                <a:chExt cx="232200" cy="2556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6252480" y="529992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254640" y="531720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2" name=""/>
              <p:cNvSpPr/>
              <p:nvPr/>
            </p:nvSpPr>
            <p:spPr>
              <a:xfrm>
                <a:off x="6305760" y="52873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6226560" y="51055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58240" y="51260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67960" y="513144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6095880" y="5715000"/>
            <a:ext cx="533520" cy="380520"/>
            <a:chOff x="6095880" y="5715000"/>
            <a:chExt cx="533520" cy="380520"/>
          </a:xfrm>
        </p:grpSpPr>
        <p:grpSp>
          <p:nvGrpSpPr>
            <p:cNvPr id="1527" name=""/>
            <p:cNvGrpSpPr/>
            <p:nvPr/>
          </p:nvGrpSpPr>
          <p:grpSpPr>
            <a:xfrm>
              <a:off x="6198840" y="5918040"/>
              <a:ext cx="340200" cy="118080"/>
              <a:chOff x="6198840" y="5918040"/>
              <a:chExt cx="340200" cy="11808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6198840" y="5918040"/>
                <a:ext cx="340200" cy="118080"/>
                <a:chOff x="6198840" y="5918040"/>
                <a:chExt cx="340200" cy="118080"/>
              </a:xfrm>
            </p:grpSpPr>
            <p:grpSp>
              <p:nvGrpSpPr>
                <p:cNvPr id="1529" name=""/>
                <p:cNvGrpSpPr/>
                <p:nvPr/>
              </p:nvGrpSpPr>
              <p:grpSpPr>
                <a:xfrm>
                  <a:off x="6198840" y="5918040"/>
                  <a:ext cx="340200" cy="118080"/>
                  <a:chOff x="6198840" y="5918040"/>
                  <a:chExt cx="340200" cy="11808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6198840" y="5918040"/>
                    <a:ext cx="339120" cy="118080"/>
                    <a:chOff x="6198840" y="5918040"/>
                    <a:chExt cx="339120" cy="118080"/>
                  </a:xfrm>
                </p:grpSpPr>
                <p:grpSp>
                  <p:nvGrpSpPr>
                    <p:cNvPr id="1531" name=""/>
                    <p:cNvGrpSpPr/>
                    <p:nvPr/>
                  </p:nvGrpSpPr>
                  <p:grpSpPr>
                    <a:xfrm>
                      <a:off x="6198840" y="5918040"/>
                      <a:ext cx="339120" cy="118080"/>
                      <a:chOff x="6198840" y="5918040"/>
                      <a:chExt cx="339120" cy="118080"/>
                    </a:xfrm>
                  </p:grpSpPr>
                  <p:sp>
                    <p:nvSpPr>
                      <p:cNvPr id="1532" name=""/>
                      <p:cNvSpPr/>
                      <p:nvPr/>
                    </p:nvSpPr>
                    <p:spPr>
                      <a:xfrm>
                        <a:off x="6199920" y="594864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6198840" y="591804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6207840" y="594180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6212520" y="6015960"/>
                    <a:ext cx="326520" cy="17640"/>
                    <a:chOff x="6212520" y="6015960"/>
                    <a:chExt cx="326520" cy="17640"/>
                  </a:xfrm>
                </p:grpSpPr>
                <p:grpSp>
                  <p:nvGrpSpPr>
                    <p:cNvPr id="1536" name=""/>
                    <p:cNvGrpSpPr/>
                    <p:nvPr/>
                  </p:nvGrpSpPr>
                  <p:grpSpPr>
                    <a:xfrm>
                      <a:off x="6212520" y="6015960"/>
                      <a:ext cx="160560" cy="17640"/>
                      <a:chOff x="6212520" y="6015960"/>
                      <a:chExt cx="160560" cy="17640"/>
                    </a:xfrm>
                  </p:grpSpPr>
                  <p:grpSp>
                    <p:nvGrpSpPr>
                      <p:cNvPr id="1537" name=""/>
                      <p:cNvGrpSpPr/>
                      <p:nvPr/>
                    </p:nvGrpSpPr>
                    <p:grpSpPr>
                      <a:xfrm>
                        <a:off x="6212520" y="6015960"/>
                        <a:ext cx="76320" cy="17640"/>
                        <a:chOff x="6212520" y="6015960"/>
                        <a:chExt cx="76320" cy="17640"/>
                      </a:xfrm>
                    </p:grpSpPr>
                    <p:grpSp>
                      <p:nvGrpSpPr>
                        <p:cNvPr id="1538" name=""/>
                        <p:cNvGrpSpPr/>
                        <p:nvPr/>
                      </p:nvGrpSpPr>
                      <p:grpSpPr>
                        <a:xfrm>
                          <a:off x="6212520" y="6015960"/>
                          <a:ext cx="35640" cy="17640"/>
                          <a:chOff x="6212520" y="6015960"/>
                          <a:chExt cx="35640" cy="17640"/>
                        </a:xfrm>
                      </p:grpSpPr>
                      <p:grpSp>
                        <p:nvGrpSpPr>
                          <p:cNvPr id="1539" name=""/>
                          <p:cNvGrpSpPr/>
                          <p:nvPr/>
                        </p:nvGrpSpPr>
                        <p:grpSpPr>
                          <a:xfrm>
                            <a:off x="6212520" y="6015960"/>
                            <a:ext cx="20880" cy="17640"/>
                            <a:chOff x="6212520" y="6015960"/>
                            <a:chExt cx="20880" cy="17640"/>
                          </a:xfrm>
                        </p:grpSpPr>
                        <p:grpSp>
                          <p:nvGrpSpPr>
                            <p:cNvPr id="1540" name=""/>
                            <p:cNvGrpSpPr/>
                            <p:nvPr/>
                          </p:nvGrpSpPr>
                          <p:grpSpPr>
                            <a:xfrm>
                              <a:off x="6212520" y="6015960"/>
                              <a:ext cx="5040" cy="17640"/>
                              <a:chOff x="6212520" y="6015960"/>
                              <a:chExt cx="5040" cy="17640"/>
                            </a:xfrm>
                          </p:grpSpPr>
                          <p:sp>
                            <p:nvSpPr>
                              <p:cNvPr id="1541" name=""/>
                              <p:cNvSpPr/>
                              <p:nvPr/>
                            </p:nvSpPr>
                            <p:spPr>
                              <a:xfrm>
                                <a:off x="6212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2" name=""/>
                              <p:cNvSpPr/>
                              <p:nvPr/>
                            </p:nvSpPr>
                            <p:spPr>
                              <a:xfrm>
                                <a:off x="62172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43" name=""/>
                            <p:cNvGrpSpPr/>
                            <p:nvPr/>
                          </p:nvGrpSpPr>
                          <p:grpSpPr>
                            <a:xfrm>
                              <a:off x="6221880" y="6015960"/>
                              <a:ext cx="11520" cy="17640"/>
                              <a:chOff x="6221880" y="6015960"/>
                              <a:chExt cx="11520" cy="17640"/>
                            </a:xfrm>
                          </p:grpSpPr>
                          <p:sp>
                            <p:nvSpPr>
                              <p:cNvPr id="1544" name=""/>
                              <p:cNvSpPr/>
                              <p:nvPr/>
                            </p:nvSpPr>
                            <p:spPr>
                              <a:xfrm>
                                <a:off x="62218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5" name=""/>
                              <p:cNvSpPr/>
                              <p:nvPr/>
                            </p:nvSpPr>
                            <p:spPr>
                              <a:xfrm>
                                <a:off x="62272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46" name=""/>
                          <p:cNvGrpSpPr/>
                          <p:nvPr/>
                        </p:nvGrpSpPr>
                        <p:grpSpPr>
                          <a:xfrm>
                            <a:off x="6232680" y="6015960"/>
                            <a:ext cx="15480" cy="17640"/>
                            <a:chOff x="6232680" y="6015960"/>
                            <a:chExt cx="15480" cy="17640"/>
                          </a:xfrm>
                        </p:grpSpPr>
                        <p:grpSp>
                          <p:nvGrpSpPr>
                            <p:cNvPr id="1547" name=""/>
                            <p:cNvGrpSpPr/>
                            <p:nvPr/>
                          </p:nvGrpSpPr>
                          <p:grpSpPr>
                            <a:xfrm>
                              <a:off x="6232680" y="6015960"/>
                              <a:ext cx="11520" cy="17640"/>
                              <a:chOff x="6232680" y="6015960"/>
                              <a:chExt cx="11520" cy="17640"/>
                            </a:xfrm>
                          </p:grpSpPr>
                          <p:sp>
                            <p:nvSpPr>
                              <p:cNvPr id="1548" name=""/>
                              <p:cNvSpPr/>
                              <p:nvPr/>
                            </p:nvSpPr>
                            <p:spPr>
                              <a:xfrm>
                                <a:off x="62326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9" name=""/>
                              <p:cNvSpPr/>
                              <p:nvPr/>
                            </p:nvSpPr>
                            <p:spPr>
                              <a:xfrm>
                                <a:off x="623736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0" name=""/>
                            <p:cNvGrpSpPr/>
                            <p:nvPr/>
                          </p:nvGrpSpPr>
                          <p:grpSpPr>
                            <a:xfrm>
                              <a:off x="6243120" y="6015960"/>
                              <a:ext cx="5040" cy="17640"/>
                              <a:chOff x="6243120" y="6015960"/>
                              <a:chExt cx="5040" cy="17640"/>
                            </a:xfrm>
                          </p:grpSpPr>
                          <p:sp>
                            <p:nvSpPr>
                              <p:cNvPr id="1551" name=""/>
                              <p:cNvSpPr/>
                              <p:nvPr/>
                            </p:nvSpPr>
                            <p:spPr>
                              <a:xfrm>
                                <a:off x="62431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2" name=""/>
                              <p:cNvSpPr/>
                              <p:nvPr/>
                            </p:nvSpPr>
                            <p:spPr>
                              <a:xfrm>
                                <a:off x="62478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53" name=""/>
                        <p:cNvGrpSpPr/>
                        <p:nvPr/>
                      </p:nvGrpSpPr>
                      <p:grpSpPr>
                        <a:xfrm>
                          <a:off x="6252480" y="6015960"/>
                          <a:ext cx="36360" cy="17640"/>
                          <a:chOff x="6252480" y="6015960"/>
                          <a:chExt cx="36360" cy="17640"/>
                        </a:xfrm>
                      </p:grpSpPr>
                      <p:grpSp>
                        <p:nvGrpSpPr>
                          <p:cNvPr id="1554" name=""/>
                          <p:cNvGrpSpPr/>
                          <p:nvPr/>
                        </p:nvGrpSpPr>
                        <p:grpSpPr>
                          <a:xfrm>
                            <a:off x="6252480" y="6015960"/>
                            <a:ext cx="21600" cy="17640"/>
                            <a:chOff x="6252480" y="6015960"/>
                            <a:chExt cx="21600" cy="17640"/>
                          </a:xfrm>
                        </p:grpSpPr>
                        <p:grpSp>
                          <p:nvGrpSpPr>
                            <p:cNvPr id="1555" name=""/>
                            <p:cNvGrpSpPr/>
                            <p:nvPr/>
                          </p:nvGrpSpPr>
                          <p:grpSpPr>
                            <a:xfrm>
                              <a:off x="6252480" y="6015960"/>
                              <a:ext cx="16200" cy="17640"/>
                              <a:chOff x="6252480" y="6015960"/>
                              <a:chExt cx="16200" cy="17640"/>
                            </a:xfrm>
                          </p:grpSpPr>
                          <p:sp>
                            <p:nvSpPr>
                              <p:cNvPr id="1556" name=""/>
                              <p:cNvSpPr/>
                              <p:nvPr/>
                            </p:nvSpPr>
                            <p:spPr>
                              <a:xfrm>
                                <a:off x="62524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7" name=""/>
                              <p:cNvSpPr/>
                              <p:nvPr/>
                            </p:nvSpPr>
                            <p:spPr>
                              <a:xfrm>
                                <a:off x="625716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8" name=""/>
                            <p:cNvGrpSpPr/>
                            <p:nvPr/>
                          </p:nvGrpSpPr>
                          <p:grpSpPr>
                            <a:xfrm>
                              <a:off x="6262200" y="6015960"/>
                              <a:ext cx="11880" cy="17640"/>
                              <a:chOff x="6262200" y="6015960"/>
                              <a:chExt cx="11880" cy="17640"/>
                            </a:xfrm>
                          </p:grpSpPr>
                          <p:sp>
                            <p:nvSpPr>
                              <p:cNvPr id="1559" name=""/>
                              <p:cNvSpPr/>
                              <p:nvPr/>
                            </p:nvSpPr>
                            <p:spPr>
                              <a:xfrm>
                                <a:off x="6262200" y="601596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0" name=""/>
                              <p:cNvSpPr/>
                              <p:nvPr/>
                            </p:nvSpPr>
                            <p:spPr>
                              <a:xfrm>
                                <a:off x="62676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61" name=""/>
                          <p:cNvGrpSpPr/>
                          <p:nvPr/>
                        </p:nvGrpSpPr>
                        <p:grpSpPr>
                          <a:xfrm>
                            <a:off x="6272640" y="6015960"/>
                            <a:ext cx="16200" cy="17640"/>
                            <a:chOff x="6272640" y="6015960"/>
                            <a:chExt cx="16200" cy="17640"/>
                          </a:xfrm>
                        </p:grpSpPr>
                        <p:grpSp>
                          <p:nvGrpSpPr>
                            <p:cNvPr id="1562" name=""/>
                            <p:cNvGrpSpPr/>
                            <p:nvPr/>
                          </p:nvGrpSpPr>
                          <p:grpSpPr>
                            <a:xfrm>
                              <a:off x="6272640" y="6015960"/>
                              <a:ext cx="16200" cy="17640"/>
                              <a:chOff x="6272640" y="6015960"/>
                              <a:chExt cx="16200" cy="17640"/>
                            </a:xfrm>
                          </p:grpSpPr>
                          <p:sp>
                            <p:nvSpPr>
                              <p:cNvPr id="1563" name=""/>
                              <p:cNvSpPr/>
                              <p:nvPr/>
                            </p:nvSpPr>
                            <p:spPr>
                              <a:xfrm>
                                <a:off x="62726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4" name=""/>
                              <p:cNvSpPr/>
                              <p:nvPr/>
                            </p:nvSpPr>
                            <p:spPr>
                              <a:xfrm>
                                <a:off x="62773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65" name=""/>
                            <p:cNvGrpSpPr/>
                            <p:nvPr/>
                          </p:nvGrpSpPr>
                          <p:grpSpPr>
                            <a:xfrm>
                              <a:off x="6282720" y="6015960"/>
                              <a:ext cx="5400" cy="17640"/>
                              <a:chOff x="6282720" y="6015960"/>
                              <a:chExt cx="5400" cy="17640"/>
                            </a:xfrm>
                          </p:grpSpPr>
                          <p:sp>
                            <p:nvSpPr>
                              <p:cNvPr id="1566" name=""/>
                              <p:cNvSpPr/>
                              <p:nvPr/>
                            </p:nvSpPr>
                            <p:spPr>
                              <a:xfrm>
                                <a:off x="628272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7" name=""/>
                              <p:cNvSpPr/>
                              <p:nvPr/>
                            </p:nvSpPr>
                            <p:spPr>
                              <a:xfrm>
                                <a:off x="62874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568" name=""/>
                      <p:cNvGrpSpPr/>
                      <p:nvPr/>
                    </p:nvGrpSpPr>
                    <p:grpSpPr>
                      <a:xfrm>
                        <a:off x="6292440" y="6015960"/>
                        <a:ext cx="80640" cy="17640"/>
                        <a:chOff x="6292440" y="6015960"/>
                        <a:chExt cx="80640" cy="17640"/>
                      </a:xfrm>
                    </p:grpSpPr>
                    <p:grpSp>
                      <p:nvGrpSpPr>
                        <p:cNvPr id="1569" name=""/>
                        <p:cNvGrpSpPr/>
                        <p:nvPr/>
                      </p:nvGrpSpPr>
                      <p:grpSpPr>
                        <a:xfrm>
                          <a:off x="6292440" y="6015960"/>
                          <a:ext cx="45720" cy="17640"/>
                          <a:chOff x="6292440" y="6015960"/>
                          <a:chExt cx="45720" cy="17640"/>
                        </a:xfrm>
                      </p:grpSpPr>
                      <p:grpSp>
                        <p:nvGrpSpPr>
                          <p:cNvPr id="1570" name=""/>
                          <p:cNvGrpSpPr/>
                          <p:nvPr/>
                        </p:nvGrpSpPr>
                        <p:grpSpPr>
                          <a:xfrm>
                            <a:off x="6292440" y="6015960"/>
                            <a:ext cx="16200" cy="17640"/>
                            <a:chOff x="6292440" y="6015960"/>
                            <a:chExt cx="16200" cy="17640"/>
                          </a:xfrm>
                        </p:grpSpPr>
                        <p:grpSp>
                          <p:nvGrpSpPr>
                            <p:cNvPr id="1571" name=""/>
                            <p:cNvGrpSpPr/>
                            <p:nvPr/>
                          </p:nvGrpSpPr>
                          <p:grpSpPr>
                            <a:xfrm>
                              <a:off x="6292440" y="6015960"/>
                              <a:ext cx="16200" cy="17640"/>
                              <a:chOff x="6292440" y="6015960"/>
                              <a:chExt cx="16200" cy="17640"/>
                            </a:xfrm>
                          </p:grpSpPr>
                          <p:sp>
                            <p:nvSpPr>
                              <p:cNvPr id="1572" name=""/>
                              <p:cNvSpPr/>
                              <p:nvPr/>
                            </p:nvSpPr>
                            <p:spPr>
                              <a:xfrm>
                                <a:off x="62924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3" name=""/>
                              <p:cNvSpPr/>
                              <p:nvPr/>
                            </p:nvSpPr>
                            <p:spPr>
                              <a:xfrm>
                                <a:off x="62971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74" name=""/>
                            <p:cNvGrpSpPr/>
                            <p:nvPr/>
                          </p:nvGrpSpPr>
                          <p:grpSpPr>
                            <a:xfrm>
                              <a:off x="6302520" y="6015960"/>
                              <a:ext cx="4320" cy="17640"/>
                              <a:chOff x="6302520" y="6015960"/>
                              <a:chExt cx="4320" cy="17640"/>
                            </a:xfrm>
                          </p:grpSpPr>
                          <p:sp>
                            <p:nvSpPr>
                              <p:cNvPr id="1575" name=""/>
                              <p:cNvSpPr/>
                              <p:nvPr/>
                            </p:nvSpPr>
                            <p:spPr>
                              <a:xfrm>
                                <a:off x="630252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6" name=""/>
                              <p:cNvSpPr/>
                              <p:nvPr/>
                            </p:nvSpPr>
                            <p:spPr>
                              <a:xfrm>
                                <a:off x="63064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77" name=""/>
                          <p:cNvGrpSpPr/>
                          <p:nvPr/>
                        </p:nvGrpSpPr>
                        <p:grpSpPr>
                          <a:xfrm>
                            <a:off x="6312960" y="6015960"/>
                            <a:ext cx="25200" cy="17640"/>
                            <a:chOff x="6312960" y="6015960"/>
                            <a:chExt cx="25200" cy="17640"/>
                          </a:xfrm>
                        </p:grpSpPr>
                        <p:grpSp>
                          <p:nvGrpSpPr>
                            <p:cNvPr id="1578" name=""/>
                            <p:cNvGrpSpPr/>
                            <p:nvPr/>
                          </p:nvGrpSpPr>
                          <p:grpSpPr>
                            <a:xfrm>
                              <a:off x="6312960" y="6015960"/>
                              <a:ext cx="4320" cy="17640"/>
                              <a:chOff x="6312960" y="6015960"/>
                              <a:chExt cx="4320" cy="17640"/>
                            </a:xfrm>
                          </p:grpSpPr>
                          <p:sp>
                            <p:nvSpPr>
                              <p:cNvPr id="1579" name=""/>
                              <p:cNvSpPr/>
                              <p:nvPr/>
                            </p:nvSpPr>
                            <p:spPr>
                              <a:xfrm>
                                <a:off x="631296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0" name=""/>
                              <p:cNvSpPr/>
                              <p:nvPr/>
                            </p:nvSpPr>
                            <p:spPr>
                              <a:xfrm>
                                <a:off x="63169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81" name=""/>
                            <p:cNvGrpSpPr/>
                            <p:nvPr/>
                          </p:nvGrpSpPr>
                          <p:grpSpPr>
                            <a:xfrm>
                              <a:off x="6322680" y="6015960"/>
                              <a:ext cx="15480" cy="17640"/>
                              <a:chOff x="6322680" y="6015960"/>
                              <a:chExt cx="15480" cy="17640"/>
                            </a:xfrm>
                          </p:grpSpPr>
                          <p:sp>
                            <p:nvSpPr>
                              <p:cNvPr id="1582" name=""/>
                              <p:cNvSpPr/>
                              <p:nvPr/>
                            </p:nvSpPr>
                            <p:spPr>
                              <a:xfrm>
                                <a:off x="63226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3" name=""/>
                              <p:cNvSpPr/>
                              <p:nvPr/>
                            </p:nvSpPr>
                            <p:spPr>
                              <a:xfrm>
                                <a:off x="632664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84" name=""/>
                        <p:cNvGrpSpPr/>
                        <p:nvPr/>
                      </p:nvGrpSpPr>
                      <p:grpSpPr>
                        <a:xfrm>
                          <a:off x="6332400" y="6015960"/>
                          <a:ext cx="40680" cy="17640"/>
                          <a:chOff x="6332400" y="6015960"/>
                          <a:chExt cx="40680" cy="17640"/>
                        </a:xfrm>
                      </p:grpSpPr>
                      <p:grpSp>
                        <p:nvGrpSpPr>
                          <p:cNvPr id="1585" name=""/>
                          <p:cNvGrpSpPr/>
                          <p:nvPr/>
                        </p:nvGrpSpPr>
                        <p:grpSpPr>
                          <a:xfrm>
                            <a:off x="6332400" y="6015960"/>
                            <a:ext cx="15480" cy="17640"/>
                            <a:chOff x="6332400" y="6015960"/>
                            <a:chExt cx="15480" cy="17640"/>
                          </a:xfrm>
                        </p:grpSpPr>
                        <p:grpSp>
                          <p:nvGrpSpPr>
                            <p:cNvPr id="1586" name=""/>
                            <p:cNvGrpSpPr/>
                            <p:nvPr/>
                          </p:nvGrpSpPr>
                          <p:grpSpPr>
                            <a:xfrm>
                              <a:off x="6332400" y="6015960"/>
                              <a:ext cx="5040" cy="17640"/>
                              <a:chOff x="6332400" y="6015960"/>
                              <a:chExt cx="5040" cy="17640"/>
                            </a:xfrm>
                          </p:grpSpPr>
                          <p:sp>
                            <p:nvSpPr>
                              <p:cNvPr id="1587" name=""/>
                              <p:cNvSpPr/>
                              <p:nvPr/>
                            </p:nvSpPr>
                            <p:spPr>
                              <a:xfrm>
                                <a:off x="63324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8" name=""/>
                              <p:cNvSpPr/>
                              <p:nvPr/>
                            </p:nvSpPr>
                            <p:spPr>
                              <a:xfrm>
                                <a:off x="63370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89" name=""/>
                            <p:cNvGrpSpPr/>
                            <p:nvPr/>
                          </p:nvGrpSpPr>
                          <p:grpSpPr>
                            <a:xfrm>
                              <a:off x="6342840" y="6015960"/>
                              <a:ext cx="5040" cy="17640"/>
                              <a:chOff x="6342840" y="6015960"/>
                              <a:chExt cx="5040" cy="17640"/>
                            </a:xfrm>
                          </p:grpSpPr>
                          <p:sp>
                            <p:nvSpPr>
                              <p:cNvPr id="1590" name=""/>
                              <p:cNvSpPr/>
                              <p:nvPr/>
                            </p:nvSpPr>
                            <p:spPr>
                              <a:xfrm>
                                <a:off x="634284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1" name=""/>
                              <p:cNvSpPr/>
                              <p:nvPr/>
                            </p:nvSpPr>
                            <p:spPr>
                              <a:xfrm>
                                <a:off x="6347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92" name=""/>
                          <p:cNvGrpSpPr/>
                          <p:nvPr/>
                        </p:nvGrpSpPr>
                        <p:grpSpPr>
                          <a:xfrm>
                            <a:off x="6352200" y="6015960"/>
                            <a:ext cx="20880" cy="17640"/>
                            <a:chOff x="6352200" y="6015960"/>
                            <a:chExt cx="20880" cy="17640"/>
                          </a:xfrm>
                        </p:grpSpPr>
                        <p:grpSp>
                          <p:nvGrpSpPr>
                            <p:cNvPr id="1593" name=""/>
                            <p:cNvGrpSpPr/>
                            <p:nvPr/>
                          </p:nvGrpSpPr>
                          <p:grpSpPr>
                            <a:xfrm>
                              <a:off x="6352200" y="6015960"/>
                              <a:ext cx="16920" cy="17640"/>
                              <a:chOff x="6352200" y="6015960"/>
                              <a:chExt cx="16920" cy="17640"/>
                            </a:xfrm>
                          </p:grpSpPr>
                          <p:sp>
                            <p:nvSpPr>
                              <p:cNvPr id="1594" name=""/>
                              <p:cNvSpPr/>
                              <p:nvPr/>
                            </p:nvSpPr>
                            <p:spPr>
                              <a:xfrm>
                                <a:off x="63522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5" name=""/>
                              <p:cNvSpPr/>
                              <p:nvPr/>
                            </p:nvSpPr>
                            <p:spPr>
                              <a:xfrm>
                                <a:off x="635760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96" name=""/>
                            <p:cNvGrpSpPr/>
                            <p:nvPr/>
                          </p:nvGrpSpPr>
                          <p:grpSpPr>
                            <a:xfrm>
                              <a:off x="6361560" y="6015960"/>
                              <a:ext cx="11520" cy="17640"/>
                              <a:chOff x="6361560" y="6015960"/>
                              <a:chExt cx="11520" cy="17640"/>
                            </a:xfrm>
                          </p:grpSpPr>
                          <p:sp>
                            <p:nvSpPr>
                              <p:cNvPr id="1597" name=""/>
                              <p:cNvSpPr/>
                              <p:nvPr/>
                            </p:nvSpPr>
                            <p:spPr>
                              <a:xfrm>
                                <a:off x="636156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8" name=""/>
                              <p:cNvSpPr/>
                              <p:nvPr/>
                            </p:nvSpPr>
                            <p:spPr>
                              <a:xfrm>
                                <a:off x="636696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599" name=""/>
                    <p:cNvGrpSpPr/>
                    <p:nvPr/>
                  </p:nvGrpSpPr>
                  <p:grpSpPr>
                    <a:xfrm>
                      <a:off x="6372720" y="6015960"/>
                      <a:ext cx="166320" cy="17640"/>
                      <a:chOff x="6372720" y="6015960"/>
                      <a:chExt cx="166320" cy="17640"/>
                    </a:xfrm>
                  </p:grpSpPr>
                  <p:grpSp>
                    <p:nvGrpSpPr>
                      <p:cNvPr id="1600" name=""/>
                      <p:cNvGrpSpPr/>
                      <p:nvPr/>
                    </p:nvGrpSpPr>
                    <p:grpSpPr>
                      <a:xfrm>
                        <a:off x="6372720" y="6015960"/>
                        <a:ext cx="85680" cy="17640"/>
                        <a:chOff x="6372720" y="6015960"/>
                        <a:chExt cx="85680" cy="17640"/>
                      </a:xfrm>
                    </p:grpSpPr>
                    <p:grpSp>
                      <p:nvGrpSpPr>
                        <p:cNvPr id="1601" name=""/>
                        <p:cNvGrpSpPr/>
                        <p:nvPr/>
                      </p:nvGrpSpPr>
                      <p:grpSpPr>
                        <a:xfrm>
                          <a:off x="6372720" y="6015960"/>
                          <a:ext cx="36000" cy="17640"/>
                          <a:chOff x="6372720" y="6015960"/>
                          <a:chExt cx="36000" cy="17640"/>
                        </a:xfrm>
                      </p:grpSpPr>
                      <p:grpSp>
                        <p:nvGrpSpPr>
                          <p:cNvPr id="1602" name=""/>
                          <p:cNvGrpSpPr/>
                          <p:nvPr/>
                        </p:nvGrpSpPr>
                        <p:grpSpPr>
                          <a:xfrm>
                            <a:off x="6372720" y="6015960"/>
                            <a:ext cx="15480" cy="17640"/>
                            <a:chOff x="6372720" y="6015960"/>
                            <a:chExt cx="15480" cy="17640"/>
                          </a:xfrm>
                        </p:grpSpPr>
                        <p:grpSp>
                          <p:nvGrpSpPr>
                            <p:cNvPr id="1603" name=""/>
                            <p:cNvGrpSpPr/>
                            <p:nvPr/>
                          </p:nvGrpSpPr>
                          <p:grpSpPr>
                            <a:xfrm>
                              <a:off x="6372720" y="6015960"/>
                              <a:ext cx="5040" cy="17640"/>
                              <a:chOff x="6372720" y="6015960"/>
                              <a:chExt cx="5040" cy="17640"/>
                            </a:xfrm>
                          </p:grpSpPr>
                          <p:sp>
                            <p:nvSpPr>
                              <p:cNvPr id="1604" name=""/>
                              <p:cNvSpPr/>
                              <p:nvPr/>
                            </p:nvSpPr>
                            <p:spPr>
                              <a:xfrm>
                                <a:off x="63727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5" name=""/>
                              <p:cNvSpPr/>
                              <p:nvPr/>
                            </p:nvSpPr>
                            <p:spPr>
                              <a:xfrm>
                                <a:off x="63774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06" name=""/>
                            <p:cNvGrpSpPr/>
                            <p:nvPr/>
                          </p:nvGrpSpPr>
                          <p:grpSpPr>
                            <a:xfrm>
                              <a:off x="6383160" y="6015960"/>
                              <a:ext cx="5040" cy="17640"/>
                              <a:chOff x="6383160" y="6015960"/>
                              <a:chExt cx="5040" cy="17640"/>
                            </a:xfrm>
                          </p:grpSpPr>
                          <p:sp>
                            <p:nvSpPr>
                              <p:cNvPr id="1607" name=""/>
                              <p:cNvSpPr/>
                              <p:nvPr/>
                            </p:nvSpPr>
                            <p:spPr>
                              <a:xfrm>
                                <a:off x="638316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8" name=""/>
                              <p:cNvSpPr/>
                              <p:nvPr/>
                            </p:nvSpPr>
                            <p:spPr>
                              <a:xfrm>
                                <a:off x="638784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09" name=""/>
                          <p:cNvGrpSpPr/>
                          <p:nvPr/>
                        </p:nvGrpSpPr>
                        <p:grpSpPr>
                          <a:xfrm>
                            <a:off x="6392520" y="6015960"/>
                            <a:ext cx="16200" cy="17640"/>
                            <a:chOff x="6392520" y="6015960"/>
                            <a:chExt cx="16200" cy="17640"/>
                          </a:xfrm>
                        </p:grpSpPr>
                        <p:grpSp>
                          <p:nvGrpSpPr>
                            <p:cNvPr id="1610" name=""/>
                            <p:cNvGrpSpPr/>
                            <p:nvPr/>
                          </p:nvGrpSpPr>
                          <p:grpSpPr>
                            <a:xfrm>
                              <a:off x="6392520" y="6015960"/>
                              <a:ext cx="16200" cy="17640"/>
                              <a:chOff x="6392520" y="6015960"/>
                              <a:chExt cx="16200" cy="17640"/>
                            </a:xfrm>
                          </p:grpSpPr>
                          <p:sp>
                            <p:nvSpPr>
                              <p:cNvPr id="1611" name=""/>
                              <p:cNvSpPr/>
                              <p:nvPr/>
                            </p:nvSpPr>
                            <p:spPr>
                              <a:xfrm>
                                <a:off x="6392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2" name=""/>
                              <p:cNvSpPr/>
                              <p:nvPr/>
                            </p:nvSpPr>
                            <p:spPr>
                              <a:xfrm>
                                <a:off x="639720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13" name=""/>
                            <p:cNvGrpSpPr/>
                            <p:nvPr/>
                          </p:nvGrpSpPr>
                          <p:grpSpPr>
                            <a:xfrm>
                              <a:off x="6402600" y="6015960"/>
                              <a:ext cx="5040" cy="17640"/>
                              <a:chOff x="6402600" y="6015960"/>
                              <a:chExt cx="5040" cy="17640"/>
                            </a:xfrm>
                          </p:grpSpPr>
                          <p:sp>
                            <p:nvSpPr>
                              <p:cNvPr id="1614" name=""/>
                              <p:cNvSpPr/>
                              <p:nvPr/>
                            </p:nvSpPr>
                            <p:spPr>
                              <a:xfrm>
                                <a:off x="64026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5" name=""/>
                              <p:cNvSpPr/>
                              <p:nvPr/>
                            </p:nvSpPr>
                            <p:spPr>
                              <a:xfrm>
                                <a:off x="64072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16" name=""/>
                        <p:cNvGrpSpPr/>
                        <p:nvPr/>
                      </p:nvGrpSpPr>
                      <p:grpSpPr>
                        <a:xfrm>
                          <a:off x="6412320" y="6015960"/>
                          <a:ext cx="46080" cy="17640"/>
                          <a:chOff x="6412320" y="6015960"/>
                          <a:chExt cx="46080" cy="17640"/>
                        </a:xfrm>
                      </p:grpSpPr>
                      <p:grpSp>
                        <p:nvGrpSpPr>
                          <p:cNvPr id="1617" name=""/>
                          <p:cNvGrpSpPr/>
                          <p:nvPr/>
                        </p:nvGrpSpPr>
                        <p:grpSpPr>
                          <a:xfrm>
                            <a:off x="6412320" y="6015960"/>
                            <a:ext cx="16200" cy="17640"/>
                            <a:chOff x="6412320" y="6015960"/>
                            <a:chExt cx="16200" cy="17640"/>
                          </a:xfrm>
                        </p:grpSpPr>
                        <p:grpSp>
                          <p:nvGrpSpPr>
                            <p:cNvPr id="1618" name=""/>
                            <p:cNvGrpSpPr/>
                            <p:nvPr/>
                          </p:nvGrpSpPr>
                          <p:grpSpPr>
                            <a:xfrm>
                              <a:off x="6412320" y="6015960"/>
                              <a:ext cx="16200" cy="17640"/>
                              <a:chOff x="6412320" y="6015960"/>
                              <a:chExt cx="16200" cy="17640"/>
                            </a:xfrm>
                          </p:grpSpPr>
                          <p:sp>
                            <p:nvSpPr>
                              <p:cNvPr id="1619" name=""/>
                              <p:cNvSpPr/>
                              <p:nvPr/>
                            </p:nvSpPr>
                            <p:spPr>
                              <a:xfrm>
                                <a:off x="64123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20" name=""/>
                              <p:cNvSpPr/>
                              <p:nvPr/>
                            </p:nvSpPr>
                            <p:spPr>
                              <a:xfrm>
                                <a:off x="641700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21" name=""/>
                            <p:cNvGrpSpPr/>
                            <p:nvPr/>
                          </p:nvGrpSpPr>
                          <p:grpSpPr>
                            <a:xfrm>
                              <a:off x="6422760" y="6015960"/>
                              <a:ext cx="5400" cy="17640"/>
                              <a:chOff x="6422760" y="6015960"/>
                              <a:chExt cx="5400" cy="17640"/>
                            </a:xfrm>
                          </p:grpSpPr>
                          <p:sp>
                            <p:nvSpPr>
                              <p:cNvPr id="1622" name=""/>
                              <p:cNvSpPr/>
                              <p:nvPr/>
                            </p:nvSpPr>
                            <p:spPr>
                              <a:xfrm>
                                <a:off x="642276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23" name=""/>
                              <p:cNvSpPr/>
                              <p:nvPr/>
                            </p:nvSpPr>
                            <p:spPr>
                              <a:xfrm>
                                <a:off x="64274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24" name=""/>
                          <p:cNvGrpSpPr/>
                          <p:nvPr/>
                        </p:nvGrpSpPr>
                        <p:grpSpPr>
                          <a:xfrm>
                            <a:off x="6432120" y="6015960"/>
                            <a:ext cx="26280" cy="17640"/>
                            <a:chOff x="6432120" y="6015960"/>
                            <a:chExt cx="26280" cy="17640"/>
                          </a:xfrm>
                        </p:grpSpPr>
                        <p:grpSp>
                          <p:nvGrpSpPr>
                            <p:cNvPr id="1625" name=""/>
                            <p:cNvGrpSpPr/>
                            <p:nvPr/>
                          </p:nvGrpSpPr>
                          <p:grpSpPr>
                            <a:xfrm>
                              <a:off x="6432120" y="6015960"/>
                              <a:ext cx="11520" cy="17640"/>
                              <a:chOff x="6432120" y="6015960"/>
                              <a:chExt cx="11520" cy="17640"/>
                            </a:xfrm>
                          </p:grpSpPr>
                          <p:sp>
                            <p:nvSpPr>
                              <p:cNvPr id="1626" name=""/>
                              <p:cNvSpPr/>
                              <p:nvPr/>
                            </p:nvSpPr>
                            <p:spPr>
                              <a:xfrm>
                                <a:off x="64321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27" name=""/>
                              <p:cNvSpPr/>
                              <p:nvPr/>
                            </p:nvSpPr>
                            <p:spPr>
                              <a:xfrm>
                                <a:off x="6437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28" name=""/>
                            <p:cNvGrpSpPr/>
                            <p:nvPr/>
                          </p:nvGrpSpPr>
                          <p:grpSpPr>
                            <a:xfrm>
                              <a:off x="6441480" y="6015960"/>
                              <a:ext cx="16920" cy="17640"/>
                              <a:chOff x="6441480" y="6015960"/>
                              <a:chExt cx="16920" cy="17640"/>
                            </a:xfrm>
                          </p:grpSpPr>
                          <p:sp>
                            <p:nvSpPr>
                              <p:cNvPr id="1629" name=""/>
                              <p:cNvSpPr/>
                              <p:nvPr/>
                            </p:nvSpPr>
                            <p:spPr>
                              <a:xfrm>
                                <a:off x="64414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0" name=""/>
                              <p:cNvSpPr/>
                              <p:nvPr/>
                            </p:nvSpPr>
                            <p:spPr>
                              <a:xfrm>
                                <a:off x="64468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631" name=""/>
                      <p:cNvGrpSpPr/>
                      <p:nvPr/>
                    </p:nvGrpSpPr>
                    <p:grpSpPr>
                      <a:xfrm>
                        <a:off x="6452640" y="6015960"/>
                        <a:ext cx="86400" cy="17640"/>
                        <a:chOff x="6452640" y="6015960"/>
                        <a:chExt cx="86400" cy="17640"/>
                      </a:xfrm>
                    </p:grpSpPr>
                    <p:grpSp>
                      <p:nvGrpSpPr>
                        <p:cNvPr id="1632" name=""/>
                        <p:cNvGrpSpPr/>
                        <p:nvPr/>
                      </p:nvGrpSpPr>
                      <p:grpSpPr>
                        <a:xfrm>
                          <a:off x="6452640" y="6015960"/>
                          <a:ext cx="41400" cy="17640"/>
                          <a:chOff x="6452640" y="6015960"/>
                          <a:chExt cx="41400" cy="17640"/>
                        </a:xfrm>
                      </p:grpSpPr>
                      <p:grpSp>
                        <p:nvGrpSpPr>
                          <p:cNvPr id="1633" name=""/>
                          <p:cNvGrpSpPr/>
                          <p:nvPr/>
                        </p:nvGrpSpPr>
                        <p:grpSpPr>
                          <a:xfrm>
                            <a:off x="6452640" y="6015960"/>
                            <a:ext cx="21600" cy="17640"/>
                            <a:chOff x="6452640" y="6015960"/>
                            <a:chExt cx="21600" cy="17640"/>
                          </a:xfrm>
                        </p:grpSpPr>
                        <p:grpSp>
                          <p:nvGrpSpPr>
                            <p:cNvPr id="1634" name=""/>
                            <p:cNvGrpSpPr/>
                            <p:nvPr/>
                          </p:nvGrpSpPr>
                          <p:grpSpPr>
                            <a:xfrm>
                              <a:off x="6452640" y="6015960"/>
                              <a:ext cx="16200" cy="17640"/>
                              <a:chOff x="6452640" y="6015960"/>
                              <a:chExt cx="16200" cy="17640"/>
                            </a:xfrm>
                          </p:grpSpPr>
                          <p:sp>
                            <p:nvSpPr>
                              <p:cNvPr id="1635" name=""/>
                              <p:cNvSpPr/>
                              <p:nvPr/>
                            </p:nvSpPr>
                            <p:spPr>
                              <a:xfrm>
                                <a:off x="645264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6" name=""/>
                              <p:cNvSpPr/>
                              <p:nvPr/>
                            </p:nvSpPr>
                            <p:spPr>
                              <a:xfrm>
                                <a:off x="64573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37" name=""/>
                            <p:cNvGrpSpPr/>
                            <p:nvPr/>
                          </p:nvGrpSpPr>
                          <p:grpSpPr>
                            <a:xfrm>
                              <a:off x="6462720" y="6015960"/>
                              <a:ext cx="11520" cy="17640"/>
                              <a:chOff x="6462720" y="6015960"/>
                              <a:chExt cx="11520" cy="17640"/>
                            </a:xfrm>
                          </p:grpSpPr>
                          <p:sp>
                            <p:nvSpPr>
                              <p:cNvPr id="1638" name=""/>
                              <p:cNvSpPr/>
                              <p:nvPr/>
                            </p:nvSpPr>
                            <p:spPr>
                              <a:xfrm>
                                <a:off x="64627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9" name=""/>
                              <p:cNvSpPr/>
                              <p:nvPr/>
                            </p:nvSpPr>
                            <p:spPr>
                              <a:xfrm>
                                <a:off x="64674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40" name=""/>
                          <p:cNvGrpSpPr/>
                          <p:nvPr/>
                        </p:nvGrpSpPr>
                        <p:grpSpPr>
                          <a:xfrm>
                            <a:off x="6472440" y="6015960"/>
                            <a:ext cx="21600" cy="17640"/>
                            <a:chOff x="6472440" y="6015960"/>
                            <a:chExt cx="21600" cy="17640"/>
                          </a:xfrm>
                        </p:grpSpPr>
                        <p:grpSp>
                          <p:nvGrpSpPr>
                            <p:cNvPr id="1641" name=""/>
                            <p:cNvGrpSpPr/>
                            <p:nvPr/>
                          </p:nvGrpSpPr>
                          <p:grpSpPr>
                            <a:xfrm>
                              <a:off x="6472440" y="6015960"/>
                              <a:ext cx="16200" cy="17640"/>
                              <a:chOff x="6472440" y="6015960"/>
                              <a:chExt cx="16200" cy="17640"/>
                            </a:xfrm>
                          </p:grpSpPr>
                          <p:sp>
                            <p:nvSpPr>
                              <p:cNvPr id="1642" name=""/>
                              <p:cNvSpPr/>
                              <p:nvPr/>
                            </p:nvSpPr>
                            <p:spPr>
                              <a:xfrm>
                                <a:off x="64724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43" name=""/>
                              <p:cNvSpPr/>
                              <p:nvPr/>
                            </p:nvSpPr>
                            <p:spPr>
                              <a:xfrm>
                                <a:off x="64771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44" name=""/>
                            <p:cNvGrpSpPr/>
                            <p:nvPr/>
                          </p:nvGrpSpPr>
                          <p:grpSpPr>
                            <a:xfrm>
                              <a:off x="6482520" y="6015960"/>
                              <a:ext cx="11520" cy="17640"/>
                              <a:chOff x="6482520" y="6015960"/>
                              <a:chExt cx="11520" cy="17640"/>
                            </a:xfrm>
                          </p:grpSpPr>
                          <p:sp>
                            <p:nvSpPr>
                              <p:cNvPr id="1645" name=""/>
                              <p:cNvSpPr/>
                              <p:nvPr/>
                            </p:nvSpPr>
                            <p:spPr>
                              <a:xfrm>
                                <a:off x="64825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46" name=""/>
                              <p:cNvSpPr/>
                              <p:nvPr/>
                            </p:nvSpPr>
                            <p:spPr>
                              <a:xfrm>
                                <a:off x="64872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47" name=""/>
                        <p:cNvGrpSpPr/>
                        <p:nvPr/>
                      </p:nvGrpSpPr>
                      <p:grpSpPr>
                        <a:xfrm>
                          <a:off x="6493320" y="6015960"/>
                          <a:ext cx="45720" cy="17640"/>
                          <a:chOff x="6493320" y="6015960"/>
                          <a:chExt cx="45720" cy="17640"/>
                        </a:xfrm>
                      </p:grpSpPr>
                      <p:grpSp>
                        <p:nvGrpSpPr>
                          <p:cNvPr id="1648" name=""/>
                          <p:cNvGrpSpPr/>
                          <p:nvPr/>
                        </p:nvGrpSpPr>
                        <p:grpSpPr>
                          <a:xfrm>
                            <a:off x="6493320" y="6015960"/>
                            <a:ext cx="14760" cy="17640"/>
                            <a:chOff x="6493320" y="6015960"/>
                            <a:chExt cx="14760" cy="17640"/>
                          </a:xfrm>
                        </p:grpSpPr>
                        <p:grpSp>
                          <p:nvGrpSpPr>
                            <p:cNvPr id="1649" name=""/>
                            <p:cNvGrpSpPr/>
                            <p:nvPr/>
                          </p:nvGrpSpPr>
                          <p:grpSpPr>
                            <a:xfrm>
                              <a:off x="6493320" y="6015960"/>
                              <a:ext cx="4320" cy="17640"/>
                              <a:chOff x="6493320" y="6015960"/>
                              <a:chExt cx="4320" cy="17640"/>
                            </a:xfrm>
                          </p:grpSpPr>
                          <p:sp>
                            <p:nvSpPr>
                              <p:cNvPr id="1650" name=""/>
                              <p:cNvSpPr/>
                              <p:nvPr/>
                            </p:nvSpPr>
                            <p:spPr>
                              <a:xfrm>
                                <a:off x="649332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1" name=""/>
                              <p:cNvSpPr/>
                              <p:nvPr/>
                            </p:nvSpPr>
                            <p:spPr>
                              <a:xfrm>
                                <a:off x="64972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52" name=""/>
                            <p:cNvGrpSpPr/>
                            <p:nvPr/>
                          </p:nvGrpSpPr>
                          <p:grpSpPr>
                            <a:xfrm>
                              <a:off x="6503040" y="6015960"/>
                              <a:ext cx="5040" cy="17640"/>
                              <a:chOff x="6503040" y="6015960"/>
                              <a:chExt cx="5040" cy="17640"/>
                            </a:xfrm>
                          </p:grpSpPr>
                          <p:sp>
                            <p:nvSpPr>
                              <p:cNvPr id="1653" name=""/>
                              <p:cNvSpPr/>
                              <p:nvPr/>
                            </p:nvSpPr>
                            <p:spPr>
                              <a:xfrm>
                                <a:off x="65030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4" name=""/>
                              <p:cNvSpPr/>
                              <p:nvPr/>
                            </p:nvSpPr>
                            <p:spPr>
                              <a:xfrm>
                                <a:off x="65077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55" name=""/>
                          <p:cNvGrpSpPr/>
                          <p:nvPr/>
                        </p:nvGrpSpPr>
                        <p:grpSpPr>
                          <a:xfrm>
                            <a:off x="6512760" y="6015960"/>
                            <a:ext cx="26280" cy="17640"/>
                            <a:chOff x="6512760" y="6015960"/>
                            <a:chExt cx="26280" cy="17640"/>
                          </a:xfrm>
                        </p:grpSpPr>
                        <p:grpSp>
                          <p:nvGrpSpPr>
                            <p:cNvPr id="1656" name=""/>
                            <p:cNvGrpSpPr/>
                            <p:nvPr/>
                          </p:nvGrpSpPr>
                          <p:grpSpPr>
                            <a:xfrm>
                              <a:off x="6512760" y="6015960"/>
                              <a:ext cx="11520" cy="17640"/>
                              <a:chOff x="6512760" y="6015960"/>
                              <a:chExt cx="11520" cy="17640"/>
                            </a:xfrm>
                          </p:grpSpPr>
                          <p:sp>
                            <p:nvSpPr>
                              <p:cNvPr id="1657" name=""/>
                              <p:cNvSpPr/>
                              <p:nvPr/>
                            </p:nvSpPr>
                            <p:spPr>
                              <a:xfrm>
                                <a:off x="651276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8" name=""/>
                              <p:cNvSpPr/>
                              <p:nvPr/>
                            </p:nvSpPr>
                            <p:spPr>
                              <a:xfrm>
                                <a:off x="651816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59" name=""/>
                            <p:cNvGrpSpPr/>
                            <p:nvPr/>
                          </p:nvGrpSpPr>
                          <p:grpSpPr>
                            <a:xfrm>
                              <a:off x="6522840" y="6015960"/>
                              <a:ext cx="16200" cy="17640"/>
                              <a:chOff x="6522840" y="6015960"/>
                              <a:chExt cx="16200" cy="17640"/>
                            </a:xfrm>
                          </p:grpSpPr>
                          <p:sp>
                            <p:nvSpPr>
                              <p:cNvPr id="1660" name=""/>
                              <p:cNvSpPr/>
                              <p:nvPr/>
                            </p:nvSpPr>
                            <p:spPr>
                              <a:xfrm>
                                <a:off x="652284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1" name=""/>
                              <p:cNvSpPr/>
                              <p:nvPr/>
                            </p:nvSpPr>
                            <p:spPr>
                              <a:xfrm>
                                <a:off x="65275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6209640" y="5955840"/>
                  <a:ext cx="315000" cy="41760"/>
                  <a:chOff x="6209640" y="5955840"/>
                  <a:chExt cx="315000" cy="4176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6209640" y="595584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6279120" y="595584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6377400" y="595584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6484680" y="595584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7" name=""/>
              <p:cNvGrpSpPr/>
              <p:nvPr/>
            </p:nvGrpSpPr>
            <p:grpSpPr>
              <a:xfrm>
                <a:off x="6489720" y="5960880"/>
                <a:ext cx="25200" cy="19440"/>
                <a:chOff x="6489720" y="5960880"/>
                <a:chExt cx="25200" cy="1944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6504120" y="596088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505920" y="596808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6489720" y="5963400"/>
                  <a:ext cx="5400" cy="16920"/>
                  <a:chOff x="6489720" y="5963400"/>
                  <a:chExt cx="5400" cy="1692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6489720" y="596340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6489720" y="597600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3" name=""/>
              <p:cNvGrpSpPr/>
              <p:nvPr/>
            </p:nvGrpSpPr>
            <p:grpSpPr>
              <a:xfrm>
                <a:off x="6283080" y="5961960"/>
                <a:ext cx="85680" cy="27720"/>
                <a:chOff x="6283080" y="5961960"/>
                <a:chExt cx="85680" cy="27720"/>
              </a:xfrm>
            </p:grpSpPr>
            <p:grpSp>
              <p:nvGrpSpPr>
                <p:cNvPr id="1674" name=""/>
                <p:cNvGrpSpPr/>
                <p:nvPr/>
              </p:nvGrpSpPr>
              <p:grpSpPr>
                <a:xfrm>
                  <a:off x="6283800" y="5961960"/>
                  <a:ext cx="84960" cy="15480"/>
                  <a:chOff x="6283800" y="5961960"/>
                  <a:chExt cx="84960" cy="15480"/>
                </a:xfrm>
              </p:grpSpPr>
              <p:sp>
                <p:nvSpPr>
                  <p:cNvPr id="1675" name=""/>
                  <p:cNvSpPr/>
                  <p:nvPr/>
                </p:nvSpPr>
                <p:spPr>
                  <a:xfrm>
                    <a:off x="6312240" y="596196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6312240" y="596952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6283800" y="596844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8" name=""/>
                <p:cNvSpPr/>
                <p:nvPr/>
              </p:nvSpPr>
              <p:spPr>
                <a:xfrm>
                  <a:off x="6283080" y="596340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356520" y="598536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6213240" y="5988600"/>
                <a:ext cx="67320" cy="9360"/>
                <a:chOff x="6213240" y="5988600"/>
                <a:chExt cx="67320" cy="9360"/>
              </a:xfrm>
            </p:grpSpPr>
            <p:grpSp>
              <p:nvGrpSpPr>
                <p:cNvPr id="1681" name=""/>
                <p:cNvGrpSpPr/>
                <p:nvPr/>
              </p:nvGrpSpPr>
              <p:grpSpPr>
                <a:xfrm>
                  <a:off x="6213240" y="5988600"/>
                  <a:ext cx="37080" cy="9360"/>
                  <a:chOff x="6213240" y="5988600"/>
                  <a:chExt cx="37080" cy="9360"/>
                </a:xfrm>
              </p:grpSpPr>
              <p:grpSp>
                <p:nvGrpSpPr>
                  <p:cNvPr id="1682" name=""/>
                  <p:cNvGrpSpPr/>
                  <p:nvPr/>
                </p:nvGrpSpPr>
                <p:grpSpPr>
                  <a:xfrm>
                    <a:off x="6213240" y="5988600"/>
                    <a:ext cx="23040" cy="9360"/>
                    <a:chOff x="6213240" y="5988600"/>
                    <a:chExt cx="23040" cy="9360"/>
                  </a:xfrm>
                </p:grpSpPr>
                <p:grpSp>
                  <p:nvGrpSpPr>
                    <p:cNvPr id="1683" name=""/>
                    <p:cNvGrpSpPr/>
                    <p:nvPr/>
                  </p:nvGrpSpPr>
                  <p:grpSpPr>
                    <a:xfrm>
                      <a:off x="6213240" y="5988600"/>
                      <a:ext cx="14760" cy="9360"/>
                      <a:chOff x="6213240" y="5988600"/>
                      <a:chExt cx="14760" cy="9360"/>
                    </a:xfrm>
                  </p:grpSpPr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62132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621648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6220080" y="5988600"/>
                      <a:ext cx="16200" cy="9360"/>
                      <a:chOff x="6220080" y="5988600"/>
                      <a:chExt cx="16200" cy="93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622008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622440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89" name=""/>
                  <p:cNvGrpSpPr/>
                  <p:nvPr/>
                </p:nvGrpSpPr>
                <p:grpSpPr>
                  <a:xfrm>
                    <a:off x="6227640" y="5988600"/>
                    <a:ext cx="22680" cy="9360"/>
                    <a:chOff x="6227640" y="5988600"/>
                    <a:chExt cx="22680" cy="9360"/>
                  </a:xfrm>
                </p:grpSpPr>
                <p:grpSp>
                  <p:nvGrpSpPr>
                    <p:cNvPr id="1690" name=""/>
                    <p:cNvGrpSpPr/>
                    <p:nvPr/>
                  </p:nvGrpSpPr>
                  <p:grpSpPr>
                    <a:xfrm>
                      <a:off x="6227640" y="5988600"/>
                      <a:ext cx="14760" cy="9360"/>
                      <a:chOff x="6227640" y="5988600"/>
                      <a:chExt cx="14760" cy="9360"/>
                    </a:xfrm>
                  </p:grpSpPr>
                  <p:sp>
                    <p:nvSpPr>
                      <p:cNvPr id="1691" name=""/>
                      <p:cNvSpPr/>
                      <p:nvPr/>
                    </p:nvSpPr>
                    <p:spPr>
                      <a:xfrm>
                        <a:off x="62276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623088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3" name=""/>
                    <p:cNvGrpSpPr/>
                    <p:nvPr/>
                  </p:nvGrpSpPr>
                  <p:grpSpPr>
                    <a:xfrm>
                      <a:off x="6234840" y="5988600"/>
                      <a:ext cx="15480" cy="9360"/>
                      <a:chOff x="6234840" y="5988600"/>
                      <a:chExt cx="15480" cy="9360"/>
                    </a:xfrm>
                  </p:grpSpPr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62348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623880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96" name=""/>
                <p:cNvGrpSpPr/>
                <p:nvPr/>
              </p:nvGrpSpPr>
              <p:grpSpPr>
                <a:xfrm>
                  <a:off x="6242760" y="5988600"/>
                  <a:ext cx="37800" cy="9360"/>
                  <a:chOff x="6242760" y="5988600"/>
                  <a:chExt cx="37800" cy="9360"/>
                </a:xfrm>
              </p:grpSpPr>
              <p:grpSp>
                <p:nvGrpSpPr>
                  <p:cNvPr id="1697" name=""/>
                  <p:cNvGrpSpPr/>
                  <p:nvPr/>
                </p:nvGrpSpPr>
                <p:grpSpPr>
                  <a:xfrm>
                    <a:off x="6242760" y="5988600"/>
                    <a:ext cx="23040" cy="9360"/>
                    <a:chOff x="6242760" y="5988600"/>
                    <a:chExt cx="23040" cy="9360"/>
                  </a:xfrm>
                </p:grpSpPr>
                <p:grpSp>
                  <p:nvGrpSpPr>
                    <p:cNvPr id="1698" name=""/>
                    <p:cNvGrpSpPr/>
                    <p:nvPr/>
                  </p:nvGrpSpPr>
                  <p:grpSpPr>
                    <a:xfrm>
                      <a:off x="6242760" y="5988600"/>
                      <a:ext cx="15840" cy="9360"/>
                      <a:chOff x="6242760" y="5988600"/>
                      <a:chExt cx="15840" cy="9360"/>
                    </a:xfrm>
                  </p:grpSpPr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624276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624672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6251040" y="5988600"/>
                      <a:ext cx="14760" cy="9360"/>
                      <a:chOff x="6251040" y="5988600"/>
                      <a:chExt cx="14760" cy="936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62510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625428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6257880" y="5988600"/>
                    <a:ext cx="22680" cy="9360"/>
                    <a:chOff x="6257880" y="5988600"/>
                    <a:chExt cx="22680" cy="9360"/>
                  </a:xfrm>
                </p:grpSpPr>
                <p:grpSp>
                  <p:nvGrpSpPr>
                    <p:cNvPr id="1705" name=""/>
                    <p:cNvGrpSpPr/>
                    <p:nvPr/>
                  </p:nvGrpSpPr>
                  <p:grpSpPr>
                    <a:xfrm>
                      <a:off x="6257880" y="5988600"/>
                      <a:ext cx="15840" cy="9360"/>
                      <a:chOff x="6257880" y="5988600"/>
                      <a:chExt cx="15840" cy="9360"/>
                    </a:xfrm>
                  </p:grpSpPr>
                  <p:sp>
                    <p:nvSpPr>
                      <p:cNvPr id="1706" name=""/>
                      <p:cNvSpPr/>
                      <p:nvPr/>
                    </p:nvSpPr>
                    <p:spPr>
                      <a:xfrm>
                        <a:off x="625788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626184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8" name=""/>
                    <p:cNvGrpSpPr/>
                    <p:nvPr/>
                  </p:nvGrpSpPr>
                  <p:grpSpPr>
                    <a:xfrm>
                      <a:off x="6266160" y="5988600"/>
                      <a:ext cx="14400" cy="9360"/>
                      <a:chOff x="6266160" y="5988600"/>
                      <a:chExt cx="14400" cy="9360"/>
                    </a:xfrm>
                  </p:grpSpPr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626616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626868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711" name=""/>
              <p:cNvSpPr/>
              <p:nvPr/>
            </p:nvSpPr>
            <p:spPr>
              <a:xfrm>
                <a:off x="6207840" y="598032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6095880" y="6032880"/>
              <a:ext cx="533520" cy="62640"/>
              <a:chOff x="6095880" y="6032880"/>
              <a:chExt cx="533520" cy="6264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6095880" y="6032880"/>
                <a:ext cx="533520" cy="62640"/>
                <a:chOff x="6095880" y="6032880"/>
                <a:chExt cx="533520" cy="6264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6098400" y="608796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095880" y="603288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6111720" y="603864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6154560" y="6037560"/>
                <a:ext cx="420120" cy="14400"/>
                <a:chOff x="6154560" y="6037560"/>
                <a:chExt cx="420120" cy="144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6154560" y="603756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6194520" y="603756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6280200" y="603756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6356160" y="603756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6434280" y="603756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6504480" y="604260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6141240" y="6051600"/>
                <a:ext cx="435240" cy="21960"/>
                <a:chOff x="6141240" y="6051600"/>
                <a:chExt cx="435240" cy="21960"/>
              </a:xfrm>
            </p:grpSpPr>
            <p:grpSp>
              <p:nvGrpSpPr>
                <p:cNvPr id="1725" name=""/>
                <p:cNvGrpSpPr/>
                <p:nvPr/>
              </p:nvGrpSpPr>
              <p:grpSpPr>
                <a:xfrm>
                  <a:off x="6179040" y="6052320"/>
                  <a:ext cx="212760" cy="19080"/>
                  <a:chOff x="6179040" y="6052320"/>
                  <a:chExt cx="212760" cy="19080"/>
                </a:xfrm>
              </p:grpSpPr>
              <p:sp>
                <p:nvSpPr>
                  <p:cNvPr id="1726" name=""/>
                  <p:cNvSpPr/>
                  <p:nvPr/>
                </p:nvSpPr>
                <p:spPr>
                  <a:xfrm>
                    <a:off x="6179040" y="605232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6187320" y="605844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6189840" y="606456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6194160" y="607140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6141240" y="6055200"/>
                  <a:ext cx="30960" cy="12240"/>
                  <a:chOff x="6141240" y="6055200"/>
                  <a:chExt cx="30960" cy="1224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>
                    <a:off x="6150240" y="605520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6146640" y="60616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6141240" y="606744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6225480" y="6051600"/>
                  <a:ext cx="194760" cy="20880"/>
                  <a:chOff x="6225480" y="6051600"/>
                  <a:chExt cx="194760" cy="2088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6225480" y="607176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6395400" y="605160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6402960" y="605880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6387120" y="6065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6355080" y="607176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6381000" y="60724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1" name=""/>
                <p:cNvGrpSpPr/>
                <p:nvPr/>
              </p:nvGrpSpPr>
              <p:grpSpPr>
                <a:xfrm>
                  <a:off x="6435360" y="6055200"/>
                  <a:ext cx="56160" cy="17280"/>
                  <a:chOff x="6435360" y="6055200"/>
                  <a:chExt cx="56160" cy="1728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6435360" y="605520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6443640" y="606312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6444000" y="607248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6508800" y="6055200"/>
                  <a:ext cx="67680" cy="18360"/>
                  <a:chOff x="6508800" y="6055200"/>
                  <a:chExt cx="67680" cy="1836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>
                    <a:off x="6513480" y="605520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6508800" y="606168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6513480" y="606744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6512040" y="607356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6563160" y="60624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6568200" y="607032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52" name=""/>
            <p:cNvGrpSpPr/>
            <p:nvPr/>
          </p:nvGrpSpPr>
          <p:grpSpPr>
            <a:xfrm>
              <a:off x="6252480" y="5896800"/>
              <a:ext cx="232200" cy="38160"/>
              <a:chOff x="6252480" y="5896800"/>
              <a:chExt cx="232200" cy="38160"/>
            </a:xfrm>
          </p:grpSpPr>
          <p:grpSp>
            <p:nvGrpSpPr>
              <p:cNvPr id="1753" name=""/>
              <p:cNvGrpSpPr/>
              <p:nvPr/>
            </p:nvGrpSpPr>
            <p:grpSpPr>
              <a:xfrm>
                <a:off x="6252480" y="5909400"/>
                <a:ext cx="232200" cy="25560"/>
                <a:chOff x="6252480" y="5909400"/>
                <a:chExt cx="232200" cy="255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6252480" y="590940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254640" y="592668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6" name=""/>
              <p:cNvSpPr/>
              <p:nvPr/>
            </p:nvSpPr>
            <p:spPr>
              <a:xfrm>
                <a:off x="6305760" y="589680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7" name=""/>
            <p:cNvSpPr/>
            <p:nvPr/>
          </p:nvSpPr>
          <p:spPr>
            <a:xfrm>
              <a:off x="6226560" y="571500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58240" y="573552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267960" y="574092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0" name=""/>
          <p:cNvGraphicFramePr/>
          <p:nvPr/>
        </p:nvGraphicFramePr>
        <p:xfrm>
          <a:off x="1676520" y="4800600"/>
          <a:ext cx="6555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00600"/>
                    <a:ext cx="655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2" name=""/>
          <p:cNvSpPr/>
          <p:nvPr/>
        </p:nvSpPr>
        <p:spPr>
          <a:xfrm>
            <a:off x="2362320" y="5257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3" name=""/>
          <p:cNvCxnSpPr>
            <a:stCxn id="1046" idx="6"/>
            <a:endCxn id="1195" idx="1"/>
          </p:cNvCxnSpPr>
          <p:nvPr/>
        </p:nvCxnSpPr>
        <p:spPr>
          <a:xfrm flipV="1">
            <a:off x="4327560" y="4681080"/>
            <a:ext cx="188352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4" name=""/>
          <p:cNvCxnSpPr>
            <a:endCxn id="1299" idx="0"/>
          </p:cNvCxnSpPr>
          <p:nvPr/>
        </p:nvCxnSpPr>
        <p:spPr>
          <a:xfrm>
            <a:off x="4419360" y="5181480"/>
            <a:ext cx="178020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046" idx="6"/>
            <a:endCxn id="1757" idx="1"/>
          </p:cNvCxnSpPr>
          <p:nvPr/>
        </p:nvCxnSpPr>
        <p:spPr>
          <a:xfrm>
            <a:off x="4327560" y="5168520"/>
            <a:ext cx="189936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Perform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take 100kbps to 4Mbps bandwidth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ly huge number of subscriber in NBMA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and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implementation for duplication of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ssisted du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4:39:43Z</dcterms:created>
  <dc:creator>Louis Chan</dc:creator>
  <dc:description/>
  <dc:language>en-US</dc:language>
  <cp:lastModifiedBy>Louis Chan</cp:lastModifiedBy>
  <dcterms:modified xsi:type="dcterms:W3CDTF">2001-02-25T06:31:57Z</dcterms:modified>
  <cp:revision>17</cp:revision>
  <dc:subject/>
  <dc:title>Multicast </dc:title>
</cp:coreProperties>
</file>