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0619-EBEE-44F9-BB8D-A1FC20225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CA3F-6A83-4C72-9455-6C9ED079A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5CDE-527D-4517-B692-A50CE4E1F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0C79-7467-4879-9662-B8D1C7D42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D8A-BB4D-4390-AB20-C437E2AB53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DA9-CB12-4B1E-9E5D-167F4C1F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F0A-EB2C-4687-97D2-1ADBD4A1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350-C48E-4842-9ED3-88CD9C61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C99-B4AE-4CB0-89DC-49FD1930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94C-A22B-470D-A7C5-457124C5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652-2A2D-416D-BAE2-CEB2638F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5FA3-86E2-4AA4-9F57-18AC2A3E0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DAA-6191-4F88-A80D-EB62EB1A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2B4-3A59-478E-8266-54995356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7F6-766E-44B2-9337-8A813110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1C9-82A7-4724-A364-218EDB5F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511-7E63-455E-876A-C3352CFF7D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3D1D-C742-4CB3-9C97-9F90CE153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727C-ECC1-4BC6-A570-FAC0D4548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9559-8F6F-444A-A1A0-35D515A46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EABE-ED58-4D60-A5AB-92E95638C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0172-40A3-4CE8-86C9-4DD09236A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DFAA-2F0D-472C-985F-2D046AD62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0461-7770-42D3-BA1C-17E0789A3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Click to edit the title text format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53160" y="6563880"/>
            <a:ext cx="98100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200" spc="-1" strike="noStrike">
                <a:solidFill>
                  <a:srgbClr val="000066"/>
                </a:solidFill>
                <a:latin typeface="Book Antiqu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3276-4170-49F0-8D05-CD8014857D1F}" type="slidenum">
              <a:rPr b="1" i="1" lang="ko-KR" sz="1200" spc="-1" strike="noStrike">
                <a:solidFill>
                  <a:srgbClr val="000066"/>
                </a:solidFill>
                <a:latin typeface="Book Antiqu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3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E438-A102-4ED9-8C70-861F1D85E744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.wmf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52728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Book Antiqua"/>
                <a:ea typeface="바탕"/>
              </a:rPr>
              <a:t>Real-time streaming manag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Book Antiqua"/>
                <a:ea typeface="바탕"/>
              </a:rPr>
              <a:t>using multicast-to-unica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Book Antiqua"/>
                <a:ea typeface="바탕"/>
              </a:rPr>
              <a:t>protocol conversion approach</a:t>
            </a:r>
            <a:r>
              <a:rPr b="1" i="1" lang="en-US" sz="4000" spc="-1" strike="noStrike">
                <a:solidFill>
                  <a:srgbClr val="ff9933"/>
                </a:solidFill>
                <a:latin typeface="Book Antiqua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98600" y="4511520"/>
            <a:ext cx="650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Arial Unicode MS"/>
              </a:rPr>
              <a:t>February, 200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Arial Unicode MS"/>
              </a:rPr>
              <a:t>Calvin Y. Go,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Book Antiqua"/>
                <a:ea typeface="Arial Unicode MS"/>
              </a:rPr>
              <a:t>calvingo@techsystem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Arial Unicode MS"/>
              </a:rPr>
              <a:t>TechSystem Technolog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53C7-4BA4-4A6B-9371-1254ABD221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Protocol Spoofing - Architecture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69800" y="2158920"/>
            <a:ext cx="8597880" cy="3810240"/>
            <a:chOff x="469800" y="2158920"/>
            <a:chExt cx="8597880" cy="3810240"/>
          </a:xfrm>
        </p:grpSpPr>
        <p:grpSp>
          <p:nvGrpSpPr>
            <p:cNvPr id="207" name=""/>
            <p:cNvGrpSpPr/>
            <p:nvPr/>
          </p:nvGrpSpPr>
          <p:grpSpPr>
            <a:xfrm>
              <a:off x="469800" y="2158920"/>
              <a:ext cx="3810240" cy="3810240"/>
              <a:chOff x="469800" y="2158920"/>
              <a:chExt cx="3810240" cy="3810240"/>
            </a:xfrm>
          </p:grpSpPr>
          <p:sp>
            <p:nvSpPr>
              <p:cNvPr id="208" name=""/>
              <p:cNvSpPr/>
              <p:nvPr/>
            </p:nvSpPr>
            <p:spPr>
              <a:xfrm>
                <a:off x="469800" y="2158920"/>
                <a:ext cx="3810240" cy="381024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13500000"/>
              </a:gradFill>
              <a:ln w="648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5440" y="5054760"/>
                <a:ext cx="1981080" cy="60948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Unicast to Multica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 </a:t>
                </a: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Convert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4720" y="3454560"/>
                <a:ext cx="1752480" cy="45720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Client Ag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1400" y="2768760"/>
                <a:ext cx="2210040" cy="45720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Multimedia Applic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65640" y="3225960"/>
                <a:ext cx="0" cy="1828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46320" y="3911760"/>
                <a:ext cx="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9800" y="2235240"/>
                <a:ext cx="1600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Book Antiqua"/>
                    <a:ea typeface="굴림"/>
                  </a:rPr>
                  <a:t>Client Syst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813200" y="2158920"/>
              <a:ext cx="3810240" cy="3810240"/>
              <a:chOff x="4813200" y="2158920"/>
              <a:chExt cx="3810240" cy="3810240"/>
            </a:xfrm>
          </p:grpSpPr>
          <p:sp>
            <p:nvSpPr>
              <p:cNvPr id="216" name=""/>
              <p:cNvSpPr/>
              <p:nvPr/>
            </p:nvSpPr>
            <p:spPr>
              <a:xfrm>
                <a:off x="4813200" y="2158920"/>
                <a:ext cx="3810240" cy="381024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13500000"/>
              </a:gradFill>
              <a:ln w="6480">
                <a:solidFill>
                  <a:srgbClr val="00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70600" y="2235240"/>
                <a:ext cx="16002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Book Antiqua"/>
                    <a:ea typeface="굴림"/>
                  </a:rPr>
                  <a:t>Server Syst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94440" y="5054760"/>
                <a:ext cx="1981080" cy="60948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Multicast to Unica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 </a:t>
                </a: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Convert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27600" y="3835440"/>
                <a:ext cx="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337440" y="4508640"/>
                <a:ext cx="380880" cy="457200"/>
                <a:chOff x="6337440" y="4508640"/>
                <a:chExt cx="380880" cy="4572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337440" y="45086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337440" y="450864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6566040" y="4292640"/>
                <a:ext cx="1676160" cy="45720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Multicast Receiv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023240" y="3835440"/>
                <a:ext cx="0" cy="3808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94440" y="3454560"/>
                <a:ext cx="1981080" cy="457200"/>
              </a:xfrm>
              <a:prstGeom prst="rect">
                <a:avLst/>
              </a:prstGeom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Book Antiqua"/>
                    <a:ea typeface="굴림"/>
                  </a:rPr>
                  <a:t>Server Ag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558880" y="3638520"/>
              <a:ext cx="266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835440" y="5282640"/>
              <a:ext cx="1447920" cy="152280"/>
            </a:xfrm>
            <a:prstGeom prst="leftArrow">
              <a:avLst>
                <a:gd name="adj1" fmla="val 40278"/>
                <a:gd name="adj2" fmla="val 1729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318520" y="4444200"/>
              <a:ext cx="749160" cy="142920"/>
            </a:xfrm>
            <a:prstGeom prst="leftArrow">
              <a:avLst>
                <a:gd name="adj1" fmla="val 40278"/>
                <a:gd name="adj2" fmla="val 953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07DA-4773-4A4A-A11B-9A5147FE45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512640" y="2790720"/>
            <a:ext cx="8137800" cy="2662200"/>
            <a:chOff x="512640" y="2790720"/>
            <a:chExt cx="8137800" cy="2662200"/>
          </a:xfrm>
        </p:grpSpPr>
        <p:sp>
          <p:nvSpPr>
            <p:cNvPr id="230" name=""/>
            <p:cNvSpPr/>
            <p:nvPr/>
          </p:nvSpPr>
          <p:spPr>
            <a:xfrm>
              <a:off x="512640" y="2790720"/>
              <a:ext cx="8137800" cy="2662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88000" y="4183200"/>
              <a:ext cx="380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49480" y="2955960"/>
              <a:ext cx="1828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rotocol convers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54280" y="4889520"/>
              <a:ext cx="198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Cli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6720" y="3498840"/>
              <a:ext cx="1143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Stream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acket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73400" y="3746520"/>
              <a:ext cx="220968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2754360" y="3517920"/>
            <a:ext cx="53352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54360" y="3517920"/>
                      <a:ext cx="53352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8" name="j0215022" descr=""/>
            <p:cNvPicPr/>
            <p:nvPr/>
          </p:nvPicPr>
          <p:blipFill>
            <a:blip r:embed="rId3"/>
            <a:stretch/>
          </p:blipFill>
          <p:spPr>
            <a:xfrm>
              <a:off x="4164120" y="435600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"/>
            <p:cNvGraphicFramePr/>
            <p:nvPr/>
          </p:nvGraphicFramePr>
          <p:xfrm>
            <a:off x="5154480" y="4086360"/>
            <a:ext cx="533520" cy="228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54480" y="408636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4925880" y="363852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6920" y="3668760"/>
              <a:ext cx="2209680" cy="91440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3800" y="488952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Cli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j0215022" descr=""/>
            <p:cNvPicPr/>
            <p:nvPr/>
          </p:nvPicPr>
          <p:blipFill>
            <a:blip r:embed="rId6"/>
            <a:stretch/>
          </p:blipFill>
          <p:spPr>
            <a:xfrm>
              <a:off x="7135920" y="441000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j0215022" descr=""/>
            <p:cNvPicPr/>
            <p:nvPr/>
          </p:nvPicPr>
          <p:blipFill>
            <a:blip r:embed="rId7"/>
            <a:stretch/>
          </p:blipFill>
          <p:spPr>
            <a:xfrm>
              <a:off x="3554280" y="3441600"/>
              <a:ext cx="5716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j0215022" descr=""/>
            <p:cNvPicPr/>
            <p:nvPr/>
          </p:nvPicPr>
          <p:blipFill>
            <a:blip r:embed="rId8"/>
            <a:stretch/>
          </p:blipFill>
          <p:spPr>
            <a:xfrm>
              <a:off x="7593120" y="357192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j0215022" descr=""/>
            <p:cNvPicPr/>
            <p:nvPr/>
          </p:nvPicPr>
          <p:blipFill>
            <a:blip r:embed="rId9"/>
            <a:stretch/>
          </p:blipFill>
          <p:spPr>
            <a:xfrm>
              <a:off x="6297480" y="3441600"/>
              <a:ext cx="57168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530520" y="4030560"/>
              <a:ext cx="160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Multicas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50120" y="3975120"/>
              <a:ext cx="160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Unicas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0520" y="4214880"/>
              <a:ext cx="1295280" cy="0"/>
            </a:xfrm>
            <a:prstGeom prst="line">
              <a:avLst/>
            </a:prstGeom>
            <a:ln w="63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94000" y="4214880"/>
              <a:ext cx="380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1860480" y="4118040"/>
            <a:ext cx="533520" cy="228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60480" y="411804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Configuration using protocol conversion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55" name=""/>
          <p:cNvSpPr/>
          <p:nvPr/>
        </p:nvSpPr>
        <p:spPr>
          <a:xfrm>
            <a:off x="6373800" y="5530680"/>
            <a:ext cx="2363760" cy="702000"/>
          </a:xfrm>
          <a:prstGeom prst="wedgeRoundRectCallout">
            <a:avLst>
              <a:gd name="adj1" fmla="val -91745"/>
              <a:gd name="adj2" fmla="val -228282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 Antiqua"/>
                <a:ea typeface="굴림"/>
              </a:rPr>
              <a:t>Non multicast supporting ro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92200" y="5530680"/>
            <a:ext cx="2541600" cy="702000"/>
          </a:xfrm>
          <a:prstGeom prst="wedgeRoundRectCallout">
            <a:avLst>
              <a:gd name="adj1" fmla="val -65666"/>
              <a:gd name="adj2" fmla="val -229185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 Antiqua"/>
                <a:ea typeface="굴림"/>
              </a:rPr>
              <a:t>Multicast supporting router (Mbone Rout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C229-4640-4CAB-B6CE-6F1F24B367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Application Area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1743120"/>
            <a:ext cx="8699400" cy="4952880"/>
            <a:chOff x="228600" y="1743120"/>
            <a:chExt cx="8699400" cy="4952880"/>
          </a:xfrm>
        </p:grpSpPr>
        <p:sp>
          <p:nvSpPr>
            <p:cNvPr id="259" name=""/>
            <p:cNvSpPr/>
            <p:nvPr/>
          </p:nvSpPr>
          <p:spPr>
            <a:xfrm>
              <a:off x="228600" y="1743120"/>
              <a:ext cx="8629560" cy="49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0542800">
              <a:off x="5268600" y="2633760"/>
              <a:ext cx="2706480" cy="102528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0967000">
              <a:off x="2521080" y="3614400"/>
              <a:ext cx="2417760" cy="87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40080" y="4614840"/>
              <a:ext cx="1981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Cli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3" name="j0215022" descr=""/>
            <p:cNvPicPr/>
            <p:nvPr/>
          </p:nvPicPr>
          <p:blipFill>
            <a:blip r:embed="rId1"/>
            <a:stretch/>
          </p:blipFill>
          <p:spPr>
            <a:xfrm>
              <a:off x="2894040" y="337644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j0215022" descr=""/>
            <p:cNvPicPr/>
            <p:nvPr/>
          </p:nvPicPr>
          <p:blipFill>
            <a:blip r:embed="rId2"/>
            <a:stretch/>
          </p:blipFill>
          <p:spPr>
            <a:xfrm>
              <a:off x="4303800" y="396072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868480" y="3892680"/>
              <a:ext cx="1600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  <a:ea typeface="굴림"/>
                </a:rPr>
                <a:t>Multicas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5122800" y="2744640"/>
            <a:ext cx="533520" cy="121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22800" y="2744640"/>
                      <a:ext cx="53352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"/>
            <p:cNvGraphicFramePr/>
            <p:nvPr/>
          </p:nvGraphicFramePr>
          <p:xfrm>
            <a:off x="7334280" y="1859040"/>
            <a:ext cx="533520" cy="121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34280" y="1859040"/>
                      <a:ext cx="53352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0" name=""/>
            <p:cNvSpPr/>
            <p:nvPr/>
          </p:nvSpPr>
          <p:spPr>
            <a:xfrm>
              <a:off x="7099200" y="324324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Content Provid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81520" y="2846520"/>
              <a:ext cx="139680" cy="110484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43760" y="1949400"/>
              <a:ext cx="139680" cy="110484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50120" y="4915080"/>
              <a:ext cx="1663560" cy="304560"/>
            </a:xfrm>
            <a:prstGeom prst="wedgeRoundRectCallout">
              <a:avLst>
                <a:gd name="adj1" fmla="val -91314"/>
                <a:gd name="adj2" fmla="val -371356"/>
                <a:gd name="adj3" fmla="val 16667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18320" y="3962520"/>
              <a:ext cx="1663560" cy="304560"/>
            </a:xfrm>
            <a:prstGeom prst="wedgeRoundRectCallout">
              <a:avLst>
                <a:gd name="adj1" fmla="val -82824"/>
                <a:gd name="adj2" fmla="val -97398"/>
                <a:gd name="adj3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CD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1982880" y="4400640"/>
              <a:ext cx="658800" cy="233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7560" y="5195880"/>
              <a:ext cx="2540160" cy="8380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04920" y="614520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.C Cli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8" name="j0215022" descr=""/>
            <p:cNvPicPr/>
            <p:nvPr/>
          </p:nvPicPr>
          <p:blipFill>
            <a:blip r:embed="rId7"/>
            <a:stretch/>
          </p:blipFill>
          <p:spPr>
            <a:xfrm>
              <a:off x="455760" y="553896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j0215022" descr=""/>
            <p:cNvPicPr/>
            <p:nvPr/>
          </p:nvPicPr>
          <p:blipFill>
            <a:blip r:embed="rId8"/>
            <a:stretch/>
          </p:blipFill>
          <p:spPr>
            <a:xfrm>
              <a:off x="2284560" y="502272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j0215022" descr=""/>
            <p:cNvPicPr/>
            <p:nvPr/>
          </p:nvPicPr>
          <p:blipFill>
            <a:blip r:embed="rId9"/>
            <a:stretch/>
          </p:blipFill>
          <p:spPr>
            <a:xfrm>
              <a:off x="2649600" y="5549760"/>
              <a:ext cx="57132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062000" y="549288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  <a:ea typeface="굴림"/>
                </a:rPr>
                <a:t>Unicas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22280" y="417024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1560600" y="4545000"/>
            <a:ext cx="533160" cy="228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560600" y="4545000"/>
                      <a:ext cx="5331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071960" y="2376360"/>
              <a:ext cx="26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Remote content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915080" y="3701880"/>
              <a:ext cx="234720" cy="101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7" name="j0215022" descr=""/>
            <p:cNvPicPr/>
            <p:nvPr/>
          </p:nvPicPr>
          <p:blipFill>
            <a:blip r:embed="rId12"/>
            <a:stretch/>
          </p:blipFill>
          <p:spPr>
            <a:xfrm>
              <a:off x="3814920" y="326232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828800" y="4772160"/>
              <a:ext cx="0" cy="457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D6D2-46AE-400F-8A25-59B3D82887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Who benefits?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5560" y="1980720"/>
            <a:ext cx="846108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Solution providers for M2U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Audio/video streaming, Audio/video confer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Distance learning, corporat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Business IP TV with extranet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Internet service/content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Edge router for M2U over satellite/terrestr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Internet broadcasting on both broadband and narrow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IP cinema implementation with audio/video M2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Network Integration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CDN POP networking with M2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Edge router on B&amp;A networking for M2U /IP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Box-/hardware free bundling for edge router with M2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Book Antiqua"/>
                <a:ea typeface="굴림체"/>
              </a:rPr>
              <a:t>Integration with edge router for M2U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3898-37DE-4F74-9BAD-84632E2C0F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logo20" descr=""/>
          <p:cNvPicPr/>
          <p:nvPr/>
        </p:nvPicPr>
        <p:blipFill>
          <a:blip r:embed="rId1"/>
          <a:stretch/>
        </p:blipFill>
        <p:spPr>
          <a:xfrm>
            <a:off x="1601640" y="1395360"/>
            <a:ext cx="5943600" cy="3200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373120" y="4325400"/>
            <a:ext cx="4400280" cy="12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c2c86"/>
                </a:solidFill>
                <a:latin typeface="Book Antiqua"/>
                <a:ea typeface="바탕"/>
              </a:rPr>
              <a:t>Q &amp;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2F94-63FC-414D-9E13-15D97706A8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Agenda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951200"/>
            <a:ext cx="7383600" cy="45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What is Multicast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Multicasting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Advantages of Multi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Multicast Routing by MB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However,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</a:rPr>
              <a:t>That’s why we need protocol convers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Protocol Spoofing – 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Configuration using protocol 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Applicatio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Who benefi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Book Antiqua"/>
                <a:ea typeface="굴림"/>
              </a:rPr>
              <a:t>Q &amp;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E01832_" descr=""/>
          <p:cNvPicPr/>
          <p:nvPr/>
        </p:nvPicPr>
        <p:blipFill>
          <a:blip r:embed="rId12"/>
          <a:stretch/>
        </p:blipFill>
        <p:spPr>
          <a:xfrm>
            <a:off x="6367320" y="4475160"/>
            <a:ext cx="24591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ED4E-41EB-4FFE-BE33-74837973EB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What is Multicasting?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324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Uni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Point-to-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43280" y="536256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Multi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Point-to-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43560" y="53816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Broad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Point-to-Ent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95760" y="2809800"/>
            <a:ext cx="1962000" cy="2352600"/>
            <a:chOff x="3695760" y="2809800"/>
            <a:chExt cx="1962000" cy="2352600"/>
          </a:xfrm>
        </p:grpSpPr>
        <p:sp>
          <p:nvSpPr>
            <p:cNvPr id="87" name=""/>
            <p:cNvSpPr/>
            <p:nvPr/>
          </p:nvSpPr>
          <p:spPr>
            <a:xfrm flipH="1">
              <a:off x="4343040" y="3819600"/>
              <a:ext cx="343080" cy="847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86480" y="3333600"/>
              <a:ext cx="0" cy="134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4920" y="3828960"/>
              <a:ext cx="323640" cy="82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95760" y="2809800"/>
              <a:ext cx="1962000" cy="5238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19560" y="463860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81360" y="467676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71960" y="464832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4120" y="464832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90960" y="489600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14960" y="494352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3040" y="492444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085760" y="2819520"/>
            <a:ext cx="1990800" cy="2333520"/>
            <a:chOff x="1085760" y="2819520"/>
            <a:chExt cx="1990800" cy="2333520"/>
          </a:xfrm>
        </p:grpSpPr>
        <p:sp>
          <p:nvSpPr>
            <p:cNvPr id="99" name=""/>
            <p:cNvSpPr/>
            <p:nvPr/>
          </p:nvSpPr>
          <p:spPr>
            <a:xfrm flipH="1">
              <a:off x="1266480" y="3343320"/>
              <a:ext cx="399960" cy="1285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6480" y="3343320"/>
              <a:ext cx="0" cy="134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05240" y="3352680"/>
              <a:ext cx="323640" cy="1247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5760" y="2819520"/>
              <a:ext cx="1962360" cy="5238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33640" y="462924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90800" y="467676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24120" y="460044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1760" y="462924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8040" y="491508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24160" y="463860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7960" y="493380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43160" y="488628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66800" y="493380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05240" y="491508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286680" y="2790720"/>
            <a:ext cx="1962000" cy="2076480"/>
            <a:chOff x="6286680" y="2790720"/>
            <a:chExt cx="1962000" cy="2076480"/>
          </a:xfrm>
        </p:grpSpPr>
        <p:sp>
          <p:nvSpPr>
            <p:cNvPr id="114" name=""/>
            <p:cNvSpPr/>
            <p:nvPr/>
          </p:nvSpPr>
          <p:spPr>
            <a:xfrm flipH="1">
              <a:off x="6467400" y="3314880"/>
              <a:ext cx="790560" cy="1285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67680" y="3305160"/>
              <a:ext cx="761760" cy="1295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6480" y="4467240"/>
              <a:ext cx="1552680" cy="2858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86680" y="2790720"/>
              <a:ext cx="1962000" cy="524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95960" y="462924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24800" y="438156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29360" y="435276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67640" y="4581360"/>
              <a:ext cx="228600" cy="21924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05560" y="454356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9560" y="459108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0880" y="464832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24560" y="440064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72240" y="4381560"/>
              <a:ext cx="228600" cy="218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7471-54EB-4EE3-92DD-566962A42C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What is Multicasting? (Con’t)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1448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A method of sending same information to several recipients simultaneous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A method to reach several recipients by one transmission. The major difference is that transmitter has to send data only once and transmitter has consumed resources as little as poss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Traditional transmission methods, unicasting and broadcasting, differ quite a lot from multica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Compare with Broadcasting; same information is sent to all recipients. Radio and television transmissions are a good examples of broadca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1984-B3D0-4822-B7C1-A2D80AF592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868320" y="2104920"/>
            <a:ext cx="7228080" cy="4324320"/>
            <a:chOff x="868320" y="2104920"/>
            <a:chExt cx="7228080" cy="4324320"/>
          </a:xfrm>
        </p:grpSpPr>
        <p:sp>
          <p:nvSpPr>
            <p:cNvPr id="130" name=""/>
            <p:cNvSpPr/>
            <p:nvPr/>
          </p:nvSpPr>
          <p:spPr>
            <a:xfrm>
              <a:off x="868320" y="2104920"/>
              <a:ext cx="7228080" cy="4324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" name="j0245319" descr=""/>
            <p:cNvPicPr/>
            <p:nvPr/>
          </p:nvPicPr>
          <p:blipFill>
            <a:blip r:embed="rId1"/>
            <a:stretch/>
          </p:blipFill>
          <p:spPr>
            <a:xfrm>
              <a:off x="2171880" y="3638520"/>
              <a:ext cx="64908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j0245319" descr=""/>
            <p:cNvPicPr/>
            <p:nvPr/>
          </p:nvPicPr>
          <p:blipFill>
            <a:blip r:embed="rId2"/>
            <a:stretch/>
          </p:blipFill>
          <p:spPr>
            <a:xfrm>
              <a:off x="2171880" y="5124600"/>
              <a:ext cx="649080" cy="76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j0245319" descr=""/>
            <p:cNvPicPr/>
            <p:nvPr/>
          </p:nvPicPr>
          <p:blipFill>
            <a:blip r:embed="rId3"/>
            <a:stretch/>
          </p:blipFill>
          <p:spPr>
            <a:xfrm>
              <a:off x="6324480" y="3648240"/>
              <a:ext cx="649440" cy="76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j0245319" descr=""/>
            <p:cNvPicPr/>
            <p:nvPr/>
          </p:nvPicPr>
          <p:blipFill>
            <a:blip r:embed="rId4"/>
            <a:stretch/>
          </p:blipFill>
          <p:spPr>
            <a:xfrm>
              <a:off x="6335640" y="5153040"/>
              <a:ext cx="64764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j0245319" descr=""/>
            <p:cNvPicPr/>
            <p:nvPr/>
          </p:nvPicPr>
          <p:blipFill>
            <a:blip r:embed="rId5"/>
            <a:stretch/>
          </p:blipFill>
          <p:spPr>
            <a:xfrm>
              <a:off x="3478320" y="2314440"/>
              <a:ext cx="64764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j0245319" descr=""/>
            <p:cNvPicPr/>
            <p:nvPr/>
          </p:nvPicPr>
          <p:blipFill>
            <a:blip r:embed="rId6"/>
            <a:stretch/>
          </p:blipFill>
          <p:spPr>
            <a:xfrm>
              <a:off x="4971960" y="2314440"/>
              <a:ext cx="6494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392640" y="4719600"/>
              <a:ext cx="22287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87680" y="3290760"/>
              <a:ext cx="22384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801960" y="3080880"/>
              <a:ext cx="0" cy="2192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278320" y="3061800"/>
              <a:ext cx="0" cy="2192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52640" y="3579480"/>
              <a:ext cx="0" cy="2228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42760" y="5456160"/>
              <a:ext cx="2192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623680" y="3979800"/>
              <a:ext cx="2192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8440" y="3598920"/>
              <a:ext cx="0" cy="2209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38720" y="3970440"/>
              <a:ext cx="2192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57800" y="5446800"/>
              <a:ext cx="2192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40040" y="4719600"/>
              <a:ext cx="4953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506840" y="3281400"/>
              <a:ext cx="0" cy="419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92440" y="3900600"/>
              <a:ext cx="847800" cy="752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583160" y="3890880"/>
              <a:ext cx="914400" cy="752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3289320" y="4613400"/>
            <a:ext cx="533520" cy="22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89320" y="461340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4241880" y="3689280"/>
            <a:ext cx="533160" cy="22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41880" y="3689280"/>
                      <a:ext cx="5331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5649840" y="4719600"/>
              <a:ext cx="4953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5224320" y="4613400"/>
            <a:ext cx="533520" cy="228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24320" y="461340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3497400" y="3443400"/>
              <a:ext cx="223812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16080" y="3562200"/>
              <a:ext cx="0" cy="223848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969160" y="3591000"/>
              <a:ext cx="0" cy="223848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1040" y="4919760"/>
              <a:ext cx="14191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0840" y="3881520"/>
              <a:ext cx="704880" cy="600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544920" y="3900600"/>
              <a:ext cx="628560" cy="5713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1120" y="4795920"/>
              <a:ext cx="27612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725800" y="4805280"/>
              <a:ext cx="27612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6280" y="3419640"/>
              <a:ext cx="0" cy="27612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05520" y="4791240"/>
              <a:ext cx="79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Book Antiqua"/>
                </a:rPr>
                <a:t>Rou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35240" y="4791240"/>
              <a:ext cx="80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Book Antiqua"/>
                </a:rPr>
                <a:t>Rou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33880" y="3867120"/>
              <a:ext cx="79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Book Antiqua"/>
                </a:rPr>
                <a:t>Rou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0" y="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  <a:ea typeface="굴림"/>
              </a:rPr>
              <a:t>Multicasting Mech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31080" y="2305080"/>
            <a:ext cx="2712960" cy="342720"/>
          </a:xfrm>
          <a:prstGeom prst="wedgeRoundRectCallout">
            <a:avLst>
              <a:gd name="adj1" fmla="val -74037"/>
              <a:gd name="adj2" fmla="val 280092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Book Antiqua"/>
                <a:ea typeface="굴림"/>
              </a:rPr>
              <a:t>Group Management Proto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2080" y="6276960"/>
            <a:ext cx="2716200" cy="343080"/>
          </a:xfrm>
          <a:prstGeom prst="wedgeRoundRectCallout">
            <a:avLst>
              <a:gd name="adj1" fmla="val 57541"/>
              <a:gd name="adj2" fmla="val -447685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Book Antiqua"/>
                <a:ea typeface="굴림"/>
              </a:rPr>
              <a:t>Multicast Routing Protoc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4514-3428-4792-ADA5-A38724A77D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Advantages of Multicasting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33280" y="2028960"/>
            <a:ext cx="660060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Network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바탕"/>
              </a:rPr>
              <a:t>Unicasting is the best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바탕"/>
              </a:rPr>
              <a:t>How about broadcasting method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Processing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바탕"/>
              </a:rPr>
              <a:t>If we deliver same packet several times, is it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  <a:ea typeface="바탕"/>
              </a:rPr>
              <a:t>Using 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바탕"/>
              </a:rPr>
              <a:t>Mailing list is quite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44C4-2B2F-4341-8820-391F4B3B07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Multicast Routing by MBone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14018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71680" y="2124000"/>
            <a:ext cx="8069040" cy="4257720"/>
            <a:chOff x="571680" y="2124000"/>
            <a:chExt cx="8069040" cy="4257720"/>
          </a:xfrm>
        </p:grpSpPr>
        <p:sp>
          <p:nvSpPr>
            <p:cNvPr id="178" name=""/>
            <p:cNvSpPr/>
            <p:nvPr/>
          </p:nvSpPr>
          <p:spPr>
            <a:xfrm>
              <a:off x="571680" y="2124000"/>
              <a:ext cx="8069040" cy="425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9" name="Tunnel" descr=""/>
            <p:cNvPicPr/>
            <p:nvPr/>
          </p:nvPicPr>
          <p:blipFill>
            <a:blip r:embed="rId1"/>
            <a:stretch/>
          </p:blipFill>
          <p:spPr>
            <a:xfrm>
              <a:off x="571680" y="3133800"/>
              <a:ext cx="7619760" cy="230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DB50-2DCF-4984-B48F-6C2C9EABE3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601560" y="3086280"/>
            <a:ext cx="7972560" cy="1850760"/>
            <a:chOff x="601560" y="3086280"/>
            <a:chExt cx="7972560" cy="1850760"/>
          </a:xfrm>
        </p:grpSpPr>
        <p:sp>
          <p:nvSpPr>
            <p:cNvPr id="181" name=""/>
            <p:cNvSpPr/>
            <p:nvPr/>
          </p:nvSpPr>
          <p:spPr>
            <a:xfrm>
              <a:off x="601560" y="3086280"/>
              <a:ext cx="7972560" cy="1850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52920" y="393228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0960" y="3929040"/>
              <a:ext cx="1295280" cy="0"/>
            </a:xfrm>
            <a:prstGeom prst="line">
              <a:avLst/>
            </a:prstGeom>
            <a:ln w="63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0960" y="3211560"/>
              <a:ext cx="1143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Stream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Packet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38320" y="3495600"/>
              <a:ext cx="221004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j0215022" descr=""/>
            <p:cNvPicPr/>
            <p:nvPr/>
          </p:nvPicPr>
          <p:blipFill>
            <a:blip r:embed="rId1"/>
            <a:stretch/>
          </p:blipFill>
          <p:spPr>
            <a:xfrm>
              <a:off x="3929040" y="4105440"/>
              <a:ext cx="571680" cy="582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87" name=""/>
            <p:cNvGraphicFramePr/>
            <p:nvPr/>
          </p:nvGraphicFramePr>
          <p:xfrm>
            <a:off x="4919760" y="3835440"/>
            <a:ext cx="533160" cy="228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19760" y="3835440"/>
                      <a:ext cx="5331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5815080" y="3417840"/>
              <a:ext cx="2209680" cy="91440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j0215022" descr=""/>
            <p:cNvPicPr/>
            <p:nvPr/>
          </p:nvPicPr>
          <p:blipFill>
            <a:blip r:embed="rId4"/>
            <a:stretch/>
          </p:blipFill>
          <p:spPr>
            <a:xfrm>
              <a:off x="6900840" y="4159080"/>
              <a:ext cx="5716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j0215022" descr=""/>
            <p:cNvPicPr/>
            <p:nvPr/>
          </p:nvPicPr>
          <p:blipFill>
            <a:blip r:embed="rId5"/>
            <a:stretch/>
          </p:blipFill>
          <p:spPr>
            <a:xfrm>
              <a:off x="3319560" y="319104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j0215022" descr=""/>
            <p:cNvPicPr/>
            <p:nvPr/>
          </p:nvPicPr>
          <p:blipFill>
            <a:blip r:embed="rId6"/>
            <a:stretch/>
          </p:blipFill>
          <p:spPr>
            <a:xfrm>
              <a:off x="7358040" y="3321000"/>
              <a:ext cx="5716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j0215022" descr=""/>
            <p:cNvPicPr/>
            <p:nvPr/>
          </p:nvPicPr>
          <p:blipFill>
            <a:blip r:embed="rId7"/>
            <a:stretch/>
          </p:blipFill>
          <p:spPr>
            <a:xfrm>
              <a:off x="6062760" y="3191040"/>
              <a:ext cx="57132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297240" y="3780000"/>
              <a:ext cx="160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Multicas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15040" y="372420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Book Antiqua"/>
                  <a:ea typeface="굴림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84440" y="3929040"/>
              <a:ext cx="380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2050920" y="3832200"/>
            <a:ext cx="53352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050920" y="3832200"/>
                      <a:ext cx="533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However, …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  <a:ea typeface="굴림"/>
              </a:rPr>
              <a:t>Can multicasting be done effectively on the Internet to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78440" y="5349960"/>
            <a:ext cx="2363760" cy="701640"/>
          </a:xfrm>
          <a:prstGeom prst="wedgeRoundRectCallout">
            <a:avLst>
              <a:gd name="adj1" fmla="val -79666"/>
              <a:gd name="adj2" fmla="val -235069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 Antiqua"/>
                <a:ea typeface="굴림"/>
              </a:rPr>
              <a:t>Non multicast supporting ro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9080" y="5369040"/>
            <a:ext cx="2544480" cy="701640"/>
          </a:xfrm>
          <a:prstGeom prst="wedgeRoundRectCallout">
            <a:avLst>
              <a:gd name="adj1" fmla="val -62671"/>
              <a:gd name="adj2" fmla="val -231898"/>
              <a:gd name="adj3" fmla="val 16667"/>
            </a:avLst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 Antiqua"/>
                <a:ea typeface="굴림"/>
              </a:rPr>
              <a:t>Multicast supporting router (Mbone Rout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776F-759C-4EEB-919C-9A46CA24B6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98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Book Antiqua"/>
              </a:rPr>
              <a:t>That’s why we need protocol conversion!</a:t>
            </a:r>
            <a:endParaRPr b="1" i="1" lang="en-US" sz="3200" spc="-1" strike="noStrike">
              <a:solidFill>
                <a:srgbClr val="ff9900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Protocol Conversion,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Peer to peer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Is performance good enough to deliver several streaming chann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Tunnel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Book Antiqua"/>
              </a:rPr>
              <a:t>Is not a sort of time consuming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</a:rPr>
              <a:t>Protocol spoo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Book Antiqua"/>
              </a:rPr>
              <a:t>What’s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D2C8-2261-4954-AD6D-6B0882613F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15:40:44Z</dcterms:created>
  <dc:creator>Calvin Y. Go</dc:creator>
  <dc:description>TST Presentation Template</dc:description>
  <dc:language>en-US</dc:language>
  <cp:lastModifiedBy>CalvinGo</cp:lastModifiedBy>
  <cp:lastPrinted>1999-01-09T15:58:08Z</cp:lastPrinted>
  <dcterms:modified xsi:type="dcterms:W3CDTF">2001-02-21T10:03:29Z</dcterms:modified>
  <cp:revision>603</cp:revision>
  <dc:subject>Presentation Template Designs</dc:subject>
  <dc:title>No Slide Title</dc:title>
</cp:coreProperties>
</file>