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DEA-CA8B-4EC1-BF01-4909F39C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05F-8D3F-47EB-8627-88FAFEAC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5C4-CC7D-4FCD-B650-1047B6A3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27A-0823-4651-BFFC-3D8EB044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D3B-3FB7-4AE3-996F-1D311B37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E15-2B95-41DC-AD5D-F0D9ADB2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0B3-90DB-4BAA-BE4A-C3DC6268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605-0ECB-4D60-8EB2-145C0EB9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AF9-8B77-44CD-AE46-EA7A00DC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FD1-F400-45C2-8FAE-5D6B453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92F-BA63-4E25-9279-6343797F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4E0-D97F-4471-9376-30BC5EC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B75A-078D-4FE7-8B84-053DCEBB0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wbn@equinix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ing Pa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B. Nor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Founder, Chief Technical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nix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4160" y="609588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C Expo 20010221:13:00 N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ing Negotiation takes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94040" y="2973240"/>
          <a:ext cx="33573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2973240"/>
                    <a:ext cx="3357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26320" y="5791320"/>
            <a:ext cx="85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, sometimes things just don’t work right the firs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in an industry running at full speed…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525780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our industry is running at full spe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94040" y="2973240"/>
          <a:ext cx="334800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2973240"/>
                    <a:ext cx="334800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294480" y="563868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skill and technique to overcome the hurdles we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525780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640" y="6172200"/>
            <a:ext cx="88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ly when we try and negotiate peering with larger networ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joling may seem like a good idea at the ti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152880" y="2965320"/>
          <a:ext cx="31431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2965320"/>
                    <a:ext cx="31431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816840" y="560376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y may see things different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71800" y="5257800"/>
            <a:ext cx="3352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like a singles 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make an ass out of yourself in the first 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one will want to dance with you the rest of the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don’t make too big of an ass out of you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oo little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know if your ass is too sm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AssTooSmall1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97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and Language Cryp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Cryptic" descr=""/>
          <p:cNvPicPr/>
          <p:nvPr/>
        </p:nvPicPr>
        <p:blipFill>
          <a:blip r:embed="rId1"/>
          <a:stretch/>
        </p:blipFill>
        <p:spPr>
          <a:xfrm>
            <a:off x="-990720" y="1523880"/>
            <a:ext cx="107442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ing is a game of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cruise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104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296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5105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ering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eering Simulation Game R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35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05360" indent="-40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Maximize bank holdings. Make money by acquiring customers and reduce transit costs by p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360" indent="-40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: Roll the dice and expand your network by selecting that many adjacent “squares”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 transit revenue of $2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customer square you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transit fees of $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square of traffic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P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If at Exchange Point, two ISPs can negotiate peer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80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0 recurring cost and loss of 2 turns, ISPs negotiates who covers the costs of p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80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ISPs do not have to pay transit for each others squares starting the next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67480" y="6400800"/>
            <a:ext cx="11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rou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343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nts to peer w/B – moves to I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esse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391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443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48120" y="22096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W, likes IX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7 squares (7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,000 - $11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925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925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9252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83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641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480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502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8120" y="22096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W, IX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7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,000 - $11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925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925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9252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83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3641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4480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23623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rolls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te ent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ing to 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7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2 squares (2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,000 - $17,000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-$1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3504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reboard after Round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 A: $9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 B: $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C: $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D: -$1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o Round 2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565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22096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W, IX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7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,000 - $11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925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25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9252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783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41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9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00400" y="23623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rolls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entrant heading to 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7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2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,000 - $17,000 = -$1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3504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352680" y="25146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s to 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9 squares (9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8,000 - $13,000 = $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ts to peer with C – split cos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: -$1,000 + both lose a 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ther has to pay transit to each oth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9288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928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068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4480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124080"/>
            <a:ext cx="152280" cy="5335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632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40600" y="3505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774920" y="2743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40960" y="27432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48120" y="22096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W, IX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7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,000 - $11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925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925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252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83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41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99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00400" y="23623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rolls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entrant heading to 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7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2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,000 - $17,000 = -$1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83504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25146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s to 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8 squares (8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6,000 - $13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ts to peer with C – split cos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: -$1,000 both lose a 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ther has to pay transit to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9288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928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05320" y="26668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s to IXE*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2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10 squares (10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,000 - $21,000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-$1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ts to peer with A – split cos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: You pissed me off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: if $0 &amp; B lose both 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walk a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2743200"/>
            <a:ext cx="76320" cy="457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447920" y="3505320"/>
            <a:ext cx="75960" cy="457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148880" y="72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78920" y="76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808960" y="7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39000" y="83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97480" y="76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920" y="533520"/>
            <a:ext cx="320040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Revenue squ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lost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w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cost $8000/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COME TO BIL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LEC ISPs that have never play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5,000 VC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hear your thought process and peering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ner -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962520" y="2438280"/>
            <a:ext cx="533160" cy="10670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91120" y="2514600"/>
            <a:ext cx="228600" cy="990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P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38480" y="2438280"/>
            <a:ext cx="76320" cy="990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572000" y="2057400"/>
            <a:ext cx="2438280" cy="4572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72000" y="3581280"/>
            <a:ext cx="2438280" cy="457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954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00600" y="1600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09880" y="1600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2900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33920" y="1981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33920" y="22860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35812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57600" y="38862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733920" y="4038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09880" y="182880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62520" y="18288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3352680"/>
            <a:ext cx="12952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81280" y="18288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7160" y="2286000"/>
            <a:ext cx="314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provides ro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o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mmetric traffic, true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both companies benef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72400" y="6324480"/>
            <a:ext cx="22860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848720" y="228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077320" y="457200"/>
            <a:ext cx="228600" cy="228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153280" y="685800"/>
            <a:ext cx="22860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305920" y="990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381880" y="1219320"/>
            <a:ext cx="228600" cy="2286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458200" y="1447920"/>
            <a:ext cx="228600" cy="22860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534520" y="175248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610480" y="19810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686800" y="236232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686800" y="2743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686800" y="31240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686800" y="35053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686800" y="3886200"/>
            <a:ext cx="228600" cy="228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610480" y="4267080"/>
            <a:ext cx="228600" cy="228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534520" y="4648320"/>
            <a:ext cx="228600" cy="22860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458200" y="5105520"/>
            <a:ext cx="228600" cy="2286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5920" y="5486400"/>
            <a:ext cx="228600" cy="228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153280" y="5791320"/>
            <a:ext cx="228600" cy="2286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01000" y="6095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37600" y="4575240"/>
            <a:ext cx="743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costs big bu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it is a convenient plug in the wall that s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is way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Peering costs very little and reduces transit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Q: Who to peer with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justify costs of pe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228600"/>
            <a:ext cx="2438280" cy="62485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343400" y="274284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Peering Financi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419040" y="1066680"/>
          <a:ext cx="8305920" cy="512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66680"/>
                    <a:ext cx="8305920" cy="51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4467240" y="533412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Max: 100  Mbps@$1000/m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0/Mbps/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bps@$2000/m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  2/Mbps/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880" y="6095880"/>
            <a:ext cx="595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Qwest/L3 quotes for OC-3 Transit@$60K/mo=$388/Mbps/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nix GigE Peering Package (LINX/AMS-IX simi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SFNET to Post-NSFNET Era Inter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1676520"/>
            <a:ext cx="51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7552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dfffc"/>
                </a:solidFill>
                <a:latin typeface="Times New Roman"/>
              </a:rPr>
              <a:t>No Internet presentation complete withou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48400" y="4164120"/>
            <a:ext cx="424080" cy="181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84840" y="4164120"/>
            <a:ext cx="423720" cy="181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1280" y="4164120"/>
            <a:ext cx="423720" cy="181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1960" y="4164120"/>
            <a:ext cx="424080" cy="181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08560" y="3254400"/>
            <a:ext cx="409680" cy="565200"/>
          </a:xfrm>
          <a:prstGeom prst="downArrow">
            <a:avLst>
              <a:gd name="adj1" fmla="val 50000"/>
              <a:gd name="adj2" fmla="val 69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611280"/>
            <a:ext cx="5105160" cy="2633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70520" y="1106640"/>
            <a:ext cx="301680" cy="633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629040" y="1023840"/>
            <a:ext cx="3240" cy="716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010280" y="1106640"/>
            <a:ext cx="131760" cy="709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315200" y="1589040"/>
            <a:ext cx="380880" cy="227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391160" y="2041200"/>
            <a:ext cx="90360" cy="222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086240" y="2041560"/>
            <a:ext cx="228600" cy="676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64160" y="2041200"/>
            <a:ext cx="12960" cy="469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38680" y="2041200"/>
            <a:ext cx="61920" cy="7714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2022480"/>
            <a:ext cx="653760" cy="620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06960" y="1848960"/>
            <a:ext cx="254160" cy="1666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1120" y="1521000"/>
            <a:ext cx="353880" cy="295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138320"/>
            <a:ext cx="1066680" cy="601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76880" y="4081320"/>
            <a:ext cx="338040" cy="41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00600" y="3848040"/>
            <a:ext cx="84240" cy="41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802560" y="3916440"/>
            <a:ext cx="85680" cy="412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396200" y="4299120"/>
            <a:ext cx="452520" cy="444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7311600" y="5734080"/>
            <a:ext cx="536760" cy="133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191200" y="5854320"/>
            <a:ext cx="593640" cy="328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784840" y="5816520"/>
            <a:ext cx="169920" cy="495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632640" y="5816160"/>
            <a:ext cx="0" cy="41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82520" y="1336680"/>
            <a:ext cx="171864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R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4280" y="861480"/>
            <a:ext cx="142596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W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26320" y="2474280"/>
            <a:ext cx="130464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esq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3720" y="1237680"/>
            <a:ext cx="17316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EA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51600" y="710640"/>
            <a:ext cx="179604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ys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50160" y="594720"/>
            <a:ext cx="113652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e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63760" y="2743200"/>
            <a:ext cx="11628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39840" y="636120"/>
            <a:ext cx="1449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Oa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75640" y="259236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1160" y="202356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75240" y="191772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76880" y="1640880"/>
            <a:ext cx="245592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SF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78720" y="2517840"/>
            <a:ext cx="10594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76880" y="555624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T&amp;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76880" y="518004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76880" y="481176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880" y="444924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UU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76880" y="405612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560" y="3830040"/>
            <a:ext cx="142596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W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02440" y="3871440"/>
            <a:ext cx="179604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ys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3880" y="3484080"/>
            <a:ext cx="113652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e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39840" y="3414240"/>
            <a:ext cx="1449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Oa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41920" y="582552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97400" y="621144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59720" y="611028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61440" y="547164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838080"/>
            <a:ext cx="350532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FNET (1987-1994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ional Tech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ance &amp;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orting &amp; Coord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uting &amp; Network Pl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ization (1994-Now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rth American Network Operators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NANOG)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eering insignificant relative to long term savings of transit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ing Simulator vs. Peering Rea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Papers Available 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bn@equinix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onnection Strategies for IS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Service Providers and Peer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tudy: Peering in the DC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tudy: Peering in the Bay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: “Content Peering” and “Build vs. Buy Internet Datacent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talk over BEER(s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7.5% of all Internet statistics are made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600200"/>
          <a:ext cx="64008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400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5339880" y="653256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e: I mad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2080" y="62895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: I made 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ing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ations: 200 ISP Peering Coord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Paper: “Internet Service Providers and Peer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Definitions of the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Summary Findings from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Live the Life: Peering Si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 of Peering and Trans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38080"/>
            <a:ext cx="9144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8440" y="5799240"/>
            <a:ext cx="76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ns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business relationship whereby one I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ls access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destin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its routing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5800" y="990720"/>
            <a:ext cx="91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e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business relationship whereby IS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procally announce reachability to each others’ transit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5600" y="2586600"/>
            <a:ext cx="842040" cy="316440"/>
            <a:chOff x="4035600" y="2586600"/>
            <a:chExt cx="842040" cy="316440"/>
          </a:xfrm>
        </p:grpSpPr>
        <p:sp>
          <p:nvSpPr>
            <p:cNvPr id="119" name=""/>
            <p:cNvSpPr/>
            <p:nvPr/>
          </p:nvSpPr>
          <p:spPr>
            <a:xfrm rot="10861200">
              <a:off x="4037400" y="2667240"/>
              <a:ext cx="83808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61200">
              <a:off x="4649040" y="2595960"/>
              <a:ext cx="152640" cy="151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61200">
              <a:off x="4420440" y="2592000"/>
              <a:ext cx="152640" cy="151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61200">
              <a:off x="4191840" y="25876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38280" y="3200400"/>
            <a:ext cx="914400" cy="763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276720"/>
            <a:ext cx="761760" cy="759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2714760"/>
            <a:ext cx="1917720" cy="115092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87880" y="2806560"/>
            <a:ext cx="2293920" cy="95904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2040" y="2806560"/>
            <a:ext cx="2293920" cy="95904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08640" y="2133720"/>
            <a:ext cx="100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48120" y="4056120"/>
            <a:ext cx="1130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3623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286000"/>
            <a:ext cx="30492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657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962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40384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4114800"/>
            <a:ext cx="30456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2514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4382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2438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2514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8862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38862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38098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3657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5040" y="3048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9800" y="3048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5480" y="30481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st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6840" y="2209680"/>
            <a:ext cx="100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743200"/>
            <a:ext cx="0" cy="106668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590920"/>
            <a:ext cx="3808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2895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352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819520"/>
            <a:ext cx="0" cy="106668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666880"/>
            <a:ext cx="38088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9718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429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38480" y="3733920"/>
            <a:ext cx="838080" cy="304200"/>
            <a:chOff x="4038480" y="3733920"/>
            <a:chExt cx="838080" cy="304200"/>
          </a:xfrm>
        </p:grpSpPr>
        <p:sp>
          <p:nvSpPr>
            <p:cNvPr id="162" name=""/>
            <p:cNvSpPr/>
            <p:nvPr/>
          </p:nvSpPr>
          <p:spPr>
            <a:xfrm>
              <a:off x="4038480" y="3733920"/>
              <a:ext cx="83808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440" y="3886200"/>
              <a:ext cx="152640" cy="151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3040" y="3886200"/>
              <a:ext cx="152640" cy="151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1640" y="388620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3962520" y="39621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800240" y="3962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2362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343400" y="2286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00240" y="2362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8951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8669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670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956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7242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8954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666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2590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8580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990720" y="3809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371600" y="3886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51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816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1532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3581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800" y="439884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4267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42670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495680"/>
            <a:ext cx="30456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4495680"/>
            <a:ext cx="30492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2600" y="432288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19112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4956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77400" y="4408560"/>
            <a:ext cx="158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29000" y="48765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362320"/>
            <a:ext cx="30456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25909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657600"/>
            <a:ext cx="30492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8862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39625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2600" y="4398840"/>
            <a:ext cx="30492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153800" y="4746240"/>
            <a:ext cx="82692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60160" y="5324400"/>
            <a:ext cx="62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te: Peering is a Non-Transitive Relation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 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fers to the physical/data link layer interconnection media (fiber cross connect, circuits, switching fabr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" y="3570120"/>
            <a:ext cx="77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Tier 1 IS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ISP that has access to the global Internet routing table without purchasing transit (I.e. solely from peering relationship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minute Intro to P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2590920"/>
            <a:ext cx="76320" cy="99036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2133720"/>
            <a:ext cx="2438640" cy="2286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3733920"/>
            <a:ext cx="2438280" cy="228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3124080"/>
            <a:ext cx="761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1600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1600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3429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4038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1981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22860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5812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38862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733920" y="4038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82880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18288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342900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18288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5760" y="23623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provides ro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o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2400" y="6324480"/>
            <a:ext cx="22860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228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457200"/>
            <a:ext cx="228600" cy="228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53280" y="685800"/>
            <a:ext cx="22860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05920" y="990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1219320"/>
            <a:ext cx="228600" cy="2286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58200" y="1447920"/>
            <a:ext cx="228600" cy="22860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75248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610480" y="19810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686800" y="236232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686800" y="2743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686800" y="31240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686800" y="35053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686800" y="3886200"/>
            <a:ext cx="228600" cy="228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610480" y="4267080"/>
            <a:ext cx="228600" cy="228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4648320"/>
            <a:ext cx="228600" cy="22860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8200" y="5105520"/>
            <a:ext cx="228600" cy="2286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05920" y="5486400"/>
            <a:ext cx="228600" cy="228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5791320"/>
            <a:ext cx="228600" cy="2286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6095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237600" y="4575240"/>
            <a:ext cx="743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costs big bu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it is a convenient plug in the wall that s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is way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Peering costs very little and reduces transit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Q: Who to peer with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justify costs of pe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228600"/>
            <a:ext cx="2438280" cy="62485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93160" y="651816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any professional pursuit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894040" y="2973240"/>
          <a:ext cx="33573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2973240"/>
                    <a:ext cx="3357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20320" y="5791320"/>
            <a:ext cx="89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seem easy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Coordinators role is more than just walking the wal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525780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6T00:08:34Z</dcterms:created>
  <dc:creator>William B. Norton</dc:creator>
  <dc:description/>
  <dc:language>en-US</dc:language>
  <cp:lastModifiedBy>William B. Norton</cp:lastModifiedBy>
  <dcterms:modified xsi:type="dcterms:W3CDTF">2001-02-21T19:39:12Z</dcterms:modified>
  <cp:revision>25</cp:revision>
  <dc:subject/>
  <dc:title>Peering BOF III</dc:title>
</cp:coreProperties>
</file>