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0" y="8924760"/>
            <a:ext cx="68371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50760" bIns="50760" anchor="t">
            <a:spAutoFit/>
          </a:bodyPr>
          <a:p>
            <a:pPr>
              <a:tabLst>
                <a:tab algn="l" pos="0"/>
                <a:tab algn="l" pos="2416320"/>
                <a:tab algn="l" pos="4889520"/>
                <a:tab algn="l" pos="4952880"/>
                <a:tab algn="l" pos="5572080"/>
                <a:tab algn="l" pos="6191280"/>
                <a:tab algn="l" pos="6810480"/>
                <a:tab algn="l" pos="7429680"/>
                <a:tab algn="l" pos="8048520"/>
                <a:tab algn="l" pos="8667720"/>
                <a:tab algn="l" pos="9286920"/>
                <a:tab algn="l" pos="9906120"/>
                <a:tab algn="l" pos="105249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© 2000, Cisco Systems, Inc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416320"/>
                <a:tab algn="l" pos="4889520"/>
                <a:tab algn="l" pos="4952880"/>
                <a:tab algn="l" pos="5572080"/>
                <a:tab algn="l" pos="6191280"/>
                <a:tab algn="l" pos="6810480"/>
                <a:tab algn="l" pos="7429680"/>
                <a:tab algn="l" pos="8048520"/>
                <a:tab algn="l" pos="8667720"/>
                <a:tab algn="l" pos="9286920"/>
                <a:tab algn="l" pos="9906120"/>
                <a:tab algn="l" pos="105249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resentation_ID.sc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080" y="8939160"/>
            <a:ext cx="667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5949720" y="8816760"/>
            <a:ext cx="817560" cy="293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4D73-04BE-4DCD-A3F0-AE3D0C3DDB7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 txBox="1"/>
          <p:nvPr/>
        </p:nvSpPr>
        <p:spPr>
          <a:xfrm>
            <a:off x="5949720" y="8816760"/>
            <a:ext cx="817560" cy="293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BDD6-BBC6-48D5-97E0-056BC6FAF77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body"/>
          </p:nvPr>
        </p:nvSpPr>
        <p:spPr>
          <a:xfrm>
            <a:off x="914400" y="4417560"/>
            <a:ext cx="51055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ldImg"/>
          </p:nvPr>
        </p:nvSpPr>
        <p:spPr>
          <a:xfrm>
            <a:off x="1131840" y="684360"/>
            <a:ext cx="4667400" cy="3501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"/>
          <p:cNvSpPr txBox="1"/>
          <p:nvPr/>
        </p:nvSpPr>
        <p:spPr>
          <a:xfrm>
            <a:off x="5949720" y="8816760"/>
            <a:ext cx="817560" cy="293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0121-61E5-4D2D-BE27-5AE9A7518FF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body"/>
          </p:nvPr>
        </p:nvSpPr>
        <p:spPr>
          <a:xfrm>
            <a:off x="914400" y="4417560"/>
            <a:ext cx="51055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ldImg"/>
          </p:nvPr>
        </p:nvSpPr>
        <p:spPr>
          <a:xfrm>
            <a:off x="1131840" y="684360"/>
            <a:ext cx="4667400" cy="3501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/>
          <p:cNvSpPr txBox="1"/>
          <p:nvPr/>
        </p:nvSpPr>
        <p:spPr>
          <a:xfrm>
            <a:off x="5949720" y="8816760"/>
            <a:ext cx="817560" cy="293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A2C8-0E43-4C60-B6F4-520D176B316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body"/>
          </p:nvPr>
        </p:nvSpPr>
        <p:spPr>
          <a:xfrm>
            <a:off x="914400" y="4417560"/>
            <a:ext cx="51055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ldImg"/>
          </p:nvPr>
        </p:nvSpPr>
        <p:spPr>
          <a:xfrm>
            <a:off x="1131840" y="684360"/>
            <a:ext cx="4667400" cy="3501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 txBox="1"/>
          <p:nvPr/>
        </p:nvSpPr>
        <p:spPr>
          <a:xfrm>
            <a:off x="5949720" y="8816760"/>
            <a:ext cx="817560" cy="293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8143-E4F9-49BF-9D6F-CCBE8FED9AA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838160" y="1521000"/>
            <a:ext cx="3135600" cy="23508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32040" y="2620440"/>
            <a:ext cx="5117760" cy="59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 txBox="1"/>
          <p:nvPr/>
        </p:nvSpPr>
        <p:spPr>
          <a:xfrm>
            <a:off x="5949720" y="8816760"/>
            <a:ext cx="817560" cy="2934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2EF0-2F74-4EA0-B371-9AFA1C69A3E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body"/>
          </p:nvPr>
        </p:nvSpPr>
        <p:spPr>
          <a:xfrm>
            <a:off x="914400" y="4417560"/>
            <a:ext cx="51055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ldImg"/>
          </p:nvPr>
        </p:nvSpPr>
        <p:spPr>
          <a:xfrm>
            <a:off x="1131840" y="684360"/>
            <a:ext cx="4667400" cy="35017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760" y="4161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92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6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6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6440" y="-360"/>
            <a:ext cx="7623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37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992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760" y="4161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992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6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7760" y="229536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5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6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7760" y="4161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6440" y="-360"/>
            <a:ext cx="7623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37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920" y="4161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229536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760" y="4161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212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nd%20boven%20zwar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1" name="cisco_url_sabonbold16_96" descr=""/>
          <p:cNvPicPr/>
          <p:nvPr/>
        </p:nvPicPr>
        <p:blipFill>
          <a:blip r:embed="rId3"/>
          <a:stretch/>
        </p:blipFill>
        <p:spPr>
          <a:xfrm>
            <a:off x="3900600" y="6573960"/>
            <a:ext cx="1361880" cy="15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69000"/>
          </a:bodyPr>
          <a:p>
            <a:pPr marL="199440" indent="-199440">
              <a:lnSpc>
                <a:spcPct val="95000"/>
              </a:lnSpc>
              <a:spcBef>
                <a:spcPts val="2126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89880">
              <a:lnSpc>
                <a:spcPct val="95000"/>
              </a:lnSpc>
              <a:spcBef>
                <a:spcPts val="2126"/>
              </a:spcBef>
              <a:buClr>
                <a:srgbClr val="ffffff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590400">
              <a:lnSpc>
                <a:spcPct val="95000"/>
              </a:lnSpc>
              <a:spcBef>
                <a:spcPts val="2126"/>
              </a:spcBef>
              <a:buClr>
                <a:srgbClr val="ffff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780840">
              <a:lnSpc>
                <a:spcPct val="95000"/>
              </a:lnSpc>
              <a:spcBef>
                <a:spcPts val="2126"/>
              </a:spcBef>
              <a:buClr>
                <a:srgbClr val="ffffff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980280">
              <a:lnSpc>
                <a:spcPct val="95000"/>
              </a:lnSpc>
              <a:spcBef>
                <a:spcPts val="2126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980280">
              <a:lnSpc>
                <a:spcPct val="95000"/>
              </a:lnSpc>
              <a:spcBef>
                <a:spcPts val="2126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980280">
              <a:lnSpc>
                <a:spcPct val="95000"/>
              </a:lnSpc>
              <a:spcBef>
                <a:spcPts val="2126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DF20AB7-EF2D-42AC-8517-B2806F2F706E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39200" y="6638400"/>
            <a:ext cx="8110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c0c0c0"/>
                </a:solidFill>
                <a:latin typeface="Arial"/>
              </a:rPr>
              <a:t>Apricot 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789240" y="6669000"/>
            <a:ext cx="13248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© 2001, Cisco Systems, Inc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uymain" descr="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520" y="2657520"/>
            <a:ext cx="7799400" cy="111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56A461D-174D-48AE-809D-7A4C07C4EBA0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000" y="6466320"/>
            <a:ext cx="8110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Apricot 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91880" y="6634080"/>
            <a:ext cx="13248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© 2000, Cisco Systems, Inc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lnSpc>
                <a:spcPct val="95000"/>
              </a:lnSpc>
              <a:spcBef>
                <a:spcPts val="237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0"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778680" algn="ctr">
              <a:lnSpc>
                <a:spcPct val="95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029960" algn="ctr">
              <a:lnSpc>
                <a:spcPct val="95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292760" algn="ctr">
              <a:lnSpc>
                <a:spcPct val="95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29276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29276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7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7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6.wmf"/><Relationship Id="rId30" Type="http://schemas.openxmlformats.org/officeDocument/2006/relationships/image" Target="../media/image6.wmf"/><Relationship Id="rId31" Type="http://schemas.openxmlformats.org/officeDocument/2006/relationships/image" Target="../media/image7.wmf"/><Relationship Id="rId32" Type="http://schemas.openxmlformats.org/officeDocument/2006/relationships/image" Target="../media/image6.wmf"/><Relationship Id="rId33" Type="http://schemas.openxmlformats.org/officeDocument/2006/relationships/image" Target="../media/image6.wmf"/><Relationship Id="rId34" Type="http://schemas.openxmlformats.org/officeDocument/2006/relationships/image" Target="../media/image6.wmf"/><Relationship Id="rId35" Type="http://schemas.openxmlformats.org/officeDocument/2006/relationships/image" Target="../media/image6.wmf"/><Relationship Id="rId36" Type="http://schemas.openxmlformats.org/officeDocument/2006/relationships/slideLayout" Target="../slideLayouts/slideLayout5.xml"/><Relationship Id="rId3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7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7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6.wmf"/><Relationship Id="rId30" Type="http://schemas.openxmlformats.org/officeDocument/2006/relationships/image" Target="../media/image6.wmf"/><Relationship Id="rId31" Type="http://schemas.openxmlformats.org/officeDocument/2006/relationships/image" Target="../media/image7.wmf"/><Relationship Id="rId32" Type="http://schemas.openxmlformats.org/officeDocument/2006/relationships/image" Target="../media/image6.wmf"/><Relationship Id="rId33" Type="http://schemas.openxmlformats.org/officeDocument/2006/relationships/image" Target="../media/image6.wmf"/><Relationship Id="rId34" Type="http://schemas.openxmlformats.org/officeDocument/2006/relationships/image" Target="../media/image6.wmf"/><Relationship Id="rId35" Type="http://schemas.openxmlformats.org/officeDocument/2006/relationships/image" Target="../media/image6.wmf"/><Relationship Id="rId36" Type="http://schemas.openxmlformats.org/officeDocument/2006/relationships/slideLayout" Target="../slideLayouts/slideLayout5.xml"/><Relationship Id="rId3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7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7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6.wmf"/><Relationship Id="rId30" Type="http://schemas.openxmlformats.org/officeDocument/2006/relationships/image" Target="../media/image6.wmf"/><Relationship Id="rId31" Type="http://schemas.openxmlformats.org/officeDocument/2006/relationships/image" Target="../media/image7.wmf"/><Relationship Id="rId32" Type="http://schemas.openxmlformats.org/officeDocument/2006/relationships/image" Target="../media/image6.wmf"/><Relationship Id="rId33" Type="http://schemas.openxmlformats.org/officeDocument/2006/relationships/image" Target="../media/image6.wmf"/><Relationship Id="rId34" Type="http://schemas.openxmlformats.org/officeDocument/2006/relationships/image" Target="../media/image6.wmf"/><Relationship Id="rId35" Type="http://schemas.openxmlformats.org/officeDocument/2006/relationships/image" Target="../media/image6.wmf"/><Relationship Id="rId36" Type="http://schemas.openxmlformats.org/officeDocument/2006/relationships/slideLayout" Target="../slideLayouts/slideLayout5.xml"/><Relationship Id="rId3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5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4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5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4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5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4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7.wmf"/><Relationship Id="rId22" Type="http://schemas.openxmlformats.org/officeDocument/2006/relationships/image" Target="../media/image6.wmf"/><Relationship Id="rId23" Type="http://schemas.openxmlformats.org/officeDocument/2006/relationships/image" Target="../media/image6.wmf"/><Relationship Id="rId24" Type="http://schemas.openxmlformats.org/officeDocument/2006/relationships/image" Target="../media/image6.wmf"/><Relationship Id="rId25" Type="http://schemas.openxmlformats.org/officeDocument/2006/relationships/image" Target="../media/image6.wmf"/><Relationship Id="rId26" Type="http://schemas.openxmlformats.org/officeDocument/2006/relationships/image" Target="../media/image7.wmf"/><Relationship Id="rId27" Type="http://schemas.openxmlformats.org/officeDocument/2006/relationships/image" Target="../media/image6.wmf"/><Relationship Id="rId28" Type="http://schemas.openxmlformats.org/officeDocument/2006/relationships/image" Target="../media/image6.wmf"/><Relationship Id="rId29" Type="http://schemas.openxmlformats.org/officeDocument/2006/relationships/image" Target="../media/image6.wmf"/><Relationship Id="rId30" Type="http://schemas.openxmlformats.org/officeDocument/2006/relationships/image" Target="../media/image6.wmf"/><Relationship Id="rId31" Type="http://schemas.openxmlformats.org/officeDocument/2006/relationships/image" Target="../media/image7.wmf"/><Relationship Id="rId32" Type="http://schemas.openxmlformats.org/officeDocument/2006/relationships/image" Target="../media/image6.wmf"/><Relationship Id="rId33" Type="http://schemas.openxmlformats.org/officeDocument/2006/relationships/image" Target="../media/image6.wmf"/><Relationship Id="rId34" Type="http://schemas.openxmlformats.org/officeDocument/2006/relationships/image" Target="../media/image6.wmf"/><Relationship Id="rId35" Type="http://schemas.openxmlformats.org/officeDocument/2006/relationships/image" Target="../media/image6.wmf"/><Relationship Id="rId36" Type="http://schemas.openxmlformats.org/officeDocument/2006/relationships/slideLayout" Target="../slideLayouts/slideLayout5.xml"/><Relationship Id="rId3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871720"/>
            <a:ext cx="7799400" cy="111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Diff-Serv-awar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raffic Engineering and its Application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tivation for DS-aware 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0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networks which are largely over-provisioned everywhere, DS-aware TE is not usefu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cause aggregate load is small percentage of link anyway, EF traffic will be less than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% of link and AF1 traffic will be less than </a:t>
            </a:r>
            <a:r>
              <a:rPr b="0" i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% of lin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networks where some parts are not over-provisioned, DS-aware TE is usefu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sures(*) (through CBR and CAC) that EF traffic will be less than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% of link and AF1 traffic will be less than </a:t>
            </a:r>
            <a:r>
              <a:rPr b="0" i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% of lin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Global (transcontinental) IS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3520" y="5715000"/>
            <a:ext cx="75405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*) DS aware TE does not “create” bandwidth, but it can first use resources on non SPF-path and then reject establishment of excess tunn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iff-Serv aware TE: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protocol Compon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6000"/>
          </a:bodyPr>
          <a:p>
            <a:pPr marL="277200" indent="-277200">
              <a:lnSpc>
                <a:spcPct val="95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Current IGP(*) extensions for TE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vertise “unreserved TE bandwidth” (at each preemption lev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>
              <a:lnSpc>
                <a:spcPct val="95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posed IGP(*) extensions for DS aware TE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ass-Types= group of Diff-Serv classes sharing the same bandwidth constraint (eg AF1x and AF2x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vertise “unreserved TE bandwidth” (at each preemption level)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for each Class-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1720" y="5791320"/>
            <a:ext cx="20426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*) OSPF and 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iff-Serv aware TE: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protocol Compon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Current LSP-signalling (*) extensions for TE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 LSP establishment signal TE tunnel parameters (label, explicit route, affinity , preemption,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posed LSP-signalling (*) extensions for DS aware TE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so signal the Class-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erform Class-Type aware CA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523160" y="5791320"/>
            <a:ext cx="2763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*) RSVP-TE and CRL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iff-Serv aware TE: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protocol Compon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4000"/>
          </a:bodyPr>
          <a:p>
            <a:pPr marL="271440" indent="-271440">
              <a:lnSpc>
                <a:spcPct val="95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Current Constraint Based Routing for TE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3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ute a path such that on every link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 there is sufficient “unreserved TE bandwidth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5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posed Constraint Based Routing for DS aware TE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3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ame CBR algorithm but satisfy bandwidth constraint over the “unreserved bandwidth for the relevant Class-Type” (instead of aggregate TE bandwid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S-TE Standardis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tandardization effort initiated 2 IETFs ag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e I-Ds submitted at Dec 2000 IETF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raft-ietf-mpls-diff-te-reqts-00.tx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raft-ietf-mpls-diff-te-ext-00.tx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raft-lefaucheur-diff-te-ospf-00.tx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raft-lefaucheur-diff-te-isis-00.tx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80880" y="3352680"/>
            <a:ext cx="82296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8000"/>
          </a:bodyPr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PLS Diff-Serv and MPLS TE to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ff-Serv-aware-TE (DS-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per Class Traffic Enginee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Guaranteed Bandwidth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VoMP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ggregate TE in Best Effort Networ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72200" y="1015920"/>
            <a:ext cx="5772240" cy="3373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d route &amp; set-up tunnel for 20 Mb/s from POP1 to POP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154960" y="1447920"/>
            <a:ext cx="5772240" cy="3373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d route &amp; set-up tunnel for 10 Mb/s from POP2 to POP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349360" y="1905120"/>
            <a:ext cx="4000680" cy="4356000"/>
          </a:xfrm>
          <a:custGeom>
            <a:avLst/>
            <a:gdLst/>
            <a:ahLst/>
            <a:rect l="l" t="t" r="r" b="b"/>
            <a:pathLst>
              <a:path w="2520" h="2744">
                <a:moveTo>
                  <a:pt x="248" y="224"/>
                </a:moveTo>
                <a:cubicBezTo>
                  <a:pt x="368" y="0"/>
                  <a:pt x="432" y="104"/>
                  <a:pt x="728" y="80"/>
                </a:cubicBezTo>
                <a:cubicBezTo>
                  <a:pt x="1024" y="56"/>
                  <a:pt x="1752" y="32"/>
                  <a:pt x="2024" y="80"/>
                </a:cubicBezTo>
                <a:cubicBezTo>
                  <a:pt x="2296" y="128"/>
                  <a:pt x="2280" y="112"/>
                  <a:pt x="2360" y="368"/>
                </a:cubicBezTo>
                <a:cubicBezTo>
                  <a:pt x="2440" y="624"/>
                  <a:pt x="2520" y="1256"/>
                  <a:pt x="2504" y="1616"/>
                </a:cubicBezTo>
                <a:cubicBezTo>
                  <a:pt x="2488" y="1976"/>
                  <a:pt x="2480" y="2344"/>
                  <a:pt x="2264" y="2528"/>
                </a:cubicBezTo>
                <a:cubicBezTo>
                  <a:pt x="2048" y="2712"/>
                  <a:pt x="1552" y="2720"/>
                  <a:pt x="1208" y="2720"/>
                </a:cubicBezTo>
                <a:cubicBezTo>
                  <a:pt x="864" y="2720"/>
                  <a:pt x="400" y="2744"/>
                  <a:pt x="200" y="2528"/>
                </a:cubicBezTo>
                <a:cubicBezTo>
                  <a:pt x="0" y="2312"/>
                  <a:pt x="0" y="1808"/>
                  <a:pt x="8" y="1424"/>
                </a:cubicBezTo>
                <a:cubicBezTo>
                  <a:pt x="16" y="1040"/>
                  <a:pt x="128" y="448"/>
                  <a:pt x="248" y="224"/>
                </a:cubicBezTo>
                <a:close/>
              </a:path>
            </a:pathLst>
          </a:custGeom>
          <a:solidFill>
            <a:srgbClr val="fef7e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3990600" y="3555720"/>
            <a:ext cx="885960" cy="1600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7080" y="3432240"/>
            <a:ext cx="762120" cy="4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429000" y="3631680"/>
            <a:ext cx="333360" cy="117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3886200" y="3708360"/>
            <a:ext cx="1219320" cy="132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105520" y="3708360"/>
            <a:ext cx="333360" cy="11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622840" y="2870280"/>
            <a:ext cx="625680" cy="86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352680" y="3022560"/>
            <a:ext cx="990720" cy="76212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5867280" y="1955880"/>
            <a:ext cx="2590920" cy="1371600"/>
            <a:chOff x="5867280" y="1955880"/>
            <a:chExt cx="2590920" cy="1371600"/>
          </a:xfrm>
        </p:grpSpPr>
        <p:sp>
          <p:nvSpPr>
            <p:cNvPr id="306" name=""/>
            <p:cNvSpPr/>
            <p:nvPr/>
          </p:nvSpPr>
          <p:spPr>
            <a:xfrm>
              <a:off x="5867280" y="1955880"/>
              <a:ext cx="259092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2"/>
            <a:stretch/>
          </p:blipFill>
          <p:spPr>
            <a:xfrm>
              <a:off x="7010280" y="2108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3"/>
            <a:stretch/>
          </p:blipFill>
          <p:spPr>
            <a:xfrm>
              <a:off x="7238880" y="226080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4"/>
            <a:stretch/>
          </p:blipFill>
          <p:spPr>
            <a:xfrm>
              <a:off x="7543800" y="241308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5"/>
            <a:stretch/>
          </p:blipFill>
          <p:spPr>
            <a:xfrm>
              <a:off x="6019560" y="241308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6"/>
            <a:stretch/>
          </p:blipFill>
          <p:spPr>
            <a:xfrm>
              <a:off x="7086600" y="2718000"/>
              <a:ext cx="2854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6858000" y="2870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7086240" y="2336760"/>
              <a:ext cx="7596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7315200" y="2565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391160" y="271764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10080" y="19670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019920" y="3556080"/>
            <a:ext cx="2590560" cy="1371600"/>
            <a:chOff x="6019920" y="3556080"/>
            <a:chExt cx="2590560" cy="1371600"/>
          </a:xfrm>
        </p:grpSpPr>
        <p:sp>
          <p:nvSpPr>
            <p:cNvPr id="318" name=""/>
            <p:cNvSpPr/>
            <p:nvPr/>
          </p:nvSpPr>
          <p:spPr>
            <a:xfrm>
              <a:off x="6019920" y="35560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7"/>
            <a:stretch/>
          </p:blipFill>
          <p:spPr>
            <a:xfrm>
              <a:off x="7162560" y="3708360"/>
              <a:ext cx="7585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8"/>
            <a:stretch/>
          </p:blipFill>
          <p:spPr>
            <a:xfrm>
              <a:off x="7391160" y="3861000"/>
              <a:ext cx="7585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9"/>
            <a:stretch/>
          </p:blipFill>
          <p:spPr>
            <a:xfrm>
              <a:off x="7696080" y="4013280"/>
              <a:ext cx="7599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10"/>
            <a:stretch/>
          </p:blipFill>
          <p:spPr>
            <a:xfrm>
              <a:off x="6171840" y="4013280"/>
              <a:ext cx="9140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11"/>
            <a:stretch/>
          </p:blipFill>
          <p:spPr>
            <a:xfrm>
              <a:off x="7238880" y="4318200"/>
              <a:ext cx="2851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7010280" y="4470480"/>
              <a:ext cx="228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>
              <a:off x="7238880" y="3936960"/>
              <a:ext cx="7560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467480" y="41652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7543440" y="4317840"/>
              <a:ext cx="3808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62360" y="356724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638680" y="5232240"/>
            <a:ext cx="2590920" cy="1371600"/>
            <a:chOff x="5638680" y="5232240"/>
            <a:chExt cx="2590920" cy="1371600"/>
          </a:xfrm>
        </p:grpSpPr>
        <p:sp>
          <p:nvSpPr>
            <p:cNvPr id="330" name=""/>
            <p:cNvSpPr/>
            <p:nvPr/>
          </p:nvSpPr>
          <p:spPr>
            <a:xfrm>
              <a:off x="5638680" y="5232240"/>
              <a:ext cx="259092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12"/>
            <a:stretch/>
          </p:blipFill>
          <p:spPr>
            <a:xfrm>
              <a:off x="6781680" y="538452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13"/>
            <a:stretch/>
          </p:blipFill>
          <p:spPr>
            <a:xfrm>
              <a:off x="7010280" y="5537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14"/>
            <a:stretch/>
          </p:blipFill>
          <p:spPr>
            <a:xfrm>
              <a:off x="7315200" y="56894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15"/>
            <a:stretch/>
          </p:blipFill>
          <p:spPr>
            <a:xfrm>
              <a:off x="5790960" y="568944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6"/>
            <a:stretch/>
          </p:blipFill>
          <p:spPr>
            <a:xfrm>
              <a:off x="6858000" y="5994360"/>
              <a:ext cx="2854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6629400" y="614664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6857640" y="5613120"/>
              <a:ext cx="7596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7086600" y="58413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7162560" y="599400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81840" y="524340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33520" y="5384880"/>
            <a:ext cx="2590560" cy="1371600"/>
            <a:chOff x="533520" y="5384880"/>
            <a:chExt cx="2590560" cy="1371600"/>
          </a:xfrm>
        </p:grpSpPr>
        <p:sp>
          <p:nvSpPr>
            <p:cNvPr id="342" name=""/>
            <p:cNvSpPr/>
            <p:nvPr/>
          </p:nvSpPr>
          <p:spPr>
            <a:xfrm>
              <a:off x="533520" y="53848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7"/>
            <a:stretch/>
          </p:blipFill>
          <p:spPr>
            <a:xfrm>
              <a:off x="609480" y="584208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8"/>
            <a:stretch/>
          </p:blipFill>
          <p:spPr>
            <a:xfrm>
              <a:off x="838080" y="59943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9"/>
            <a:stretch/>
          </p:blipFill>
          <p:spPr>
            <a:xfrm>
              <a:off x="1143000" y="61466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20"/>
            <a:stretch/>
          </p:blipFill>
          <p:spPr>
            <a:xfrm>
              <a:off x="1981080" y="553716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21"/>
            <a:stretch/>
          </p:blipFill>
          <p:spPr>
            <a:xfrm>
              <a:off x="1523880" y="568944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1982880" y="622296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95280" y="58420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447920" y="599436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flipV="1">
              <a:off x="1676160" y="59940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52480" y="58420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304920" y="3784680"/>
            <a:ext cx="2590560" cy="1371600"/>
            <a:chOff x="304920" y="3784680"/>
            <a:chExt cx="2590560" cy="1371600"/>
          </a:xfrm>
        </p:grpSpPr>
        <p:sp>
          <p:nvSpPr>
            <p:cNvPr id="354" name=""/>
            <p:cNvSpPr/>
            <p:nvPr/>
          </p:nvSpPr>
          <p:spPr>
            <a:xfrm>
              <a:off x="304920" y="37846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22"/>
            <a:stretch/>
          </p:blipFill>
          <p:spPr>
            <a:xfrm>
              <a:off x="380880" y="424188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23"/>
            <a:stretch/>
          </p:blipFill>
          <p:spPr>
            <a:xfrm>
              <a:off x="609480" y="4394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" descr=""/>
            <p:cNvPicPr/>
            <p:nvPr/>
          </p:nvPicPr>
          <p:blipFill>
            <a:blip r:embed="rId24"/>
            <a:stretch/>
          </p:blipFill>
          <p:spPr>
            <a:xfrm>
              <a:off x="914400" y="45464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" descr=""/>
            <p:cNvPicPr/>
            <p:nvPr/>
          </p:nvPicPr>
          <p:blipFill>
            <a:blip r:embed="rId25"/>
            <a:stretch/>
          </p:blipFill>
          <p:spPr>
            <a:xfrm>
              <a:off x="1752480" y="393696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" descr=""/>
            <p:cNvPicPr/>
            <p:nvPr/>
          </p:nvPicPr>
          <p:blipFill>
            <a:blip r:embed="rId26"/>
            <a:stretch/>
          </p:blipFill>
          <p:spPr>
            <a:xfrm>
              <a:off x="1295280" y="408924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753920" y="462276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66680" y="4241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1219320" y="439416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1447560" y="43938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523880" y="4241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33520" y="2108160"/>
            <a:ext cx="2590560" cy="1371600"/>
            <a:chOff x="533520" y="2108160"/>
            <a:chExt cx="2590560" cy="1371600"/>
          </a:xfrm>
        </p:grpSpPr>
        <p:sp>
          <p:nvSpPr>
            <p:cNvPr id="366" name=""/>
            <p:cNvSpPr/>
            <p:nvPr/>
          </p:nvSpPr>
          <p:spPr>
            <a:xfrm>
              <a:off x="533520" y="210816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7" name="" descr=""/>
            <p:cNvPicPr/>
            <p:nvPr/>
          </p:nvPicPr>
          <p:blipFill>
            <a:blip r:embed="rId27"/>
            <a:stretch/>
          </p:blipFill>
          <p:spPr>
            <a:xfrm>
              <a:off x="609480" y="25653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28"/>
            <a:stretch/>
          </p:blipFill>
          <p:spPr>
            <a:xfrm>
              <a:off x="838080" y="271764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29"/>
            <a:stretch/>
          </p:blipFill>
          <p:spPr>
            <a:xfrm>
              <a:off x="1143000" y="286992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" descr=""/>
            <p:cNvPicPr/>
            <p:nvPr/>
          </p:nvPicPr>
          <p:blipFill>
            <a:blip r:embed="rId30"/>
            <a:stretch/>
          </p:blipFill>
          <p:spPr>
            <a:xfrm>
              <a:off x="1981080" y="226044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" descr=""/>
            <p:cNvPicPr/>
            <p:nvPr/>
          </p:nvPicPr>
          <p:blipFill>
            <a:blip r:embed="rId31"/>
            <a:stretch/>
          </p:blipFill>
          <p:spPr>
            <a:xfrm>
              <a:off x="1523880" y="241272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982520" y="29462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95280" y="256536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447920" y="271764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1676160" y="271728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52480" y="256536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7" name="" descr=""/>
          <p:cNvPicPr/>
          <p:nvPr/>
        </p:nvPicPr>
        <p:blipFill>
          <a:blip r:embed="rId32"/>
          <a:stretch/>
        </p:blipFill>
        <p:spPr>
          <a:xfrm>
            <a:off x="4876920" y="317484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3"/>
          <a:stretch/>
        </p:blipFill>
        <p:spPr>
          <a:xfrm>
            <a:off x="3886200" y="386064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4"/>
          <a:stretch/>
        </p:blipFill>
        <p:spPr>
          <a:xfrm>
            <a:off x="3048120" y="477504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5"/>
          <a:stretch/>
        </p:blipFill>
        <p:spPr>
          <a:xfrm>
            <a:off x="4724280" y="4775040"/>
            <a:ext cx="990720" cy="7621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5641920" y="3732120"/>
            <a:ext cx="60660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038480" y="5156280"/>
            <a:ext cx="76212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62520" y="5384880"/>
            <a:ext cx="18288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86400" y="5460840"/>
            <a:ext cx="4572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590920" y="3555720"/>
            <a:ext cx="83808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666880" y="2717640"/>
            <a:ext cx="7621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2819520" y="538452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657600" y="210816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N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295280" y="1447920"/>
            <a:ext cx="838440" cy="76176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514240" y="1752480"/>
            <a:ext cx="762120" cy="205740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19520" y="2666880"/>
            <a:ext cx="228600" cy="1526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48120" y="2819520"/>
            <a:ext cx="228600" cy="152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2971800"/>
            <a:ext cx="380880" cy="304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657600" y="3276720"/>
            <a:ext cx="304920" cy="5331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62520" y="3809880"/>
            <a:ext cx="304560" cy="304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267080" y="4114800"/>
            <a:ext cx="4572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24280" y="3581280"/>
            <a:ext cx="609840" cy="5335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334120" y="3124080"/>
            <a:ext cx="533160" cy="457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867280" y="2666880"/>
            <a:ext cx="533520" cy="457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590920" y="3505320"/>
            <a:ext cx="609480" cy="457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200400" y="3276360"/>
            <a:ext cx="83808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038480" y="3276720"/>
            <a:ext cx="10670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5105520" y="2895120"/>
            <a:ext cx="685800" cy="3812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791320" y="2514600"/>
            <a:ext cx="457200" cy="380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ggregate TE in Diff-Serv NW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75080" y="1015920"/>
            <a:ext cx="6930360" cy="3373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d route &amp; set-up tunnel for 20 Mb/s (aggregate) from POP1 to POP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57840" y="1447920"/>
            <a:ext cx="6930360" cy="3373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d route &amp; set-up tunnel for 10 Mb/s (aggregate) from POP2 to POP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49360" y="1905120"/>
            <a:ext cx="4000680" cy="4356000"/>
          </a:xfrm>
          <a:custGeom>
            <a:avLst/>
            <a:gdLst/>
            <a:ahLst/>
            <a:rect l="l" t="t" r="r" b="b"/>
            <a:pathLst>
              <a:path w="2520" h="2744">
                <a:moveTo>
                  <a:pt x="248" y="224"/>
                </a:moveTo>
                <a:cubicBezTo>
                  <a:pt x="368" y="0"/>
                  <a:pt x="432" y="104"/>
                  <a:pt x="728" y="80"/>
                </a:cubicBezTo>
                <a:cubicBezTo>
                  <a:pt x="1024" y="56"/>
                  <a:pt x="1752" y="32"/>
                  <a:pt x="2024" y="80"/>
                </a:cubicBezTo>
                <a:cubicBezTo>
                  <a:pt x="2296" y="128"/>
                  <a:pt x="2280" y="112"/>
                  <a:pt x="2360" y="368"/>
                </a:cubicBezTo>
                <a:cubicBezTo>
                  <a:pt x="2440" y="624"/>
                  <a:pt x="2520" y="1256"/>
                  <a:pt x="2504" y="1616"/>
                </a:cubicBezTo>
                <a:cubicBezTo>
                  <a:pt x="2488" y="1976"/>
                  <a:pt x="2480" y="2344"/>
                  <a:pt x="2264" y="2528"/>
                </a:cubicBezTo>
                <a:cubicBezTo>
                  <a:pt x="2048" y="2712"/>
                  <a:pt x="1552" y="2720"/>
                  <a:pt x="1208" y="2720"/>
                </a:cubicBezTo>
                <a:cubicBezTo>
                  <a:pt x="864" y="2720"/>
                  <a:pt x="400" y="2744"/>
                  <a:pt x="200" y="2528"/>
                </a:cubicBezTo>
                <a:cubicBezTo>
                  <a:pt x="0" y="2312"/>
                  <a:pt x="0" y="1808"/>
                  <a:pt x="8" y="1424"/>
                </a:cubicBezTo>
                <a:cubicBezTo>
                  <a:pt x="16" y="1040"/>
                  <a:pt x="128" y="448"/>
                  <a:pt x="248" y="224"/>
                </a:cubicBezTo>
                <a:close/>
              </a:path>
            </a:pathLst>
          </a:custGeom>
          <a:solidFill>
            <a:srgbClr val="fef7e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3990600" y="3555720"/>
            <a:ext cx="88596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267080" y="3432240"/>
            <a:ext cx="762120" cy="4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429000" y="3631680"/>
            <a:ext cx="333360" cy="117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3886200" y="3708360"/>
            <a:ext cx="1219320" cy="132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5105520" y="3708360"/>
            <a:ext cx="333360" cy="11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622840" y="2870280"/>
            <a:ext cx="625680" cy="86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352680" y="3022560"/>
            <a:ext cx="990720" cy="762120"/>
          </a:xfrm>
          <a:prstGeom prst="rect">
            <a:avLst/>
          </a:prstGeom>
          <a:ln w="0">
            <a:noFill/>
          </a:ln>
        </p:spPr>
      </p:pic>
      <p:grpSp>
        <p:nvGrpSpPr>
          <p:cNvPr id="416" name=""/>
          <p:cNvGrpSpPr/>
          <p:nvPr/>
        </p:nvGrpSpPr>
        <p:grpSpPr>
          <a:xfrm>
            <a:off x="5867280" y="1955880"/>
            <a:ext cx="2590920" cy="1371600"/>
            <a:chOff x="5867280" y="1955880"/>
            <a:chExt cx="2590920" cy="1371600"/>
          </a:xfrm>
        </p:grpSpPr>
        <p:sp>
          <p:nvSpPr>
            <p:cNvPr id="417" name=""/>
            <p:cNvSpPr/>
            <p:nvPr/>
          </p:nvSpPr>
          <p:spPr>
            <a:xfrm>
              <a:off x="5867280" y="1955880"/>
              <a:ext cx="259092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2"/>
            <a:stretch/>
          </p:blipFill>
          <p:spPr>
            <a:xfrm>
              <a:off x="7010280" y="2108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3"/>
            <a:stretch/>
          </p:blipFill>
          <p:spPr>
            <a:xfrm>
              <a:off x="7238880" y="226080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4"/>
            <a:stretch/>
          </p:blipFill>
          <p:spPr>
            <a:xfrm>
              <a:off x="7543800" y="241308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5"/>
            <a:stretch/>
          </p:blipFill>
          <p:spPr>
            <a:xfrm>
              <a:off x="6019560" y="241308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6"/>
            <a:stretch/>
          </p:blipFill>
          <p:spPr>
            <a:xfrm>
              <a:off x="7086600" y="2718000"/>
              <a:ext cx="2854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858000" y="2870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7086240" y="2336760"/>
              <a:ext cx="7596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7315200" y="2565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7391160" y="271764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10080" y="19670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019920" y="3556080"/>
            <a:ext cx="2590560" cy="1371600"/>
            <a:chOff x="6019920" y="3556080"/>
            <a:chExt cx="2590560" cy="1371600"/>
          </a:xfrm>
        </p:grpSpPr>
        <p:sp>
          <p:nvSpPr>
            <p:cNvPr id="429" name=""/>
            <p:cNvSpPr/>
            <p:nvPr/>
          </p:nvSpPr>
          <p:spPr>
            <a:xfrm>
              <a:off x="6019920" y="35560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0" name="" descr=""/>
            <p:cNvPicPr/>
            <p:nvPr/>
          </p:nvPicPr>
          <p:blipFill>
            <a:blip r:embed="rId7"/>
            <a:stretch/>
          </p:blipFill>
          <p:spPr>
            <a:xfrm>
              <a:off x="7162560" y="3708360"/>
              <a:ext cx="7585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8"/>
            <a:stretch/>
          </p:blipFill>
          <p:spPr>
            <a:xfrm>
              <a:off x="7391160" y="3861000"/>
              <a:ext cx="7585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9"/>
            <a:stretch/>
          </p:blipFill>
          <p:spPr>
            <a:xfrm>
              <a:off x="7696080" y="4013280"/>
              <a:ext cx="7599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10"/>
            <a:stretch/>
          </p:blipFill>
          <p:spPr>
            <a:xfrm>
              <a:off x="6171840" y="4013280"/>
              <a:ext cx="9140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11"/>
            <a:stretch/>
          </p:blipFill>
          <p:spPr>
            <a:xfrm>
              <a:off x="7238880" y="4318200"/>
              <a:ext cx="2851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7010280" y="4470480"/>
              <a:ext cx="228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7238880" y="3936960"/>
              <a:ext cx="7560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467480" y="41652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7543440" y="4317840"/>
              <a:ext cx="3808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62360" y="356724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638680" y="5232240"/>
            <a:ext cx="2590920" cy="1371600"/>
            <a:chOff x="5638680" y="5232240"/>
            <a:chExt cx="2590920" cy="1371600"/>
          </a:xfrm>
        </p:grpSpPr>
        <p:sp>
          <p:nvSpPr>
            <p:cNvPr id="441" name=""/>
            <p:cNvSpPr/>
            <p:nvPr/>
          </p:nvSpPr>
          <p:spPr>
            <a:xfrm>
              <a:off x="5638680" y="5232240"/>
              <a:ext cx="259092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2" name="" descr=""/>
            <p:cNvPicPr/>
            <p:nvPr/>
          </p:nvPicPr>
          <p:blipFill>
            <a:blip r:embed="rId12"/>
            <a:stretch/>
          </p:blipFill>
          <p:spPr>
            <a:xfrm>
              <a:off x="6781680" y="538452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13"/>
            <a:stretch/>
          </p:blipFill>
          <p:spPr>
            <a:xfrm>
              <a:off x="7010280" y="5537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" descr=""/>
            <p:cNvPicPr/>
            <p:nvPr/>
          </p:nvPicPr>
          <p:blipFill>
            <a:blip r:embed="rId14"/>
            <a:stretch/>
          </p:blipFill>
          <p:spPr>
            <a:xfrm>
              <a:off x="7315200" y="56894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15"/>
            <a:stretch/>
          </p:blipFill>
          <p:spPr>
            <a:xfrm>
              <a:off x="5790960" y="568944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" descr=""/>
            <p:cNvPicPr/>
            <p:nvPr/>
          </p:nvPicPr>
          <p:blipFill>
            <a:blip r:embed="rId16"/>
            <a:stretch/>
          </p:blipFill>
          <p:spPr>
            <a:xfrm>
              <a:off x="6858000" y="5994360"/>
              <a:ext cx="2854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6629400" y="614664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6857640" y="5613120"/>
              <a:ext cx="7596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086600" y="58413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162560" y="599400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081840" y="524340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33520" y="5384880"/>
            <a:ext cx="2590560" cy="1371600"/>
            <a:chOff x="533520" y="5384880"/>
            <a:chExt cx="2590560" cy="1371600"/>
          </a:xfrm>
        </p:grpSpPr>
        <p:sp>
          <p:nvSpPr>
            <p:cNvPr id="453" name=""/>
            <p:cNvSpPr/>
            <p:nvPr/>
          </p:nvSpPr>
          <p:spPr>
            <a:xfrm>
              <a:off x="533520" y="53848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54" name="" descr=""/>
            <p:cNvPicPr/>
            <p:nvPr/>
          </p:nvPicPr>
          <p:blipFill>
            <a:blip r:embed="rId17"/>
            <a:stretch/>
          </p:blipFill>
          <p:spPr>
            <a:xfrm>
              <a:off x="609480" y="584208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18"/>
            <a:stretch/>
          </p:blipFill>
          <p:spPr>
            <a:xfrm>
              <a:off x="838080" y="59943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19"/>
            <a:stretch/>
          </p:blipFill>
          <p:spPr>
            <a:xfrm>
              <a:off x="1143000" y="61466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20"/>
            <a:stretch/>
          </p:blipFill>
          <p:spPr>
            <a:xfrm>
              <a:off x="1981080" y="553716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21"/>
            <a:stretch/>
          </p:blipFill>
          <p:spPr>
            <a:xfrm>
              <a:off x="1523880" y="568944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1982880" y="622296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95280" y="58420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447920" y="599436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 flipV="1">
              <a:off x="1676160" y="59940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52480" y="58420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04920" y="3784680"/>
            <a:ext cx="2590560" cy="1371600"/>
            <a:chOff x="304920" y="3784680"/>
            <a:chExt cx="2590560" cy="1371600"/>
          </a:xfrm>
        </p:grpSpPr>
        <p:sp>
          <p:nvSpPr>
            <p:cNvPr id="465" name=""/>
            <p:cNvSpPr/>
            <p:nvPr/>
          </p:nvSpPr>
          <p:spPr>
            <a:xfrm>
              <a:off x="304920" y="37846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66" name="" descr=""/>
            <p:cNvPicPr/>
            <p:nvPr/>
          </p:nvPicPr>
          <p:blipFill>
            <a:blip r:embed="rId22"/>
            <a:stretch/>
          </p:blipFill>
          <p:spPr>
            <a:xfrm>
              <a:off x="380880" y="424188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" descr=""/>
            <p:cNvPicPr/>
            <p:nvPr/>
          </p:nvPicPr>
          <p:blipFill>
            <a:blip r:embed="rId23"/>
            <a:stretch/>
          </p:blipFill>
          <p:spPr>
            <a:xfrm>
              <a:off x="609480" y="4394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24"/>
            <a:stretch/>
          </p:blipFill>
          <p:spPr>
            <a:xfrm>
              <a:off x="914400" y="45464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25"/>
            <a:stretch/>
          </p:blipFill>
          <p:spPr>
            <a:xfrm>
              <a:off x="1752480" y="393696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" descr=""/>
            <p:cNvPicPr/>
            <p:nvPr/>
          </p:nvPicPr>
          <p:blipFill>
            <a:blip r:embed="rId26"/>
            <a:stretch/>
          </p:blipFill>
          <p:spPr>
            <a:xfrm>
              <a:off x="1295280" y="408924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1753920" y="462276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066680" y="4241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1219320" y="439416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>
              <a:off x="1447560" y="43938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23880" y="4241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533520" y="2108160"/>
            <a:ext cx="2590560" cy="1371600"/>
            <a:chOff x="533520" y="2108160"/>
            <a:chExt cx="2590560" cy="1371600"/>
          </a:xfrm>
        </p:grpSpPr>
        <p:sp>
          <p:nvSpPr>
            <p:cNvPr id="477" name=""/>
            <p:cNvSpPr/>
            <p:nvPr/>
          </p:nvSpPr>
          <p:spPr>
            <a:xfrm>
              <a:off x="533520" y="210816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78" name="" descr=""/>
            <p:cNvPicPr/>
            <p:nvPr/>
          </p:nvPicPr>
          <p:blipFill>
            <a:blip r:embed="rId27"/>
            <a:stretch/>
          </p:blipFill>
          <p:spPr>
            <a:xfrm>
              <a:off x="609480" y="25653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28"/>
            <a:stretch/>
          </p:blipFill>
          <p:spPr>
            <a:xfrm>
              <a:off x="838080" y="271764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" descr=""/>
            <p:cNvPicPr/>
            <p:nvPr/>
          </p:nvPicPr>
          <p:blipFill>
            <a:blip r:embed="rId29"/>
            <a:stretch/>
          </p:blipFill>
          <p:spPr>
            <a:xfrm>
              <a:off x="1143000" y="286992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30"/>
            <a:stretch/>
          </p:blipFill>
          <p:spPr>
            <a:xfrm>
              <a:off x="1981080" y="226044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31"/>
            <a:stretch/>
          </p:blipFill>
          <p:spPr>
            <a:xfrm>
              <a:off x="1523880" y="241272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1982520" y="29462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295280" y="256536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1447920" y="271764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1676160" y="271728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752480" y="256536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8" name="" descr=""/>
          <p:cNvPicPr/>
          <p:nvPr/>
        </p:nvPicPr>
        <p:blipFill>
          <a:blip r:embed="rId32"/>
          <a:stretch/>
        </p:blipFill>
        <p:spPr>
          <a:xfrm>
            <a:off x="4876920" y="317484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3"/>
          <a:stretch/>
        </p:blipFill>
        <p:spPr>
          <a:xfrm>
            <a:off x="3886200" y="386064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4"/>
          <a:stretch/>
        </p:blipFill>
        <p:spPr>
          <a:xfrm>
            <a:off x="3048120" y="477504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35"/>
          <a:stretch/>
        </p:blipFill>
        <p:spPr>
          <a:xfrm>
            <a:off x="4724280" y="4775040"/>
            <a:ext cx="990720" cy="7621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5641920" y="3732120"/>
            <a:ext cx="60660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038480" y="5156280"/>
            <a:ext cx="76212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62520" y="5384880"/>
            <a:ext cx="18288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486400" y="5460840"/>
            <a:ext cx="4572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590920" y="3555720"/>
            <a:ext cx="83808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666880" y="2717640"/>
            <a:ext cx="7621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819520" y="538452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210816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N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1447920"/>
            <a:ext cx="838440" cy="76176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514240" y="1752480"/>
            <a:ext cx="762120" cy="2057400"/>
          </a:xfrm>
          <a:prstGeom prst="line">
            <a:avLst/>
          </a:prstGeom>
          <a:ln w="76320">
            <a:solidFill>
              <a:srgbClr val="80808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2666880"/>
            <a:ext cx="228600" cy="15264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048120" y="2819520"/>
            <a:ext cx="228600" cy="152280"/>
          </a:xfrm>
          <a:prstGeom prst="line">
            <a:avLst/>
          </a:prstGeom>
          <a:ln w="76320">
            <a:solidFill>
              <a:srgbClr val="6d07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276720" y="2971800"/>
            <a:ext cx="380880" cy="30492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657600" y="3276720"/>
            <a:ext cx="304920" cy="53316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62520" y="3809880"/>
            <a:ext cx="304560" cy="304920"/>
          </a:xfrm>
          <a:prstGeom prst="line">
            <a:avLst/>
          </a:prstGeom>
          <a:ln w="76320">
            <a:solidFill>
              <a:srgbClr val="6d07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114800"/>
            <a:ext cx="4572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724280" y="3581280"/>
            <a:ext cx="609840" cy="53352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5334120" y="3124080"/>
            <a:ext cx="533160" cy="457200"/>
          </a:xfrm>
          <a:prstGeom prst="line">
            <a:avLst/>
          </a:prstGeom>
          <a:ln w="76320">
            <a:solidFill>
              <a:srgbClr val="6d07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867280" y="2666880"/>
            <a:ext cx="533520" cy="4572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590920" y="3505320"/>
            <a:ext cx="609480" cy="4572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3200400" y="3276360"/>
            <a:ext cx="838080" cy="228600"/>
          </a:xfrm>
          <a:prstGeom prst="line">
            <a:avLst/>
          </a:prstGeom>
          <a:ln w="76320">
            <a:solidFill>
              <a:srgbClr val="6d07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038480" y="3276720"/>
            <a:ext cx="106704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5105520" y="2895120"/>
            <a:ext cx="685800" cy="3812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5791320" y="2514600"/>
            <a:ext cx="457200" cy="380880"/>
          </a:xfrm>
          <a:prstGeom prst="line">
            <a:avLst/>
          </a:prstGeom>
          <a:ln w="76320">
            <a:solidFill>
              <a:srgbClr val="6d07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per COS Traffic Engineer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71840" y="992160"/>
            <a:ext cx="6288840" cy="3682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d route &amp; set-up tunnel for 5 Mb/s 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of EF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from POP1 to POP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459160" y="1424160"/>
            <a:ext cx="6288840" cy="36828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d route &amp; set-up tunnel for 3 Mb/s 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of EF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from POP2 to POP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349360" y="1905120"/>
            <a:ext cx="4000680" cy="4356000"/>
          </a:xfrm>
          <a:custGeom>
            <a:avLst/>
            <a:gdLst/>
            <a:ahLst/>
            <a:rect l="l" t="t" r="r" b="b"/>
            <a:pathLst>
              <a:path w="2520" h="2744">
                <a:moveTo>
                  <a:pt x="248" y="224"/>
                </a:moveTo>
                <a:cubicBezTo>
                  <a:pt x="368" y="0"/>
                  <a:pt x="432" y="104"/>
                  <a:pt x="728" y="80"/>
                </a:cubicBezTo>
                <a:cubicBezTo>
                  <a:pt x="1024" y="56"/>
                  <a:pt x="1752" y="32"/>
                  <a:pt x="2024" y="80"/>
                </a:cubicBezTo>
                <a:cubicBezTo>
                  <a:pt x="2296" y="128"/>
                  <a:pt x="2280" y="112"/>
                  <a:pt x="2360" y="368"/>
                </a:cubicBezTo>
                <a:cubicBezTo>
                  <a:pt x="2440" y="624"/>
                  <a:pt x="2520" y="1256"/>
                  <a:pt x="2504" y="1616"/>
                </a:cubicBezTo>
                <a:cubicBezTo>
                  <a:pt x="2488" y="1976"/>
                  <a:pt x="2480" y="2344"/>
                  <a:pt x="2264" y="2528"/>
                </a:cubicBezTo>
                <a:cubicBezTo>
                  <a:pt x="2048" y="2712"/>
                  <a:pt x="1552" y="2720"/>
                  <a:pt x="1208" y="2720"/>
                </a:cubicBezTo>
                <a:cubicBezTo>
                  <a:pt x="864" y="2720"/>
                  <a:pt x="400" y="2744"/>
                  <a:pt x="200" y="2528"/>
                </a:cubicBezTo>
                <a:cubicBezTo>
                  <a:pt x="0" y="2312"/>
                  <a:pt x="0" y="1808"/>
                  <a:pt x="8" y="1424"/>
                </a:cubicBezTo>
                <a:cubicBezTo>
                  <a:pt x="16" y="1040"/>
                  <a:pt x="128" y="448"/>
                  <a:pt x="248" y="224"/>
                </a:cubicBezTo>
                <a:close/>
              </a:path>
            </a:pathLst>
          </a:custGeom>
          <a:solidFill>
            <a:srgbClr val="fef7e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990600" y="3555720"/>
            <a:ext cx="88596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267080" y="3432240"/>
            <a:ext cx="762120" cy="47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3429000" y="3631680"/>
            <a:ext cx="333360" cy="117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886200" y="3708360"/>
            <a:ext cx="1219320" cy="132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105520" y="3708360"/>
            <a:ext cx="333360" cy="11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5622840" y="2870280"/>
            <a:ext cx="625680" cy="86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3352680" y="3022560"/>
            <a:ext cx="990720" cy="762120"/>
          </a:xfrm>
          <a:prstGeom prst="rect">
            <a:avLst/>
          </a:prstGeom>
          <a:ln w="0">
            <a:noFill/>
          </a:ln>
        </p:spPr>
      </p:pic>
      <p:grpSp>
        <p:nvGrpSpPr>
          <p:cNvPr id="527" name=""/>
          <p:cNvGrpSpPr/>
          <p:nvPr/>
        </p:nvGrpSpPr>
        <p:grpSpPr>
          <a:xfrm>
            <a:off x="5867280" y="1955880"/>
            <a:ext cx="2590920" cy="1371600"/>
            <a:chOff x="5867280" y="1955880"/>
            <a:chExt cx="2590920" cy="1371600"/>
          </a:xfrm>
        </p:grpSpPr>
        <p:sp>
          <p:nvSpPr>
            <p:cNvPr id="528" name=""/>
            <p:cNvSpPr/>
            <p:nvPr/>
          </p:nvSpPr>
          <p:spPr>
            <a:xfrm>
              <a:off x="5867280" y="1955880"/>
              <a:ext cx="259092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9" name="" descr=""/>
            <p:cNvPicPr/>
            <p:nvPr/>
          </p:nvPicPr>
          <p:blipFill>
            <a:blip r:embed="rId2"/>
            <a:stretch/>
          </p:blipFill>
          <p:spPr>
            <a:xfrm>
              <a:off x="7010280" y="2108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" descr=""/>
            <p:cNvPicPr/>
            <p:nvPr/>
          </p:nvPicPr>
          <p:blipFill>
            <a:blip r:embed="rId3"/>
            <a:stretch/>
          </p:blipFill>
          <p:spPr>
            <a:xfrm>
              <a:off x="7238880" y="226080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" descr=""/>
            <p:cNvPicPr/>
            <p:nvPr/>
          </p:nvPicPr>
          <p:blipFill>
            <a:blip r:embed="rId4"/>
            <a:stretch/>
          </p:blipFill>
          <p:spPr>
            <a:xfrm>
              <a:off x="7543800" y="241308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" descr=""/>
            <p:cNvPicPr/>
            <p:nvPr/>
          </p:nvPicPr>
          <p:blipFill>
            <a:blip r:embed="rId5"/>
            <a:stretch/>
          </p:blipFill>
          <p:spPr>
            <a:xfrm>
              <a:off x="6019560" y="241308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6"/>
            <a:stretch/>
          </p:blipFill>
          <p:spPr>
            <a:xfrm>
              <a:off x="7086600" y="2718000"/>
              <a:ext cx="2854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6858000" y="2870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7086240" y="2336760"/>
              <a:ext cx="7596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315200" y="2565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7391160" y="271764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310080" y="19670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6019920" y="3556080"/>
            <a:ext cx="2590560" cy="1371600"/>
            <a:chOff x="6019920" y="3556080"/>
            <a:chExt cx="2590560" cy="1371600"/>
          </a:xfrm>
        </p:grpSpPr>
        <p:sp>
          <p:nvSpPr>
            <p:cNvPr id="540" name=""/>
            <p:cNvSpPr/>
            <p:nvPr/>
          </p:nvSpPr>
          <p:spPr>
            <a:xfrm>
              <a:off x="6019920" y="35560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41" name="" descr=""/>
            <p:cNvPicPr/>
            <p:nvPr/>
          </p:nvPicPr>
          <p:blipFill>
            <a:blip r:embed="rId7"/>
            <a:stretch/>
          </p:blipFill>
          <p:spPr>
            <a:xfrm>
              <a:off x="7162560" y="3708360"/>
              <a:ext cx="7585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" descr=""/>
            <p:cNvPicPr/>
            <p:nvPr/>
          </p:nvPicPr>
          <p:blipFill>
            <a:blip r:embed="rId8"/>
            <a:stretch/>
          </p:blipFill>
          <p:spPr>
            <a:xfrm>
              <a:off x="7391160" y="3861000"/>
              <a:ext cx="7585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" descr=""/>
            <p:cNvPicPr/>
            <p:nvPr/>
          </p:nvPicPr>
          <p:blipFill>
            <a:blip r:embed="rId9"/>
            <a:stretch/>
          </p:blipFill>
          <p:spPr>
            <a:xfrm>
              <a:off x="7696080" y="4013280"/>
              <a:ext cx="7599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" descr=""/>
            <p:cNvPicPr/>
            <p:nvPr/>
          </p:nvPicPr>
          <p:blipFill>
            <a:blip r:embed="rId10"/>
            <a:stretch/>
          </p:blipFill>
          <p:spPr>
            <a:xfrm>
              <a:off x="6171840" y="4013280"/>
              <a:ext cx="9140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11"/>
            <a:stretch/>
          </p:blipFill>
          <p:spPr>
            <a:xfrm>
              <a:off x="7238880" y="4318200"/>
              <a:ext cx="2851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7010280" y="4470480"/>
              <a:ext cx="228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flipV="1">
              <a:off x="7238880" y="3936960"/>
              <a:ext cx="7560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467480" y="41652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7543440" y="4317840"/>
              <a:ext cx="3808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462360" y="356724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638680" y="5232240"/>
            <a:ext cx="2590920" cy="1371600"/>
            <a:chOff x="5638680" y="5232240"/>
            <a:chExt cx="2590920" cy="1371600"/>
          </a:xfrm>
        </p:grpSpPr>
        <p:sp>
          <p:nvSpPr>
            <p:cNvPr id="552" name=""/>
            <p:cNvSpPr/>
            <p:nvPr/>
          </p:nvSpPr>
          <p:spPr>
            <a:xfrm>
              <a:off x="5638680" y="5232240"/>
              <a:ext cx="259092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3" name="" descr=""/>
            <p:cNvPicPr/>
            <p:nvPr/>
          </p:nvPicPr>
          <p:blipFill>
            <a:blip r:embed="rId12"/>
            <a:stretch/>
          </p:blipFill>
          <p:spPr>
            <a:xfrm>
              <a:off x="6781680" y="538452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" descr=""/>
            <p:cNvPicPr/>
            <p:nvPr/>
          </p:nvPicPr>
          <p:blipFill>
            <a:blip r:embed="rId13"/>
            <a:stretch/>
          </p:blipFill>
          <p:spPr>
            <a:xfrm>
              <a:off x="7010280" y="5537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" descr=""/>
            <p:cNvPicPr/>
            <p:nvPr/>
          </p:nvPicPr>
          <p:blipFill>
            <a:blip r:embed="rId14"/>
            <a:stretch/>
          </p:blipFill>
          <p:spPr>
            <a:xfrm>
              <a:off x="7315200" y="56894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" descr=""/>
            <p:cNvPicPr/>
            <p:nvPr/>
          </p:nvPicPr>
          <p:blipFill>
            <a:blip r:embed="rId15"/>
            <a:stretch/>
          </p:blipFill>
          <p:spPr>
            <a:xfrm>
              <a:off x="5790960" y="568944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" descr=""/>
            <p:cNvPicPr/>
            <p:nvPr/>
          </p:nvPicPr>
          <p:blipFill>
            <a:blip r:embed="rId16"/>
            <a:stretch/>
          </p:blipFill>
          <p:spPr>
            <a:xfrm>
              <a:off x="6858000" y="5994360"/>
              <a:ext cx="2854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6629400" y="614664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flipV="1">
              <a:off x="6857640" y="5613120"/>
              <a:ext cx="7596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086600" y="58413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7162560" y="599400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81840" y="524340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533520" y="5384880"/>
            <a:ext cx="2590560" cy="1371600"/>
            <a:chOff x="533520" y="5384880"/>
            <a:chExt cx="2590560" cy="1371600"/>
          </a:xfrm>
        </p:grpSpPr>
        <p:sp>
          <p:nvSpPr>
            <p:cNvPr id="564" name=""/>
            <p:cNvSpPr/>
            <p:nvPr/>
          </p:nvSpPr>
          <p:spPr>
            <a:xfrm>
              <a:off x="533520" y="53848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5" name="" descr=""/>
            <p:cNvPicPr/>
            <p:nvPr/>
          </p:nvPicPr>
          <p:blipFill>
            <a:blip r:embed="rId17"/>
            <a:stretch/>
          </p:blipFill>
          <p:spPr>
            <a:xfrm>
              <a:off x="609480" y="584208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" descr=""/>
            <p:cNvPicPr/>
            <p:nvPr/>
          </p:nvPicPr>
          <p:blipFill>
            <a:blip r:embed="rId18"/>
            <a:stretch/>
          </p:blipFill>
          <p:spPr>
            <a:xfrm>
              <a:off x="838080" y="59943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" descr=""/>
            <p:cNvPicPr/>
            <p:nvPr/>
          </p:nvPicPr>
          <p:blipFill>
            <a:blip r:embed="rId19"/>
            <a:stretch/>
          </p:blipFill>
          <p:spPr>
            <a:xfrm>
              <a:off x="1143000" y="61466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" descr=""/>
            <p:cNvPicPr/>
            <p:nvPr/>
          </p:nvPicPr>
          <p:blipFill>
            <a:blip r:embed="rId20"/>
            <a:stretch/>
          </p:blipFill>
          <p:spPr>
            <a:xfrm>
              <a:off x="1981080" y="553716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21"/>
            <a:stretch/>
          </p:blipFill>
          <p:spPr>
            <a:xfrm>
              <a:off x="1523880" y="568944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"/>
            <p:cNvSpPr/>
            <p:nvPr/>
          </p:nvSpPr>
          <p:spPr>
            <a:xfrm>
              <a:off x="1982880" y="622296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95280" y="58420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1447920" y="599436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flipV="1">
              <a:off x="1676160" y="59940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52480" y="58420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04920" y="3784680"/>
            <a:ext cx="2590560" cy="1371600"/>
            <a:chOff x="304920" y="3784680"/>
            <a:chExt cx="2590560" cy="1371600"/>
          </a:xfrm>
        </p:grpSpPr>
        <p:sp>
          <p:nvSpPr>
            <p:cNvPr id="576" name=""/>
            <p:cNvSpPr/>
            <p:nvPr/>
          </p:nvSpPr>
          <p:spPr>
            <a:xfrm>
              <a:off x="304920" y="37846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22"/>
            <a:stretch/>
          </p:blipFill>
          <p:spPr>
            <a:xfrm>
              <a:off x="380880" y="424188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3"/>
            <a:stretch/>
          </p:blipFill>
          <p:spPr>
            <a:xfrm>
              <a:off x="609480" y="4394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24"/>
            <a:stretch/>
          </p:blipFill>
          <p:spPr>
            <a:xfrm>
              <a:off x="914400" y="45464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25"/>
            <a:stretch/>
          </p:blipFill>
          <p:spPr>
            <a:xfrm>
              <a:off x="1752480" y="393696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26"/>
            <a:stretch/>
          </p:blipFill>
          <p:spPr>
            <a:xfrm>
              <a:off x="1295280" y="408924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1753920" y="462276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066680" y="4241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1219320" y="439416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1447560" y="43938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23880" y="4241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533520" y="2108160"/>
            <a:ext cx="2590560" cy="1371600"/>
            <a:chOff x="533520" y="2108160"/>
            <a:chExt cx="2590560" cy="1371600"/>
          </a:xfrm>
        </p:grpSpPr>
        <p:sp>
          <p:nvSpPr>
            <p:cNvPr id="588" name=""/>
            <p:cNvSpPr/>
            <p:nvPr/>
          </p:nvSpPr>
          <p:spPr>
            <a:xfrm>
              <a:off x="533520" y="210816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89" name="" descr=""/>
            <p:cNvPicPr/>
            <p:nvPr/>
          </p:nvPicPr>
          <p:blipFill>
            <a:blip r:embed="rId27"/>
            <a:stretch/>
          </p:blipFill>
          <p:spPr>
            <a:xfrm>
              <a:off x="609480" y="25653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28"/>
            <a:stretch/>
          </p:blipFill>
          <p:spPr>
            <a:xfrm>
              <a:off x="838080" y="271764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29"/>
            <a:stretch/>
          </p:blipFill>
          <p:spPr>
            <a:xfrm>
              <a:off x="1143000" y="286992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30"/>
            <a:stretch/>
          </p:blipFill>
          <p:spPr>
            <a:xfrm>
              <a:off x="1981080" y="226044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" descr=""/>
            <p:cNvPicPr/>
            <p:nvPr/>
          </p:nvPicPr>
          <p:blipFill>
            <a:blip r:embed="rId31"/>
            <a:stretch/>
          </p:blipFill>
          <p:spPr>
            <a:xfrm>
              <a:off x="1523880" y="241272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1982520" y="29462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95280" y="256536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1447920" y="271764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1676160" y="271728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52480" y="256536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9" name="" descr=""/>
          <p:cNvPicPr/>
          <p:nvPr/>
        </p:nvPicPr>
        <p:blipFill>
          <a:blip r:embed="rId32"/>
          <a:stretch/>
        </p:blipFill>
        <p:spPr>
          <a:xfrm>
            <a:off x="4876920" y="317484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33"/>
          <a:stretch/>
        </p:blipFill>
        <p:spPr>
          <a:xfrm>
            <a:off x="3886200" y="386064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34"/>
          <a:stretch/>
        </p:blipFill>
        <p:spPr>
          <a:xfrm>
            <a:off x="3048120" y="477504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35"/>
          <a:stretch/>
        </p:blipFill>
        <p:spPr>
          <a:xfrm>
            <a:off x="4724280" y="4775040"/>
            <a:ext cx="990720" cy="76212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5641920" y="3732120"/>
            <a:ext cx="60660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38480" y="5156280"/>
            <a:ext cx="762120" cy="75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5384880"/>
            <a:ext cx="18288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5460840"/>
            <a:ext cx="45720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590920" y="3555720"/>
            <a:ext cx="83808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666880" y="2717640"/>
            <a:ext cx="762120" cy="533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2819520" y="5384520"/>
            <a:ext cx="380880" cy="228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2641680"/>
            <a:ext cx="3200400" cy="1549440"/>
          </a:xfrm>
          <a:custGeom>
            <a:avLst/>
            <a:gdLst/>
            <a:ahLst/>
            <a:rect l="l" t="t" r="r" b="b"/>
            <a:pathLst>
              <a:path w="2016" h="976">
                <a:moveTo>
                  <a:pt x="0" y="0"/>
                </a:moveTo>
                <a:cubicBezTo>
                  <a:pt x="140" y="128"/>
                  <a:pt x="280" y="256"/>
                  <a:pt x="384" y="336"/>
                </a:cubicBezTo>
                <a:cubicBezTo>
                  <a:pt x="488" y="416"/>
                  <a:pt x="552" y="400"/>
                  <a:pt x="624" y="480"/>
                </a:cubicBezTo>
                <a:cubicBezTo>
                  <a:pt x="696" y="560"/>
                  <a:pt x="736" y="744"/>
                  <a:pt x="816" y="816"/>
                </a:cubicBezTo>
                <a:cubicBezTo>
                  <a:pt x="896" y="888"/>
                  <a:pt x="960" y="976"/>
                  <a:pt x="1104" y="912"/>
                </a:cubicBezTo>
                <a:cubicBezTo>
                  <a:pt x="1248" y="848"/>
                  <a:pt x="1528" y="560"/>
                  <a:pt x="1680" y="432"/>
                </a:cubicBezTo>
                <a:cubicBezTo>
                  <a:pt x="1832" y="304"/>
                  <a:pt x="1924" y="224"/>
                  <a:pt x="2016" y="144"/>
                </a:cubicBez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438280" y="2717640"/>
            <a:ext cx="3505320" cy="1371600"/>
          </a:xfrm>
          <a:custGeom>
            <a:avLst/>
            <a:gdLst/>
            <a:ahLst/>
            <a:rect l="l" t="t" r="r" b="b"/>
            <a:pathLst>
              <a:path w="2208" h="864">
                <a:moveTo>
                  <a:pt x="0" y="864"/>
                </a:moveTo>
                <a:cubicBezTo>
                  <a:pt x="192" y="688"/>
                  <a:pt x="384" y="512"/>
                  <a:pt x="672" y="432"/>
                </a:cubicBezTo>
                <a:cubicBezTo>
                  <a:pt x="960" y="352"/>
                  <a:pt x="1472" y="456"/>
                  <a:pt x="1728" y="384"/>
                </a:cubicBezTo>
                <a:cubicBezTo>
                  <a:pt x="1984" y="312"/>
                  <a:pt x="2096" y="156"/>
                  <a:pt x="2208" y="0"/>
                </a:cubicBez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657600" y="210816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N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295280" y="1447920"/>
            <a:ext cx="838440" cy="761760"/>
          </a:xfrm>
          <a:prstGeom prst="line">
            <a:avLst/>
          </a:prstGeom>
          <a:ln w="76320">
            <a:solidFill>
              <a:srgbClr val="c0c0c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2514240" y="1752480"/>
            <a:ext cx="762120" cy="2057400"/>
          </a:xfrm>
          <a:prstGeom prst="line">
            <a:avLst/>
          </a:prstGeom>
          <a:ln w="76320">
            <a:solidFill>
              <a:srgbClr val="c0c0c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04920" y="5867280"/>
            <a:ext cx="6468840" cy="6116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d route &amp; set-up tunnel for 15 Mb/s </a:t>
            </a:r>
            <a:r>
              <a:rPr b="1" lang="en-GB" sz="1800" spc="-1" strike="noStrike">
                <a:solidFill>
                  <a:srgbClr val="ff6600"/>
                </a:solidFill>
                <a:latin typeface="Arial"/>
              </a:rPr>
              <a:t>of B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from POP1 to POP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383920" y="5029200"/>
            <a:ext cx="6312960" cy="6116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d route &amp; set-up tunnel for 7 Mb/s </a:t>
            </a:r>
            <a:r>
              <a:rPr b="1" lang="en-GB" sz="1800" spc="-1" strike="noStrike">
                <a:solidFill>
                  <a:srgbClr val="ff6600"/>
                </a:solidFill>
                <a:latin typeface="Arial"/>
              </a:rPr>
              <a:t>of B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from POP2 to POP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2590920" y="4572000"/>
            <a:ext cx="457200" cy="457200"/>
          </a:xfrm>
          <a:prstGeom prst="line">
            <a:avLst/>
          </a:prstGeom>
          <a:ln w="76320">
            <a:solidFill>
              <a:srgbClr val="c0c0c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533520" y="2895120"/>
            <a:ext cx="1523880" cy="2971800"/>
          </a:xfrm>
          <a:prstGeom prst="line">
            <a:avLst/>
          </a:prstGeom>
          <a:ln w="76320">
            <a:solidFill>
              <a:srgbClr val="c0c0c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590920" y="2666880"/>
            <a:ext cx="3276360" cy="673200"/>
          </a:xfrm>
          <a:custGeom>
            <a:avLst/>
            <a:gdLst/>
            <a:ahLst/>
            <a:rect l="l" t="t" r="r" b="b"/>
            <a:pathLst>
              <a:path w="2064" h="424">
                <a:moveTo>
                  <a:pt x="0" y="96"/>
                </a:moveTo>
                <a:cubicBezTo>
                  <a:pt x="124" y="220"/>
                  <a:pt x="248" y="344"/>
                  <a:pt x="432" y="384"/>
                </a:cubicBezTo>
                <a:cubicBezTo>
                  <a:pt x="616" y="424"/>
                  <a:pt x="904" y="344"/>
                  <a:pt x="1104" y="336"/>
                </a:cubicBezTo>
                <a:cubicBezTo>
                  <a:pt x="1304" y="328"/>
                  <a:pt x="1472" y="392"/>
                  <a:pt x="1632" y="336"/>
                </a:cubicBezTo>
                <a:cubicBezTo>
                  <a:pt x="1792" y="280"/>
                  <a:pt x="1928" y="140"/>
                  <a:pt x="2064" y="0"/>
                </a:cubicBezTo>
              </a:path>
            </a:pathLst>
          </a:custGeom>
          <a:noFill/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425680" y="3124080"/>
            <a:ext cx="3975120" cy="1359000"/>
          </a:xfrm>
          <a:custGeom>
            <a:avLst/>
            <a:gdLst/>
            <a:ahLst/>
            <a:rect l="l" t="t" r="r" b="b"/>
            <a:pathLst>
              <a:path w="2504" h="856">
                <a:moveTo>
                  <a:pt x="104" y="816"/>
                </a:moveTo>
                <a:cubicBezTo>
                  <a:pt x="52" y="836"/>
                  <a:pt x="0" y="856"/>
                  <a:pt x="104" y="768"/>
                </a:cubicBezTo>
                <a:cubicBezTo>
                  <a:pt x="208" y="680"/>
                  <a:pt x="528" y="376"/>
                  <a:pt x="728" y="288"/>
                </a:cubicBezTo>
                <a:cubicBezTo>
                  <a:pt x="928" y="200"/>
                  <a:pt x="1088" y="256"/>
                  <a:pt x="1304" y="240"/>
                </a:cubicBezTo>
                <a:cubicBezTo>
                  <a:pt x="1520" y="224"/>
                  <a:pt x="1824" y="232"/>
                  <a:pt x="2024" y="192"/>
                </a:cubicBezTo>
                <a:cubicBezTo>
                  <a:pt x="2224" y="152"/>
                  <a:pt x="2364" y="76"/>
                  <a:pt x="2504" y="0"/>
                </a:cubicBezTo>
              </a:path>
            </a:pathLst>
          </a:custGeom>
          <a:noFill/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457200" y="4038480"/>
            <a:ext cx="82296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8000"/>
          </a:bodyPr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PLS Diff-Serv and MPLS TE to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ff-Serv-aware-TE (DS-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per Class 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Guaranteed Bandwidth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VoMP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01760" y="3047760"/>
            <a:ext cx="83404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t">
            <a:noAutofit/>
          </a:bodyPr>
          <a:p>
            <a:pPr algn="ct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AU" sz="3200" spc="-1" strike="noStrike">
                <a:solidFill>
                  <a:srgbClr val="006c88"/>
                </a:solidFill>
                <a:latin typeface="Arial"/>
              </a:rPr>
              <a:t>Auth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Francois Le Fauche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Cisco Syst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flefauch@cisco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28600"/>
            <a:ext cx="761976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6c88"/>
                </a:solidFill>
                <a:latin typeface="Arial"/>
              </a:rPr>
              <a:t>Pres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arren Patt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Cisco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dapatter@cisco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Trouble With Diffserv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5760" y="229536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89000"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currently formulated, Diffserv is strong on simplicity and weak on guarante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tual leased line using EF is quite firm, but how much can be deployed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029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topology-aware admission control mechanis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How do I reject the “last straw” VOIP call that will degrade service of calls in progres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PLS Guaranteed Bandwidt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224920" cy="2057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mbining MPLS Diff-Serv &amp; Diff-Serv-TE to achieve strict point-to-point QoS guarantee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new “sweet-spot” on QoS spectru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95280" y="4952880"/>
            <a:ext cx="67820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600200" y="4876920"/>
            <a:ext cx="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505320" y="4876920"/>
            <a:ext cx="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543800" y="4876920"/>
            <a:ext cx="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069920" y="4237200"/>
            <a:ext cx="10476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918000" y="5227560"/>
            <a:ext cx="1288440" cy="347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784920" y="4237200"/>
            <a:ext cx="16448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-flow 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784920" y="5227560"/>
            <a:ext cx="1149840" cy="621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SVP v1/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ser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4267080"/>
            <a:ext cx="14162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gregate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048480" y="5257800"/>
            <a:ext cx="995760" cy="347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ser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267080" y="4572000"/>
            <a:ext cx="2286000" cy="8380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PLS Diffserv 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MPLS DS-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970720" y="2971800"/>
            <a:ext cx="49870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Aggregated State (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Aggregate Admission Control (DS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Aggregate Constraint Based Routing (DS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723920" y="5562720"/>
            <a:ext cx="1480320" cy="8960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arante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981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PLS Guaranteed Bandwidth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701720"/>
            <a:ext cx="8294400" cy="1270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5000"/>
          </a:bodyPr>
          <a:p>
            <a:pPr marL="216720" indent="-21672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ranteed QoS” is a unidirectional point-to-point bandwidth guarantee from Site-Sx to Site-Sy : </a:t>
            </a:r>
            <a:br>
              <a:rPr sz="2400"/>
            </a:b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“The Pipe Model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720" indent="-21672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te” may include a single host, a “pooling point”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2409840" y="3521160"/>
            <a:ext cx="3367080" cy="257472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 flipH="1">
            <a:off x="1230120" y="5343480"/>
            <a:ext cx="14317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538200" y="5095800"/>
            <a:ext cx="749880" cy="481320"/>
            <a:chOff x="538200" y="5095800"/>
            <a:chExt cx="749880" cy="481320"/>
          </a:xfrm>
        </p:grpSpPr>
        <p:grpSp>
          <p:nvGrpSpPr>
            <p:cNvPr id="646" name=""/>
            <p:cNvGrpSpPr/>
            <p:nvPr/>
          </p:nvGrpSpPr>
          <p:grpSpPr>
            <a:xfrm>
              <a:off x="545400" y="5098680"/>
              <a:ext cx="742320" cy="478440"/>
              <a:chOff x="545400" y="5098680"/>
              <a:chExt cx="742320" cy="4784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545400" y="5104080"/>
                <a:ext cx="738000" cy="471960"/>
                <a:chOff x="545400" y="5104080"/>
                <a:chExt cx="738000" cy="4719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798840" y="5104080"/>
                  <a:ext cx="317880" cy="191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619560" y="5155920"/>
                  <a:ext cx="243000" cy="191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45400" y="5276160"/>
                  <a:ext cx="159120" cy="1515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592920" y="5347800"/>
                  <a:ext cx="250560" cy="1634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75080" y="5372280"/>
                  <a:ext cx="372600" cy="2037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016640" y="5157720"/>
                  <a:ext cx="234000" cy="1530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046520" y="5260320"/>
                  <a:ext cx="236880" cy="1537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024200" y="5293440"/>
                  <a:ext cx="236880" cy="2527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77880" y="5215320"/>
                  <a:ext cx="480240" cy="2487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546480" y="5098680"/>
                <a:ext cx="741240" cy="478440"/>
                <a:chOff x="546480" y="5098680"/>
                <a:chExt cx="741240" cy="47844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794880" y="5098680"/>
                  <a:ext cx="324720" cy="20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53" y="7101"/>
                      </a:moveTo>
                      <a:arcTo wR="10800" hR="10800" stAng="-9598245" swAng="83190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53" y="7101"/>
                      </a:moveTo>
                      <a:arcTo wR="10800" hR="10800" stAng="-9598245" swAng="8319058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19560" y="5156280"/>
                  <a:ext cx="265680" cy="169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15" y="14097"/>
                      </a:moveTo>
                      <a:arcTo wR="10800" hR="10800" stAng="9733672" swAng="82300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15" y="14097"/>
                      </a:moveTo>
                      <a:arcTo wR="10800" hR="10800" stAng="9733672" swAng="8230052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46480" y="5262840"/>
                  <a:ext cx="232200" cy="18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8" y="19347"/>
                      </a:moveTo>
                      <a:arcTo wR="10800" hR="10800" stAng="7661173" swAng="74372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8" y="19347"/>
                      </a:moveTo>
                      <a:arcTo wR="10800" hR="10800" stAng="7661173" swAng="7437210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592560" y="5340960"/>
                  <a:ext cx="268200" cy="17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75" y="20437"/>
                      </a:moveTo>
                      <a:arcTo wR="10800" hR="10800" stAng="3790096" swAng="72088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75" y="20437"/>
                      </a:moveTo>
                      <a:arcTo wR="10800" hR="10800" stAng="3790096" swAng="720883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777600" y="5400360"/>
                  <a:ext cx="362520" cy="176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83" y="16642"/>
                      </a:moveTo>
                      <a:arcTo wR="10800" hR="10800" stAng="1964880" swAng="82213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83" y="16642"/>
                      </a:moveTo>
                      <a:arcTo wR="10800" hR="10800" stAng="1964880" swAng="8221398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009800" y="5159880"/>
                  <a:ext cx="245160" cy="15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98" y="248"/>
                      </a:moveTo>
                      <a:arcTo wR="10800" hR="10800" stAng="-6138481" swAng="80588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98" y="248"/>
                      </a:moveTo>
                      <a:arcTo wR="10800" hR="10800" stAng="-6138481" swAng="805880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016640" y="5254200"/>
                  <a:ext cx="271080" cy="167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15" y="2039"/>
                      </a:moveTo>
                      <a:arcTo wR="10800" hR="10800" stAng="-3252997" swAng="54509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15" y="2039"/>
                      </a:moveTo>
                      <a:arcTo wR="10800" hR="10800" stAng="-3252997" swAng="545094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017000" y="5306760"/>
                  <a:ext cx="246960" cy="242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930" y="7056"/>
                      </a:moveTo>
                      <a:arcTo wR="10800" hR="10800" stAng="-1216978" swAng="771968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930" y="7056"/>
                      </a:moveTo>
                      <a:arcTo wR="10800" hR="10800" stAng="-1216978" swAng="771968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6" name=""/>
            <p:cNvGrpSpPr/>
            <p:nvPr/>
          </p:nvGrpSpPr>
          <p:grpSpPr>
            <a:xfrm>
              <a:off x="538200" y="5095800"/>
              <a:ext cx="749880" cy="476640"/>
              <a:chOff x="538200" y="5095800"/>
              <a:chExt cx="749880" cy="47664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538200" y="5097240"/>
                <a:ext cx="745560" cy="475200"/>
                <a:chOff x="538200" y="5097240"/>
                <a:chExt cx="745560" cy="47520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794520" y="5097240"/>
                  <a:ext cx="322200" cy="191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615600" y="5151240"/>
                  <a:ext cx="247680" cy="186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38200" y="5271120"/>
                  <a:ext cx="166680" cy="1530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88600" y="5337720"/>
                  <a:ext cx="249120" cy="173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770400" y="5370480"/>
                  <a:ext cx="371520" cy="201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008000" y="5156280"/>
                  <a:ext cx="243000" cy="1494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043640" y="5253840"/>
                  <a:ext cx="240120" cy="147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024200" y="5288760"/>
                  <a:ext cx="234000" cy="2505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76800" y="5212080"/>
                  <a:ext cx="481680" cy="246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539280" y="5095800"/>
                <a:ext cx="748800" cy="476280"/>
                <a:chOff x="539280" y="5095800"/>
                <a:chExt cx="748800" cy="47628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790920" y="5095800"/>
                  <a:ext cx="326880" cy="19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24" y="7183"/>
                      </a:moveTo>
                      <a:arcTo wR="10800" hR="10800" stAng="-9625959" swAng="83733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24" y="7183"/>
                      </a:moveTo>
                      <a:arcTo wR="10800" hR="10800" stAng="-9625959" swAng="837330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16680" y="5145840"/>
                  <a:ext cx="267480" cy="177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24" y="14123"/>
                      </a:moveTo>
                      <a:arcTo wR="10800" hR="10800" stAng="9724966" swAng="82047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24" y="14123"/>
                      </a:moveTo>
                      <a:arcTo wR="10800" hR="10800" stAng="9724966" swAng="820473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39280" y="5254920"/>
                  <a:ext cx="237960" cy="18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301" y="19426"/>
                      </a:moveTo>
                      <a:arcTo wR="10800" hR="10800" stAng="7619856" swAng="750138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301" y="19426"/>
                      </a:moveTo>
                      <a:arcTo wR="10800" hR="10800" stAng="7619856" swAng="750138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88240" y="5335920"/>
                  <a:ext cx="269640" cy="176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37" y="20456"/>
                      </a:moveTo>
                      <a:arcTo wR="10800" hR="10800" stAng="3803566" swAng="71304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37" y="20456"/>
                      </a:moveTo>
                      <a:arcTo wR="10800" hR="10800" stAng="3803566" swAng="713043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776520" y="5398200"/>
                  <a:ext cx="361080" cy="17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57" y="16683"/>
                      </a:moveTo>
                      <a:arcTo wR="10800" hR="10800" stAng="1980475" swAng="81997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57" y="16683"/>
                      </a:moveTo>
                      <a:arcTo wR="10800" hR="10800" stAng="1980475" swAng="8199797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009800" y="5158080"/>
                  <a:ext cx="242280" cy="14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71" y="254"/>
                      </a:moveTo>
                      <a:arcTo wR="10800" hR="10800" stAng="-6147261" swAng="803826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71" y="254"/>
                      </a:moveTo>
                      <a:arcTo wR="10800" hR="10800" stAng="-6147261" swAng="8038261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1008000" y="5252400"/>
                  <a:ext cx="280080" cy="165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33" y="2052"/>
                      </a:moveTo>
                      <a:arcTo wR="10800" hR="10800" stAng="-3245769" swAng="542929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33" y="2052"/>
                      </a:moveTo>
                      <a:arcTo wR="10800" hR="10800" stAng="-3245769" swAng="5429292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008720" y="5300280"/>
                  <a:ext cx="255240" cy="242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873" y="6905"/>
                      </a:moveTo>
                      <a:arcTo wR="10800" hR="10800" stAng="-1268461" swAng="778184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873" y="6905"/>
                      </a:moveTo>
                      <a:arcTo wR="10800" hR="10800" stAng="-1268461" swAng="7781841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686" name="" descr=""/>
          <p:cNvPicPr/>
          <p:nvPr/>
        </p:nvPicPr>
        <p:blipFill>
          <a:blip r:embed="rId2"/>
          <a:stretch/>
        </p:blipFill>
        <p:spPr>
          <a:xfrm>
            <a:off x="911160" y="5211720"/>
            <a:ext cx="432000" cy="281160"/>
          </a:xfrm>
          <a:prstGeom prst="rect">
            <a:avLst/>
          </a:prstGeom>
          <a:ln w="0">
            <a:noFill/>
          </a:ln>
        </p:spPr>
      </p:pic>
      <p:grpSp>
        <p:nvGrpSpPr>
          <p:cNvPr id="687" name=""/>
          <p:cNvGrpSpPr/>
          <p:nvPr/>
        </p:nvGrpSpPr>
        <p:grpSpPr>
          <a:xfrm>
            <a:off x="7191360" y="5070600"/>
            <a:ext cx="747720" cy="483840"/>
            <a:chOff x="7191360" y="5070600"/>
            <a:chExt cx="747720" cy="483840"/>
          </a:xfrm>
        </p:grpSpPr>
        <p:grpSp>
          <p:nvGrpSpPr>
            <p:cNvPr id="688" name=""/>
            <p:cNvGrpSpPr/>
            <p:nvPr/>
          </p:nvGrpSpPr>
          <p:grpSpPr>
            <a:xfrm>
              <a:off x="7197120" y="5073840"/>
              <a:ext cx="741960" cy="480600"/>
              <a:chOff x="7197120" y="5073840"/>
              <a:chExt cx="741960" cy="480600"/>
            </a:xfrm>
          </p:grpSpPr>
          <p:grpSp>
            <p:nvGrpSpPr>
              <p:cNvPr id="689" name=""/>
              <p:cNvGrpSpPr/>
              <p:nvPr/>
            </p:nvGrpSpPr>
            <p:grpSpPr>
              <a:xfrm>
                <a:off x="7197120" y="5078880"/>
                <a:ext cx="736920" cy="474120"/>
                <a:chOff x="7197120" y="5078880"/>
                <a:chExt cx="736920" cy="47412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7451640" y="5078880"/>
                  <a:ext cx="316800" cy="1918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7274160" y="5131080"/>
                  <a:ext cx="242640" cy="1918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197120" y="5251320"/>
                  <a:ext cx="160560" cy="1519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7244640" y="5322960"/>
                  <a:ext cx="250200" cy="1692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7424640" y="5348880"/>
                  <a:ext cx="375480" cy="204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7666200" y="5132880"/>
                  <a:ext cx="237960" cy="1548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7700040" y="5235840"/>
                  <a:ext cx="234000" cy="1548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7673400" y="5268960"/>
                  <a:ext cx="239760" cy="2541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328160" y="5192280"/>
                  <a:ext cx="482400" cy="2476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7198200" y="5073840"/>
                <a:ext cx="740880" cy="480600"/>
                <a:chOff x="7198200" y="5073840"/>
                <a:chExt cx="740880" cy="48060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7449120" y="5073840"/>
                  <a:ext cx="320760" cy="20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54" y="7100"/>
                      </a:moveTo>
                      <a:arcTo wR="10800" hR="10800" stAng="-9597752" swAng="8317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54" y="7100"/>
                      </a:moveTo>
                      <a:arcTo wR="10800" hR="10800" stAng="-9597752" swAng="8317826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7274160" y="5131080"/>
                  <a:ext cx="262080" cy="169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16" y="14098"/>
                      </a:moveTo>
                      <a:arcTo wR="10800" hR="10800" stAng="9733138" swAng="82134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16" y="14098"/>
                      </a:moveTo>
                      <a:arcTo wR="10800" hR="10800" stAng="9733138" swAng="821345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198200" y="5236560"/>
                  <a:ext cx="228600" cy="186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260" y="19395"/>
                      </a:moveTo>
                      <a:arcTo wR="10800" hR="10800" stAng="7636219" swAng="74969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260" y="19395"/>
                      </a:moveTo>
                      <a:arcTo wR="10800" hR="10800" stAng="7636219" swAng="749698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7244280" y="5317920"/>
                  <a:ext cx="270360" cy="17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750" y="20399"/>
                      </a:moveTo>
                      <a:arcTo wR="10800" hR="10800" stAng="3763384" swAng="72366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750" y="20399"/>
                      </a:moveTo>
                      <a:arcTo wR="10800" hR="10800" stAng="3763384" swAng="7236647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7427880" y="5376960"/>
                  <a:ext cx="361440" cy="177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83" y="16642"/>
                      </a:moveTo>
                      <a:arcTo wR="10800" hR="10800" stAng="1964880" swAng="82213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83" y="16642"/>
                      </a:moveTo>
                      <a:arcTo wR="10800" hR="10800" stAng="1964880" swAng="8221398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7662960" y="5134680"/>
                  <a:ext cx="245160" cy="15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522" y="243"/>
                      </a:moveTo>
                      <a:arcTo wR="10800" hR="10800" stAng="-6130522" swAng="80334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522" y="243"/>
                      </a:moveTo>
                      <a:arcTo wR="10800" hR="10800" stAng="-6130522" swAng="8033430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666560" y="5232600"/>
                  <a:ext cx="272520" cy="16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03" y="2030"/>
                      </a:moveTo>
                      <a:arcTo wR="10800" hR="10800" stAng="-3257509" swAng="54677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03" y="2030"/>
                      </a:moveTo>
                      <a:arcTo wR="10800" hR="10800" stAng="-3257509" swAng="546777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667280" y="5284080"/>
                  <a:ext cx="251280" cy="242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863" y="6879"/>
                      </a:moveTo>
                      <a:arcTo wR="10800" hR="10800" stAng="-1277417" swAng="78091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863" y="6879"/>
                      </a:moveTo>
                      <a:arcTo wR="10800" hR="10800" stAng="-1277417" swAng="780917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8" name=""/>
            <p:cNvGrpSpPr/>
            <p:nvPr/>
          </p:nvGrpSpPr>
          <p:grpSpPr>
            <a:xfrm>
              <a:off x="7191360" y="5070600"/>
              <a:ext cx="746640" cy="477720"/>
              <a:chOff x="7191360" y="5070600"/>
              <a:chExt cx="746640" cy="47772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7191360" y="5072040"/>
                <a:ext cx="742680" cy="476280"/>
                <a:chOff x="7191360" y="5072040"/>
                <a:chExt cx="742680" cy="47628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7448760" y="5072040"/>
                  <a:ext cx="320040" cy="1936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7267320" y="5127840"/>
                  <a:ext cx="248400" cy="1868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7191360" y="5246280"/>
                  <a:ext cx="166680" cy="155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7241760" y="5314680"/>
                  <a:ext cx="246960" cy="1742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7422120" y="5344200"/>
                  <a:ext cx="373320" cy="204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7661880" y="5131080"/>
                  <a:ext cx="242280" cy="1519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7697160" y="5231160"/>
                  <a:ext cx="236880" cy="1461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673760" y="5265720"/>
                  <a:ext cx="235080" cy="249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7328160" y="5186880"/>
                  <a:ext cx="482400" cy="2512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7192800" y="5070600"/>
                <a:ext cx="745200" cy="477360"/>
                <a:chOff x="7192800" y="5070600"/>
                <a:chExt cx="745200" cy="47736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7445520" y="5070600"/>
                  <a:ext cx="32580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9" y="7226"/>
                      </a:moveTo>
                      <a:arcTo wR="10800" hR="10800" stAng="-9640468" swAng="839202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9" y="7226"/>
                      </a:moveTo>
                      <a:arcTo wR="10800" hR="10800" stAng="-9640468" swAng="839202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7266960" y="5122800"/>
                  <a:ext cx="265680" cy="17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33" y="14152"/>
                      </a:moveTo>
                      <a:arcTo wR="10800" hR="10800" stAng="9715109" swAng="823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33" y="14152"/>
                      </a:moveTo>
                      <a:arcTo wR="10800" hR="10800" stAng="9715109" swAng="823240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7192800" y="5231880"/>
                  <a:ext cx="234360" cy="18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277" y="19408"/>
                      </a:moveTo>
                      <a:arcTo wR="10800" hR="10800" stAng="7629370" swAng="74885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277" y="19408"/>
                      </a:moveTo>
                      <a:arcTo wR="10800" hR="10800" stAng="7629370" swAng="748856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7241760" y="5311800"/>
                  <a:ext cx="266400" cy="18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49" y="20450"/>
                      </a:moveTo>
                      <a:arcTo wR="10800" hR="10800" stAng="3799460" swAng="713269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49" y="20450"/>
                      </a:moveTo>
                      <a:arcTo wR="10800" hR="10800" stAng="3799460" swAng="7132695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7426440" y="5374800"/>
                  <a:ext cx="360000" cy="173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57" y="16683"/>
                      </a:moveTo>
                      <a:arcTo wR="10800" hR="10800" stAng="1980475" swAng="81997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57" y="16683"/>
                      </a:moveTo>
                      <a:arcTo wR="10800" hR="10800" stAng="1980475" swAng="8199797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7662960" y="5131440"/>
                  <a:ext cx="242280" cy="150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96" y="249"/>
                      </a:moveTo>
                      <a:arcTo wR="10800" hR="10800" stAng="-6139030" swAng="80123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96" y="249"/>
                      </a:moveTo>
                      <a:arcTo wR="10800" hR="10800" stAng="-6139030" swAng="8012366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661880" y="5227560"/>
                  <a:ext cx="276120" cy="165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12" y="2037"/>
                      </a:moveTo>
                      <a:arcTo wR="10800" hR="10800" stAng="-3254106" swAng="54460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12" y="2037"/>
                      </a:moveTo>
                      <a:arcTo wR="10800" hR="10800" stAng="-3254106" swAng="544602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7662600" y="5275080"/>
                  <a:ext cx="254520" cy="243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873" y="6905"/>
                      </a:moveTo>
                      <a:arcTo wR="10800" hR="10800" stAng="-1268461" swAng="778184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873" y="6905"/>
                      </a:moveTo>
                      <a:arcTo wR="10800" hR="10800" stAng="-1268461" swAng="7781841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28" name=""/>
          <p:cNvGrpSpPr/>
          <p:nvPr/>
        </p:nvGrpSpPr>
        <p:grpSpPr>
          <a:xfrm>
            <a:off x="5875200" y="3502080"/>
            <a:ext cx="748440" cy="479880"/>
            <a:chOff x="5875200" y="3502080"/>
            <a:chExt cx="748440" cy="479880"/>
          </a:xfrm>
        </p:grpSpPr>
        <p:grpSp>
          <p:nvGrpSpPr>
            <p:cNvPr id="729" name=""/>
            <p:cNvGrpSpPr/>
            <p:nvPr/>
          </p:nvGrpSpPr>
          <p:grpSpPr>
            <a:xfrm>
              <a:off x="5880960" y="3505320"/>
              <a:ext cx="742680" cy="476640"/>
              <a:chOff x="5880960" y="3505320"/>
              <a:chExt cx="742680" cy="476640"/>
            </a:xfrm>
          </p:grpSpPr>
          <p:grpSp>
            <p:nvGrpSpPr>
              <p:cNvPr id="730" name=""/>
              <p:cNvGrpSpPr/>
              <p:nvPr/>
            </p:nvGrpSpPr>
            <p:grpSpPr>
              <a:xfrm>
                <a:off x="5880960" y="3510360"/>
                <a:ext cx="740160" cy="471600"/>
                <a:chOff x="5880960" y="3510360"/>
                <a:chExt cx="740160" cy="47160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6135840" y="3510360"/>
                  <a:ext cx="317520" cy="191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956920" y="3562200"/>
                  <a:ext cx="243000" cy="191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880960" y="3680640"/>
                  <a:ext cx="159480" cy="1530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930280" y="3753720"/>
                  <a:ext cx="248760" cy="1674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109200" y="3778200"/>
                  <a:ext cx="374400" cy="2037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6352200" y="3562200"/>
                  <a:ext cx="235800" cy="1551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383880" y="3665520"/>
                  <a:ext cx="237240" cy="1548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360120" y="3700080"/>
                  <a:ext cx="235440" cy="2520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015240" y="3621600"/>
                  <a:ext cx="478800" cy="249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"/>
              <p:cNvGrpSpPr/>
              <p:nvPr/>
            </p:nvGrpSpPr>
            <p:grpSpPr>
              <a:xfrm>
                <a:off x="5882040" y="3505320"/>
                <a:ext cx="741600" cy="476280"/>
                <a:chOff x="5882040" y="3505320"/>
                <a:chExt cx="741600" cy="47628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6133320" y="3505320"/>
                  <a:ext cx="32292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99" y="7253"/>
                      </a:moveTo>
                      <a:arcTo wR="10800" hR="10800" stAng="-9649473" swAng="8410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99" y="7253"/>
                      </a:moveTo>
                      <a:arcTo wR="10800" hR="10800" stAng="-9649473" swAng="8410291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5956560" y="3562560"/>
                  <a:ext cx="262800" cy="170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10" y="14080"/>
                      </a:moveTo>
                      <a:arcTo wR="10800" hR="10800" stAng="9739289" swAng="81990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10" y="14080"/>
                      </a:moveTo>
                      <a:arcTo wR="10800" hR="10800" stAng="9739289" swAng="8199036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5882040" y="3667320"/>
                  <a:ext cx="232200" cy="18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8" y="19347"/>
                      </a:moveTo>
                      <a:arcTo wR="10800" hR="10800" stAng="7661173" swAng="74372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8" y="19347"/>
                      </a:moveTo>
                      <a:arcTo wR="10800" hR="10800" stAng="7661173" swAng="7437210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929920" y="3747240"/>
                  <a:ext cx="267840" cy="17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96" y="20426"/>
                      </a:moveTo>
                      <a:arcTo wR="10800" hR="10800" stAng="3782412" swAng="721761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96" y="20426"/>
                      </a:moveTo>
                      <a:arcTo wR="10800" hR="10800" stAng="3782412" swAng="7217618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6111720" y="3808440"/>
                  <a:ext cx="361440" cy="173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57" y="16683"/>
                      </a:moveTo>
                      <a:arcTo wR="10800" hR="10800" stAng="1980475" swAng="81997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57" y="16683"/>
                      </a:moveTo>
                      <a:arcTo wR="10800" hR="10800" stAng="1980475" swAng="8199797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346080" y="3564360"/>
                  <a:ext cx="245520" cy="15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522" y="243"/>
                      </a:moveTo>
                      <a:arcTo wR="10800" hR="10800" stAng="-6130522" swAng="80334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522" y="243"/>
                      </a:moveTo>
                      <a:arcTo wR="10800" hR="10800" stAng="-6130522" swAng="8033430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352560" y="3664080"/>
                  <a:ext cx="271080" cy="16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071" y="2007"/>
                      </a:moveTo>
                      <a:arcTo wR="10800" hR="10800" stAng="-3270044" swAng="54852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071" y="2007"/>
                      </a:moveTo>
                      <a:arcTo wR="10800" hR="10800" stAng="-3270044" swAng="548525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6352920" y="3713040"/>
                  <a:ext cx="246240" cy="238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913" y="7008"/>
                      </a:moveTo>
                      <a:arcTo wR="10800" hR="10800" stAng="-1233150" swAng="77367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913" y="7008"/>
                      </a:moveTo>
                      <a:arcTo wR="10800" hR="10800" stAng="-1233150" swAng="7736762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9" name=""/>
            <p:cNvGrpSpPr/>
            <p:nvPr/>
          </p:nvGrpSpPr>
          <p:grpSpPr>
            <a:xfrm>
              <a:off x="5875200" y="3502080"/>
              <a:ext cx="747000" cy="478080"/>
              <a:chOff x="5875200" y="3502080"/>
              <a:chExt cx="747000" cy="47808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5875200" y="3503520"/>
                <a:ext cx="745920" cy="475200"/>
                <a:chOff x="5875200" y="3503520"/>
                <a:chExt cx="745920" cy="47520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6131880" y="3503520"/>
                  <a:ext cx="322200" cy="1918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951160" y="3559320"/>
                  <a:ext cx="247680" cy="1843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875200" y="3677400"/>
                  <a:ext cx="165600" cy="1533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925960" y="3744000"/>
                  <a:ext cx="247680" cy="1738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106680" y="3777120"/>
                  <a:ext cx="372960" cy="2016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6345000" y="3562560"/>
                  <a:ext cx="243000" cy="1497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6381000" y="3662280"/>
                  <a:ext cx="240120" cy="1458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360480" y="3695400"/>
                  <a:ext cx="234000" cy="2487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6013800" y="3620160"/>
                  <a:ext cx="480600" cy="249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5876640" y="3502080"/>
                <a:ext cx="745560" cy="478080"/>
                <a:chOff x="5876640" y="3502080"/>
                <a:chExt cx="745560" cy="47808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6126840" y="3502080"/>
                  <a:ext cx="326880" cy="19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24" y="7183"/>
                      </a:moveTo>
                      <a:arcTo wR="10800" hR="10800" stAng="-9625959" swAng="83733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24" y="7183"/>
                      </a:moveTo>
                      <a:arcTo wR="10800" hR="10800" stAng="-9625959" swAng="837330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950800" y="3552480"/>
                  <a:ext cx="266400" cy="176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33" y="14152"/>
                      </a:moveTo>
                      <a:arcTo wR="10800" hR="10800" stAng="9715109" swAng="823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33" y="14152"/>
                      </a:moveTo>
                      <a:arcTo wR="10800" hR="10800" stAng="9715109" swAng="823240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5876640" y="3664080"/>
                  <a:ext cx="237960" cy="185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216" y="19361"/>
                      </a:moveTo>
                      <a:arcTo wR="10800" hR="10800" stAng="7653817" swAng="74303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216" y="19361"/>
                      </a:moveTo>
                      <a:arcTo wR="10800" hR="10800" stAng="7653817" swAng="7430366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5924160" y="3742920"/>
                  <a:ext cx="269640" cy="17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37" y="20456"/>
                      </a:moveTo>
                      <a:arcTo wR="10800" hR="10800" stAng="3803566" swAng="71304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37" y="20456"/>
                      </a:moveTo>
                      <a:arcTo wR="10800" hR="10800" stAng="3803566" swAng="713043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6113880" y="3803400"/>
                  <a:ext cx="362520" cy="176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83" y="16642"/>
                      </a:moveTo>
                      <a:arcTo wR="10800" hR="10800" stAng="1964880" swAng="82213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83" y="16642"/>
                      </a:moveTo>
                      <a:arcTo wR="10800" hR="10800" stAng="1964880" swAng="8221398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347160" y="3564720"/>
                  <a:ext cx="242280" cy="14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71" y="254"/>
                      </a:moveTo>
                      <a:arcTo wR="10800" hR="10800" stAng="-6147261" swAng="803826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71" y="254"/>
                      </a:moveTo>
                      <a:arcTo wR="10800" hR="10800" stAng="-6147261" swAng="8038261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345360" y="3659040"/>
                  <a:ext cx="276840" cy="16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12" y="2037"/>
                      </a:moveTo>
                      <a:arcTo wR="10800" hR="10800" stAng="-3254106" swAng="54460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12" y="2037"/>
                      </a:moveTo>
                      <a:arcTo wR="10800" hR="10800" stAng="-3254106" swAng="544602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346080" y="3706920"/>
                  <a:ext cx="255240" cy="24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925" y="7043"/>
                      </a:moveTo>
                      <a:arcTo wR="10800" hR="10800" stAng="-1221494" swAng="7732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925" y="7043"/>
                      </a:moveTo>
                      <a:arcTo wR="10800" hR="10800" stAng="-1221494" swAng="773252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9" name=""/>
          <p:cNvSpPr/>
          <p:nvPr/>
        </p:nvSpPr>
        <p:spPr>
          <a:xfrm flipH="1">
            <a:off x="5281200" y="3821040"/>
            <a:ext cx="569880" cy="5158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3"/>
          <a:stretch/>
        </p:blipFill>
        <p:spPr>
          <a:xfrm>
            <a:off x="5732640" y="3718080"/>
            <a:ext cx="326880" cy="20772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 flipH="1">
            <a:off x="5452920" y="5425920"/>
            <a:ext cx="17020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1839960" y="4331880"/>
            <a:ext cx="750960" cy="87480"/>
          </a:xfrm>
          <a:prstGeom prst="line">
            <a:avLst/>
          </a:prstGeom>
          <a:ln w="2556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327320" y="4005360"/>
            <a:ext cx="760680" cy="516240"/>
            <a:chOff x="1327320" y="4005360"/>
            <a:chExt cx="760680" cy="516240"/>
          </a:xfrm>
        </p:grpSpPr>
        <p:grpSp>
          <p:nvGrpSpPr>
            <p:cNvPr id="774" name=""/>
            <p:cNvGrpSpPr/>
            <p:nvPr/>
          </p:nvGrpSpPr>
          <p:grpSpPr>
            <a:xfrm>
              <a:off x="1331640" y="4010760"/>
              <a:ext cx="756360" cy="510840"/>
              <a:chOff x="1331640" y="4010760"/>
              <a:chExt cx="756360" cy="510840"/>
            </a:xfrm>
          </p:grpSpPr>
          <p:grpSp>
            <p:nvGrpSpPr>
              <p:cNvPr id="775" name=""/>
              <p:cNvGrpSpPr/>
              <p:nvPr/>
            </p:nvGrpSpPr>
            <p:grpSpPr>
              <a:xfrm>
                <a:off x="1331640" y="4014000"/>
                <a:ext cx="753480" cy="507600"/>
                <a:chOff x="1331640" y="4014000"/>
                <a:chExt cx="753480" cy="50760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1594800" y="4014000"/>
                  <a:ext cx="322560" cy="2073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410480" y="4069800"/>
                  <a:ext cx="248040" cy="2055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331640" y="4202280"/>
                  <a:ext cx="166320" cy="1602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384920" y="4275360"/>
                  <a:ext cx="250920" cy="18144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566360" y="4305240"/>
                  <a:ext cx="381960" cy="2163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1811520" y="4072680"/>
                  <a:ext cx="240840" cy="1641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1847160" y="4185000"/>
                  <a:ext cx="237960" cy="1620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819440" y="4217760"/>
                  <a:ext cx="241920" cy="27072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469520" y="4132080"/>
                  <a:ext cx="484560" cy="2721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1333080" y="4010760"/>
                <a:ext cx="754920" cy="510480"/>
                <a:chOff x="1333080" y="4010760"/>
                <a:chExt cx="754920" cy="51048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1590120" y="4010760"/>
                  <a:ext cx="329400" cy="212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96" y="7263"/>
                      </a:moveTo>
                      <a:arcTo wR="10800" hR="10800" stAng="-9653008" swAng="844250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96" y="7263"/>
                      </a:moveTo>
                      <a:arcTo wR="10800" hR="10800" stAng="-9653008" swAng="844250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410120" y="4069800"/>
                  <a:ext cx="264600" cy="18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88" y="14009"/>
                      </a:moveTo>
                      <a:arcTo wR="10800" hR="10800" stAng="9762717" swAng="819119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88" y="14009"/>
                      </a:moveTo>
                      <a:arcTo wR="10800" hR="10800" stAng="9762717" swAng="8191192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1333080" y="4187160"/>
                  <a:ext cx="236520" cy="19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302" y="19426"/>
                      </a:moveTo>
                      <a:arcTo wR="10800" hR="10800" stAng="7619516" swAng="751261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302" y="19426"/>
                      </a:moveTo>
                      <a:arcTo wR="10800" hR="10800" stAng="7619516" swAng="751261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1383120" y="4268880"/>
                  <a:ext cx="273240" cy="194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702" y="20424"/>
                      </a:moveTo>
                      <a:arcTo wR="10800" hR="10800" stAng="3780569" swAng="71421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702" y="20424"/>
                      </a:moveTo>
                      <a:arcTo wR="10800" hR="10800" stAng="3780569" swAng="7142155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1570320" y="4336560"/>
                  <a:ext cx="365400" cy="18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934" y="16563"/>
                      </a:moveTo>
                      <a:arcTo wR="10800" hR="10800" stAng="1934832" swAng="82137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934" y="16563"/>
                      </a:moveTo>
                      <a:arcTo wR="10800" hR="10800" stAng="1934832" swAng="821372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808640" y="4075200"/>
                  <a:ext cx="24624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64" y="256"/>
                      </a:moveTo>
                      <a:arcTo wR="10800" hR="10800" stAng="-6149631" swAng="80212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64" y="256"/>
                      </a:moveTo>
                      <a:arcTo wR="10800" hR="10800" stAng="-6149631" swAng="8021253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811880" y="4178880"/>
                  <a:ext cx="276120" cy="174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81" y="2087"/>
                      </a:moveTo>
                      <a:arcTo wR="10800" hR="10800" stAng="-3226932" swAng="53894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81" y="2087"/>
                      </a:moveTo>
                      <a:arcTo wR="10800" hR="10800" stAng="-3226932" swAng="5389434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811520" y="4230720"/>
                  <a:ext cx="252000" cy="261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919" y="7026"/>
                      </a:moveTo>
                      <a:arcTo wR="10800" hR="10800" stAng="-1227318" swAng="77402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919" y="7026"/>
                      </a:moveTo>
                      <a:arcTo wR="10800" hR="10800" stAng="-1227318" swAng="774024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4" name=""/>
            <p:cNvGrpSpPr/>
            <p:nvPr/>
          </p:nvGrpSpPr>
          <p:grpSpPr>
            <a:xfrm>
              <a:off x="1327320" y="4005360"/>
              <a:ext cx="758880" cy="509040"/>
              <a:chOff x="1327320" y="4005360"/>
              <a:chExt cx="758880" cy="50904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1327320" y="4008600"/>
                <a:ext cx="758160" cy="505800"/>
                <a:chOff x="1327320" y="4008600"/>
                <a:chExt cx="758160" cy="50580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1589040" y="4008600"/>
                  <a:ext cx="328680" cy="20592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406160" y="4066200"/>
                  <a:ext cx="250920" cy="20052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327320" y="4191480"/>
                  <a:ext cx="169560" cy="1677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379160" y="4266720"/>
                  <a:ext cx="254160" cy="18468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563480" y="4300200"/>
                  <a:ext cx="379440" cy="2142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807560" y="4069800"/>
                  <a:ext cx="245520" cy="1602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1846080" y="4177800"/>
                  <a:ext cx="239400" cy="1584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819440" y="4214520"/>
                  <a:ext cx="240480" cy="2664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1468440" y="4130640"/>
                  <a:ext cx="486000" cy="2685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1328400" y="4005360"/>
                <a:ext cx="757800" cy="509040"/>
                <a:chOff x="1328400" y="4005360"/>
                <a:chExt cx="757800" cy="50904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1585800" y="4005360"/>
                  <a:ext cx="335160" cy="212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55" y="7097"/>
                      </a:moveTo>
                      <a:arcTo wR="10800" hR="10800" stAng="-9597028" swAng="83198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55" y="7097"/>
                      </a:moveTo>
                      <a:arcTo wR="10800" hR="10800" stAng="-9597028" swAng="8319844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1405800" y="4062960"/>
                  <a:ext cx="267840" cy="188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27" y="14133"/>
                      </a:moveTo>
                      <a:arcTo wR="10800" hR="10800" stAng="9721382" swAng="82126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27" y="14133"/>
                      </a:moveTo>
                      <a:arcTo wR="10800" hR="10800" stAng="9721382" swAng="8212608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1328400" y="417852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348" y="19461"/>
                      </a:moveTo>
                      <a:arcTo wR="10800" hR="10800" stAng="7601164" swAng="750114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348" y="19461"/>
                      </a:moveTo>
                      <a:arcTo wR="10800" hR="10800" stAng="7601164" swAng="7501143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1377360" y="4264560"/>
                  <a:ext cx="27504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11" y="20469"/>
                      </a:moveTo>
                      <a:arcTo wR="10800" hR="10800" stAng="3812930" swAng="71113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11" y="20469"/>
                      </a:moveTo>
                      <a:arcTo wR="10800" hR="10800" stAng="3812930" swAng="7111353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570680" y="4329720"/>
                  <a:ext cx="367560" cy="18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924" y="16579"/>
                      </a:moveTo>
                      <a:arcTo wR="10800" hR="10800" stAng="1941131" swAng="82100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924" y="16579"/>
                      </a:moveTo>
                      <a:arcTo wR="10800" hR="10800" stAng="1941131" swAng="8210077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810080" y="4071600"/>
                  <a:ext cx="243720" cy="159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49" y="259"/>
                      </a:moveTo>
                      <a:arcTo wR="10800" hR="10800" stAng="-6154375" swAng="8071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49" y="259"/>
                      </a:moveTo>
                      <a:arcTo wR="10800" hR="10800" stAng="-6154375" swAng="807177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1807920" y="4173120"/>
                  <a:ext cx="278280" cy="176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230" y="2123"/>
                      </a:moveTo>
                      <a:arcTo wR="10800" hR="10800" stAng="-3207586" swAng="53915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230" y="2123"/>
                      </a:moveTo>
                      <a:arcTo wR="10800" hR="10800" stAng="-3207586" swAng="539156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1807920" y="4226400"/>
                  <a:ext cx="257400" cy="263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873" y="6905"/>
                      </a:moveTo>
                      <a:arcTo wR="10800" hR="10800" stAng="-1268406" swAng="78080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873" y="6905"/>
                      </a:moveTo>
                      <a:arcTo wR="10800" hR="10800" stAng="-1268406" swAng="7808062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14" name="" descr=""/>
          <p:cNvPicPr/>
          <p:nvPr/>
        </p:nvPicPr>
        <p:blipFill>
          <a:blip r:embed="rId4"/>
          <a:stretch/>
        </p:blipFill>
        <p:spPr>
          <a:xfrm>
            <a:off x="1746360" y="4162320"/>
            <a:ext cx="404640" cy="30816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1135800" y="4363920"/>
            <a:ext cx="53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0.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434720" y="5364000"/>
            <a:ext cx="53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0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147360" y="3693960"/>
            <a:ext cx="53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1.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23000" y="5281560"/>
            <a:ext cx="53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1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5"/>
          <a:stretch/>
        </p:blipFill>
        <p:spPr>
          <a:xfrm>
            <a:off x="4200480" y="4384800"/>
            <a:ext cx="399960" cy="50328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6"/>
          <a:stretch/>
        </p:blipFill>
        <p:spPr>
          <a:xfrm>
            <a:off x="4200480" y="4978440"/>
            <a:ext cx="401760" cy="50472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7"/>
          <a:stretch/>
        </p:blipFill>
        <p:spPr>
          <a:xfrm>
            <a:off x="3371760" y="4384800"/>
            <a:ext cx="403200" cy="50328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8"/>
          <a:stretch/>
        </p:blipFill>
        <p:spPr>
          <a:xfrm>
            <a:off x="3368520" y="4978440"/>
            <a:ext cx="405000" cy="50472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9"/>
          <a:stretch/>
        </p:blipFill>
        <p:spPr>
          <a:xfrm>
            <a:off x="5094360" y="5140440"/>
            <a:ext cx="544320" cy="39348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10"/>
          <a:stretch/>
        </p:blipFill>
        <p:spPr>
          <a:xfrm>
            <a:off x="5022720" y="4219560"/>
            <a:ext cx="544680" cy="39384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11"/>
          <a:stretch/>
        </p:blipFill>
        <p:spPr>
          <a:xfrm>
            <a:off x="2517840" y="4219560"/>
            <a:ext cx="544320" cy="39384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12"/>
          <a:stretch/>
        </p:blipFill>
        <p:spPr>
          <a:xfrm>
            <a:off x="2590920" y="5222880"/>
            <a:ext cx="544320" cy="39528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5719680" y="377496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857240" y="436392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69920" y="503244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3"/>
          <a:stretch/>
        </p:blipFill>
        <p:spPr>
          <a:xfrm>
            <a:off x="7048440" y="5288040"/>
            <a:ext cx="328680" cy="21096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7080120" y="536400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256360" y="4148280"/>
            <a:ext cx="1125360" cy="931680"/>
          </a:xfrm>
          <a:custGeom>
            <a:avLst/>
            <a:gdLst/>
            <a:ahLst/>
            <a:rect l="l" t="t" r="r" b="b"/>
            <a:pathLst>
              <a:path w="504" h="360">
                <a:moveTo>
                  <a:pt x="408" y="0"/>
                </a:moveTo>
                <a:cubicBezTo>
                  <a:pt x="268" y="68"/>
                  <a:pt x="128" y="136"/>
                  <a:pt x="72" y="192"/>
                </a:cubicBezTo>
                <a:cubicBezTo>
                  <a:pt x="16" y="248"/>
                  <a:pt x="0" y="312"/>
                  <a:pt x="72" y="336"/>
                </a:cubicBezTo>
                <a:cubicBezTo>
                  <a:pt x="144" y="360"/>
                  <a:pt x="324" y="348"/>
                  <a:pt x="504" y="336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929200" y="4286160"/>
            <a:ext cx="2486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1 Mb/s Guarant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01800" y="3639960"/>
            <a:ext cx="3979800" cy="1595520"/>
          </a:xfrm>
          <a:custGeom>
            <a:avLst/>
            <a:gdLst/>
            <a:ahLst/>
            <a:rect l="l" t="t" r="r" b="b"/>
            <a:pathLst>
              <a:path w="2400" h="760">
                <a:moveTo>
                  <a:pt x="2400" y="0"/>
                </a:moveTo>
                <a:cubicBezTo>
                  <a:pt x="2196" y="180"/>
                  <a:pt x="1992" y="360"/>
                  <a:pt x="1728" y="480"/>
                </a:cubicBezTo>
                <a:cubicBezTo>
                  <a:pt x="1464" y="600"/>
                  <a:pt x="1104" y="680"/>
                  <a:pt x="816" y="720"/>
                </a:cubicBezTo>
                <a:cubicBezTo>
                  <a:pt x="528" y="760"/>
                  <a:pt x="264" y="740"/>
                  <a:pt x="0" y="720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128480" y="3132000"/>
            <a:ext cx="14410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2 Mb/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uarant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7981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PLS Guaranteed Bandwidth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04920" y="1701720"/>
            <a:ext cx="8294400" cy="1270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5000"/>
          </a:bodyPr>
          <a:p>
            <a:pPr marL="216720" indent="-21672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ranteed QoS” is a unidirectional point-to-point bandwidth guarantee from Site-Sx to Site-Sy : </a:t>
            </a:r>
            <a:br>
              <a:rPr sz="2400"/>
            </a:b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“The Pipe Model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720" indent="-21672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te” may include a single host, a “pooling point”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2409840" y="3521160"/>
            <a:ext cx="3367080" cy="257472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 flipH="1">
            <a:off x="1230120" y="5343480"/>
            <a:ext cx="143172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38200" y="5095800"/>
            <a:ext cx="749880" cy="481320"/>
            <a:chOff x="538200" y="5095800"/>
            <a:chExt cx="749880" cy="481320"/>
          </a:xfrm>
        </p:grpSpPr>
        <p:grpSp>
          <p:nvGrpSpPr>
            <p:cNvPr id="841" name=""/>
            <p:cNvGrpSpPr/>
            <p:nvPr/>
          </p:nvGrpSpPr>
          <p:grpSpPr>
            <a:xfrm>
              <a:off x="545400" y="5098680"/>
              <a:ext cx="742320" cy="478440"/>
              <a:chOff x="545400" y="5098680"/>
              <a:chExt cx="742320" cy="478440"/>
            </a:xfrm>
          </p:grpSpPr>
          <p:grpSp>
            <p:nvGrpSpPr>
              <p:cNvPr id="842" name=""/>
              <p:cNvGrpSpPr/>
              <p:nvPr/>
            </p:nvGrpSpPr>
            <p:grpSpPr>
              <a:xfrm>
                <a:off x="545400" y="5104080"/>
                <a:ext cx="738000" cy="471960"/>
                <a:chOff x="545400" y="5104080"/>
                <a:chExt cx="738000" cy="47196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798840" y="5104080"/>
                  <a:ext cx="317880" cy="191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619560" y="5155920"/>
                  <a:ext cx="243000" cy="191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45400" y="5276160"/>
                  <a:ext cx="159120" cy="1515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92920" y="5347800"/>
                  <a:ext cx="250560" cy="1634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75080" y="5372280"/>
                  <a:ext cx="372600" cy="2037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016640" y="5157720"/>
                  <a:ext cx="234000" cy="1530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1046520" y="5260320"/>
                  <a:ext cx="236880" cy="1537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1024200" y="5293440"/>
                  <a:ext cx="236880" cy="2527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677880" y="5215320"/>
                  <a:ext cx="480240" cy="2487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546480" y="5098680"/>
                <a:ext cx="741240" cy="478440"/>
                <a:chOff x="546480" y="5098680"/>
                <a:chExt cx="741240" cy="47844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794880" y="5098680"/>
                  <a:ext cx="324720" cy="20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53" y="7101"/>
                      </a:moveTo>
                      <a:arcTo wR="10800" hR="10800" stAng="-9598245" swAng="831905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53" y="7101"/>
                      </a:moveTo>
                      <a:arcTo wR="10800" hR="10800" stAng="-9598245" swAng="8319058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19560" y="5156280"/>
                  <a:ext cx="265680" cy="169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15" y="14097"/>
                      </a:moveTo>
                      <a:arcTo wR="10800" hR="10800" stAng="9733672" swAng="823005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15" y="14097"/>
                      </a:moveTo>
                      <a:arcTo wR="10800" hR="10800" stAng="9733672" swAng="8230052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46480" y="5262840"/>
                  <a:ext cx="232200" cy="18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8" y="19347"/>
                      </a:moveTo>
                      <a:arcTo wR="10800" hR="10800" stAng="7661173" swAng="74372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8" y="19347"/>
                      </a:moveTo>
                      <a:arcTo wR="10800" hR="10800" stAng="7661173" swAng="7437210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592560" y="5340960"/>
                  <a:ext cx="268200" cy="17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75" y="20437"/>
                      </a:moveTo>
                      <a:arcTo wR="10800" hR="10800" stAng="3790096" swAng="72088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75" y="20437"/>
                      </a:moveTo>
                      <a:arcTo wR="10800" hR="10800" stAng="3790096" swAng="720883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777600" y="5400360"/>
                  <a:ext cx="362520" cy="176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83" y="16642"/>
                      </a:moveTo>
                      <a:arcTo wR="10800" hR="10800" stAng="1964880" swAng="82213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83" y="16642"/>
                      </a:moveTo>
                      <a:arcTo wR="10800" hR="10800" stAng="1964880" swAng="8221398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009800" y="5159880"/>
                  <a:ext cx="245160" cy="15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98" y="248"/>
                      </a:moveTo>
                      <a:arcTo wR="10800" hR="10800" stAng="-6138481" swAng="80588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98" y="248"/>
                      </a:moveTo>
                      <a:arcTo wR="10800" hR="10800" stAng="-6138481" swAng="805880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016640" y="5254200"/>
                  <a:ext cx="271080" cy="167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15" y="2039"/>
                      </a:moveTo>
                      <a:arcTo wR="10800" hR="10800" stAng="-3252997" swAng="54509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15" y="2039"/>
                      </a:moveTo>
                      <a:arcTo wR="10800" hR="10800" stAng="-3252997" swAng="545094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017000" y="5306760"/>
                  <a:ext cx="246960" cy="242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930" y="7056"/>
                      </a:moveTo>
                      <a:arcTo wR="10800" hR="10800" stAng="-1216978" swAng="771968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930" y="7056"/>
                      </a:moveTo>
                      <a:arcTo wR="10800" hR="10800" stAng="-1216978" swAng="771968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1" name=""/>
            <p:cNvGrpSpPr/>
            <p:nvPr/>
          </p:nvGrpSpPr>
          <p:grpSpPr>
            <a:xfrm>
              <a:off x="538200" y="5095800"/>
              <a:ext cx="749880" cy="476640"/>
              <a:chOff x="538200" y="5095800"/>
              <a:chExt cx="749880" cy="476640"/>
            </a:xfrm>
          </p:grpSpPr>
          <p:grpSp>
            <p:nvGrpSpPr>
              <p:cNvPr id="862" name=""/>
              <p:cNvGrpSpPr/>
              <p:nvPr/>
            </p:nvGrpSpPr>
            <p:grpSpPr>
              <a:xfrm>
                <a:off x="538200" y="5097240"/>
                <a:ext cx="745560" cy="475200"/>
                <a:chOff x="538200" y="5097240"/>
                <a:chExt cx="745560" cy="47520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94520" y="5097240"/>
                  <a:ext cx="322200" cy="191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615600" y="5151240"/>
                  <a:ext cx="247680" cy="186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538200" y="5271120"/>
                  <a:ext cx="166680" cy="1530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588600" y="5337720"/>
                  <a:ext cx="249120" cy="173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770400" y="5370480"/>
                  <a:ext cx="371520" cy="201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1008000" y="5156280"/>
                  <a:ext cx="243000" cy="1494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1043640" y="5253840"/>
                  <a:ext cx="240120" cy="147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1024200" y="5288760"/>
                  <a:ext cx="234000" cy="2505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676800" y="5212080"/>
                  <a:ext cx="481680" cy="2469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"/>
              <p:cNvGrpSpPr/>
              <p:nvPr/>
            </p:nvGrpSpPr>
            <p:grpSpPr>
              <a:xfrm>
                <a:off x="539280" y="5095800"/>
                <a:ext cx="748800" cy="476280"/>
                <a:chOff x="539280" y="5095800"/>
                <a:chExt cx="748800" cy="476280"/>
              </a:xfrm>
            </p:grpSpPr>
            <p:sp>
              <p:nvSpPr>
                <p:cNvPr id="873" name=""/>
                <p:cNvSpPr/>
                <p:nvPr/>
              </p:nvSpPr>
              <p:spPr>
                <a:xfrm>
                  <a:off x="790920" y="5095800"/>
                  <a:ext cx="326880" cy="19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24" y="7183"/>
                      </a:moveTo>
                      <a:arcTo wR="10800" hR="10800" stAng="-9625959" swAng="83733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24" y="7183"/>
                      </a:moveTo>
                      <a:arcTo wR="10800" hR="10800" stAng="-9625959" swAng="837330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16680" y="5145840"/>
                  <a:ext cx="267480" cy="177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24" y="14123"/>
                      </a:moveTo>
                      <a:arcTo wR="10800" hR="10800" stAng="9724966" swAng="82047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24" y="14123"/>
                      </a:moveTo>
                      <a:arcTo wR="10800" hR="10800" stAng="9724966" swAng="820473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539280" y="5254920"/>
                  <a:ext cx="237960" cy="18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301" y="19426"/>
                      </a:moveTo>
                      <a:arcTo wR="10800" hR="10800" stAng="7619856" swAng="750138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301" y="19426"/>
                      </a:moveTo>
                      <a:arcTo wR="10800" hR="10800" stAng="7619856" swAng="750138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88240" y="5335920"/>
                  <a:ext cx="269640" cy="176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37" y="20456"/>
                      </a:moveTo>
                      <a:arcTo wR="10800" hR="10800" stAng="3803566" swAng="71304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37" y="20456"/>
                      </a:moveTo>
                      <a:arcTo wR="10800" hR="10800" stAng="3803566" swAng="713043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776520" y="5398200"/>
                  <a:ext cx="361080" cy="17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57" y="16683"/>
                      </a:moveTo>
                      <a:arcTo wR="10800" hR="10800" stAng="1980475" swAng="81997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57" y="16683"/>
                      </a:moveTo>
                      <a:arcTo wR="10800" hR="10800" stAng="1980475" swAng="8199797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1009800" y="5158080"/>
                  <a:ext cx="242280" cy="14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71" y="254"/>
                      </a:moveTo>
                      <a:arcTo wR="10800" hR="10800" stAng="-6147261" swAng="803826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71" y="254"/>
                      </a:moveTo>
                      <a:arcTo wR="10800" hR="10800" stAng="-6147261" swAng="8038261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008000" y="5252400"/>
                  <a:ext cx="280080" cy="165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33" y="2052"/>
                      </a:moveTo>
                      <a:arcTo wR="10800" hR="10800" stAng="-3245769" swAng="542929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33" y="2052"/>
                      </a:moveTo>
                      <a:arcTo wR="10800" hR="10800" stAng="-3245769" swAng="5429292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1008720" y="5300280"/>
                  <a:ext cx="255240" cy="242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873" y="6905"/>
                      </a:moveTo>
                      <a:arcTo wR="10800" hR="10800" stAng="-1268461" swAng="778184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873" y="6905"/>
                      </a:moveTo>
                      <a:arcTo wR="10800" hR="10800" stAng="-1268461" swAng="7781841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81" name="" descr=""/>
          <p:cNvPicPr/>
          <p:nvPr/>
        </p:nvPicPr>
        <p:blipFill>
          <a:blip r:embed="rId2"/>
          <a:stretch/>
        </p:blipFill>
        <p:spPr>
          <a:xfrm>
            <a:off x="911160" y="5211720"/>
            <a:ext cx="432000" cy="281160"/>
          </a:xfrm>
          <a:prstGeom prst="rect">
            <a:avLst/>
          </a:prstGeom>
          <a:ln w="0">
            <a:noFill/>
          </a:ln>
        </p:spPr>
      </p:pic>
      <p:grpSp>
        <p:nvGrpSpPr>
          <p:cNvPr id="882" name=""/>
          <p:cNvGrpSpPr/>
          <p:nvPr/>
        </p:nvGrpSpPr>
        <p:grpSpPr>
          <a:xfrm>
            <a:off x="7191360" y="5070600"/>
            <a:ext cx="747720" cy="483840"/>
            <a:chOff x="7191360" y="5070600"/>
            <a:chExt cx="747720" cy="483840"/>
          </a:xfrm>
        </p:grpSpPr>
        <p:grpSp>
          <p:nvGrpSpPr>
            <p:cNvPr id="883" name=""/>
            <p:cNvGrpSpPr/>
            <p:nvPr/>
          </p:nvGrpSpPr>
          <p:grpSpPr>
            <a:xfrm>
              <a:off x="7197120" y="5073840"/>
              <a:ext cx="741960" cy="480600"/>
              <a:chOff x="7197120" y="5073840"/>
              <a:chExt cx="741960" cy="480600"/>
            </a:xfrm>
          </p:grpSpPr>
          <p:grpSp>
            <p:nvGrpSpPr>
              <p:cNvPr id="884" name=""/>
              <p:cNvGrpSpPr/>
              <p:nvPr/>
            </p:nvGrpSpPr>
            <p:grpSpPr>
              <a:xfrm>
                <a:off x="7197120" y="5078880"/>
                <a:ext cx="736920" cy="474120"/>
                <a:chOff x="7197120" y="5078880"/>
                <a:chExt cx="736920" cy="47412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7451640" y="5078880"/>
                  <a:ext cx="316800" cy="1918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274160" y="5131080"/>
                  <a:ext cx="242640" cy="1918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7197120" y="5251320"/>
                  <a:ext cx="160560" cy="1519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244640" y="5322960"/>
                  <a:ext cx="250200" cy="1692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7424640" y="5348880"/>
                  <a:ext cx="375480" cy="204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7666200" y="5132880"/>
                  <a:ext cx="237960" cy="1548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7700040" y="5235840"/>
                  <a:ext cx="234000" cy="1548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7673400" y="5268960"/>
                  <a:ext cx="239760" cy="2541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7328160" y="5192280"/>
                  <a:ext cx="482400" cy="2476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4" name=""/>
              <p:cNvGrpSpPr/>
              <p:nvPr/>
            </p:nvGrpSpPr>
            <p:grpSpPr>
              <a:xfrm>
                <a:off x="7198200" y="5073840"/>
                <a:ext cx="740880" cy="480600"/>
                <a:chOff x="7198200" y="5073840"/>
                <a:chExt cx="740880" cy="48060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7449120" y="5073840"/>
                  <a:ext cx="320760" cy="20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54" y="7100"/>
                      </a:moveTo>
                      <a:arcTo wR="10800" hR="10800" stAng="-9597752" swAng="83178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54" y="7100"/>
                      </a:moveTo>
                      <a:arcTo wR="10800" hR="10800" stAng="-9597752" swAng="8317826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7274160" y="5131080"/>
                  <a:ext cx="262080" cy="169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16" y="14098"/>
                      </a:moveTo>
                      <a:arcTo wR="10800" hR="10800" stAng="9733138" swAng="82134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16" y="14098"/>
                      </a:moveTo>
                      <a:arcTo wR="10800" hR="10800" stAng="9733138" swAng="821345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7198200" y="5236560"/>
                  <a:ext cx="228600" cy="186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260" y="19395"/>
                      </a:moveTo>
                      <a:arcTo wR="10800" hR="10800" stAng="7636219" swAng="74969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260" y="19395"/>
                      </a:moveTo>
                      <a:arcTo wR="10800" hR="10800" stAng="7636219" swAng="749698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7244280" y="5317920"/>
                  <a:ext cx="270360" cy="17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750" y="20399"/>
                      </a:moveTo>
                      <a:arcTo wR="10800" hR="10800" stAng="3763384" swAng="72366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750" y="20399"/>
                      </a:moveTo>
                      <a:arcTo wR="10800" hR="10800" stAng="3763384" swAng="7236647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427880" y="5376960"/>
                  <a:ext cx="361440" cy="177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83" y="16642"/>
                      </a:moveTo>
                      <a:arcTo wR="10800" hR="10800" stAng="1964880" swAng="82213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83" y="16642"/>
                      </a:moveTo>
                      <a:arcTo wR="10800" hR="10800" stAng="1964880" swAng="8221398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662960" y="5134680"/>
                  <a:ext cx="245160" cy="15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522" y="243"/>
                      </a:moveTo>
                      <a:arcTo wR="10800" hR="10800" stAng="-6130522" swAng="80334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522" y="243"/>
                      </a:moveTo>
                      <a:arcTo wR="10800" hR="10800" stAng="-6130522" swAng="8033430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7666560" y="5232600"/>
                  <a:ext cx="272520" cy="16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03" y="2030"/>
                      </a:moveTo>
                      <a:arcTo wR="10800" hR="10800" stAng="-3257509" swAng="54677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03" y="2030"/>
                      </a:moveTo>
                      <a:arcTo wR="10800" hR="10800" stAng="-3257509" swAng="546777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7667280" y="5284080"/>
                  <a:ext cx="251280" cy="242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863" y="6879"/>
                      </a:moveTo>
                      <a:arcTo wR="10800" hR="10800" stAng="-1277417" swAng="780917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863" y="6879"/>
                      </a:moveTo>
                      <a:arcTo wR="10800" hR="10800" stAng="-1277417" swAng="780917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3" name=""/>
            <p:cNvGrpSpPr/>
            <p:nvPr/>
          </p:nvGrpSpPr>
          <p:grpSpPr>
            <a:xfrm>
              <a:off x="7191360" y="5070600"/>
              <a:ext cx="746640" cy="477720"/>
              <a:chOff x="7191360" y="5070600"/>
              <a:chExt cx="746640" cy="477720"/>
            </a:xfrm>
          </p:grpSpPr>
          <p:grpSp>
            <p:nvGrpSpPr>
              <p:cNvPr id="904" name=""/>
              <p:cNvGrpSpPr/>
              <p:nvPr/>
            </p:nvGrpSpPr>
            <p:grpSpPr>
              <a:xfrm>
                <a:off x="7191360" y="5072040"/>
                <a:ext cx="742680" cy="476280"/>
                <a:chOff x="7191360" y="5072040"/>
                <a:chExt cx="742680" cy="47628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7448760" y="5072040"/>
                  <a:ext cx="320040" cy="1936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267320" y="5127840"/>
                  <a:ext cx="248400" cy="1868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7191360" y="5246280"/>
                  <a:ext cx="166680" cy="155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7241760" y="5314680"/>
                  <a:ext cx="246960" cy="17424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7422120" y="5344200"/>
                  <a:ext cx="373320" cy="204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7661880" y="5131080"/>
                  <a:ext cx="242280" cy="1519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7697160" y="5231160"/>
                  <a:ext cx="236880" cy="1461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7673760" y="5265720"/>
                  <a:ext cx="235080" cy="249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7328160" y="5186880"/>
                  <a:ext cx="482400" cy="2512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7192800" y="5070600"/>
                <a:ext cx="745200" cy="477360"/>
                <a:chOff x="7192800" y="5070600"/>
                <a:chExt cx="745200" cy="47736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7445520" y="5070600"/>
                  <a:ext cx="32580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09" y="7226"/>
                      </a:moveTo>
                      <a:arcTo wR="10800" hR="10800" stAng="-9640468" swAng="839202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09" y="7226"/>
                      </a:moveTo>
                      <a:arcTo wR="10800" hR="10800" stAng="-9640468" swAng="839202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7266960" y="5122800"/>
                  <a:ext cx="265680" cy="178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33" y="14152"/>
                      </a:moveTo>
                      <a:arcTo wR="10800" hR="10800" stAng="9715109" swAng="823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33" y="14152"/>
                      </a:moveTo>
                      <a:arcTo wR="10800" hR="10800" stAng="9715109" swAng="823240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7192800" y="5231880"/>
                  <a:ext cx="234360" cy="18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277" y="19408"/>
                      </a:moveTo>
                      <a:arcTo wR="10800" hR="10800" stAng="7629370" swAng="74885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277" y="19408"/>
                      </a:moveTo>
                      <a:arcTo wR="10800" hR="10800" stAng="7629370" swAng="748856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241760" y="5311800"/>
                  <a:ext cx="266400" cy="180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49" y="20450"/>
                      </a:moveTo>
                      <a:arcTo wR="10800" hR="10800" stAng="3799460" swAng="713269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49" y="20450"/>
                      </a:moveTo>
                      <a:arcTo wR="10800" hR="10800" stAng="3799460" swAng="7132695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7426440" y="5374800"/>
                  <a:ext cx="360000" cy="173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57" y="16683"/>
                      </a:moveTo>
                      <a:arcTo wR="10800" hR="10800" stAng="1980475" swAng="81997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57" y="16683"/>
                      </a:moveTo>
                      <a:arcTo wR="10800" hR="10800" stAng="1980475" swAng="8199797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662960" y="5131440"/>
                  <a:ext cx="242280" cy="150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96" y="249"/>
                      </a:moveTo>
                      <a:arcTo wR="10800" hR="10800" stAng="-6139030" swAng="80123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96" y="249"/>
                      </a:moveTo>
                      <a:arcTo wR="10800" hR="10800" stAng="-6139030" swAng="8012366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661880" y="5227560"/>
                  <a:ext cx="276120" cy="165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12" y="2037"/>
                      </a:moveTo>
                      <a:arcTo wR="10800" hR="10800" stAng="-3254106" swAng="54460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12" y="2037"/>
                      </a:moveTo>
                      <a:arcTo wR="10800" hR="10800" stAng="-3254106" swAng="544602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7662600" y="5275080"/>
                  <a:ext cx="254520" cy="243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873" y="6905"/>
                      </a:moveTo>
                      <a:arcTo wR="10800" hR="10800" stAng="-1268461" swAng="778184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873" y="6905"/>
                      </a:moveTo>
                      <a:arcTo wR="10800" hR="10800" stAng="-1268461" swAng="7781841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23" name=""/>
          <p:cNvGrpSpPr/>
          <p:nvPr/>
        </p:nvGrpSpPr>
        <p:grpSpPr>
          <a:xfrm>
            <a:off x="5875200" y="3502080"/>
            <a:ext cx="748440" cy="479880"/>
            <a:chOff x="5875200" y="3502080"/>
            <a:chExt cx="748440" cy="479880"/>
          </a:xfrm>
        </p:grpSpPr>
        <p:grpSp>
          <p:nvGrpSpPr>
            <p:cNvPr id="924" name=""/>
            <p:cNvGrpSpPr/>
            <p:nvPr/>
          </p:nvGrpSpPr>
          <p:grpSpPr>
            <a:xfrm>
              <a:off x="5880960" y="3505320"/>
              <a:ext cx="742680" cy="476640"/>
              <a:chOff x="5880960" y="3505320"/>
              <a:chExt cx="742680" cy="476640"/>
            </a:xfrm>
          </p:grpSpPr>
          <p:grpSp>
            <p:nvGrpSpPr>
              <p:cNvPr id="925" name=""/>
              <p:cNvGrpSpPr/>
              <p:nvPr/>
            </p:nvGrpSpPr>
            <p:grpSpPr>
              <a:xfrm>
                <a:off x="5880960" y="3510360"/>
                <a:ext cx="740160" cy="471600"/>
                <a:chOff x="5880960" y="3510360"/>
                <a:chExt cx="740160" cy="47160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6135840" y="3510360"/>
                  <a:ext cx="317520" cy="191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5956920" y="3562200"/>
                  <a:ext cx="243000" cy="1915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880960" y="3680640"/>
                  <a:ext cx="159480" cy="1530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5930280" y="3753720"/>
                  <a:ext cx="248760" cy="1674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109200" y="3778200"/>
                  <a:ext cx="374400" cy="2037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352200" y="3562200"/>
                  <a:ext cx="235800" cy="1551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383880" y="3665520"/>
                  <a:ext cx="237240" cy="1548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360120" y="3700080"/>
                  <a:ext cx="235440" cy="2520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015240" y="3621600"/>
                  <a:ext cx="478800" cy="249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5" name=""/>
              <p:cNvGrpSpPr/>
              <p:nvPr/>
            </p:nvGrpSpPr>
            <p:grpSpPr>
              <a:xfrm>
                <a:off x="5882040" y="3505320"/>
                <a:ext cx="741600" cy="476280"/>
                <a:chOff x="5882040" y="3505320"/>
                <a:chExt cx="741600" cy="47628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6133320" y="3505320"/>
                  <a:ext cx="32292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99" y="7253"/>
                      </a:moveTo>
                      <a:arcTo wR="10800" hR="10800" stAng="-9649473" swAng="84102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99" y="7253"/>
                      </a:moveTo>
                      <a:arcTo wR="10800" hR="10800" stAng="-9649473" swAng="8410291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5956560" y="3562560"/>
                  <a:ext cx="262800" cy="170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10" y="14080"/>
                      </a:moveTo>
                      <a:arcTo wR="10800" hR="10800" stAng="9739289" swAng="819903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10" y="14080"/>
                      </a:moveTo>
                      <a:arcTo wR="10800" hR="10800" stAng="9739289" swAng="8199036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5882040" y="3667320"/>
                  <a:ext cx="232200" cy="185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198" y="19347"/>
                      </a:moveTo>
                      <a:arcTo wR="10800" hR="10800" stAng="7661173" swAng="74372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198" y="19347"/>
                      </a:moveTo>
                      <a:arcTo wR="10800" hR="10800" stAng="7661173" swAng="7437210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929920" y="3747240"/>
                  <a:ext cx="267840" cy="177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96" y="20426"/>
                      </a:moveTo>
                      <a:arcTo wR="10800" hR="10800" stAng="3782412" swAng="721761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96" y="20426"/>
                      </a:moveTo>
                      <a:arcTo wR="10800" hR="10800" stAng="3782412" swAng="7217618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6111720" y="3808440"/>
                  <a:ext cx="361440" cy="173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57" y="16683"/>
                      </a:moveTo>
                      <a:arcTo wR="10800" hR="10800" stAng="1980475" swAng="819979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57" y="16683"/>
                      </a:moveTo>
                      <a:arcTo wR="10800" hR="10800" stAng="1980475" swAng="8199797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346080" y="3564360"/>
                  <a:ext cx="245520" cy="154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522" y="243"/>
                      </a:moveTo>
                      <a:arcTo wR="10800" hR="10800" stAng="-6130522" swAng="80334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522" y="243"/>
                      </a:moveTo>
                      <a:arcTo wR="10800" hR="10800" stAng="-6130522" swAng="8033430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6352560" y="3664080"/>
                  <a:ext cx="271080" cy="163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071" y="2007"/>
                      </a:moveTo>
                      <a:arcTo wR="10800" hR="10800" stAng="-3270044" swAng="54852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071" y="2007"/>
                      </a:moveTo>
                      <a:arcTo wR="10800" hR="10800" stAng="-3270044" swAng="548525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6352920" y="3713040"/>
                  <a:ext cx="246240" cy="238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913" y="7008"/>
                      </a:moveTo>
                      <a:arcTo wR="10800" hR="10800" stAng="-1233150" swAng="77367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913" y="7008"/>
                      </a:moveTo>
                      <a:arcTo wR="10800" hR="10800" stAng="-1233150" swAng="7736762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4" name=""/>
            <p:cNvGrpSpPr/>
            <p:nvPr/>
          </p:nvGrpSpPr>
          <p:grpSpPr>
            <a:xfrm>
              <a:off x="5875200" y="3502080"/>
              <a:ext cx="747000" cy="478080"/>
              <a:chOff x="5875200" y="3502080"/>
              <a:chExt cx="747000" cy="47808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5875200" y="3503520"/>
                <a:ext cx="745920" cy="475200"/>
                <a:chOff x="5875200" y="3503520"/>
                <a:chExt cx="745920" cy="47520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6131880" y="3503520"/>
                  <a:ext cx="322200" cy="1918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5951160" y="3559320"/>
                  <a:ext cx="247680" cy="1843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875200" y="3677400"/>
                  <a:ext cx="165600" cy="1533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925960" y="3744000"/>
                  <a:ext cx="247680" cy="17388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6106680" y="3777120"/>
                  <a:ext cx="372960" cy="2016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6345000" y="3562560"/>
                  <a:ext cx="243000" cy="1497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6381000" y="3662280"/>
                  <a:ext cx="240120" cy="14580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6360480" y="3695400"/>
                  <a:ext cx="234000" cy="24876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6013800" y="3620160"/>
                  <a:ext cx="480600" cy="2491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5" name=""/>
              <p:cNvGrpSpPr/>
              <p:nvPr/>
            </p:nvGrpSpPr>
            <p:grpSpPr>
              <a:xfrm>
                <a:off x="5876640" y="3502080"/>
                <a:ext cx="745560" cy="478080"/>
                <a:chOff x="5876640" y="3502080"/>
                <a:chExt cx="745560" cy="47808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6126840" y="3502080"/>
                  <a:ext cx="326880" cy="19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24" y="7183"/>
                      </a:moveTo>
                      <a:arcTo wR="10800" hR="10800" stAng="-9625959" swAng="837330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24" y="7183"/>
                      </a:moveTo>
                      <a:arcTo wR="10800" hR="10800" stAng="-9625959" swAng="837330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950800" y="3552480"/>
                  <a:ext cx="266400" cy="176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33" y="14152"/>
                      </a:moveTo>
                      <a:arcTo wR="10800" hR="10800" stAng="9715109" swAng="823240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33" y="14152"/>
                      </a:moveTo>
                      <a:arcTo wR="10800" hR="10800" stAng="9715109" swAng="823240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876640" y="3664080"/>
                  <a:ext cx="237960" cy="185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216" y="19361"/>
                      </a:moveTo>
                      <a:arcTo wR="10800" hR="10800" stAng="7653817" swAng="74303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216" y="19361"/>
                      </a:moveTo>
                      <a:arcTo wR="10800" hR="10800" stAng="7653817" swAng="7430366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924160" y="3742920"/>
                  <a:ext cx="269640" cy="17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37" y="20456"/>
                      </a:moveTo>
                      <a:arcTo wR="10800" hR="10800" stAng="3803566" swAng="71304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37" y="20456"/>
                      </a:moveTo>
                      <a:arcTo wR="10800" hR="10800" stAng="3803566" swAng="7130439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6113880" y="3803400"/>
                  <a:ext cx="362520" cy="176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83" y="16642"/>
                      </a:moveTo>
                      <a:arcTo wR="10800" hR="10800" stAng="1964880" swAng="822139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83" y="16642"/>
                      </a:moveTo>
                      <a:arcTo wR="10800" hR="10800" stAng="1964880" swAng="8221398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6347160" y="3564720"/>
                  <a:ext cx="242280" cy="147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71" y="254"/>
                      </a:moveTo>
                      <a:arcTo wR="10800" hR="10800" stAng="-6147261" swAng="803826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71" y="254"/>
                      </a:moveTo>
                      <a:arcTo wR="10800" hR="10800" stAng="-6147261" swAng="8038261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6345360" y="3659040"/>
                  <a:ext cx="276840" cy="164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12" y="2037"/>
                      </a:moveTo>
                      <a:arcTo wR="10800" hR="10800" stAng="-3254106" swAng="54460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12" y="2037"/>
                      </a:moveTo>
                      <a:arcTo wR="10800" hR="10800" stAng="-3254106" swAng="5446024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346080" y="3706920"/>
                  <a:ext cx="255240" cy="24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925" y="7043"/>
                      </a:moveTo>
                      <a:arcTo wR="10800" hR="10800" stAng="-1221494" swAng="7732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925" y="7043"/>
                      </a:moveTo>
                      <a:arcTo wR="10800" hR="10800" stAng="-1221494" swAng="7732523"/>
                    </a:path>
                  </a:pathLst>
                </a:custGeom>
                <a:solidFill>
                  <a:srgbClr val="ffff00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4" name=""/>
          <p:cNvSpPr/>
          <p:nvPr/>
        </p:nvSpPr>
        <p:spPr>
          <a:xfrm flipH="1">
            <a:off x="5281200" y="3821040"/>
            <a:ext cx="569880" cy="5158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3"/>
          <a:stretch/>
        </p:blipFill>
        <p:spPr>
          <a:xfrm>
            <a:off x="5732640" y="3718080"/>
            <a:ext cx="326880" cy="20772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/>
          <p:nvPr/>
        </p:nvSpPr>
        <p:spPr>
          <a:xfrm flipH="1">
            <a:off x="5452920" y="5425920"/>
            <a:ext cx="170208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 flipV="1">
            <a:off x="1839960" y="4331880"/>
            <a:ext cx="750960" cy="87480"/>
          </a:xfrm>
          <a:prstGeom prst="line">
            <a:avLst/>
          </a:prstGeom>
          <a:ln w="2556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1327320" y="4005360"/>
            <a:ext cx="760680" cy="516240"/>
            <a:chOff x="1327320" y="4005360"/>
            <a:chExt cx="760680" cy="516240"/>
          </a:xfrm>
        </p:grpSpPr>
        <p:grpSp>
          <p:nvGrpSpPr>
            <p:cNvPr id="969" name=""/>
            <p:cNvGrpSpPr/>
            <p:nvPr/>
          </p:nvGrpSpPr>
          <p:grpSpPr>
            <a:xfrm>
              <a:off x="1331640" y="4010760"/>
              <a:ext cx="756360" cy="510840"/>
              <a:chOff x="1331640" y="4010760"/>
              <a:chExt cx="756360" cy="510840"/>
            </a:xfrm>
          </p:grpSpPr>
          <p:grpSp>
            <p:nvGrpSpPr>
              <p:cNvPr id="970" name=""/>
              <p:cNvGrpSpPr/>
              <p:nvPr/>
            </p:nvGrpSpPr>
            <p:grpSpPr>
              <a:xfrm>
                <a:off x="1331640" y="4014000"/>
                <a:ext cx="753480" cy="507600"/>
                <a:chOff x="1331640" y="4014000"/>
                <a:chExt cx="753480" cy="50760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1594800" y="4014000"/>
                  <a:ext cx="322560" cy="2073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1410480" y="4069800"/>
                  <a:ext cx="248040" cy="2055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1331640" y="4202280"/>
                  <a:ext cx="166320" cy="1602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1384920" y="4275360"/>
                  <a:ext cx="250920" cy="18144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1566360" y="4305240"/>
                  <a:ext cx="381960" cy="2163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1811520" y="4072680"/>
                  <a:ext cx="240840" cy="1641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1847160" y="4185000"/>
                  <a:ext cx="237960" cy="1620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1819440" y="4217760"/>
                  <a:ext cx="241920" cy="27072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1469520" y="4132080"/>
                  <a:ext cx="484560" cy="2721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1333080" y="4010760"/>
                <a:ext cx="754920" cy="510480"/>
                <a:chOff x="1333080" y="4010760"/>
                <a:chExt cx="754920" cy="51048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1590120" y="4010760"/>
                  <a:ext cx="329400" cy="212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96" y="7263"/>
                      </a:moveTo>
                      <a:arcTo wR="10800" hR="10800" stAng="-9653008" swAng="844250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96" y="7263"/>
                      </a:moveTo>
                      <a:arcTo wR="10800" hR="10800" stAng="-9653008" swAng="844250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1410120" y="4069800"/>
                  <a:ext cx="264600" cy="18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88" y="14009"/>
                      </a:moveTo>
                      <a:arcTo wR="10800" hR="10800" stAng="9762717" swAng="819119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88" y="14009"/>
                      </a:moveTo>
                      <a:arcTo wR="10800" hR="10800" stAng="9762717" swAng="8191192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1333080" y="4187160"/>
                  <a:ext cx="236520" cy="19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302" y="19426"/>
                      </a:moveTo>
                      <a:arcTo wR="10800" hR="10800" stAng="7619516" swAng="751261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302" y="19426"/>
                      </a:moveTo>
                      <a:arcTo wR="10800" hR="10800" stAng="7619516" swAng="751261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1383120" y="4268880"/>
                  <a:ext cx="273240" cy="194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702" y="20424"/>
                      </a:moveTo>
                      <a:arcTo wR="10800" hR="10800" stAng="3780569" swAng="71421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702" y="20424"/>
                      </a:moveTo>
                      <a:arcTo wR="10800" hR="10800" stAng="3780569" swAng="7142155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1570320" y="4336560"/>
                  <a:ext cx="365400" cy="18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934" y="16563"/>
                      </a:moveTo>
                      <a:arcTo wR="10800" hR="10800" stAng="1934832" swAng="82137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934" y="16563"/>
                      </a:moveTo>
                      <a:arcTo wR="10800" hR="10800" stAng="1934832" swAng="821372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1808640" y="4075200"/>
                  <a:ext cx="246240" cy="162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64" y="256"/>
                      </a:moveTo>
                      <a:arcTo wR="10800" hR="10800" stAng="-6149631" swAng="80212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64" y="256"/>
                      </a:moveTo>
                      <a:arcTo wR="10800" hR="10800" stAng="-6149631" swAng="8021253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1811880" y="4178880"/>
                  <a:ext cx="276120" cy="174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181" y="2087"/>
                      </a:moveTo>
                      <a:arcTo wR="10800" hR="10800" stAng="-3226932" swAng="53894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181" y="2087"/>
                      </a:moveTo>
                      <a:arcTo wR="10800" hR="10800" stAng="-3226932" swAng="5389434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1811520" y="4230720"/>
                  <a:ext cx="252000" cy="261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919" y="7026"/>
                      </a:moveTo>
                      <a:arcTo wR="10800" hR="10800" stAng="-1227318" swAng="774024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919" y="7026"/>
                      </a:moveTo>
                      <a:arcTo wR="10800" hR="10800" stAng="-1227318" swAng="774024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9" name=""/>
            <p:cNvGrpSpPr/>
            <p:nvPr/>
          </p:nvGrpSpPr>
          <p:grpSpPr>
            <a:xfrm>
              <a:off x="1327320" y="4005360"/>
              <a:ext cx="758880" cy="509040"/>
              <a:chOff x="1327320" y="4005360"/>
              <a:chExt cx="758880" cy="509040"/>
            </a:xfrm>
          </p:grpSpPr>
          <p:grpSp>
            <p:nvGrpSpPr>
              <p:cNvPr id="990" name=""/>
              <p:cNvGrpSpPr/>
              <p:nvPr/>
            </p:nvGrpSpPr>
            <p:grpSpPr>
              <a:xfrm>
                <a:off x="1327320" y="4008600"/>
                <a:ext cx="758160" cy="505800"/>
                <a:chOff x="1327320" y="4008600"/>
                <a:chExt cx="758160" cy="5058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1589040" y="4008600"/>
                  <a:ext cx="328680" cy="20592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1406160" y="4066200"/>
                  <a:ext cx="250920" cy="20052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1327320" y="4191480"/>
                  <a:ext cx="169560" cy="1677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1379160" y="4266720"/>
                  <a:ext cx="254160" cy="18468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1563480" y="4300200"/>
                  <a:ext cx="379440" cy="2142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1807560" y="4069800"/>
                  <a:ext cx="245520" cy="1602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1846080" y="4177800"/>
                  <a:ext cx="239400" cy="1584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1819440" y="4214520"/>
                  <a:ext cx="240480" cy="26640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1468440" y="4130640"/>
                  <a:ext cx="486000" cy="268560"/>
                </a:xfrm>
                <a:prstGeom prst="ellipse">
                  <a:avLst/>
                </a:prstGeom>
                <a:solidFill>
                  <a:srgbClr val="00d8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1328400" y="4005360"/>
                <a:ext cx="757800" cy="509040"/>
                <a:chOff x="1328400" y="4005360"/>
                <a:chExt cx="757800" cy="509040"/>
              </a:xfrm>
            </p:grpSpPr>
            <p:sp>
              <p:nvSpPr>
                <p:cNvPr id="1001" name=""/>
                <p:cNvSpPr/>
                <p:nvPr/>
              </p:nvSpPr>
              <p:spPr>
                <a:xfrm>
                  <a:off x="1585800" y="4005360"/>
                  <a:ext cx="335160" cy="212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55" y="7097"/>
                      </a:moveTo>
                      <a:arcTo wR="10800" hR="10800" stAng="-9597028" swAng="83198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55" y="7097"/>
                      </a:moveTo>
                      <a:arcTo wR="10800" hR="10800" stAng="-9597028" swAng="8319844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1405800" y="4062960"/>
                  <a:ext cx="267840" cy="188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27" y="14133"/>
                      </a:moveTo>
                      <a:arcTo wR="10800" hR="10800" stAng="9721382" swAng="821260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27" y="14133"/>
                      </a:moveTo>
                      <a:arcTo wR="10800" hR="10800" stAng="9721382" swAng="8212608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1328400" y="417852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348" y="19461"/>
                      </a:moveTo>
                      <a:arcTo wR="10800" hR="10800" stAng="7601164" swAng="750114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348" y="19461"/>
                      </a:moveTo>
                      <a:arcTo wR="10800" hR="10800" stAng="7601164" swAng="7501143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1377360" y="4264560"/>
                  <a:ext cx="27504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611" y="20469"/>
                      </a:moveTo>
                      <a:arcTo wR="10800" hR="10800" stAng="3812930" swAng="711135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611" y="20469"/>
                      </a:moveTo>
                      <a:arcTo wR="10800" hR="10800" stAng="3812930" swAng="7111353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1570680" y="4329720"/>
                  <a:ext cx="367560" cy="184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924" y="16579"/>
                      </a:moveTo>
                      <a:arcTo wR="10800" hR="10800" stAng="1941131" swAng="821007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924" y="16579"/>
                      </a:moveTo>
                      <a:arcTo wR="10800" hR="10800" stAng="1941131" swAng="8210077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1810080" y="4071600"/>
                  <a:ext cx="243720" cy="159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449" y="259"/>
                      </a:moveTo>
                      <a:arcTo wR="10800" hR="10800" stAng="-6154375" swAng="8071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449" y="259"/>
                      </a:moveTo>
                      <a:arcTo wR="10800" hR="10800" stAng="-6154375" swAng="807177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1807920" y="4173120"/>
                  <a:ext cx="278280" cy="176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7230" y="2123"/>
                      </a:moveTo>
                      <a:arcTo wR="10800" hR="10800" stAng="-3207586" swAng="539156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7230" y="2123"/>
                      </a:moveTo>
                      <a:arcTo wR="10800" hR="10800" stAng="-3207586" swAng="5391566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1807920" y="4226400"/>
                  <a:ext cx="257400" cy="263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873" y="6905"/>
                      </a:moveTo>
                      <a:arcTo wR="10800" hR="10800" stAng="-1268406" swAng="78080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873" y="6905"/>
                      </a:moveTo>
                      <a:arcTo wR="10800" hR="10800" stAng="-1268406" swAng="7808062"/>
                    </a:path>
                  </a:pathLst>
                </a:custGeom>
                <a:solidFill>
                  <a:srgbClr val="00d86f"/>
                </a:solidFill>
                <a:ln cap="rnd" w="12600">
                  <a:solidFill>
                    <a:srgbClr val="49616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09" name="" descr=""/>
          <p:cNvPicPr/>
          <p:nvPr/>
        </p:nvPicPr>
        <p:blipFill>
          <a:blip r:embed="rId4"/>
          <a:stretch/>
        </p:blipFill>
        <p:spPr>
          <a:xfrm>
            <a:off x="1746360" y="4162320"/>
            <a:ext cx="404640" cy="308160"/>
          </a:xfrm>
          <a:prstGeom prst="rect">
            <a:avLst/>
          </a:prstGeom>
          <a:ln w="0">
            <a:noFill/>
          </a:ln>
        </p:spPr>
      </p:pic>
      <p:sp>
        <p:nvSpPr>
          <p:cNvPr id="1010" name=""/>
          <p:cNvSpPr/>
          <p:nvPr/>
        </p:nvSpPr>
        <p:spPr>
          <a:xfrm>
            <a:off x="1135800" y="4363920"/>
            <a:ext cx="53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0.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434720" y="5364000"/>
            <a:ext cx="53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0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47360" y="3693960"/>
            <a:ext cx="53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1.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23000" y="5281560"/>
            <a:ext cx="532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11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5"/>
          <a:stretch/>
        </p:blipFill>
        <p:spPr>
          <a:xfrm>
            <a:off x="4200480" y="4384800"/>
            <a:ext cx="399960" cy="503280"/>
          </a:xfrm>
          <a:prstGeom prst="rect">
            <a:avLst/>
          </a:prstGeom>
          <a:ln w="0">
            <a:noFill/>
          </a:ln>
        </p:spPr>
      </p:pic>
      <p:pic>
        <p:nvPicPr>
          <p:cNvPr id="1015" name="" descr=""/>
          <p:cNvPicPr/>
          <p:nvPr/>
        </p:nvPicPr>
        <p:blipFill>
          <a:blip r:embed="rId6"/>
          <a:stretch/>
        </p:blipFill>
        <p:spPr>
          <a:xfrm>
            <a:off x="4200480" y="4978440"/>
            <a:ext cx="401760" cy="50472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7"/>
          <a:stretch/>
        </p:blipFill>
        <p:spPr>
          <a:xfrm>
            <a:off x="3371760" y="4384800"/>
            <a:ext cx="403200" cy="50328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8"/>
          <a:stretch/>
        </p:blipFill>
        <p:spPr>
          <a:xfrm>
            <a:off x="3368520" y="4978440"/>
            <a:ext cx="405000" cy="50472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9"/>
          <a:stretch/>
        </p:blipFill>
        <p:spPr>
          <a:xfrm>
            <a:off x="5094360" y="5140440"/>
            <a:ext cx="544320" cy="39348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/>
          <p:cNvPicPr/>
          <p:nvPr/>
        </p:nvPicPr>
        <p:blipFill>
          <a:blip r:embed="rId10"/>
          <a:stretch/>
        </p:blipFill>
        <p:spPr>
          <a:xfrm>
            <a:off x="5022720" y="4219560"/>
            <a:ext cx="544680" cy="39384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/>
          <p:cNvPicPr/>
          <p:nvPr/>
        </p:nvPicPr>
        <p:blipFill>
          <a:blip r:embed="rId11"/>
          <a:stretch/>
        </p:blipFill>
        <p:spPr>
          <a:xfrm>
            <a:off x="2517840" y="4219560"/>
            <a:ext cx="544320" cy="393840"/>
          </a:xfrm>
          <a:prstGeom prst="rect">
            <a:avLst/>
          </a:prstGeom>
          <a:ln w="0">
            <a:noFill/>
          </a:ln>
        </p:spPr>
      </p:pic>
      <p:pic>
        <p:nvPicPr>
          <p:cNvPr id="1021" name="" descr=""/>
          <p:cNvPicPr/>
          <p:nvPr/>
        </p:nvPicPr>
        <p:blipFill>
          <a:blip r:embed="rId12"/>
          <a:stretch/>
        </p:blipFill>
        <p:spPr>
          <a:xfrm>
            <a:off x="2590920" y="5222880"/>
            <a:ext cx="544320" cy="395280"/>
          </a:xfrm>
          <a:prstGeom prst="rect">
            <a:avLst/>
          </a:prstGeom>
          <a:ln w="0">
            <a:noFill/>
          </a:ln>
        </p:spPr>
      </p:pic>
      <p:sp>
        <p:nvSpPr>
          <p:cNvPr id="1022" name=""/>
          <p:cNvSpPr/>
          <p:nvPr/>
        </p:nvSpPr>
        <p:spPr>
          <a:xfrm>
            <a:off x="5719680" y="377496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57240" y="436392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069920" y="503244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3"/>
          <a:stretch/>
        </p:blipFill>
        <p:spPr>
          <a:xfrm>
            <a:off x="7048440" y="5288040"/>
            <a:ext cx="328680" cy="21096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7080120" y="536400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929200" y="4286160"/>
            <a:ext cx="24865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1 Mb/s Guarant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752480" y="5407200"/>
            <a:ext cx="1295640" cy="74520"/>
          </a:xfrm>
          <a:custGeom>
            <a:avLst/>
            <a:gdLst/>
            <a:ahLst/>
            <a:rect l="l" t="t" r="r" b="b"/>
            <a:pathLst>
              <a:path w="2400" h="760">
                <a:moveTo>
                  <a:pt x="2400" y="0"/>
                </a:moveTo>
                <a:cubicBezTo>
                  <a:pt x="2196" y="180"/>
                  <a:pt x="1992" y="360"/>
                  <a:pt x="1728" y="480"/>
                </a:cubicBezTo>
                <a:cubicBezTo>
                  <a:pt x="1464" y="600"/>
                  <a:pt x="1104" y="680"/>
                  <a:pt x="816" y="720"/>
                </a:cubicBezTo>
                <a:cubicBezTo>
                  <a:pt x="528" y="760"/>
                  <a:pt x="264" y="740"/>
                  <a:pt x="0" y="720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114440" y="3352680"/>
            <a:ext cx="14410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2 Mb/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uarant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971800" y="4343400"/>
            <a:ext cx="2286000" cy="990720"/>
          </a:xfrm>
          <a:custGeom>
            <a:avLst/>
            <a:gdLst/>
            <a:ahLst/>
            <a:rect l="l" t="t" r="r" b="b"/>
            <a:pathLst>
              <a:path w="1440" h="624">
                <a:moveTo>
                  <a:pt x="1440" y="0"/>
                </a:moveTo>
                <a:cubicBezTo>
                  <a:pt x="1224" y="32"/>
                  <a:pt x="1008" y="64"/>
                  <a:pt x="912" y="144"/>
                </a:cubicBezTo>
                <a:cubicBezTo>
                  <a:pt x="816" y="224"/>
                  <a:pt x="952" y="416"/>
                  <a:pt x="864" y="480"/>
                </a:cubicBezTo>
                <a:cubicBezTo>
                  <a:pt x="776" y="544"/>
                  <a:pt x="528" y="504"/>
                  <a:pt x="384" y="528"/>
                </a:cubicBezTo>
                <a:cubicBezTo>
                  <a:pt x="240" y="552"/>
                  <a:pt x="120" y="588"/>
                  <a:pt x="0" y="624"/>
                </a:cubicBezTo>
              </a:path>
            </a:pathLst>
          </a:custGeom>
          <a:noFill/>
          <a:ln w="127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181480" y="3886200"/>
            <a:ext cx="533520" cy="455760"/>
          </a:xfrm>
          <a:custGeom>
            <a:avLst/>
            <a:gdLst/>
            <a:ahLst/>
            <a:rect l="l" t="t" r="r" b="b"/>
            <a:pathLst>
              <a:path w="2400" h="760">
                <a:moveTo>
                  <a:pt x="2400" y="0"/>
                </a:moveTo>
                <a:cubicBezTo>
                  <a:pt x="2196" y="180"/>
                  <a:pt x="1992" y="360"/>
                  <a:pt x="1728" y="480"/>
                </a:cubicBezTo>
                <a:cubicBezTo>
                  <a:pt x="1464" y="600"/>
                  <a:pt x="1104" y="680"/>
                  <a:pt x="816" y="720"/>
                </a:cubicBezTo>
                <a:cubicBezTo>
                  <a:pt x="528" y="760"/>
                  <a:pt x="264" y="740"/>
                  <a:pt x="0" y="720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495680" y="4572000"/>
            <a:ext cx="774720" cy="838080"/>
          </a:xfrm>
          <a:custGeom>
            <a:avLst/>
            <a:gdLst/>
            <a:ahLst/>
            <a:rect l="l" t="t" r="r" b="b"/>
            <a:pathLst>
              <a:path w="392" h="528">
                <a:moveTo>
                  <a:pt x="392" y="0"/>
                </a:moveTo>
                <a:cubicBezTo>
                  <a:pt x="252" y="36"/>
                  <a:pt x="112" y="72"/>
                  <a:pt x="56" y="144"/>
                </a:cubicBezTo>
                <a:cubicBezTo>
                  <a:pt x="0" y="216"/>
                  <a:pt x="0" y="368"/>
                  <a:pt x="56" y="432"/>
                </a:cubicBezTo>
                <a:cubicBezTo>
                  <a:pt x="112" y="496"/>
                  <a:pt x="252" y="512"/>
                  <a:pt x="392" y="528"/>
                </a:cubicBezTo>
              </a:path>
            </a:pathLst>
          </a:custGeom>
          <a:noFill/>
          <a:ln w="127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105520" y="5410080"/>
            <a:ext cx="1371600" cy="177840"/>
          </a:xfrm>
          <a:custGeom>
            <a:avLst/>
            <a:gdLst/>
            <a:ahLst/>
            <a:rect l="l" t="t" r="r" b="b"/>
            <a:pathLst>
              <a:path w="864" h="112">
                <a:moveTo>
                  <a:pt x="0" y="0"/>
                </a:moveTo>
                <a:cubicBezTo>
                  <a:pt x="168" y="40"/>
                  <a:pt x="336" y="80"/>
                  <a:pt x="480" y="96"/>
                </a:cubicBezTo>
                <a:cubicBezTo>
                  <a:pt x="624" y="112"/>
                  <a:pt x="744" y="104"/>
                  <a:pt x="864" y="96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5257800" y="4483080"/>
            <a:ext cx="609480" cy="88920"/>
          </a:xfrm>
          <a:custGeom>
            <a:avLst/>
            <a:gdLst/>
            <a:ahLst/>
            <a:rect l="l" t="t" r="r" b="b"/>
            <a:pathLst>
              <a:path w="384" h="56">
                <a:moveTo>
                  <a:pt x="384" y="8"/>
                </a:moveTo>
                <a:cubicBezTo>
                  <a:pt x="296" y="4"/>
                  <a:pt x="208" y="0"/>
                  <a:pt x="144" y="8"/>
                </a:cubicBezTo>
                <a:cubicBezTo>
                  <a:pt x="80" y="16"/>
                  <a:pt x="40" y="36"/>
                  <a:pt x="0" y="56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57200" y="6159600"/>
            <a:ext cx="609480" cy="88920"/>
          </a:xfrm>
          <a:custGeom>
            <a:avLst/>
            <a:gdLst/>
            <a:ahLst/>
            <a:rect l="l" t="t" r="r" b="b"/>
            <a:pathLst>
              <a:path w="384" h="56">
                <a:moveTo>
                  <a:pt x="0" y="8"/>
                </a:moveTo>
                <a:cubicBezTo>
                  <a:pt x="64" y="4"/>
                  <a:pt x="128" y="0"/>
                  <a:pt x="192" y="8"/>
                </a:cubicBezTo>
                <a:cubicBezTo>
                  <a:pt x="256" y="16"/>
                  <a:pt x="320" y="36"/>
                  <a:pt x="384" y="56"/>
                </a:cubicBezTo>
              </a:path>
            </a:pathLst>
          </a:custGeom>
          <a:noFill/>
          <a:ln w="127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175400" y="6019920"/>
            <a:ext cx="679320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S-TE LSP for AF or EF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sed to transport Guaranteed Bandwidth traffic edge-to-e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380880" y="4648320"/>
            <a:ext cx="82296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8000"/>
          </a:bodyPr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PLS Diff-Serv and MPLS TE to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ff-Serv-aware-TE (DS-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per Class 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Guaranteed Bandwidth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VoMP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8200" rIns="8820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VoMPLS over Diff-Serv EF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4238640" cy="255744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/>
          <p:nvPr/>
        </p:nvSpPr>
        <p:spPr>
          <a:xfrm>
            <a:off x="3867120" y="4121280"/>
            <a:ext cx="1154160" cy="630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4013280" y="4055760"/>
            <a:ext cx="1041480" cy="755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3867120" y="4055760"/>
            <a:ext cx="1154160" cy="651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714760" y="3960720"/>
            <a:ext cx="1098360" cy="160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867120" y="4226040"/>
            <a:ext cx="104760" cy="5252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22800" y="4019040"/>
            <a:ext cx="0" cy="792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122800" y="3960720"/>
            <a:ext cx="1336680" cy="426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H="1">
            <a:off x="4729320" y="4811760"/>
            <a:ext cx="442800" cy="799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505240" y="4692600"/>
            <a:ext cx="1361880" cy="58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133960" y="4711680"/>
            <a:ext cx="961920" cy="612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flipH="1">
            <a:off x="3584520" y="4851360"/>
            <a:ext cx="387360" cy="479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3971880" y="4811760"/>
            <a:ext cx="1150920" cy="396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2"/>
          <a:stretch/>
        </p:blipFill>
        <p:spPr>
          <a:xfrm>
            <a:off x="3722760" y="4481640"/>
            <a:ext cx="465120" cy="598320"/>
          </a:xfrm>
          <a:prstGeom prst="rect">
            <a:avLst/>
          </a:prstGeom>
          <a:ln w="0">
            <a:noFill/>
          </a:ln>
        </p:spPr>
      </p:pic>
      <p:pic>
        <p:nvPicPr>
          <p:cNvPr id="1055" name="" descr=""/>
          <p:cNvPicPr/>
          <p:nvPr/>
        </p:nvPicPr>
        <p:blipFill>
          <a:blip r:embed="rId3"/>
          <a:stretch/>
        </p:blipFill>
        <p:spPr>
          <a:xfrm>
            <a:off x="4836960" y="3641760"/>
            <a:ext cx="462240" cy="593640"/>
          </a:xfrm>
          <a:prstGeom prst="rect">
            <a:avLst/>
          </a:prstGeom>
          <a:ln w="0">
            <a:noFill/>
          </a:ln>
        </p:spPr>
      </p:pic>
      <p:pic>
        <p:nvPicPr>
          <p:cNvPr id="1056" name="" descr=""/>
          <p:cNvPicPr/>
          <p:nvPr/>
        </p:nvPicPr>
        <p:blipFill>
          <a:blip r:embed="rId4"/>
          <a:stretch/>
        </p:blipFill>
        <p:spPr>
          <a:xfrm>
            <a:off x="3249720" y="5213520"/>
            <a:ext cx="671400" cy="34416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5"/>
          <a:stretch/>
        </p:blipFill>
        <p:spPr>
          <a:xfrm>
            <a:off x="2185920" y="4524480"/>
            <a:ext cx="666720" cy="339480"/>
          </a:xfrm>
          <a:prstGeom prst="rect">
            <a:avLst/>
          </a:prstGeom>
          <a:ln w="0">
            <a:noFill/>
          </a:ln>
        </p:spPr>
      </p:pic>
      <p:pic>
        <p:nvPicPr>
          <p:cNvPr id="1058" name="" descr=""/>
          <p:cNvPicPr/>
          <p:nvPr/>
        </p:nvPicPr>
        <p:blipFill>
          <a:blip r:embed="rId6"/>
          <a:stretch/>
        </p:blipFill>
        <p:spPr>
          <a:xfrm>
            <a:off x="5813280" y="5222880"/>
            <a:ext cx="666720" cy="33984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7"/>
          <a:stretch/>
        </p:blipFill>
        <p:spPr>
          <a:xfrm>
            <a:off x="4402080" y="5408640"/>
            <a:ext cx="669960" cy="34128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8"/>
          <a:stretch/>
        </p:blipFill>
        <p:spPr>
          <a:xfrm>
            <a:off x="3643200" y="3720960"/>
            <a:ext cx="573120" cy="61776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/>
          <p:nvPr/>
        </p:nvSpPr>
        <p:spPr>
          <a:xfrm>
            <a:off x="6018120" y="3376440"/>
            <a:ext cx="1830600" cy="1374840"/>
          </a:xfrm>
          <a:prstGeom prst="rect">
            <a:avLst/>
          </a:prstGeom>
          <a:solidFill>
            <a:srgbClr val="b3ff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2" name="" descr=""/>
          <p:cNvPicPr/>
          <p:nvPr/>
        </p:nvPicPr>
        <p:blipFill>
          <a:blip r:embed="rId9"/>
          <a:stretch/>
        </p:blipFill>
        <p:spPr>
          <a:xfrm>
            <a:off x="4857840" y="4468680"/>
            <a:ext cx="574560" cy="617760"/>
          </a:xfrm>
          <a:prstGeom prst="rect">
            <a:avLst/>
          </a:prstGeom>
          <a:ln w="0">
            <a:noFill/>
          </a:ln>
        </p:spPr>
      </p:pic>
      <p:pic>
        <p:nvPicPr>
          <p:cNvPr id="1063" name="" descr=""/>
          <p:cNvPicPr/>
          <p:nvPr/>
        </p:nvPicPr>
        <p:blipFill>
          <a:blip r:embed="rId10"/>
          <a:stretch/>
        </p:blipFill>
        <p:spPr>
          <a:xfrm>
            <a:off x="6172200" y="4064040"/>
            <a:ext cx="668160" cy="53352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>
            <a:off x="7162920" y="337644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 algn="ct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GW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5" name="" descr=""/>
          <p:cNvPicPr/>
          <p:nvPr/>
        </p:nvPicPr>
        <p:blipFill>
          <a:blip r:embed="rId11"/>
          <a:stretch/>
        </p:blipFill>
        <p:spPr>
          <a:xfrm>
            <a:off x="7315200" y="2082960"/>
            <a:ext cx="1600200" cy="1143000"/>
          </a:xfrm>
          <a:prstGeom prst="rect">
            <a:avLst/>
          </a:prstGeom>
          <a:ln w="0">
            <a:noFill/>
          </a:ln>
        </p:spPr>
      </p:pic>
      <p:sp>
        <p:nvSpPr>
          <p:cNvPr id="1066" name=""/>
          <p:cNvSpPr/>
          <p:nvPr/>
        </p:nvSpPr>
        <p:spPr>
          <a:xfrm>
            <a:off x="7604280" y="2428920"/>
            <a:ext cx="957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7543800" y="3071880"/>
            <a:ext cx="763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58000" y="3683160"/>
            <a:ext cx="15228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6858000" y="3682800"/>
            <a:ext cx="304920" cy="30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010280" y="4216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6933960" y="4368600"/>
            <a:ext cx="5331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371600" y="2614680"/>
            <a:ext cx="1676520" cy="1832040"/>
          </a:xfrm>
          <a:prstGeom prst="rect">
            <a:avLst/>
          </a:prstGeom>
          <a:solidFill>
            <a:srgbClr val="b3ff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2"/>
          <a:stretch/>
        </p:blipFill>
        <p:spPr>
          <a:xfrm>
            <a:off x="2478240" y="3868560"/>
            <a:ext cx="536400" cy="351000"/>
          </a:xfrm>
          <a:prstGeom prst="rect">
            <a:avLst/>
          </a:prstGeom>
          <a:ln w="0">
            <a:noFill/>
          </a:ln>
        </p:spPr>
      </p:pic>
      <p:sp>
        <p:nvSpPr>
          <p:cNvPr id="1074" name=""/>
          <p:cNvSpPr/>
          <p:nvPr/>
        </p:nvSpPr>
        <p:spPr>
          <a:xfrm flipV="1">
            <a:off x="1828800" y="3376440"/>
            <a:ext cx="457200" cy="15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113360" y="2463840"/>
            <a:ext cx="917280" cy="6080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241880" y="3071880"/>
            <a:ext cx="2844720" cy="534960"/>
          </a:xfrm>
          <a:custGeom>
            <a:avLst/>
            <a:gdLst/>
            <a:ahLst/>
            <a:rect l="l" t="t" r="r" b="b"/>
            <a:pathLst>
              <a:path w="1792" h="336">
                <a:moveTo>
                  <a:pt x="256" y="0"/>
                </a:moveTo>
                <a:cubicBezTo>
                  <a:pt x="128" y="120"/>
                  <a:pt x="0" y="240"/>
                  <a:pt x="256" y="288"/>
                </a:cubicBezTo>
                <a:cubicBezTo>
                  <a:pt x="512" y="336"/>
                  <a:pt x="1152" y="312"/>
                  <a:pt x="1792" y="288"/>
                </a:cubicBezTo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2286000" y="2920320"/>
            <a:ext cx="2131920" cy="150840"/>
          </a:xfrm>
          <a:custGeom>
            <a:avLst/>
            <a:gdLst/>
            <a:ahLst/>
            <a:rect l="l" t="t" r="r" b="b"/>
            <a:pathLst>
              <a:path w="960" h="240">
                <a:moveTo>
                  <a:pt x="960" y="0"/>
                </a:moveTo>
                <a:cubicBezTo>
                  <a:pt x="920" y="4"/>
                  <a:pt x="880" y="8"/>
                  <a:pt x="720" y="48"/>
                </a:cubicBezTo>
                <a:cubicBezTo>
                  <a:pt x="560" y="88"/>
                  <a:pt x="280" y="164"/>
                  <a:pt x="0" y="240"/>
                </a:cubicBezTo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209680" y="3454560"/>
            <a:ext cx="38124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3"/>
          <a:stretch/>
        </p:blipFill>
        <p:spPr>
          <a:xfrm>
            <a:off x="1447920" y="322596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14"/>
          <a:stretch/>
        </p:blipFill>
        <p:spPr>
          <a:xfrm>
            <a:off x="1447920" y="3833640"/>
            <a:ext cx="457200" cy="382680"/>
          </a:xfrm>
          <a:prstGeom prst="rect">
            <a:avLst/>
          </a:prstGeom>
          <a:ln w="0">
            <a:noFill/>
          </a:ln>
        </p:spPr>
      </p:pic>
      <p:sp>
        <p:nvSpPr>
          <p:cNvPr id="1081" name=""/>
          <p:cNvSpPr/>
          <p:nvPr/>
        </p:nvSpPr>
        <p:spPr>
          <a:xfrm flipH="1">
            <a:off x="2133360" y="3149640"/>
            <a:ext cx="152280" cy="83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1828800" y="3683160"/>
            <a:ext cx="3808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25680" y="4140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H="1" flipV="1">
            <a:off x="533520" y="276840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5" name="" descr=""/>
          <p:cNvPicPr/>
          <p:nvPr/>
        </p:nvPicPr>
        <p:blipFill>
          <a:blip r:embed="rId15"/>
          <a:stretch/>
        </p:blipFill>
        <p:spPr>
          <a:xfrm>
            <a:off x="608040" y="26924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6" name=""/>
          <p:cNvSpPr/>
          <p:nvPr/>
        </p:nvSpPr>
        <p:spPr>
          <a:xfrm flipH="1">
            <a:off x="457200" y="3454560"/>
            <a:ext cx="9907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7" name="" descr=""/>
          <p:cNvPicPr/>
          <p:nvPr/>
        </p:nvPicPr>
        <p:blipFill>
          <a:blip r:embed="rId16"/>
          <a:stretch/>
        </p:blipFill>
        <p:spPr>
          <a:xfrm>
            <a:off x="304920" y="3376440"/>
            <a:ext cx="303120" cy="30672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 flipH="1">
            <a:off x="457200" y="414036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912960" y="41403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57200" y="4140360"/>
            <a:ext cx="0" cy="30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17"/>
          <a:stretch/>
        </p:blipFill>
        <p:spPr>
          <a:xfrm>
            <a:off x="304920" y="4368960"/>
            <a:ext cx="303120" cy="304560"/>
          </a:xfrm>
          <a:prstGeom prst="rect">
            <a:avLst/>
          </a:prstGeom>
          <a:ln w="0">
            <a:noFill/>
          </a:ln>
        </p:spPr>
      </p:pic>
      <p:pic>
        <p:nvPicPr>
          <p:cNvPr id="1092" name="" descr=""/>
          <p:cNvPicPr/>
          <p:nvPr/>
        </p:nvPicPr>
        <p:blipFill>
          <a:blip r:embed="rId18"/>
          <a:stretch/>
        </p:blipFill>
        <p:spPr>
          <a:xfrm>
            <a:off x="762120" y="429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93" name="" descr=""/>
          <p:cNvPicPr/>
          <p:nvPr/>
        </p:nvPicPr>
        <p:blipFill>
          <a:blip r:embed="rId19"/>
          <a:stretch/>
        </p:blipFill>
        <p:spPr>
          <a:xfrm>
            <a:off x="992160" y="1852560"/>
            <a:ext cx="1141560" cy="762120"/>
          </a:xfrm>
          <a:prstGeom prst="rect">
            <a:avLst/>
          </a:prstGeom>
          <a:ln w="0">
            <a:noFill/>
          </a:ln>
        </p:spPr>
      </p:pic>
      <p:sp>
        <p:nvSpPr>
          <p:cNvPr id="1094" name=""/>
          <p:cNvSpPr/>
          <p:nvPr/>
        </p:nvSpPr>
        <p:spPr>
          <a:xfrm>
            <a:off x="1143000" y="2006640"/>
            <a:ext cx="957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190040" y="2541600"/>
            <a:ext cx="942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6" name="" descr=""/>
          <p:cNvPicPr/>
          <p:nvPr/>
        </p:nvPicPr>
        <p:blipFill>
          <a:blip r:embed="rId20"/>
          <a:stretch/>
        </p:blipFill>
        <p:spPr>
          <a:xfrm>
            <a:off x="1447920" y="3454560"/>
            <a:ext cx="457200" cy="37908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21"/>
          <a:stretch/>
        </p:blipFill>
        <p:spPr>
          <a:xfrm>
            <a:off x="7315200" y="3989520"/>
            <a:ext cx="457200" cy="37944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/>
          <p:cNvPicPr/>
          <p:nvPr/>
        </p:nvPicPr>
        <p:blipFill>
          <a:blip r:embed="rId22"/>
          <a:stretch/>
        </p:blipFill>
        <p:spPr>
          <a:xfrm>
            <a:off x="7389720" y="4292640"/>
            <a:ext cx="459000" cy="380880"/>
          </a:xfrm>
          <a:prstGeom prst="rect">
            <a:avLst/>
          </a:prstGeom>
          <a:ln w="0">
            <a:noFill/>
          </a:ln>
        </p:spPr>
      </p:pic>
      <p:pic>
        <p:nvPicPr>
          <p:cNvPr id="1099" name="" descr=""/>
          <p:cNvPicPr/>
          <p:nvPr/>
        </p:nvPicPr>
        <p:blipFill>
          <a:blip r:embed="rId23"/>
          <a:stretch/>
        </p:blipFill>
        <p:spPr>
          <a:xfrm>
            <a:off x="8381880" y="4597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100" name=""/>
          <p:cNvSpPr/>
          <p:nvPr/>
        </p:nvSpPr>
        <p:spPr>
          <a:xfrm>
            <a:off x="7848720" y="4446720"/>
            <a:ext cx="533160" cy="226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6781680" y="4216320"/>
            <a:ext cx="228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057400" y="246384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 algn="ct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GW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754280" y="2692440"/>
            <a:ext cx="531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 algn="ct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GW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4" name="" descr=""/>
          <p:cNvPicPr/>
          <p:nvPr/>
        </p:nvPicPr>
        <p:blipFill>
          <a:blip r:embed="rId24"/>
          <a:stretch/>
        </p:blipFill>
        <p:spPr>
          <a:xfrm>
            <a:off x="2703600" y="3446640"/>
            <a:ext cx="536400" cy="350640"/>
          </a:xfrm>
          <a:prstGeom prst="rect">
            <a:avLst/>
          </a:prstGeom>
          <a:ln w="0">
            <a:noFill/>
          </a:ln>
        </p:spPr>
      </p:pic>
      <p:sp>
        <p:nvSpPr>
          <p:cNvPr id="1105" name=""/>
          <p:cNvSpPr/>
          <p:nvPr/>
        </p:nvSpPr>
        <p:spPr>
          <a:xfrm>
            <a:off x="2252520" y="1752480"/>
            <a:ext cx="518004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027160" y="2006640"/>
            <a:ext cx="225360" cy="8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358040" y="2006640"/>
            <a:ext cx="225360" cy="253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579920" y="2260440"/>
            <a:ext cx="0" cy="169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514600" y="3225960"/>
            <a:ext cx="4267080" cy="457200"/>
          </a:xfrm>
          <a:prstGeom prst="line">
            <a:avLst/>
          </a:prstGeom>
          <a:ln w="76320">
            <a:solidFill>
              <a:srgbClr val="cc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3124080" y="3886200"/>
            <a:ext cx="381240" cy="380880"/>
            <a:chOff x="3124080" y="3886200"/>
            <a:chExt cx="381240" cy="380880"/>
          </a:xfrm>
        </p:grpSpPr>
        <p:grpSp>
          <p:nvGrpSpPr>
            <p:cNvPr id="1111" name=""/>
            <p:cNvGrpSpPr/>
            <p:nvPr/>
          </p:nvGrpSpPr>
          <p:grpSpPr>
            <a:xfrm>
              <a:off x="3200400" y="3886200"/>
              <a:ext cx="304560" cy="380880"/>
              <a:chOff x="3200400" y="3886200"/>
              <a:chExt cx="304560" cy="380880"/>
            </a:xfrm>
          </p:grpSpPr>
          <p:sp>
            <p:nvSpPr>
              <p:cNvPr id="1112" name=""/>
              <p:cNvSpPr/>
              <p:nvPr/>
            </p:nvSpPr>
            <p:spPr>
              <a:xfrm>
                <a:off x="3200400" y="388620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200400" y="407664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192" y="0"/>
                    </a:move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4" name=""/>
            <p:cNvSpPr/>
            <p:nvPr/>
          </p:nvSpPr>
          <p:spPr>
            <a:xfrm>
              <a:off x="3276720" y="3962520"/>
              <a:ext cx="152280" cy="75960"/>
            </a:xfrm>
            <a:prstGeom prst="rect">
              <a:avLst/>
            </a:pr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352680" y="4114800"/>
              <a:ext cx="15264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124080" y="4114800"/>
              <a:ext cx="15264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5334120" y="3886200"/>
            <a:ext cx="380520" cy="380880"/>
            <a:chOff x="5334120" y="3886200"/>
            <a:chExt cx="380520" cy="380880"/>
          </a:xfrm>
        </p:grpSpPr>
        <p:grpSp>
          <p:nvGrpSpPr>
            <p:cNvPr id="1118" name=""/>
            <p:cNvGrpSpPr/>
            <p:nvPr/>
          </p:nvGrpSpPr>
          <p:grpSpPr>
            <a:xfrm>
              <a:off x="5410080" y="3886200"/>
              <a:ext cx="304560" cy="380880"/>
              <a:chOff x="5410080" y="3886200"/>
              <a:chExt cx="304560" cy="380880"/>
            </a:xfrm>
          </p:grpSpPr>
          <p:sp>
            <p:nvSpPr>
              <p:cNvPr id="1119" name=""/>
              <p:cNvSpPr/>
              <p:nvPr/>
            </p:nvSpPr>
            <p:spPr>
              <a:xfrm>
                <a:off x="5410080" y="388620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410080" y="407664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192" y="0"/>
                    </a:move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1" name=""/>
            <p:cNvSpPr/>
            <p:nvPr/>
          </p:nvSpPr>
          <p:spPr>
            <a:xfrm>
              <a:off x="5486400" y="3962520"/>
              <a:ext cx="151920" cy="75960"/>
            </a:xfrm>
            <a:prstGeom prst="rect">
              <a:avLst/>
            </a:pr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562360" y="4114800"/>
              <a:ext cx="15228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334120" y="4114800"/>
              <a:ext cx="15228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4267080" y="3733920"/>
            <a:ext cx="381240" cy="380880"/>
            <a:chOff x="4267080" y="3733920"/>
            <a:chExt cx="381240" cy="380880"/>
          </a:xfrm>
        </p:grpSpPr>
        <p:grpSp>
          <p:nvGrpSpPr>
            <p:cNvPr id="1125" name=""/>
            <p:cNvGrpSpPr/>
            <p:nvPr/>
          </p:nvGrpSpPr>
          <p:grpSpPr>
            <a:xfrm>
              <a:off x="4343400" y="3733920"/>
              <a:ext cx="304560" cy="380880"/>
              <a:chOff x="4343400" y="3733920"/>
              <a:chExt cx="304560" cy="380880"/>
            </a:xfrm>
          </p:grpSpPr>
          <p:sp>
            <p:nvSpPr>
              <p:cNvPr id="1126" name=""/>
              <p:cNvSpPr/>
              <p:nvPr/>
            </p:nvSpPr>
            <p:spPr>
              <a:xfrm>
                <a:off x="4343400" y="373392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343400" y="392436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192" y="0"/>
                    </a:move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>
              <a:off x="4419720" y="3810240"/>
              <a:ext cx="152280" cy="75960"/>
            </a:xfrm>
            <a:prstGeom prst="rect">
              <a:avLst/>
            </a:pr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495680" y="3962520"/>
              <a:ext cx="15264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267080" y="3962520"/>
              <a:ext cx="15264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1" name=""/>
          <p:cNvSpPr/>
          <p:nvPr/>
        </p:nvSpPr>
        <p:spPr>
          <a:xfrm>
            <a:off x="3123000" y="3632040"/>
            <a:ext cx="6818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202"/>
                </a:solidFill>
                <a:latin typeface="Arial"/>
              </a:rPr>
              <a:t>EF/P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200400" y="4267080"/>
            <a:ext cx="3938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bc2"/>
                </a:solidFill>
                <a:latin typeface="Arial"/>
              </a:rPr>
              <a:t>B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838080" y="3772080"/>
            <a:ext cx="7620120" cy="1257120"/>
          </a:xfrm>
          <a:custGeom>
            <a:avLst/>
            <a:gdLst/>
            <a:ahLst/>
            <a:rect l="l" t="t" r="r" b="b"/>
            <a:pathLst>
              <a:path w="4800" h="792">
                <a:moveTo>
                  <a:pt x="0" y="648"/>
                </a:moveTo>
                <a:cubicBezTo>
                  <a:pt x="160" y="580"/>
                  <a:pt x="320" y="512"/>
                  <a:pt x="480" y="408"/>
                </a:cubicBezTo>
                <a:cubicBezTo>
                  <a:pt x="640" y="304"/>
                  <a:pt x="824" y="48"/>
                  <a:pt x="960" y="24"/>
                </a:cubicBezTo>
                <a:cubicBezTo>
                  <a:pt x="1096" y="0"/>
                  <a:pt x="1184" y="184"/>
                  <a:pt x="1296" y="264"/>
                </a:cubicBezTo>
                <a:cubicBezTo>
                  <a:pt x="1408" y="344"/>
                  <a:pt x="1472" y="496"/>
                  <a:pt x="1632" y="504"/>
                </a:cubicBezTo>
                <a:cubicBezTo>
                  <a:pt x="1792" y="512"/>
                  <a:pt x="2072" y="344"/>
                  <a:pt x="2256" y="312"/>
                </a:cubicBezTo>
                <a:cubicBezTo>
                  <a:pt x="2440" y="280"/>
                  <a:pt x="2488" y="248"/>
                  <a:pt x="2736" y="312"/>
                </a:cubicBezTo>
                <a:cubicBezTo>
                  <a:pt x="2984" y="376"/>
                  <a:pt x="3480" y="632"/>
                  <a:pt x="3744" y="696"/>
                </a:cubicBezTo>
                <a:cubicBezTo>
                  <a:pt x="4008" y="760"/>
                  <a:pt x="4144" y="680"/>
                  <a:pt x="4320" y="696"/>
                </a:cubicBezTo>
                <a:cubicBezTo>
                  <a:pt x="4496" y="712"/>
                  <a:pt x="4648" y="752"/>
                  <a:pt x="4800" y="792"/>
                </a:cubicBezTo>
              </a:path>
            </a:pathLst>
          </a:custGeom>
          <a:noFill/>
          <a:ln w="57240">
            <a:solidFill>
              <a:srgbClr val="02c8fe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089840" y="4923000"/>
            <a:ext cx="640800" cy="347400"/>
          </a:xfrm>
          <a:prstGeom prst="rect">
            <a:avLst/>
          </a:prstGeom>
          <a:solidFill>
            <a:srgbClr val="02c8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952520" y="3124080"/>
            <a:ext cx="756360" cy="347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069920" y="5989680"/>
            <a:ext cx="146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990720" y="5867280"/>
            <a:ext cx="678168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EF load obviously very small compared to every link capacity (eg DWDM everywhere), then just works fine. That’s i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8200" rIns="8820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S aware TE Applications: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Voice Trun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457200" y="6248520"/>
            <a:ext cx="1371600" cy="304560"/>
          </a:xfrm>
          <a:custGeom>
            <a:avLst/>
            <a:gdLst/>
            <a:ahLst/>
            <a:rect l="l" t="t" r="r" b="b"/>
            <a:pathLst>
              <a:path w="2112" h="384">
                <a:moveTo>
                  <a:pt x="0" y="0"/>
                </a:moveTo>
                <a:cubicBezTo>
                  <a:pt x="172" y="140"/>
                  <a:pt x="344" y="280"/>
                  <a:pt x="576" y="288"/>
                </a:cubicBezTo>
                <a:cubicBezTo>
                  <a:pt x="808" y="296"/>
                  <a:pt x="1136" y="32"/>
                  <a:pt x="1392" y="48"/>
                </a:cubicBezTo>
                <a:cubicBezTo>
                  <a:pt x="1648" y="64"/>
                  <a:pt x="1880" y="224"/>
                  <a:pt x="2112" y="384"/>
                </a:cubicBezTo>
              </a:path>
            </a:pathLst>
          </a:custGeom>
          <a:noFill/>
          <a:ln w="152280">
            <a:solidFill>
              <a:srgbClr val="00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977840" y="6248520"/>
            <a:ext cx="26798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PLS TE Tunnel for 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1" name="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4238640" cy="2557440"/>
          </a:xfrm>
          <a:prstGeom prst="rect">
            <a:avLst/>
          </a:prstGeom>
          <a:ln w="0">
            <a:noFill/>
          </a:ln>
        </p:spPr>
      </p:pic>
      <p:sp>
        <p:nvSpPr>
          <p:cNvPr id="1142" name=""/>
          <p:cNvSpPr/>
          <p:nvPr/>
        </p:nvSpPr>
        <p:spPr>
          <a:xfrm>
            <a:off x="3867120" y="4121280"/>
            <a:ext cx="1154160" cy="630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4013280" y="4055760"/>
            <a:ext cx="1041480" cy="755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3867120" y="4055760"/>
            <a:ext cx="1154160" cy="651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714760" y="3960720"/>
            <a:ext cx="1098360" cy="160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67120" y="4226040"/>
            <a:ext cx="104760" cy="5252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5122800" y="4019040"/>
            <a:ext cx="0" cy="792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122800" y="3960720"/>
            <a:ext cx="1336680" cy="426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4729320" y="4811760"/>
            <a:ext cx="442800" cy="799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505240" y="4692600"/>
            <a:ext cx="1361880" cy="586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5133960" y="4711680"/>
            <a:ext cx="961920" cy="612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3584520" y="4851360"/>
            <a:ext cx="387360" cy="479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3971880" y="4811760"/>
            <a:ext cx="1150920" cy="396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4" name="" descr=""/>
          <p:cNvPicPr/>
          <p:nvPr/>
        </p:nvPicPr>
        <p:blipFill>
          <a:blip r:embed="rId2"/>
          <a:stretch/>
        </p:blipFill>
        <p:spPr>
          <a:xfrm>
            <a:off x="3722760" y="4481640"/>
            <a:ext cx="465120" cy="598320"/>
          </a:xfrm>
          <a:prstGeom prst="rect">
            <a:avLst/>
          </a:prstGeom>
          <a:ln w="0">
            <a:noFill/>
          </a:ln>
        </p:spPr>
      </p:pic>
      <p:pic>
        <p:nvPicPr>
          <p:cNvPr id="1155" name="" descr=""/>
          <p:cNvPicPr/>
          <p:nvPr/>
        </p:nvPicPr>
        <p:blipFill>
          <a:blip r:embed="rId3"/>
          <a:stretch/>
        </p:blipFill>
        <p:spPr>
          <a:xfrm>
            <a:off x="4836960" y="3641760"/>
            <a:ext cx="462240" cy="593640"/>
          </a:xfrm>
          <a:prstGeom prst="rect">
            <a:avLst/>
          </a:prstGeom>
          <a:ln w="0">
            <a:noFill/>
          </a:ln>
        </p:spPr>
      </p:pic>
      <p:pic>
        <p:nvPicPr>
          <p:cNvPr id="1156" name="" descr=""/>
          <p:cNvPicPr/>
          <p:nvPr/>
        </p:nvPicPr>
        <p:blipFill>
          <a:blip r:embed="rId4"/>
          <a:stretch/>
        </p:blipFill>
        <p:spPr>
          <a:xfrm>
            <a:off x="3249720" y="5213520"/>
            <a:ext cx="671400" cy="344160"/>
          </a:xfrm>
          <a:prstGeom prst="rect">
            <a:avLst/>
          </a:prstGeom>
          <a:ln w="0">
            <a:noFill/>
          </a:ln>
        </p:spPr>
      </p:pic>
      <p:pic>
        <p:nvPicPr>
          <p:cNvPr id="1157" name="" descr=""/>
          <p:cNvPicPr/>
          <p:nvPr/>
        </p:nvPicPr>
        <p:blipFill>
          <a:blip r:embed="rId5"/>
          <a:stretch/>
        </p:blipFill>
        <p:spPr>
          <a:xfrm>
            <a:off x="2185920" y="4524480"/>
            <a:ext cx="666720" cy="33948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6"/>
          <a:stretch/>
        </p:blipFill>
        <p:spPr>
          <a:xfrm>
            <a:off x="5813280" y="5222880"/>
            <a:ext cx="666720" cy="339840"/>
          </a:xfrm>
          <a:prstGeom prst="rect">
            <a:avLst/>
          </a:prstGeom>
          <a:ln w="0">
            <a:noFill/>
          </a:ln>
        </p:spPr>
      </p:pic>
      <p:pic>
        <p:nvPicPr>
          <p:cNvPr id="1159" name="" descr=""/>
          <p:cNvPicPr/>
          <p:nvPr/>
        </p:nvPicPr>
        <p:blipFill>
          <a:blip r:embed="rId7"/>
          <a:stretch/>
        </p:blipFill>
        <p:spPr>
          <a:xfrm>
            <a:off x="4402080" y="5408640"/>
            <a:ext cx="669960" cy="341280"/>
          </a:xfrm>
          <a:prstGeom prst="rect">
            <a:avLst/>
          </a:prstGeom>
          <a:ln w="0">
            <a:noFill/>
          </a:ln>
        </p:spPr>
      </p:pic>
      <p:pic>
        <p:nvPicPr>
          <p:cNvPr id="1160" name="" descr=""/>
          <p:cNvPicPr/>
          <p:nvPr/>
        </p:nvPicPr>
        <p:blipFill>
          <a:blip r:embed="rId8"/>
          <a:stretch/>
        </p:blipFill>
        <p:spPr>
          <a:xfrm>
            <a:off x="3643200" y="3720960"/>
            <a:ext cx="573120" cy="617760"/>
          </a:xfrm>
          <a:prstGeom prst="rect">
            <a:avLst/>
          </a:prstGeom>
          <a:ln w="0">
            <a:noFill/>
          </a:ln>
        </p:spPr>
      </p:pic>
      <p:sp>
        <p:nvSpPr>
          <p:cNvPr id="1161" name=""/>
          <p:cNvSpPr/>
          <p:nvPr/>
        </p:nvSpPr>
        <p:spPr>
          <a:xfrm>
            <a:off x="6018120" y="3376440"/>
            <a:ext cx="1830600" cy="1374840"/>
          </a:xfrm>
          <a:prstGeom prst="rect">
            <a:avLst/>
          </a:prstGeom>
          <a:solidFill>
            <a:srgbClr val="b3ff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2" name="" descr=""/>
          <p:cNvPicPr/>
          <p:nvPr/>
        </p:nvPicPr>
        <p:blipFill>
          <a:blip r:embed="rId9"/>
          <a:stretch/>
        </p:blipFill>
        <p:spPr>
          <a:xfrm>
            <a:off x="4857840" y="4468680"/>
            <a:ext cx="574560" cy="61776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10"/>
          <a:stretch/>
        </p:blipFill>
        <p:spPr>
          <a:xfrm>
            <a:off x="6172200" y="4064040"/>
            <a:ext cx="668160" cy="533520"/>
          </a:xfrm>
          <a:prstGeom prst="rect">
            <a:avLst/>
          </a:prstGeom>
          <a:ln w="0">
            <a:noFill/>
          </a:ln>
        </p:spPr>
      </p:pic>
      <p:sp>
        <p:nvSpPr>
          <p:cNvPr id="1164" name=""/>
          <p:cNvSpPr/>
          <p:nvPr/>
        </p:nvSpPr>
        <p:spPr>
          <a:xfrm>
            <a:off x="7162920" y="337644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 algn="ct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GW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5" name="" descr=""/>
          <p:cNvPicPr/>
          <p:nvPr/>
        </p:nvPicPr>
        <p:blipFill>
          <a:blip r:embed="rId11"/>
          <a:stretch/>
        </p:blipFill>
        <p:spPr>
          <a:xfrm>
            <a:off x="7315200" y="2082960"/>
            <a:ext cx="1600200" cy="1143000"/>
          </a:xfrm>
          <a:prstGeom prst="rect">
            <a:avLst/>
          </a:prstGeom>
          <a:ln w="0">
            <a:noFill/>
          </a:ln>
        </p:spPr>
      </p:pic>
      <p:sp>
        <p:nvSpPr>
          <p:cNvPr id="1166" name=""/>
          <p:cNvSpPr/>
          <p:nvPr/>
        </p:nvSpPr>
        <p:spPr>
          <a:xfrm>
            <a:off x="7604280" y="2428920"/>
            <a:ext cx="957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7543800" y="3071880"/>
            <a:ext cx="7632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858000" y="3683160"/>
            <a:ext cx="15228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6858000" y="3682800"/>
            <a:ext cx="304920" cy="30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010280" y="4216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 flipV="1">
            <a:off x="6933960" y="4368600"/>
            <a:ext cx="5331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371600" y="2614680"/>
            <a:ext cx="1676520" cy="1832040"/>
          </a:xfrm>
          <a:prstGeom prst="rect">
            <a:avLst/>
          </a:prstGeom>
          <a:solidFill>
            <a:srgbClr val="b3ff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3" name="" descr=""/>
          <p:cNvPicPr/>
          <p:nvPr/>
        </p:nvPicPr>
        <p:blipFill>
          <a:blip r:embed="rId12"/>
          <a:stretch/>
        </p:blipFill>
        <p:spPr>
          <a:xfrm>
            <a:off x="2478240" y="3868560"/>
            <a:ext cx="536400" cy="351000"/>
          </a:xfrm>
          <a:prstGeom prst="rect">
            <a:avLst/>
          </a:prstGeom>
          <a:ln w="0">
            <a:noFill/>
          </a:ln>
        </p:spPr>
      </p:pic>
      <p:sp>
        <p:nvSpPr>
          <p:cNvPr id="1174" name=""/>
          <p:cNvSpPr/>
          <p:nvPr/>
        </p:nvSpPr>
        <p:spPr>
          <a:xfrm flipV="1">
            <a:off x="1828800" y="3376440"/>
            <a:ext cx="457200" cy="15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113360" y="2463840"/>
            <a:ext cx="917280" cy="60804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241880" y="3071880"/>
            <a:ext cx="2844720" cy="534960"/>
          </a:xfrm>
          <a:custGeom>
            <a:avLst/>
            <a:gdLst/>
            <a:ahLst/>
            <a:rect l="l" t="t" r="r" b="b"/>
            <a:pathLst>
              <a:path w="1792" h="336">
                <a:moveTo>
                  <a:pt x="256" y="0"/>
                </a:moveTo>
                <a:cubicBezTo>
                  <a:pt x="128" y="120"/>
                  <a:pt x="0" y="240"/>
                  <a:pt x="256" y="288"/>
                </a:cubicBezTo>
                <a:cubicBezTo>
                  <a:pt x="512" y="336"/>
                  <a:pt x="1152" y="312"/>
                  <a:pt x="1792" y="288"/>
                </a:cubicBezTo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2286000" y="2920320"/>
            <a:ext cx="2131920" cy="150840"/>
          </a:xfrm>
          <a:custGeom>
            <a:avLst/>
            <a:gdLst/>
            <a:ahLst/>
            <a:rect l="l" t="t" r="r" b="b"/>
            <a:pathLst>
              <a:path w="960" h="240">
                <a:moveTo>
                  <a:pt x="960" y="0"/>
                </a:moveTo>
                <a:cubicBezTo>
                  <a:pt x="920" y="4"/>
                  <a:pt x="880" y="8"/>
                  <a:pt x="720" y="48"/>
                </a:cubicBezTo>
                <a:cubicBezTo>
                  <a:pt x="560" y="88"/>
                  <a:pt x="280" y="164"/>
                  <a:pt x="0" y="240"/>
                </a:cubicBezTo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209680" y="3454560"/>
            <a:ext cx="38124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13"/>
          <a:stretch/>
        </p:blipFill>
        <p:spPr>
          <a:xfrm>
            <a:off x="1447920" y="322596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1180" name="" descr=""/>
          <p:cNvPicPr/>
          <p:nvPr/>
        </p:nvPicPr>
        <p:blipFill>
          <a:blip r:embed="rId14"/>
          <a:stretch/>
        </p:blipFill>
        <p:spPr>
          <a:xfrm>
            <a:off x="1447920" y="3833640"/>
            <a:ext cx="457200" cy="382680"/>
          </a:xfrm>
          <a:prstGeom prst="rect">
            <a:avLst/>
          </a:prstGeom>
          <a:ln w="0">
            <a:noFill/>
          </a:ln>
        </p:spPr>
      </p:pic>
      <p:sp>
        <p:nvSpPr>
          <p:cNvPr id="1181" name=""/>
          <p:cNvSpPr/>
          <p:nvPr/>
        </p:nvSpPr>
        <p:spPr>
          <a:xfrm flipH="1">
            <a:off x="2133360" y="3149640"/>
            <a:ext cx="152280" cy="83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1828800" y="3683160"/>
            <a:ext cx="3808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1525680" y="4140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H="1" flipV="1">
            <a:off x="533520" y="276840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15"/>
          <a:stretch/>
        </p:blipFill>
        <p:spPr>
          <a:xfrm>
            <a:off x="608040" y="26924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6" name=""/>
          <p:cNvSpPr/>
          <p:nvPr/>
        </p:nvSpPr>
        <p:spPr>
          <a:xfrm flipH="1">
            <a:off x="457200" y="3454560"/>
            <a:ext cx="9907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7" name="" descr=""/>
          <p:cNvPicPr/>
          <p:nvPr/>
        </p:nvPicPr>
        <p:blipFill>
          <a:blip r:embed="rId16"/>
          <a:stretch/>
        </p:blipFill>
        <p:spPr>
          <a:xfrm>
            <a:off x="304920" y="3376440"/>
            <a:ext cx="303120" cy="306720"/>
          </a:xfrm>
          <a:prstGeom prst="rect">
            <a:avLst/>
          </a:prstGeom>
          <a:ln w="0">
            <a:noFill/>
          </a:ln>
        </p:spPr>
      </p:pic>
      <p:sp>
        <p:nvSpPr>
          <p:cNvPr id="1188" name=""/>
          <p:cNvSpPr/>
          <p:nvPr/>
        </p:nvSpPr>
        <p:spPr>
          <a:xfrm flipH="1">
            <a:off x="457200" y="414036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912960" y="41403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57200" y="4140360"/>
            <a:ext cx="0" cy="30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7"/>
          <a:stretch/>
        </p:blipFill>
        <p:spPr>
          <a:xfrm>
            <a:off x="304920" y="4368960"/>
            <a:ext cx="303120" cy="304560"/>
          </a:xfrm>
          <a:prstGeom prst="rect">
            <a:avLst/>
          </a:prstGeom>
          <a:ln w="0">
            <a:noFill/>
          </a:ln>
        </p:spPr>
      </p:pic>
      <p:pic>
        <p:nvPicPr>
          <p:cNvPr id="1192" name="" descr=""/>
          <p:cNvPicPr/>
          <p:nvPr/>
        </p:nvPicPr>
        <p:blipFill>
          <a:blip r:embed="rId18"/>
          <a:stretch/>
        </p:blipFill>
        <p:spPr>
          <a:xfrm>
            <a:off x="762120" y="429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93" name="" descr=""/>
          <p:cNvPicPr/>
          <p:nvPr/>
        </p:nvPicPr>
        <p:blipFill>
          <a:blip r:embed="rId19"/>
          <a:stretch/>
        </p:blipFill>
        <p:spPr>
          <a:xfrm>
            <a:off x="992160" y="1852560"/>
            <a:ext cx="1141560" cy="762120"/>
          </a:xfrm>
          <a:prstGeom prst="rect">
            <a:avLst/>
          </a:prstGeom>
          <a:ln w="0">
            <a:noFill/>
          </a:ln>
        </p:spPr>
      </p:pic>
      <p:sp>
        <p:nvSpPr>
          <p:cNvPr id="1194" name=""/>
          <p:cNvSpPr/>
          <p:nvPr/>
        </p:nvSpPr>
        <p:spPr>
          <a:xfrm>
            <a:off x="1143000" y="2006640"/>
            <a:ext cx="957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190040" y="2541600"/>
            <a:ext cx="942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6" name="" descr=""/>
          <p:cNvPicPr/>
          <p:nvPr/>
        </p:nvPicPr>
        <p:blipFill>
          <a:blip r:embed="rId20"/>
          <a:stretch/>
        </p:blipFill>
        <p:spPr>
          <a:xfrm>
            <a:off x="1447920" y="3454560"/>
            <a:ext cx="457200" cy="379080"/>
          </a:xfrm>
          <a:prstGeom prst="rect">
            <a:avLst/>
          </a:prstGeom>
          <a:ln w="0">
            <a:noFill/>
          </a:ln>
        </p:spPr>
      </p:pic>
      <p:pic>
        <p:nvPicPr>
          <p:cNvPr id="1197" name="" descr=""/>
          <p:cNvPicPr/>
          <p:nvPr/>
        </p:nvPicPr>
        <p:blipFill>
          <a:blip r:embed="rId21"/>
          <a:stretch/>
        </p:blipFill>
        <p:spPr>
          <a:xfrm>
            <a:off x="7315200" y="3989520"/>
            <a:ext cx="457200" cy="379440"/>
          </a:xfrm>
          <a:prstGeom prst="rect">
            <a:avLst/>
          </a:prstGeom>
          <a:ln w="0">
            <a:noFill/>
          </a:ln>
        </p:spPr>
      </p:pic>
      <p:pic>
        <p:nvPicPr>
          <p:cNvPr id="1198" name="" descr=""/>
          <p:cNvPicPr/>
          <p:nvPr/>
        </p:nvPicPr>
        <p:blipFill>
          <a:blip r:embed="rId22"/>
          <a:stretch/>
        </p:blipFill>
        <p:spPr>
          <a:xfrm>
            <a:off x="7389720" y="4292640"/>
            <a:ext cx="459000" cy="380880"/>
          </a:xfrm>
          <a:prstGeom prst="rect">
            <a:avLst/>
          </a:prstGeom>
          <a:ln w="0">
            <a:noFill/>
          </a:ln>
        </p:spPr>
      </p:pic>
      <p:pic>
        <p:nvPicPr>
          <p:cNvPr id="1199" name="" descr=""/>
          <p:cNvPicPr/>
          <p:nvPr/>
        </p:nvPicPr>
        <p:blipFill>
          <a:blip r:embed="rId23"/>
          <a:stretch/>
        </p:blipFill>
        <p:spPr>
          <a:xfrm>
            <a:off x="8381880" y="45975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00" name=""/>
          <p:cNvSpPr/>
          <p:nvPr/>
        </p:nvSpPr>
        <p:spPr>
          <a:xfrm>
            <a:off x="7848720" y="4446720"/>
            <a:ext cx="533160" cy="226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6781680" y="4216320"/>
            <a:ext cx="2286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057400" y="246384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 algn="ct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GW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754280" y="2692440"/>
            <a:ext cx="531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 algn="ct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GW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24"/>
          <a:stretch/>
        </p:blipFill>
        <p:spPr>
          <a:xfrm>
            <a:off x="2703600" y="3446640"/>
            <a:ext cx="536400" cy="35064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2252520" y="1752480"/>
            <a:ext cx="5180040" cy="5079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2027160" y="2006640"/>
            <a:ext cx="225360" cy="8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7358040" y="2006640"/>
            <a:ext cx="225360" cy="253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579920" y="2260440"/>
            <a:ext cx="0" cy="169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666880" y="2895480"/>
            <a:ext cx="4343400" cy="685800"/>
          </a:xfrm>
          <a:prstGeom prst="line">
            <a:avLst/>
          </a:prstGeom>
          <a:ln w="76320">
            <a:solidFill>
              <a:srgbClr val="cc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5334120" y="3886200"/>
            <a:ext cx="380520" cy="380880"/>
            <a:chOff x="5334120" y="3886200"/>
            <a:chExt cx="380520" cy="380880"/>
          </a:xfrm>
        </p:grpSpPr>
        <p:grpSp>
          <p:nvGrpSpPr>
            <p:cNvPr id="1211" name=""/>
            <p:cNvGrpSpPr/>
            <p:nvPr/>
          </p:nvGrpSpPr>
          <p:grpSpPr>
            <a:xfrm>
              <a:off x="5410080" y="3886200"/>
              <a:ext cx="304560" cy="380880"/>
              <a:chOff x="5410080" y="3886200"/>
              <a:chExt cx="304560" cy="380880"/>
            </a:xfrm>
          </p:grpSpPr>
          <p:sp>
            <p:nvSpPr>
              <p:cNvPr id="1212" name=""/>
              <p:cNvSpPr/>
              <p:nvPr/>
            </p:nvSpPr>
            <p:spPr>
              <a:xfrm>
                <a:off x="5410080" y="388620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410080" y="407664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192" y="0"/>
                    </a:move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4" name=""/>
            <p:cNvSpPr/>
            <p:nvPr/>
          </p:nvSpPr>
          <p:spPr>
            <a:xfrm>
              <a:off x="5486400" y="3962520"/>
              <a:ext cx="151920" cy="75960"/>
            </a:xfrm>
            <a:prstGeom prst="rect">
              <a:avLst/>
            </a:pr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562360" y="4114800"/>
              <a:ext cx="15228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334120" y="4114800"/>
              <a:ext cx="15228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4191120" y="4343400"/>
            <a:ext cx="380520" cy="380880"/>
            <a:chOff x="4191120" y="4343400"/>
            <a:chExt cx="380520" cy="380880"/>
          </a:xfrm>
        </p:grpSpPr>
        <p:grpSp>
          <p:nvGrpSpPr>
            <p:cNvPr id="1218" name=""/>
            <p:cNvGrpSpPr/>
            <p:nvPr/>
          </p:nvGrpSpPr>
          <p:grpSpPr>
            <a:xfrm>
              <a:off x="4267080" y="4343400"/>
              <a:ext cx="304560" cy="380880"/>
              <a:chOff x="4267080" y="4343400"/>
              <a:chExt cx="304560" cy="380880"/>
            </a:xfrm>
          </p:grpSpPr>
          <p:sp>
            <p:nvSpPr>
              <p:cNvPr id="1219" name=""/>
              <p:cNvSpPr/>
              <p:nvPr/>
            </p:nvSpPr>
            <p:spPr>
              <a:xfrm>
                <a:off x="4267080" y="434340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267080" y="453384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192" y="0"/>
                    </a:move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1" name=""/>
            <p:cNvSpPr/>
            <p:nvPr/>
          </p:nvSpPr>
          <p:spPr>
            <a:xfrm>
              <a:off x="4343400" y="4419720"/>
              <a:ext cx="151920" cy="75960"/>
            </a:xfrm>
            <a:prstGeom prst="rect">
              <a:avLst/>
            </a:pr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419360" y="4572000"/>
              <a:ext cx="15228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191120" y="4572000"/>
              <a:ext cx="15228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4" name=""/>
          <p:cNvSpPr/>
          <p:nvPr/>
        </p:nvSpPr>
        <p:spPr>
          <a:xfrm>
            <a:off x="2742120" y="4038480"/>
            <a:ext cx="6818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202"/>
                </a:solidFill>
                <a:latin typeface="Arial"/>
              </a:rPr>
              <a:t>EF/PQ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895480" y="4572000"/>
            <a:ext cx="3938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bc2"/>
                </a:solidFill>
                <a:latin typeface="Arial"/>
              </a:rPr>
              <a:t>B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971800" y="4191120"/>
            <a:ext cx="762120" cy="5331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2819520" y="4267080"/>
            <a:ext cx="380520" cy="380880"/>
            <a:chOff x="2819520" y="4267080"/>
            <a:chExt cx="380520" cy="380880"/>
          </a:xfrm>
        </p:grpSpPr>
        <p:grpSp>
          <p:nvGrpSpPr>
            <p:cNvPr id="1228" name=""/>
            <p:cNvGrpSpPr/>
            <p:nvPr/>
          </p:nvGrpSpPr>
          <p:grpSpPr>
            <a:xfrm>
              <a:off x="2895480" y="4267080"/>
              <a:ext cx="304560" cy="380880"/>
              <a:chOff x="2895480" y="4267080"/>
              <a:chExt cx="304560" cy="380880"/>
            </a:xfrm>
          </p:grpSpPr>
          <p:sp>
            <p:nvSpPr>
              <p:cNvPr id="1229" name=""/>
              <p:cNvSpPr/>
              <p:nvPr/>
            </p:nvSpPr>
            <p:spPr>
              <a:xfrm>
                <a:off x="2895480" y="426708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895480" y="4457520"/>
                <a:ext cx="304560" cy="19044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192" y="0"/>
                    </a:move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1" name=""/>
            <p:cNvSpPr/>
            <p:nvPr/>
          </p:nvSpPr>
          <p:spPr>
            <a:xfrm>
              <a:off x="2971800" y="4343400"/>
              <a:ext cx="151920" cy="75960"/>
            </a:xfrm>
            <a:prstGeom prst="rect">
              <a:avLst/>
            </a:pr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047760" y="4495680"/>
              <a:ext cx="15228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819520" y="4495680"/>
              <a:ext cx="152280" cy="763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2895480" y="3657600"/>
            <a:ext cx="3429000" cy="762120"/>
          </a:xfrm>
          <a:custGeom>
            <a:avLst/>
            <a:gdLst/>
            <a:ahLst/>
            <a:rect l="l" t="t" r="r" b="b"/>
            <a:pathLst>
              <a:path w="2112" h="384">
                <a:moveTo>
                  <a:pt x="0" y="0"/>
                </a:moveTo>
                <a:cubicBezTo>
                  <a:pt x="172" y="140"/>
                  <a:pt x="344" y="280"/>
                  <a:pt x="576" y="288"/>
                </a:cubicBezTo>
                <a:cubicBezTo>
                  <a:pt x="808" y="296"/>
                  <a:pt x="1136" y="32"/>
                  <a:pt x="1392" y="48"/>
                </a:cubicBezTo>
                <a:cubicBezTo>
                  <a:pt x="1648" y="64"/>
                  <a:pt x="1880" y="224"/>
                  <a:pt x="2112" y="384"/>
                </a:cubicBezTo>
              </a:path>
            </a:pathLst>
          </a:custGeom>
          <a:noFill/>
          <a:ln w="152280">
            <a:solidFill>
              <a:srgbClr val="00cc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362320" y="3200400"/>
            <a:ext cx="4647960" cy="609480"/>
          </a:xfrm>
          <a:prstGeom prst="line">
            <a:avLst/>
          </a:prstGeom>
          <a:ln w="76320">
            <a:solidFill>
              <a:srgbClr val="cc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33520" y="5791320"/>
            <a:ext cx="914400" cy="75960"/>
          </a:xfrm>
          <a:prstGeom prst="line">
            <a:avLst/>
          </a:prstGeom>
          <a:ln w="76320">
            <a:solidFill>
              <a:srgbClr val="cc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980000" y="5715000"/>
            <a:ext cx="2282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PLS Voice Trun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Voice over MPLS 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S-aware TE Tunne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89000"/>
          </a:bodyPr>
          <a:p>
            <a:pPr marL="25704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37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Will use emerging “Diff-Serv aware MPLS TE” in order to perform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02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plicit Admission Control of “EF Traffic/Voice Trunks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2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F-aware Constraint Based Rou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37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 combination with “Diff-Serv over MPLS”, this provides hard QoS for Voice without relying on over-engineer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37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maximises the amount of Voice Traffic that can be transported on given set of resourc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37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llows Fast Reroute of Voi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029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1536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8200" rIns="8820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VoMPLS: DS-aware TE Tunnels with RSVP Aggreg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1" name="" descr=""/>
          <p:cNvPicPr/>
          <p:nvPr/>
        </p:nvPicPr>
        <p:blipFill>
          <a:blip r:embed="rId1"/>
          <a:stretch/>
        </p:blipFill>
        <p:spPr>
          <a:xfrm>
            <a:off x="2419200" y="2212920"/>
            <a:ext cx="4200840" cy="185256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/>
          <p:nvPr/>
        </p:nvSpPr>
        <p:spPr>
          <a:xfrm>
            <a:off x="3835440" y="2935440"/>
            <a:ext cx="1144440" cy="4554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3979800" y="2887560"/>
            <a:ext cx="1033560" cy="5479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3835440" y="2887200"/>
            <a:ext cx="1144440" cy="478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693880" y="2819520"/>
            <a:ext cx="1087560" cy="1159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3835440" y="3011400"/>
            <a:ext cx="104760" cy="379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5079960" y="2860200"/>
            <a:ext cx="0" cy="5749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079960" y="2819520"/>
            <a:ext cx="1325520" cy="307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4689360" y="3435480"/>
            <a:ext cx="439920" cy="5792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486160" y="3349800"/>
            <a:ext cx="1349280" cy="41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091120" y="3362400"/>
            <a:ext cx="954000" cy="444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3555720" y="3463920"/>
            <a:ext cx="384120" cy="34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3940200" y="3435120"/>
            <a:ext cx="1139760" cy="28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4" name="" descr=""/>
          <p:cNvPicPr/>
          <p:nvPr/>
        </p:nvPicPr>
        <p:blipFill>
          <a:blip r:embed="rId2"/>
          <a:stretch/>
        </p:blipFill>
        <p:spPr>
          <a:xfrm>
            <a:off x="3692520" y="3195720"/>
            <a:ext cx="460440" cy="433440"/>
          </a:xfrm>
          <a:prstGeom prst="rect">
            <a:avLst/>
          </a:prstGeom>
          <a:ln w="0">
            <a:noFill/>
          </a:ln>
        </p:spPr>
      </p:pic>
      <p:pic>
        <p:nvPicPr>
          <p:cNvPr id="1255" name="" descr=""/>
          <p:cNvPicPr/>
          <p:nvPr/>
        </p:nvPicPr>
        <p:blipFill>
          <a:blip r:embed="rId3"/>
          <a:stretch/>
        </p:blipFill>
        <p:spPr>
          <a:xfrm>
            <a:off x="4797360" y="2587680"/>
            <a:ext cx="457200" cy="430200"/>
          </a:xfrm>
          <a:prstGeom prst="rect">
            <a:avLst/>
          </a:prstGeom>
          <a:ln w="0">
            <a:noFill/>
          </a:ln>
        </p:spPr>
      </p:pic>
      <p:pic>
        <p:nvPicPr>
          <p:cNvPr id="1256" name="" descr=""/>
          <p:cNvPicPr/>
          <p:nvPr/>
        </p:nvPicPr>
        <p:blipFill>
          <a:blip r:embed="rId4"/>
          <a:stretch/>
        </p:blipFill>
        <p:spPr>
          <a:xfrm>
            <a:off x="3224160" y="3726000"/>
            <a:ext cx="665280" cy="249120"/>
          </a:xfrm>
          <a:prstGeom prst="rect">
            <a:avLst/>
          </a:prstGeom>
          <a:ln w="0">
            <a:noFill/>
          </a:ln>
        </p:spPr>
      </p:pic>
      <p:pic>
        <p:nvPicPr>
          <p:cNvPr id="1257" name="" descr=""/>
          <p:cNvPicPr/>
          <p:nvPr/>
        </p:nvPicPr>
        <p:blipFill>
          <a:blip r:embed="rId5"/>
          <a:stretch/>
        </p:blipFill>
        <p:spPr>
          <a:xfrm>
            <a:off x="2170080" y="3227400"/>
            <a:ext cx="660600" cy="245880"/>
          </a:xfrm>
          <a:prstGeom prst="rect">
            <a:avLst/>
          </a:prstGeom>
          <a:ln w="0">
            <a:noFill/>
          </a:ln>
        </p:spPr>
      </p:pic>
      <p:pic>
        <p:nvPicPr>
          <p:cNvPr id="1258" name="" descr=""/>
          <p:cNvPicPr/>
          <p:nvPr/>
        </p:nvPicPr>
        <p:blipFill>
          <a:blip r:embed="rId6"/>
          <a:stretch/>
        </p:blipFill>
        <p:spPr>
          <a:xfrm>
            <a:off x="5764320" y="3733920"/>
            <a:ext cx="662040" cy="245880"/>
          </a:xfrm>
          <a:prstGeom prst="rect">
            <a:avLst/>
          </a:prstGeom>
          <a:ln w="0">
            <a:noFill/>
          </a:ln>
        </p:spPr>
      </p:pic>
      <p:pic>
        <p:nvPicPr>
          <p:cNvPr id="1259" name="" descr=""/>
          <p:cNvPicPr/>
          <p:nvPr/>
        </p:nvPicPr>
        <p:blipFill>
          <a:blip r:embed="rId7"/>
          <a:stretch/>
        </p:blipFill>
        <p:spPr>
          <a:xfrm>
            <a:off x="4365720" y="3867120"/>
            <a:ext cx="663480" cy="247680"/>
          </a:xfrm>
          <a:prstGeom prst="rect">
            <a:avLst/>
          </a:prstGeom>
          <a:ln w="0">
            <a:noFill/>
          </a:ln>
        </p:spPr>
      </p:pic>
      <p:pic>
        <p:nvPicPr>
          <p:cNvPr id="1260" name="" descr=""/>
          <p:cNvPicPr/>
          <p:nvPr/>
        </p:nvPicPr>
        <p:blipFill>
          <a:blip r:embed="rId8"/>
          <a:stretch/>
        </p:blipFill>
        <p:spPr>
          <a:xfrm>
            <a:off x="3613320" y="2644920"/>
            <a:ext cx="568080" cy="447480"/>
          </a:xfrm>
          <a:prstGeom prst="rect">
            <a:avLst/>
          </a:prstGeom>
          <a:ln w="0">
            <a:noFill/>
          </a:ln>
        </p:spPr>
      </p:pic>
      <p:sp>
        <p:nvSpPr>
          <p:cNvPr id="1261" name=""/>
          <p:cNvSpPr/>
          <p:nvPr/>
        </p:nvSpPr>
        <p:spPr>
          <a:xfrm>
            <a:off x="5967360" y="2395440"/>
            <a:ext cx="1814400" cy="995400"/>
          </a:xfrm>
          <a:prstGeom prst="rect">
            <a:avLst/>
          </a:prstGeom>
          <a:solidFill>
            <a:srgbClr val="b3ff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2" name="" descr=""/>
          <p:cNvPicPr/>
          <p:nvPr/>
        </p:nvPicPr>
        <p:blipFill>
          <a:blip r:embed="rId9"/>
          <a:stretch/>
        </p:blipFill>
        <p:spPr>
          <a:xfrm>
            <a:off x="4818240" y="3186000"/>
            <a:ext cx="568080" cy="447840"/>
          </a:xfrm>
          <a:prstGeom prst="rect">
            <a:avLst/>
          </a:prstGeom>
          <a:ln w="0">
            <a:noFill/>
          </a:ln>
        </p:spPr>
      </p:pic>
      <p:pic>
        <p:nvPicPr>
          <p:cNvPr id="1263" name="" descr=""/>
          <p:cNvPicPr/>
          <p:nvPr/>
        </p:nvPicPr>
        <p:blipFill>
          <a:blip r:embed="rId10"/>
          <a:stretch/>
        </p:blipFill>
        <p:spPr>
          <a:xfrm>
            <a:off x="6119640" y="2894040"/>
            <a:ext cx="663840" cy="385560"/>
          </a:xfrm>
          <a:prstGeom prst="rect">
            <a:avLst/>
          </a:prstGeom>
          <a:ln w="0">
            <a:noFill/>
          </a:ln>
        </p:spPr>
      </p:pic>
      <p:sp>
        <p:nvSpPr>
          <p:cNvPr id="1264" name=""/>
          <p:cNvSpPr/>
          <p:nvPr/>
        </p:nvSpPr>
        <p:spPr>
          <a:xfrm>
            <a:off x="7102440" y="2395440"/>
            <a:ext cx="528840" cy="3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 algn="ct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GW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5" name="" descr=""/>
          <p:cNvPicPr/>
          <p:nvPr/>
        </p:nvPicPr>
        <p:blipFill>
          <a:blip r:embed="rId11"/>
          <a:stretch/>
        </p:blipFill>
        <p:spPr>
          <a:xfrm>
            <a:off x="7253280" y="1459080"/>
            <a:ext cx="1585800" cy="826920"/>
          </a:xfrm>
          <a:prstGeom prst="rect">
            <a:avLst/>
          </a:prstGeom>
          <a:ln w="0">
            <a:noFill/>
          </a:ln>
        </p:spPr>
      </p:pic>
      <p:sp>
        <p:nvSpPr>
          <p:cNvPr id="1266" name=""/>
          <p:cNvSpPr/>
          <p:nvPr/>
        </p:nvSpPr>
        <p:spPr>
          <a:xfrm>
            <a:off x="7539120" y="1709640"/>
            <a:ext cx="957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H="1">
            <a:off x="7480080" y="2174760"/>
            <a:ext cx="74520" cy="220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799320" y="2617920"/>
            <a:ext cx="152280" cy="661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6799320" y="2617560"/>
            <a:ext cx="303120" cy="22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951600" y="3003480"/>
            <a:ext cx="225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H="1" flipV="1">
            <a:off x="6875640" y="3114720"/>
            <a:ext cx="528480" cy="10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362240" y="1843200"/>
            <a:ext cx="1662120" cy="1326960"/>
          </a:xfrm>
          <a:prstGeom prst="rect">
            <a:avLst/>
          </a:prstGeom>
          <a:solidFill>
            <a:srgbClr val="b3ff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3" name="" descr=""/>
          <p:cNvPicPr/>
          <p:nvPr/>
        </p:nvPicPr>
        <p:blipFill>
          <a:blip r:embed="rId12"/>
          <a:stretch/>
        </p:blipFill>
        <p:spPr>
          <a:xfrm>
            <a:off x="2459160" y="2752560"/>
            <a:ext cx="531720" cy="254160"/>
          </a:xfrm>
          <a:prstGeom prst="rect">
            <a:avLst/>
          </a:prstGeom>
          <a:ln w="0">
            <a:noFill/>
          </a:ln>
        </p:spPr>
      </p:pic>
      <p:sp>
        <p:nvSpPr>
          <p:cNvPr id="1274" name=""/>
          <p:cNvSpPr/>
          <p:nvPr/>
        </p:nvSpPr>
        <p:spPr>
          <a:xfrm flipV="1">
            <a:off x="1816200" y="2395080"/>
            <a:ext cx="452160" cy="11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079880" y="1735200"/>
            <a:ext cx="909720" cy="43956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206960" y="2174760"/>
            <a:ext cx="2819160" cy="387360"/>
          </a:xfrm>
          <a:custGeom>
            <a:avLst/>
            <a:gdLst/>
            <a:ahLst/>
            <a:rect l="l" t="t" r="r" b="b"/>
            <a:pathLst>
              <a:path w="1792" h="336">
                <a:moveTo>
                  <a:pt x="256" y="0"/>
                </a:moveTo>
                <a:cubicBezTo>
                  <a:pt x="128" y="120"/>
                  <a:pt x="0" y="240"/>
                  <a:pt x="256" y="288"/>
                </a:cubicBezTo>
                <a:cubicBezTo>
                  <a:pt x="512" y="336"/>
                  <a:pt x="1152" y="312"/>
                  <a:pt x="1792" y="288"/>
                </a:cubicBezTo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2268360" y="2065320"/>
            <a:ext cx="2113200" cy="109440"/>
          </a:xfrm>
          <a:custGeom>
            <a:avLst/>
            <a:gdLst/>
            <a:ahLst/>
            <a:rect l="l" t="t" r="r" b="b"/>
            <a:pathLst>
              <a:path w="960" h="240">
                <a:moveTo>
                  <a:pt x="960" y="0"/>
                </a:moveTo>
                <a:cubicBezTo>
                  <a:pt x="920" y="4"/>
                  <a:pt x="880" y="8"/>
                  <a:pt x="720" y="48"/>
                </a:cubicBezTo>
                <a:cubicBezTo>
                  <a:pt x="560" y="88"/>
                  <a:pt x="280" y="164"/>
                  <a:pt x="0" y="240"/>
                </a:cubicBezTo>
              </a:path>
            </a:pathLst>
          </a:custGeom>
          <a:noFill/>
          <a:ln w="381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2192400" y="2452680"/>
            <a:ext cx="377640" cy="220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9" name="" descr=""/>
          <p:cNvPicPr/>
          <p:nvPr/>
        </p:nvPicPr>
        <p:blipFill>
          <a:blip r:embed="rId13"/>
          <a:stretch/>
        </p:blipFill>
        <p:spPr>
          <a:xfrm>
            <a:off x="1438200" y="2286000"/>
            <a:ext cx="452520" cy="276120"/>
          </a:xfrm>
          <a:prstGeom prst="rect">
            <a:avLst/>
          </a:prstGeom>
          <a:ln w="0">
            <a:noFill/>
          </a:ln>
        </p:spPr>
      </p:pic>
      <p:pic>
        <p:nvPicPr>
          <p:cNvPr id="1280" name="" descr=""/>
          <p:cNvPicPr/>
          <p:nvPr/>
        </p:nvPicPr>
        <p:blipFill>
          <a:blip r:embed="rId14"/>
          <a:stretch/>
        </p:blipFill>
        <p:spPr>
          <a:xfrm>
            <a:off x="1438200" y="2727360"/>
            <a:ext cx="452520" cy="276120"/>
          </a:xfrm>
          <a:prstGeom prst="rect">
            <a:avLst/>
          </a:prstGeom>
          <a:ln w="0">
            <a:noFill/>
          </a:ln>
        </p:spPr>
      </p:pic>
      <p:sp>
        <p:nvSpPr>
          <p:cNvPr id="1281" name=""/>
          <p:cNvSpPr/>
          <p:nvPr/>
        </p:nvSpPr>
        <p:spPr>
          <a:xfrm flipH="1">
            <a:off x="2117880" y="2230560"/>
            <a:ext cx="1504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1815840" y="2617920"/>
            <a:ext cx="376200" cy="164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514520" y="29480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 flipH="1" flipV="1">
            <a:off x="531720" y="1955520"/>
            <a:ext cx="906480" cy="385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5" name="" descr=""/>
          <p:cNvPicPr/>
          <p:nvPr/>
        </p:nvPicPr>
        <p:blipFill>
          <a:blip r:embed="rId15"/>
          <a:stretch/>
        </p:blipFill>
        <p:spPr>
          <a:xfrm>
            <a:off x="604800" y="1900080"/>
            <a:ext cx="303120" cy="220680"/>
          </a:xfrm>
          <a:prstGeom prst="rect">
            <a:avLst/>
          </a:prstGeom>
          <a:ln w="0">
            <a:noFill/>
          </a:ln>
        </p:spPr>
      </p:pic>
      <p:sp>
        <p:nvSpPr>
          <p:cNvPr id="1286" name=""/>
          <p:cNvSpPr/>
          <p:nvPr/>
        </p:nvSpPr>
        <p:spPr>
          <a:xfrm flipH="1">
            <a:off x="455400" y="2452680"/>
            <a:ext cx="982440" cy="5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7" name="" descr=""/>
          <p:cNvPicPr/>
          <p:nvPr/>
        </p:nvPicPr>
        <p:blipFill>
          <a:blip r:embed="rId16"/>
          <a:stretch/>
        </p:blipFill>
        <p:spPr>
          <a:xfrm>
            <a:off x="304920" y="2395440"/>
            <a:ext cx="299880" cy="222480"/>
          </a:xfrm>
          <a:prstGeom prst="rect">
            <a:avLst/>
          </a:prstGeom>
          <a:ln w="0">
            <a:noFill/>
          </a:ln>
        </p:spPr>
      </p:pic>
      <p:sp>
        <p:nvSpPr>
          <p:cNvPr id="1288" name=""/>
          <p:cNvSpPr/>
          <p:nvPr/>
        </p:nvSpPr>
        <p:spPr>
          <a:xfrm flipH="1">
            <a:off x="455400" y="2948040"/>
            <a:ext cx="982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907920" y="2948040"/>
            <a:ext cx="0" cy="1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55760" y="2948040"/>
            <a:ext cx="0" cy="22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1" name="" descr=""/>
          <p:cNvPicPr/>
          <p:nvPr/>
        </p:nvPicPr>
        <p:blipFill>
          <a:blip r:embed="rId17"/>
          <a:stretch/>
        </p:blipFill>
        <p:spPr>
          <a:xfrm>
            <a:off x="304920" y="3114720"/>
            <a:ext cx="299880" cy="220680"/>
          </a:xfrm>
          <a:prstGeom prst="rect">
            <a:avLst/>
          </a:prstGeom>
          <a:ln w="0">
            <a:noFill/>
          </a:ln>
        </p:spPr>
      </p:pic>
      <p:pic>
        <p:nvPicPr>
          <p:cNvPr id="1292" name="" descr=""/>
          <p:cNvPicPr/>
          <p:nvPr/>
        </p:nvPicPr>
        <p:blipFill>
          <a:blip r:embed="rId18"/>
          <a:stretch/>
        </p:blipFill>
        <p:spPr>
          <a:xfrm>
            <a:off x="757080" y="3059280"/>
            <a:ext cx="303480" cy="220320"/>
          </a:xfrm>
          <a:prstGeom prst="rect">
            <a:avLst/>
          </a:prstGeom>
          <a:ln w="0">
            <a:noFill/>
          </a:ln>
        </p:spPr>
      </p:pic>
      <p:pic>
        <p:nvPicPr>
          <p:cNvPr id="1293" name="" descr=""/>
          <p:cNvPicPr/>
          <p:nvPr/>
        </p:nvPicPr>
        <p:blipFill>
          <a:blip r:embed="rId19"/>
          <a:stretch/>
        </p:blipFill>
        <p:spPr>
          <a:xfrm>
            <a:off x="985680" y="1292400"/>
            <a:ext cx="1132200" cy="550800"/>
          </a:xfrm>
          <a:prstGeom prst="rect">
            <a:avLst/>
          </a:prstGeom>
          <a:ln w="0">
            <a:noFill/>
          </a:ln>
        </p:spPr>
      </p:pic>
      <p:sp>
        <p:nvSpPr>
          <p:cNvPr id="1294" name=""/>
          <p:cNvSpPr/>
          <p:nvPr/>
        </p:nvSpPr>
        <p:spPr>
          <a:xfrm>
            <a:off x="1135080" y="1403280"/>
            <a:ext cx="957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155120" y="1790640"/>
            <a:ext cx="942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6" name="" descr=""/>
          <p:cNvPicPr/>
          <p:nvPr/>
        </p:nvPicPr>
        <p:blipFill>
          <a:blip r:embed="rId20"/>
          <a:stretch/>
        </p:blipFill>
        <p:spPr>
          <a:xfrm>
            <a:off x="1438200" y="2452680"/>
            <a:ext cx="452520" cy="274680"/>
          </a:xfrm>
          <a:prstGeom prst="rect">
            <a:avLst/>
          </a:prstGeom>
          <a:ln w="0">
            <a:noFill/>
          </a:ln>
        </p:spPr>
      </p:pic>
      <p:pic>
        <p:nvPicPr>
          <p:cNvPr id="1297" name="" descr=""/>
          <p:cNvPicPr/>
          <p:nvPr/>
        </p:nvPicPr>
        <p:blipFill>
          <a:blip r:embed="rId21"/>
          <a:stretch/>
        </p:blipFill>
        <p:spPr>
          <a:xfrm>
            <a:off x="7253280" y="2840040"/>
            <a:ext cx="452520" cy="274680"/>
          </a:xfrm>
          <a:prstGeom prst="rect">
            <a:avLst/>
          </a:prstGeom>
          <a:ln w="0">
            <a:noFill/>
          </a:ln>
        </p:spPr>
      </p:pic>
      <p:pic>
        <p:nvPicPr>
          <p:cNvPr id="1298" name="" descr=""/>
          <p:cNvPicPr/>
          <p:nvPr/>
        </p:nvPicPr>
        <p:blipFill>
          <a:blip r:embed="rId22"/>
          <a:stretch/>
        </p:blipFill>
        <p:spPr>
          <a:xfrm>
            <a:off x="7327800" y="3059280"/>
            <a:ext cx="453960" cy="276120"/>
          </a:xfrm>
          <a:prstGeom prst="rect">
            <a:avLst/>
          </a:prstGeom>
          <a:ln w="0">
            <a:noFill/>
          </a:ln>
        </p:spPr>
      </p:pic>
      <p:pic>
        <p:nvPicPr>
          <p:cNvPr id="1299" name="" descr=""/>
          <p:cNvPicPr/>
          <p:nvPr/>
        </p:nvPicPr>
        <p:blipFill>
          <a:blip r:embed="rId23"/>
          <a:stretch/>
        </p:blipFill>
        <p:spPr>
          <a:xfrm>
            <a:off x="8310600" y="3279600"/>
            <a:ext cx="301680" cy="220680"/>
          </a:xfrm>
          <a:prstGeom prst="rect">
            <a:avLst/>
          </a:prstGeom>
          <a:ln w="0">
            <a:noFill/>
          </a:ln>
        </p:spPr>
      </p:pic>
      <p:sp>
        <p:nvSpPr>
          <p:cNvPr id="1300" name=""/>
          <p:cNvSpPr/>
          <p:nvPr/>
        </p:nvSpPr>
        <p:spPr>
          <a:xfrm>
            <a:off x="7781760" y="3170160"/>
            <a:ext cx="528840" cy="16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6724800" y="3003120"/>
            <a:ext cx="226800" cy="5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041560" y="1735200"/>
            <a:ext cx="52848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 algn="ct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GW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741320" y="1900080"/>
            <a:ext cx="527040" cy="33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 algn="ct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GWc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24"/>
          <a:stretch/>
        </p:blipFill>
        <p:spPr>
          <a:xfrm>
            <a:off x="2682720" y="2446200"/>
            <a:ext cx="532080" cy="25416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2235240" y="1219320"/>
            <a:ext cx="5133960" cy="368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2011320" y="1403280"/>
            <a:ext cx="223920" cy="60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7296120" y="1403280"/>
            <a:ext cx="222120" cy="184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541760" y="1587600"/>
            <a:ext cx="0" cy="122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5289480" y="2765520"/>
            <a:ext cx="377640" cy="274320"/>
            <a:chOff x="5289480" y="2765520"/>
            <a:chExt cx="377640" cy="274320"/>
          </a:xfrm>
        </p:grpSpPr>
        <p:grpSp>
          <p:nvGrpSpPr>
            <p:cNvPr id="1310" name=""/>
            <p:cNvGrpSpPr/>
            <p:nvPr/>
          </p:nvGrpSpPr>
          <p:grpSpPr>
            <a:xfrm>
              <a:off x="5365080" y="2765520"/>
              <a:ext cx="302040" cy="274320"/>
              <a:chOff x="5365080" y="2765520"/>
              <a:chExt cx="302040" cy="274320"/>
            </a:xfrm>
          </p:grpSpPr>
          <p:sp>
            <p:nvSpPr>
              <p:cNvPr id="1311" name=""/>
              <p:cNvSpPr/>
              <p:nvPr/>
            </p:nvSpPr>
            <p:spPr>
              <a:xfrm>
                <a:off x="5365080" y="2765520"/>
                <a:ext cx="302040" cy="13716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365080" y="2902680"/>
                <a:ext cx="302040" cy="13716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192" y="0"/>
                    </a:move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5440680" y="2820240"/>
              <a:ext cx="150840" cy="54720"/>
            </a:xfrm>
            <a:prstGeom prst="rect">
              <a:avLst/>
            </a:pr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515920" y="2930400"/>
              <a:ext cx="151200" cy="547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289480" y="2930400"/>
              <a:ext cx="151200" cy="5472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6" name=""/>
          <p:cNvSpPr/>
          <p:nvPr/>
        </p:nvSpPr>
        <p:spPr>
          <a:xfrm>
            <a:off x="2948040" y="2986200"/>
            <a:ext cx="755640" cy="3855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2797200" y="3040200"/>
            <a:ext cx="377640" cy="275760"/>
            <a:chOff x="2797200" y="3040200"/>
            <a:chExt cx="377640" cy="275760"/>
          </a:xfrm>
        </p:grpSpPr>
        <p:grpSp>
          <p:nvGrpSpPr>
            <p:cNvPr id="1318" name=""/>
            <p:cNvGrpSpPr/>
            <p:nvPr/>
          </p:nvGrpSpPr>
          <p:grpSpPr>
            <a:xfrm>
              <a:off x="2872800" y="3040200"/>
              <a:ext cx="302040" cy="275760"/>
              <a:chOff x="2872800" y="3040200"/>
              <a:chExt cx="302040" cy="275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2872800" y="3040200"/>
                <a:ext cx="302040" cy="13788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192" y="0"/>
                    </a:ln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2872800" y="3178080"/>
                <a:ext cx="302040" cy="13788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192" y="0"/>
                    </a:moveTo>
                    <a:lnTo>
                      <a:pt x="19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1" name=""/>
            <p:cNvSpPr/>
            <p:nvPr/>
          </p:nvSpPr>
          <p:spPr>
            <a:xfrm>
              <a:off x="2948400" y="3095280"/>
              <a:ext cx="150840" cy="55080"/>
            </a:xfrm>
            <a:prstGeom prst="rect">
              <a:avLst/>
            </a:pr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18720" bIns="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023640" y="3205800"/>
              <a:ext cx="151200" cy="5508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18720" bIns="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797200" y="3205800"/>
              <a:ext cx="151200" cy="55080"/>
            </a:xfrm>
            <a:prstGeom prst="rect">
              <a:avLst/>
            </a:prstGeom>
            <a:solidFill>
              <a:srgbClr val="008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18720" bIns="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4" name=""/>
          <p:cNvSpPr/>
          <p:nvPr/>
        </p:nvSpPr>
        <p:spPr>
          <a:xfrm>
            <a:off x="1676160" y="2819520"/>
            <a:ext cx="7945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te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19520" y="2895480"/>
            <a:ext cx="3581280" cy="362160"/>
          </a:xfrm>
          <a:custGeom>
            <a:avLst/>
            <a:gdLst/>
            <a:ahLst/>
            <a:rect l="l" t="t" r="r" b="b"/>
            <a:pathLst>
              <a:path w="1824" h="564">
                <a:moveTo>
                  <a:pt x="0" y="272"/>
                </a:moveTo>
                <a:cubicBezTo>
                  <a:pt x="74" y="294"/>
                  <a:pt x="232" y="367"/>
                  <a:pt x="446" y="407"/>
                </a:cubicBezTo>
                <a:cubicBezTo>
                  <a:pt x="660" y="447"/>
                  <a:pt x="1125" y="564"/>
                  <a:pt x="1283" y="510"/>
                </a:cubicBezTo>
                <a:cubicBezTo>
                  <a:pt x="1441" y="456"/>
                  <a:pt x="1302" y="160"/>
                  <a:pt x="1392" y="80"/>
                </a:cubicBezTo>
                <a:cubicBezTo>
                  <a:pt x="1482" y="0"/>
                  <a:pt x="1680" y="20"/>
                  <a:pt x="1824" y="32"/>
                </a:cubicBezTo>
              </a:path>
            </a:pathLst>
          </a:custGeom>
          <a:noFill/>
          <a:ln w="12708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438280" y="2057400"/>
            <a:ext cx="381240" cy="914400"/>
          </a:xfrm>
          <a:custGeom>
            <a:avLst/>
            <a:gdLst/>
            <a:ahLst/>
            <a:rect l="l" t="t" r="r" b="b"/>
            <a:pathLst>
              <a:path w="240" h="576">
                <a:moveTo>
                  <a:pt x="0" y="0"/>
                </a:moveTo>
                <a:cubicBezTo>
                  <a:pt x="28" y="144"/>
                  <a:pt x="56" y="288"/>
                  <a:pt x="96" y="384"/>
                </a:cubicBezTo>
                <a:cubicBezTo>
                  <a:pt x="136" y="480"/>
                  <a:pt x="188" y="528"/>
                  <a:pt x="240" y="576"/>
                </a:cubicBezTo>
              </a:path>
            </a:pathLst>
          </a:custGeom>
          <a:noFill/>
          <a:ln w="38160">
            <a:solidFill>
              <a:srgbClr val="006c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514600" y="1981080"/>
            <a:ext cx="380880" cy="914400"/>
          </a:xfrm>
          <a:custGeom>
            <a:avLst/>
            <a:gdLst/>
            <a:ahLst/>
            <a:rect l="l" t="t" r="r" b="b"/>
            <a:pathLst>
              <a:path w="240" h="576">
                <a:moveTo>
                  <a:pt x="0" y="0"/>
                </a:moveTo>
                <a:cubicBezTo>
                  <a:pt x="28" y="144"/>
                  <a:pt x="56" y="288"/>
                  <a:pt x="96" y="384"/>
                </a:cubicBezTo>
                <a:cubicBezTo>
                  <a:pt x="136" y="480"/>
                  <a:pt x="188" y="528"/>
                  <a:pt x="240" y="576"/>
                </a:cubicBezTo>
              </a:path>
            </a:pathLst>
          </a:custGeom>
          <a:noFill/>
          <a:ln w="38160">
            <a:solidFill>
              <a:srgbClr val="006c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666880" y="1981080"/>
            <a:ext cx="381240" cy="914400"/>
          </a:xfrm>
          <a:custGeom>
            <a:avLst/>
            <a:gdLst/>
            <a:ahLst/>
            <a:rect l="l" t="t" r="r" b="b"/>
            <a:pathLst>
              <a:path w="240" h="576">
                <a:moveTo>
                  <a:pt x="0" y="0"/>
                </a:moveTo>
                <a:cubicBezTo>
                  <a:pt x="28" y="144"/>
                  <a:pt x="56" y="288"/>
                  <a:pt x="96" y="384"/>
                </a:cubicBezTo>
                <a:cubicBezTo>
                  <a:pt x="136" y="480"/>
                  <a:pt x="188" y="528"/>
                  <a:pt x="240" y="576"/>
                </a:cubicBezTo>
              </a:path>
            </a:pathLst>
          </a:custGeom>
          <a:noFill/>
          <a:ln w="38160">
            <a:solidFill>
              <a:srgbClr val="006c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81080" y="2286000"/>
            <a:ext cx="685800" cy="762120"/>
          </a:xfrm>
          <a:custGeom>
            <a:avLst/>
            <a:gdLst/>
            <a:ahLst/>
            <a:rect l="l" t="t" r="r" b="b"/>
            <a:pathLst>
              <a:path w="432" h="480">
                <a:moveTo>
                  <a:pt x="0" y="0"/>
                </a:moveTo>
                <a:cubicBezTo>
                  <a:pt x="60" y="80"/>
                  <a:pt x="120" y="160"/>
                  <a:pt x="192" y="240"/>
                </a:cubicBezTo>
                <a:cubicBezTo>
                  <a:pt x="264" y="320"/>
                  <a:pt x="348" y="400"/>
                  <a:pt x="432" y="480"/>
                </a:cubicBezTo>
              </a:path>
            </a:pathLst>
          </a:custGeom>
          <a:noFill/>
          <a:ln w="28440">
            <a:solidFill>
              <a:srgbClr val="006c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28800" y="2286000"/>
            <a:ext cx="838080" cy="83808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0"/>
                </a:moveTo>
                <a:cubicBezTo>
                  <a:pt x="52" y="100"/>
                  <a:pt x="104" y="200"/>
                  <a:pt x="192" y="288"/>
                </a:cubicBezTo>
                <a:cubicBezTo>
                  <a:pt x="280" y="376"/>
                  <a:pt x="404" y="452"/>
                  <a:pt x="528" y="528"/>
                </a:cubicBezTo>
              </a:path>
            </a:pathLst>
          </a:custGeom>
          <a:noFill/>
          <a:ln w="28440">
            <a:solidFill>
              <a:srgbClr val="006c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400800" y="243828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cubicBezTo>
                  <a:pt x="0" y="288"/>
                  <a:pt x="192" y="144"/>
                  <a:pt x="384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6324480" y="2362320"/>
            <a:ext cx="60984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cubicBezTo>
                  <a:pt x="0" y="288"/>
                  <a:pt x="192" y="144"/>
                  <a:pt x="384" y="0"/>
                </a:cubicBezTo>
              </a:path>
            </a:pathLst>
          </a:custGeom>
          <a:noFill/>
          <a:ln w="28440">
            <a:solidFill>
              <a:srgbClr val="006c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6477120" y="251460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cubicBezTo>
                  <a:pt x="0" y="288"/>
                  <a:pt x="192" y="144"/>
                  <a:pt x="384" y="0"/>
                </a:cubicBezTo>
              </a:path>
            </a:pathLst>
          </a:custGeom>
          <a:noFill/>
          <a:ln w="28440">
            <a:solidFill>
              <a:srgbClr val="006c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477120" y="259092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cubicBezTo>
                  <a:pt x="0" y="288"/>
                  <a:pt x="192" y="144"/>
                  <a:pt x="384" y="0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248520" y="2286000"/>
            <a:ext cx="609480" cy="45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cubicBezTo>
                  <a:pt x="0" y="288"/>
                  <a:pt x="192" y="144"/>
                  <a:pt x="384" y="0"/>
                </a:cubicBezTo>
              </a:path>
            </a:pathLst>
          </a:custGeom>
          <a:noFill/>
          <a:ln w="28440">
            <a:solidFill>
              <a:srgbClr val="006c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157320" y="2590920"/>
            <a:ext cx="2088360" cy="347400"/>
          </a:xfrm>
          <a:prstGeom prst="rect">
            <a:avLst/>
          </a:prstGeom>
          <a:solidFill>
            <a:srgbClr val="006c88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er call e2e RSV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710760" y="2743200"/>
            <a:ext cx="2088360" cy="347400"/>
          </a:xfrm>
          <a:prstGeom prst="rect">
            <a:avLst/>
          </a:prstGeom>
          <a:solidFill>
            <a:srgbClr val="006c88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er call e2e RSV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07440" y="4267080"/>
            <a:ext cx="8633880" cy="1444680"/>
          </a:xfrm>
          <a:prstGeom prst="rect">
            <a:avLst/>
          </a:prstGeom>
          <a:solidFill>
            <a:srgbClr val="0066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SVP Aggrega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-per call RSVP reservations aggregated into EF DS-TE Tu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-EF DS-TE Tunnel size dynamically adjusted to current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-EF DS-TE Tunnel routed/rerouted/split (make-before-break) to fit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-new per call RSVP reservation rejected if EF DS-TE Tunnel can’t be incre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2590920" y="3124080"/>
            <a:ext cx="152280" cy="990720"/>
          </a:xfrm>
          <a:prstGeom prst="line">
            <a:avLst/>
          </a:prstGeom>
          <a:ln w="127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380880" y="5257800"/>
            <a:ext cx="82296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8000"/>
          </a:bodyPr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PLS Diff-Serv and MPLS TE to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ff-Serv-aware-TE (DS-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per Class 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Guaranteed Bandwidth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VoMP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2133720"/>
            <a:ext cx="82296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8000"/>
          </a:bodyPr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PLS Diff-Serv and MPLS TE to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ff-Serv-aware-TE (DS-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per Class 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Guaranteed Bandwidth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VoMP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iff-Serv-aware TE: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82000"/>
          </a:bodyPr>
          <a:p>
            <a:pPr marL="236880" indent="-236880">
              <a:lnSpc>
                <a:spcPct val="95000"/>
              </a:lnSpc>
              <a:spcBef>
                <a:spcPts val="137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New work in IETF, emerging implementa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6880" indent="-236880">
              <a:lnSpc>
                <a:spcPct val="95000"/>
              </a:lnSpc>
              <a:spcBef>
                <a:spcPts val="137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tensions over existing MPLS TE, to do CBR and CAC on a per Class(-Type) basi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6880" indent="-236880">
              <a:lnSpc>
                <a:spcPct val="95000"/>
              </a:lnSpc>
              <a:spcBef>
                <a:spcPts val="137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llows tighter control of QoS performance for each class (helps solve Diff-Serv’s provisioning challenge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6880" indent="-236880">
              <a:lnSpc>
                <a:spcPct val="95000"/>
              </a:lnSpc>
              <a:spcBef>
                <a:spcPts val="137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ables support of applications with tight QoS requirements such as “Guaranteed Bandwidth services”, Voice Trunks, Bandwidth Trading,…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==&gt; further step towards enabling IP/MPLS as the Multiservice Transport Infrastruct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6880" indent="-236880">
              <a:lnSpc>
                <a:spcPct val="95000"/>
              </a:lnSpc>
              <a:spcBef>
                <a:spcPts val="1375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useful in networks which cannot be assumed to be over-engineered everywhere all the time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LogotagBLACKTIF" descr=""/>
          <p:cNvPicPr/>
          <p:nvPr/>
        </p:nvPicPr>
        <p:blipFill>
          <a:blip r:embed="rId1"/>
          <a:stretch/>
        </p:blipFill>
        <p:spPr>
          <a:xfrm>
            <a:off x="1739880" y="1166760"/>
            <a:ext cx="6170760" cy="4684680"/>
          </a:xfrm>
          <a:prstGeom prst="rect">
            <a:avLst/>
          </a:prstGeom>
          <a:ln w="0">
            <a:noFill/>
          </a:ln>
        </p:spPr>
      </p:pic>
      <p:sp>
        <p:nvSpPr>
          <p:cNvPr id="1346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B359308-286E-4B4A-970F-DE973F671892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7" name="cisco_url_sabonbold16_96" descr=""/>
          <p:cNvPicPr/>
          <p:nvPr/>
        </p:nvPicPr>
        <p:blipFill>
          <a:blip r:embed="rId2"/>
          <a:stretch/>
        </p:blipFill>
        <p:spPr>
          <a:xfrm>
            <a:off x="3900600" y="6573960"/>
            <a:ext cx="1361880" cy="152280"/>
          </a:xfrm>
          <a:prstGeom prst="rect">
            <a:avLst/>
          </a:prstGeom>
          <a:ln w="0">
            <a:noFill/>
          </a:ln>
        </p:spPr>
      </p:pic>
      <p:sp>
        <p:nvSpPr>
          <p:cNvPr id="1348" name=""/>
          <p:cNvSpPr/>
          <p:nvPr/>
        </p:nvSpPr>
        <p:spPr>
          <a:xfrm>
            <a:off x="1091880" y="6634080"/>
            <a:ext cx="13248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© 2000, Cisco Systems, Inc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144000" y="6466320"/>
            <a:ext cx="8110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Apricot 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iff-Serv support over MP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3317400"/>
            <a:ext cx="8076960" cy="3194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 anchorCtr="1">
            <a:normAutofit/>
          </a:bodyPr>
          <a:p>
            <a:pPr marL="289080" indent="-289080">
              <a:lnSpc>
                <a:spcPct val="80000"/>
              </a:lnSpc>
              <a:spcBef>
                <a:spcPts val="1375"/>
              </a:spcBef>
              <a:buClr>
                <a:srgbClr val="35c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Diff-Serv is supported over MPLS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&lt;draft-ietf-mpls-diff-ext-07.txt&gt;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80000"/>
              </a:lnSpc>
              <a:spcBef>
                <a:spcPts val="1375"/>
              </a:spcBef>
              <a:buClr>
                <a:srgbClr val="35c5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ample above illustrates support of EF and AF1 on single E-LSP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5200" indent="0">
              <a:lnSpc>
                <a:spcPct val="8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Arial"/>
              </a:rPr>
              <a:t>EF and AF1 packets travel on single LSP (single label) but are enqueued in different queues (different EXP values)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690800" cy="1752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684520" y="2362320"/>
            <a:ext cx="973080" cy="271440"/>
          </a:xfrm>
          <a:custGeom>
            <a:avLst/>
            <a:gdLst/>
            <a:ahLst/>
            <a:rect l="l" t="t" r="r" b="b"/>
            <a:pathLst>
              <a:path w="817" h="241">
                <a:moveTo>
                  <a:pt x="0" y="0"/>
                </a:moveTo>
                <a:lnTo>
                  <a:pt x="816" y="0"/>
                </a:lnTo>
                <a:lnTo>
                  <a:pt x="816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48160" y="2368440"/>
            <a:ext cx="102960" cy="260640"/>
          </a:xfrm>
          <a:prstGeom prst="rect">
            <a:avLst/>
          </a:prstGeom>
          <a:solidFill>
            <a:srgbClr val="5f0b7b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87720" y="2368440"/>
            <a:ext cx="106200" cy="260640"/>
          </a:xfrm>
          <a:prstGeom prst="rect">
            <a:avLst/>
          </a:prstGeom>
          <a:solidFill>
            <a:srgbClr val="5f0b7b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5080" y="2368440"/>
            <a:ext cx="103320" cy="260640"/>
          </a:xfrm>
          <a:prstGeom prst="rect">
            <a:avLst/>
          </a:prstGeom>
          <a:solidFill>
            <a:srgbClr val="5f0b7b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19560" y="2368440"/>
            <a:ext cx="102960" cy="260640"/>
          </a:xfrm>
          <a:prstGeom prst="rect">
            <a:avLst/>
          </a:prstGeom>
          <a:solidFill>
            <a:srgbClr val="5f0b7b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33680" y="2368440"/>
            <a:ext cx="103320" cy="260640"/>
          </a:xfrm>
          <a:prstGeom prst="rect">
            <a:avLst/>
          </a:prstGeom>
          <a:solidFill>
            <a:srgbClr val="5f0b7b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2724120"/>
            <a:ext cx="976320" cy="273240"/>
          </a:xfrm>
          <a:custGeom>
            <a:avLst/>
            <a:gdLst/>
            <a:ahLst/>
            <a:rect l="l" t="t" r="r" b="b"/>
            <a:pathLst>
              <a:path w="817" h="241">
                <a:moveTo>
                  <a:pt x="0" y="0"/>
                </a:moveTo>
                <a:lnTo>
                  <a:pt x="816" y="0"/>
                </a:lnTo>
                <a:lnTo>
                  <a:pt x="816" y="24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0520" y="2730600"/>
            <a:ext cx="106560" cy="260280"/>
          </a:xfrm>
          <a:prstGeom prst="rect">
            <a:avLst/>
          </a:prstGeom>
          <a:solidFill>
            <a:srgbClr val="ffff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01920" y="2730600"/>
            <a:ext cx="104760" cy="260280"/>
          </a:xfrm>
          <a:prstGeom prst="rect">
            <a:avLst/>
          </a:prstGeom>
          <a:solidFill>
            <a:srgbClr val="ffff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6400" y="2730600"/>
            <a:ext cx="106200" cy="260280"/>
          </a:xfrm>
          <a:prstGeom prst="rect">
            <a:avLst/>
          </a:prstGeom>
          <a:solidFill>
            <a:srgbClr val="ffff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62360" y="1905120"/>
            <a:ext cx="9565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-L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261200" y="2135160"/>
            <a:ext cx="709560" cy="4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259000" y="2127240"/>
            <a:ext cx="711360" cy="433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47600" y="1752480"/>
            <a:ext cx="6652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S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1981080"/>
            <a:ext cx="1676520" cy="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1981080"/>
            <a:ext cx="2133360" cy="0"/>
          </a:xfrm>
          <a:prstGeom prst="line">
            <a:avLst/>
          </a:prstGeom>
          <a:ln w="572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33280" y="1600200"/>
            <a:ext cx="1289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LDP/RSV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00520" y="1600200"/>
            <a:ext cx="1289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LDP/RSV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648320" y="2133720"/>
            <a:ext cx="709560" cy="4316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5334120" y="2362320"/>
            <a:ext cx="990000" cy="634680"/>
            <a:chOff x="5334120" y="2362320"/>
            <a:chExt cx="990000" cy="634680"/>
          </a:xfrm>
        </p:grpSpPr>
        <p:sp>
          <p:nvSpPr>
            <p:cNvPr id="120" name=""/>
            <p:cNvSpPr/>
            <p:nvPr/>
          </p:nvSpPr>
          <p:spPr>
            <a:xfrm>
              <a:off x="5350680" y="2362320"/>
              <a:ext cx="973440" cy="270720"/>
            </a:xfrm>
            <a:custGeom>
              <a:avLst/>
              <a:gdLst/>
              <a:ahLst/>
              <a:rect l="l" t="t" r="r" b="b"/>
              <a:pathLst>
                <a:path w="817" h="241">
                  <a:moveTo>
                    <a:pt x="0" y="0"/>
                  </a:moveTo>
                  <a:lnTo>
                    <a:pt x="816" y="0"/>
                  </a:lnTo>
                  <a:lnTo>
                    <a:pt x="816" y="240"/>
                  </a:lnTo>
                  <a:lnTo>
                    <a:pt x="0" y="24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14320" y="2368440"/>
              <a:ext cx="104040" cy="260280"/>
            </a:xfrm>
            <a:prstGeom prst="rect">
              <a:avLst/>
            </a:prstGeom>
            <a:solidFill>
              <a:srgbClr val="5f0b7b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54600" y="2368440"/>
              <a:ext cx="106560" cy="260280"/>
            </a:xfrm>
            <a:prstGeom prst="rect">
              <a:avLst/>
            </a:prstGeom>
            <a:solidFill>
              <a:srgbClr val="5f0b7b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71240" y="2368440"/>
              <a:ext cx="102960" cy="260280"/>
            </a:xfrm>
            <a:prstGeom prst="rect">
              <a:avLst/>
            </a:prstGeom>
            <a:solidFill>
              <a:srgbClr val="5f0b7b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85720" y="2368440"/>
              <a:ext cx="104040" cy="260280"/>
            </a:xfrm>
            <a:prstGeom prst="rect">
              <a:avLst/>
            </a:prstGeom>
            <a:solidFill>
              <a:srgbClr val="5f0b7b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00200" y="2368440"/>
              <a:ext cx="102960" cy="260280"/>
            </a:xfrm>
            <a:prstGeom prst="rect">
              <a:avLst/>
            </a:prstGeom>
            <a:solidFill>
              <a:srgbClr val="5f0b7b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4120" y="2724840"/>
              <a:ext cx="975960" cy="272160"/>
            </a:xfrm>
            <a:custGeom>
              <a:avLst/>
              <a:gdLst/>
              <a:ahLst/>
              <a:rect l="l" t="t" r="r" b="b"/>
              <a:pathLst>
                <a:path w="817" h="241">
                  <a:moveTo>
                    <a:pt x="0" y="0"/>
                  </a:moveTo>
                  <a:lnTo>
                    <a:pt x="816" y="0"/>
                  </a:lnTo>
                  <a:lnTo>
                    <a:pt x="816" y="240"/>
                  </a:lnTo>
                  <a:lnTo>
                    <a:pt x="0" y="24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97760" y="2730960"/>
              <a:ext cx="105480" cy="260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68800" y="2730960"/>
              <a:ext cx="105120" cy="260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83280" y="2730960"/>
              <a:ext cx="106560" cy="260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1480" bIns="5148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 flipV="1">
            <a:off x="2819520" y="2286000"/>
            <a:ext cx="4701960" cy="7920"/>
          </a:xfrm>
          <a:prstGeom prst="line">
            <a:avLst/>
          </a:prstGeom>
          <a:ln w="572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538000">
            <a:off x="4496400" y="2285280"/>
            <a:ext cx="106200" cy="260280"/>
          </a:xfrm>
          <a:prstGeom prst="rect">
            <a:avLst/>
          </a:prstGeom>
          <a:solidFill>
            <a:srgbClr val="5f0b7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538000">
            <a:off x="4115520" y="2284920"/>
            <a:ext cx="106200" cy="2606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2438280"/>
            <a:ext cx="762120" cy="7632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0" y="0"/>
                </a:moveTo>
                <a:cubicBezTo>
                  <a:pt x="32" y="76"/>
                  <a:pt x="64" y="152"/>
                  <a:pt x="144" y="192"/>
                </a:cubicBezTo>
                <a:cubicBezTo>
                  <a:pt x="224" y="232"/>
                  <a:pt x="352" y="236"/>
                  <a:pt x="480" y="240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2514600"/>
            <a:ext cx="1218960" cy="380880"/>
          </a:xfrm>
          <a:custGeom>
            <a:avLst/>
            <a:gdLst/>
            <a:ahLst/>
            <a:rect l="l" t="t" r="r" b="b"/>
            <a:pathLst>
              <a:path w="480" h="240">
                <a:moveTo>
                  <a:pt x="0" y="0"/>
                </a:moveTo>
                <a:cubicBezTo>
                  <a:pt x="32" y="76"/>
                  <a:pt x="64" y="152"/>
                  <a:pt x="144" y="192"/>
                </a:cubicBezTo>
                <a:cubicBezTo>
                  <a:pt x="224" y="232"/>
                  <a:pt x="352" y="236"/>
                  <a:pt x="480" y="240"/>
                </a:cubicBezTo>
              </a:path>
            </a:pathLst>
          </a:custGeom>
          <a:noFill/>
          <a:ln w="5724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00080" y="2666880"/>
            <a:ext cx="4395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00440" y="2362320"/>
            <a:ext cx="5659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538000">
            <a:off x="7011000" y="2285280"/>
            <a:ext cx="106200" cy="260280"/>
          </a:xfrm>
          <a:prstGeom prst="rect">
            <a:avLst/>
          </a:prstGeom>
          <a:solidFill>
            <a:srgbClr val="5f0b7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1480" bIns="5148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2286000"/>
            <a:ext cx="4701960" cy="7920"/>
          </a:xfrm>
          <a:prstGeom prst="line">
            <a:avLst/>
          </a:prstGeom>
          <a:ln w="57240">
            <a:solidFill>
              <a:srgbClr val="66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PLS Traffic Engineer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2200" y="1015920"/>
            <a:ext cx="5772240" cy="3373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d route &amp; set-up tunnel for 20 Mb/s from POP1 to POP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54960" y="1447920"/>
            <a:ext cx="5772240" cy="3373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d route &amp; set-up tunnel for 10 Mb/s from POP2 to POP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9360" y="1905120"/>
            <a:ext cx="4000680" cy="4356000"/>
          </a:xfrm>
          <a:custGeom>
            <a:avLst/>
            <a:gdLst/>
            <a:ahLst/>
            <a:rect l="l" t="t" r="r" b="b"/>
            <a:pathLst>
              <a:path w="2520" h="2744">
                <a:moveTo>
                  <a:pt x="248" y="224"/>
                </a:moveTo>
                <a:cubicBezTo>
                  <a:pt x="368" y="0"/>
                  <a:pt x="432" y="104"/>
                  <a:pt x="728" y="80"/>
                </a:cubicBezTo>
                <a:cubicBezTo>
                  <a:pt x="1024" y="56"/>
                  <a:pt x="1752" y="32"/>
                  <a:pt x="2024" y="80"/>
                </a:cubicBezTo>
                <a:cubicBezTo>
                  <a:pt x="2296" y="128"/>
                  <a:pt x="2280" y="112"/>
                  <a:pt x="2360" y="368"/>
                </a:cubicBezTo>
                <a:cubicBezTo>
                  <a:pt x="2440" y="624"/>
                  <a:pt x="2520" y="1256"/>
                  <a:pt x="2504" y="1616"/>
                </a:cubicBezTo>
                <a:cubicBezTo>
                  <a:pt x="2488" y="1976"/>
                  <a:pt x="2480" y="2344"/>
                  <a:pt x="2264" y="2528"/>
                </a:cubicBezTo>
                <a:cubicBezTo>
                  <a:pt x="2048" y="2712"/>
                  <a:pt x="1552" y="2720"/>
                  <a:pt x="1208" y="2720"/>
                </a:cubicBezTo>
                <a:cubicBezTo>
                  <a:pt x="864" y="2720"/>
                  <a:pt x="400" y="2744"/>
                  <a:pt x="200" y="2528"/>
                </a:cubicBezTo>
                <a:cubicBezTo>
                  <a:pt x="0" y="2312"/>
                  <a:pt x="0" y="1808"/>
                  <a:pt x="8" y="1424"/>
                </a:cubicBezTo>
                <a:cubicBezTo>
                  <a:pt x="16" y="1040"/>
                  <a:pt x="128" y="448"/>
                  <a:pt x="248" y="224"/>
                </a:cubicBezTo>
                <a:close/>
              </a:path>
            </a:pathLst>
          </a:custGeom>
          <a:solidFill>
            <a:srgbClr val="fef7e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990600" y="3555720"/>
            <a:ext cx="885960" cy="1600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3432240"/>
            <a:ext cx="762120" cy="4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29000" y="3631680"/>
            <a:ext cx="333360" cy="117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886200" y="3708360"/>
            <a:ext cx="1219320" cy="1324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105520" y="3708360"/>
            <a:ext cx="333360" cy="11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622840" y="2870280"/>
            <a:ext cx="625680" cy="86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352680" y="3022560"/>
            <a:ext cx="990720" cy="76212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5867280" y="1955880"/>
            <a:ext cx="2590920" cy="1371600"/>
            <a:chOff x="5867280" y="1955880"/>
            <a:chExt cx="2590920" cy="1371600"/>
          </a:xfrm>
        </p:grpSpPr>
        <p:sp>
          <p:nvSpPr>
            <p:cNvPr id="151" name=""/>
            <p:cNvSpPr/>
            <p:nvPr/>
          </p:nvSpPr>
          <p:spPr>
            <a:xfrm>
              <a:off x="5867280" y="1955880"/>
              <a:ext cx="259092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7010280" y="2108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7238880" y="226080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7543800" y="241308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5"/>
            <a:stretch/>
          </p:blipFill>
          <p:spPr>
            <a:xfrm>
              <a:off x="6019560" y="241308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6"/>
            <a:stretch/>
          </p:blipFill>
          <p:spPr>
            <a:xfrm>
              <a:off x="7086600" y="2718000"/>
              <a:ext cx="2854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6858000" y="2870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7086240" y="2336760"/>
              <a:ext cx="7596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315200" y="25650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391160" y="271764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10080" y="19670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019920" y="3556080"/>
            <a:ext cx="2590560" cy="1371600"/>
            <a:chOff x="6019920" y="3556080"/>
            <a:chExt cx="2590560" cy="1371600"/>
          </a:xfrm>
        </p:grpSpPr>
        <p:sp>
          <p:nvSpPr>
            <p:cNvPr id="163" name=""/>
            <p:cNvSpPr/>
            <p:nvPr/>
          </p:nvSpPr>
          <p:spPr>
            <a:xfrm>
              <a:off x="6019920" y="35560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7"/>
            <a:stretch/>
          </p:blipFill>
          <p:spPr>
            <a:xfrm>
              <a:off x="7162560" y="3708360"/>
              <a:ext cx="7585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8"/>
            <a:stretch/>
          </p:blipFill>
          <p:spPr>
            <a:xfrm>
              <a:off x="7391160" y="3861000"/>
              <a:ext cx="7585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9"/>
            <a:stretch/>
          </p:blipFill>
          <p:spPr>
            <a:xfrm>
              <a:off x="7696080" y="4013280"/>
              <a:ext cx="75996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10"/>
            <a:stretch/>
          </p:blipFill>
          <p:spPr>
            <a:xfrm>
              <a:off x="6171840" y="4013280"/>
              <a:ext cx="9140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11"/>
            <a:stretch/>
          </p:blipFill>
          <p:spPr>
            <a:xfrm>
              <a:off x="7238880" y="4318200"/>
              <a:ext cx="2851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010280" y="4470480"/>
              <a:ext cx="228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7238880" y="3936960"/>
              <a:ext cx="7560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7467480" y="41652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543440" y="4317840"/>
              <a:ext cx="3808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62360" y="356724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638680" y="5232240"/>
            <a:ext cx="2590920" cy="1371600"/>
            <a:chOff x="5638680" y="5232240"/>
            <a:chExt cx="2590920" cy="1371600"/>
          </a:xfrm>
        </p:grpSpPr>
        <p:sp>
          <p:nvSpPr>
            <p:cNvPr id="175" name=""/>
            <p:cNvSpPr/>
            <p:nvPr/>
          </p:nvSpPr>
          <p:spPr>
            <a:xfrm>
              <a:off x="5638680" y="5232240"/>
              <a:ext cx="259092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2"/>
            <a:stretch/>
          </p:blipFill>
          <p:spPr>
            <a:xfrm>
              <a:off x="6781680" y="538452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13"/>
            <a:stretch/>
          </p:blipFill>
          <p:spPr>
            <a:xfrm>
              <a:off x="7010280" y="5537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14"/>
            <a:stretch/>
          </p:blipFill>
          <p:spPr>
            <a:xfrm>
              <a:off x="7315200" y="56894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15"/>
            <a:stretch/>
          </p:blipFill>
          <p:spPr>
            <a:xfrm>
              <a:off x="5790960" y="568944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6"/>
            <a:stretch/>
          </p:blipFill>
          <p:spPr>
            <a:xfrm>
              <a:off x="6858000" y="5994360"/>
              <a:ext cx="28548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629400" y="614664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6857640" y="5613120"/>
              <a:ext cx="7596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086600" y="584136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162560" y="5994000"/>
              <a:ext cx="38124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81840" y="524340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33520" y="5384880"/>
            <a:ext cx="2590560" cy="1371600"/>
            <a:chOff x="533520" y="5384880"/>
            <a:chExt cx="2590560" cy="1371600"/>
          </a:xfrm>
        </p:grpSpPr>
        <p:sp>
          <p:nvSpPr>
            <p:cNvPr id="187" name=""/>
            <p:cNvSpPr/>
            <p:nvPr/>
          </p:nvSpPr>
          <p:spPr>
            <a:xfrm>
              <a:off x="533520" y="53848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7"/>
            <a:stretch/>
          </p:blipFill>
          <p:spPr>
            <a:xfrm>
              <a:off x="609480" y="584208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18"/>
            <a:stretch/>
          </p:blipFill>
          <p:spPr>
            <a:xfrm>
              <a:off x="838080" y="59943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9"/>
            <a:stretch/>
          </p:blipFill>
          <p:spPr>
            <a:xfrm>
              <a:off x="1143000" y="61466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20"/>
            <a:stretch/>
          </p:blipFill>
          <p:spPr>
            <a:xfrm>
              <a:off x="1981080" y="553716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21"/>
            <a:stretch/>
          </p:blipFill>
          <p:spPr>
            <a:xfrm>
              <a:off x="1523880" y="568944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982880" y="622296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5280" y="58420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447920" y="599436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1676160" y="59940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52480" y="58420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04920" y="3784680"/>
            <a:ext cx="2590560" cy="1371600"/>
            <a:chOff x="304920" y="3784680"/>
            <a:chExt cx="2590560" cy="1371600"/>
          </a:xfrm>
        </p:grpSpPr>
        <p:sp>
          <p:nvSpPr>
            <p:cNvPr id="199" name=""/>
            <p:cNvSpPr/>
            <p:nvPr/>
          </p:nvSpPr>
          <p:spPr>
            <a:xfrm>
              <a:off x="304920" y="378468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22"/>
            <a:stretch/>
          </p:blipFill>
          <p:spPr>
            <a:xfrm>
              <a:off x="380880" y="424188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23"/>
            <a:stretch/>
          </p:blipFill>
          <p:spPr>
            <a:xfrm>
              <a:off x="609480" y="43941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4"/>
            <a:stretch/>
          </p:blipFill>
          <p:spPr>
            <a:xfrm>
              <a:off x="914400" y="454644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5"/>
            <a:stretch/>
          </p:blipFill>
          <p:spPr>
            <a:xfrm>
              <a:off x="1752480" y="393696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26"/>
            <a:stretch/>
          </p:blipFill>
          <p:spPr>
            <a:xfrm>
              <a:off x="1295280" y="408924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753920" y="462276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66680" y="4241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1219320" y="439416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1447560" y="43938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4241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33520" y="2108160"/>
            <a:ext cx="2590560" cy="1371600"/>
            <a:chOff x="533520" y="2108160"/>
            <a:chExt cx="2590560" cy="1371600"/>
          </a:xfrm>
        </p:grpSpPr>
        <p:sp>
          <p:nvSpPr>
            <p:cNvPr id="211" name=""/>
            <p:cNvSpPr/>
            <p:nvPr/>
          </p:nvSpPr>
          <p:spPr>
            <a:xfrm>
              <a:off x="533520" y="2108160"/>
              <a:ext cx="2590560" cy="1371600"/>
            </a:xfrm>
            <a:prstGeom prst="ellipse">
              <a:avLst/>
            </a:prstGeom>
            <a:solidFill>
              <a:srgbClr val="fde3b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27"/>
            <a:stretch/>
          </p:blipFill>
          <p:spPr>
            <a:xfrm>
              <a:off x="609480" y="256536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8"/>
            <a:stretch/>
          </p:blipFill>
          <p:spPr>
            <a:xfrm>
              <a:off x="838080" y="2717640"/>
              <a:ext cx="75888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29"/>
            <a:stretch/>
          </p:blipFill>
          <p:spPr>
            <a:xfrm>
              <a:off x="1143000" y="2869920"/>
              <a:ext cx="76032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30"/>
            <a:stretch/>
          </p:blipFill>
          <p:spPr>
            <a:xfrm>
              <a:off x="1981080" y="2260440"/>
              <a:ext cx="9144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31"/>
            <a:stretch/>
          </p:blipFill>
          <p:spPr>
            <a:xfrm>
              <a:off x="1523880" y="2412720"/>
              <a:ext cx="2858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1982520" y="29462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OP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95280" y="256536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1447920" y="2717640"/>
              <a:ext cx="7596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1676160" y="271728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52480" y="256536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2" name="" descr=""/>
          <p:cNvPicPr/>
          <p:nvPr/>
        </p:nvPicPr>
        <p:blipFill>
          <a:blip r:embed="rId32"/>
          <a:stretch/>
        </p:blipFill>
        <p:spPr>
          <a:xfrm>
            <a:off x="4876920" y="317484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3"/>
          <a:stretch/>
        </p:blipFill>
        <p:spPr>
          <a:xfrm>
            <a:off x="3886200" y="386064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4"/>
          <a:stretch/>
        </p:blipFill>
        <p:spPr>
          <a:xfrm>
            <a:off x="3048120" y="4775040"/>
            <a:ext cx="990360" cy="762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5"/>
          <a:stretch/>
        </p:blipFill>
        <p:spPr>
          <a:xfrm>
            <a:off x="4724280" y="4775040"/>
            <a:ext cx="990720" cy="7621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41920" y="3732120"/>
            <a:ext cx="60660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38480" y="5156280"/>
            <a:ext cx="76212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62520" y="5384880"/>
            <a:ext cx="182880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5460840"/>
            <a:ext cx="45720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590920" y="3555720"/>
            <a:ext cx="83808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2717640"/>
            <a:ext cx="7621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19520" y="5384520"/>
            <a:ext cx="3808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57600" y="2108160"/>
            <a:ext cx="13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N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1447920"/>
            <a:ext cx="838440" cy="76176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514240" y="1752480"/>
            <a:ext cx="762120" cy="20574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19520" y="2666880"/>
            <a:ext cx="228600" cy="1526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8120" y="2819520"/>
            <a:ext cx="228600" cy="152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2971800"/>
            <a:ext cx="380880" cy="304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3276720"/>
            <a:ext cx="304920" cy="5331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809880"/>
            <a:ext cx="304560" cy="304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67080" y="4114800"/>
            <a:ext cx="4572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724280" y="3581280"/>
            <a:ext cx="609840" cy="5335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334120" y="3124080"/>
            <a:ext cx="533160" cy="457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67280" y="2666880"/>
            <a:ext cx="533520" cy="457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590920" y="3505320"/>
            <a:ext cx="609480" cy="457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200400" y="3276360"/>
            <a:ext cx="83808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3276720"/>
            <a:ext cx="10670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5520" y="2895120"/>
            <a:ext cx="685800" cy="3812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791320" y="2514600"/>
            <a:ext cx="457200" cy="380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Relationship between MPLS TE and Q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0360" y="203184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80000"/>
          </a:bodyPr>
          <a:p>
            <a:pPr marL="231120" indent="-23112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PLS TE designed as tool to improve backbone efficiency independently of Qo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21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PLS TE compute routes for aggregates across all PHB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21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PLS TE performs admission control over “global” bandwidth pool for all COS/PHBs (i.e., unaware of bandwidth allocated to each queu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120" indent="-231120">
              <a:lnSpc>
                <a:spcPct val="95000"/>
              </a:lnSpc>
              <a:spcBef>
                <a:spcPts val="1500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PLS TE and MPLS Diff-Serv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21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an run simultaneous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21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an provide their own benefit (ie TE distributes aggregate load, Diff-Serv provides differentiatio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21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re unaware of each other (TE cannot provide its benefit on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a per class basi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such as CAC and constraint based routin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80880" y="2743200"/>
            <a:ext cx="8229600" cy="45720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8000"/>
          </a:bodyPr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PLS Diff-Serv and MPLS TE to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iff-Serv-aware-TE (DS-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per Class 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Guaranteed Bandwidth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S-TE for VoMP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95000"/>
              </a:lnSpc>
              <a:spcBef>
                <a:spcPts val="1749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6440" y="-360"/>
            <a:ext cx="7623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elay/Load Trade-Off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501920" y="1693800"/>
            <a:ext cx="0" cy="32162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01920" y="4910040"/>
            <a:ext cx="5856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272000" y="4002120"/>
            <a:ext cx="151992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rcent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aff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18520" y="1270080"/>
            <a:ext cx="8265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50360" y="4995720"/>
            <a:ext cx="514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90080" y="4952880"/>
            <a:ext cx="7977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7400" y="4950000"/>
            <a:ext cx="603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5680" y="4064040"/>
            <a:ext cx="7657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27040" y="2624040"/>
            <a:ext cx="56311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600200"/>
            <a:ext cx="0" cy="33861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01920" y="3639960"/>
            <a:ext cx="563076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01920" y="4572000"/>
            <a:ext cx="563076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43400" y="1523880"/>
            <a:ext cx="0" cy="33861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1523880"/>
            <a:ext cx="0" cy="33861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8640" y="2963880"/>
            <a:ext cx="10141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Prem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9240" y="1862280"/>
            <a:ext cx="11923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Go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Best-Eff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5504040"/>
            <a:ext cx="8001000" cy="68292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I can keep EF traffic   &lt; </a:t>
            </a:r>
            <a:r>
              <a:rPr b="1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% , I will keep EF delay under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I can keep AF1 traffic &lt; </a:t>
            </a:r>
            <a:r>
              <a:rPr b="1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% , I will keep AF1 delay under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1371600"/>
            <a:ext cx="3353040" cy="3505320"/>
          </a:xfrm>
          <a:custGeom>
            <a:avLst/>
            <a:gdLst/>
            <a:ahLst/>
            <a:rect l="l" t="t" r="r" b="b"/>
            <a:pathLst>
              <a:path w="2112" h="2208">
                <a:moveTo>
                  <a:pt x="0" y="2208"/>
                </a:moveTo>
                <a:cubicBezTo>
                  <a:pt x="436" y="2164"/>
                  <a:pt x="872" y="2120"/>
                  <a:pt x="1152" y="2016"/>
                </a:cubicBezTo>
                <a:cubicBezTo>
                  <a:pt x="1432" y="1912"/>
                  <a:pt x="1536" y="1792"/>
                  <a:pt x="1680" y="1584"/>
                </a:cubicBezTo>
                <a:cubicBezTo>
                  <a:pt x="1824" y="1376"/>
                  <a:pt x="1944" y="1032"/>
                  <a:pt x="2016" y="768"/>
                </a:cubicBezTo>
                <a:cubicBezTo>
                  <a:pt x="2088" y="504"/>
                  <a:pt x="2100" y="252"/>
                  <a:pt x="2112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1523880"/>
            <a:ext cx="0" cy="33861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37760" y="4952880"/>
            <a:ext cx="582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tivation for DS-aware 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91000"/>
          </a:bodyPr>
          <a:p>
            <a:pPr marL="262800" indent="-262800">
              <a:lnSpc>
                <a:spcPct val="90000"/>
              </a:lnSpc>
              <a:spcBef>
                <a:spcPts val="1624"/>
              </a:spcBef>
              <a:buClr>
                <a:srgbClr val="35c5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us, with Diffserv, there are additional constraints to ensure the QoS of each class: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14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od EF behavior requires that aggregate EF traffic is less than small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% of lin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4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od AF behaviors requires that aggregate AF traffic is less than reasonable </a:t>
            </a:r>
            <a:r>
              <a:rPr b="0" i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% of lin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=&gt;Can not be enforced by current aggregate 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=&gt; Requires Diff-Serv aware 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Constraint Based Routing per Class with different bandwidth constrai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28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dmission Control per Class over different bandwidth pools (ie bandwidth allocated to class queu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5T10:04:55Z</dcterms:created>
  <dc:creator>Pixel Plant</dc:creator>
  <dc:description/>
  <dc:language>en-US</dc:language>
  <cp:lastModifiedBy>dapatter</cp:lastModifiedBy>
  <cp:lastPrinted>2000-08-31T10:07:32Z</cp:lastPrinted>
  <dcterms:modified xsi:type="dcterms:W3CDTF">2001-02-08T22:21:37Z</dcterms:modified>
  <cp:revision>56</cp:revision>
  <dc:subject>Guide for Creating Powerpoint Presentations</dc:subject>
  <dc:title>Geen diatitel</dc:title>
</cp:coreProperties>
</file>