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5.xml.rels" ContentType="application/vnd.openxmlformats-package.relationships+xml"/>
  <Override PartName="/ppt/notesSlides/notesSlide20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Lst>
  <p:sldSz cx="9144000" cy="6858000"/>
  <p:notesSz cx="7102475" cy="8993188"/>
  <p:custShowLst>
    <p:custShow name="pauls" id="0">
      <p:sldLst>
        <p:sld r:id="rId10"/>
        <p:sld r:id="rId7"/>
        <p:sld r:id="rId10"/>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ee3ee"/>
              </a:solidFill>
              <a:latin typeface="Times New Roman"/>
            </a:endParaRPr>
          </a:p>
        </p:txBody>
      </p:sp>
      <p:sp>
        <p:nvSpPr>
          <p:cNvPr id="9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4024440" y="0"/>
            <a:ext cx="307800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Click to move the slide</a:t>
            </a:r>
            <a:endParaRPr b="1" lang="en-US" sz="6600" spc="-1" strike="noStrike">
              <a:solidFill>
                <a:srgbClr val="ffffff"/>
              </a:solidFill>
              <a:latin typeface="Arial Narrow"/>
            </a:endParaRPr>
          </a:p>
        </p:txBody>
      </p:sp>
      <p:sp>
        <p:nvSpPr>
          <p:cNvPr id="9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0" y="8542440"/>
            <a:ext cx="3078000" cy="449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4024440" y="8542440"/>
            <a:ext cx="307800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0054-C191-46C0-8D3D-04E87564F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927A-201E-4387-90D4-3A8D0B608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0" y="8542440"/>
            <a:ext cx="3078000" cy="449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0" y="0"/>
            <a:ext cx="3078000" cy="449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4024440" y="0"/>
            <a:ext cx="3078000" cy="449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303200" y="674640"/>
            <a:ext cx="4496040" cy="3371760"/>
          </a:xfrm>
          <a:prstGeom prst="rect">
            <a:avLst/>
          </a:prstGeom>
          <a:ln w="0">
            <a:noFill/>
          </a:ln>
        </p:spPr>
      </p:sp>
      <p:sp>
        <p:nvSpPr>
          <p:cNvPr id="589"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FC191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DC528-39A5-4AEE-8DE2-85E772D2B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34" name="PlaceHolder 2"/>
          <p:cNvSpPr>
            <a:spLocks noGrp="1"/>
          </p:cNvSpPr>
          <p:nvPr>
            <p:ph/>
          </p:nvPr>
        </p:nvSpPr>
        <p:spPr>
          <a:xfrm>
            <a:off x="304920" y="183996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37875-EA12-4EEA-B1A0-A60779CDD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37"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69997-6AF7-4B0D-AD7A-418708D2A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42" name="PlaceHolder 2"/>
          <p:cNvSpPr>
            <a:spLocks noGrp="1"/>
          </p:cNvSpPr>
          <p:nvPr>
            <p:ph/>
          </p:nvPr>
        </p:nvSpPr>
        <p:spPr>
          <a:xfrm>
            <a:off x="30492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3"/>
          <p:cNvSpPr>
            <a:spLocks noGrp="1"/>
          </p:cNvSpPr>
          <p:nvPr>
            <p:ph/>
          </p:nvPr>
        </p:nvSpPr>
        <p:spPr>
          <a:xfrm>
            <a:off x="321624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p:nvPr>
        </p:nvSpPr>
        <p:spPr>
          <a:xfrm>
            <a:off x="612756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p:nvPr>
        </p:nvSpPr>
        <p:spPr>
          <a:xfrm>
            <a:off x="30492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p:nvPr>
        </p:nvSpPr>
        <p:spPr>
          <a:xfrm>
            <a:off x="321624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7"/>
          <p:cNvSpPr>
            <a:spLocks noGrp="1"/>
          </p:cNvSpPr>
          <p:nvPr>
            <p:ph/>
          </p:nvPr>
        </p:nvSpPr>
        <p:spPr>
          <a:xfrm>
            <a:off x="612756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C4333-B63C-46FB-A0A2-B3C7DC961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AD634-3724-4F95-B833-E53E273D3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59" name="PlaceHolder 2"/>
          <p:cNvSpPr>
            <a:spLocks noGrp="1"/>
          </p:cNvSpPr>
          <p:nvPr>
            <p:ph type="subTitle"/>
          </p:nvPr>
        </p:nvSpPr>
        <p:spPr>
          <a:xfrm>
            <a:off x="304920" y="1839960"/>
            <a:ext cx="8610480" cy="425592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DE629-A8DD-4D86-88E7-217728E02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E1D3B-5483-4FBE-82D1-2BEFE9947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63"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4DAFE-A0F3-4BC8-8DAC-94E26FE80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B792E-E17F-4900-94E8-C89064BBC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47480" y="380520"/>
            <a:ext cx="8467560" cy="52995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94AA1-6D34-4827-916C-670B59B65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68"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4AC84-EF0D-463A-A59F-6743C8BF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13" name="PlaceHolder 2"/>
          <p:cNvSpPr>
            <a:spLocks noGrp="1"/>
          </p:cNvSpPr>
          <p:nvPr>
            <p:ph type="subTitle"/>
          </p:nvPr>
        </p:nvSpPr>
        <p:spPr>
          <a:xfrm>
            <a:off x="304920" y="1839960"/>
            <a:ext cx="8610480" cy="425592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373A8-4F83-442D-9D31-93B09FB2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72"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E8550-A72A-4DDC-9CAE-435BF0FEC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76"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46B8D-022B-4C9C-A1A7-3E0D45F24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80" name="PlaceHolder 2"/>
          <p:cNvSpPr>
            <a:spLocks noGrp="1"/>
          </p:cNvSpPr>
          <p:nvPr>
            <p:ph/>
          </p:nvPr>
        </p:nvSpPr>
        <p:spPr>
          <a:xfrm>
            <a:off x="304920" y="183996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3"/>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1D5F7-2F43-4AC6-AD4D-97B3B3826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83"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5"/>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9CCE7-3962-4129-95B7-24DC7E5E9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88" name="PlaceHolder 2"/>
          <p:cNvSpPr>
            <a:spLocks noGrp="1"/>
          </p:cNvSpPr>
          <p:nvPr>
            <p:ph/>
          </p:nvPr>
        </p:nvSpPr>
        <p:spPr>
          <a:xfrm>
            <a:off x="30492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321624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4"/>
          <p:cNvSpPr>
            <a:spLocks noGrp="1"/>
          </p:cNvSpPr>
          <p:nvPr>
            <p:ph/>
          </p:nvPr>
        </p:nvSpPr>
        <p:spPr>
          <a:xfrm>
            <a:off x="612756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5"/>
          <p:cNvSpPr>
            <a:spLocks noGrp="1"/>
          </p:cNvSpPr>
          <p:nvPr>
            <p:ph/>
          </p:nvPr>
        </p:nvSpPr>
        <p:spPr>
          <a:xfrm>
            <a:off x="30492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6"/>
          <p:cNvSpPr>
            <a:spLocks noGrp="1"/>
          </p:cNvSpPr>
          <p:nvPr>
            <p:ph/>
          </p:nvPr>
        </p:nvSpPr>
        <p:spPr>
          <a:xfrm>
            <a:off x="321624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7"/>
          <p:cNvSpPr>
            <a:spLocks noGrp="1"/>
          </p:cNvSpPr>
          <p:nvPr>
            <p:ph/>
          </p:nvPr>
        </p:nvSpPr>
        <p:spPr>
          <a:xfrm>
            <a:off x="612756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36A0F-40D8-448C-9D90-99B02C604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DC932-AAEA-43A2-A39B-C9138CE85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17"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D550-8F3E-4C84-8B0B-781D3E295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7BA2D-AB8D-4BEF-B84E-51B91959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47480" y="380520"/>
            <a:ext cx="8467560" cy="52995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F9DB7-BC10-4207-B3D7-F1FC4F61B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22"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0717-3F1A-455A-940E-0BD008902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26"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4"/>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CFC54-4CE9-490A-8D2F-0C7655877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30"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F718-250E-4153-ADAB-81C325977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lick to edit the title text format</a:t>
            </a:r>
            <a:endParaRPr b="1" lang="en-US" sz="4800" spc="-1" strike="noStrike">
              <a:solidFill>
                <a:srgbClr val="ffffff"/>
              </a:solidFill>
              <a:latin typeface="Arial Narrow"/>
            </a:endParaRPr>
          </a:p>
        </p:txBody>
      </p:sp>
      <p:sp>
        <p:nvSpPr>
          <p:cNvPr id="1" name="PlaceHolder 2"/>
          <p:cNvSpPr>
            <a:spLocks noGrp="1"/>
          </p:cNvSpPr>
          <p:nvPr>
            <p:ph type="body"/>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570360" y="6248520"/>
            <a:ext cx="1833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533400" y="625644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392680" y="6248520"/>
            <a:ext cx="52236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D7FB-59D6-4D7A-821A-FE7C2DEB0FA4}" type="slidenum">
              <a:rPr b="0" lang="en-US" sz="1400" spc="-1" strike="noStrike">
                <a:solidFill>
                  <a:srgbClr val="ffcc99"/>
                </a:solidFill>
                <a:latin typeface="Arial"/>
              </a:rPr>
              <a:t>&lt;number&gt;</a:t>
            </a:fld>
            <a:endParaRPr b="0" lang="en-US" sz="1400" spc="-1" strike="noStrike">
              <a:solidFill>
                <a:srgbClr val="ffffff"/>
              </a:solidFill>
              <a:latin typeface="Times New Roman"/>
            </a:endParaRPr>
          </a:p>
        </p:txBody>
      </p:sp>
      <p:sp>
        <p:nvSpPr>
          <p:cNvPr id="5" name=""/>
          <p:cNvSpPr/>
          <p:nvPr/>
        </p:nvSpPr>
        <p:spPr>
          <a:xfrm>
            <a:off x="415800" y="150660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6" name=""/>
          <p:cNvSpPr/>
          <p:nvPr/>
        </p:nvSpPr>
        <p:spPr>
          <a:xfrm>
            <a:off x="380880" y="147168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grpSp>
        <p:nvGrpSpPr>
          <p:cNvPr id="7" name=""/>
          <p:cNvGrpSpPr/>
          <p:nvPr/>
        </p:nvGrpSpPr>
        <p:grpSpPr>
          <a:xfrm>
            <a:off x="257040" y="6203880"/>
            <a:ext cx="2516400" cy="459720"/>
            <a:chOff x="257040" y="6203880"/>
            <a:chExt cx="2516400" cy="459720"/>
          </a:xfrm>
        </p:grpSpPr>
        <p:sp>
          <p:nvSpPr>
            <p:cNvPr id="8" name=""/>
            <p:cNvSpPr/>
            <p:nvPr/>
          </p:nvSpPr>
          <p:spPr>
            <a:xfrm flipV="1">
              <a:off x="365040" y="6605280"/>
              <a:ext cx="2378160" cy="4680"/>
            </a:xfrm>
            <a:prstGeom prst="line">
              <a:avLst/>
            </a:prstGeom>
            <a:ln w="12600">
              <a:solidFill>
                <a:srgbClr val="010000"/>
              </a:solidFill>
              <a:miter/>
            </a:ln>
          </p:spPr>
          <p:style>
            <a:lnRef idx="0"/>
            <a:fillRef idx="0"/>
            <a:effectRef idx="0"/>
            <a:fontRef idx="minor"/>
          </p:style>
          <p:txBody>
            <a:bodyPr lIns="90000" rIns="90000" tIns="-42120" bIns="-42120" anchor="ctr">
              <a:noAutofit/>
            </a:bodyPr>
            <a:p>
              <a:endParaRPr b="0" lang="en-US" sz="2400" spc="-1" strike="noStrike">
                <a:solidFill>
                  <a:srgbClr val="dee3ee"/>
                </a:solidFill>
                <a:latin typeface="Times New Roman"/>
              </a:endParaRPr>
            </a:p>
          </p:txBody>
        </p:sp>
        <p:sp>
          <p:nvSpPr>
            <p:cNvPr id="9" name=""/>
            <p:cNvSpPr/>
            <p:nvPr/>
          </p:nvSpPr>
          <p:spPr>
            <a:xfrm>
              <a:off x="330120" y="6581880"/>
              <a:ext cx="2443320" cy="1440"/>
            </a:xfrm>
            <a:prstGeom prst="line">
              <a:avLst/>
            </a:prstGeom>
            <a:ln w="12600">
              <a:solidFill>
                <a:srgbClr val="010000"/>
              </a:solidFill>
              <a:miter/>
            </a:ln>
          </p:spPr>
          <p:style>
            <a:lnRef idx="0"/>
            <a:fillRef idx="0"/>
            <a:effectRef idx="0"/>
            <a:fontRef idx="minor"/>
          </p:style>
          <p:txBody>
            <a:bodyPr lIns="90000" rIns="90000" tIns="-45360" bIns="-45360" anchor="ctr">
              <a:noAutofit/>
            </a:bodyPr>
            <a:p>
              <a:endParaRPr b="0" lang="en-US" sz="2400" spc="-1" strike="noStrike">
                <a:solidFill>
                  <a:srgbClr val="dee3ee"/>
                </a:solidFill>
                <a:latin typeface="Times New Roman"/>
              </a:endParaRPr>
            </a:p>
          </p:txBody>
        </p:sp>
        <p:sp>
          <p:nvSpPr>
            <p:cNvPr id="10" name=""/>
            <p:cNvSpPr txBox="1"/>
            <p:nvPr/>
          </p:nvSpPr>
          <p:spPr>
            <a:xfrm>
              <a:off x="1022400" y="6321600"/>
              <a:ext cx="760320" cy="2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0000"/>
                    </a:solidFill>
                    <a:miter/>
                  </a:ln>
                  <a:noFill/>
                  <a:latin typeface="Arial Black"/>
                </a:rPr>
                <a:t>rack</a:t>
              </a:r>
              <a:endParaRPr b="1" i="1" lang="en-US" sz="2400" spc="1" strike="noStrike">
                <a:ln w="9360">
                  <a:solidFill>
                    <a:srgbClr val="ff0000"/>
                  </a:solidFill>
                  <a:miter/>
                </a:ln>
                <a:noFill/>
                <a:latin typeface="Arial Black"/>
                <a:ea typeface="Arial Black"/>
              </a:endParaRPr>
            </a:p>
          </p:txBody>
        </p:sp>
        <p:sp>
          <p:nvSpPr>
            <p:cNvPr id="11" name=""/>
            <p:cNvSpPr/>
            <p:nvPr/>
          </p:nvSpPr>
          <p:spPr>
            <a:xfrm>
              <a:off x="257040" y="6203880"/>
              <a:ext cx="15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Black"/>
                </a:rPr>
                <a:t>NeT</a:t>
              </a:r>
              <a:endParaRPr b="0" lang="en-US" sz="2400" spc="-1" strike="noStrike">
                <a:solidFill>
                  <a:srgbClr val="dee3ee"/>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Click to edit the title text format</a:t>
            </a:r>
            <a:endParaRPr b="1" lang="en-US" sz="6600" spc="-1" strike="noStrike">
              <a:solidFill>
                <a:srgbClr val="ffffff"/>
              </a:solidFill>
              <a:latin typeface="Arial Narrow"/>
            </a:endParaRPr>
          </a:p>
        </p:txBody>
      </p:sp>
      <p:sp>
        <p:nvSpPr>
          <p:cNvPr id="49" name="PlaceHolder 2"/>
          <p:cNvSpPr>
            <a:spLocks noGrp="1"/>
          </p:cNvSpPr>
          <p:nvPr>
            <p:ph type="dt" idx="4"/>
          </p:nvPr>
        </p:nvSpPr>
        <p:spPr>
          <a:xfrm>
            <a:off x="6550200" y="6248520"/>
            <a:ext cx="18144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53988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8353080" y="6248520"/>
            <a:ext cx="56196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9EF2-BC2B-4AC9-BF5F-A65D86070275}" type="slidenum">
              <a:rPr b="0" lang="en-US" sz="1400" spc="-1" strike="noStrike">
                <a:solidFill>
                  <a:srgbClr val="ffcc99"/>
                </a:solidFill>
                <a:latin typeface="Arial"/>
              </a:rPr>
              <a:t>&lt;number&gt;</a:t>
            </a:fld>
            <a:endParaRPr b="0" lang="en-US" sz="1400" spc="-1" strike="noStrike">
              <a:solidFill>
                <a:srgbClr val="ffffff"/>
              </a:solidFill>
              <a:latin typeface="Times New Roman"/>
            </a:endParaRPr>
          </a:p>
        </p:txBody>
      </p:sp>
      <p:sp>
        <p:nvSpPr>
          <p:cNvPr id="52" name=""/>
          <p:cNvSpPr/>
          <p:nvPr/>
        </p:nvSpPr>
        <p:spPr>
          <a:xfrm>
            <a:off x="415800" y="147492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53" name=""/>
          <p:cNvSpPr/>
          <p:nvPr/>
        </p:nvSpPr>
        <p:spPr>
          <a:xfrm>
            <a:off x="380880" y="144000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grpSp>
        <p:nvGrpSpPr>
          <p:cNvPr id="54" name=""/>
          <p:cNvGrpSpPr/>
          <p:nvPr/>
        </p:nvGrpSpPr>
        <p:grpSpPr>
          <a:xfrm>
            <a:off x="453600" y="749160"/>
            <a:ext cx="2775240" cy="825120"/>
            <a:chOff x="453600" y="749160"/>
            <a:chExt cx="2775240" cy="825120"/>
          </a:xfrm>
        </p:grpSpPr>
        <p:sp>
          <p:nvSpPr>
            <p:cNvPr id="55" name=""/>
            <p:cNvSpPr/>
            <p:nvPr/>
          </p:nvSpPr>
          <p:spPr>
            <a:xfrm>
              <a:off x="453600" y="749160"/>
              <a:ext cx="1380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Black"/>
                </a:rPr>
                <a:t>NeT </a:t>
              </a:r>
              <a:endParaRPr b="0" lang="en-US" sz="4800" spc="-1" strike="noStrike">
                <a:solidFill>
                  <a:srgbClr val="dee3ee"/>
                </a:solidFill>
                <a:latin typeface="Times New Roman"/>
              </a:endParaRPr>
            </a:p>
          </p:txBody>
        </p:sp>
        <p:sp>
          <p:nvSpPr>
            <p:cNvPr id="56" name=""/>
            <p:cNvSpPr txBox="1"/>
            <p:nvPr/>
          </p:nvSpPr>
          <p:spPr>
            <a:xfrm>
              <a:off x="1739880" y="903240"/>
              <a:ext cx="1488960" cy="47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ff0000"/>
                    </a:solidFill>
                    <a:miter/>
                  </a:ln>
                  <a:noFill/>
                  <a:latin typeface="Arial Black"/>
                </a:rPr>
                <a:t>rack</a:t>
              </a:r>
              <a:endParaRPr b="0" i="1" lang="en-US" sz="2400" spc="1" strike="noStrike">
                <a:ln w="12600">
                  <a:solidFill>
                    <a:srgbClr val="ff0000"/>
                  </a:solidFill>
                  <a:miter/>
                </a:ln>
                <a:noFill/>
                <a:latin typeface="Arial Black"/>
                <a:ea typeface="Arial Black"/>
              </a:endParaRPr>
            </a:p>
          </p:txBody>
        </p:sp>
      </p:gr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cc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dee3e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barb@netrack.net" TargetMode="External"/><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ISP System Administration</a:t>
            </a:r>
            <a:endParaRPr b="1" lang="en-US" sz="6600" spc="-1" strike="noStrike">
              <a:solidFill>
                <a:srgbClr val="ffffff"/>
              </a:solidFill>
              <a:latin typeface="Arial Narrow"/>
            </a:endParaRPr>
          </a:p>
        </p:txBody>
      </p:sp>
      <p:sp>
        <p:nvSpPr>
          <p:cNvPr id="102"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ul Koor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oros@Kooros.COM</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 2001</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uala Lumpur, Malays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nfig Language Comments</a:t>
            </a:r>
            <a:endParaRPr b="1" lang="en-US" sz="4800" spc="-1" strike="noStrike">
              <a:solidFill>
                <a:srgbClr val="ffffff"/>
              </a:solidFill>
              <a:latin typeface="Arial Narrow"/>
            </a:endParaRPr>
          </a:p>
        </p:txBody>
      </p:sp>
      <p:sp>
        <p:nvSpPr>
          <p:cNvPr id="12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nts can be C style, C++ style or shell styl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xxx type, one line onl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xxx */ type, may span multiple lines, cannot be nest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xxx type, also only one lin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oes not begin a comment, instead it ends a statem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6CAD788-F2B2-47C2-BA52-065D85F60AA7}" type="slidenum">
              <a:t>1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System Ratio examples</a:t>
            </a:r>
            <a:endParaRPr b="1" lang="en-US" sz="4800" spc="-1" strike="noStrike">
              <a:solidFill>
                <a:srgbClr val="ffffff"/>
              </a:solidFill>
              <a:latin typeface="Arial Narrow"/>
            </a:endParaRPr>
          </a:p>
        </p:txBody>
      </p:sp>
      <p:sp>
        <p:nvSpPr>
          <p:cNvPr id="35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web 4 % vmstat 5</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procs     memory      page                     disks      faults      cpu</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  b w    avm    fre  flt  re  pi  po  fr  sr  s0  s1   in   sy  cs us sy  id</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2 0 331940  19432  194  35  24   0   0   2   5   9  223 1005 421 25 13  63</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2 0 338552  18652  548  86  51   0   0   0  25  24  509 3317 1113 41 46  13</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3 0 335352  20432  288  40  50   0   0   0  27   4  392 2508 1176 22 30  48</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2 0 331612  20668  318  87  58   0   0   0  10  22  375 1668 1147 15 25  60</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2 0 331060  20884  171  52  40   0   0   0   2   4  317 1294 1010 12 22  67</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43  2 0 329908  20528  293  68  64   0   0   0   0  16  351 1773 1145 21 29  50</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2 0 331760  18140  285  41  45   0   0   0   1   6  377 1876 1360 59 34   6</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2 0 336168  14844  397  58  57   0   0   0  12  21  384 1774 1150 63 37   0</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web2b % vmstat 5</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procs     memory      page                     disks      faults      cpu</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  b w    avm    fre  flt  re  pi  po  fr  sr  s0  s1   in   sy  cs us sy  id</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0 0 151484 107772  102  38   2   0   0   0  22   9  109  156 165 22 15  63</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0 0 149888 108540  854 112   7   0   0   0   7   6  917 4951 5802 13 39  48</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8 0 151108 108212  509  75   4   0   0   0  32  32  763 3089 3574  8 23  69</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0 0 152688 107344  610  44   5   0   0   0  34  11  834 3767 3718 12 28  60</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0 0 153276 107344  527  38   3   0   0   0   5   5  841 4176 4174  7 27  66</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0 0 148660 107264  432  23   4   0   0   0   7   6  814 4251 3108 11 21  6</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13BF5A9-B3B7-48D0-AFFA-2E1F945E55B5}" type="slidenum">
              <a:t>10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vmstat, cont.</a:t>
            </a:r>
            <a:endParaRPr b="1" lang="en-US" sz="4800" spc="-1" strike="noStrike">
              <a:solidFill>
                <a:srgbClr val="ffffff"/>
              </a:solidFill>
              <a:latin typeface="Arial Narrow"/>
            </a:endParaRPr>
          </a:p>
        </p:txBody>
      </p:sp>
      <p:sp>
        <p:nvSpPr>
          <p:cNvPr id="3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ed headings</a:t>
            </a:r>
            <a:endParaRPr b="0" lang="en-US" sz="20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s is process states</a:t>
            </a:r>
            <a:endParaRPr b="0" lang="en-US" sz="18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runnable, should not have spikes</a:t>
            </a:r>
            <a:endParaRPr b="0" lang="en-US" sz="16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 blocked</a:t>
            </a:r>
            <a:endParaRPr b="0" lang="en-US" sz="16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 - swapped, if this is non-zero, buy more memory</a:t>
            </a:r>
            <a:endParaRPr b="0" lang="en-US" sz="16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is state the cpu is running in</a:t>
            </a:r>
            <a:endParaRPr b="0" lang="en-US" sz="18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 - user time, executing your programs instructions</a:t>
            </a:r>
            <a:endParaRPr b="0" lang="en-US" sz="16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 - system time spent on your behalf, usually i/o</a:t>
            </a:r>
            <a:endParaRPr b="0" lang="en-US" sz="16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 - idle time, deceptive, it measures when the cpu cannot do anything to move processes forward, might be waiting for disk or network</a:t>
            </a:r>
            <a:endParaRPr b="0" lang="en-US" sz="16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I/O-bound machines really are in need of more RAM</a:t>
            </a:r>
            <a:endParaRPr b="0" lang="en-US" sz="20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2b - I/O bound, 5 million hits/day</a:t>
            </a:r>
            <a:endParaRPr b="0" lang="en-US" sz="20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s more disk controllers</a:t>
            </a:r>
            <a:endParaRPr b="0" lang="en-US" sz="18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s more disk arms</a:t>
            </a:r>
            <a:endParaRPr b="0" lang="en-US" sz="18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s more network interfac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A87A293-68D7-410A-AD2F-119C7BB34F56}" type="slidenum">
              <a:t>10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uning somaxconn - symptoms</a:t>
            </a:r>
            <a:endParaRPr b="1" lang="en-US" sz="4800" spc="-1" strike="noStrike">
              <a:solidFill>
                <a:srgbClr val="ffffff"/>
              </a:solidFill>
              <a:latin typeface="Arial Narrow"/>
            </a:endParaRPr>
          </a:p>
        </p:txBody>
      </p:sp>
      <p:sp>
        <p:nvSpPr>
          <p:cNvPr id="3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 "good day" (i.e., when IP connectivity to most locations is stable), the web server is happy as a cla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bad days, users often see "server is down or unreachable" or broken images, even when reachability to their site isn't affect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load average is low </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bad" times, "telnet localhost 80" times ou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ervice is not in use (no reverse lookups for connect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5FA427B-5474-4E52-9830-FBA43DB6E312}" type="slidenum">
              <a:t>10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uning somaxconn</a:t>
            </a:r>
            <a:endParaRPr b="1" lang="en-US" sz="4800" spc="-1" strike="noStrike">
              <a:solidFill>
                <a:srgbClr val="ffffff"/>
              </a:solidFill>
              <a:latin typeface="Arial Narrow"/>
            </a:endParaRPr>
          </a:p>
        </p:txBody>
      </p:sp>
      <p:sp>
        <p:nvSpPr>
          <p:cNvPr id="3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dump(1) of traffic inbound to the web server show that  connection requests arrived (SYN) and are acknowledged (SYN-ACK) but open acknowledgement (ACK) isn't received by web server from remote hos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a -n" shows that a number of connections in SYN_RCVD stat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a -n | grep tcp | awk '{print $6}' | sort | uniq -c"  always shows 5 connections in this state during the bad times,  a smaller number in good time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s in this state tie up a slot in the "unaccepted socket queue", often referred to as the listen() queu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ize of this queue needs to be adjusted on machines, such as web servers or mail hubs, that have lots of contact with the outside world</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ing this queue helps deal with SYN flooding attack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989A4C6-647E-4902-B571-A00F6212C4DC}" type="slidenum">
              <a:t>10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omaxconn - The Fix</a:t>
            </a:r>
            <a:endParaRPr b="1" lang="en-US" sz="4800" spc="-1" strike="noStrike">
              <a:solidFill>
                <a:srgbClr val="ffffff"/>
              </a:solidFill>
              <a:latin typeface="Arial Narrow"/>
            </a:endParaRPr>
          </a:p>
        </p:txBody>
      </p:sp>
      <p:sp>
        <p:nvSpPr>
          <p:cNvPr id="36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olaris, you can adjust the size of this queue with the ndd(1m) command:</a:t>
            </a:r>
            <a:endParaRPr b="0" lang="en-US" sz="20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ndd -set /dev/tcp tcp_conn_req_max 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IRIX, modify the value of </a:t>
            </a:r>
            <a:r>
              <a:rPr b="1" lang="en-US" sz="2000" spc="-1" strike="noStrike">
                <a:solidFill>
                  <a:srgbClr val="ffffff"/>
                </a:solidFill>
                <a:latin typeface="Courier New"/>
              </a:rPr>
              <a:t>somaxconn</a:t>
            </a:r>
            <a:r>
              <a:rPr b="0" lang="en-US" sz="2000" spc="-1" strike="noStrike">
                <a:solidFill>
                  <a:srgbClr val="ffffff"/>
                </a:solidFill>
                <a:latin typeface="Arial"/>
              </a:rPr>
              <a:t> in /var/sysgen/master.d/bsd:</a:t>
            </a:r>
            <a:endParaRPr b="0" lang="en-US" sz="20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int somaxconn = 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BSD/OS, you can declare it as an option in your kernel config file:</a:t>
            </a:r>
            <a:endParaRPr b="0" lang="en-US" sz="20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ptions "SOMAXCONN=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SunOS, you have to replace/edit uipc_socket.o</a:t>
            </a:r>
            <a:endParaRPr b="0" lang="en-US" sz="2000" spc="-1" strike="noStrike">
              <a:solidFill>
                <a:srgbClr val="ffffff"/>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somaxconn=5 on SunOS 4.1.3</a:t>
            </a:r>
            <a:endParaRPr b="0" lang="en-US" sz="1800" spc="-1" strike="noStrike">
              <a:solidFill>
                <a:srgbClr val="ffffff"/>
              </a:solidFill>
              <a:latin typeface="Arial"/>
            </a:endParaRPr>
          </a:p>
          <a:p>
            <a:pPr lvl="1" marL="735480" indent="-282960">
              <a:lnSpc>
                <a:spcPct val="90000"/>
              </a:lnSpc>
              <a:spcBef>
                <a:spcPts val="400"/>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details, see </a:t>
            </a:r>
            <a:r>
              <a:rPr b="1" lang="en-US" sz="1600" spc="-1" strike="noStrike">
                <a:solidFill>
                  <a:srgbClr val="ffffff"/>
                </a:solidFill>
                <a:latin typeface="Courier New"/>
              </a:rPr>
              <a:t>http://www1.islandnet.com/~mark/somaxconn.html</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program to change uipc_socket.o</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te offsets to use adb or an editor to change</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ces in the od (octal dump) output before and after the fix</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5C9381B-7EE2-42B4-929A-408096891642}" type="slidenum">
              <a:t>10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NS reverse lookups</a:t>
            </a:r>
            <a:endParaRPr b="1" lang="en-US" sz="4800" spc="-1" strike="noStrike">
              <a:solidFill>
                <a:srgbClr val="ffffff"/>
              </a:solidFill>
              <a:latin typeface="Arial Narrow"/>
            </a:endParaRPr>
          </a:p>
        </p:txBody>
      </p:sp>
      <p:sp>
        <p:nvSpPr>
          <p:cNvPr id="36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N OFF DNS reverse lookups on your machine (web server) entirely</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if you have the cycles to do it, mis-configured user sites will introduce false delay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need the information from reverse lookups, consider processing the log files on a separate machine to do this (PERL).</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statslab.cam.ac.uk/~sret1/analog/ tool for reverse lookups</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try to do all web access control (.htaccess, access.conf) using IP addresse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ache comes with a utility, libresolv, that does it efficientl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547CE11-6FC2-4682-BFAB-973AFD9FCC25}" type="slidenum">
              <a:t>10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ostat</a:t>
            </a:r>
            <a:endParaRPr b="1" lang="en-US" sz="4800" spc="-1" strike="noStrike">
              <a:solidFill>
                <a:srgbClr val="ffffff"/>
              </a:solidFill>
              <a:latin typeface="Arial Narrow"/>
            </a:endParaRPr>
          </a:p>
        </p:txBody>
      </p:sp>
      <p:sp>
        <p:nvSpPr>
          <p:cNvPr id="37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s terminal and disk I/O activity</a:t>
            </a:r>
            <a:endParaRPr b="0" lang="en-US" sz="20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ls</a:t>
            </a:r>
            <a:endParaRPr b="0" lang="en-US" sz="18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n - number of characters in</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ut - number of characters out</a:t>
            </a:r>
            <a:endParaRPr b="0" lang="en-US" sz="16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s</a:t>
            </a:r>
            <a:endParaRPr b="0" lang="en-US" sz="18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ps or sps - blocks/sectors transferred per second</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ps - transfers per second</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ps - average milliseconds per seek</a:t>
            </a:r>
            <a:endParaRPr b="0" lang="en-US" sz="16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y          sd0           sd1          nfs1          nfs2          cpu</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in tout kps tps serv  kps tps serv  kps tps serv  kps tps serv  us sy wt id</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0   1   0   21    6   1   34    0   0    0    0   0    0   0  0  0 99</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47   0   0    0   18   2   61    0   0    0    0   0    0   0  0  0 100</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16   0   0    0    3   0   15    0   0    0    0   0    0   0  0  0 100</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16  56   7  226   21   3   48    0   0    0    0   0    0   0  0  1 99</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16   0   0    0    0   0    0    0   0    0    0   0    0   0  0  0 100</a:t>
            </a:r>
            <a:endParaRPr b="0" lang="en-US" sz="1200" spc="-1" strike="noStrike">
              <a:solidFill>
                <a:srgbClr val="ffffff"/>
              </a:solidFill>
              <a:latin typeface="Arial"/>
            </a:endParaRPr>
          </a:p>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stat Example, lollipop, Solaris 2.6</a:t>
            </a:r>
            <a:endParaRPr b="0" lang="en-US" sz="20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use this data to balance disk load across disk arms and controller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D4D5DB6-3CCB-4CFD-A542-8C9FA3E2DC0B}" type="slidenum">
              <a:t>10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nother iostat Example</a:t>
            </a:r>
            <a:endParaRPr b="1" lang="en-US" sz="4800" spc="-1" strike="noStrike">
              <a:solidFill>
                <a:srgbClr val="ffffff"/>
              </a:solidFill>
              <a:latin typeface="Arial Narrow"/>
            </a:endParaRPr>
          </a:p>
        </p:txBody>
      </p:sp>
      <p:sp>
        <p:nvSpPr>
          <p:cNvPr id="373"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9000"/>
          </a:bodyPr>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ty          sd0           sd1           sd2          cpu</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in tout sps tps msps  sps tps msps  sps tps msps  us ni sy in id</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0   62  58   5 12.6  133   9  8.8  136  10  8.8  24  0 13  0 63</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0   14  39   3 18.8   81   8 11.8  336  11 10.6  54  0 32  0 14</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7   48 158  11 11.8   88   7 12.3  126   5 10.3  13  0 24  0 63</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3   83  42   4 10.5   48   3  7.6   93   2 14.4  37  0 32  0 31</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3   39 152  11 14.7  524  38  9.0  318  19 10.4  49  0 43  0  7</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   26 237  29 13.7  338  28 10.0   98   6 11.0  45  0 39  0 16</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3   37 125  14 14.1   44   7 11.9  101   6 10.2  50  0 45  0  4</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web4, BSD/OS</a:t>
            </a:r>
            <a:endParaRPr b="0" lang="en-US" sz="20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id storage for web servers</a:t>
            </a:r>
            <a:endParaRPr b="0" lang="en-US" sz="2000" spc="-1" strike="noStrike">
              <a:solidFill>
                <a:srgbClr val="ffffff"/>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 raid requires CPU and overhead</a:t>
            </a:r>
            <a:endParaRPr b="0" lang="en-US" sz="18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good for web servers</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s reliability</a:t>
            </a:r>
            <a:endParaRPr b="0" lang="en-US" sz="1600" spc="-1" strike="noStrike">
              <a:solidFill>
                <a:srgbClr val="ffffff"/>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raid real win in performance</a:t>
            </a:r>
            <a:endParaRPr b="0" lang="en-US" sz="18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lots on the market</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 one that focuses on performance not reliability</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48FCB43-2AF2-407A-A8D3-BF9C70E27E04}" type="slidenum">
              <a:t>10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Virtual Adrian</a:t>
            </a:r>
            <a:endParaRPr b="1" lang="en-US" sz="4800" spc="-1" strike="noStrike">
              <a:solidFill>
                <a:srgbClr val="ffffff"/>
              </a:solidFill>
              <a:latin typeface="Arial Narrow"/>
            </a:endParaRPr>
          </a:p>
        </p:txBody>
      </p:sp>
      <p:sp>
        <p:nvSpPr>
          <p:cNvPr id="37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users can benefit from the efforts of Adrian Cockcroft who documents and improves Solaris performanc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rian has a book out  "System and Performance Tuning: SPARC and Solaris (Sunsoft Press)" that documents many trick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Virtual Adrian" SE performance tool is available on the web from www.sun.com</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3A2D4CC-379F-4D92-9FDC-5B1FA116FC55}" type="slidenum">
              <a:t>10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ther Kernel Parameters</a:t>
            </a:r>
            <a:endParaRPr b="1" lang="en-US" sz="4800" spc="-1" strike="noStrike">
              <a:solidFill>
                <a:srgbClr val="ffffff"/>
              </a:solidFill>
              <a:latin typeface="Arial Narrow"/>
            </a:endParaRPr>
          </a:p>
        </p:txBody>
      </p:sp>
      <p:sp>
        <p:nvSpPr>
          <p:cNvPr id="37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users determines a number of other kernel parameters: </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 of processes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 of processes per user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wide open files limit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open files limit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 of mbuf clusters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pgrp hash table size </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ors set MAXUSERS at 8, 16 or maybe 32</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ous web server needs it at 512</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A47FD92-AF67-45D4-8022-2BD20D3A2BAE}" type="slidenum">
              <a:t>10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nfig Language Statements</a:t>
            </a:r>
            <a:endParaRPr b="1" lang="en-US" sz="4800" spc="-1" strike="noStrike">
              <a:solidFill>
                <a:srgbClr val="ffffff"/>
              </a:solidFill>
              <a:latin typeface="Arial Narrow"/>
            </a:endParaRPr>
          </a:p>
        </p:txBody>
      </p:sp>
      <p:sp>
        <p:nvSpPr>
          <p:cNvPr id="12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l - defines access control lists of IP addresses and says what they can do</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 includes a file, so zone files can stay neat and tid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 specifies key information for authenticatio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ging - specifies what to log wher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s - specifies global configuration options, sets default valu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 per server op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e - defines a zon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19D488A-CAEF-4C90-8CB2-000DF71FA0D0}" type="slidenum">
              <a:t>1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arameters, cont.</a:t>
            </a:r>
            <a:endParaRPr b="1" lang="en-US" sz="4800" spc="-1" strike="noStrike">
              <a:solidFill>
                <a:srgbClr val="ffffff"/>
              </a:solidFill>
              <a:latin typeface="Arial Narrow"/>
            </a:endParaRPr>
          </a:p>
        </p:txBody>
      </p:sp>
      <p:sp>
        <p:nvSpPr>
          <p:cNvPr id="379"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MBCLUSTERS defines and number of mbuf clusters - defaults to 256. </a:t>
            </a:r>
            <a:endParaRPr b="0" lang="en-US" sz="20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changing this to something like 4096</a:t>
            </a:r>
            <a:endParaRPr b="0" lang="en-US" sz="18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627/2048 mbufs in use:</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10 mbufs allocated to data</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38 mbufs allocated to packet header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184 mbufs allocated to socket structure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202 mbufs allocated to protocol control block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183 mbufs allocated to routing table entrie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7 mbufs allocated to socket names and addresse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3 mbufs allocated to interface addresse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0/28 cluster buffers in use</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284 Kbytes allocated to network (27% in use)</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0 requests for memory denied</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0 requests for memory delayed</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0 calls to protocol drain routines</a:t>
            </a:r>
            <a:endParaRPr b="0" lang="en-US" sz="14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netstat -m" to determine if this needs to be changed.  </a:t>
            </a:r>
            <a:endParaRPr b="0" lang="en-US" sz="1800" spc="-1" strike="noStrike">
              <a:solidFill>
                <a:srgbClr val="ffffff"/>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_MAX controls the maximum number of process children</a:t>
            </a:r>
            <a:endParaRPr b="0" lang="en-US" sz="20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set this to something like 256</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6359D60-9E77-4C7B-BB45-9CBF7452EE05}" type="slidenum">
              <a:t>11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Hardware Candidates</a:t>
            </a:r>
            <a:endParaRPr b="1" lang="en-US" sz="4800" spc="-1" strike="noStrike">
              <a:solidFill>
                <a:srgbClr val="ffffff"/>
              </a:solidFill>
              <a:latin typeface="Arial Narrow"/>
            </a:endParaRPr>
          </a:p>
        </p:txBody>
      </p:sp>
      <p:sp>
        <p:nvSpPr>
          <p:cNvPr id="38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rdware upgrade most likely to cause improved performance is adding more RA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balancing load across disk arm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I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e disk arms for db indexes and data</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ossible, dedicate a separate physical disk for log fil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network interfac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disk controllers and buss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netstat -i to check for physical network problem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B41C854-8461-4AD1-A5EB-13FF69464661}" type="slidenum">
              <a:t>11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oftware</a:t>
            </a:r>
            <a:endParaRPr b="1" lang="en-US" sz="4800" spc="-1" strike="noStrike">
              <a:solidFill>
                <a:srgbClr val="ffffff"/>
              </a:solidFill>
              <a:latin typeface="Arial Narrow"/>
            </a:endParaRPr>
          </a:p>
        </p:txBody>
      </p:sp>
      <p:sp>
        <p:nvSpPr>
          <p:cNvPr id="38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nt is often the limiting factor</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JPEG for pictur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reduced colorset GIFs for images with just a few colors (less than 32)</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e tune default settings in server</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alive timeout</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 long hogs resources, but too short causes too many tcp setup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timeou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B486F2F-DB3C-41E3-A983-43ED7BF414DF}" type="slidenum">
              <a:t>11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WAN Performance</a:t>
            </a:r>
            <a:endParaRPr b="1" lang="en-US" sz="6600" spc="-1" strike="noStrike">
              <a:solidFill>
                <a:srgbClr val="ffffff"/>
              </a:solidFill>
              <a:latin typeface="Arial Narrow"/>
            </a:endParaRPr>
          </a:p>
        </p:txBody>
      </p:sp>
      <p:sp>
        <p:nvSpPr>
          <p:cNvPr id="385"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mmercial Platforms</a:t>
            </a:r>
            <a:endParaRPr b="1" lang="en-US" sz="4800" spc="-1" strike="noStrike">
              <a:solidFill>
                <a:srgbClr val="ffffff"/>
              </a:solidFill>
              <a:latin typeface="Arial Narrow"/>
            </a:endParaRPr>
          </a:p>
        </p:txBody>
      </p:sp>
      <p:sp>
        <p:nvSpPr>
          <p:cNvPr id="38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rcial integrated network management platforms (INMP) provide a nice GUI interface to monitoring data</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vendor "drop-ins" customize generic platform interface for specific hardware</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scoWorks</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pcom drop-in</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others</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forms may include capability to notify administrators in case of trouble via email, pager, telephone, etc.</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s OpenView platform is by far the most mature platform in the industry -- but it still leaves a lot to be desired</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platforms are computing resource intensive -- typically requiring $15K-$20K workstation dedicated to the task</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1311AC0-6B1C-401F-92B3-C336847EB44E}" type="slidenum">
              <a:t>11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reely Available Software</a:t>
            </a:r>
            <a:endParaRPr b="1" lang="en-US" sz="4800" spc="-1" strike="noStrike">
              <a:solidFill>
                <a:srgbClr val="ffffff"/>
              </a:solidFill>
              <a:latin typeface="Arial Narrow"/>
            </a:endParaRPr>
          </a:p>
        </p:txBody>
      </p:sp>
      <p:sp>
        <p:nvSpPr>
          <p:cNvPr id="38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NMP Packages and Librari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U (Carnegie Mellon University), good for C develop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T (Massachusetts Institute of Technology) development ki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 of California, Davis has a relatively new SNMP packag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SNMP package by Simon Leine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4DBF428-8D50-457B-AD57-D1CDECF687AA}" type="slidenum">
              <a:t>11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reely available software - Cont.</a:t>
            </a:r>
            <a:endParaRPr b="1" lang="en-US" sz="4800" spc="-1" strike="noStrike">
              <a:solidFill>
                <a:srgbClr val="ffffff"/>
              </a:solidFill>
              <a:latin typeface="Arial Narrow"/>
            </a:endParaRPr>
          </a:p>
        </p:txBody>
      </p:sp>
      <p:sp>
        <p:nvSpPr>
          <p:cNvPr id="39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COL/NetConsole (Network Operation Center On-Line) - a network monitoring package that runs on Unix platforms and capable of monitoring network and system variables such as ICMP or RPC reachability, RMON variables, nameservers, Ethernet load, port reachability, host performance, SNMP traps, modem line usage, appletalk &amp; novell routes/services, BGP peers, etc.</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tty - TCL interpreter with extensions for network management; includes tkined, a network editor for drawing maps of network configurations (shipped with BSD/O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2CEFD57-DF91-4295-AAB6-8EC4BA5E1C6C}" type="slidenum">
              <a:t>11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quick, easy, and accurate way</a:t>
            </a:r>
            <a:endParaRPr b="1" lang="en-US" sz="4800" spc="-1" strike="noStrike">
              <a:solidFill>
                <a:srgbClr val="ffffff"/>
              </a:solidFill>
              <a:latin typeface="Arial Narrow"/>
            </a:endParaRPr>
          </a:p>
        </p:txBody>
      </p:sp>
      <p:sp>
        <p:nvSpPr>
          <p:cNvPr id="39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performance measurement through benchmarkin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easurement by historical statistic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data gathering and graphing</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25B750E-1ACD-4304-ACD7-702AB2E4B5A0}" type="slidenum">
              <a:t>11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easurement through benchmarking</a:t>
            </a:r>
            <a:endParaRPr b="1" lang="en-US" sz="4800" spc="-1" strike="noStrike">
              <a:solidFill>
                <a:srgbClr val="ffffff"/>
              </a:solidFill>
              <a:latin typeface="Arial Narrow"/>
            </a:endParaRPr>
          </a:p>
        </p:txBody>
      </p:sp>
      <p:sp>
        <p:nvSpPr>
          <p:cNvPr id="39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ttcp</a:t>
            </a:r>
            <a:r>
              <a:rPr b="0" lang="en-US" sz="2000" spc="-1" strike="noStrike">
                <a:solidFill>
                  <a:srgbClr val="ffffff"/>
                </a:solidFill>
                <a:latin typeface="Arial"/>
              </a:rPr>
              <a:t> is a benchmarking tool for determining TCP and UDP performance between 2 systems.</a:t>
            </a:r>
            <a:endParaRPr b="0" lang="en-US" sz="2000" spc="-1" strike="noStrike">
              <a:solidFill>
                <a:srgbClr val="ffffff"/>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gram was created at the US Army Ballistics Research Lab (BRL) and is in the public domain (</a:t>
            </a:r>
            <a:r>
              <a:rPr b="1" lang="en-US" sz="1400" spc="-1" strike="noStrike">
                <a:solidFill>
                  <a:srgbClr val="ffffff"/>
                </a:solidFill>
                <a:latin typeface="Courier New"/>
              </a:rPr>
              <a:t>ftp://ftp.sgi.com/sgi/src/ttcp/</a:t>
            </a:r>
            <a:r>
              <a:rPr b="0" lang="en-US" sz="2000" spc="-1" strike="noStrike">
                <a:solidFill>
                  <a:srgbClr val="ffffff"/>
                </a:solidFill>
                <a:latin typeface="Arial"/>
              </a:rPr>
              <a:t>)</a:t>
            </a:r>
            <a:endParaRPr b="0" lang="en-US" sz="2000" spc="-1" strike="noStrike">
              <a:solidFill>
                <a:srgbClr val="ffffff"/>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ice thing about </a:t>
            </a:r>
            <a:r>
              <a:rPr b="1" lang="en-US" sz="2000" spc="-1" strike="noStrike">
                <a:solidFill>
                  <a:srgbClr val="ffffff"/>
                </a:solidFill>
                <a:latin typeface="Courier New"/>
              </a:rPr>
              <a:t>ttcp</a:t>
            </a:r>
            <a:r>
              <a:rPr b="0" lang="en-US" sz="2000" spc="-1" strike="noStrike">
                <a:solidFill>
                  <a:srgbClr val="ffffff"/>
                </a:solidFill>
                <a:latin typeface="Arial"/>
              </a:rPr>
              <a:t> is that it shows the performance of your end-to-end network, no holes barred</a:t>
            </a:r>
            <a:endParaRPr b="0" lang="en-US" sz="2000" spc="-1" strike="noStrike">
              <a:solidFill>
                <a:srgbClr val="ffffff"/>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basic use</a:t>
            </a:r>
            <a:endParaRPr b="0" lang="en-US" sz="2000" spc="-1" strike="noStrike">
              <a:solidFill>
                <a:srgbClr val="ffffff"/>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r:  </a:t>
            </a:r>
            <a:r>
              <a:rPr b="1" lang="en-US" sz="1800" spc="-1" strike="noStrike">
                <a:solidFill>
                  <a:srgbClr val="ffffff"/>
                </a:solidFill>
                <a:latin typeface="Courier New"/>
              </a:rPr>
              <a:t>ttcp -r -s</a:t>
            </a:r>
            <a:endParaRPr b="0" lang="en-US" sz="18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buflen=8192, nbuf=2048, align=16384/0, port=5001  tcp  -&gt; xor.com</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socket</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connect</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16777216 bytes in 19.99 real seconds = 819.55 KB/sec +++</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2048 I/O calls, msec/call = 10.00, calls/sec = 102.44</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0.0user 0.6sys 0:20real 3% 0i+0d 0maxrss 0+0pf 11092+2csw</a:t>
            </a:r>
            <a:endParaRPr b="0" lang="en-US" sz="1200" spc="-1" strike="noStrike">
              <a:solidFill>
                <a:srgbClr val="ffffff"/>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er: </a:t>
            </a:r>
            <a:r>
              <a:rPr b="1" lang="en-US" sz="1800" spc="-1" strike="noStrike">
                <a:solidFill>
                  <a:srgbClr val="ffffff"/>
                </a:solidFill>
                <a:latin typeface="Courier New"/>
              </a:rPr>
              <a:t>ttcp -t -s host</a:t>
            </a:r>
            <a:endParaRPr b="0" lang="en-US" sz="1800" spc="-1" strike="noStrike">
              <a:solidFill>
                <a:srgbClr val="ffffff"/>
              </a:solidFill>
              <a:latin typeface="Arial"/>
            </a:endParaRPr>
          </a:p>
          <a:p>
            <a:pPr lvl="2" marL="1062720" indent="-212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s</a:t>
            </a:r>
            <a:r>
              <a:rPr b="0" lang="en-US" sz="1600" spc="-1" strike="noStrike">
                <a:solidFill>
                  <a:srgbClr val="ffffff"/>
                </a:solidFill>
                <a:latin typeface="Arial"/>
              </a:rPr>
              <a:t> for the receiver means throw away actual data transferred</a:t>
            </a:r>
            <a:endParaRPr b="0" lang="en-US" sz="1600" spc="-1" strike="noStrike">
              <a:solidFill>
                <a:srgbClr val="ffffff"/>
              </a:solidFill>
              <a:latin typeface="Arial"/>
            </a:endParaRPr>
          </a:p>
          <a:p>
            <a:pPr lvl="2" marL="1062720" indent="-212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s</a:t>
            </a:r>
            <a:r>
              <a:rPr b="0" lang="en-US" sz="1600" spc="-1" strike="noStrike">
                <a:solidFill>
                  <a:srgbClr val="ffffff"/>
                </a:solidFill>
                <a:latin typeface="Arial"/>
              </a:rPr>
              <a:t> for the sender means generate random data to send</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02E57F5-0864-4668-9A6C-DDD3A73AF884}" type="slidenum">
              <a:t>11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ncy </a:t>
            </a:r>
            <a:r>
              <a:rPr b="1" lang="en-US" sz="4800" spc="-1" strike="noStrike">
                <a:solidFill>
                  <a:srgbClr val="ffffff"/>
                </a:solidFill>
                <a:latin typeface="Courier New"/>
              </a:rPr>
              <a:t>ttcp</a:t>
            </a:r>
            <a:endParaRPr b="1" lang="en-US" sz="4800" spc="-1" strike="noStrike">
              <a:solidFill>
                <a:srgbClr val="ffffff"/>
              </a:solidFill>
              <a:latin typeface="Arial Narrow"/>
            </a:endParaRPr>
          </a:p>
        </p:txBody>
      </p:sp>
      <p:sp>
        <p:nvSpPr>
          <p:cNvPr id="39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ttcp -t -s -l 64 -n 16384 xor.com</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buflen=64, nbuf=16384, align=16384/0, port=5001  tcp  -&gt; xor.com</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socke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connec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1048576 bytes in 1.15 real seconds = 890.73 KB/sec +++</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ttcp -t -s -l 1024 -n 16384 xor.com</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buflen=1024, nbuf=16384, align=16384/0, port=5001  tcp  -&gt; xor.com</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socke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connec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16777216 bytes in 20.65 real seconds = 793.27 KB/sec +++</a:t>
            </a: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10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a:t>
            </a:r>
            <a:r>
              <a:rPr b="0" lang="en-US" sz="1800" spc="-1" strike="noStrike">
                <a:solidFill>
                  <a:srgbClr val="ffffff"/>
                </a:solidFill>
                <a:latin typeface="Arial"/>
              </a:rPr>
              <a:t> specifies the length of the buffers</a:t>
            </a:r>
            <a:endParaRPr b="0" lang="en-US" sz="1800" spc="-1" strike="noStrike">
              <a:solidFill>
                <a:srgbClr val="ffffff"/>
              </a:solidFill>
              <a:latin typeface="Arial"/>
            </a:endParaRPr>
          </a:p>
          <a:p>
            <a:pPr lvl="2" marL="1143000" indent="-228600">
              <a:lnSpc>
                <a:spcPct val="10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a:t>
            </a:r>
            <a:r>
              <a:rPr b="0" lang="en-US" sz="1800" spc="-1" strike="noStrike">
                <a:solidFill>
                  <a:srgbClr val="ffffff"/>
                </a:solidFill>
                <a:latin typeface="Arial"/>
              </a:rPr>
              <a:t> specifies the number of the buffer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329B374-16E1-46F3-834F-3301EDCEBFC5}" type="slidenum">
              <a:t>11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Example, localhost zone</a:t>
            </a:r>
            <a:endParaRPr b="1" lang="en-US" sz="4800" spc="-1" strike="noStrike">
              <a:solidFill>
                <a:srgbClr val="ffffff"/>
              </a:solidFill>
              <a:latin typeface="Arial Narrow"/>
            </a:endParaRPr>
          </a:p>
        </p:txBody>
      </p:sp>
      <p:sp>
        <p:nvSpPr>
          <p:cNvPr id="124"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9000"/>
          </a:bodyPr>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example</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options {</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heck-names response warn;</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rectory "/var/named";</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recursion yes;</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listen-on { 127.0.0.1; };</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localhost" {</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ype master;</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ile "inf/localhost";</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0.0.127.in-addr.arpa" {</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ype master;</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ile "inf/127.0.0";</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 {</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ype hint;</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ile "inf/cache.db";</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5630547-B501-475E-A705-58EE83A00C83}" type="slidenum">
              <a:t>1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easuring Expectations</a:t>
            </a:r>
            <a:endParaRPr b="1" lang="en-US" sz="4800" spc="-1" strike="noStrike">
              <a:solidFill>
                <a:srgbClr val="ffffff"/>
              </a:solidFill>
              <a:latin typeface="Arial Narrow"/>
            </a:endParaRPr>
          </a:p>
        </p:txBody>
      </p:sp>
      <p:sp>
        <p:nvSpPr>
          <p:cNvPr id="39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erformance should we really expect from our WAN?</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t's a dedicated point-to-point circuit, then we should expect to get 92% or better of the purchased bandwidth</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1, 1.536Mb/s = .1536MB/s = 153.6KB/s</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3.6KB/s * .92 = 141.31KB/s</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t's a frame-relay circuit, at best we could expect to get 80% of the purchased bandwidth, often 50%</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line errors in WAN circuits are unavoidable.  As a good rule of them, you should expect to see less than 1 error in every 1,000,000 packets for a "clean" line.</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times, circuits carried on copper like T1s may take a few errors per day </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ed for voice aggregated over copper, doesn't handle certain kinds of data well (lots of sequential zero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8C7C0C9-F01B-4D25-AF26-1DA82AF40E1A}" type="slidenum">
              <a:t>12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easurement by history</a:t>
            </a:r>
            <a:endParaRPr b="1" lang="en-US" sz="4800" spc="-1" strike="noStrike">
              <a:solidFill>
                <a:srgbClr val="ffffff"/>
              </a:solidFill>
              <a:latin typeface="Arial Narrow"/>
            </a:endParaRPr>
          </a:p>
        </p:txBody>
      </p:sp>
      <p:sp>
        <p:nvSpPr>
          <p:cNvPr id="401" name="PlaceHolder 2"/>
          <p:cNvSpPr>
            <a:spLocks noGrp="1"/>
          </p:cNvSpPr>
          <p:nvPr>
            <p:ph/>
          </p:nvPr>
        </p:nvSpPr>
        <p:spPr>
          <a:xfrm>
            <a:off x="304920" y="1523880"/>
            <a:ext cx="8610480" cy="4572000"/>
          </a:xfrm>
          <a:prstGeom prst="rect">
            <a:avLst/>
          </a:prstGeom>
          <a:noFill/>
          <a:ln w="0">
            <a:noFill/>
          </a:ln>
        </p:spPr>
        <p:txBody>
          <a:bodyPr lIns="92160" rIns="92160" tIns="46080" bIns="46080" anchor="t">
            <a:normAutofit/>
          </a:bodyPr>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Hssi2/0 is up, line protocol is up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Hardware is cxBus HSSI</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nternet address is 1.2.3.4/30</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MTU 4470 bytes, BW 45045 Kbit, DLY 200 usec, rely 255/255, load 42/255</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capsulation HDLC, loopback not set, keepalive set (10 sec)</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ast input 00:00:02, output 00:00:00, output hang never</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ast clearing of "show interface" counters never</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Queueing strategy: fifo</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Output queue 0/40, 7362 drops; input queue 0/75, 1721 drops</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minute input rate 5187000 bits/sec, 1519 packets/sec</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minute output rate 7590000 bits/sec, 2807 packets/sec</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24911546 packets input, 2931056137 bytes, 3 no buffer</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eceived 508079 broadcasts, 0 runts, 0 giants</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parity</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251 input errors, 31 CRC, 3046 frame, 174 overrun, 0 ignored, 0 abor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7423330 packets output, 3815049764 bytes, 0 underruns</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output errors, 0 applique, 2 interface resets</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output buffer failures, 0 output buffers swapped ou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carrier transitions</a:t>
            </a:r>
            <a:endParaRPr b="0" lang="en-US" sz="12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errors are .0002%</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ier transitions low</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57F639A-AAEF-4FEF-9F31-C462CC8D5B38}" type="slidenum">
              <a:t>12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easurement by history (cont.)</a:t>
            </a:r>
            <a:endParaRPr b="1" lang="en-US" sz="4800" spc="-1" strike="noStrike">
              <a:solidFill>
                <a:srgbClr val="ffffff"/>
              </a:solidFill>
              <a:latin typeface="Arial Narrow"/>
            </a:endParaRPr>
          </a:p>
        </p:txBody>
      </p:sp>
      <p:sp>
        <p:nvSpPr>
          <p:cNvPr id="403"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5000"/>
          </a:bodyPr>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Hssi4/0 is up, line protocol is up </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Hardware is cxBus HSSI</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nternet address is 3.4.5.6/30</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MTU 4470 bytes, BW 45045 Kbit, DLY 200 usec, rely 255/255, load 35/255</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capsulation HDLC, loopback not set, keepalive set (10 sec)</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ast input 00:00:00, output 00:00:03, output hang never</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ast clearing of "show interface" counters never</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Queueing strategy: fifo</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Output queue 0/40, 0 drops; input queue 1/75, 1727 drop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minute input rate 1551000 bits/sec, 1221 packets/sec</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minute output rate 6298000 bits/sec, 1239 packets/sec</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74691557 packets input, 956588456 bytes, 6 no buffer</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eceived 563056 broadcasts, 0 runts, 3174 giant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parity</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995089 input errors, 13049 CRC, 3978697 frame, 169 overrun, 0 ignored </a:t>
            </a:r>
            <a:endParaRPr b="0" lang="en-US" sz="1200" spc="-1" strike="noStrike">
              <a:solidFill>
                <a:srgbClr val="ffffff"/>
              </a:solidFill>
              <a:latin typeface="Arial"/>
            </a:endParaRPr>
          </a:p>
          <a:p>
            <a:pPr lvl="4" marL="195444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abort</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356338480 packets output, 1572466122 bytes, 0 underrun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output errors, 0 applique, 483 interface reset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output buffer failures, 0 output buffers swapped out</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717 carrier transitions</a:t>
            </a:r>
            <a:endParaRPr b="0" lang="en-US" sz="12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errors are .25%</a:t>
            </a:r>
            <a:endParaRPr b="0" lang="en-US" sz="18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ier transitions too high</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5021DBF-75D9-4226-9779-4533572BD351}" type="slidenum">
              <a:t>12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easurement by data gathering</a:t>
            </a:r>
            <a:endParaRPr b="1" lang="en-US" sz="4800" spc="-1" strike="noStrike">
              <a:solidFill>
                <a:srgbClr val="ffffff"/>
              </a:solidFill>
              <a:latin typeface="Arial Narrow"/>
            </a:endParaRPr>
          </a:p>
        </p:txBody>
      </p:sp>
      <p:sp>
        <p:nvSpPr>
          <p:cNvPr id="40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Router Traffic Grapher (MRTG) is a tool to monitor the traffic load on network-link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RTG is available under the GNU PUBLIC LICENS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he homepage at:</a:t>
            </a:r>
            <a:endParaRPr b="0" lang="en-US" sz="24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ttp://ee-staff.ethz.ch/~oetiker/webtools/mrtg/mrtg.html</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 on most UNIX platforms and Windows NT </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Perl for easy customization, and has a highly portable  SNMP implementation written entirely in Perl thanks to Simon Leinen. There is no need to install any external SNMP package.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FF2B468-D1F1-4FAE-8CBD-F59FEB9DE2CC}" type="slidenum">
              <a:t>12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ther Tools</a:t>
            </a:r>
            <a:endParaRPr b="1" lang="en-US" sz="4800" spc="-1" strike="noStrike">
              <a:solidFill>
                <a:srgbClr val="ffffff"/>
              </a:solidFill>
              <a:latin typeface="Arial Narrow"/>
            </a:endParaRPr>
          </a:p>
        </p:txBody>
      </p:sp>
      <p:sp>
        <p:nvSpPr>
          <p:cNvPr id="40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cop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Freshwater software, www.freshtech.co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that monitors, reports, and alerts arbitrary objects including SNMP variables and scripts </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eer</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from Freshwat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that monitors, reports, and alerts from outside your network</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Metrics and other services are like SiteSeer</a:t>
            </a:r>
            <a:endParaRPr b="0" lang="en-US" sz="2400" spc="-1" strike="noStrike">
              <a:solidFill>
                <a:srgbClr val="ffffff"/>
              </a:solidFill>
              <a:latin typeface="Arial"/>
            </a:endParaRPr>
          </a:p>
          <a:p>
            <a:pPr marL="343080" indent="-343080">
              <a:spcBef>
                <a:spcPts val="45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rdtool: </a:t>
            </a:r>
            <a:r>
              <a:rPr b="1" lang="en-US" sz="1800" spc="-1" strike="noStrike">
                <a:solidFill>
                  <a:srgbClr val="ffffff"/>
                </a:solidFill>
                <a:latin typeface="Courier New"/>
              </a:rPr>
              <a:t>http://ee-staff.ethz.ch/~oetiker/webtools/rrdtool/</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860E7F5-DE46-4CB1-94A7-D48F136CBBFB}" type="slidenum">
              <a:t>12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Routing Protocols</a:t>
            </a:r>
            <a:endParaRPr b="1" lang="en-US" sz="6600" spc="-1" strike="noStrike">
              <a:solidFill>
                <a:srgbClr val="ffffff"/>
              </a:solidFill>
              <a:latin typeface="Arial Narrow"/>
            </a:endParaRPr>
          </a:p>
        </p:txBody>
      </p:sp>
      <p:sp>
        <p:nvSpPr>
          <p:cNvPr id="409"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ara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outing Basics</a:t>
            </a:r>
            <a:endParaRPr b="1" lang="en-US" sz="4800" spc="-1" strike="noStrike">
              <a:solidFill>
                <a:srgbClr val="ffffff"/>
              </a:solidFill>
              <a:latin typeface="Arial Narrow"/>
            </a:endParaRPr>
          </a:p>
        </p:txBody>
      </p:sp>
      <p:sp>
        <p:nvSpPr>
          <p:cNvPr id="41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basic choices of routing model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works, but doesn't scale well and is hard to maintai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 talk about dynamic routing toda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g Protocols are protocols that implement routing algorithms (BGP, OSPF, RIP, etc.).</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ed protocols are transport protocols that  are routed over an inter-network (IP, DECnet, IPX, etc.).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1C9CC7F-5453-448B-92B9-981261E2C3F8}" type="slidenum">
              <a:t>12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outing Protocol Families</a:t>
            </a:r>
            <a:endParaRPr b="1" lang="en-US" sz="4800" spc="-1" strike="noStrike">
              <a:solidFill>
                <a:srgbClr val="ffffff"/>
              </a:solidFill>
              <a:latin typeface="Arial Narrow"/>
            </a:endParaRPr>
          </a:p>
        </p:txBody>
      </p:sp>
      <p:sp>
        <p:nvSpPr>
          <p:cNvPr id="41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families of distributed routing algorithm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Vecto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 stat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opular network routing protocols are based on one of thes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Vector is also sometimes called "Bellman-Ford" routing, after the people that invented the algorithm</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EB4CB2C-3B3F-44A5-BD9A-7953E0A34F41}" type="slidenum">
              <a:t>12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stance Vector Routing</a:t>
            </a:r>
            <a:endParaRPr b="1" lang="en-US" sz="4800" spc="-1" strike="noStrike">
              <a:solidFill>
                <a:srgbClr val="ffffff"/>
              </a:solidFill>
              <a:latin typeface="Arial Narrow"/>
            </a:endParaRPr>
          </a:p>
        </p:txBody>
      </p:sp>
      <p:sp>
        <p:nvSpPr>
          <p:cNvPr id="4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istance vector routing protocol requires that each router maintain a list of each possible destination and the distance to each of those destin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uter advertises to its neighbors its list of destin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uter saves the advertisements most recently received  from its neighbo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uter calculates the shortest path to each destination based on information heard from neighbor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BCACFCB-6AB0-41D2-A780-26876AD13CA1}" type="slidenum">
              <a:t>12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Link State Routing</a:t>
            </a:r>
            <a:endParaRPr b="1" lang="en-US" sz="4800" spc="-1" strike="noStrike">
              <a:solidFill>
                <a:srgbClr val="ffffff"/>
              </a:solidFill>
              <a:latin typeface="Arial Narrow"/>
            </a:endParaRPr>
          </a:p>
        </p:txBody>
      </p:sp>
      <p:sp>
        <p:nvSpPr>
          <p:cNvPr id="41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ink state routing protocol maintains a list of neighbors, their names, and a list of their link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uter meets its neighbors and learns their names, and exchanges link state information with the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uter, having a full graph of the network, computes the shortest path to each destination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3D18012-66AD-45F1-9885-F91C57D75638}" type="slidenum">
              <a:t>12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 Longer Example</a:t>
            </a:r>
            <a:endParaRPr b="1" lang="en-US" sz="4800" spc="-1" strike="noStrike">
              <a:solidFill>
                <a:srgbClr val="ffffff"/>
              </a:solidFill>
              <a:latin typeface="Arial Narrow"/>
            </a:endParaRPr>
          </a:p>
        </p:txBody>
      </p:sp>
      <p:sp>
        <p:nvSpPr>
          <p:cNvPr id="126" name="PlaceHolder 2"/>
          <p:cNvSpPr>
            <a:spLocks noGrp="1"/>
          </p:cNvSpPr>
          <p:nvPr>
            <p:ph/>
          </p:nvPr>
        </p:nvSpPr>
        <p:spPr>
          <a:xfrm>
            <a:off x="304920" y="1523880"/>
            <a:ext cx="8610480" cy="4572000"/>
          </a:xfrm>
          <a:prstGeom prst="rect">
            <a:avLst/>
          </a:prstGeom>
          <a:noFill/>
          <a:ln w="0">
            <a:noFill/>
          </a:ln>
        </p:spPr>
        <p:txBody>
          <a:bodyPr lIns="92160" rIns="92160" tIns="46080" bIns="46080" anchor="t">
            <a:normAutofit fontScale="91000"/>
          </a:bodyPr>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options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rectory "/var/named";</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id-file "/var/run/named.pid";</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logging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ategory lame-servers { null;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ategory cname { null;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isc.org" in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ype master;</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file "master/isc.org";</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vix.com" in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ype slave;</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file "slave/vix.com";</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masters { 10.0.0.53;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 in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ype hint;</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file "named.cache";</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F51D4D1-3086-406C-850F-8D6D348B8A3C}" type="slidenum">
              <a:t>1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stance Vector vs. Link State</a:t>
            </a:r>
            <a:endParaRPr b="1" lang="en-US" sz="4800" spc="-1" strike="noStrike">
              <a:solidFill>
                <a:srgbClr val="ffffff"/>
              </a:solidFill>
              <a:latin typeface="Arial Narrow"/>
            </a:endParaRPr>
          </a:p>
        </p:txBody>
      </p:sp>
      <p:sp>
        <p:nvSpPr>
          <p:cNvPr id="41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vector suffers from "count-to-infinity" problem</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inity can far away because of timing of synchronous update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state can be complex to calculat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state routing makes network topology easier to discov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bleshooting a network is easier with link state routin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state routing converges more quickly than distance vector</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F9F51AB-542F-45D4-96A0-B45442BF6B30}" type="slidenum">
              <a:t>13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utonomous Systems</a:t>
            </a:r>
            <a:endParaRPr b="1" lang="en-US" sz="4800" spc="-1" strike="noStrike">
              <a:solidFill>
                <a:srgbClr val="ffffff"/>
              </a:solidFill>
              <a:latin typeface="Arial Narrow"/>
            </a:endParaRPr>
          </a:p>
        </p:txBody>
      </p:sp>
      <p:sp>
        <p:nvSpPr>
          <p:cNvPr id="42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utonomous System (AS) is a group of routers controlled by the same administrative entit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AS has an AS number  </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s which use AS number as part of their route state information require a globally unique AS number for each entity -- you can apply for one from the NIC</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s which do not propagate AS information can be assigned AS numbers that are unique within your sit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it's easiest to think of an AS as a fun-filled routing club, focused on single routers meeting each other</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50672A5-F1B7-4C20-99B4-B279E4117A72}" type="slidenum">
              <a:t>13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IP</a:t>
            </a:r>
            <a:endParaRPr b="1" lang="en-US" sz="4800" spc="-1" strike="noStrike">
              <a:solidFill>
                <a:srgbClr val="ffffff"/>
              </a:solidFill>
              <a:latin typeface="Arial Narrow"/>
            </a:endParaRPr>
          </a:p>
        </p:txBody>
      </p:sp>
      <p:sp>
        <p:nvSpPr>
          <p:cNvPr id="42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g Information Protoco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vector, interior gateway protoco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w out of Xerox XNS (last 70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by </a:t>
            </a:r>
            <a:r>
              <a:rPr b="1" lang="en-US" sz="2400" spc="-1" strike="noStrike">
                <a:solidFill>
                  <a:srgbClr val="ffffff"/>
                </a:solidFill>
                <a:latin typeface="Courier New"/>
              </a:rPr>
              <a:t>routed</a:t>
            </a:r>
            <a:r>
              <a:rPr b="0" lang="en-US" sz="2400" spc="-1" strike="noStrike">
                <a:solidFill>
                  <a:srgbClr val="ffffff"/>
                </a:solidFill>
                <a:latin typeface="Arial"/>
              </a:rPr>
              <a:t> on many workst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metric of 15</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cast routing protoco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g updates every 30 seconds </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 a router to network xxx.xxx.xxx.xxx in yy hop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B9EE54A-7686-49C8-BD0C-388FE448E429}" type="slidenum">
              <a:t>13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IP - cont.</a:t>
            </a:r>
            <a:endParaRPr b="1" lang="en-US" sz="4800" spc="-1" strike="noStrike">
              <a:solidFill>
                <a:srgbClr val="ffffff"/>
              </a:solidFill>
              <a:latin typeface="Arial Narrow"/>
            </a:endParaRPr>
          </a:p>
        </p:txBody>
      </p:sp>
      <p:sp>
        <p:nvSpPr>
          <p:cNvPr id="42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ient solution for LANs.  Spoken by:</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er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b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boxes</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misused, can cause extreme network congestion and chao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boxes should always run </a:t>
            </a:r>
            <a:r>
              <a:rPr b="1" lang="en-US" sz="2400" spc="-1" strike="noStrike">
                <a:solidFill>
                  <a:srgbClr val="ffffff"/>
                </a:solidFill>
                <a:latin typeface="Courier New"/>
              </a:rPr>
              <a:t>routed -q</a:t>
            </a:r>
            <a:r>
              <a:rPr b="0" lang="en-US" sz="2400" spc="-1" strike="noStrike">
                <a:solidFill>
                  <a:srgbClr val="ffffff"/>
                </a:solidFill>
                <a:latin typeface="Arial"/>
              </a:rPr>
              <a:t> to avoid advertising false information</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must use RIP, use it only to advertise a handful of networks and perhaps a default rout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EA29D6A-D045-41A8-8381-A4610E7CDDDF}" type="slidenum">
              <a:t>13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ebugging RIP</a:t>
            </a:r>
            <a:endParaRPr b="1" lang="en-US" sz="4800" spc="-1" strike="noStrike">
              <a:solidFill>
                <a:srgbClr val="ffffff"/>
              </a:solidFill>
              <a:latin typeface="Arial Narrow"/>
            </a:endParaRPr>
          </a:p>
        </p:txBody>
      </p:sp>
      <p:sp>
        <p:nvSpPr>
          <p:cNvPr id="42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 packet sniffer, or run </a:t>
            </a:r>
            <a:r>
              <a:rPr b="1" lang="en-US" sz="2000" spc="-1" strike="noStrike">
                <a:solidFill>
                  <a:srgbClr val="ffffff"/>
                </a:solidFill>
                <a:latin typeface="Courier New"/>
              </a:rPr>
              <a:t>routed -t</a:t>
            </a:r>
            <a:r>
              <a:rPr b="0" lang="en-US" sz="2000" spc="-1" strike="noStrike">
                <a:solidFill>
                  <a:srgbClr val="ffffff"/>
                </a:solidFill>
                <a:latin typeface="Arial"/>
              </a:rPr>
              <a:t> on a UNIX box...</a:t>
            </a:r>
            <a:endParaRPr b="0" lang="en-US" sz="20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in.routed -t</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253.520:</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10.520:</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34.520:</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254.520:</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 mess</a:t>
            </a:r>
            <a:endParaRPr b="0" lang="en-US" sz="2000" spc="-1" strike="noStrike">
              <a:solidFill>
                <a:srgbClr val="ffffff"/>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different gateways all with the same metric</a:t>
            </a:r>
            <a:endParaRPr b="0" lang="en-US" sz="1800" spc="-1" strike="noStrike">
              <a:solidFill>
                <a:srgbClr val="ffffff"/>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not all have the same capability (Sun 3 vs. Sparc Ultra)</a:t>
            </a:r>
            <a:endParaRPr b="0" lang="en-US" sz="1800" spc="-1" strike="noStrike">
              <a:solidFill>
                <a:srgbClr val="ffffff"/>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running RIP, it's often a good idea run </a:t>
            </a:r>
            <a:r>
              <a:rPr b="1" lang="en-US" sz="2000" spc="-1" strike="noStrike">
                <a:solidFill>
                  <a:srgbClr val="ffffff"/>
                </a:solidFill>
                <a:latin typeface="Courier New"/>
              </a:rPr>
              <a:t>gated</a:t>
            </a:r>
            <a:r>
              <a:rPr b="0" lang="en-US" sz="2000" spc="-1" strike="noStrike">
                <a:solidFill>
                  <a:srgbClr val="ffffff"/>
                </a:solidFill>
                <a:latin typeface="Arial"/>
              </a:rPr>
              <a:t> instead of </a:t>
            </a:r>
            <a:r>
              <a:rPr b="1" lang="en-US" sz="2000" spc="-1" strike="noStrike">
                <a:solidFill>
                  <a:srgbClr val="ffffff"/>
                </a:solidFill>
                <a:latin typeface="Courier New"/>
              </a:rPr>
              <a:t>routed</a:t>
            </a:r>
            <a:r>
              <a:rPr b="0" lang="en-US" sz="2000" spc="-1" strike="noStrike">
                <a:solidFill>
                  <a:srgbClr val="ffffff"/>
                </a:solidFill>
                <a:latin typeface="Arial"/>
              </a:rPr>
              <a:t> on major gateways, artificially weighting metric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DD0CBDC-C857-43F3-A15F-60A4091EB8DD}" type="slidenum">
              <a:t>13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EIGRP</a:t>
            </a:r>
            <a:endParaRPr b="1" lang="en-US" sz="4800" spc="-1" strike="noStrike">
              <a:solidFill>
                <a:srgbClr val="ffffff"/>
              </a:solidFill>
              <a:latin typeface="Arial Narrow"/>
            </a:endParaRPr>
          </a:p>
        </p:txBody>
      </p:sp>
      <p:sp>
        <p:nvSpPr>
          <p:cNvPr id="42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d Interior Gateway Routing Protocol</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RP originally developed by Cisco in mid-1980's to replace RIP</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vector, interior gateway protocol</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ASs to identify routing group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handy for all-cisco networks, no so handy for heterogeneous network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well in a WAN environment, can be easily distributed into RIP</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ting updates every 90 second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 metric includes factors for load, bandwidth, and reliability;  varies from 1-255</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AF4D4B5-FEB6-4CA4-A9A9-2ACDDD809842}" type="slidenum">
              <a:t>13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SPF</a:t>
            </a:r>
            <a:endParaRPr b="1" lang="en-US" sz="4800" spc="-1" strike="noStrike">
              <a:solidFill>
                <a:srgbClr val="ffffff"/>
              </a:solidFill>
              <a:latin typeface="Arial Narrow"/>
            </a:endParaRPr>
          </a:p>
        </p:txBody>
      </p:sp>
      <p:sp>
        <p:nvSpPr>
          <p:cNvPr id="43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hortest Path First</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or gateway, link-state protocol</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designed as a replacement for RIP</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alance load across multiple link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operate within a hierarchy</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of hierarchy is an AS</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internal AS#'s, unique within the organization</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S is divided into "area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 State information is exchanged by all routers within an area; summarized at borders of area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PF "backbone" (area 0) is responsible for exchanging information between area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23811B1-9B03-480A-AF3B-EC8640ABF109}" type="slidenum">
              <a:t>13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SPF - SPF algorithm</a:t>
            </a:r>
            <a:endParaRPr b="1" lang="en-US" sz="4800" spc="-1" strike="noStrike">
              <a:solidFill>
                <a:srgbClr val="ffffff"/>
              </a:solidFill>
              <a:latin typeface="Arial Narrow"/>
            </a:endParaRPr>
          </a:p>
        </p:txBody>
      </p:sp>
      <p:sp>
        <p:nvSpPr>
          <p:cNvPr id="43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hortest Path First (SPF) [sometimes called Dijkstra] algorithm is the basis for operation of OSPF</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e interfaces are initialized, a router sends OSPF HELLO to its neighbor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iendly neighbor routers exchange link state information. Once they're synchronized, they are said to be "adjacent"</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 state information is re-transmitted periodically (say, every 90 minutes) or when a router's state change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router calculates a shortest path tree, with itself as the root.  This information is used to generate a routing table</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segments with more than one router elect a "designated router" which is responsible for maintaining link state information for that segmen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9596846-1EA0-45F7-A993-575F37F0A06C}" type="slidenum">
              <a:t>13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SPF - cont.</a:t>
            </a:r>
            <a:endParaRPr b="1" lang="en-US" sz="4800" spc="-1" strike="noStrike">
              <a:solidFill>
                <a:srgbClr val="ffffff"/>
              </a:solidFill>
              <a:latin typeface="Arial Narrow"/>
            </a:endParaRPr>
          </a:p>
        </p:txBody>
      </p:sp>
      <p:sp>
        <p:nvSpPr>
          <p:cNvPr id="43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big feature of OSPF is support of variable-length subnet masks</a:t>
            </a:r>
            <a:endParaRPr b="0" lang="en-US" sz="2000" spc="-1" strike="noStrike">
              <a:solidFill>
                <a:srgbClr val="ffffff"/>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a:t>
            </a:r>
            <a:r>
              <a:rPr b="0" lang="en-US" sz="2000" spc="-1" strike="noStrike">
                <a:solidFill>
                  <a:srgbClr val="ffffff"/>
                </a:solidFill>
                <a:latin typeface="Courier New"/>
              </a:rPr>
              <a:t>gated</a:t>
            </a:r>
            <a:r>
              <a:rPr b="0" lang="en-US" sz="2000" spc="-1" strike="noStrike">
                <a:solidFill>
                  <a:srgbClr val="ffffff"/>
                </a:solidFill>
                <a:latin typeface="Arial"/>
              </a:rPr>
              <a:t> is the best way to support OSPF on a UNIX box</a:t>
            </a:r>
            <a:endParaRPr b="0" lang="en-US" sz="20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outer ospf 235</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etwork 199.45.100.0 0.0.0.255 area 4</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etwork 199.45.101.0 0.0.0.255 area 0</a:t>
            </a:r>
            <a:endParaRPr b="0" lang="en-US" sz="1200" spc="-1" strike="noStrike">
              <a:solidFill>
                <a:srgbClr val="ffffff"/>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Cisco router, your OSPF clause might look like:</a:t>
            </a:r>
            <a:endParaRPr b="0" lang="en-US" sz="20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choosen is 235</a:t>
            </a:r>
            <a:endParaRPr b="0" lang="en-US" sz="18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re willing to speak OSPF to the networks listed</a:t>
            </a:r>
            <a:endParaRPr b="0" lang="en-US" sz="18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how ip ospf</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outing Process "ospf 235" with ID 199.45.141.67</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upports only single TOS(TOS0) route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Number of areas in this router is 1</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rea 1.1.1.1</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Number of interfaces in this area is 1</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rea has no authentication</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PF algorithm executed 29 time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rea ranges are</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ink State Update Interval is 0:30:00 and due in 0:23:15</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ink State Age Interval is 0:20:00 and due in 0:03:15</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7BE04F6-7C2D-4166-894C-0D1D1360E222}" type="slidenum">
              <a:t>13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GP</a:t>
            </a:r>
            <a:endParaRPr b="1" lang="en-US" sz="4800" spc="-1" strike="noStrike">
              <a:solidFill>
                <a:srgbClr val="ffffff"/>
              </a:solidFill>
              <a:latin typeface="Arial Narrow"/>
            </a:endParaRPr>
          </a:p>
        </p:txBody>
      </p:sp>
      <p:sp>
        <p:nvSpPr>
          <p:cNvPr id="43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rder Gateway Protocol</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terior Gateway Protocol, derived from EGP</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vector protocol</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ransmits a list of AS numbers (real ones assigned by RIR) in path to destination</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to detect routing loop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ily designed to exchange information between AS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types of messages: Open, Update, Keepalive, Notification</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TCP connections between peer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requires an AS number</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BGP version 4</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4C2138D-D926-4768-9C05-E88AEA91E397}" type="slidenum">
              <a:t>13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nfiguration Language Details</a:t>
            </a:r>
            <a:endParaRPr b="1" lang="en-US" sz="4800" spc="-1" strike="noStrike">
              <a:solidFill>
                <a:srgbClr val="ffffff"/>
              </a:solidFill>
              <a:latin typeface="Arial Narrow"/>
            </a:endParaRPr>
          </a:p>
        </p:txBody>
      </p:sp>
      <p:sp>
        <p:nvSpPr>
          <p:cNvPr id="12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s like C or gated config fil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l keyword defines the name of an access control list and the IP addresses that it pertains to</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cl's are pre-defin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allows all hos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e: denies all hos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host: allows the IP addresses of all interfaces on the syste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nets: allows any host on a network for which system has an interfac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6B3E35A-44EA-469E-B5F6-D81D45999AFE}" type="slidenum">
              <a:t>1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GP Update Packet Contents</a:t>
            </a:r>
            <a:endParaRPr b="1" lang="en-US" sz="4800" spc="-1" strike="noStrike">
              <a:solidFill>
                <a:srgbClr val="ffffff"/>
              </a:solidFill>
              <a:latin typeface="Arial Narrow"/>
            </a:endParaRPr>
          </a:p>
        </p:txBody>
      </p:sp>
      <p:sp>
        <p:nvSpPr>
          <p:cNvPr id="43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P - learned within A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P - learned via EGP (obsolet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plete - learned some other way</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path</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hop</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reachable (now being used to black hole spamme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a-AS metric (if you are using BGP internall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ED0E759-3CA3-4342-BCC7-B732A32AC0FC}" type="slidenum">
              <a:t>14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GP Uses</a:t>
            </a:r>
            <a:endParaRPr b="1" lang="en-US" sz="4800" spc="-1" strike="noStrike">
              <a:solidFill>
                <a:srgbClr val="ffffff"/>
              </a:solidFill>
              <a:latin typeface="Arial Narrow"/>
            </a:endParaRPr>
          </a:p>
        </p:txBody>
      </p:sp>
      <p:sp>
        <p:nvSpPr>
          <p:cNvPr id="44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GP is commonly used when sharing information with backbone service providers, or between large corporate networks</a:t>
            </a:r>
            <a:endParaRPr b="0" lang="en-US" sz="24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outer bgp 101</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eighbor 199.45.255.6 remote-as 3404</a:t>
            </a:r>
            <a:endParaRPr b="0" lang="en-US" sz="12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ust enable BGP routing, specify a real autonomous system number and the neighbors that will speak BGP to you</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GP then shares routing information with routers in other AS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ertised/accepted routes can be controlled with Access Lis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9399A37-9AD4-4511-97D7-92797EAA1198}" type="slidenum">
              <a:t>14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ebugging BGP</a:t>
            </a:r>
            <a:endParaRPr b="1" lang="en-US" sz="4800" spc="-1" strike="noStrike">
              <a:solidFill>
                <a:srgbClr val="ffffff"/>
              </a:solidFill>
              <a:latin typeface="Arial Narrow"/>
            </a:endParaRPr>
          </a:p>
        </p:txBody>
      </p:sp>
      <p:sp>
        <p:nvSpPr>
          <p:cNvPr id="44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gt; show ip bgp summary</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BGP table version is 13923, main routing table version 13923</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319 network entries (338 paths) using 52992 bytes of memory</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27 BGP path attribute entries using 1920 bytes of memory</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eighbor        V    AS MsgRcvd MsgSent   TblVer  InQ OutQ Up/Down  State</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4.224.13.5    4  6176   82342   82320    13923    0    0 1w2d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99.45.132.75   4  3404   81205   80797    13923    0    0 6d07     </a:t>
            </a:r>
            <a:endParaRPr b="0" lang="en-US" sz="12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cisco...</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Q and OutQ fields represent BGP messages exchanged but not yet processed</a:t>
            </a:r>
            <a:endParaRPr b="0" lang="en-US" sz="18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InQ field is ever non-zero, get a bigger router</a:t>
            </a:r>
            <a:endParaRPr b="0" lang="en-US" sz="16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field uses unfortunate defaults</a:t>
            </a:r>
            <a:endParaRPr b="0" lang="en-US" sz="18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ank means neighboring router is up and happy</a:t>
            </a:r>
            <a:endParaRPr b="0" lang="en-US" sz="16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ive means its really broken and trying to re-establish things</a:t>
            </a:r>
            <a:endParaRPr b="0" lang="en-US" sz="16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blank means neighbor is down or is coming up</a:t>
            </a:r>
            <a:endParaRPr b="0" lang="en-US" sz="16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own field shows time in current stat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8E1AF4E-4ED1-4F38-AD5B-4FDDA2AD27BD}" type="slidenum">
              <a:t>14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ebugging BGP, cont.</a:t>
            </a:r>
            <a:endParaRPr b="1" lang="en-US" sz="4800" spc="-1" strike="noStrike">
              <a:solidFill>
                <a:srgbClr val="ffffff"/>
              </a:solidFill>
              <a:latin typeface="Arial Narrow"/>
            </a:endParaRPr>
          </a:p>
        </p:txBody>
      </p:sp>
      <p:sp>
        <p:nvSpPr>
          <p:cNvPr id="44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t; show ip bgp regexp 4151</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GP table version is 13923, local router ID is 199.45.255.254</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Status codes: s suppressed, * valid, &gt; best, i - internal</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Origin codes: i - IGP, e - EGP, ? - incomplete</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Network          Next Hop        Metric LocPrf Weight Path</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34.249.0.0      199.45.132.75   0      0 6582 4151 4151 4151 i</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51.121.0.0      199.45.132.75   0      0 6582 4151 4151 4151 ?</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60.232.0.0      199.45.132.75   0      0 6582 4151 4151 4151 i</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62.79.0.0       199.45.132.75   0      0 6582 4151 4151 4151 i</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65.221.0.0      199.45.132.75   0      0 6582 4151 4151 4151 ?</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92.78.16.0      199.45.132.75   0      0 6582 4151 4151 4151 ?</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92.153.14.0     199.45.132.75   0      0 6582 4151 4151 4151 i</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98.22.127.0     199.45.132.75   0      0 6582 4151 4151 4151 ?</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99.128.0.0/11   199.45.132.75   0      0 6582 4151 4151 4151 </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39A08A9-16CA-4134-A7F3-74B59B9F2DC8}" type="slidenum">
              <a:t>14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ebugging BGP, cont.</a:t>
            </a:r>
            <a:endParaRPr b="1" lang="en-US" sz="4800" spc="-1" strike="noStrike">
              <a:solidFill>
                <a:srgbClr val="ffffff"/>
              </a:solidFill>
              <a:latin typeface="Arial Narrow"/>
            </a:endParaRPr>
          </a:p>
        </p:txBody>
      </p:sp>
      <p:sp>
        <p:nvSpPr>
          <p:cNvPr id="44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ain, on a Cisco...</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xp" clause is like a grep</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s ^ for beginning with, eg. ^4151</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s $ for ending with, eg. 4151$</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glue AS paths together, eg. ^4151_666$ means the AS path starts with AS 4151 and ends with AS 666</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ce BGP tutorial on Cisco's web site (under tech support sec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D1660C1-6C08-42A4-BF8A-AFEEDDA55488}" type="slidenum">
              <a:t>14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Network Crisis Case Studies</a:t>
            </a:r>
            <a:endParaRPr b="1" lang="en-US" sz="6600" spc="-1" strike="noStrike">
              <a:solidFill>
                <a:srgbClr val="ffffff"/>
              </a:solidFill>
              <a:latin typeface="Arial Narrow"/>
            </a:endParaRPr>
          </a:p>
        </p:txBody>
      </p:sp>
      <p:sp>
        <p:nvSpPr>
          <p:cNvPr id="449"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etwork Crisis Case Studies</a:t>
            </a:r>
            <a:endParaRPr b="1" lang="en-US" sz="4800" spc="-1" strike="noStrike">
              <a:solidFill>
                <a:srgbClr val="ffffff"/>
              </a:solidFill>
              <a:latin typeface="Arial Narrow"/>
            </a:endParaRPr>
          </a:p>
        </p:txBody>
      </p:sp>
      <p:sp>
        <p:nvSpPr>
          <p:cNvPr id="45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tuations detailed here are all based on real-world network cris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mes and minor details have been changed to protect the innocent (or the guilty, as the case may b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each case, we were called in after local attempts to fix the problems fail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the fix took 2-3 hours of an expert consultants time after a month of in-house attempts to solve the problem.</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2EFEC91-7A4E-41CB-A777-AB493CD2CC42}" type="slidenum">
              <a:t>14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1: FloodDyne Industries</a:t>
            </a:r>
            <a:endParaRPr b="1" lang="en-US" sz="4800" spc="-1" strike="noStrike">
              <a:solidFill>
                <a:srgbClr val="ffffff"/>
              </a:solidFill>
              <a:latin typeface="Arial Narrow"/>
            </a:endParaRPr>
          </a:p>
        </p:txBody>
      </p:sp>
      <p:sp>
        <p:nvSpPr>
          <p:cNvPr id="45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oodDyne Industries recently moved into a new office building.</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iously, their network was 100% thinnet (10base2).</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ir new offices, they installed Level 5 UTP cabling and switched to 100% 10Base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have approximately 30 hosts on a single Ethernet.  </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one machine (a Sun Sparc 1) that acts as a hub for mail, data, and administrative task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st of their network consists of a variety of other hosts, including Macs, PCs, Suns, and SGI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ay they moved into the new facilities, the nightmare bega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A8B9E29-EA52-4FB4-813E-B051D806023B}" type="slidenum">
              <a:t>14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Symptoms</a:t>
            </a:r>
            <a:endParaRPr b="1" lang="en-US" sz="4800" spc="-1" strike="noStrike">
              <a:solidFill>
                <a:srgbClr val="ffffff"/>
              </a:solidFill>
              <a:latin typeface="Arial Narrow"/>
            </a:endParaRPr>
          </a:p>
        </p:txBody>
      </p:sp>
      <p:sp>
        <p:nvSpPr>
          <p:cNvPr id="45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the moment the new network was brought online, it was apparent that a problem existed.</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noticeable problem was "NFS server not responding; NFS server OK" being spit out by a number of the cross mounted machine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one engineer noticed that ftp throughput was hovering around 50Kb/sec, well below what a fairly idle Ethernet should be able to handle</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e SGIs began spitting out "ec0: late collision" on their console.</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512 bits: normal collision</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 546 bits: OK Ethernet packet</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between: late collision</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ing across the LAN would result in about 5% lost packe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230EC04-C0A4-469E-9714-633B14BB3AC5}" type="slidenum">
              <a:t>14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Diagnosis</a:t>
            </a:r>
            <a:endParaRPr b="1" lang="en-US" sz="4800" spc="-1" strike="noStrike">
              <a:solidFill>
                <a:srgbClr val="ffffff"/>
              </a:solidFill>
              <a:latin typeface="Arial Narrow"/>
            </a:endParaRPr>
          </a:p>
        </p:txBody>
      </p:sp>
      <p:sp>
        <p:nvSpPr>
          <p:cNvPr id="45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only aspect that had changed was the network media itself,  attention turned to examining the cabling in the walls -- that MUST be the problem!</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umber of tests were run, using a tester similar to the Siemon MD-CAT5.  </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all the wall cabling checked out OK.  </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it was suspected that one of the hosts had been damaged during the move, and it was causing interference on the Etherne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orts were made to isolate the "broken" host.  In particular, netstat and ping were used as too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2526BA0-1F0A-4C65-8231-7B7236BDB501}" type="slidenum">
              <a:t>14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ddress List Format</a:t>
            </a:r>
            <a:endParaRPr b="1" lang="en-US" sz="4800" spc="-1" strike="noStrike">
              <a:solidFill>
                <a:srgbClr val="ffffff"/>
              </a:solidFill>
              <a:latin typeface="Arial Narrow"/>
            </a:endParaRPr>
          </a:p>
        </p:txBody>
      </p:sp>
      <p:sp>
        <p:nvSpPr>
          <p:cNvPr id="13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of IP addresses in various format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tted decimal not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 prefix in the / not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ame of a previously defined address list</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ading ! negates an entr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egated, access is deni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access is permitte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B9775D6-BD2F-4458-952A-E322BE77F6F6}" type="slidenum">
              <a:t>1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agnosis (cont.)</a:t>
            </a:r>
            <a:endParaRPr b="1" lang="en-US" sz="4800" spc="-1" strike="noStrike">
              <a:solidFill>
                <a:srgbClr val="ffffff"/>
              </a:solidFill>
              <a:latin typeface="Arial Narrow"/>
            </a:endParaRPr>
          </a:p>
        </p:txBody>
      </p:sp>
      <p:sp>
        <p:nvSpPr>
          <p:cNvPr id="45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itingly, a candidate "broken" host was found.</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n arbitrary workstation on the network, ping worked fairly reliably (2% or less packet loss) to all hosts on the network except the Sun server.</a:t>
            </a:r>
            <a:endParaRPr b="0" lang="en-US" sz="20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netstat -I le0 -i 5</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nput   (le0)     output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packets errs  packets errs  colls</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86676   8982  85686   9240  92</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256     20     240    16     0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350     40     321    51     2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79     21     180    10     0</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53     17     128    14     0</a:t>
            </a:r>
            <a:endParaRPr b="0" lang="en-US" sz="12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on the Sun server showed an unusual number of input and output error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ly (?), this must be the offending host; its Ethernet interface must be BROKE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256F55E-B7FB-4E83-B7AF-118DEC654538}" type="slidenum">
              <a:t>15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agnosis (cont.)</a:t>
            </a:r>
            <a:endParaRPr b="1" lang="en-US" sz="4800" spc="-1" strike="noStrike">
              <a:solidFill>
                <a:srgbClr val="ffffff"/>
              </a:solidFill>
              <a:latin typeface="Arial Narrow"/>
            </a:endParaRPr>
          </a:p>
        </p:txBody>
      </p:sp>
      <p:sp>
        <p:nvSpPr>
          <p:cNvPr id="4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ot stand-by was put in its place.  </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blems continued, no better than befor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someone took a look at the whole picture.</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bling in wall has been certified "OK"</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sts at ends of cables have been certified "OK"</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ould be in-between?</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ver-satin.  8 conductor silver-satin cable (flat) was used to connect between the wall jack and the host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 Sun had the most simultaneous transmit and receive traffic, it suffered from the largest amount of cross-talk.</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Use twisted-pair hookup and patch cables in a  twisted-pair network!</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9D1E21A-3820-4C9C-8589-C8FACF6ACCA8}" type="slidenum">
              <a:t>15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2:  Ajax Publishing</a:t>
            </a:r>
            <a:endParaRPr b="1" lang="en-US" sz="4800" spc="-1" strike="noStrike">
              <a:solidFill>
                <a:srgbClr val="ffffff"/>
              </a:solidFill>
              <a:latin typeface="Arial Narrow"/>
            </a:endParaRPr>
          </a:p>
        </p:txBody>
      </p:sp>
      <p:sp>
        <p:nvSpPr>
          <p:cNvPr id="4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jax Publishing is a publishing house that prints a weekly newsletter about their Coyote Abatement products.  This is their sole livelihood, no newsletter, no food on the table.</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have approximately 100 hosts on their network, which consists of two physical 10base5 cables connected by a handful of redundant gateway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ir network includes everything from the latest-and-greatest from manufacturers like HP and DEC, to some Sun3s, PCs, Macs, and an IBM mainframe.</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have about 80% TCP/IP and about 20% IPX traffic on their network.</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2A68F7F-BC39-4C61-AE1F-5A6186483195}" type="slidenum">
              <a:t>15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Problem</a:t>
            </a:r>
            <a:endParaRPr b="1" lang="en-US" sz="4800" spc="-1" strike="noStrike">
              <a:solidFill>
                <a:srgbClr val="ffffff"/>
              </a:solidFill>
              <a:latin typeface="Arial Narrow"/>
            </a:endParaRPr>
          </a:p>
        </p:txBody>
      </p:sp>
      <p:sp>
        <p:nvSpPr>
          <p:cNvPr id="4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have a proprietary typesetting system that is used to  typeset the articles in their newsletter.  It too speaks TCP/IP, and is based on PDP 11/34 processors with Excelan Ethernet boards.  They plan on replacing this system "real soon now."  But for  today, this system is mission critical to printing their newsletter.</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risis is thought to have begun months ago, when users started noticing short "hiccups" on the network when using it for interactive application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starting today, the PDP 11/34s refuse to speak to the rest of the network.  HELP!</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wo mission-critical hosts that must speak to each other (the PDP and a Sun) are on different networks.  So, at first a routing problem is suspected.</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FAF821B-6010-45F4-B5A2-67467E996EA4}" type="slidenum">
              <a:t>15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Problem (cont.)</a:t>
            </a:r>
            <a:endParaRPr b="1" lang="en-US" sz="4800" spc="-1" strike="noStrike">
              <a:solidFill>
                <a:srgbClr val="ffffff"/>
              </a:solidFill>
              <a:latin typeface="Arial Narrow"/>
            </a:endParaRPr>
          </a:p>
        </p:txBody>
      </p:sp>
      <p:sp>
        <p:nvSpPr>
          <p:cNvPr id="46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ite is running "dynamic" routing (RIP) so that if a gateway fails another one will step in.</a:t>
            </a:r>
            <a:endParaRPr b="0" lang="en-US" sz="20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in.routed -t</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253.520:        (sun 2)</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10.520:</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34.520:</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254.520:        (sparc 10)</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 mess!  A variety of gateways all advertise routes to the same net with the same number of hops.  But, the gateways are not equivalent: 199.45.198.253 is a Sun-2, and 199.45.198.254 is a Sparc-10.  </a:t>
            </a:r>
            <a:endParaRPr b="0"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096AF62-AC43-4098-BED4-260BA5074BDB}" type="slidenum">
              <a:t>15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Diagnosis</a:t>
            </a:r>
            <a:endParaRPr b="1" lang="en-US" sz="4800" spc="-1" strike="noStrike">
              <a:solidFill>
                <a:srgbClr val="ffffff"/>
              </a:solidFill>
              <a:latin typeface="Arial Narrow"/>
            </a:endParaRPr>
          </a:p>
        </p:txBody>
      </p:sp>
      <p:sp>
        <p:nvSpPr>
          <p:cNvPr id="46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folks need to be running  gated(8) rather than routed(8) on their gateways, and artificially weighting the paths.  This is likely the cause of the "hiccups" users reported earlier.</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 if routing is OK, maybe it's the case that the network is too saturated.  Using a PC running LanWatch (from FTP Software), utilization of the network is analyzed.  It peaked around 30% with an average of about 9%.</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about we test the PDP?</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ing the Sun near the PDP (don't try it the other way around!), we constructed a network of just the Sun and the PDP.  That worked fin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0C8E3E8-1EF7-4D75-9EE6-432C79A03FFF}" type="slidenum">
              <a:t>15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agnosis (cont.)</a:t>
            </a:r>
            <a:endParaRPr b="1" lang="en-US" sz="4800" spc="-1" strike="noStrike">
              <a:solidFill>
                <a:srgbClr val="ffffff"/>
              </a:solidFill>
              <a:latin typeface="Arial Narrow"/>
            </a:endParaRPr>
          </a:p>
        </p:txBody>
      </p:sp>
      <p:sp>
        <p:nvSpPr>
          <p:cNvPr id="471"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 far, we have:</a:t>
            </a:r>
            <a:endParaRPr b="0" lang="en-US" sz="20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ied it's not a routing problem</a:t>
            </a:r>
            <a:endParaRPr b="0" lang="en-US" sz="18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ied the Ethernet is operating at a reasonable utilization level</a:t>
            </a:r>
            <a:endParaRPr b="0" lang="en-US" sz="18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ied that other hosts on the network (except the PDP) are happy</a:t>
            </a:r>
            <a:endParaRPr b="0" lang="en-US" sz="18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ied the PDP is operational</a:t>
            </a:r>
            <a:endParaRPr b="0" lang="en-US" sz="18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could it be?</a:t>
            </a:r>
            <a:endParaRPr b="0" lang="en-US" sz="20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ather aged member of the network community scratched his head.  What had changed recently on our network? he asked.</a:t>
            </a:r>
            <a:endParaRPr b="0" lang="en-US" sz="20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young wet-behind-the-ears SA said "well, we've recently upgraded some of the Ethernet cards in the PCs to FASTER ones."</a:t>
            </a:r>
            <a:endParaRPr b="0" lang="en-US" sz="20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in fact, that led to a hunch later proven by timing measurements: the new high-performance cards "jump" the settling time between packets to gain an edge.  This hopelessly upsets the Excelan cards.</a:t>
            </a:r>
            <a:endParaRPr b="0" lang="en-US" sz="20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Bridge the PDP onto a separate segment until it can be replaced.</a:t>
            </a:r>
            <a:endParaRPr b="0" lang="en-US" sz="2000" spc="-1" strike="noStrike">
              <a:solidFill>
                <a:srgbClr val="ffffff"/>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87CF510-DD0B-4B6B-9F75-5FAC57FC2C6D}" type="slidenum">
              <a:t>15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3: SynthTree Laboratories</a:t>
            </a:r>
            <a:endParaRPr b="1" lang="en-US" sz="4800" spc="-1" strike="noStrike">
              <a:solidFill>
                <a:srgbClr val="ffffff"/>
              </a:solidFill>
              <a:latin typeface="Arial Narrow"/>
            </a:endParaRPr>
          </a:p>
        </p:txBody>
      </p:sp>
      <p:sp>
        <p:nvSpPr>
          <p:cNvPr id="47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hTree Labs is an International company with extensive LAN and WAN need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office has its own SA staff, and there is no central coordination.</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ir traffic mix is about 50% TCP/IP and 50% IPX.  </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ir company wide-network consists of over 600 hosts,  ranging from PCs and X-terminals to mainframe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segments are connected together using bridges and "Ethernet Switches", because "it's so much easier to administer"</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remote sites are connected (bridged) via 56KB dedicated circui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7054286-6018-47E5-9E70-322D09F022A8}" type="slidenum">
              <a:t>15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Problem</a:t>
            </a:r>
            <a:endParaRPr b="1" lang="en-US" sz="4800" spc="-1" strike="noStrike">
              <a:solidFill>
                <a:srgbClr val="ffffff"/>
              </a:solidFill>
              <a:latin typeface="Arial Narrow"/>
            </a:endParaRPr>
          </a:p>
        </p:txBody>
      </p:sp>
      <p:sp>
        <p:nvSpPr>
          <p:cNvPr id="47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twork is only usable about 50% of the work day.   For about 2 hours in the morning and 2 hours in the afternoon, the network is claimed by users to "stop" Some days, however, are better than othe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services are inaccessible -- from printing to emai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is furious -- how could this happe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910D5C3-EA4E-43F2-BF58-00B341620B5D}" type="slidenum">
              <a:t>15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Diagnosis</a:t>
            </a:r>
            <a:endParaRPr b="1" lang="en-US" sz="4800" spc="-1" strike="noStrike">
              <a:solidFill>
                <a:srgbClr val="ffffff"/>
              </a:solidFill>
              <a:latin typeface="Arial Narrow"/>
            </a:endParaRPr>
          </a:p>
        </p:txBody>
      </p:sp>
      <p:sp>
        <p:nvSpPr>
          <p:cNvPr id="47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netstat -I le0 -i 5</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nput   (le0)     output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packets errs  packets errs  colls</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33     0     59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00     0     33      0     3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59     0     29      0     3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21     0     28      0     4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54     0     61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08     0     43      0     1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88     0     75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31     0     67      0     52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92     0     97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65     0     73      0     1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38     0     99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07     0     61      0     3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22     0     33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32      0     20      0     17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03     0     30      0     0  </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how collisions skyrocket at regular intervals -- approximately every 30 seconds.  This is the first clu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09FDE12-5999-4AFF-BCB9-736EAF180E5E}" type="slidenum">
              <a:t>15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ddress Lists, cont.</a:t>
            </a:r>
            <a:endParaRPr b="1" lang="en-US" sz="4800" spc="-1" strike="noStrike">
              <a:solidFill>
                <a:srgbClr val="ffffff"/>
              </a:solidFill>
              <a:latin typeface="Arial Narrow"/>
            </a:endParaRPr>
          </a:p>
        </p:txBody>
      </p:sp>
      <p:sp>
        <p:nvSpPr>
          <p:cNvPr id="13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omparing addresses, the first match is us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ies that if you have nested sets of addresses, the more specific must go first</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1.2.3/24; is followed by ! 1.2.3.13; 1.2.3.13 is allowed through</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use ! 1.2.3.13; followed by 1.2.3/24 to block host 13 but allow other hosts on the 1.2.3/24 net</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Lists are defined with the acl keyword and used with the topology, allow-query, allow-transfer, and allow-update opt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060A429-7204-43F7-BB62-8901A1181ACB}" type="slidenum">
              <a:t>1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agnosis (cont.)</a:t>
            </a:r>
            <a:endParaRPr b="1" lang="en-US" sz="4800" spc="-1" strike="noStrike">
              <a:solidFill>
                <a:srgbClr val="ffffff"/>
              </a:solidFill>
              <a:latin typeface="Arial Narrow"/>
            </a:endParaRPr>
          </a:p>
        </p:txBody>
      </p:sp>
      <p:sp>
        <p:nvSpPr>
          <p:cNvPr id="47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1.589490 bulldozer.xor.com.525 &gt; 192.108.21.255.525: udp 76</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1.590005 bulldozer.xor.com.525 &gt; 192.108.21.255.525: udp 76</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1.590340 bulldozer.xor.com.525 &gt; 192.108.21.255.525: udp 76</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1.790240 phone.xor.com.525 &gt; 192.108.21.0.527: udp 76</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2.090100 phone.xor.com.525 &gt; 192.108.21.0.527: udp 76</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2.221030 phone.xor.com.525 &gt; 192.108.21.0.527: udp 76</a:t>
            </a:r>
            <a:endParaRPr b="0" lang="en-US" sz="12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could those bursts of collisions be from?   tcpdump shows us the actual traffic during those period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adcast traffic with mis-matched broadcast address</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lldozer thinks 255</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ne thinks 0</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et's hardware address is broadcast, but IP doesnt recognize the 0 as broadcast and so forwards the packet, on and 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7A2CC72-F743-4BFA-AEDA-A2FA7DBCEA0A}" type="slidenum">
              <a:t>16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agnosis (cont.)</a:t>
            </a:r>
            <a:endParaRPr b="1" lang="en-US" sz="4800" spc="-1" strike="noStrike">
              <a:solidFill>
                <a:srgbClr val="ffffff"/>
              </a:solidFill>
              <a:latin typeface="Arial Narrow"/>
            </a:endParaRPr>
          </a:p>
        </p:txBody>
      </p:sp>
      <p:sp>
        <p:nvSpPr>
          <p:cNvPr id="48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cast traffic!  Since the bridges provide no firewall against broadcast traffic, broadcast "storms" are taking over the network</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1:  Look around for mis-configured hosts, hosts that do not match the specified broadcast addr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2: Turn off routed, rwhod, and other broadcast generators on everywhere but essential host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74D9550-9BF8-42E9-BE93-9A6F104DFC80}" type="slidenum">
              <a:t>16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4: Web-footed Nation, Inc.</a:t>
            </a:r>
            <a:endParaRPr b="1" lang="en-US" sz="4800" spc="-1" strike="noStrike">
              <a:solidFill>
                <a:srgbClr val="ffffff"/>
              </a:solidFill>
              <a:latin typeface="Arial Narrow"/>
            </a:endParaRPr>
          </a:p>
        </p:txBody>
      </p:sp>
      <p:sp>
        <p:nvSpPr>
          <p:cNvPr id="48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footed Nation, Inc. recently moved their web server from an NT box to a UNIX-based box</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ir web traffic has been steadily increasin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have a SPARC running Solaris 2.5 that acts as their web server.  It's a speedy little box, as Solaris go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box is also responsible for services such as email, and anonymous ftp.</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un the Apache web server, so it's gotta be goo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18B5D92-0301-4B45-B03C-34735E3E4913}" type="slidenum">
              <a:t>16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Symptoms</a:t>
            </a:r>
            <a:endParaRPr b="1" lang="en-US" sz="4800" spc="-1" strike="noStrike">
              <a:solidFill>
                <a:srgbClr val="ffffff"/>
              </a:solidFill>
              <a:latin typeface="Arial Narrow"/>
            </a:endParaRPr>
          </a:p>
        </p:txBody>
      </p:sp>
      <p:sp>
        <p:nvSpPr>
          <p:cNvPr id="48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 "good day" (i.e., when IP connectivity to most locations is stable), the web server is happy as a cla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bad days, users often see "server is down or unreachable" or broken images, even when reachability to their site isn't affect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load average is low (less than 0.20)</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bad" times, "telnet localhost 80" times ou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ervice is not in use (no reverse lookups for connect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CC8C8B4-FA21-4B63-9A79-EBB075781718}" type="slidenum">
              <a:t>16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inding the Cause</a:t>
            </a:r>
            <a:endParaRPr b="1" lang="en-US" sz="4800" spc="-1" strike="noStrike">
              <a:solidFill>
                <a:srgbClr val="ffffff"/>
              </a:solidFill>
              <a:latin typeface="Arial Narrow"/>
            </a:endParaRPr>
          </a:p>
        </p:txBody>
      </p:sp>
      <p:sp>
        <p:nvSpPr>
          <p:cNvPr id="48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dump(1) of traffic inbound to the web server show that  connection requests arrived (SYN) and are acknowledged (SYN-ACK) but open acknowledgement (ACK) isn't received by web server from remote hos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A -n" shows that a number of connections in SYN_RCVD stat.  </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A -n | grep SYN_RCVD | wc -l" always shows 5 connections in this state during the bad times, and a smaller number at other time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s in this state tie up a slot in the "unaccepted socket queue", often referred to as the listen() queu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ize of this queue needs to be adjusted on machines, such as web servers or mail hubs, that have lots of contact with the outside world</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2641A6F-1179-4459-8B5D-D02E0950D302}" type="slidenum">
              <a:t>16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Fix</a:t>
            </a:r>
            <a:endParaRPr b="1" lang="en-US" sz="4800" spc="-1" strike="noStrike">
              <a:solidFill>
                <a:srgbClr val="ffffff"/>
              </a:solidFill>
              <a:latin typeface="Arial Narrow"/>
            </a:endParaRPr>
          </a:p>
        </p:txBody>
      </p:sp>
      <p:sp>
        <p:nvSpPr>
          <p:cNvPr id="48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olaris, you can adjust the size of this queue with the ndd(1m) command:</a:t>
            </a:r>
            <a:endParaRPr b="0" lang="en-US" sz="20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ndd -set /dev/tcp tcp_conn_req_max 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IRIX, modify the value of </a:t>
            </a:r>
            <a:r>
              <a:rPr b="1" lang="en-US" sz="2000" spc="-1" strike="noStrike">
                <a:solidFill>
                  <a:srgbClr val="ffffff"/>
                </a:solidFill>
                <a:latin typeface="Courier New"/>
              </a:rPr>
              <a:t>somaxconn</a:t>
            </a:r>
            <a:r>
              <a:rPr b="0" lang="en-US" sz="2000" spc="-1" strike="noStrike">
                <a:solidFill>
                  <a:srgbClr val="ffffff"/>
                </a:solidFill>
                <a:latin typeface="Arial"/>
              </a:rPr>
              <a:t> in /var/sysgen/master.d/bsd:</a:t>
            </a:r>
            <a:endParaRPr b="0" lang="en-US" sz="20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int somaxconn = 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BSD/OS, you can declare it as an option in your kernel config file:</a:t>
            </a:r>
            <a:endParaRPr b="0" lang="en-US" sz="20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options "SOMAXCONN=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SunOS, you have to replace/edit uipc_socket.o</a:t>
            </a:r>
            <a:endParaRPr b="0" lang="en-US" sz="20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http://www1.islandnet.com/~mark/somaxconn.html</a:t>
            </a:r>
            <a:endParaRPr b="0" lang="en-US" sz="1400" spc="-1" strike="noStrike">
              <a:solidFill>
                <a:srgbClr val="ffffff"/>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details, see</a:t>
            </a:r>
            <a:endParaRPr b="0" lang="en-US" sz="18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program to change uipc_socket.o</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te offsets to use adb or an editor to change</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ces in the od (octal dump) output before and after the fix</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220F960-2693-4B92-BBDB-9B7040D0DAA5}" type="slidenum">
              <a:t>16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5: AmeriRodent, Inc.</a:t>
            </a:r>
            <a:endParaRPr b="1" lang="en-US" sz="4800" spc="-1" strike="noStrike">
              <a:solidFill>
                <a:srgbClr val="ffffff"/>
              </a:solidFill>
              <a:latin typeface="Arial Narrow"/>
            </a:endParaRPr>
          </a:p>
        </p:txBody>
      </p:sp>
      <p:sp>
        <p:nvSpPr>
          <p:cNvPr id="49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Rodent, Inc. recently moved into a new office building</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pidly expanding cheese delivery enterprise, they added another  28 desktops to their network following the move</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ve primarily Sun servers and NCD xterminal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 service representatives run an X-based GUI to assist customers with complaints about late cheese deliverie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based GUI interact with a herd of commercial database servers, also attached to the network</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response time to user queries is less than 5 second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07ACFDE-8CA3-41B1-9ECB-8A2E0FF450A7}" type="slidenum">
              <a:t>16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Symptoms</a:t>
            </a:r>
            <a:endParaRPr b="1" lang="en-US" sz="4800" spc="-1" strike="noStrike">
              <a:solidFill>
                <a:srgbClr val="ffffff"/>
              </a:solidFill>
              <a:latin typeface="Arial Narrow"/>
            </a:endParaRPr>
          </a:p>
        </p:txBody>
      </p:sp>
      <p:sp>
        <p:nvSpPr>
          <p:cNvPr id="49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 service agents report response times are much longer then 5 seconds, sometimes closer to 300.  "Worked fine when we were in our old office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X-terminals appear to "freeze" when starting new applications, sometimes for minutes at a time.   "Never did this in the old office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was so unhappy with network performance, they handed pink slips to all the sys admins and hired an "outsourcing" firm to "fix their network"</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sourcing firm is still "looking into the cause of the problem"</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1643AD6-45C6-49F7-8F98-69BF0C2548B6}" type="slidenum">
              <a:t>16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Diagnosis</a:t>
            </a:r>
            <a:endParaRPr b="1" lang="en-US" sz="4800" spc="-1" strike="noStrike">
              <a:solidFill>
                <a:srgbClr val="ffffff"/>
              </a:solidFill>
              <a:latin typeface="Arial Narrow"/>
            </a:endParaRPr>
          </a:p>
        </p:txBody>
      </p:sp>
      <p:sp>
        <p:nvSpPr>
          <p:cNvPr id="49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nd physicals maps of network were requested.  None exist, or left the company when the sys admin staff was fired.</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ed rough mapping by hand.  Network is constructed of a single logical 10baseT Ethernet, with approximately 230 hosts on the segmen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ded to measure network utilization.  Segment is over 80%  sustained utilization</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ernet kne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1" lang="en-US" sz="1800" spc="-1" strike="noStrike">
                <a:solidFill>
                  <a:srgbClr val="ffffff"/>
                </a:solidFill>
                <a:latin typeface="Courier New"/>
              </a:rPr>
              <a:t>netstat -ni</a:t>
            </a:r>
            <a:r>
              <a:rPr b="0" lang="en-US" sz="1800" spc="-1" strike="noStrike">
                <a:solidFill>
                  <a:srgbClr val="ffffff"/>
                </a:solidFill>
                <a:latin typeface="Arial"/>
              </a:rPr>
              <a:t> to see collision rate</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gnificant percentage of usage is NFS ... from the X-terminals. Rather than tftp fonts, they mount them via NFS.  [explains X-terminal freeze-up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13BC76E-2F54-4497-907E-20B39B602E0F}" type="slidenum">
              <a:t>16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Fix</a:t>
            </a:r>
            <a:endParaRPr b="1" lang="en-US" sz="4800" spc="-1" strike="noStrike">
              <a:solidFill>
                <a:srgbClr val="ffffff"/>
              </a:solidFill>
              <a:latin typeface="Arial Narrow"/>
            </a:endParaRPr>
          </a:p>
        </p:txBody>
      </p:sp>
      <p:sp>
        <p:nvSpPr>
          <p:cNvPr id="49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workstations on a single segment to 15-20 per segmen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X-terminal fonts don't use NFS with UDP (no congestion avoidance, so is terrible for a congested network)</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ftp or NFS over TCP</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use a font server if a small group of folks are sharing lots of fonts; can become a bottleneck if too heavily used</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segments together via a router or a switch, with  high bandwidth connections for primary servers (100baseT, etc.).</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 hiring "outsourcing" firms who are not familiar with TCP/IP and Ethernet to do network debuggin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6756743-3FF5-413B-AA93-6DDA3FFCF12E}" type="slidenum">
              <a:t>16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Global Options</a:t>
            </a:r>
            <a:endParaRPr b="1" lang="en-US" sz="4800" spc="-1" strike="noStrike">
              <a:solidFill>
                <a:srgbClr val="ffffff"/>
              </a:solidFill>
              <a:latin typeface="Arial Narrow"/>
            </a:endParaRPr>
          </a:p>
        </p:txBody>
      </p:sp>
      <p:sp>
        <p:nvSpPr>
          <p:cNvPr id="13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global options, 31 to be exac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of servers working directo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of binari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of pid fil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o be a recursive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o answer at all (access list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of hosts allowed to query server, defaults to allow all queries from all host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of hosts allowed to receive zone transfers, defaults to allow transfers to any hos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B8E6C43-B355-4BEE-83D7-30D95766EA1F}" type="slidenum">
              <a:t>1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6: Green Fountain Labs, Inc.</a:t>
            </a:r>
            <a:endParaRPr b="1" lang="en-US" sz="4800" spc="-1" strike="noStrike">
              <a:solidFill>
                <a:srgbClr val="ffffff"/>
              </a:solidFill>
              <a:latin typeface="Arial Narrow"/>
            </a:endParaRPr>
          </a:p>
        </p:txBody>
      </p:sp>
      <p:sp>
        <p:nvSpPr>
          <p:cNvPr id="49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n Fountain Labs, Inc. has been on the Internet for over 3 yea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ir Internet connection is an important research tool, and provides information about their Fountain-coloring products to potential custome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have a packet-filtering firewall on their router, together with  a software firewall on their UNIX box  (including COPS and Crack).</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inced they've done enough, they weren't too concerned about network securit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E74994F-2B47-44C2-9A87-0684B4FBD4A8}" type="slidenum">
              <a:t>17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Problem</a:t>
            </a:r>
            <a:endParaRPr b="1" lang="en-US" sz="4800" spc="-1" strike="noStrike">
              <a:solidFill>
                <a:srgbClr val="ffffff"/>
              </a:solidFill>
              <a:latin typeface="Arial Narrow"/>
            </a:endParaRPr>
          </a:p>
        </p:txBody>
      </p:sp>
      <p:sp>
        <p:nvSpPr>
          <p:cNvPr id="50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day, a user logs in to discover that her home directory is filled with files she didn't put there -- including password files from other machines, etc.</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lls the system administrator, who correctly identifies the problem as a potential security breach.  He tells her to change her password right away.</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days go by, more and more users find strange things lying around. The system administrator notices unusual log messages like "su root succeeded for jsmith" when jsmith is not a sys admin</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dministrator goes on vacation.  Junior system administrator assigned to watch machine in his absence discovers that the machine is a "hacker nest", with 10 or more unauthorized users on at a tim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D537F37-E79C-4B1D-AC1B-102F7C0918B6}" type="slidenum">
              <a:t>17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Happened?</a:t>
            </a:r>
            <a:endParaRPr b="1" lang="en-US" sz="4800" spc="-1" strike="noStrike">
              <a:solidFill>
                <a:srgbClr val="ffffff"/>
              </a:solidFill>
              <a:latin typeface="Arial Narrow"/>
            </a:endParaRPr>
          </a:p>
        </p:txBody>
      </p:sp>
      <p:sp>
        <p:nvSpPr>
          <p:cNvPr id="50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itimate user probably logged in from outside world and password as "sniffed"</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passwords on this machine are "reusable", hacker could log in under that accoun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shadow passwords were not used on this machine, hacker could try to "Crack" password file to find other accounts. </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 admin hadn't installed vendor security fixes, so hacker could also get roo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 admin ignored weekly mail from Crack which indicated problems with some password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71F64B6-D4E1-4D34-B499-056712303DA0}" type="slidenum">
              <a:t>17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ISP Account Management</a:t>
            </a:r>
            <a:endParaRPr b="1" lang="en-US" sz="6600" spc="-1" strike="noStrike">
              <a:solidFill>
                <a:srgbClr val="ffffff"/>
              </a:solidFill>
              <a:latin typeface="Arial Narrow"/>
            </a:endParaRPr>
          </a:p>
        </p:txBody>
      </p:sp>
      <p:sp>
        <p:nvSpPr>
          <p:cNvPr id="505"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ccount Management</a:t>
            </a:r>
            <a:endParaRPr b="1" lang="en-US" sz="4800" spc="-1" strike="noStrike">
              <a:solidFill>
                <a:srgbClr val="ffffff"/>
              </a:solidFill>
              <a:latin typeface="Arial Narrow"/>
            </a:endParaRPr>
          </a:p>
        </p:txBody>
      </p:sp>
      <p:sp>
        <p:nvSpPr>
          <p:cNvPr id="50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dduser</a:t>
            </a:r>
            <a:r>
              <a:rPr b="0" lang="en-US" sz="2400" spc="-1" strike="noStrike">
                <a:solidFill>
                  <a:srgbClr val="ffffff"/>
                </a:solidFill>
                <a:latin typeface="Arial"/>
              </a:rPr>
              <a:t> Program</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job of a Sys Admin is often to write an </a:t>
            </a:r>
            <a:r>
              <a:rPr b="0" lang="en-US" sz="2000" spc="-1" strike="noStrike">
                <a:solidFill>
                  <a:srgbClr val="ffffff"/>
                </a:solidFill>
                <a:latin typeface="Courier New"/>
              </a:rPr>
              <a:t>adduser</a:t>
            </a:r>
            <a:r>
              <a:rPr b="0" lang="en-US" sz="2000" spc="-1" strike="noStrike">
                <a:solidFill>
                  <a:srgbClr val="ffffff"/>
                </a:solidFill>
                <a:latin typeface="Arial"/>
              </a:rPr>
              <a:t> program to implement user policy:</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can have an account</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he account is configured</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services does the account allow</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at an ISP, user accounts need to include information to track and bill their usag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pancies between what is billed and what is possible in the system configuration means LOST REVENU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think your customers won’t notic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6305401-F2C0-436B-8B19-AD913BD6DA99}" type="slidenum">
              <a:t>17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illing Integration</a:t>
            </a:r>
            <a:endParaRPr b="1" lang="en-US" sz="4800" spc="-1" strike="noStrike">
              <a:solidFill>
                <a:srgbClr val="ffffff"/>
              </a:solidFill>
              <a:latin typeface="Arial Narrow"/>
            </a:endParaRPr>
          </a:p>
        </p:txBody>
      </p:sp>
      <p:sp>
        <p:nvSpPr>
          <p:cNvPr id="50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you thought billing wasn’t your problem</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s are charged for their system usag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require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king usag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ing use to only that which is paid fo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ting usage data into the billing system</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most Accounts Receivable managers know nothing about computers, guess who’s job it is to make this work.</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after it is setup and working, the Sys Admin must consider impact to billing issue for any system chang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2F5B8A7-81A6-4B9E-8E4B-50195EF3290A}" type="slidenum">
              <a:t>17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illing Example</a:t>
            </a:r>
            <a:endParaRPr b="1" lang="en-US" sz="4800" spc="-1" strike="noStrike">
              <a:solidFill>
                <a:srgbClr val="ffffff"/>
              </a:solidFill>
              <a:latin typeface="Arial Narrow"/>
            </a:endParaRPr>
          </a:p>
        </p:txBody>
      </p:sp>
      <p:sp>
        <p:nvSpPr>
          <p:cNvPr id="51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e an ISP that has a terminal server (Livingston Portmaster let’s say) and sells PPP accounts on the portmaster.</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process the portmaster logs to charge customers by the hour for usag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disable the features of the portmaster you don’t want your customers accessing, such as the ability to directly telnet from the portmaster command?</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use dynamic IP addresses, how do you track reported illicit activitie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get the usage data from the portmaster into a system to bill it to your clien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ensure that sessions aren’t billed twice or not at all?</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C2E6E19-73B2-4963-9034-55393ED8FC7F}" type="slidenum">
              <a:t>17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ccounts Receivable Software</a:t>
            </a:r>
            <a:endParaRPr b="1" lang="en-US" sz="4800" spc="-1" strike="noStrike">
              <a:solidFill>
                <a:srgbClr val="ffffff"/>
              </a:solidFill>
              <a:latin typeface="Arial Narrow"/>
            </a:endParaRPr>
          </a:p>
        </p:txBody>
      </p:sp>
      <p:sp>
        <p:nvSpPr>
          <p:cNvPr id="51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need to ask yourself those questions for every service you offer to your customer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many things you can do to make this much easier for each syste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ll need some database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 billing account database - one entry per billable custom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database - one entry per authorized us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database - one entry per type of service available</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integrated databases, then written or at least well-known processes to keep things in sync.</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ll need COMMERCIAL Accounts Receivable softwar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92F6405-60AF-401E-AACA-DE6F63D305F7}" type="slidenum">
              <a:t>177</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ccounts Receivable Software</a:t>
            </a:r>
            <a:endParaRPr b="1" lang="en-US" sz="4800" spc="-1" strike="noStrike">
              <a:solidFill>
                <a:srgbClr val="ffffff"/>
              </a:solidFill>
              <a:latin typeface="Arial Narrow"/>
            </a:endParaRPr>
          </a:p>
        </p:txBody>
      </p:sp>
      <p:sp>
        <p:nvSpPr>
          <p:cNvPr id="5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write your own. It’s a bigger job than you think, and it has already been done real accounting professionals. So it’s a waste of your time.</a:t>
            </a:r>
            <a:endParaRPr b="0" lang="en-US" sz="24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you may have to in extremely complex custom situations.</a:t>
            </a:r>
            <a:endParaRPr b="0" lang="en-US" sz="24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R software with the following capabilities:</a:t>
            </a:r>
            <a:endParaRPr b="0" lang="en-US" sz="24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izable customer records</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 charges from external data files</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rt customer database</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tracking</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ctions reportin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BC427ED-4F4F-47C1-A804-ED4788348829}" type="slidenum">
              <a:t>17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stomer Database</a:t>
            </a:r>
            <a:endParaRPr b="1" lang="en-US" sz="4800" spc="-1" strike="noStrike">
              <a:solidFill>
                <a:srgbClr val="ffffff"/>
              </a:solidFill>
              <a:latin typeface="Arial Narrow"/>
            </a:endParaRPr>
          </a:p>
        </p:txBody>
      </p:sp>
      <p:sp>
        <p:nvSpPr>
          <p:cNvPr id="51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stomer database is usually implemented in the AR softwar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must be linked to the User database - to track which user accounts are billed to which custom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is usually by a customer number added to the user databas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EEE2E1A-FD27-43A4-BFCA-D388DECA89CC}" type="slidenum">
              <a:t>17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re Options</a:t>
            </a:r>
            <a:endParaRPr b="1" lang="en-US" sz="4800" spc="-1" strike="noStrike">
              <a:solidFill>
                <a:srgbClr val="ffffff"/>
              </a:solidFill>
              <a:latin typeface="Arial Narrow"/>
            </a:endParaRPr>
          </a:p>
        </p:txBody>
      </p:sp>
      <p:sp>
        <p:nvSpPr>
          <p:cNvPr id="13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to do if name checking fail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master zone, defaults to fail: log and reject bad data</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lave zones, defaults to warn: log but continuing processing</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responses, defaults to ignore: don't check</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limiting parameters, memory usage, files, stack siz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to listen for queries, IP address and por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forwarders are, IP addres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ology hints re. closeness of serv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one transfer control</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new format that puts multiple answers in one packet, faster, V8 only</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limit max time and size for inbound transfer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7659DB7-F36E-42A4-8D33-13749B72632F}" type="slidenum">
              <a:t>1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stomer Database</a:t>
            </a:r>
            <a:endParaRPr b="1" lang="en-US" sz="4800" spc="-1" strike="noStrike">
              <a:solidFill>
                <a:srgbClr val="ffffff"/>
              </a:solidFill>
              <a:latin typeface="Arial Narrow"/>
            </a:endParaRPr>
          </a:p>
        </p:txBody>
      </p:sp>
      <p:sp>
        <p:nvSpPr>
          <p:cNvPr id="51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Field Example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Nam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ling Addres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ling Period (monthly, quarterly, annually)</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Billing arrangements (discoun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ling method (paper, email, credit card)</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yment method (check, credit card, electronic draf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unt status (active, overdue, suspended, cancelled)</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ation Dat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iration Date if any</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ling history and/or balanc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yment histor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722A555-0C8C-44E6-9517-1CD5E3781132}" type="slidenum">
              <a:t>18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stomer Database</a:t>
            </a:r>
            <a:endParaRPr b="1" lang="en-US" sz="4800" spc="-1" strike="noStrike">
              <a:solidFill>
                <a:srgbClr val="ffffff"/>
              </a:solidFill>
              <a:latin typeface="Arial Narrow"/>
            </a:endParaRPr>
          </a:p>
        </p:txBody>
      </p:sp>
      <p:sp>
        <p:nvSpPr>
          <p:cNvPr id="52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Field Examples (continu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ling rate plan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person for bill payment issue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ice telephone numb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x numb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 addres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person for administrative issues (like security)</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ice telephone numb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x numb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 addres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person for specific technical issues: DNS, News, Postmaster</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CB3C651-DAF5-49DE-82A1-22C989EFD0FA}" type="slidenum">
              <a:t>18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2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atabase will correspond to each separately billable item. For example, a PPP user, a special web page, DNS service, etc.</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r database should be used to directly build the system configuration files such a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asswd</a:t>
            </a:r>
            <a:r>
              <a:rPr b="0" lang="en-US" sz="2000" spc="-1" strike="noStrike">
                <a:solidFill>
                  <a:srgbClr val="ffffff"/>
                </a:solidFill>
                <a:latin typeface="Arial"/>
              </a:rPr>
              <a:t> file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radiusd</a:t>
            </a:r>
            <a:r>
              <a:rPr b="0" lang="en-US" sz="2000" spc="-1" strike="noStrike">
                <a:solidFill>
                  <a:srgbClr val="ffffff"/>
                </a:solidFill>
                <a:latin typeface="Arial"/>
              </a:rPr>
              <a:t> password file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S named.boo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 virtual hos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 aliases file</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ill ensure that your configuration files and billing data are kept in sync.</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579E3E9-3C14-40F5-A00A-AEC971F800E4}" type="slidenum">
              <a:t>18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2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mary key for the User database would be a unique name for each user servic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hould contain any and all definable user-specific service that may ever get bill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ecord must link to Customer database for billing. This would usually be by including a Customer number in each recor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ADE0AC7-CA73-449B-A979-C52D7436EF3D}" type="slidenum">
              <a:t>183</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2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atabase will need to have variable fields depending on the type of “user”. For exampl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POP</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box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 server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 full nam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MAIL ALIA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 alias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 addres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DE92DF9-8733-4EEF-A812-AB9BCF94A41F}" type="slidenum">
              <a:t>18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2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UNIX SHELL</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n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me directo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 full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l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ble server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44E20CA-E568-495F-B1EE-C8A1E2B2FA4D}" type="slidenum">
              <a:t>18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3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PPP</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n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hentication op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PP op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ble terminal serv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 DNS domai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ain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 type (primary or seconda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server IP address or file name of zone data</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E3CBBCE-0DF1-4BC4-A49B-F29F9EEE2916}" type="slidenum">
              <a:t>18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3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VIRTUAL WEB HOS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 web server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server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IP addres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 roo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n email addres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file location</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IP NETWORK NUMBER</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numb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mask</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tewa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3703FEB-9CF4-481E-BE1C-92788D287691}" type="slidenum">
              <a:t>187</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3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IP HOST NUMBER (static)</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 addres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t nam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MAILING LIS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ing list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ing list manag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privat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rated &amp; moderato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fil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recipien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89AB1B6-532C-4E31-BB9E-E252FBC0461E}" type="slidenum">
              <a:t>18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utting it all together</a:t>
            </a:r>
            <a:endParaRPr b="1" lang="en-US" sz="4800" spc="-1" strike="noStrike">
              <a:solidFill>
                <a:srgbClr val="ffffff"/>
              </a:solidFill>
              <a:latin typeface="Arial Narrow"/>
            </a:endParaRPr>
          </a:p>
        </p:txBody>
      </p:sp>
      <p:sp>
        <p:nvSpPr>
          <p:cNvPr id="53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rite </a:t>
            </a:r>
            <a:r>
              <a:rPr b="0" lang="en-US" sz="2400" spc="-1" strike="noStrike">
                <a:solidFill>
                  <a:srgbClr val="ffffff"/>
                </a:solidFill>
                <a:latin typeface="Courier New"/>
              </a:rPr>
              <a:t>adduser</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pt for customer name/numb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existence and statu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pt for user nam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nique/availabl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pt for user type and other informatio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inpu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to User databas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EBDAA0C-34A9-4603-ACD2-F7659F2321B6}" type="slidenum">
              <a:t>18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rver Specification</a:t>
            </a:r>
            <a:endParaRPr b="1" lang="en-US" sz="4800" spc="-1" strike="noStrike">
              <a:solidFill>
                <a:srgbClr val="ffffff"/>
              </a:solidFill>
              <a:latin typeface="Arial Narrow"/>
            </a:endParaRPr>
          </a:p>
        </p:txBody>
      </p:sp>
      <p:sp>
        <p:nvSpPr>
          <p:cNvPr id="13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pecify server IP addr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qualify it with several parameter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gus keyword: marks it as bogus, giving out bad data, prevents further queries to i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er-format keyword: allows you to specify one-answer or many-answer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answer is what all BIND 4.x servers use for zone transfer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answers is new BIND 8.x format that is more efficient</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ers and keys keywords are for future us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643A974-E1E0-4340-A964-852443AE2570}" type="slidenum">
              <a:t>1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ystem Configuration Files</a:t>
            </a:r>
            <a:endParaRPr b="1" lang="en-US" sz="4800" spc="-1" strike="noStrike">
              <a:solidFill>
                <a:srgbClr val="ffffff"/>
              </a:solidFill>
              <a:latin typeface="Arial Narrow"/>
            </a:endParaRPr>
          </a:p>
        </p:txBody>
      </p:sp>
      <p:sp>
        <p:nvSpPr>
          <p:cNvPr id="53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 system configuration files from User database and customer database (don’t enable a user for a customer that is suspended or cancelled).</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is regularly (like every night via </a:t>
            </a:r>
            <a:r>
              <a:rPr b="0" lang="en-US" sz="2400" spc="-1" strike="noStrike">
                <a:solidFill>
                  <a:srgbClr val="ffffff"/>
                </a:solidFill>
                <a:latin typeface="Courier New"/>
              </a:rPr>
              <a:t>cr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pproach ensures one source of data to avoid synchronization problem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ill require custom software. Use PERL.</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custom software for user services - like changing password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olves the problem of limiting use to only that which is billed/pai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DA6ADEA-7D5D-448A-ACA3-82960071E59F}" type="slidenum">
              <a:t>19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rvices Database</a:t>
            </a:r>
            <a:endParaRPr b="1" lang="en-US" sz="4800" spc="-1" strike="noStrike">
              <a:solidFill>
                <a:srgbClr val="ffffff"/>
              </a:solidFill>
              <a:latin typeface="Arial Narrow"/>
            </a:endParaRPr>
          </a:p>
        </p:txBody>
      </p:sp>
      <p:sp>
        <p:nvSpPr>
          <p:cNvPr id="54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ay also be part of the AR software.</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need one entry for each “type” of user accoun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types may have multiple service charges, eg.</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web host hi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web host disk space</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ach service you need:</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 rate (minimum charg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charg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rat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ount scal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special algorithm</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4594477-0EAF-4EB8-99B3-1785070B4EB0}" type="slidenum">
              <a:t>19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ools</a:t>
            </a:r>
            <a:endParaRPr b="1" lang="en-US" sz="4800" spc="-1" strike="noStrike">
              <a:solidFill>
                <a:srgbClr val="ffffff"/>
              </a:solidFill>
              <a:latin typeface="Arial Narrow"/>
            </a:endParaRPr>
          </a:p>
        </p:txBody>
      </p:sp>
      <p:sp>
        <p:nvSpPr>
          <p:cNvPr id="54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thing you write should have a web interfac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good tool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ache + SSLeay + mod_perl + fastcgi</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sq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FA6C3C2-EFA2-4196-AC85-F310F9B4D533}" type="slidenum">
              <a:t>19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age Tracking</a:t>
            </a:r>
            <a:endParaRPr b="1" lang="en-US" sz="4800" spc="-1" strike="noStrike">
              <a:solidFill>
                <a:srgbClr val="ffffff"/>
              </a:solidFill>
              <a:latin typeface="Arial Narrow"/>
            </a:endParaRPr>
          </a:p>
        </p:txBody>
      </p:sp>
      <p:sp>
        <p:nvSpPr>
          <p:cNvPr id="54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or eliminate this issue by billing flat monthly rates not dependent upon usag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services can’t pay for themselves at what the market will bear in flat rat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age tracking depends on service implementatio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require custom software to convert system logs into useful billing entri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rrelate log entries with User databas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DD1B652-A2EB-49E6-8B92-4C41609CC94A}" type="slidenum">
              <a:t>193</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age Tracking</a:t>
            </a:r>
            <a:endParaRPr b="1" lang="en-US" sz="4800" spc="-1" strike="noStrike">
              <a:solidFill>
                <a:srgbClr val="ffffff"/>
              </a:solidFill>
              <a:latin typeface="Arial Narrow"/>
            </a:endParaRPr>
          </a:p>
        </p:txBody>
      </p:sp>
      <p:sp>
        <p:nvSpPr>
          <p:cNvPr id="54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calculations and conversions (time zones, daylight savings time, time representation)</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ng start &amp; stop even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ng start &amp; stop events over file checkpoin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ng special service access points (toll free modems, high speed modem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age data volume and reduction</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age data archival</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discrete usage (like disk spac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sion to billing system forma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location distributi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6291B4F-DEC7-46A4-8431-7EE7DD0EEF71}" type="slidenum">
              <a:t>19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age Tracking</a:t>
            </a:r>
            <a:endParaRPr b="1" lang="en-US" sz="4800" spc="-1" strike="noStrike">
              <a:solidFill>
                <a:srgbClr val="ffffff"/>
              </a:solidFill>
              <a:latin typeface="Arial Narrow"/>
            </a:endParaRPr>
          </a:p>
        </p:txBody>
      </p:sp>
      <p:sp>
        <p:nvSpPr>
          <p:cNvPr id="54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 and reduce your data daily to reduce volum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reduced data on a centralized and reliable disk syste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 together the resources that are charged similarly, e.g. toll free modems all on one terminal serv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sanity checks on the data, e.g. it is impossible for a connection to last more than 86400 seconds in one da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ata is also important for management to view trends in customer us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6A221D2-EA34-444C-9453-0B8C1359B553}" type="slidenum">
              <a:t>19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ummary</a:t>
            </a:r>
            <a:endParaRPr b="1" lang="en-US" sz="4800" spc="-1" strike="noStrike">
              <a:solidFill>
                <a:srgbClr val="ffffff"/>
              </a:solidFill>
              <a:latin typeface="Arial Narrow"/>
            </a:endParaRPr>
          </a:p>
        </p:txBody>
      </p:sp>
      <p:sp>
        <p:nvSpPr>
          <p:cNvPr id="55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to use a commercial AR packag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centralized database of user service setting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entralized database to build system configur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 usage data to one loca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PERL so you can make all this work</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7F99DCD-3E2C-4291-A057-7EF3B0AD7EDD}" type="slidenum">
              <a:t>19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ISP Security</a:t>
            </a:r>
            <a:endParaRPr b="1" lang="en-US" sz="6600" spc="-1" strike="noStrike">
              <a:solidFill>
                <a:srgbClr val="ffffff"/>
              </a:solidFill>
              <a:latin typeface="Arial Narrow"/>
            </a:endParaRPr>
          </a:p>
        </p:txBody>
      </p:sp>
      <p:sp>
        <p:nvSpPr>
          <p:cNvPr id="553"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curity</a:t>
            </a:r>
            <a:endParaRPr b="1" lang="en-US" sz="4800" spc="-1" strike="noStrike">
              <a:solidFill>
                <a:srgbClr val="ffffff"/>
              </a:solidFill>
              <a:latin typeface="Arial Narrow"/>
            </a:endParaRPr>
          </a:p>
        </p:txBody>
      </p:sp>
      <p:sp>
        <p:nvSpPr>
          <p:cNvPr id="55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net is not a friendly pla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to ISP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users are your enemy</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users are your revenue</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ust protect your users’/customers’ data from</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utside world</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other</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ust protect your staff systems &amp; data from</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utside world</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users/customer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other</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 big job</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136ACF5-A3C8-4AB7-9041-018633070608}" type="slidenum">
              <a:t>19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venues of Attack</a:t>
            </a:r>
            <a:endParaRPr b="1" lang="en-US" sz="4800" spc="-1" strike="noStrike">
              <a:solidFill>
                <a:srgbClr val="ffffff"/>
              </a:solidFill>
              <a:latin typeface="Arial Narrow"/>
            </a:endParaRPr>
          </a:p>
        </p:txBody>
      </p:sp>
      <p:sp>
        <p:nvSpPr>
          <p:cNvPr id="55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popular avenues of attack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probes and exploitation</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e by those who don’t have user acces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oits vulnerabilities in socket services to gain acces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use information gained from snooping to gain acces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exploitation</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e by those who have user acces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oits system configuration or software vulnerabilitie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ive snooping</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e by those who have network acces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hers information for future attack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111ADE8-C252-4EB9-BEC9-9197AD37F4DF}" type="slidenum">
              <a:t>19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BIND v8</a:t>
            </a:r>
            <a:endParaRPr b="1" lang="en-US" sz="6600" spc="-1" strike="noStrike">
              <a:solidFill>
                <a:srgbClr val="ffffff"/>
              </a:solidFill>
              <a:latin typeface="Arial Narrow"/>
            </a:endParaRPr>
          </a:p>
        </p:txBody>
      </p:sp>
      <p:sp>
        <p:nvSpPr>
          <p:cNvPr id="104"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1</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uala Lumpur, Malaysi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99"/>
                </a:solidFill>
                <a:uFillTx/>
                <a:latin typeface="Arial"/>
                <a:hlinkClick r:id="rId1"/>
              </a:rPr>
              <a:t>barb@netrack.ne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or: Paul Kooros</a:t>
            </a:r>
            <a:br>
              <a:rPr sz="2000"/>
            </a:br>
            <a:r>
              <a:rPr b="0" lang="en-US" sz="2000" spc="-1" strike="noStrike">
                <a:solidFill>
                  <a:srgbClr val="ffffff"/>
                </a:solidFill>
                <a:latin typeface="Arial"/>
              </a:rPr>
              <a:t>Kooros@kooros.co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Zone Specification</a:t>
            </a:r>
            <a:endParaRPr b="1" lang="en-US" sz="4800" spc="-1" strike="noStrike">
              <a:solidFill>
                <a:srgbClr val="ffffff"/>
              </a:solidFill>
              <a:latin typeface="Arial Narrow"/>
            </a:endParaRPr>
          </a:p>
        </p:txBody>
      </p:sp>
      <p:sp>
        <p:nvSpPr>
          <p:cNvPr id="14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e keyword identifies the domain name of the zone and the type of data (IN or HESIO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s to IN if not specifi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type of server specification</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 formerly primary serv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ave: formerly secondary serv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b: sort of like a forwarding server, only replicates NS records of mast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formerly cache or root hint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ter and hint zones require file specific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ave and stub zones require masters IP address and may include file specificati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9A34667-5454-4BFC-96E4-C99E23EAD348}" type="slidenum">
              <a:t>2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Limit Customer Access</a:t>
            </a:r>
            <a:endParaRPr b="1" lang="en-US" sz="4800" spc="-1" strike="noStrike">
              <a:solidFill>
                <a:srgbClr val="ffffff"/>
              </a:solidFill>
              <a:latin typeface="Arial Narrow"/>
            </a:endParaRPr>
          </a:p>
        </p:txBody>
      </p:sp>
      <p:sp>
        <p:nvSpPr>
          <p:cNvPr id="55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oth protect the customers and to protect against them, limit their acc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provide UNIX shell account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restricted shells (</a:t>
            </a:r>
            <a:r>
              <a:rPr b="0" lang="en-US" sz="2000" spc="-1" strike="noStrike">
                <a:solidFill>
                  <a:srgbClr val="ffffff"/>
                </a:solidFill>
                <a:latin typeface="Courier New"/>
              </a:rPr>
              <a:t>chroot</a:t>
            </a:r>
            <a:r>
              <a:rPr b="0" lang="en-US" sz="2000" spc="-1" strike="noStrike">
                <a:solidFill>
                  <a:srgbClr val="ffffff"/>
                </a:solidFill>
                <a:latin typeface="Arial"/>
              </a:rPr>
              <a:t> or menu drive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OS filesystems read onl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llow executables and </a:t>
            </a:r>
            <a:r>
              <a:rPr b="0" lang="en-US" sz="2000" spc="-1" strike="noStrike">
                <a:solidFill>
                  <a:srgbClr val="ffffff"/>
                </a:solidFill>
                <a:latin typeface="Courier New"/>
              </a:rPr>
              <a:t>setuid</a:t>
            </a:r>
            <a:r>
              <a:rPr b="0" lang="en-US" sz="2000" spc="-1" strike="noStrike">
                <a:solidFill>
                  <a:srgbClr val="ffffff"/>
                </a:solidFill>
                <a:latin typeface="Arial"/>
              </a:rPr>
              <a:t> files (</a:t>
            </a:r>
            <a:r>
              <a:rPr b="0" lang="en-US" sz="2000" spc="-1" strike="noStrike">
                <a:solidFill>
                  <a:srgbClr val="ffffff"/>
                </a:solidFill>
                <a:latin typeface="Courier New"/>
              </a:rPr>
              <a:t>noexec</a:t>
            </a:r>
            <a:r>
              <a:rPr b="0" lang="en-US" sz="2000" spc="-1" strike="noStrike">
                <a:solidFill>
                  <a:srgbClr val="ffffff"/>
                </a:solidFill>
                <a:latin typeface="Arial"/>
              </a:rPr>
              <a:t>, </a:t>
            </a:r>
            <a:r>
              <a:rPr b="0" lang="en-US" sz="2000" spc="-1" strike="noStrike">
                <a:solidFill>
                  <a:srgbClr val="ffffff"/>
                </a:solidFill>
                <a:latin typeface="Courier New"/>
              </a:rPr>
              <a:t>nosuid</a:t>
            </a:r>
            <a:r>
              <a:rPr b="0" lang="en-US" sz="2000" spc="-1" strike="noStrike">
                <a:solidFill>
                  <a:srgbClr val="ffffff"/>
                </a:solidFill>
                <a:latin typeface="Arial"/>
              </a:rPr>
              <a:t>) on all filesystems except the O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ble read access on files that could be used for exploit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hadow password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defaults for file permissions, </a:t>
            </a:r>
            <a:r>
              <a:rPr b="0" lang="en-US" sz="2000" spc="-1" strike="noStrike">
                <a:solidFill>
                  <a:srgbClr val="ffffff"/>
                </a:solidFill>
                <a:latin typeface="Courier New"/>
              </a:rPr>
              <a:t>umask</a:t>
            </a:r>
            <a:r>
              <a:rPr b="0" lang="en-US" sz="2000" spc="-1" strike="noStrike">
                <a:solidFill>
                  <a:srgbClr val="ffffff"/>
                </a:solidFill>
                <a:latin typeface="Arial"/>
              </a:rPr>
              <a:t>, etc.</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82A54E6-B1E4-46D4-A75C-2BEA5A75F622}" type="slidenum">
              <a:t>20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 Key to the City</a:t>
            </a:r>
            <a:endParaRPr b="1" lang="en-US" sz="4800" spc="-1" strike="noStrike">
              <a:solidFill>
                <a:srgbClr val="ffffff"/>
              </a:solidFill>
              <a:latin typeface="Arial Narrow"/>
            </a:endParaRPr>
          </a:p>
        </p:txBody>
      </p:sp>
      <p:sp>
        <p:nvSpPr>
          <p:cNvPr id="5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software programs are available to gain root access from a normal user account - no technical experience requir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ing a normal user account on a UNIX machine to a stranger is practically like giving them the root passwor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provide UNIX shell accounts to any one withou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ed and authentic identific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ing identific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ng contact information (address, phon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act signatur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F5FEC30-112E-4208-BB06-8635082E4162}" type="slidenum">
              <a:t>20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eware of Restricted Accounts</a:t>
            </a:r>
            <a:endParaRPr b="1" lang="en-US" sz="4800" spc="-1" strike="noStrike">
              <a:solidFill>
                <a:srgbClr val="ffffff"/>
              </a:solidFill>
              <a:latin typeface="Arial Narrow"/>
            </a:endParaRPr>
          </a:p>
        </p:txBody>
      </p:sp>
      <p:sp>
        <p:nvSpPr>
          <p:cNvPr id="5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stricted or menu-based access mechanism may not be as foolproof as you might expec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assume it does what it claims to.</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to break i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case scenario:</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user access to systems which provide no special privile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349D06C-ADE4-4657-8AE8-67046CD7BB61}" type="slidenum">
              <a:t>20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on’t lose your own visibility</a:t>
            </a:r>
            <a:endParaRPr b="1" lang="en-US" sz="4800" spc="-1" strike="noStrike">
              <a:solidFill>
                <a:srgbClr val="ffffff"/>
              </a:solidFill>
              <a:latin typeface="Arial Narrow"/>
            </a:endParaRPr>
          </a:p>
        </p:txBody>
      </p:sp>
      <p:sp>
        <p:nvSpPr>
          <p:cNvPr id="5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acker” will usually first replace these files:</a:t>
            </a:r>
            <a:endParaRPr b="0" lang="en-US" sz="2400" spc="-1" strike="noStrike">
              <a:solidFill>
                <a:srgbClr val="ffffff"/>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bin/login</a:t>
            </a:r>
            <a:r>
              <a:rPr b="0" lang="en-US" sz="2000" spc="-1" strike="noStrike">
                <a:solidFill>
                  <a:srgbClr val="ffffff"/>
                </a:solidFill>
                <a:latin typeface="Arial"/>
              </a:rPr>
              <a:t>: to provide a back door or collect passwords</a:t>
            </a:r>
            <a:endParaRPr b="0" lang="en-US" sz="2000" spc="-1" strike="noStrike">
              <a:solidFill>
                <a:srgbClr val="ffffff"/>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bin/ps</a:t>
            </a:r>
            <a:r>
              <a:rPr b="0" lang="en-US" sz="2000" spc="-1" strike="noStrike">
                <a:solidFill>
                  <a:srgbClr val="ffffff"/>
                </a:solidFill>
                <a:latin typeface="Arial"/>
              </a:rPr>
              <a:t>: to hide programs being run</a:t>
            </a:r>
            <a:endParaRPr b="0" lang="en-US" sz="2000" spc="-1" strike="noStrike">
              <a:solidFill>
                <a:srgbClr val="ffffff"/>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bin/ls</a:t>
            </a:r>
            <a:r>
              <a:rPr b="0" lang="en-US" sz="2000" spc="-1" strike="noStrike">
                <a:solidFill>
                  <a:srgbClr val="ffffff"/>
                </a:solidFill>
                <a:latin typeface="Arial"/>
              </a:rPr>
              <a:t>: to hide file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a valid vendor distribution copy of those programs handy ON A HARDWARE READ ONLY DEVICE (like a floppy) for regular bit-by-bit comparisons and monitoring system activit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other detailed monitoring tools handy, like ‘</a:t>
            </a:r>
            <a:r>
              <a:rPr b="0" lang="en-US" sz="2400" spc="-1" strike="noStrike">
                <a:solidFill>
                  <a:srgbClr val="ffffff"/>
                </a:solidFill>
                <a:latin typeface="Courier New"/>
              </a:rPr>
              <a:t>lsof</a:t>
            </a:r>
            <a:r>
              <a:rPr b="0" lang="en-US" sz="2400" spc="-1" strike="noStrike">
                <a:solidFill>
                  <a:srgbClr val="ffffff"/>
                </a:solidFill>
                <a:latin typeface="Arial"/>
              </a:rPr>
              <a:t>’, in a place a hacker may not look. (not under </a:t>
            </a:r>
            <a:r>
              <a:rPr b="0" lang="en-US" sz="2400" spc="-1" strike="noStrike">
                <a:solidFill>
                  <a:srgbClr val="ffffff"/>
                </a:solidFill>
                <a:latin typeface="Courier New"/>
              </a:rPr>
              <a:t>/usr</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EEAAB3B-AD55-4AD6-AF3F-53365A416FEA}" type="slidenum">
              <a:t>203</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irewalls</a:t>
            </a:r>
            <a:endParaRPr b="1" lang="en-US" sz="4800" spc="-1" strike="noStrike">
              <a:solidFill>
                <a:srgbClr val="ffffff"/>
              </a:solidFill>
              <a:latin typeface="Arial Narrow"/>
            </a:endParaRPr>
          </a:p>
        </p:txBody>
      </p:sp>
      <p:sp>
        <p:nvSpPr>
          <p:cNvPr id="56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systems need </a:t>
            </a:r>
            <a:r>
              <a:rPr b="0" i="1" lang="en-US" sz="2400" spc="-1" strike="noStrike">
                <a:solidFill>
                  <a:srgbClr val="ffffff"/>
                </a:solidFill>
                <a:latin typeface="Arial"/>
              </a:rPr>
              <a:t>almost</a:t>
            </a:r>
            <a:r>
              <a:rPr b="0" lang="en-US" sz="2400" spc="-1" strike="noStrike">
                <a:solidFill>
                  <a:srgbClr val="ffffff"/>
                </a:solidFill>
                <a:latin typeface="Arial"/>
              </a:rPr>
              <a:t> full access to the Internet, but not completely.</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up a firewall, as you would for a private company, that disallows typical spoofing accesses from outside while allowing your customers full acces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your staff systems and data on a completely separate internal LAN.</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 a BIG and STRONG firewall between your staff systems and your customer system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outgoing access to limit liability and acceptable use abu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22602CA-4E60-499D-ACCB-44264B0F3CCF}" type="slidenum">
              <a:t>20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irewalls – Suggested Config</a:t>
            </a:r>
            <a:endParaRPr b="1" lang="en-US" sz="4800" spc="-1" strike="noStrike">
              <a:solidFill>
                <a:srgbClr val="ffffff"/>
              </a:solidFill>
              <a:latin typeface="Arial Narrow"/>
            </a:endParaRPr>
          </a:p>
        </p:txBody>
      </p:sp>
      <p:sp>
        <p:nvSpPr>
          <p:cNvPr id="56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source routin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distribution of  packets to broadcast addr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ing Filter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y source addresses inside your network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y source addresses of </a:t>
            </a:r>
            <a:r>
              <a:rPr b="0" lang="en-US" sz="2000" spc="-1" strike="noStrike">
                <a:solidFill>
                  <a:srgbClr val="ffffff"/>
                </a:solidFill>
                <a:latin typeface="Courier New"/>
              </a:rPr>
              <a:t>localhost</a:t>
            </a:r>
            <a:r>
              <a:rPr b="0" lang="en-US" sz="2000" spc="-1" strike="noStrike">
                <a:solidFill>
                  <a:srgbClr val="ffffff"/>
                </a:solidFill>
                <a:latin typeface="Arial"/>
              </a:rPr>
              <a:t> (127)</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y source addresses of RFC1597</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established session packe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specific services to specific hosts onl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be let ping through</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y ALL  els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13C001E-0F09-4DF8-94E4-3FD44F746FCA}" type="slidenum">
              <a:t>20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irewalls (cont.)</a:t>
            </a:r>
            <a:endParaRPr b="1" lang="en-US" sz="4800" spc="-1" strike="noStrike">
              <a:solidFill>
                <a:srgbClr val="ffffff"/>
              </a:solidFill>
              <a:latin typeface="Arial Narrow"/>
            </a:endParaRPr>
          </a:p>
        </p:txBody>
      </p:sp>
      <p:sp>
        <p:nvSpPr>
          <p:cNvPr id="57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ng outgoing filters in addition to incoming filters on the same interface dramatically reduces performanc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outgoing filters on interior ports and incoming filters on exterior port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going Filters</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access to specific services such as web, FTP, gopher, DNS</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y ALL els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ce SMTP is not in the allow list</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you disallow limits what your customers can do and thus prevents participation in certain sorts of security attack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rotects your liability and reduces the likelihood of being involved in complaints or legal acti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9BBC287-F86A-497F-8F82-CB860C7B6BAF}" type="slidenum">
              <a:t>20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stomer vs. Staff Systems</a:t>
            </a:r>
            <a:endParaRPr b="1" lang="en-US" sz="4800" spc="-1" strike="noStrike">
              <a:solidFill>
                <a:srgbClr val="ffffff"/>
              </a:solidFill>
              <a:latin typeface="Arial Narrow"/>
            </a:endParaRPr>
          </a:p>
        </p:txBody>
      </p:sp>
      <p:sp>
        <p:nvSpPr>
          <p:cNvPr id="57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 may be able to snoop your LAN that hosts customer access services: terminal servers, routers, customer shell systems, web servers, etc.</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they can and do.</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your customers are doing so to access your staff systems - the ones with the account and billing databases, master configuration files, etc.</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rypt all data between staff and customer LA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should use </a:t>
            </a:r>
            <a:r>
              <a:rPr b="0" lang="en-US" sz="2400" spc="-1" strike="noStrike">
                <a:solidFill>
                  <a:srgbClr val="ffffff"/>
                </a:solidFill>
                <a:latin typeface="Courier New"/>
              </a:rPr>
              <a:t>ssh</a:t>
            </a:r>
            <a:r>
              <a:rPr b="0" lang="en-US" sz="2400" spc="-1" strike="noStrike">
                <a:solidFill>
                  <a:srgbClr val="ffffff"/>
                </a:solidFill>
                <a:latin typeface="Arial"/>
              </a:rPr>
              <a:t> or something simila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YOUR ACCOUNT DATABA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45DF356-D779-4C17-B432-A336EED0A2CA}" type="slidenum">
              <a:t>207</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on’t forget “insider” attacks</a:t>
            </a:r>
            <a:endParaRPr b="1" lang="en-US" sz="4800" spc="-1" strike="noStrike">
              <a:solidFill>
                <a:srgbClr val="ffffff"/>
              </a:solidFill>
              <a:latin typeface="Arial Narrow"/>
            </a:endParaRPr>
          </a:p>
        </p:txBody>
      </p:sp>
      <p:sp>
        <p:nvSpPr>
          <p:cNvPr id="57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security breaches are accomplished from the “insid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means by your own employe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they have to gain?</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oriety with friends &amp; pe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access for friends &amp; relativ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customer data &amp; system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Ps are more vulnerable to this problem than most companies because of the concentration of customer data and fast growing demand for skilled employe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3F1B98C-D7F5-45B2-9BA8-999472BAAE7C}" type="slidenum">
              <a:t>20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event “insider” attacks</a:t>
            </a:r>
            <a:endParaRPr b="1" lang="en-US" sz="4800" spc="-1" strike="noStrike">
              <a:solidFill>
                <a:srgbClr val="ffffff"/>
              </a:solidFill>
              <a:latin typeface="Arial Narrow"/>
            </a:endParaRPr>
          </a:p>
        </p:txBody>
      </p:sp>
      <p:sp>
        <p:nvSpPr>
          <p:cNvPr id="57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een prospective employees carefull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strong and enforced policy of no tolerance for overstepping authority and privileg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ways to limit privileged access such as </a:t>
            </a:r>
            <a:r>
              <a:rPr b="0" lang="en-US" sz="2400" spc="-1" strike="noStrike">
                <a:solidFill>
                  <a:srgbClr val="ffffff"/>
                </a:solidFill>
                <a:latin typeface="Courier New"/>
              </a:rPr>
              <a:t>sudo</a:t>
            </a:r>
            <a:r>
              <a:rPr b="0" lang="en-US" sz="2400" spc="-1" strike="noStrike">
                <a:solidFill>
                  <a:srgbClr val="ffffff"/>
                </a:solidFill>
                <a:latin typeface="Arial"/>
              </a:rPr>
              <a:t> and customized interfaces to configuration fil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incentives by providing free services to immediate family of staff with limit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e staff regarding appropriate use of privileged access to customer data.</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alert to staff needs - don’t foster retribu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B199ED5-9568-4699-87F6-AABCE2D5E84A}" type="slidenum">
              <a:t>20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ptions for Zones</a:t>
            </a:r>
            <a:endParaRPr b="1" lang="en-US" sz="4800" spc="-1" strike="noStrike">
              <a:solidFill>
                <a:srgbClr val="ffffff"/>
              </a:solidFill>
              <a:latin typeface="Arial Narrow"/>
            </a:endParaRPr>
          </a:p>
        </p:txBody>
      </p:sp>
      <p:sp>
        <p:nvSpPr>
          <p:cNvPr id="14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ypes of zone have lots of options that can be specified on a per zone basi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names option to determine what to do with hostnames that break the rul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updates, allow-query, allow-transfer options to control who can access data from the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option to allow the master to drive the updates of the slav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99387D2-F443-47F6-8339-CD737CB86AAE}" type="slidenum">
              <a:t>2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 firewall isn’t enough</a:t>
            </a:r>
            <a:endParaRPr b="1" lang="en-US" sz="4800" spc="-1" strike="noStrike">
              <a:solidFill>
                <a:srgbClr val="ffffff"/>
              </a:solidFill>
              <a:latin typeface="Arial Narrow"/>
            </a:endParaRPr>
          </a:p>
        </p:txBody>
      </p:sp>
      <p:sp>
        <p:nvSpPr>
          <p:cNvPr id="57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irewall doesn’t stop social engineering attack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vulnerabilities are discovered regularl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ystem on your networks requires a complete security analysi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 off all unused service por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ure all used services are secur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use NIS or NF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map or something else secure for mai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 systems patched for security vulnerabiliti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USE LINUX or any other free O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BEA8B17-215F-45CA-864B-B0D7709D1956}" type="slidenum">
              <a:t>21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curity Resources</a:t>
            </a:r>
            <a:endParaRPr b="1" lang="en-US" sz="4800" spc="-1" strike="noStrike">
              <a:solidFill>
                <a:srgbClr val="ffffff"/>
              </a:solidFill>
              <a:latin typeface="Arial Narrow"/>
            </a:endParaRPr>
          </a:p>
        </p:txBody>
      </p:sp>
      <p:sp>
        <p:nvSpPr>
          <p:cNvPr id="58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S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ttp://www.cs.purdue.edu/coast/archiv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ttp://www.cert.or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U</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tp://www.tamu.edu/pub/securit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WTK</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irewall Toolkit, http://www.tis.co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net Security Scann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G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hecks host vulnerabilities like COP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wir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etects file chang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A876103-5AD3-490F-802F-3BF6FF1CE863}" type="slidenum">
              <a:t>21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curity Mailing Lists</a:t>
            </a:r>
            <a:endParaRPr b="1" lang="en-US" sz="4800" spc="-1" strike="noStrike">
              <a:solidFill>
                <a:srgbClr val="ffffff"/>
              </a:solidFill>
              <a:latin typeface="Arial Narrow"/>
            </a:endParaRPr>
          </a:p>
        </p:txBody>
      </p:sp>
      <p:sp>
        <p:nvSpPr>
          <p:cNvPr id="58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a:t>
            </a:r>
            <a:endParaRPr b="0" lang="en-US" sz="24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disclosure</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ouncements only - no discussion</a:t>
            </a:r>
            <a:endParaRPr b="0" lang="en-US" sz="2000" spc="-1" strike="noStrike">
              <a:solidFill>
                <a:srgbClr val="ffffff"/>
              </a:solidFill>
              <a:latin typeface="Arial"/>
            </a:endParaRPr>
          </a:p>
          <a:p>
            <a:pPr lvl="1" marL="735480" indent="-28296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ert-advisory-request@cert.org</a:t>
            </a:r>
            <a:endParaRPr b="0" lang="en-US" sz="20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gtraq</a:t>
            </a:r>
            <a:endParaRPr b="0" lang="en-US" sz="24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disclosure</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ion and dissection of bugs</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gets CERT announcements</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a:t>
            </a:r>
            <a:r>
              <a:rPr b="0" lang="en-US" sz="2000" spc="-1" strike="noStrike">
                <a:solidFill>
                  <a:srgbClr val="ffffff"/>
                </a:solidFill>
                <a:latin typeface="Courier New"/>
              </a:rPr>
              <a:t>subscribe bugtraq” </a:t>
            </a:r>
            <a:r>
              <a:rPr b="0" lang="en-US" sz="2000" spc="-1" strike="noStrike">
                <a:solidFill>
                  <a:srgbClr val="ffffff"/>
                </a:solidFill>
                <a:latin typeface="Arial"/>
              </a:rPr>
              <a:t>to</a:t>
            </a:r>
            <a:r>
              <a:rPr b="0" lang="en-US" sz="2000" spc="-1" strike="noStrike">
                <a:solidFill>
                  <a:srgbClr val="ffffff"/>
                </a:solidFill>
                <a:latin typeface="Courier New"/>
              </a:rPr>
              <a:t> listserv@netspace.org</a:t>
            </a:r>
            <a:endParaRPr b="0" lang="en-US" sz="20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 Security</a:t>
            </a:r>
            <a:endParaRPr b="0" lang="en-US" sz="24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a:t>
            </a:r>
            <a:r>
              <a:rPr b="0" lang="en-US" sz="2000" spc="-1" strike="noStrike">
                <a:solidFill>
                  <a:srgbClr val="ffffff"/>
                </a:solidFill>
                <a:latin typeface="Courier New"/>
              </a:rPr>
              <a:t>subscribe ntsecurity</a:t>
            </a:r>
            <a:r>
              <a:rPr b="0" lang="en-US" sz="2000" spc="-1" strike="noStrike">
                <a:solidFill>
                  <a:srgbClr val="ffffff"/>
                </a:solidFill>
                <a:latin typeface="Arial"/>
              </a:rPr>
              <a:t>" to </a:t>
            </a:r>
            <a:r>
              <a:rPr b="0" lang="en-US" sz="2000" spc="-1" strike="noStrike">
                <a:solidFill>
                  <a:srgbClr val="ffffff"/>
                </a:solidFill>
                <a:latin typeface="Courier New"/>
              </a:rPr>
              <a:t>majordomo@iss.ne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1D39B88-5611-4E98-AC50-C6E6A12A71A3}" type="slidenum">
              <a:t>21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re Flexible Logging</a:t>
            </a:r>
            <a:endParaRPr b="1" lang="en-US" sz="4800" spc="-1" strike="noStrike">
              <a:solidFill>
                <a:srgbClr val="ffffff"/>
              </a:solidFill>
              <a:latin typeface="Arial Narrow"/>
            </a:endParaRPr>
          </a:p>
        </p:txBody>
      </p:sp>
      <p:sp>
        <p:nvSpPr>
          <p:cNvPr id="14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syslog flexibility includ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ies to identify program typ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ity levels to say how important messages ar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ons to say what to do with the message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logging specification allow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nels which name combinations of logging actions and severiti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egories which identify types of messages to be logg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many category/channel pairs as you like to fine tune logging</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ne are defined, sensible defaults are use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1C37A83-47CB-4BA2-A5E5-87F71F880ED2}" type="slidenum">
              <a:t>2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Logging Channels</a:t>
            </a:r>
            <a:endParaRPr b="1" lang="en-US" sz="4800" spc="-1" strike="noStrike">
              <a:solidFill>
                <a:srgbClr val="ffffff"/>
              </a:solidFill>
              <a:latin typeface="Arial Narrow"/>
            </a:endParaRPr>
          </a:p>
        </p:txBody>
      </p:sp>
      <p:sp>
        <p:nvSpPr>
          <p:cNvPr id="14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channel definition must specify where messages go</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keyword</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s path name of fil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limit the size of the fil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pecify number of versions (file.1, file.2, file.3, ...)</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log keyword: specifies the syslog facility cod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ll keyword: to /dev/null, messages are discarded</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3A7AF16-2944-49D9-A48C-B55516B0E7B2}" type="slidenum">
              <a:t>2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hannels, cont.</a:t>
            </a:r>
            <a:endParaRPr b="1" lang="en-US" sz="4800" spc="-1" strike="noStrike">
              <a:solidFill>
                <a:srgbClr val="ffffff"/>
              </a:solidFill>
              <a:latin typeface="Arial Narrow"/>
            </a:endParaRPr>
          </a:p>
        </p:txBody>
      </p:sp>
      <p:sp>
        <p:nvSpPr>
          <p:cNvPr id="14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channel can limit the severity of messages it se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level is info, to change use the severity clause</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syslogs severity</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pply to files also</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influence the format of the messages logged with boolean print modifier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time keyword includes date and time message was logg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category keyword includes the category of the messag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severity keyword includes the serverity cod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0E06D01-8DEF-4213-9EB5-4AC9FB6C6FA3}" type="slidenum">
              <a:t>2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e-Defined Channels</a:t>
            </a:r>
            <a:endParaRPr b="1" lang="en-US" sz="4800" spc="-1" strike="noStrike">
              <a:solidFill>
                <a:srgbClr val="ffffff"/>
              </a:solidFill>
              <a:latin typeface="Arial Narrow"/>
            </a:endParaRPr>
          </a:p>
        </p:txBody>
      </p:sp>
      <p:sp>
        <p:nvSpPr>
          <p:cNvPr id="150"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9000"/>
          </a:bodyPr>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hannel default_syslog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yslog daemon;</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everity info;</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using syslog, daemon.info</a:t>
            </a:r>
            <a:endParaRPr b="0" lang="en-US" sz="20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hannel default_debug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file "named.run";</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everity dynamic;</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for debugging, uses SIGUSR1 and SIGUSR2 to adjust debugging level</a:t>
            </a:r>
            <a:endParaRPr b="0" lang="en-US" sz="20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hannel default_stderr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everity info;</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to stderr</a:t>
            </a:r>
            <a:endParaRPr b="0" lang="en-US" sz="20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hannel null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null;</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to bit bucke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22C8918-548B-4F87-92A7-E50199877BFC}" type="slidenum">
              <a:t>2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Logging Categories</a:t>
            </a:r>
            <a:endParaRPr b="1" lang="en-US" sz="4800" spc="-1" strike="noStrike">
              <a:solidFill>
                <a:srgbClr val="ffffff"/>
              </a:solidFill>
              <a:latin typeface="Arial Narrow"/>
            </a:endParaRPr>
          </a:p>
        </p:txBody>
      </p:sp>
      <p:sp>
        <p:nvSpPr>
          <p:cNvPr id="15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s are divided into types called categori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ies of messages are associated with any number of channels to accomplish the actual loggin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y names must be from this fixed lis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catch-all for things that aren't classified ye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 high level config file process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ser: low level config file process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ries: for every query the server receiv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e-servers: lame delegation messag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stics: for sta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6C704D0-DE3C-4F2D-959D-36D0148AEC07}" type="slidenum">
              <a:t>2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tegory Names, cont.</a:t>
            </a:r>
            <a:endParaRPr b="1" lang="en-US" sz="4800" spc="-1" strike="noStrike">
              <a:solidFill>
                <a:srgbClr val="ffffff"/>
              </a:solidFill>
              <a:latin typeface="Arial Narrow"/>
            </a:endParaRPr>
          </a:p>
        </p:txBody>
      </p:sp>
      <p:sp>
        <p:nvSpPr>
          <p:cNvPr id="15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nic: for internal server erro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for dynamic updat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cache: negative caching (cache failures so you don't continually retry down machin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fer-in: zone transfers server is receiv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fer-out: zone transfers server is send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 all database opera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lib: debugging info from the event syste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et: dumps packets received and sen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the notify protocol</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60FD74D-090A-4069-9CCC-BB6E22143A5E}" type="slidenum">
              <a:t>2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tegory Names, cont.</a:t>
            </a:r>
            <a:endParaRPr b="1" lang="en-US" sz="4800" spc="-1" strike="noStrike">
              <a:solidFill>
                <a:srgbClr val="ffffff"/>
              </a:solidFill>
              <a:latin typeface="Arial Narrow"/>
            </a:endParaRPr>
          </a:p>
        </p:txBody>
      </p:sp>
      <p:sp>
        <p:nvSpPr>
          <p:cNvPr id="15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name: messages about pointing to a C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pproved and unapproved requests re. acl lis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operating system problem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st: internal consistency check failur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 periodic maintenance even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 zone loading messag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e-checks: messages like malformed response, invalid RR type, etc.</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16DC3AB-B872-405A-9E90-DA3C716EBDD7}" type="slidenum">
              <a:t>2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e-Defined Category Defaults</a:t>
            </a:r>
            <a:endParaRPr b="1" lang="en-US" sz="4800" spc="-1" strike="noStrike">
              <a:solidFill>
                <a:srgbClr val="ffffff"/>
              </a:solidFill>
              <a:latin typeface="Arial Narrow"/>
            </a:endParaRPr>
          </a:p>
        </p:txBody>
      </p:sp>
      <p:sp>
        <p:nvSpPr>
          <p:cNvPr id="15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categories have pre-defined default values</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overwritten if you define them</a:t>
            </a:r>
            <a:endParaRPr b="0" lang="en-US" sz="18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ategory panic {</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efault_syslog;</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efault_stderr;</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egory panic</a:t>
            </a:r>
            <a:endParaRPr b="0" lang="en-US" sz="20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ategory eventlib {</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efault_debug;</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egory eventlib</a:t>
            </a:r>
            <a:endParaRPr b="0" lang="en-US" sz="20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ategory packet {</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efault_debug;</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egory packe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D297314-E461-4D58-B0A8-62C1590EB0EC}" type="slidenum">
              <a:t>2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New BIND, Version 8.x</a:t>
            </a:r>
            <a:endParaRPr b="1" lang="en-US" sz="4800" spc="-1" strike="noStrike">
              <a:solidFill>
                <a:srgbClr val="ffffff"/>
              </a:solidFill>
              <a:latin typeface="Arial Narrow"/>
            </a:endParaRPr>
          </a:p>
        </p:txBody>
      </p:sp>
      <p:sp>
        <p:nvSpPr>
          <p:cNvPr id="10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ew featur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new RRs (resource record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securit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by ISC, the Internet Software Consortium</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http://www.isc.org</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developer/maintainer: Paul Vixie, Vixie Enterpri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60AA682-E7C9-492C-B52B-80515536FAC1}" type="slidenum">
              <a:t>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BIND 8.x Distribution</a:t>
            </a:r>
            <a:endParaRPr b="1" lang="en-US" sz="4800" spc="-1" strike="noStrike">
              <a:solidFill>
                <a:srgbClr val="ffffff"/>
              </a:solidFill>
              <a:latin typeface="Arial Narrow"/>
            </a:endParaRPr>
          </a:p>
        </p:txBody>
      </p:sp>
      <p:sp>
        <p:nvSpPr>
          <p:cNvPr id="16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ailable from the Internet Software Consortium for anonymous ftp</a:t>
            </a:r>
            <a:endParaRPr b="0" lang="en-US" sz="2000" spc="-1" strike="noStrike">
              <a:solidFill>
                <a:srgbClr val="ffffff"/>
              </a:solidFill>
              <a:latin typeface="Arial"/>
            </a:endParaRPr>
          </a:p>
          <a:p>
            <a:pPr lvl="1" marL="743040" indent="-285840">
              <a:lnSpc>
                <a:spcPct val="10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tp://ftp.isc.org/isc/bind/cur</a:t>
            </a:r>
            <a:r>
              <a:rPr b="0" lang="en-US" sz="1800" spc="-1" strike="noStrike">
                <a:solidFill>
                  <a:srgbClr val="ffffff"/>
                </a:solidFill>
                <a:latin typeface="Arial"/>
              </a:rPr>
              <a:t> -  current production version</a:t>
            </a:r>
            <a:endParaRPr b="0" lang="en-US" sz="1800" spc="-1" strike="noStrike">
              <a:solidFill>
                <a:srgbClr val="ffffff"/>
              </a:solidFill>
              <a:latin typeface="Arial"/>
            </a:endParaRPr>
          </a:p>
          <a:p>
            <a:pPr lvl="1" marL="743040" indent="-285840">
              <a:lnSpc>
                <a:spcPct val="10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tp://ftp.isc.org/isc/bind/src/testing</a:t>
            </a:r>
            <a:r>
              <a:rPr b="0" lang="en-US" sz="1800" spc="-1" strike="noStrike">
                <a:solidFill>
                  <a:srgbClr val="ffffff"/>
                </a:solidFill>
                <a:latin typeface="Arial"/>
              </a:rPr>
              <a:t> -  latest test release</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s src, doc, contrib tar.gz files with signatures which unpack into</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rc: source code for named, named-xfer, resolver libraries and a few stand alone tools like nslookup and dig</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 documentation for both BIND 4.x and BIND 8.x</a:t>
            </a:r>
            <a:endParaRPr b="0" lang="en-US" sz="18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iginal BOG (Name Server Operation Guide for BIND 4.9)</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ML descriptions of new stuff</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 pages</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evant RFCs</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ing notes</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Q</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BA255A2-FE0B-4F8C-A617-ACA705778066}" type="slidenum">
              <a:t>3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IND 8 Distribution, cont.</a:t>
            </a:r>
            <a:endParaRPr b="1" lang="en-US" sz="4800" spc="-1" strike="noStrike">
              <a:solidFill>
                <a:srgbClr val="ffffff"/>
              </a:solidFill>
              <a:latin typeface="Arial Narrow"/>
            </a:endParaRPr>
          </a:p>
        </p:txBody>
      </p:sp>
      <p:sp>
        <p:nvSpPr>
          <p:cNvPr id="16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ib: contains goodies contributed by other folk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focused on Bind 4.9</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to ease maintenanc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to find configuration error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tty documentation sometime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architecture specific (NextStep, OS2)</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ibutions welcom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386900B-4C3B-4FF7-B624-D4A67CE19B1E}" type="slidenum">
              <a:t>3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nstalling BIND 8</a:t>
            </a:r>
            <a:endParaRPr b="1" lang="en-US" sz="4800" spc="-1" strike="noStrike">
              <a:solidFill>
                <a:srgbClr val="ffffff"/>
              </a:solidFill>
              <a:latin typeface="Arial Narrow"/>
            </a:endParaRPr>
          </a:p>
        </p:txBody>
      </p:sp>
      <p:sp>
        <p:nvSpPr>
          <p:cNvPr id="16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about 20mb of disk space, an ANSI C compiler (gcc is fine), and Perl</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distribution and unpack i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if your architecture is on the supported list (src/INSTALL document)</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follow the instructions in INSTALL, basically</a:t>
            </a:r>
            <a:endParaRPr b="0" lang="en-US" sz="20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clean</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depend</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rt your current boot file with named-bootconf.pl; tune it</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install</a:t>
            </a:r>
            <a:endParaRPr b="0" lang="en-US" sz="18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change to the src/port directory and read 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961A2D2-2CDB-40D6-933E-580583EDDF08}" type="slidenum">
              <a:t>3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nverting named.boot</a:t>
            </a:r>
            <a:endParaRPr b="1" lang="en-US" sz="4800" spc="-1" strike="noStrike">
              <a:solidFill>
                <a:srgbClr val="ffffff"/>
              </a:solidFill>
              <a:latin typeface="Arial Narrow"/>
            </a:endParaRPr>
          </a:p>
        </p:txBody>
      </p:sp>
      <p:sp>
        <p:nvSpPr>
          <p:cNvPr id="16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d-bootconf.pl PERL script to convert named.boot to named.conf</a:t>
            </a:r>
            <a:endParaRPr b="0" lang="en-US" sz="24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named-bootconf.pl &lt; named.boot &gt; named.conf</a:t>
            </a:r>
            <a:endParaRPr b="0" lang="en-US" sz="16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s like a filt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ms to do the right thing</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rves comments, uses C++ styl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n't use any of the new featur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ely a good star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BA93676-D8F0-4823-B72A-E28C3DD32F18}" type="slidenum">
              <a:t>3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IND References</a:t>
            </a:r>
            <a:endParaRPr b="1" lang="en-US" sz="4800" spc="-1" strike="noStrike">
              <a:solidFill>
                <a:srgbClr val="ffffff"/>
              </a:solidFill>
              <a:latin typeface="Arial Narrow"/>
            </a:endParaRPr>
          </a:p>
        </p:txBody>
      </p:sp>
      <p:sp>
        <p:nvSpPr>
          <p:cNvPr id="16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sgroups</a:t>
            </a:r>
            <a:endParaRPr b="0" lang="en-US" sz="20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protocols.dns.bind</a:t>
            </a:r>
            <a:endParaRPr b="0" lang="en-US" sz="18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protocols.dns.ops</a:t>
            </a:r>
            <a:endParaRPr b="0" lang="en-US" sz="18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protocols.dns.std</a:t>
            </a:r>
            <a:endParaRPr b="0" lang="en-US" sz="1800" spc="-1" strike="noStrike">
              <a:solidFill>
                <a:srgbClr val="ffffff"/>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ing lists</a:t>
            </a:r>
            <a:endParaRPr b="0" lang="en-US" sz="20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d-users</a:t>
            </a:r>
            <a:endParaRPr b="0" lang="en-US" sz="18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nd-users-request@vix.com</a:t>
            </a:r>
            <a:endParaRPr b="0" lang="en-US" sz="16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ed to dns.bind newsgroup</a:t>
            </a:r>
            <a:endParaRPr b="0" lang="en-US" sz="16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droppers</a:t>
            </a:r>
            <a:endParaRPr b="0" lang="en-US" sz="18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roppers-request@internic.net</a:t>
            </a:r>
            <a:endParaRPr b="0" lang="en-US" sz="16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ed to dns.std newsgroup</a:t>
            </a:r>
            <a:endParaRPr b="0" lang="en-US" sz="16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d-workers</a:t>
            </a:r>
            <a:endParaRPr b="0" lang="en-US" sz="18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nd-workers-request@vix.com</a:t>
            </a:r>
            <a:endParaRPr b="0" lang="en-US" sz="16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xie requests "code warriors" only</a:t>
            </a:r>
            <a:endParaRPr b="0" lang="en-US" sz="1600" spc="-1" strike="noStrike">
              <a:solidFill>
                <a:srgbClr val="ffffff"/>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also the RFC repositori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65504F1-BD47-4FBC-B0AA-430D0E8685D0}" type="slidenum">
              <a:t>3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IND 9</a:t>
            </a:r>
            <a:endParaRPr b="1" lang="en-US" sz="4800" spc="-1" strike="noStrike">
              <a:solidFill>
                <a:srgbClr val="ffffff"/>
              </a:solidFill>
              <a:latin typeface="Arial Narrow"/>
            </a:endParaRPr>
          </a:p>
        </p:txBody>
      </p:sp>
      <p:sp>
        <p:nvSpPr>
          <p:cNvPr id="17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mplete architecture redesign</a:t>
            </a:r>
            <a:endParaRPr b="0" lang="en-US" sz="20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omain name system growth, particularly in very large zones such as .COM </a:t>
            </a:r>
            <a:endParaRPr b="0" lang="en-US" sz="18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tocol enhancements necessary to securely query and update zones </a:t>
            </a:r>
            <a:endParaRPr b="0" lang="en-US" sz="18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tocol enhancements necessary to take advantage of certain architectural features of IP version 6 </a:t>
            </a:r>
            <a:endParaRPr b="0" lang="en-US" sz="1800" spc="-1" strike="noStrike">
              <a:solidFill>
                <a:srgbClr val="ffffff"/>
              </a:solidFill>
              <a:latin typeface="Arial"/>
            </a:endParaRPr>
          </a:p>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ND9 Features</a:t>
            </a:r>
            <a:endParaRPr b="0" lang="en-US" sz="20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calability </a:t>
            </a:r>
            <a:endParaRPr b="0" lang="en-US" sz="18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read safe </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ulti-processor scalability </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upport for very large zones </a:t>
            </a:r>
            <a:endParaRPr b="0" lang="en-US" sz="16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curity </a:t>
            </a:r>
            <a:endParaRPr b="0" lang="en-US" sz="18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upport for DNSSEC </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upport for TSIG </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uditability (code and operation) </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rewall support (split DNS) </a:t>
            </a:r>
            <a:endParaRPr b="0" lang="en-US" sz="1600" spc="-1" strike="noStrike">
              <a:solidFill>
                <a:srgbClr val="ffffff"/>
              </a:solidFill>
              <a:latin typeface="Aria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158414E-8593-413E-857E-71D95FD70842}" type="slidenum">
              <a:t>3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re BIND 9 Features</a:t>
            </a:r>
            <a:endParaRPr b="1" lang="en-US" sz="4800" spc="-1" strike="noStrike">
              <a:solidFill>
                <a:srgbClr val="ffffff"/>
              </a:solidFill>
              <a:latin typeface="Arial Narrow"/>
            </a:endParaRPr>
          </a:p>
        </p:txBody>
      </p:sp>
      <p:sp>
        <p:nvSpPr>
          <p:cNvPr id="17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ortabilit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aintainability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otocol enhancements </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XFR, DDNS, Notify, EDNS(0,1) </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mproved standards conformance </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perational enhancements </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 availability and reliability </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upport for alternative back end database </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P version 6 support </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Pv6 resource records (A6, DNAME, etc.) </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tstring labels </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PIs </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41AF59E-6EB2-41A5-901E-631B8A95505B}" type="slidenum">
              <a:t>3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Squid Web Cache</a:t>
            </a:r>
            <a:endParaRPr b="1" lang="en-US" sz="6600" spc="-1" strike="noStrike">
              <a:solidFill>
                <a:srgbClr val="ffffff"/>
              </a:solidFill>
              <a:latin typeface="Arial Narrow"/>
            </a:endParaRPr>
          </a:p>
        </p:txBody>
      </p:sp>
      <p:sp>
        <p:nvSpPr>
          <p:cNvPr id="174"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ching</a:t>
            </a:r>
            <a:endParaRPr b="1" lang="en-US" sz="4800" spc="-1" strike="noStrike">
              <a:solidFill>
                <a:srgbClr val="ffffff"/>
              </a:solidFill>
              <a:latin typeface="Arial Narrow"/>
            </a:endParaRPr>
          </a:p>
        </p:txBody>
      </p:sp>
      <p:sp>
        <p:nvSpPr>
          <p:cNvPr id="17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ing saves objects (web pages) closer to the next requestor than the original</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s more disk space and cpu cycles on caching machin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s less network bandwidth and gives user the page with less delay</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web traffic saved</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 40% at typical site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 - 70% at very focused sites</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nential Growth</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net and the information on it is growing exponentially</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way to deal with exponential growth is by replication</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ing is a dynamic form of replicati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63E08BE-842F-4FF7-9840-9CD7BE8D1C9F}" type="slidenum">
              <a:t>3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quid Web Caching Software</a:t>
            </a:r>
            <a:endParaRPr b="1" lang="en-US" sz="4800" spc="-1" strike="noStrike">
              <a:solidFill>
                <a:srgbClr val="ffffff"/>
              </a:solidFill>
              <a:latin typeface="Arial Narrow"/>
            </a:endParaRPr>
          </a:p>
        </p:txBody>
      </p:sp>
      <p:sp>
        <p:nvSpPr>
          <p:cNvPr id="17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 is derived from the Harvest project</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PA funded research project at the University of Colorado</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s led by Prof. Mike Schwartz (now at a startup after a stint at @Home)</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supported by NLANR, the National Laboratory for Applied Network Research</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developer/maintainer: Duane Wessels, NLAN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t>
            </a:r>
            <a:r>
              <a:rPr b="1" lang="en-US" sz="1800" spc="-1" strike="noStrike">
                <a:solidFill>
                  <a:srgbClr val="ffffff"/>
                </a:solidFill>
                <a:latin typeface="Courier New"/>
              </a:rPr>
              <a:t>http://www.nlanr.net/Squid</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ly available, ftp it from squid.nlanr.ne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4F6B4E9-DD07-4338-974B-55BEAD3823CE}" type="slidenum">
              <a:t>3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ew Features</a:t>
            </a:r>
            <a:endParaRPr b="1" lang="en-US" sz="4800" spc="-1" strike="noStrike">
              <a:solidFill>
                <a:srgbClr val="ffffff"/>
              </a:solidFill>
              <a:latin typeface="Arial Narrow"/>
            </a:endParaRPr>
          </a:p>
        </p:txBody>
      </p:sp>
      <p:sp>
        <p:nvSpPr>
          <p:cNvPr id="10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Update (RFC 2136)</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Notification (RFC 1996)</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Resource Records</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yntax for configuration files</a:t>
            </a:r>
            <a:endParaRPr b="0" lang="en-US" sz="24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 to map from old syntax to new one: src/bin/named/named-bootconf.pl</a:t>
            </a:r>
            <a:endParaRPr b="0" lang="en-US" sz="20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flexible logging</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lists (per zone) for queries, xfers, updates</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efficient zone transfers</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performance for servers with lots of zones</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bug fix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4E38409-7544-4264-A27C-1F5B7FA18845}" type="slidenum">
              <a:t>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is Squid</a:t>
            </a:r>
            <a:endParaRPr b="1" lang="en-US" sz="4800" spc="-1" strike="noStrike">
              <a:solidFill>
                <a:srgbClr val="ffffff"/>
              </a:solidFill>
              <a:latin typeface="Arial Narrow"/>
            </a:endParaRPr>
          </a:p>
        </p:txBody>
      </p:sp>
      <p:sp>
        <p:nvSpPr>
          <p:cNvPr id="18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client cach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than most commercial cache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several protocols: HTTP, FTP, Gopher, SS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s cooperate in a hierarch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s lots of disk and memory</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 data about cached objects kept in memo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s themselves are saved on disk</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 objects are also cached in memor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B1E1075-DB70-4C6D-9D5A-13B6C6ECCD2D}" type="slidenum">
              <a:t>4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y Cache?</a:t>
            </a:r>
            <a:endParaRPr b="1" lang="en-US" sz="4800" spc="-1" strike="noStrike">
              <a:solidFill>
                <a:srgbClr val="ffffff"/>
              </a:solidFill>
              <a:latin typeface="Arial Narrow"/>
            </a:endParaRPr>
          </a:p>
        </p:txBody>
      </p:sp>
      <p:sp>
        <p:nvSpPr>
          <p:cNvPr id="18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id motivated by studies on the NSFNet backbone (1993) showing that, at that time, half the packets were ftp and half of that half were duplicate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placed caches would save that bandwidth</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dwidth hog is now the web</a:t>
            </a:r>
            <a:endParaRPr b="0" lang="en-US" sz="20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70% of the packets</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75% of the bytes</a:t>
            </a:r>
            <a:endParaRPr b="0" lang="en-US" sz="18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ing assumes that several different people look at the same pag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s pages don't change too often</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s that people don't care where the pages come from as long as they get the right thin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6F10204-A5C7-4F72-B2C1-E86AD9226EFD}" type="slidenum">
              <a:t>4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oblems with Caching</a:t>
            </a:r>
            <a:endParaRPr b="1" lang="en-US" sz="4800" spc="-1" strike="noStrike">
              <a:solidFill>
                <a:srgbClr val="ffffff"/>
              </a:solidFill>
              <a:latin typeface="Arial Narrow"/>
            </a:endParaRPr>
          </a:p>
        </p:txBody>
      </p:sp>
      <p:sp>
        <p:nvSpPr>
          <p:cNvPr id="18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ly political, not technical</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s about who is responsible for content are scary</a:t>
            </a:r>
            <a:endParaRPr b="0" lang="en-US" sz="24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contents are controlled dynamically by what users request</a:t>
            </a:r>
            <a:endParaRPr b="0" lang="en-US" sz="20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not hold the ISP who owns the machine and provides caching service responsible</a:t>
            </a:r>
            <a:endParaRPr b="0" lang="en-US" sz="20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Issues</a:t>
            </a:r>
            <a:endParaRPr b="0" lang="en-US" sz="24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operators have lots of demographic data</a:t>
            </a:r>
            <a:endParaRPr b="0" lang="en-US" sz="20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eers gold mine of data</a:t>
            </a:r>
            <a:endParaRPr b="0" lang="en-US" sz="20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s need correct headers</a:t>
            </a:r>
            <a:endParaRPr b="0" lang="en-US" sz="24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 1.0 had 2 or 3 "freshness" headers</a:t>
            </a:r>
            <a:endParaRPr b="0" lang="en-US" sz="20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 1.1 has 10 or more of them</a:t>
            </a:r>
            <a:endParaRPr b="0" lang="en-US" sz="20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sive to maintai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2EEAE0E-E1CC-47E3-A140-DADD6D4CE555}" type="slidenum">
              <a:t>4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oblems, cont.</a:t>
            </a:r>
            <a:endParaRPr b="1" lang="en-US" sz="4800" spc="-1" strike="noStrike">
              <a:solidFill>
                <a:srgbClr val="ffffff"/>
              </a:solidFill>
              <a:latin typeface="Arial Narrow"/>
            </a:endParaRPr>
          </a:p>
        </p:txBody>
      </p:sp>
      <p:sp>
        <p:nvSpPr>
          <p:cNvPr id="18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an counting, who has the most hit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 that sell advertising care about hit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it a hit when a user gets their page from a cach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do the accounting</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RFC 2227 on hit metering</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content changes with each fetch</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ttle ad blocks that randomly choose an ad for each instanc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ttle counters of number of visits to a pag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ny called matchlogic.com has solution with Java accounting scrip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B8636D1-D5F9-4161-BCA9-1EFE01277D31}" type="slidenum">
              <a:t>4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oblems, cont.</a:t>
            </a:r>
            <a:endParaRPr b="1" lang="en-US" sz="4800" spc="-1" strike="noStrike">
              <a:solidFill>
                <a:srgbClr val="ffffff"/>
              </a:solidFill>
              <a:latin typeface="Arial Narrow"/>
            </a:endParaRPr>
          </a:p>
        </p:txBody>
      </p:sp>
      <p:sp>
        <p:nvSpPr>
          <p:cNvPr id="18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the right TTL value for objects in the cache</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s are % of last modify tim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rmines how long objects stay in the cach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uenced in one direction by folks to maximize saved bandwidth</a:t>
            </a:r>
            <a:endParaRPr b="0" lang="en-US" sz="18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OL, for example</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Ps with pricy bandwidth</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 in stale data</a:t>
            </a:r>
            <a:endParaRPr b="0" lang="en-US" sz="16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uenced in other direction by folks who want every access to go direct to their site</a:t>
            </a:r>
            <a:endParaRPr b="0" lang="en-US" sz="18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for example (set to 0)</a:t>
            </a:r>
            <a:endParaRPr b="0" lang="en-US" sz="16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s in a conflict between cache managers and content providers</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communicate and cooperat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accurate expire tim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163E212-A0FE-44C3-AF79-230A5E83BEA0}" type="slidenum">
              <a:t>4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quid Parts</a:t>
            </a:r>
            <a:endParaRPr b="1" lang="en-US" sz="4800" spc="-1" strike="noStrike">
              <a:solidFill>
                <a:srgbClr val="ffffff"/>
              </a:solidFill>
              <a:latin typeface="Arial Narrow"/>
            </a:endParaRPr>
          </a:p>
        </p:txBody>
      </p:sp>
      <p:sp>
        <p:nvSpPr>
          <p:cNvPr id="19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id: main server program</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nsserver: domain name system lookup program</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tpget: a program to retrieve FTP data</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a command-line browser to use for testing or managing squid</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P: Internet cache protocol to talk to other caches (RFCs 2186, 2187)</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feature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SSL, the secure socket layer</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extensive access control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configurable loggin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83E617B-3DD2-4BA8-80C3-319AB44FD3D8}" type="slidenum">
              <a:t>4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nstalling Squid</a:t>
            </a:r>
            <a:endParaRPr b="1" lang="en-US" sz="4800" spc="-1" strike="noStrike">
              <a:solidFill>
                <a:srgbClr val="ffffff"/>
              </a:solidFill>
              <a:latin typeface="Arial Narrow"/>
            </a:endParaRPr>
          </a:p>
        </p:txBody>
      </p:sp>
      <p:sp>
        <p:nvSpPr>
          <p:cNvPr id="19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about 10mb of disk space and an ANSI C compiler (gcc is fin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distribution and unpack i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if your architecture is on the supported list (AIX, FreeBSD, HP-UX, IRIX,  Linux, OSF/1, Solaris, SunO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try it anyway, send mail to squid</a:t>
            </a:r>
            <a:r>
              <a:rPr b="0" lang="en-US" sz="2400" spc="-1" strike="noStrike">
                <a:solidFill>
                  <a:srgbClr val="ffffff"/>
                </a:solidFill>
                <a:latin typeface="Arial"/>
                <a:ea typeface="Courier New"/>
              </a:rPr>
              <a:t>-</a:t>
            </a:r>
            <a:r>
              <a:rPr b="0" lang="en-US" sz="2400" spc="-1" strike="noStrike">
                <a:solidFill>
                  <a:srgbClr val="ffffff"/>
                </a:solidFill>
                <a:latin typeface="Arial"/>
              </a:rPr>
              <a:t>bugs@nlanr.net to report changes if you have problem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D38A20F-5A43-4EF7-9E82-9C6F2525EF3D}" type="slidenum">
              <a:t>4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nstalling Squid, cont</a:t>
            </a:r>
            <a:endParaRPr b="1" lang="en-US" sz="4800" spc="-1" strike="noStrike">
              <a:solidFill>
                <a:srgbClr val="ffffff"/>
              </a:solidFill>
              <a:latin typeface="Arial Narrow"/>
            </a:endParaRPr>
          </a:p>
        </p:txBody>
      </p:sp>
      <p:sp>
        <p:nvSpPr>
          <p:cNvPr id="19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 the instructions in INSTALL, basically</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configure</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umes you install it in /usr/local/squid</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1" lang="en-US" sz="1800" spc="-1" strike="noStrike">
                <a:solidFill>
                  <a:srgbClr val="ffffff"/>
                </a:solidFill>
                <a:latin typeface="Courier New"/>
              </a:rPr>
              <a:t>--prefix=/other/dir/squid</a:t>
            </a:r>
            <a:r>
              <a:rPr b="0" lang="en-US" sz="1800" spc="-1" strike="noStrike">
                <a:solidFill>
                  <a:srgbClr val="ffffff"/>
                </a:solidFill>
                <a:latin typeface="Arial"/>
              </a:rPr>
              <a:t> if you put it somewhere else</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all</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while (1/2 hour + on a P133 running BSDI)</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install</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n't do anything dangerou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installation is beneath /usr/local/squid</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ize the config file /usr/local/squid/etc/squid.conf</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the file QUICKSTART in the distribution for the minimal changes you must make to the sample squid.conf 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87BBA37-2AC4-427D-8DD1-A262B9B1DBA8}" type="slidenum">
              <a:t>4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nfiguring Squid</a:t>
            </a:r>
            <a:endParaRPr b="1" lang="en-US" sz="4800" spc="-1" strike="noStrike">
              <a:solidFill>
                <a:srgbClr val="ffffff"/>
              </a:solidFill>
              <a:latin typeface="Arial Narrow"/>
            </a:endParaRPr>
          </a:p>
        </p:txBody>
      </p:sp>
      <p:sp>
        <p:nvSpPr>
          <p:cNvPr id="19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one configuration file, in the squid/etc directory</a:t>
            </a:r>
            <a:endParaRPr b="0" lang="en-US" sz="20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ed squid.conf Shipped with a squid.conf.default file that is extensively commented</a:t>
            </a:r>
            <a:endParaRPr b="0" lang="en-US" sz="18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ons to be made in configuration</a:t>
            </a:r>
            <a:endParaRPr b="0" lang="en-US" sz="20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limits</a:t>
            </a:r>
            <a:endParaRPr b="0" lang="en-US" sz="18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memory will you let squid take (he takes about 3x what you say :-)</a:t>
            </a:r>
            <a:endParaRPr b="0" lang="en-US" sz="16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disk space do you have for storing pages</a:t>
            </a:r>
            <a:endParaRPr b="0" lang="en-US" sz="16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caching topology</a:t>
            </a:r>
            <a:endParaRPr b="0" lang="en-US" sz="18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o is your parent, or parents</a:t>
            </a:r>
            <a:endParaRPr b="0" lang="en-US" sz="16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o are your siblings</a:t>
            </a:r>
            <a:endParaRPr b="0" lang="en-US" sz="16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lists, who can use your cache</a:t>
            </a:r>
            <a:endParaRPr b="0" lang="en-US" sz="18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one (not recommended)</a:t>
            </a:r>
            <a:endParaRPr b="0" lang="en-US" sz="16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own site (definitely)</a:t>
            </a:r>
            <a:endParaRPr b="0" lang="en-US" sz="16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s if you are an ISP (sure)</a:t>
            </a:r>
            <a:endParaRPr b="0" lang="en-US" sz="16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ers (maybe)</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E4AD10C-BF76-412B-956F-5CD5882D1BCC}" type="slidenum">
              <a:t>4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quid Configuration, cont.</a:t>
            </a:r>
            <a:endParaRPr b="1" lang="en-US" sz="4800" spc="-1" strike="noStrike">
              <a:solidFill>
                <a:srgbClr val="ffffff"/>
              </a:solidFill>
              <a:latin typeface="Arial Narrow"/>
            </a:endParaRPr>
          </a:p>
        </p:txBody>
      </p:sp>
      <p:sp>
        <p:nvSpPr>
          <p:cNvPr id="19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datory things that must be changed</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_swap: the amount of disk you are willing to donate to the cach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_access: access control lists to monitor use of your cach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cp_access: access control lists to monitor other cache's access to you</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_mgr: email address of the squid-meister</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_effective_user: who the software should run as</a:t>
            </a:r>
            <a:endParaRPr b="0" lang="en-US" sz="20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s to user nobody, group nogroup</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sure these exist</a:t>
            </a:r>
            <a:endParaRPr b="0" lang="en-US" sz="18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ble_hostname: hostname you advertise for the cache</a:t>
            </a:r>
            <a:endParaRPr b="0" lang="en-US" sz="20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 DNS cname record to make this generic</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ier in case you want to change host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BA8DF83-B15A-4F79-A955-5B33C0DF9D8F}" type="slidenum">
              <a:t>4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ynamic Updates</a:t>
            </a:r>
            <a:endParaRPr b="1" lang="en-US" sz="4800" spc="-1" strike="noStrike">
              <a:solidFill>
                <a:srgbClr val="ffffff"/>
              </a:solidFill>
              <a:latin typeface="Arial Narrow"/>
            </a:endParaRPr>
          </a:p>
        </p:txBody>
      </p:sp>
      <p:sp>
        <p:nvSpPr>
          <p:cNvPr id="11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all DNS updates were done to the master files for the zon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update allows changes to come across the network</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s can add or delete a single RR or set of R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s can depend on the existence or nonexistence of a particular R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s are atomic operation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ts things like the DHCP server paradigm wel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tough, held up RFC for ag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5C9B444-2EED-4F63-BEAA-E318BED4EBDC}" type="slidenum">
              <a:t>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ther Config Parameters</a:t>
            </a:r>
            <a:endParaRPr b="1" lang="en-US" sz="4800" spc="-1" strike="noStrike">
              <a:solidFill>
                <a:srgbClr val="ffffff"/>
              </a:solidFill>
              <a:latin typeface="Arial Narrow"/>
            </a:endParaRPr>
          </a:p>
        </p:txBody>
      </p:sp>
      <p:sp>
        <p:nvSpPr>
          <p:cNvPr id="20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_stoplist pattern: doesn't cache URLs that match patter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_dir: directory where objects will be cach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s to /usr/local/squid/cach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s each cache_dir is the same size (version 1.1, will be fixed in 1.2)</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log: specifies location of various log fil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d_filename: where to store pid of running proces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BDF3E0B-6799-4C5C-8D1C-90C979E76572}" type="slidenum">
              <a:t>5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esting and Running Squid</a:t>
            </a:r>
            <a:endParaRPr b="1" lang="en-US" sz="4800" spc="-1" strike="noStrike">
              <a:solidFill>
                <a:srgbClr val="ffffff"/>
              </a:solidFill>
              <a:latin typeface="Arial Narrow"/>
            </a:endParaRPr>
          </a:p>
        </p:txBody>
      </p:sp>
      <p:sp>
        <p:nvSpPr>
          <p:cNvPr id="20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it by hand to build and zero out the directory structure where the cached web pages will be stor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 -z</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s 16 directories under your cache root</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s 256 directories under each of them</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while</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it by hand and test your web performan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 &amp;</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ually do this at boot-time in the rc script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usr/local/squid/bin/RunCach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 it in the background</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64DED98-F397-4D8F-AC26-6A5B031D3426}" type="slidenum">
              <a:t>5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esting cont.</a:t>
            </a:r>
            <a:endParaRPr b="1" lang="en-US" sz="4800" spc="-1" strike="noStrike">
              <a:solidFill>
                <a:srgbClr val="ffffff"/>
              </a:solidFill>
              <a:latin typeface="Arial Narrow"/>
            </a:endParaRPr>
          </a:p>
        </p:txBody>
      </p:sp>
      <p:sp>
        <p:nvSpPr>
          <p:cNvPr id="20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with a browser if you can</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 your local .netscape cache</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figure your browser's network preferences (under proxies)</a:t>
            </a:r>
            <a:endParaRPr b="0" lang="en-US" sz="18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hand in the manual configuration section</a:t>
            </a:r>
            <a:endParaRPr b="0" lang="en-US" sz="16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 proxy.pac file (java script) such as:</a:t>
            </a:r>
            <a:endParaRPr b="0" lang="en-US" sz="16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function FindProxyForURL(url, hos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f (isPlainHostName(hos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eturn "DIREC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f (!isResolvable(host))</a:t>
            </a:r>
            <a:endParaRPr b="0" lang="en-US" sz="1200" spc="-1" strike="noStrike">
              <a:solidFill>
                <a:srgbClr val="ffffff"/>
              </a:solidFill>
              <a:latin typeface="Arial"/>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turn "DIREC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f (url.substring(0, 5) == "http:")</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eturn "PROXY 205.180.223.3:3128; DIREC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f (url.substring(0, 4) == "ftp:")</a:t>
            </a:r>
            <a:endParaRPr b="0" lang="en-US" sz="1200" spc="-1" strike="noStrike">
              <a:solidFill>
                <a:srgbClr val="ffffff"/>
              </a:solidFill>
              <a:latin typeface="Arial"/>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turn "PROXY 205.180.223.3:3128; DIREC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eturn "DIREC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don't have a browser, use /usr/local/squid/bin/client </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DB2CFFF-3A71-488F-9081-07BBB0AFF8BD}" type="slidenum">
              <a:t>5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nitoring Squid</a:t>
            </a:r>
            <a:endParaRPr b="1" lang="en-US" sz="4800" spc="-1" strike="noStrike">
              <a:solidFill>
                <a:srgbClr val="ffffff"/>
              </a:solidFill>
              <a:latin typeface="Arial Narrow"/>
            </a:endParaRPr>
          </a:p>
        </p:txBody>
      </p:sp>
      <p:sp>
        <p:nvSpPr>
          <p:cNvPr id="20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id -k reconfigure</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e as sending squid a HUP signal</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ed if you edit the config file and want squid to re-read it</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id -k rotate</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e as sending squid a USR1 signal</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ls squid to rotate the log file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tates them in place, config file parameter tells how many to keep</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ient program</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to display statistics on the running squid process and the cach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ers are URLish with protocol field = cache_objec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list in squid configuration file commen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16688DE-4156-4912-BA3F-9170B55A1C8C}" type="slidenum">
              <a:t>5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lient Program Examples</a:t>
            </a:r>
            <a:endParaRPr b="1" lang="en-US" sz="4800" spc="-1" strike="noStrike">
              <a:solidFill>
                <a:srgbClr val="ffffff"/>
              </a:solidFill>
              <a:latin typeface="Arial Narrow"/>
            </a:endParaRPr>
          </a:p>
        </p:txBody>
      </p:sp>
      <p:sp>
        <p:nvSpPr>
          <p:cNvPr id="20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that the hostname of the machine running squid is "squi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cache_object://squid/info</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s lots of information about running cache</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 the ratio of page faults to TCP connnections (should be .2 or so)</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 LRU Expiration Age, if below 5 days increasing squids disk can help</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cache_object://squid/stats/dn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s stats on squid dns lookup processe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 last dnsserver, if used a lot, configure more servers (dns_childre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F647FBC-17AC-4B68-9797-C96A0E684829}" type="slidenum">
              <a:t>5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quid References</a:t>
            </a:r>
            <a:endParaRPr b="1" lang="en-US" sz="4800" spc="-1" strike="noStrike">
              <a:solidFill>
                <a:srgbClr val="ffffff"/>
              </a:solidFill>
              <a:latin typeface="Arial Narrow"/>
            </a:endParaRPr>
          </a:p>
        </p:txBody>
      </p:sp>
      <p:sp>
        <p:nvSpPr>
          <p:cNvPr id="21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ling lists, join them by adding -request to the nam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users, general discussions about squid softwar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users-digest@nlanr.net, the users list digested dail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announce@nlanr.net, announcements of new vers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bugs@nlanr.net, an alias for reporting bug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nlanr.net, an alias for sending feedback and idea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faq@nlanr.net, an alias for feedback and additions to the FAQ</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also the IETF Internet draft repositori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info beneath the squid web page: </a:t>
            </a:r>
            <a:r>
              <a:rPr b="1" lang="en-US" sz="2400" spc="-1" strike="noStrike">
                <a:solidFill>
                  <a:srgbClr val="ffffff"/>
                </a:solidFill>
                <a:latin typeface="Courier New"/>
              </a:rPr>
              <a:t>http://www.nlanr.net/Squi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E13D3B2-6804-4FF3-ACF1-DCBE76CFDAEF}" type="slidenum">
              <a:t>5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ching References</a:t>
            </a:r>
            <a:endParaRPr b="1" lang="en-US" sz="4800" spc="-1" strike="noStrike">
              <a:solidFill>
                <a:srgbClr val="ffffff"/>
              </a:solidFill>
              <a:latin typeface="Arial Narrow"/>
            </a:endParaRPr>
          </a:p>
        </p:txBody>
      </p:sp>
      <p:sp>
        <p:nvSpPr>
          <p:cNvPr id="21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ircache.nlanr.net/Cache/reading-list.html</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ircache.nlanr.net/Cache/Learn/</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vancouver-webpages.com/CacheNow</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home.netscape.com/comprod/ \\ announce/dss_prox.html</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www.microsoft.com/proxy/default.asp (down?)</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www.w3.org/Daemon/</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www.netcache.com</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1A5047D-F775-4F46-BE52-20917BBDC51A}" type="slidenum">
              <a:t>5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ther Options</a:t>
            </a:r>
            <a:endParaRPr b="1" lang="en-US" sz="4800" spc="-1" strike="noStrike">
              <a:solidFill>
                <a:srgbClr val="ffffff"/>
              </a:solidFill>
              <a:latin typeface="Arial Narrow"/>
            </a:endParaRPr>
          </a:p>
        </p:txBody>
      </p:sp>
      <p:sp>
        <p:nvSpPr>
          <p:cNvPr id="21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kamai</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are an ISP, they locate an Akamai server at your site. Large web sites like Yahoo pay Akamai money to mirror pages on all the distributed Akamai servers. URL magic causes your users to hit your local Akamai server rather than going all the way to the web hosting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call it their Accelerated Network Program for ISPs.  There is no cost to the ISP as long as you are big enough to be worth it.</a:t>
            </a:r>
            <a:endParaRPr b="0" lang="en-US" sz="2000" spc="-1" strike="noStrike">
              <a:solidFill>
                <a:srgbClr val="ffffff"/>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www.akamai.com/</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27B353C-6633-41FF-806B-919E36CB2CF3}" type="slidenum">
              <a:t>5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Managing Acceptable Use</a:t>
            </a:r>
            <a:endParaRPr b="1" lang="en-US" sz="6600" spc="-1" strike="noStrike">
              <a:solidFill>
                <a:srgbClr val="ffffff"/>
              </a:solidFill>
              <a:latin typeface="Arial Narrow"/>
            </a:endParaRPr>
          </a:p>
        </p:txBody>
      </p:sp>
      <p:sp>
        <p:nvSpPr>
          <p:cNvPr id="216"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cceptable Use</a:t>
            </a:r>
            <a:endParaRPr b="1" lang="en-US" sz="4800" spc="-1" strike="noStrike">
              <a:solidFill>
                <a:srgbClr val="ffffff"/>
              </a:solidFill>
              <a:latin typeface="Arial Narrow"/>
            </a:endParaRPr>
          </a:p>
        </p:txBody>
      </p:sp>
      <p:sp>
        <p:nvSpPr>
          <p:cNvPr id="21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cceptable us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users will try things you never thought of</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possible use to the services you want to suppor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icitly prohibit uses which are</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legal</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ruptiv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olation of your upstream contract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 liability problem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2" marL="1143000" indent="-228600">
              <a:lnSpc>
                <a:spcPct val="10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ttp://www.coop.net/policy/aup.html</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A4D4A9E-0D3A-4B21-83FC-3D97743BD927}" type="slidenum">
              <a:t>5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hange Notification</a:t>
            </a:r>
            <a:endParaRPr b="1" lang="en-US" sz="4800" spc="-1" strike="noStrike">
              <a:solidFill>
                <a:srgbClr val="ffffff"/>
              </a:solidFill>
              <a:latin typeface="Arial Narrow"/>
            </a:endParaRPr>
          </a:p>
        </p:txBody>
      </p:sp>
      <p:sp>
        <p:nvSpPr>
          <p:cNvPr id="11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secondaries probed the primary to see if they needed an update (serial number had chang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resh times were often long to reduce load on primary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ft zone incoherent for quite a whil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notification has the primary notify secondaries when data for the zone has chang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longer a polling mode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notification instead (an interrupt)</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s changes easi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ing old answers still a problem</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7ADB4A0-D6C0-45A4-9CF1-3D4AC9D84035}" type="slidenum">
              <a:t>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ndustry Norms</a:t>
            </a:r>
            <a:endParaRPr b="1" lang="en-US" sz="4800" spc="-1" strike="noStrike">
              <a:solidFill>
                <a:srgbClr val="ffffff"/>
              </a:solidFill>
              <a:latin typeface="Arial Narrow"/>
            </a:endParaRPr>
          </a:p>
        </p:txBody>
      </p:sp>
      <p:sp>
        <p:nvSpPr>
          <p:cNvPr id="22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Prohibition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compromis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elated activity, i.e. hack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olating acceptable use of oth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solicited commercial emai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gery or fraudulent activit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etiquette” viola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of any above activity (mail drop)</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labyrinth.com/localhost/survey.htm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433D575-D97C-4338-82C9-FC3FBC8973CA}" type="slidenum">
              <a:t>6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is Spam?</a:t>
            </a:r>
            <a:endParaRPr b="1" lang="en-US" sz="4800" spc="-1" strike="noStrike">
              <a:solidFill>
                <a:srgbClr val="ffffff"/>
              </a:solidFill>
              <a:latin typeface="Arial Narrow"/>
            </a:endParaRPr>
          </a:p>
        </p:txBody>
      </p:sp>
      <p:sp>
        <p:nvSpPr>
          <p:cNvPr id="22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topic</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than 10 groups regardless of content or cross-post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ing cross-post</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U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solicited (including “subscriptions” if not validat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rcia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 is irrelevan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hod of delivery is irrelevan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93637C7-5EC0-4BD5-9C63-B610F5C808BB}" type="slidenum">
              <a:t>6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pam</a:t>
            </a:r>
            <a:endParaRPr b="1" lang="en-US" sz="4800" spc="-1" strike="noStrike">
              <a:solidFill>
                <a:srgbClr val="ffffff"/>
              </a:solidFill>
              <a:latin typeface="Arial Narrow"/>
            </a:endParaRPr>
          </a:p>
        </p:txBody>
      </p:sp>
      <p:sp>
        <p:nvSpPr>
          <p:cNvPr id="22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Spam?</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return!</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for paper) so Marketers love it!</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ap! Marketers love i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ediate! Marketers love it!</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 wasted bandwidth is unacceptabl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sive - but not to the market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oying - requires user acti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29B65736-F3E5-4C45-9DA5-9C659EFA893B}" type="slidenum">
              <a:t>6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PAM Profile</a:t>
            </a:r>
            <a:endParaRPr b="1" lang="en-US" sz="4800" spc="-1" strike="noStrike">
              <a:solidFill>
                <a:srgbClr val="ffffff"/>
              </a:solidFill>
              <a:latin typeface="Arial Narrow"/>
            </a:endParaRPr>
          </a:p>
        </p:txBody>
      </p:sp>
      <p:sp>
        <p:nvSpPr>
          <p:cNvPr id="226" name=""/>
          <p:cNvSpPr/>
          <p:nvPr/>
        </p:nvSpPr>
        <p:spPr>
          <a:xfrm>
            <a:off x="1447920" y="1981080"/>
            <a:ext cx="1752480" cy="106704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Origin</a:t>
            </a:r>
            <a:endParaRPr b="0" lang="en-US" sz="2800" spc="-1" strike="noStrike">
              <a:solidFill>
                <a:srgbClr val="dee3ee"/>
              </a:solidFill>
              <a:latin typeface="Times New Roman"/>
            </a:endParaRPr>
          </a:p>
        </p:txBody>
      </p:sp>
      <p:sp>
        <p:nvSpPr>
          <p:cNvPr id="227" name=""/>
          <p:cNvSpPr/>
          <p:nvPr/>
        </p:nvSpPr>
        <p:spPr>
          <a:xfrm>
            <a:off x="1828800" y="4038480"/>
            <a:ext cx="1752480" cy="106704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Patsy</a:t>
            </a:r>
            <a:endParaRPr b="0" lang="en-US" sz="2800" spc="-1" strike="noStrike">
              <a:solidFill>
                <a:srgbClr val="dee3ee"/>
              </a:solidFill>
              <a:latin typeface="Times New Roman"/>
            </a:endParaRPr>
          </a:p>
        </p:txBody>
      </p:sp>
      <p:sp>
        <p:nvSpPr>
          <p:cNvPr id="228" name=""/>
          <p:cNvSpPr/>
          <p:nvPr/>
        </p:nvSpPr>
        <p:spPr>
          <a:xfrm>
            <a:off x="4267080" y="1905120"/>
            <a:ext cx="1752840" cy="106668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Beneficiary</a:t>
            </a:r>
            <a:endParaRPr b="0" lang="en-US" sz="2800" spc="-1" strike="noStrike">
              <a:solidFill>
                <a:srgbClr val="dee3ee"/>
              </a:solidFill>
              <a:latin typeface="Times New Roman"/>
            </a:endParaRPr>
          </a:p>
        </p:txBody>
      </p:sp>
      <p:sp>
        <p:nvSpPr>
          <p:cNvPr id="229" name=""/>
          <p:cNvSpPr/>
          <p:nvPr/>
        </p:nvSpPr>
        <p:spPr>
          <a:xfrm>
            <a:off x="4800600" y="4038480"/>
            <a:ext cx="1752480" cy="106704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Recipient</a:t>
            </a:r>
            <a:endParaRPr b="0" lang="en-US" sz="2800" spc="-1" strike="noStrike">
              <a:solidFill>
                <a:srgbClr val="dee3ee"/>
              </a:solidFill>
              <a:latin typeface="Times New Roman"/>
            </a:endParaRPr>
          </a:p>
        </p:txBody>
      </p:sp>
      <p:sp>
        <p:nvSpPr>
          <p:cNvPr id="230" name=""/>
          <p:cNvSpPr/>
          <p:nvPr/>
        </p:nvSpPr>
        <p:spPr>
          <a:xfrm>
            <a:off x="6934320" y="2590920"/>
            <a:ext cx="1752480" cy="106668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Scapegoat</a:t>
            </a:r>
            <a:endParaRPr b="0" lang="en-US" sz="2800" spc="-1" strike="noStrike">
              <a:solidFill>
                <a:srgbClr val="dee3ee"/>
              </a:solidFill>
              <a:latin typeface="Times New Roman"/>
            </a:endParaRPr>
          </a:p>
        </p:txBody>
      </p:sp>
      <p:sp>
        <p:nvSpPr>
          <p:cNvPr id="231" name=""/>
          <p:cNvSpPr/>
          <p:nvPr/>
        </p:nvSpPr>
        <p:spPr>
          <a:xfrm>
            <a:off x="2362320" y="3048120"/>
            <a:ext cx="228600" cy="99036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2" name=""/>
          <p:cNvSpPr/>
          <p:nvPr/>
        </p:nvSpPr>
        <p:spPr>
          <a:xfrm>
            <a:off x="3048120" y="2819520"/>
            <a:ext cx="1981080" cy="137160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3" name=""/>
          <p:cNvSpPr/>
          <p:nvPr/>
        </p:nvSpPr>
        <p:spPr>
          <a:xfrm>
            <a:off x="3581280" y="4572000"/>
            <a:ext cx="1219320" cy="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4" name=""/>
          <p:cNvSpPr/>
          <p:nvPr/>
        </p:nvSpPr>
        <p:spPr>
          <a:xfrm flipH="1" flipV="1">
            <a:off x="5257800" y="2971440"/>
            <a:ext cx="380880" cy="106668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5" name=""/>
          <p:cNvSpPr/>
          <p:nvPr/>
        </p:nvSpPr>
        <p:spPr>
          <a:xfrm flipV="1">
            <a:off x="6477120" y="3580920"/>
            <a:ext cx="838080" cy="76212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6" name=""/>
          <p:cNvSpPr/>
          <p:nvPr/>
        </p:nvSpPr>
        <p:spPr>
          <a:xfrm>
            <a:off x="2512800" y="3429000"/>
            <a:ext cx="1521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enticement</a:t>
            </a:r>
            <a:endParaRPr b="0" lang="en-US" sz="2400" spc="-1" strike="noStrike">
              <a:solidFill>
                <a:srgbClr val="dee3ee"/>
              </a:solidFill>
              <a:latin typeface="Times New Roman"/>
            </a:endParaRPr>
          </a:p>
        </p:txBody>
      </p:sp>
      <p:sp>
        <p:nvSpPr>
          <p:cNvPr id="237" name=""/>
          <p:cNvSpPr/>
          <p:nvPr/>
        </p:nvSpPr>
        <p:spPr>
          <a:xfrm>
            <a:off x="5563440" y="3048120"/>
            <a:ext cx="1249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Desired</a:t>
            </a:r>
            <a:endParaRPr b="0" lang="en-US" sz="2400" spc="-1" strike="noStrike">
              <a:solidFill>
                <a:srgbClr val="dee3e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response</a:t>
            </a:r>
            <a:endParaRPr b="0" lang="en-US" sz="2400" spc="-1" strike="noStrike">
              <a:solidFill>
                <a:srgbClr val="dee3ee"/>
              </a:solidFill>
              <a:latin typeface="Times New Roman"/>
            </a:endParaRPr>
          </a:p>
        </p:txBody>
      </p:sp>
      <p:sp>
        <p:nvSpPr>
          <p:cNvPr id="238" name=""/>
          <p:cNvSpPr/>
          <p:nvPr/>
        </p:nvSpPr>
        <p:spPr>
          <a:xfrm>
            <a:off x="6705720" y="3962520"/>
            <a:ext cx="92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lame</a:t>
            </a:r>
            <a:endParaRPr b="0" lang="en-US" sz="2400" spc="-1" strike="noStrike">
              <a:solidFill>
                <a:srgbClr val="dee3ee"/>
              </a:solidFill>
              <a:latin typeface="Times New Roman"/>
            </a:endParaRPr>
          </a:p>
        </p:txBody>
      </p:sp>
      <p:sp>
        <p:nvSpPr>
          <p:cNvPr id="239" name=""/>
          <p:cNvSpPr/>
          <p:nvPr/>
        </p:nvSpPr>
        <p:spPr>
          <a:xfrm>
            <a:off x="2208960" y="5410080"/>
            <a:ext cx="203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Proactive Zone</a:t>
            </a:r>
            <a:endParaRPr b="0" lang="en-US" sz="2400" spc="-1" strike="noStrike">
              <a:solidFill>
                <a:srgbClr val="dee3ee"/>
              </a:solidFill>
              <a:latin typeface="Times New Roman"/>
            </a:endParaRPr>
          </a:p>
        </p:txBody>
      </p:sp>
      <p:sp>
        <p:nvSpPr>
          <p:cNvPr id="240" name=""/>
          <p:cNvSpPr/>
          <p:nvPr/>
        </p:nvSpPr>
        <p:spPr>
          <a:xfrm>
            <a:off x="914400" y="1828800"/>
            <a:ext cx="3733920" cy="3429000"/>
          </a:xfrm>
          <a:custGeom>
            <a:avLst/>
            <a:gdLst/>
            <a:ahLst/>
            <a:rect l="l" t="t" r="r" b="b"/>
            <a:pathLst>
              <a:path w="2352" h="2160">
                <a:moveTo>
                  <a:pt x="0" y="0"/>
                </a:moveTo>
                <a:lnTo>
                  <a:pt x="528" y="2160"/>
                </a:lnTo>
                <a:lnTo>
                  <a:pt x="2352" y="2160"/>
                </a:lnTo>
                <a:lnTo>
                  <a:pt x="1632" y="0"/>
                </a:lnTo>
                <a:lnTo>
                  <a:pt x="0" y="0"/>
                </a:lnTo>
                <a:close/>
              </a:path>
            </a:pathLst>
          </a:custGeom>
          <a:noFill/>
          <a:ln cap="rnd" w="9360">
            <a:solidFill>
              <a:srgbClr val="dee3ee"/>
            </a:solidFill>
            <a:custDash>
              <a:ds d="100000" sp="1000"/>
            </a:custDash>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41" name=""/>
          <p:cNvSpPr/>
          <p:nvPr/>
        </p:nvSpPr>
        <p:spPr>
          <a:xfrm>
            <a:off x="3581280" y="1752480"/>
            <a:ext cx="5334120" cy="3505320"/>
          </a:xfrm>
          <a:custGeom>
            <a:avLst/>
            <a:gdLst/>
            <a:ahLst/>
            <a:rect l="l" t="t" r="r" b="b"/>
            <a:pathLst>
              <a:path w="3408" h="2208">
                <a:moveTo>
                  <a:pt x="0" y="48"/>
                </a:moveTo>
                <a:lnTo>
                  <a:pt x="720" y="2208"/>
                </a:lnTo>
                <a:lnTo>
                  <a:pt x="3408" y="2208"/>
                </a:lnTo>
                <a:lnTo>
                  <a:pt x="3360" y="0"/>
                </a:lnTo>
                <a:lnTo>
                  <a:pt x="0" y="48"/>
                </a:lnTo>
                <a:close/>
              </a:path>
            </a:pathLst>
          </a:custGeom>
          <a:noFill/>
          <a:ln w="9360">
            <a:solidFill>
              <a:srgbClr val="dee3ee"/>
            </a:solidFill>
            <a:prstDash val="sysDot"/>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42" name=""/>
          <p:cNvSpPr/>
          <p:nvPr/>
        </p:nvSpPr>
        <p:spPr>
          <a:xfrm>
            <a:off x="5756760" y="541008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Reactive Zone</a:t>
            </a:r>
            <a:endParaRPr b="0" lang="en-US" sz="2400" spc="-1" strike="noStrike">
              <a:solidFill>
                <a:srgbClr val="dee3ee"/>
              </a:solidFill>
              <a:latin typeface="Times New Roman"/>
            </a:endParaRPr>
          </a:p>
        </p:txBody>
      </p:sp>
      <p:sp>
        <p:nvSpPr>
          <p:cNvPr id="243" name=""/>
          <p:cNvSpPr/>
          <p:nvPr/>
        </p:nvSpPr>
        <p:spPr>
          <a:xfrm>
            <a:off x="6481440" y="4800600"/>
            <a:ext cx="25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e3ee"/>
                </a:solidFill>
                <a:latin typeface="Times New Roman"/>
              </a:rPr>
              <a:t>YOU ARE HERE</a:t>
            </a:r>
            <a:endParaRPr b="0" lang="en-US" sz="2400" spc="-1" strike="noStrike">
              <a:solidFill>
                <a:srgbClr val="dee3ee"/>
              </a:solidFill>
              <a:latin typeface="Times New Roman"/>
            </a:endParaRPr>
          </a:p>
        </p:txBody>
      </p:sp>
      <p:sp>
        <p:nvSpPr>
          <p:cNvPr id="244" name=""/>
          <p:cNvSpPr/>
          <p:nvPr/>
        </p:nvSpPr>
        <p:spPr>
          <a:xfrm flipH="1" flipV="1">
            <a:off x="6172200" y="4800240"/>
            <a:ext cx="380880" cy="228600"/>
          </a:xfrm>
          <a:prstGeom prst="line">
            <a:avLst/>
          </a:prstGeom>
          <a:ln w="38160">
            <a:solidFill>
              <a:srgbClr val="dee3ee"/>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dee3ee"/>
              </a:solidFill>
              <a:latin typeface="Times New Roman"/>
            </a:endParaRPr>
          </a:p>
        </p:txBody>
      </p:sp>
      <p:sp>
        <p:nvSpPr>
          <p:cNvPr id="3" name="PlaceHolder 2"/>
          <p:cNvSpPr>
            <a:spLocks noGrp="1"/>
          </p:cNvSpPr>
          <p:nvPr>
            <p:ph type="ftr" idx="2"/>
          </p:nvPr>
        </p:nvSpPr>
        <p:spPr/>
        <p:txBody>
          <a:bodyPr/>
          <a:p>
            <a:r>
              <a:t>© Evi Nemeth &amp; Trent Hein</a:t>
            </a:r>
          </a:p>
        </p:txBody>
      </p:sp>
      <p:sp>
        <p:nvSpPr>
          <p:cNvPr id="4" name="PlaceHolder 3"/>
          <p:cNvSpPr>
            <a:spLocks noGrp="1"/>
          </p:cNvSpPr>
          <p:nvPr>
            <p:ph type="sldNum" idx="3"/>
          </p:nvPr>
        </p:nvSpPr>
        <p:spPr/>
        <p:txBody>
          <a:bodyPr/>
          <a:p>
            <a:fld id="{838340CF-2C3B-4EF2-890C-6C904CF3367A}" type="slidenum">
              <a:t>63</a:t>
            </a:fld>
          </a:p>
        </p:txBody>
      </p:sp>
      <p:sp>
        <p:nvSpPr>
          <p:cNvPr id="5" name="PlaceHolder 4"/>
          <p:cNvSpPr>
            <a:spLocks noGrp="1"/>
          </p:cNvSpPr>
          <p:nvPr>
            <p:ph type="dt" idx="1"/>
          </p:nvPr>
        </p:nvSpPr>
        <p:spPr/>
        <p:txBody>
          <a:bodyPr/>
          <a:p>
            <a:r>
              <a:rPr lang="en-US"/>
              <a:t>26 Feb 2001</a:t>
            </a:r>
          </a:p>
        </p:txBody>
      </p:sp>
    </p:spTree>
  </p:cSld>
  <p:transition spd="med">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45" name=""/>
          <p:cNvSpPr/>
          <p:nvPr/>
        </p:nvSpPr>
        <p:spPr>
          <a:xfrm>
            <a:off x="633240" y="1828800"/>
            <a:ext cx="81536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daemon@localhost) by labyrinth.com (NO SOLICITING) id PAA02925 for &lt;barb.dyker@labyrinth.com&gt;; Thu, 15 May 1997 15:52:13 -0600 (MD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From: adsnet@earthlink.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mail-gw2.pacbell.net(206.13.28.53) by morass.labyrinth.com via smap (V1.3) id sma002911; Thu May 15 15:51:55 1997</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mail.pacbell.net (hd31-076.hil.compuserve.com [206.175.222.76]) by mail-gw2.pacbell.net (8.8.5/8.7.1) with SMTP id OAA01857; Thu, 15 May 1997 14:49:58 -0700 (PD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mailhostcapelas.net(alt1.capelas.com(208.9.77.65)) by capelas.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 </a:t>
            </a:r>
            <a:r>
              <a:rPr b="0" lang="en-US" sz="1600" spc="-1" strike="noStrike">
                <a:solidFill>
                  <a:srgbClr val="dee3ee"/>
                </a:solidFill>
                <a:latin typeface="Times New Roman"/>
              </a:rPr>
              <a:t>(8.8.5/8.6.5) with SMTP id GAA00254 for &lt;a7@capelas.net&gt;; Tue, 15 Apr 1997 14:00:24 -0600 (ES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To: a7@capelas.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Message-ID: &lt;199702170025.GAA08056@capelas.net&g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Date: Tue, 15 Apr 97 14:00:24 ES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Subject: Free Subscription</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ply-To: a7@capelas.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Comments: Authenticated sender is &lt;a7@capelas.net&gt;</a:t>
            </a:r>
            <a:endParaRPr b="0" lang="en-US" sz="1600" spc="-1" strike="noStrike">
              <a:solidFill>
                <a:srgbClr val="dee3ee"/>
              </a:solidFill>
              <a:latin typeface="Times New Roman"/>
            </a:endParaRPr>
          </a:p>
        </p:txBody>
      </p:sp>
      <p:sp>
        <p:nvSpPr>
          <p:cNvPr id="24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nalyzing Spam Headers</a:t>
            </a:r>
            <a:endParaRPr b="1" lang="en-US" sz="4800" spc="-1" strike="noStrike">
              <a:solidFill>
                <a:srgbClr val="ffffff"/>
              </a:solidFill>
              <a:latin typeface="Arial Narrow"/>
            </a:endParaRPr>
          </a:p>
        </p:txBody>
      </p:sp>
      <p:sp>
        <p:nvSpPr>
          <p:cNvPr id="247" name=""/>
          <p:cNvSpPr/>
          <p:nvPr/>
        </p:nvSpPr>
        <p:spPr>
          <a:xfrm>
            <a:off x="3944880" y="1862280"/>
            <a:ext cx="137340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48" name=""/>
          <p:cNvSpPr/>
          <p:nvPr/>
        </p:nvSpPr>
        <p:spPr>
          <a:xfrm>
            <a:off x="4997880" y="1447920"/>
            <a:ext cx="1870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CIPIENT</a:t>
            </a:r>
            <a:endParaRPr b="0" lang="en-US" sz="2400" spc="-1" strike="noStrike">
              <a:solidFill>
                <a:srgbClr val="dee3ee"/>
              </a:solidFill>
              <a:latin typeface="Times New Roman"/>
            </a:endParaRPr>
          </a:p>
        </p:txBody>
      </p:sp>
      <p:sp>
        <p:nvSpPr>
          <p:cNvPr id="249" name=""/>
          <p:cNvSpPr/>
          <p:nvPr/>
        </p:nvSpPr>
        <p:spPr>
          <a:xfrm>
            <a:off x="3108240" y="3048120"/>
            <a:ext cx="457200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50" name=""/>
          <p:cNvSpPr/>
          <p:nvPr/>
        </p:nvSpPr>
        <p:spPr>
          <a:xfrm>
            <a:off x="6741720" y="2743200"/>
            <a:ext cx="1332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GIN</a:t>
            </a:r>
            <a:endParaRPr b="0" lang="en-US" sz="2400" spc="-1" strike="noStrike">
              <a:solidFill>
                <a:srgbClr val="dee3ee"/>
              </a:solidFill>
              <a:latin typeface="Times New Roman"/>
            </a:endParaRPr>
          </a:p>
        </p:txBody>
      </p:sp>
      <p:sp>
        <p:nvSpPr>
          <p:cNvPr id="251" name=""/>
          <p:cNvSpPr/>
          <p:nvPr/>
        </p:nvSpPr>
        <p:spPr>
          <a:xfrm>
            <a:off x="609480" y="3352680"/>
            <a:ext cx="14479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52" name=""/>
          <p:cNvSpPr/>
          <p:nvPr/>
        </p:nvSpPr>
        <p:spPr>
          <a:xfrm rot="19573800">
            <a:off x="-252000" y="3199680"/>
            <a:ext cx="117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TSY</a:t>
            </a:r>
            <a:endParaRPr b="0" lang="en-US" sz="2400" spc="-1" strike="noStrike">
              <a:solidFill>
                <a:srgbClr val="dee3ee"/>
              </a:solidFill>
              <a:latin typeface="Times New Roman"/>
            </a:endParaRPr>
          </a:p>
        </p:txBody>
      </p:sp>
      <p:sp>
        <p:nvSpPr>
          <p:cNvPr id="253" name=""/>
          <p:cNvSpPr/>
          <p:nvPr/>
        </p:nvSpPr>
        <p:spPr>
          <a:xfrm flipV="1">
            <a:off x="1515960" y="5510160"/>
            <a:ext cx="147816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54" name=""/>
          <p:cNvSpPr/>
          <p:nvPr/>
        </p:nvSpPr>
        <p:spPr>
          <a:xfrm>
            <a:off x="3081240" y="5361120"/>
            <a:ext cx="207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APEGOAT</a:t>
            </a:r>
            <a:endParaRPr b="0" lang="en-US" sz="2400" spc="-1" strike="noStrike">
              <a:solidFill>
                <a:srgbClr val="dee3ee"/>
              </a:solidFill>
              <a:latin typeface="Times New Roman"/>
            </a:endParaRPr>
          </a:p>
        </p:txBody>
      </p:sp>
      <p:sp>
        <p:nvSpPr>
          <p:cNvPr id="255" name=""/>
          <p:cNvSpPr/>
          <p:nvPr/>
        </p:nvSpPr>
        <p:spPr>
          <a:xfrm>
            <a:off x="503280" y="3836880"/>
            <a:ext cx="8305920" cy="53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56" name=""/>
          <p:cNvSpPr/>
          <p:nvPr/>
        </p:nvSpPr>
        <p:spPr>
          <a:xfrm>
            <a:off x="7471080" y="432432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OGUS</a:t>
            </a:r>
            <a:endParaRPr b="0" lang="en-US" sz="2400" spc="-1" strike="noStrike">
              <a:solidFill>
                <a:srgbClr val="dee3ee"/>
              </a:solidFill>
              <a:latin typeface="Times New Roman"/>
            </a:endParaRPr>
          </a:p>
        </p:txBody>
      </p:sp>
      <p:sp>
        <p:nvSpPr>
          <p:cNvPr id="3" name="PlaceHolder 2"/>
          <p:cNvSpPr>
            <a:spLocks noGrp="1"/>
          </p:cNvSpPr>
          <p:nvPr>
            <p:ph type="ftr" idx="2"/>
          </p:nvPr>
        </p:nvSpPr>
        <p:spPr/>
        <p:txBody>
          <a:bodyPr/>
          <a:p>
            <a:r>
              <a:t>© Evi Nemeth &amp; Trent Hein</a:t>
            </a:r>
          </a:p>
        </p:txBody>
      </p:sp>
      <p:sp>
        <p:nvSpPr>
          <p:cNvPr id="4" name="PlaceHolder 3"/>
          <p:cNvSpPr>
            <a:spLocks noGrp="1"/>
          </p:cNvSpPr>
          <p:nvPr>
            <p:ph type="sldNum" idx="3"/>
          </p:nvPr>
        </p:nvSpPr>
        <p:spPr/>
        <p:txBody>
          <a:bodyPr/>
          <a:p>
            <a:fld id="{3B59F54A-D609-4515-8138-323437E47A5E}" type="slidenum">
              <a:t>64</a:t>
            </a:fld>
          </a:p>
        </p:txBody>
      </p:sp>
      <p:sp>
        <p:nvSpPr>
          <p:cNvPr id="5" name="PlaceHolder 4"/>
          <p:cNvSpPr>
            <a:spLocks noGrp="1"/>
          </p:cNvSpPr>
          <p:nvPr>
            <p:ph type="dt" idx="1"/>
          </p:nvPr>
        </p:nvSpPr>
        <p:spPr/>
        <p:txBody>
          <a:bodyPr/>
          <a:p>
            <a:r>
              <a:rPr lang="en-US"/>
              <a:t>26 Feb 2001</a:t>
            </a:r>
          </a:p>
        </p:txBody>
      </p:sp>
    </p:spTree>
  </p:cSld>
  <p:transition spd="med">
    <p:strips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How to deal with Spam</a:t>
            </a:r>
            <a:endParaRPr b="1" lang="en-US" sz="4800" spc="-1" strike="noStrike">
              <a:solidFill>
                <a:srgbClr val="ffffff"/>
              </a:solidFill>
              <a:latin typeface="Arial Narrow"/>
            </a:endParaRPr>
          </a:p>
        </p:txBody>
      </p:sp>
      <p:sp>
        <p:nvSpPr>
          <p:cNvPr id="258" name="PlaceHolder 2"/>
          <p:cNvSpPr>
            <a:spLocks noGrp="1"/>
          </p:cNvSpPr>
          <p:nvPr>
            <p:ph/>
          </p:nvPr>
        </p:nvSpPr>
        <p:spPr>
          <a:xfrm>
            <a:off x="304920" y="1839960"/>
            <a:ext cx="421776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active / Prevention</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ters</a:t>
            </a:r>
            <a:endParaRPr b="0" lang="en-US" sz="18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going</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ying</a:t>
            </a:r>
            <a:endParaRPr b="0" lang="en-US" sz="16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y as deterrent</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ucation</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P new account qualification</a:t>
            </a:r>
            <a:endParaRPr b="0" lang="en-US" sz="1800" spc="-1" strike="noStrike">
              <a:solidFill>
                <a:srgbClr val="ffffff"/>
              </a:solidFill>
              <a:latin typeface="Arial"/>
            </a:endParaRPr>
          </a:p>
        </p:txBody>
      </p:sp>
      <p:sp>
        <p:nvSpPr>
          <p:cNvPr id="259" name="PlaceHolder 3"/>
          <p:cNvSpPr>
            <a:spLocks noGrp="1"/>
          </p:cNvSpPr>
          <p:nvPr>
            <p:ph/>
          </p:nvPr>
        </p:nvSpPr>
        <p:spPr>
          <a:xfrm>
            <a:off x="4696920" y="1839960"/>
            <a:ext cx="421812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ctive</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ters</a:t>
            </a:r>
            <a:endParaRPr b="0" lang="en-US" sz="18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oming server</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ail agent</a:t>
            </a:r>
            <a:endParaRPr b="0" lang="en-US" sz="16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y enforcement</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al recours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orting</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ucation</a:t>
            </a: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 Evi Nemeth &amp; Trent Hein</a:t>
            </a:r>
          </a:p>
        </p:txBody>
      </p:sp>
      <p:sp>
        <p:nvSpPr>
          <p:cNvPr id="6" name="PlaceHolder 5"/>
          <p:cNvSpPr>
            <a:spLocks noGrp="1"/>
          </p:cNvSpPr>
          <p:nvPr>
            <p:ph type="sldNum" idx="3"/>
          </p:nvPr>
        </p:nvSpPr>
        <p:spPr/>
        <p:txBody>
          <a:bodyPr/>
          <a:p>
            <a:fld id="{7871117B-0E2E-4A8E-8ADD-5628C60B7C78}" type="slidenum">
              <a:t>65</a:t>
            </a:fld>
          </a:p>
        </p:txBody>
      </p:sp>
      <p:sp>
        <p:nvSpPr>
          <p:cNvPr id="7" name="PlaceHolder 6"/>
          <p:cNvSpPr>
            <a:spLocks noGrp="1"/>
          </p:cNvSpPr>
          <p:nvPr>
            <p:ph type="dt" idx="1"/>
          </p:nvPr>
        </p:nvSpPr>
        <p:spPr/>
        <p:txBody>
          <a:bodyPr/>
          <a:p>
            <a:r>
              <a:rPr lang="en-US"/>
              <a:t>26 Feb 2001</a:t>
            </a:r>
          </a:p>
        </p:txBody>
      </p:sp>
    </p:spTree>
  </p:cSld>
  <p:transition spd="med">
    <p:strips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pam Scapegoats</a:t>
            </a:r>
            <a:endParaRPr b="1" lang="en-US" sz="4800" spc="-1" strike="noStrike">
              <a:solidFill>
                <a:srgbClr val="ffffff"/>
              </a:solidFill>
              <a:latin typeface="Arial Narrow"/>
            </a:endParaRPr>
          </a:p>
        </p:txBody>
      </p:sp>
      <p:sp>
        <p:nvSpPr>
          <p:cNvPr id="2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ain or user names used in forgeries - never touched the spa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heat from hasty complain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recourse is reactive: lega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ate spam complainers on how to read mail headers to determine true player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45608F3-EAAC-4860-B9C6-A4CF5C87E3FA}" type="slidenum">
              <a:t>6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Legal recourse ineffective</a:t>
            </a:r>
            <a:endParaRPr b="1" lang="en-US" sz="4800" spc="-1" strike="noStrike">
              <a:solidFill>
                <a:srgbClr val="ffffff"/>
              </a:solidFill>
              <a:latin typeface="Arial Narrow"/>
            </a:endParaRPr>
          </a:p>
        </p:txBody>
      </p:sp>
      <p:sp>
        <p:nvSpPr>
          <p:cNvPr id="2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o sue me” attitud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sue everyon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 &amp; ru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spam &amp; ru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ck of jurisdiction: create a law making spam illegal and spammers go to another jurisdiction (including off-shor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unsolicited FAX law proves law is not a deterren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EFC76EF-52A9-422D-82B8-E1AE98B5CF85}" type="slidenum">
              <a:t>67</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pam Characteristics</a:t>
            </a:r>
            <a:endParaRPr b="1" lang="en-US" sz="4800" spc="-1" strike="noStrike">
              <a:solidFill>
                <a:srgbClr val="ffffff"/>
              </a:solidFill>
              <a:latin typeface="Arial Narrow"/>
            </a:endParaRPr>
          </a:p>
        </p:txBody>
      </p:sp>
      <p:sp>
        <p:nvSpPr>
          <p:cNvPr id="2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cure origin</a:t>
            </a:r>
            <a:endParaRPr b="0" lang="en-US" sz="24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ged MAIL FROM (!= “From” header)</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O != peer name</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a forged Received header (EST -0600)</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yed through unrelated third-party</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existent DNS domain name</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nd envelope sender don’t match</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atches From:</a:t>
            </a:r>
            <a:endParaRPr b="0" lang="en-US" sz="20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se are REQUIRED</a:t>
            </a:r>
            <a:endParaRPr b="0" lang="en-US" sz="24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an 50% of Spam has legitimate (not forged) header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A91AAD5-75C7-4CD7-9773-651820DFA773}" type="slidenum">
              <a:t>6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we can do: </a:t>
            </a:r>
            <a:endParaRPr b="1" lang="en-US" sz="4800" spc="-1" strike="noStrike">
              <a:solidFill>
                <a:srgbClr val="ffffff"/>
              </a:solidFill>
              <a:latin typeface="Arial Narrow"/>
            </a:endParaRPr>
          </a:p>
        </p:txBody>
      </p:sp>
      <p:sp>
        <p:nvSpPr>
          <p:cNvPr id="26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nel outgoing mail through a spam throttle SMTP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force valid MAIL FROM address including user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force valid headers - no forge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envelope recipient lis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ttle frequency of SMTP connec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n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49341D8-4AEB-40D4-86B9-5A384E881CF4}" type="slidenum">
              <a:t>6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ew Resource Records</a:t>
            </a:r>
            <a:endParaRPr b="1" lang="en-US" sz="4800" spc="-1" strike="noStrike">
              <a:solidFill>
                <a:srgbClr val="ffffff"/>
              </a:solidFill>
              <a:latin typeface="Arial Narrow"/>
            </a:endParaRPr>
          </a:p>
        </p:txBody>
      </p:sp>
      <p:sp>
        <p:nvSpPr>
          <p:cNvPr id="11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 resource record, for geographic location</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itude</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itude</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itude</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RV resource record, for service location</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rt of WKS and MX</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closest server</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NS round robin complicates things</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resource record, for security</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s public key</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 resource record, for security</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s signature of a set of resource record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ED89881-1637-4B0B-9A6C-518E49519ACB}" type="slidenum">
              <a:t>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8" name=""/>
          <p:cNvSpPr/>
          <p:nvPr/>
        </p:nvSpPr>
        <p:spPr>
          <a:xfrm>
            <a:off x="1523880" y="228600"/>
            <a:ext cx="5715000" cy="990720"/>
          </a:xfrm>
          <a:custGeom>
            <a:avLst/>
            <a:gdLst/>
            <a:ahLst/>
            <a:rect l="l" t="t" r="r" b="b"/>
            <a:pathLst>
              <a:path w="3765" h="455">
                <a:moveTo>
                  <a:pt x="0" y="51"/>
                </a:moveTo>
                <a:cubicBezTo>
                  <a:pt x="114" y="447"/>
                  <a:pt x="249" y="307"/>
                  <a:pt x="786" y="382"/>
                </a:cubicBezTo>
                <a:cubicBezTo>
                  <a:pt x="869" y="368"/>
                  <a:pt x="952" y="360"/>
                  <a:pt x="1034" y="341"/>
                </a:cubicBezTo>
                <a:cubicBezTo>
                  <a:pt x="1098" y="326"/>
                  <a:pt x="1157" y="294"/>
                  <a:pt x="1221" y="279"/>
                </a:cubicBezTo>
                <a:cubicBezTo>
                  <a:pt x="1276" y="296"/>
                  <a:pt x="1332" y="311"/>
                  <a:pt x="1386" y="331"/>
                </a:cubicBezTo>
                <a:cubicBezTo>
                  <a:pt x="1436" y="350"/>
                  <a:pt x="1481" y="392"/>
                  <a:pt x="1531" y="413"/>
                </a:cubicBezTo>
                <a:cubicBezTo>
                  <a:pt x="1602" y="444"/>
                  <a:pt x="1683" y="442"/>
                  <a:pt x="1759" y="455"/>
                </a:cubicBezTo>
                <a:cubicBezTo>
                  <a:pt x="1869" y="448"/>
                  <a:pt x="1980" y="445"/>
                  <a:pt x="2090" y="434"/>
                </a:cubicBezTo>
                <a:cubicBezTo>
                  <a:pt x="2204" y="423"/>
                  <a:pt x="2298" y="373"/>
                  <a:pt x="2410" y="362"/>
                </a:cubicBezTo>
                <a:cubicBezTo>
                  <a:pt x="2493" y="306"/>
                  <a:pt x="2595" y="257"/>
                  <a:pt x="2690" y="227"/>
                </a:cubicBezTo>
                <a:cubicBezTo>
                  <a:pt x="2926" y="237"/>
                  <a:pt x="3157" y="266"/>
                  <a:pt x="3393" y="279"/>
                </a:cubicBezTo>
                <a:cubicBezTo>
                  <a:pt x="3455" y="275"/>
                  <a:pt x="3519" y="284"/>
                  <a:pt x="3579" y="268"/>
                </a:cubicBezTo>
                <a:cubicBezTo>
                  <a:pt x="3699" y="235"/>
                  <a:pt x="3719" y="91"/>
                  <a:pt x="3765" y="0"/>
                </a:cubicBezTo>
              </a:path>
            </a:pathLst>
          </a:custGeom>
          <a:gradFill rotWithShape="0">
            <a:gsLst>
              <a:gs pos="0">
                <a:srgbClr val="465e75"/>
              </a:gs>
              <a:gs pos="100000">
                <a:srgbClr val="99ccff"/>
              </a:gs>
            </a:gsLst>
            <a:lin ang="5400000"/>
          </a:gradFill>
          <a:ln w="9360">
            <a:solidFill>
              <a:srgbClr val="dee3ee"/>
            </a:solidFill>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69" name=""/>
          <p:cNvSpPr/>
          <p:nvPr/>
        </p:nvSpPr>
        <p:spPr>
          <a:xfrm>
            <a:off x="3879360" y="279360"/>
            <a:ext cx="799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ig I</a:t>
            </a:r>
            <a:endParaRPr b="0" lang="en-US" sz="2400" spc="-1" strike="noStrike">
              <a:solidFill>
                <a:srgbClr val="dee3ee"/>
              </a:solidFill>
              <a:latin typeface="Times New Roman"/>
            </a:endParaRPr>
          </a:p>
        </p:txBody>
      </p:sp>
      <p:sp>
        <p:nvSpPr>
          <p:cNvPr id="270" name=""/>
          <p:cNvSpPr/>
          <p:nvPr/>
        </p:nvSpPr>
        <p:spPr>
          <a:xfrm>
            <a:off x="1333440" y="2857680"/>
            <a:ext cx="6058080" cy="2781000"/>
          </a:xfrm>
          <a:custGeom>
            <a:avLst/>
            <a:gdLst/>
            <a:ahLst/>
            <a:rect l="l" t="t" r="r" b="b"/>
            <a:pathLst>
              <a:path w="4432" h="2064">
                <a:moveTo>
                  <a:pt x="72" y="1320"/>
                </a:moveTo>
                <a:cubicBezTo>
                  <a:pt x="0" y="1080"/>
                  <a:pt x="72" y="696"/>
                  <a:pt x="312" y="504"/>
                </a:cubicBezTo>
                <a:cubicBezTo>
                  <a:pt x="552" y="312"/>
                  <a:pt x="1000" y="240"/>
                  <a:pt x="1512" y="168"/>
                </a:cubicBezTo>
                <a:cubicBezTo>
                  <a:pt x="2024" y="96"/>
                  <a:pt x="2976" y="0"/>
                  <a:pt x="3384" y="72"/>
                </a:cubicBezTo>
                <a:cubicBezTo>
                  <a:pt x="3792" y="144"/>
                  <a:pt x="3824" y="360"/>
                  <a:pt x="3960" y="600"/>
                </a:cubicBezTo>
                <a:cubicBezTo>
                  <a:pt x="4096" y="840"/>
                  <a:pt x="4432" y="1280"/>
                  <a:pt x="4200" y="1512"/>
                </a:cubicBezTo>
                <a:cubicBezTo>
                  <a:pt x="3968" y="1744"/>
                  <a:pt x="3144" y="1920"/>
                  <a:pt x="2568" y="1992"/>
                </a:cubicBezTo>
                <a:cubicBezTo>
                  <a:pt x="1992" y="2064"/>
                  <a:pt x="1152" y="2056"/>
                  <a:pt x="744" y="1944"/>
                </a:cubicBezTo>
                <a:cubicBezTo>
                  <a:pt x="336" y="1832"/>
                  <a:pt x="144" y="1560"/>
                  <a:pt x="72" y="1320"/>
                </a:cubicBezTo>
                <a:close/>
              </a:path>
            </a:pathLst>
          </a:custGeom>
          <a:noFill/>
          <a:ln w="9360">
            <a:solidFill>
              <a:srgbClr val="dee3ee"/>
            </a:solidFill>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71" name=""/>
          <p:cNvSpPr/>
          <p:nvPr/>
        </p:nvSpPr>
        <p:spPr>
          <a:xfrm>
            <a:off x="4724280" y="3733920"/>
            <a:ext cx="1905120" cy="83808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Mail Relay</a:t>
            </a:r>
            <a:endParaRPr b="0" lang="en-US" sz="2400" spc="-1" strike="noStrike">
              <a:solidFill>
                <a:srgbClr val="dee3ee"/>
              </a:solidFill>
              <a:latin typeface="Times New Roman"/>
            </a:endParaRPr>
          </a:p>
        </p:txBody>
      </p:sp>
      <p:sp>
        <p:nvSpPr>
          <p:cNvPr id="272" name=""/>
          <p:cNvSpPr/>
          <p:nvPr/>
        </p:nvSpPr>
        <p:spPr>
          <a:xfrm>
            <a:off x="1981080" y="3733920"/>
            <a:ext cx="1752840" cy="91440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Mail Relay</a:t>
            </a:r>
            <a:endParaRPr b="0" lang="en-US" sz="2400" spc="-1" strike="noStrike">
              <a:solidFill>
                <a:srgbClr val="dee3ee"/>
              </a:solidFill>
              <a:latin typeface="Times New Roman"/>
            </a:endParaRPr>
          </a:p>
        </p:txBody>
      </p:sp>
      <p:sp>
        <p:nvSpPr>
          <p:cNvPr id="273" name=""/>
          <p:cNvSpPr/>
          <p:nvPr/>
        </p:nvSpPr>
        <p:spPr>
          <a:xfrm>
            <a:off x="2514600" y="2514600"/>
            <a:ext cx="3809880" cy="762120"/>
          </a:xfrm>
          <a:prstGeom prst="rect">
            <a:avLst/>
          </a:prstGeom>
          <a:solidFill>
            <a:srgbClr val="666699"/>
          </a:solidFill>
          <a:ln w="9360">
            <a:solidFill>
              <a:srgbClr val="dee3e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   </a:t>
            </a:r>
            <a:r>
              <a:rPr b="0" lang="en-US" sz="2400" spc="-1" strike="noStrike">
                <a:solidFill>
                  <a:srgbClr val="dee3ee"/>
                </a:solidFill>
                <a:latin typeface="Times New Roman"/>
              </a:rPr>
              <a:t>Router</a:t>
            </a:r>
            <a:endParaRPr b="0" lang="en-US" sz="2400" spc="-1" strike="noStrike">
              <a:solidFill>
                <a:srgbClr val="dee3ee"/>
              </a:solidFill>
              <a:latin typeface="Times New Roman"/>
            </a:endParaRPr>
          </a:p>
        </p:txBody>
      </p:sp>
      <p:sp>
        <p:nvSpPr>
          <p:cNvPr id="274" name=""/>
          <p:cNvSpPr/>
          <p:nvPr/>
        </p:nvSpPr>
        <p:spPr>
          <a:xfrm flipV="1">
            <a:off x="3200400" y="1218960"/>
            <a:ext cx="838080" cy="251460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75" name=""/>
          <p:cNvSpPr/>
          <p:nvPr/>
        </p:nvSpPr>
        <p:spPr>
          <a:xfrm flipH="1" flipV="1">
            <a:off x="4191120" y="1218960"/>
            <a:ext cx="1371600" cy="251460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76" name=""/>
          <p:cNvSpPr/>
          <p:nvPr/>
        </p:nvSpPr>
        <p:spPr>
          <a:xfrm>
            <a:off x="5334120" y="563868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77" name=""/>
          <p:cNvSpPr/>
          <p:nvPr/>
        </p:nvSpPr>
        <p:spPr>
          <a:xfrm>
            <a:off x="6019920" y="5334120"/>
            <a:ext cx="685800" cy="30456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78" name=""/>
          <p:cNvSpPr/>
          <p:nvPr/>
        </p:nvSpPr>
        <p:spPr>
          <a:xfrm>
            <a:off x="7010280" y="502920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79" name=""/>
          <p:cNvSpPr/>
          <p:nvPr/>
        </p:nvSpPr>
        <p:spPr>
          <a:xfrm>
            <a:off x="6705720" y="548640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80" name=""/>
          <p:cNvSpPr/>
          <p:nvPr/>
        </p:nvSpPr>
        <p:spPr>
          <a:xfrm flipH="1" flipV="1">
            <a:off x="5409720" y="4571640"/>
            <a:ext cx="228600" cy="10666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1" name=""/>
          <p:cNvSpPr/>
          <p:nvPr/>
        </p:nvSpPr>
        <p:spPr>
          <a:xfrm flipH="1" flipV="1">
            <a:off x="5790960" y="4571640"/>
            <a:ext cx="533160" cy="76212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2" name=""/>
          <p:cNvSpPr/>
          <p:nvPr/>
        </p:nvSpPr>
        <p:spPr>
          <a:xfrm flipH="1" flipV="1">
            <a:off x="6172200" y="4495680"/>
            <a:ext cx="838080" cy="99072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3" name=""/>
          <p:cNvSpPr/>
          <p:nvPr/>
        </p:nvSpPr>
        <p:spPr>
          <a:xfrm flipH="1" flipV="1">
            <a:off x="6400800" y="4419360"/>
            <a:ext cx="914400" cy="6094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4" name=""/>
          <p:cNvSpPr/>
          <p:nvPr/>
        </p:nvSpPr>
        <p:spPr>
          <a:xfrm flipH="1" flipV="1">
            <a:off x="4647960" y="1218960"/>
            <a:ext cx="2819160" cy="38098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5" name=""/>
          <p:cNvSpPr/>
          <p:nvPr/>
        </p:nvSpPr>
        <p:spPr>
          <a:xfrm>
            <a:off x="6477480" y="571500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Customers</a:t>
            </a:r>
            <a:endParaRPr b="0" lang="en-US" sz="2400" spc="-1" strike="noStrike">
              <a:solidFill>
                <a:srgbClr val="dee3ee"/>
              </a:solidFill>
              <a:latin typeface="Times New Roman"/>
            </a:endParaRPr>
          </a:p>
        </p:txBody>
      </p:sp>
      <p:sp>
        <p:nvSpPr>
          <p:cNvPr id="286" name=""/>
          <p:cNvSpPr/>
          <p:nvPr/>
        </p:nvSpPr>
        <p:spPr>
          <a:xfrm>
            <a:off x="1828800" y="480060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87" name=""/>
          <p:cNvSpPr/>
          <p:nvPr/>
        </p:nvSpPr>
        <p:spPr>
          <a:xfrm>
            <a:off x="2666880" y="495288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88" name=""/>
          <p:cNvSpPr/>
          <p:nvPr/>
        </p:nvSpPr>
        <p:spPr>
          <a:xfrm>
            <a:off x="3505320" y="495288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89" name=""/>
          <p:cNvSpPr/>
          <p:nvPr/>
        </p:nvSpPr>
        <p:spPr>
          <a:xfrm flipH="1" flipV="1">
            <a:off x="3429000" y="4572000"/>
            <a:ext cx="380880" cy="3808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90" name=""/>
          <p:cNvSpPr/>
          <p:nvPr/>
        </p:nvSpPr>
        <p:spPr>
          <a:xfrm flipH="1" flipV="1">
            <a:off x="2895480" y="4648320"/>
            <a:ext cx="76320" cy="30456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91" name=""/>
          <p:cNvSpPr/>
          <p:nvPr/>
        </p:nvSpPr>
        <p:spPr>
          <a:xfrm flipV="1">
            <a:off x="2133720" y="4571640"/>
            <a:ext cx="228600" cy="22860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92" name=""/>
          <p:cNvSpPr/>
          <p:nvPr/>
        </p:nvSpPr>
        <p:spPr>
          <a:xfrm flipV="1">
            <a:off x="3886200" y="1218960"/>
            <a:ext cx="228600" cy="373356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93" name=""/>
          <p:cNvSpPr/>
          <p:nvPr/>
        </p:nvSpPr>
        <p:spPr>
          <a:xfrm>
            <a:off x="1447200" y="5715000"/>
            <a:ext cx="227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Internal Network</a:t>
            </a:r>
            <a:endParaRPr b="0" lang="en-US" sz="2400" spc="-1" strike="noStrike">
              <a:solidFill>
                <a:srgbClr val="dee3ee"/>
              </a:solidFill>
              <a:latin typeface="Times New Roman"/>
            </a:endParaRPr>
          </a:p>
        </p:txBody>
      </p:sp>
      <p:sp>
        <p:nvSpPr>
          <p:cNvPr id="294" name=""/>
          <p:cNvSpPr/>
          <p:nvPr/>
        </p:nvSpPr>
        <p:spPr>
          <a:xfrm>
            <a:off x="2538000" y="513720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employees</a:t>
            </a:r>
            <a:endParaRPr b="0" lang="en-US" sz="2400" spc="-1" strike="noStrike">
              <a:solidFill>
                <a:srgbClr val="dee3ee"/>
              </a:solidFill>
              <a:latin typeface="Times New Roman"/>
            </a:endParaRPr>
          </a:p>
        </p:txBody>
      </p:sp>
      <p:sp>
        <p:nvSpPr>
          <p:cNvPr id="295" name=""/>
          <p:cNvSpPr/>
          <p:nvPr/>
        </p:nvSpPr>
        <p:spPr>
          <a:xfrm rot="21511800">
            <a:off x="3791520" y="2760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X</a:t>
            </a:r>
            <a:endParaRPr b="0" lang="en-US" sz="2400" spc="-1" strike="noStrike">
              <a:solidFill>
                <a:srgbClr val="dee3ee"/>
              </a:solidFill>
              <a:latin typeface="Times New Roman"/>
            </a:endParaRPr>
          </a:p>
        </p:txBody>
      </p:sp>
      <p:sp>
        <p:nvSpPr>
          <p:cNvPr id="296" name=""/>
          <p:cNvSpPr/>
          <p:nvPr/>
        </p:nvSpPr>
        <p:spPr>
          <a:xfrm rot="20061600">
            <a:off x="5715360" y="2668320"/>
            <a:ext cx="41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X</a:t>
            </a:r>
            <a:endParaRPr b="0" lang="en-US" sz="2400" spc="-1" strike="noStrike">
              <a:solidFill>
                <a:srgbClr val="dee3ee"/>
              </a:solidFill>
              <a:latin typeface="Times New Roman"/>
            </a:endParaRPr>
          </a:p>
        </p:txBody>
      </p:sp>
      <p:sp>
        <p:nvSpPr>
          <p:cNvPr id="2" name="PlaceHolder 1"/>
          <p:cNvSpPr>
            <a:spLocks noGrp="1"/>
          </p:cNvSpPr>
          <p:nvPr>
            <p:ph type="ftr" idx="2"/>
          </p:nvPr>
        </p:nvSpPr>
        <p:spPr/>
        <p:txBody>
          <a:bodyPr/>
          <a:p>
            <a:r>
              <a:t>© Evi Nemeth &amp; Trent Hein</a:t>
            </a:r>
          </a:p>
        </p:txBody>
      </p:sp>
      <p:sp>
        <p:nvSpPr>
          <p:cNvPr id="3" name="PlaceHolder 2"/>
          <p:cNvSpPr>
            <a:spLocks noGrp="1"/>
          </p:cNvSpPr>
          <p:nvPr>
            <p:ph type="sldNum" idx="3"/>
          </p:nvPr>
        </p:nvSpPr>
        <p:spPr/>
        <p:txBody>
          <a:bodyPr/>
          <a:p>
            <a:fld id="{C896722C-F419-48B9-B929-E594743BB7E0}" type="slidenum">
              <a:t>70</a:t>
            </a:fld>
          </a:p>
        </p:txBody>
      </p:sp>
      <p:sp>
        <p:nvSpPr>
          <p:cNvPr id="4" name="PlaceHolder 3"/>
          <p:cNvSpPr>
            <a:spLocks noGrp="1"/>
          </p:cNvSpPr>
          <p:nvPr>
            <p:ph type="dt" idx="1"/>
          </p:nvPr>
        </p:nvSpPr>
        <p:spPr/>
        <p:txBody>
          <a:bodyPr/>
          <a:p>
            <a:r>
              <a:rPr lang="en-US"/>
              <a:t>26 Feb 2001</a:t>
            </a:r>
          </a:p>
        </p:txBody>
      </p:sp>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y bother?</a:t>
            </a:r>
            <a:endParaRPr b="1" lang="en-US" sz="4800" spc="-1" strike="noStrike">
              <a:solidFill>
                <a:srgbClr val="ffffff"/>
              </a:solidFill>
              <a:latin typeface="Arial Narrow"/>
            </a:endParaRPr>
          </a:p>
        </p:txBody>
      </p:sp>
      <p:sp>
        <p:nvSpPr>
          <p:cNvPr id="29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ready spending time, money, and reputation dealing with complaint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embarrassing public apologies like Zoom, config.sys, and UUNE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Revenue - charge premium rate for:</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relayed SMTP</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ed incoming mailbox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E3794F0-558C-4970-9CCA-C5D2C4C8DCD8}" type="slidenum">
              <a:t>7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can we do: </a:t>
            </a:r>
            <a:endParaRPr b="1" lang="en-US" sz="4800" spc="-1" strike="noStrike">
              <a:solidFill>
                <a:srgbClr val="ffffff"/>
              </a:solidFill>
              <a:latin typeface="Arial Narrow"/>
            </a:endParaRPr>
          </a:p>
        </p:txBody>
      </p:sp>
      <p:sp>
        <p:nvSpPr>
          <p:cNvPr id="30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sy (relay)</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 valid envelope address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llow relay</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external recipients from external session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lly based only on envelope addresse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mmers can use ! And % mail syntax to get around thi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screw up your Received header record keeping (from [validated], by, fo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ck SMTP sessions from known spam networks and hosts (RBL or private lis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853599D-F188-4346-BF63-9C01FF825BD0}" type="slidenum">
              <a:t>7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can we do: Recipient</a:t>
            </a:r>
            <a:endParaRPr b="1" lang="en-US" sz="4800" spc="-1" strike="noStrike">
              <a:solidFill>
                <a:srgbClr val="ffffff"/>
              </a:solidFill>
              <a:latin typeface="Arial Narrow"/>
            </a:endParaRPr>
          </a:p>
        </p:txBody>
      </p:sp>
      <p:sp>
        <p:nvSpPr>
          <p:cNvPr id="302" name="PlaceHolder 2"/>
          <p:cNvSpPr>
            <a:spLocks noGrp="1"/>
          </p:cNvSpPr>
          <p:nvPr>
            <p:ph/>
          </p:nvPr>
        </p:nvSpPr>
        <p:spPr>
          <a:xfrm>
            <a:off x="304920" y="1839960"/>
            <a:ext cx="421776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 filters - reject connect/msg</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known spam hosts (RBL)</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invalid envelope address</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known spam address</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non-local users (no relay)</a:t>
            </a:r>
            <a:endParaRPr b="0" lang="en-US" sz="1800" spc="-1" strike="noStrike">
              <a:solidFill>
                <a:srgbClr val="ffffff"/>
              </a:solidFill>
              <a:latin typeface="Arial"/>
            </a:endParaRPr>
          </a:p>
        </p:txBody>
      </p:sp>
      <p:sp>
        <p:nvSpPr>
          <p:cNvPr id="303" name="PlaceHolder 3"/>
          <p:cNvSpPr>
            <a:spLocks noGrp="1"/>
          </p:cNvSpPr>
          <p:nvPr>
            <p:ph/>
          </p:nvPr>
        </p:nvSpPr>
        <p:spPr>
          <a:xfrm>
            <a:off x="4696920" y="1839960"/>
            <a:ext cx="421812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filters</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 approach is to filter all mail except explicitly _to_ known addresses: personal or lists</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unce or refile others</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on’t get Bcc mail anymor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hing is 100%</a:t>
            </a: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 Evi Nemeth &amp; Trent Hein</a:t>
            </a:r>
          </a:p>
        </p:txBody>
      </p:sp>
      <p:sp>
        <p:nvSpPr>
          <p:cNvPr id="6" name="PlaceHolder 5"/>
          <p:cNvSpPr>
            <a:spLocks noGrp="1"/>
          </p:cNvSpPr>
          <p:nvPr>
            <p:ph type="sldNum" idx="3"/>
          </p:nvPr>
        </p:nvSpPr>
        <p:spPr/>
        <p:txBody>
          <a:bodyPr/>
          <a:p>
            <a:fld id="{F049D5D4-C973-49A6-8760-ADE4D9BA983A}" type="slidenum">
              <a:t>73</a:t>
            </a:fld>
          </a:p>
        </p:txBody>
      </p:sp>
      <p:sp>
        <p:nvSpPr>
          <p:cNvPr id="7" name="PlaceHolder 6"/>
          <p:cNvSpPr>
            <a:spLocks noGrp="1"/>
          </p:cNvSpPr>
          <p:nvPr>
            <p:ph type="dt" idx="1"/>
          </p:nvPr>
        </p:nvSpPr>
        <p:spPr/>
        <p:txBody>
          <a:bodyPr/>
          <a:p>
            <a:r>
              <a:rPr lang="en-US"/>
              <a:t>26 Feb 2001</a:t>
            </a: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esources: Sendmail</a:t>
            </a:r>
            <a:endParaRPr b="1" lang="en-US" sz="4800" spc="-1" strike="noStrike">
              <a:solidFill>
                <a:srgbClr val="ffffff"/>
              </a:solidFill>
              <a:latin typeface="Arial Narrow"/>
            </a:endParaRPr>
          </a:p>
        </p:txBody>
      </p:sp>
      <p:sp>
        <p:nvSpPr>
          <p:cNvPr id="30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endmail v8.9+</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y is off by defaul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relay only to/from hosts in cw file by defaul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full relay contro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an arbitrary access database which can be fed by RB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FAQ 3.27 for relay excep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http://www.sendmail.org/m4/anti-spam.htm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ble to create your own rejection rul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endmail.or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310BB20-5FD8-4A6E-A6BC-EFEFFDD61B55}" type="slidenum">
              <a:t>7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ndmail MC Features</a:t>
            </a:r>
            <a:endParaRPr b="1" lang="en-US" sz="4800" spc="-1" strike="noStrike">
              <a:solidFill>
                <a:srgbClr val="ffffff"/>
              </a:solidFill>
              <a:latin typeface="Arial Narrow"/>
            </a:endParaRPr>
          </a:p>
        </p:txBody>
      </p:sp>
      <p:sp>
        <p:nvSpPr>
          <p:cNvPr id="30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relay_entire_domain')    $=m</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relay_local_from')       </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 (`relay_hosts_only')         $=R</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relay_based_on_MX')    imperfect, but easier to manag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access_db')                    private blackhole lis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rbl')                                  http://maps.vix.com/</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blacklist_recipients')       disable user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loose_relay_check')</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accept_unqualified_sender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accept_unresolvable_domain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F19951C-76DC-499D-80D4-051B382D95E5}" type="slidenum">
              <a:t>7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T Mail servers</a:t>
            </a:r>
            <a:endParaRPr b="1" lang="en-US" sz="4800" spc="-1" strike="noStrike">
              <a:solidFill>
                <a:srgbClr val="ffffff"/>
              </a:solidFill>
              <a:latin typeface="Arial Narrow"/>
            </a:endParaRPr>
          </a:p>
        </p:txBody>
      </p:sp>
      <p:sp>
        <p:nvSpPr>
          <p:cNvPr id="30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se resources cost money, but they have filters and ways to disallow relaying</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mail (</a:t>
            </a:r>
            <a:r>
              <a:rPr b="1" lang="en-US" sz="2000" spc="-1" strike="noStrike">
                <a:solidFill>
                  <a:srgbClr val="ffffff"/>
                </a:solidFill>
                <a:latin typeface="Courier New"/>
              </a:rPr>
              <a:t>www.metainfo.com</a:t>
            </a:r>
            <a:r>
              <a:rPr b="0" lang="en-US" sz="2000" spc="-1" strike="noStrike">
                <a:solidFill>
                  <a:srgbClr val="ffffff"/>
                </a:solidFill>
                <a:latin typeface="Courier New"/>
              </a:rPr>
              <a: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Office</a:t>
            </a:r>
            <a:r>
              <a:rPr b="0" lang="en-US" sz="2000" spc="-1" strike="noStrike">
                <a:solidFill>
                  <a:srgbClr val="ffffff"/>
                </a:solidFill>
                <a:latin typeface="Courier New"/>
              </a:rPr>
              <a:t> (</a:t>
            </a:r>
            <a:r>
              <a:rPr b="1" lang="en-US" sz="2000" spc="-1" strike="noStrike">
                <a:solidFill>
                  <a:srgbClr val="ffffff"/>
                </a:solidFill>
                <a:latin typeface="Courier New"/>
              </a:rPr>
              <a:t>www.software.com</a:t>
            </a:r>
            <a:r>
              <a:rPr b="0" lang="en-US" sz="2000" spc="-1" strike="noStrike">
                <a:solidFill>
                  <a:srgbClr val="ffffff"/>
                </a:solidFill>
                <a:latin typeface="Courier New"/>
              </a:rPr>
              <a: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ail (</a:t>
            </a:r>
            <a:r>
              <a:rPr b="1" lang="en-US" sz="2000" spc="-1" strike="noStrike">
                <a:solidFill>
                  <a:srgbClr val="ffffff"/>
                </a:solidFill>
                <a:latin typeface="Courier New"/>
              </a:rPr>
              <a:t>www.ipswitch.com</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0DCA783-942A-4EED-8951-BD0E8118EEFA}" type="slidenum">
              <a:t>7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ail Client Resources</a:t>
            </a:r>
            <a:endParaRPr b="1" lang="en-US" sz="4800" spc="-1" strike="noStrike">
              <a:solidFill>
                <a:srgbClr val="ffffff"/>
              </a:solidFill>
              <a:latin typeface="Arial Narrow"/>
            </a:endParaRPr>
          </a:p>
        </p:txBody>
      </p:sp>
      <p:sp>
        <p:nvSpPr>
          <p:cNvPr id="31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look has a spam threshold and filte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dora has new &amp; improved filter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Favorite: SpamBeGone! (</a:t>
            </a:r>
            <a:r>
              <a:rPr b="1" lang="en-US" sz="2000" spc="-1" strike="noStrike">
                <a:solidFill>
                  <a:srgbClr val="ffffff"/>
                </a:solidFill>
                <a:latin typeface="Courier New"/>
              </a:rPr>
              <a:t>www.internz.com/SpamBeGon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lligent plug-in that learns what you think is spa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with Eudora on Wi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ailable as UNIX binary command-line filter adding X-Priority for Solaris, Linux, IRIX, FreeBSD, Amiga</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A35EAD8-E345-499A-BBA0-B0545DA84A70}" type="slidenum">
              <a:t>7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re Tools</a:t>
            </a:r>
            <a:endParaRPr b="1" lang="en-US" sz="4800" spc="-1" strike="noStrike">
              <a:solidFill>
                <a:srgbClr val="ffffff"/>
              </a:solidFill>
              <a:latin typeface="Arial Narrow"/>
            </a:endParaRPr>
          </a:p>
        </p:txBody>
      </p:sp>
      <p:sp>
        <p:nvSpPr>
          <p:cNvPr id="31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rely upon lists of known spam senders/recipients </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 Exterminato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 Attack Pro</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Scan97 (you need to provide your own list)</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help you complain, not necessarily correctly</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 Hater </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5F3E604-B84E-4284-8440-4EBE99960B29}" type="slidenum">
              <a:t>7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mplaint Forwarding</a:t>
            </a:r>
            <a:endParaRPr b="1" lang="en-US" sz="4800" spc="-1" strike="noStrike">
              <a:solidFill>
                <a:srgbClr val="ffffff"/>
              </a:solidFill>
              <a:latin typeface="Arial Narrow"/>
            </a:endParaRPr>
          </a:p>
        </p:txBody>
      </p:sp>
      <p:sp>
        <p:nvSpPr>
          <p:cNvPr id="3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use.ne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complaints to baddomain@abuse.ne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maintain a list of complaint addresses - Iff not on list, sends to postmaster@baddomai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registration and you have to figure out who is to blam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mCop.ne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 (spamcop@spamcop.net) and web interfac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zes spam and sends complaints to origin, relay, beneficia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detailed analysis of how it figured out whom to blam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side: bad sites can silently block smtp from abuse.net and spamcop.ne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B14E3FD-2AB7-4281-9267-26556F01F479}" type="slidenum">
              <a:t>7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cure DNS</a:t>
            </a:r>
            <a:endParaRPr b="1" lang="en-US" sz="4800" spc="-1" strike="noStrike">
              <a:solidFill>
                <a:srgbClr val="ffffff"/>
              </a:solidFill>
              <a:latin typeface="Arial Narrow"/>
            </a:endParaRPr>
          </a:p>
        </p:txBody>
      </p:sp>
      <p:sp>
        <p:nvSpPr>
          <p:cNvPr id="11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can verify that they got right data</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new KEY and SIG records, private key is kept offlin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RSA encryption, problems with export remai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ed DNS messages are bigg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 servers and clients are slower</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8E6C46E-53EB-4F13-AEB0-F2335B4BA3E9}" type="slidenum">
              <a:t>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ther Resources</a:t>
            </a:r>
            <a:endParaRPr b="1" lang="en-US" sz="4800" spc="-1" strike="noStrike">
              <a:solidFill>
                <a:srgbClr val="ffffff"/>
              </a:solidFill>
              <a:latin typeface="Arial Narrow"/>
            </a:endParaRPr>
          </a:p>
        </p:txBody>
      </p:sp>
      <p:sp>
        <p:nvSpPr>
          <p:cNvPr id="31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ools – most have some level of filtering and/or RBL support</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qmail.org/</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shield.conti.nu/</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obtuse.com/smtpd.html</a:t>
            </a:r>
            <a:endParaRPr b="0" lang="en-US" sz="2000" spc="-1" strike="noStrike">
              <a:solidFill>
                <a:srgbClr val="ffffff"/>
              </a:solidFill>
              <a:latin typeface="Arial"/>
            </a:endParaRPr>
          </a:p>
          <a:p>
            <a:pPr marL="343080" indent="-343080">
              <a:lnSpc>
                <a:spcPct val="90000"/>
              </a:lnSpc>
              <a:spcBef>
                <a:spcPts val="550"/>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neral Info</a:t>
            </a:r>
            <a:endParaRPr b="0" lang="en-US" sz="22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 recycling center: www.chooseyourmail.com</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tical Action: www.cauce.org/</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Info: www.mids.org/nospam/</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ice: www.sprocket.com/Security/Stopping-UCE.html</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Advice: spam.abuse.net/spam/</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islation lookup: thomas.loc.gov/</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3C8037D-C177-41C4-BA22-FD1FF0F65D1A}" type="slidenum">
              <a:t>8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voiding Being a Target</a:t>
            </a:r>
            <a:endParaRPr b="1" lang="en-US" sz="4800" spc="-1" strike="noStrike">
              <a:solidFill>
                <a:srgbClr val="ffffff"/>
              </a:solidFill>
              <a:latin typeface="Arial Narrow"/>
            </a:endParaRPr>
          </a:p>
        </p:txBody>
      </p:sp>
      <p:sp>
        <p:nvSpPr>
          <p:cNvPr id="319" name="PlaceHolder 2"/>
          <p:cNvSpPr>
            <a:spLocks noGrp="1"/>
          </p:cNvSpPr>
          <p:nvPr>
            <p:ph/>
          </p:nvPr>
        </p:nvSpPr>
        <p:spPr>
          <a:xfrm>
            <a:off x="304560" y="1839960"/>
            <a:ext cx="423540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you get on Spam list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ML mailto or text with @</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 Browser preferences</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NET News postings</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d opt-in lists, surveys, etc.</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aints</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cation</a:t>
            </a:r>
            <a:endParaRPr b="0" lang="en-US" sz="1800" spc="-1" strike="noStrike">
              <a:solidFill>
                <a:srgbClr val="ffffff"/>
              </a:solidFill>
              <a:latin typeface="Arial"/>
            </a:endParaRPr>
          </a:p>
        </p:txBody>
      </p:sp>
      <p:sp>
        <p:nvSpPr>
          <p:cNvPr id="320" name="PlaceHolder 3"/>
          <p:cNvSpPr>
            <a:spLocks noGrp="1"/>
          </p:cNvSpPr>
          <p:nvPr>
            <p:ph/>
          </p:nvPr>
        </p:nvSpPr>
        <p:spPr>
          <a:xfrm>
            <a:off x="4679640" y="1839960"/>
            <a:ext cx="423540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not get on Spam list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use mailto or @ in html</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use a browser’s built-in email and don’t put your email in prefs</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modified news identity</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n with a modified identity</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 complain to the originator</a:t>
            </a: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 Evi Nemeth &amp; Trent Hein</a:t>
            </a:r>
          </a:p>
        </p:txBody>
      </p:sp>
      <p:sp>
        <p:nvSpPr>
          <p:cNvPr id="6" name="PlaceHolder 5"/>
          <p:cNvSpPr>
            <a:spLocks noGrp="1"/>
          </p:cNvSpPr>
          <p:nvPr>
            <p:ph type="sldNum" idx="3"/>
          </p:nvPr>
        </p:nvSpPr>
        <p:spPr/>
        <p:txBody>
          <a:bodyPr/>
          <a:p>
            <a:fld id="{4A355A49-20E6-4CB8-A212-792E9C2BF42B}" type="slidenum">
              <a:t>81</a:t>
            </a:fld>
          </a:p>
        </p:txBody>
      </p:sp>
      <p:sp>
        <p:nvSpPr>
          <p:cNvPr id="7" name="PlaceHolder 6"/>
          <p:cNvSpPr>
            <a:spLocks noGrp="1"/>
          </p:cNvSpPr>
          <p:nvPr>
            <p:ph type="dt" idx="1"/>
          </p:nvPr>
        </p:nvSpPr>
        <p:spPr/>
        <p:txBody>
          <a:bodyPr/>
          <a:p>
            <a:r>
              <a:rPr lang="en-US"/>
              <a:t>26 Feb 2001</a:t>
            </a:r>
          </a:p>
        </p:txBody>
      </p:sp>
    </p:spTree>
  </p:cSld>
  <p:transition spd="med">
    <p:strips dir="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How to Complain Successfully</a:t>
            </a:r>
            <a:endParaRPr b="1" lang="en-US" sz="4800" spc="-1" strike="noStrike">
              <a:solidFill>
                <a:srgbClr val="ffffff"/>
              </a:solidFill>
              <a:latin typeface="Arial Narrow"/>
            </a:endParaRPr>
          </a:p>
        </p:txBody>
      </p:sp>
      <p:sp>
        <p:nvSpPr>
          <p:cNvPr id="32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ain to the RIGHT pla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se Received headers TOP-&gt;BOTTO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 at discontinuit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bogosity of remaining Received lin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te between the roles play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IP addresses of contributing parti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route and find ISP nearest to that host, not the host itself</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POLITE and INFORMATIVE message to their ISP</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offending message with FULL HEADER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your analysis of the parties involved</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D7DD046-CBCD-434C-8946-01CC82EC2F11}" type="slidenum">
              <a:t>8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ever complain to the Spammer!</a:t>
            </a:r>
            <a:endParaRPr b="1" lang="en-US" sz="4800" spc="-1" strike="noStrike">
              <a:solidFill>
                <a:srgbClr val="ffffff"/>
              </a:solidFill>
              <a:latin typeface="Arial Narrow"/>
            </a:endParaRPr>
          </a:p>
        </p:txBody>
      </p:sp>
      <p:sp>
        <p:nvSpPr>
          <p:cNvPr id="32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ke valid recipient addresses and you just confirmed you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d addresses are worth MONEY even if they are never us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take you off one list and add you to another or sell your validated addr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ation programs automatically validates your address – so run them </a:t>
            </a:r>
            <a:r>
              <a:rPr b="0" i="1" lang="en-US" sz="2400" spc="-1" strike="noStrike">
                <a:solidFill>
                  <a:srgbClr val="ffffff"/>
                </a:solidFill>
                <a:latin typeface="Arial"/>
              </a:rPr>
              <a:t>after</a:t>
            </a:r>
            <a:r>
              <a:rPr b="0" lang="en-US" sz="2400" spc="-1" strike="noStrike">
                <a:solidFill>
                  <a:srgbClr val="ffffff"/>
                </a:solidFill>
                <a:latin typeface="Arial"/>
              </a:rPr>
              <a:t> your spam filter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block spam, give a “550 User Unknown” error</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F0370D0-F36F-4176-81F6-F86CFACB9309}" type="slidenum">
              <a:t>83</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ecommended complaint</a:t>
            </a:r>
            <a:endParaRPr b="1" lang="en-US" sz="4800" spc="-1" strike="noStrike">
              <a:solidFill>
                <a:srgbClr val="ffffff"/>
              </a:solidFill>
              <a:latin typeface="Arial Narrow"/>
            </a:endParaRPr>
          </a:p>
        </p:txBody>
      </p:sp>
      <p:sp>
        <p:nvSpPr>
          <p:cNvPr id="326" name=""/>
          <p:cNvSpPr/>
          <p:nvPr/>
        </p:nvSpPr>
        <p:spPr>
          <a:xfrm>
            <a:off x="1219320" y="1600200"/>
            <a:ext cx="74595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I received this spam. Please take appropriate action.</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joes.net - origination in your net from X.X.X.X</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obs.net - Bob, you’ve been used - disallow relaying on your server.  See www.sendmail.org/antispam.html</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illy.net - your web site at THISURL is benefitting from this spam so you are a party to it.</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p:txBody>
      </p:sp>
      <p:sp>
        <p:nvSpPr>
          <p:cNvPr id="327" name=""/>
          <p:cNvSpPr/>
          <p:nvPr/>
        </p:nvSpPr>
        <p:spPr>
          <a:xfrm>
            <a:off x="914400" y="5257800"/>
            <a:ext cx="769608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dee3ee"/>
                </a:solidFill>
                <a:latin typeface="Times New Roman"/>
              </a:rPr>
              <a:t>Most of the time you will know more about mail than the folks you complain to. Be helpful and informative rather than derisive.</a:t>
            </a:r>
            <a:endParaRPr b="0" lang="en-US" sz="2200" spc="-1" strike="noStrike">
              <a:solidFill>
                <a:srgbClr val="dee3ee"/>
              </a:solidFill>
              <a:latin typeface="Times New Roman"/>
            </a:endParaRPr>
          </a:p>
        </p:txBody>
      </p:sp>
      <p:sp>
        <p:nvSpPr>
          <p:cNvPr id="3" name="PlaceHolder 2"/>
          <p:cNvSpPr>
            <a:spLocks noGrp="1"/>
          </p:cNvSpPr>
          <p:nvPr>
            <p:ph type="ftr" idx="2"/>
          </p:nvPr>
        </p:nvSpPr>
        <p:spPr/>
        <p:txBody>
          <a:bodyPr/>
          <a:p>
            <a:r>
              <a:t>© Evi Nemeth &amp; Trent Hein</a:t>
            </a:r>
          </a:p>
        </p:txBody>
      </p:sp>
      <p:sp>
        <p:nvSpPr>
          <p:cNvPr id="4" name="PlaceHolder 3"/>
          <p:cNvSpPr>
            <a:spLocks noGrp="1"/>
          </p:cNvSpPr>
          <p:nvPr>
            <p:ph type="sldNum" idx="3"/>
          </p:nvPr>
        </p:nvSpPr>
        <p:spPr/>
        <p:txBody>
          <a:bodyPr/>
          <a:p>
            <a:fld id="{D51DD9A1-CE42-403B-B4FF-697E82FD5D1C}" type="slidenum">
              <a:t>84</a:t>
            </a:fld>
          </a:p>
        </p:txBody>
      </p:sp>
      <p:sp>
        <p:nvSpPr>
          <p:cNvPr id="5" name="PlaceHolder 4"/>
          <p:cNvSpPr>
            <a:spLocks noGrp="1"/>
          </p:cNvSpPr>
          <p:nvPr>
            <p:ph type="dt" idx="1"/>
          </p:nvPr>
        </p:nvSpPr>
        <p:spPr/>
        <p:txBody>
          <a:bodyPr/>
          <a:p>
            <a:r>
              <a:rPr lang="en-US"/>
              <a:t>26 Feb 2001</a:t>
            </a:r>
          </a:p>
        </p:txBody>
      </p:sp>
    </p:spTree>
  </p:cSld>
  <p:transition spd="med">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yramid Schemes</a:t>
            </a:r>
            <a:endParaRPr b="1" lang="en-US" sz="4800" spc="-1" strike="noStrike">
              <a:solidFill>
                <a:srgbClr val="ffffff"/>
              </a:solidFill>
              <a:latin typeface="Arial Narrow"/>
            </a:endParaRPr>
          </a:p>
        </p:txBody>
      </p:sp>
      <p:sp>
        <p:nvSpPr>
          <p:cNvPr id="32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nly spam that is actually illegal in US without question… as long as some part of it uses the USP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Postal Inspection Servi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their job</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 and mail to the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 </a:t>
            </a:r>
            <a:r>
              <a:rPr b="1" lang="en-US" sz="2000" spc="-1" strike="noStrike">
                <a:solidFill>
                  <a:srgbClr val="ffffff"/>
                </a:solidFill>
                <a:latin typeface="Courier New"/>
              </a:rPr>
              <a:t>whois</a:t>
            </a:r>
            <a:r>
              <a:rPr b="0" lang="en-US" sz="2000" spc="-1" strike="noStrike">
                <a:solidFill>
                  <a:srgbClr val="ffffff"/>
                </a:solidFill>
                <a:latin typeface="Arial"/>
              </a:rPr>
              <a:t> of players</a:t>
            </a:r>
            <a:endParaRPr b="0" lang="en-US" sz="2000" spc="-1" strike="noStrike">
              <a:solidFill>
                <a:srgbClr val="ffffff"/>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www.usps.gov/postalinspectors/pyramid.htm</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D5A3086-3324-4588-81B0-165BD4F26D74}" type="slidenum">
              <a:t>8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 S Laws</a:t>
            </a:r>
            <a:endParaRPr b="1" lang="en-US" sz="4800" spc="-1" strike="noStrike">
              <a:solidFill>
                <a:srgbClr val="ffffff"/>
              </a:solidFill>
              <a:latin typeface="Arial Narrow"/>
            </a:endParaRPr>
          </a:p>
        </p:txBody>
      </p:sp>
      <p:sp>
        <p:nvSpPr>
          <p:cNvPr id="33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618 Consumer Anti-Scamming Act of </a:t>
            </a:r>
            <a:r>
              <a:rPr b="0" lang="en-US" sz="2400" spc="-1" strike="noStrike" u="sng">
                <a:solidFill>
                  <a:srgbClr val="ffffff"/>
                </a:solidFill>
                <a:uFillTx/>
                <a:latin typeface="Arial"/>
              </a:rPr>
              <a:t>1998</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ED!  Any email that refers to this law is definitely spam.</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lition Against Unsolicited Commercial Emaill (CAU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cauce.org/legislation.html</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5B1715F-1D33-473D-A85B-6D81F7594E27}" type="slidenum">
              <a:t>8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esponsible Bulk Email</a:t>
            </a:r>
            <a:endParaRPr b="1" lang="en-US" sz="4800" spc="-1" strike="noStrike">
              <a:solidFill>
                <a:srgbClr val="ffffff"/>
              </a:solidFill>
              <a:latin typeface="Arial Narrow"/>
            </a:endParaRPr>
          </a:p>
        </p:txBody>
      </p:sp>
      <p:sp>
        <p:nvSpPr>
          <p:cNvPr id="33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opt-in requires validation</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n opt-out when you collect the addres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addresses by sending email confirming opt-in</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all into typical marketing speak</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is the person is getting the messag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ny information possible to ensure the recipient doesn’t consider the message to be unsolicited</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 “how’s my driving” address</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n “abuse” email address that work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d to “abuse” email</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 at abuse.ne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70824F8-8F78-4BA0-8E4C-C1F3D51DE4C9}" type="slidenum">
              <a:t>87</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SPs: Preventing other abuses</a:t>
            </a:r>
            <a:endParaRPr b="1" lang="en-US" sz="4800" spc="-1" strike="noStrike">
              <a:solidFill>
                <a:srgbClr val="ffffff"/>
              </a:solidFill>
              <a:latin typeface="Arial Narrow"/>
            </a:endParaRPr>
          </a:p>
        </p:txBody>
      </p:sp>
      <p:sp>
        <p:nvSpPr>
          <p:cNvPr id="33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ter everything except those activities you endorse</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hourly dialup users filter:</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incoming SYN (not established) packe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outgoing packets except what you endors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going SMTP to any relay except your own</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plicated for dedicated/business customer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ways filter at your upstream &amp; downstream border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FC1918</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7/8</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ed-broadcas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rout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D095B8E-2D5F-4211-88EA-A445CCA586A1}" type="slidenum">
              <a:t>8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SPs: Capitalize on Prevention</a:t>
            </a:r>
            <a:endParaRPr b="1" lang="en-US" sz="4800" spc="-1" strike="noStrike">
              <a:solidFill>
                <a:srgbClr val="ffffff"/>
              </a:solidFill>
              <a:latin typeface="Arial Narrow"/>
            </a:endParaRPr>
          </a:p>
        </p:txBody>
      </p:sp>
      <p:sp>
        <p:nvSpPr>
          <p:cNvPr id="33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9% of users only need these outgoing session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 to your POP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TP to your SMTP rela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 to anywher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ge extra for unrestricted client-side initi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incoming “security” for fre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ge extra for unrestricted incoming</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A7DB0BB-40DA-498E-A189-E9C8546DA775}" type="slidenum">
              <a:t>8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ew Configuration Language</a:t>
            </a:r>
            <a:endParaRPr b="1" lang="en-US" sz="4800" spc="-1" strike="noStrike">
              <a:solidFill>
                <a:srgbClr val="ffffff"/>
              </a:solidFill>
              <a:latin typeface="Arial Narrow"/>
            </a:endParaRPr>
          </a:p>
        </p:txBody>
      </p:sp>
      <p:sp>
        <p:nvSpPr>
          <p:cNvPr id="11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gon chang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name server --&gt; master name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ary name server --&gt; slave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file --&gt; hints fil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name chang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named.boot --&gt; /etc/named.conf</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consists of comments and statement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12A5E37-2AC2-4783-ABAE-AFD149F02345}" type="slidenum">
              <a:t>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nternet Cafes</a:t>
            </a:r>
            <a:endParaRPr b="1" lang="en-US" sz="4800" spc="-1" strike="noStrike">
              <a:solidFill>
                <a:srgbClr val="ffffff"/>
              </a:solidFill>
              <a:latin typeface="Arial Narrow"/>
            </a:endParaRPr>
          </a:p>
        </p:txBody>
      </p:sp>
      <p:sp>
        <p:nvSpPr>
          <p:cNvPr id="33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problem of no user identificatio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s Spam and ru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 identification and log customer acc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any means of abus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 ALL applications not intended for us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browser in “kiosk” mod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ble client side tools like java</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 physical access to I/O, e.g. floppy/cd/seria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 system access, e.g. run, ms-dos, explorer</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43630BD-E262-4A28-9FFE-97B03C6EB808}" type="slidenum">
              <a:t>9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nitoring Use</a:t>
            </a:r>
            <a:endParaRPr b="1" lang="en-US" sz="4800" spc="-1" strike="noStrike">
              <a:solidFill>
                <a:srgbClr val="ffffff"/>
              </a:solidFill>
              <a:latin typeface="Arial Narrow"/>
            </a:endParaRPr>
          </a:p>
        </p:txBody>
      </p:sp>
      <p:sp>
        <p:nvSpPr>
          <p:cNvPr id="34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LOG LOG</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 head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lo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us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ter packet filt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ewall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niff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NMP monitor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plicate log entries on a secure system</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1D56526-56F1-4196-92EF-9CB42CE3837D}" type="slidenum">
              <a:t>9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Enforcement</a:t>
            </a:r>
            <a:endParaRPr b="1" lang="en-US" sz="4800" spc="-1" strike="noStrike">
              <a:solidFill>
                <a:srgbClr val="ffffff"/>
              </a:solidFill>
              <a:latin typeface="Arial Narrow"/>
            </a:endParaRPr>
          </a:p>
        </p:txBody>
      </p:sp>
      <p:sp>
        <p:nvSpPr>
          <p:cNvPr id="34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activ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ve measures already discuss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awarenes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 your customers - disallow anonymity</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ctiv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action on each and every abuse</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y, educate, and warn or sanction</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ction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n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trikes, you’re ou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BE5395D-0041-49FC-A621-C53EE6A63B2C}" type="slidenum">
              <a:t>9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stomer Awareness</a:t>
            </a:r>
            <a:endParaRPr b="1" lang="en-US" sz="4800" spc="-1" strike="noStrike">
              <a:solidFill>
                <a:srgbClr val="ffffff"/>
              </a:solidFill>
              <a:latin typeface="Arial Narrow"/>
            </a:endParaRPr>
          </a:p>
        </p:txBody>
      </p:sp>
      <p:sp>
        <p:nvSpPr>
          <p:cNvPr id="34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ustomers are completely ignorant of acceptable use policy and issu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why technical prevention is crucia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AUP readily availabl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 to AUP ofte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introductory training for us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good practices for marketing and advertis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 to AUP ofte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 customer signature acknowledging sanc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 to AUP ofte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 readable AUP</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AF50DF1-6549-4060-B4B9-C7F0510CCF07}" type="slidenum">
              <a:t>93</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riting your AUP</a:t>
            </a:r>
            <a:endParaRPr b="1" lang="en-US" sz="4800" spc="-1" strike="noStrike">
              <a:solidFill>
                <a:srgbClr val="ffffff"/>
              </a:solidFill>
              <a:latin typeface="Arial Narrow"/>
            </a:endParaRPr>
          </a:p>
        </p:txBody>
      </p:sp>
      <p:sp>
        <p:nvSpPr>
          <p:cNvPr id="34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your AUP should contain</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the AUP is necessa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the rules come fro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makes activities unacceptable and wh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of acceptable us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of unacceptable us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e sanc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urs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horit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for more information or clarification on specific activiti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C4C90AE-D148-48AE-97A2-DD4E90DA2556}" type="slidenum">
              <a:t>9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ummary</a:t>
            </a:r>
            <a:endParaRPr b="1" lang="en-US" sz="4800" spc="-1" strike="noStrike">
              <a:solidFill>
                <a:srgbClr val="ffffff"/>
              </a:solidFill>
              <a:latin typeface="Arial Narrow"/>
            </a:endParaRPr>
          </a:p>
        </p:txBody>
      </p:sp>
      <p:sp>
        <p:nvSpPr>
          <p:cNvPr id="34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UP is the cornerstone of use managemen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ion is the founda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E6CBB54-5C95-4C1D-A9F1-AB1257EF9F71}" type="slidenum">
              <a:t>9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Web Server Performance</a:t>
            </a:r>
            <a:endParaRPr b="1" lang="en-US" sz="6600" spc="-1" strike="noStrike">
              <a:solidFill>
                <a:srgbClr val="ffffff"/>
              </a:solidFill>
              <a:latin typeface="Arial Narrow"/>
            </a:endParaRPr>
          </a:p>
        </p:txBody>
      </p:sp>
      <p:sp>
        <p:nvSpPr>
          <p:cNvPr id="351"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rver Performance</a:t>
            </a:r>
            <a:endParaRPr b="1" lang="en-US" sz="4800" spc="-1" strike="noStrike">
              <a:solidFill>
                <a:srgbClr val="ffffff"/>
              </a:solidFill>
              <a:latin typeface="Arial Narrow"/>
            </a:endParaRPr>
          </a:p>
        </p:txBody>
      </p:sp>
      <p:sp>
        <p:nvSpPr>
          <p:cNvPr id="35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Variabl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spe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bandwidth</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 spe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al gotcha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to size web server in advan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ing for 1-2 millions hits/da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9A1F3E7-2A73-4CE0-BDCD-1E9E96ED5D1C}" type="slidenum">
              <a:t>9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chieving Balance</a:t>
            </a:r>
            <a:endParaRPr b="1" lang="en-US" sz="4800" spc="-1" strike="noStrike">
              <a:solidFill>
                <a:srgbClr val="ffffff"/>
              </a:solidFill>
              <a:latin typeface="Arial Narrow"/>
            </a:endParaRPr>
          </a:p>
        </p:txBody>
      </p:sp>
      <p:sp>
        <p:nvSpPr>
          <p:cNvPr id="35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very important for overall performance</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all aspects of performance to run out of capacity at about the same point</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ajor advantages of UNIX over other web server platforms  is that it can be finely measured and tuned</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mysteries as to how things are architected</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ed as a multi-user operating system from the start</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commonly misunderstood web server performance aspect is I/O</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most cases, more CPU's do not mean more performance</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s no magic performance "crystal ball"</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have to measure the performance of your actual production system  to ascertain bottleneck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9BF5128-5944-4B0E-B065-FF8174C6FBA5}" type="slidenum">
              <a:t>9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asic Balance</a:t>
            </a:r>
            <a:endParaRPr b="1" lang="en-US" sz="4800" spc="-1" strike="noStrike">
              <a:solidFill>
                <a:srgbClr val="ffffff"/>
              </a:solidFill>
              <a:latin typeface="Arial Narrow"/>
            </a:endParaRPr>
          </a:p>
        </p:txBody>
      </p:sp>
      <p:sp>
        <p:nvSpPr>
          <p:cNvPr id="357"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1 measure of UNIX performance health is how the machine spends its time</a:t>
            </a:r>
            <a:endParaRPr b="0" lang="en-US" sz="20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lden rule" is a 50/50 mix between "user" time and "system time"</a:t>
            </a:r>
            <a:endParaRPr b="0" lang="en-US" sz="20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le this doesn't work for all UNIX applications, it's darn good for  web servers</a:t>
            </a:r>
            <a:endParaRPr b="0" lang="en-US" sz="18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achine which tends to spend more cycles as "user" time may be CPU-bound</a:t>
            </a:r>
            <a:endParaRPr b="0" lang="en-US" sz="20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achine which tends to spend more cycles as "system" time is  probably I/O-bound or might be virtual memory system</a:t>
            </a:r>
            <a:endParaRPr b="0" lang="en-US" sz="20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ratios don't work if the machine suffers from other serious "illness"  </a:t>
            </a:r>
            <a:endParaRPr b="0" lang="en-US" sz="20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away processes (CPU or memory)</a:t>
            </a:r>
            <a:endParaRPr b="0" lang="en-US" sz="18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sy network (collisions)</a:t>
            </a:r>
            <a:endParaRPr b="0" lang="en-US" sz="18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s with bad blocks</a:t>
            </a:r>
            <a:endParaRPr b="0" lang="en-US" sz="18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for general health before comparing user/system ratio</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A2E23E8-6ED2-45DE-AC9D-1B5B21F9A6F6}" type="slidenum">
              <a:t>9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1T15:33:59Z</dcterms:created>
  <dc:creator>Barbara L. Dijker</dc:creator>
  <dc:description/>
  <dc:language>en-US</dc:language>
  <cp:lastModifiedBy>Paul T. Kooros</cp:lastModifiedBy>
  <dcterms:modified xsi:type="dcterms:W3CDTF">2001-02-16T01:06:52Z</dcterms:modified>
  <cp:revision>94</cp:revision>
  <dc:subject/>
  <dc:title>Routing Protocols</dc:title>
</cp:coreProperties>
</file>