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F766-C7E8-4894-860A-0B6B1828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CA4E-92B5-4B27-B643-5C1330AA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028F-23A1-4D5F-817E-9E0EF8EF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892-B86A-4CA2-8ADE-54AACC76F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18E2-014E-4DF4-883C-E0E27704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C862-8738-4BFC-95A7-DFD7B83F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1C52-F09C-4D60-9B1C-96526FAF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A33A-9FA6-4115-A655-C0E49699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36D0-A9D2-4F02-A968-A831A3C9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588A-2B62-492E-B483-42213187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91FF-2CBA-48AD-A09C-23875B58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5C9C-71A6-478B-A948-6F1250DB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3DA4-2B2C-4A29-B0C2-1A420115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19DF-8247-412D-A4F0-F097A37C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26C9-94C8-4231-BDDC-5A91B0CF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8425-9F4F-4575-9F63-BEA85E2E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4706-09BA-44D9-AAE4-F61CF8E5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321B-60E1-40CE-8E45-7BCD0209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67E5-A30C-4F79-8EED-2A03DFCD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138C-0D0D-430C-8FC6-28894400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BA1D-5AC3-4149-993C-57F4D036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AF3E-2A35-4698-A812-AE7011E7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76F-6954-4978-BD14-36BAEB49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17C0-8CF0-4540-87FD-E6F1B30D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BB0E-C0E2-45DD-8C50-39EA93118B75}" type="slidenum"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F3A1-2663-4E0C-913E-3512408E8325}" type="slidenum"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pricot2001.net/" TargetMode="External"/><Relationship Id="rId2" Type="http://schemas.openxmlformats.org/officeDocument/2006/relationships/hyperlink" Target="mailto:nschen@mail.cc.nsysu.edu.tw" TargetMode="External"/><Relationship Id="rId3" Type="http://schemas.openxmlformats.org/officeDocument/2006/relationships/hyperlink" Target="mailto:nschen@mail.cc.nsysu.edu.tw" TargetMode="External"/><Relationship Id="rId4" Type="http://schemas.openxmlformats.org/officeDocument/2006/relationships/hyperlink" Target="mailto:nschen@mail.cc.nsysu.edu.tw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ajds.nsysu.edu.tw/" TargetMode="External"/><Relationship Id="rId2" Type="http://schemas.openxmlformats.org/officeDocument/2006/relationships/hyperlink" Target="http://ajds.nsysu.edu.tw/" TargetMode="External"/><Relationship Id="rId3" Type="http://schemas.openxmlformats.org/officeDocument/2006/relationships/hyperlink" Target="http://ajds.nsysu.edu.tw/" TargetMode="External"/><Relationship Id="rId4" Type="http://schemas.openxmlformats.org/officeDocument/2006/relationships/hyperlink" Target="http://ajds.nsysu.edu.tw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jds.nsysu.edu.tw/" TargetMode="External"/><Relationship Id="rId2" Type="http://schemas.openxmlformats.org/officeDocument/2006/relationships/hyperlink" Target="http://ajds.nsysu.edu.tw/" TargetMode="External"/><Relationship Id="rId3" Type="http://schemas.openxmlformats.org/officeDocument/2006/relationships/hyperlink" Target="http://ajds.nsysu.edu.tw/" TargetMode="External"/><Relationship Id="rId4" Type="http://schemas.openxmlformats.org/officeDocument/2006/relationships/hyperlink" Target="http://ajds.nsysu.edu.tw/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69339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cc"/>
                </a:solidFill>
                <a:uFillTx/>
                <a:latin typeface="Times New Roman"/>
                <a:ea typeface="Tahoma"/>
                <a:hlinkClick r:id="rId1"/>
              </a:rPr>
              <a:t>APRICOT2001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ahoma"/>
              </a:rPr>
              <a:t>, Kuala Lumpur, Malaysia, 26th February - 2 March 2001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ahoma"/>
              </a:rPr>
              <a:t>APNG Education WG Meeting</a:t>
            </a:r>
            <a:br>
              <a:rPr sz="2400"/>
            </a:br>
            <a:br>
              <a:rPr sz="2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JET Digital School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12 Digital Scho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09680" y="4267080"/>
            <a:ext cx="6400800" cy="22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f. Nian-shing Ch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ir of APNG Education W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ational Sun Yat-sen Univers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nschen@mail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3"/>
              </a:rPr>
              <a:t>.cc.nsysu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4"/>
              </a:rPr>
              <a:t>.edu.tw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nvironment for students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e-learning on the platform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ctures delivered by teach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dia Master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-line (a)synchronous discu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ulti-media forums and real-time chatting room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tivities for stud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otes, teamwork and on-line test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b-based Tools and oth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-line dictionary, calendar and track of the learning status and so 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dia Mas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orum Discuss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nvironment for teachers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bridge for “technological gap”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nerators for producing a p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ultiple group divisio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compilation of “learning tree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valuation in multiple for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llection of data for action resear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LL practi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LL (Computer Assisted Language Learning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ttom-up content constru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cro-skills of using I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pedagogical issu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utonomy &amp; Authentic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disciplinary concer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anguage Teaching in AJD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ad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ent-area learning material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rit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um discussion and assign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sten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ctures through Media Mas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eak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mulated speaking through real-time ch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urriculum and Learning Mode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me-based mod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hared topics going with high school textboo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 festivals, food, sports and recre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ject-based / Mission-based mode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corded process of cooperative learning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 BAE expedition and CF tea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bject-based model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Provided lectures for autonomous learn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 computing, life education, literat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nvironment for Administra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ective manag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t ag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ectual syst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.g. the AJET off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amed” Teach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school cooperatio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disciplinary connectio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national collaboratio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achers and student lectur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fessionalism of AJD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achers and teacher’s train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achers and research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achers as action research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achers’ social network for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nowledge manage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APNG Education WG Meeting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TIME: 1:30~3:00, Feb. 26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VENUE: Putra World Trade Centre, Kuala Lumpur, Malays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Morning Session: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11:30~11:40 Welcome Message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                     -- Chairman of APNG Prof. Goto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11:40~12:00 AJET Digital School, K12 Digital School Projects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                     -- Chair of Education WG Prof. Nian-Shing Ch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Afternoon Session: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1:30~1:50 Education Exchange Portal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                 -- Ms. Ong Hui Leng, Singapore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1:50~2:10 Changing English Education in Japan through international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                  exchange projects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                  -- Prof. Hiroyuki Watanabe, Japan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2:10~2:30 Two international exchange projects through international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                 collaborations-Developing worldwide education network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                  -- Mr. Makoto Kageto, Japan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2:30~2:50 The Malaysian Smart School and the MDC schools adoption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                 programme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                 -- Ms. Najat Haji. Ahmad Marzuki, Malaysia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  <a:ea typeface="MingLiu"/>
              </a:rPr>
              <a:t>2:50~3:00 Feedback &amp; Discussi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rom the Past to the fu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P 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yber Community 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rtal Site 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e-Learning 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son as a media (K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pa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futu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re and Now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 have AJET digital schoo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/ajds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3"/>
              </a:rPr>
              <a:t>.nsysu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4"/>
              </a:rPr>
              <a:t>.edu.tw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JET 1998-200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JET in Taiw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JET1998-200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structured flexible learning mod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ructured experimental courses on C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JET2000-200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structured and structured curriculum i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JET Digital School</a:t>
            </a:r>
            <a:br>
              <a:rPr sz="2800"/>
            </a:b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/ajds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3"/>
              </a:rPr>
              <a:t>.nsysu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4"/>
              </a:rPr>
              <a:t>.edu.tw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-line Camp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772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Digital School vs. traditional school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ducational institution operation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urriculum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aching method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arning attitudes of the student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oles played by the instructors and the learn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gitalized Environ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stud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cyber school without wall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teachers and research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lab for “teachology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par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resources center for home edu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Digital? (Need Analysi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students  or e-gene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ife based on the Internet is a matter of cours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earning can take place regardless time, location and distanc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teach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T is a great instructional aid to fit students’ learning styl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-S interaction is easily achieved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par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puter is viewed as Information Appliance now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yber education becomes part of the household lif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Conceptualized AJDS</a:t>
            </a:r>
            <a:br>
              <a:rPr sz="1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79064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295280" y="1523880"/>
            <a:ext cx="7848360" cy="5334120"/>
            <a:chOff x="1295280" y="1523880"/>
            <a:chExt cx="7848360" cy="5334120"/>
          </a:xfrm>
        </p:grpSpPr>
        <p:sp>
          <p:nvSpPr>
            <p:cNvPr id="108" name=""/>
            <p:cNvSpPr/>
            <p:nvPr/>
          </p:nvSpPr>
          <p:spPr>
            <a:xfrm>
              <a:off x="2614680" y="1937880"/>
              <a:ext cx="5218200" cy="4539960"/>
            </a:xfrm>
            <a:prstGeom prst="donut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16400" y="3449880"/>
              <a:ext cx="1814760" cy="14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Times New Roman"/>
                </a:rPr>
                <a:t>        </a:t>
              </a:r>
              <a:r>
                <a:rPr b="1" lang="en-US" sz="1600" spc="-1" strike="noStrike">
                  <a:solidFill>
                    <a:srgbClr val="eaeaea"/>
                  </a:solidFill>
                  <a:latin typeface="Times New Roman"/>
                </a:rPr>
                <a:t>AJDS 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eaeaea"/>
                  </a:solidFill>
                  <a:latin typeface="Times New Roman"/>
                </a:rPr>
                <a:t>Digital School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86160" y="1955160"/>
              <a:ext cx="0" cy="11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23960" y="5356080"/>
              <a:ext cx="0" cy="112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79640" y="3249720"/>
              <a:ext cx="1153080" cy="5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77400" y="4717440"/>
              <a:ext cx="113436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6301440" y="2973600"/>
              <a:ext cx="1115280" cy="62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125160" y="4855320"/>
              <a:ext cx="1039680" cy="72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63640" y="2514240"/>
              <a:ext cx="149364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00b5b"/>
                  </a:solidFill>
                  <a:latin typeface="Times New Roman"/>
                </a:rPr>
                <a:t>Teacher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17560" y="3948480"/>
              <a:ext cx="1326960" cy="5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00b5b"/>
                  </a:solidFill>
                  <a:latin typeface="Times New Roman"/>
                </a:rPr>
                <a:t>Student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76880" y="2310840"/>
              <a:ext cx="1553760" cy="9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00b5b"/>
                  </a:solidFill>
                  <a:latin typeface="Times New Roman"/>
                </a:rPr>
                <a:t>Resources on the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00b5b"/>
                  </a:solidFill>
                  <a:latin typeface="Times New Roman"/>
                </a:rPr>
                <a:t>      </a:t>
              </a:r>
              <a:r>
                <a:rPr b="0" lang="en-US" sz="1400" spc="-1" strike="noStrike">
                  <a:solidFill>
                    <a:srgbClr val="200b5b"/>
                  </a:solidFill>
                  <a:latin typeface="Times New Roman"/>
                </a:rPr>
                <a:t>Internet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00b5b"/>
                  </a:solidFill>
                  <a:latin typeface="Times New Roman"/>
                </a:rPr>
                <a:t>Life education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95320" y="3718440"/>
              <a:ext cx="1777320" cy="9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00b5b"/>
                  </a:solidFill>
                  <a:latin typeface="Times New Roman"/>
                </a:rPr>
                <a:t>    </a:t>
              </a:r>
              <a:r>
                <a:rPr b="0" lang="en-US" sz="1400" spc="-1" strike="noStrike">
                  <a:solidFill>
                    <a:srgbClr val="200b5b"/>
                  </a:solidFill>
                  <a:latin typeface="Times New Roman"/>
                </a:rPr>
                <a:t>Activitie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00b5b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200b5b"/>
                  </a:solidFill>
                  <a:latin typeface="Times New Roman"/>
                </a:rPr>
                <a:t>on the platform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98360" y="5182200"/>
              <a:ext cx="164088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00b5b"/>
                  </a:solidFill>
                  <a:latin typeface="Times New Roman"/>
                </a:rPr>
                <a:t>Team teaching &amp;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00b5b"/>
                  </a:solidFill>
                  <a:latin typeface="Times New Roman"/>
                </a:rPr>
                <a:t>Instructional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00b5b"/>
                  </a:solidFill>
                  <a:latin typeface="Times New Roman"/>
                </a:rPr>
                <a:t>model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98880" y="1523880"/>
              <a:ext cx="6068880" cy="5334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91480" y="152388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10560" y="684036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186160" y="1540800"/>
              <a:ext cx="11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5186160" y="6858000"/>
              <a:ext cx="11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95280" y="3926520"/>
              <a:ext cx="1274040" cy="57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00b5b"/>
                  </a:solidFill>
                  <a:latin typeface="Times New Roman"/>
                </a:rPr>
                <a:t>Peopl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84720" y="3884040"/>
              <a:ext cx="1258920" cy="56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00b5b"/>
                  </a:solidFill>
                  <a:latin typeface="Times New Roman"/>
                </a:rPr>
                <a:t>Interfac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65480" y="5376600"/>
              <a:ext cx="218916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00b5b"/>
                  </a:solidFill>
                  <a:latin typeface="Times New Roman"/>
                </a:rPr>
                <a:t>       </a:t>
              </a:r>
              <a:r>
                <a:rPr b="0" lang="en-US" sz="1400" spc="-1" strike="noStrike">
                  <a:solidFill>
                    <a:srgbClr val="200b5b"/>
                  </a:solidFill>
                  <a:latin typeface="Times New Roman"/>
                </a:rPr>
                <a:t>Parent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0" y="179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icip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-12 stud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JET core schoo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igh schools all over Taiwan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extensive cours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achers and research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0T08:52:39Z</dcterms:created>
  <dc:creator>jinglu</dc:creator>
  <dc:description/>
  <dc:language>en-US</dc:language>
  <cp:lastModifiedBy>nschen</cp:lastModifiedBy>
  <dcterms:modified xsi:type="dcterms:W3CDTF">2001-02-21T01:55:06Z</dcterms:modified>
  <cp:revision>28</cp:revision>
  <dc:subject/>
  <dc:title>AJET Digital School</dc:title>
</cp:coreProperties>
</file>